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5A4-5A41-43E8-A14A-7F8F5C55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7F0-9F68-4E53-B8D4-CF9485F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CF2-0C03-4F91-A296-C1B9EF92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332-24C5-40EC-8FCA-FCE0444B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4C8-DB91-4296-B682-135ECB1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660-5F68-4B6B-B389-6D03C3F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F1B-5F21-4818-8CA9-22E9C193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344-103A-44FF-9F01-41A8CE7C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C6C-EBAE-4788-9D89-24E8DF5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284-2531-4D10-B22E-BA65334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FC7-B7F2-41F9-94DC-51AE3F9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96B-A57B-4411-9544-CA7ECA6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7A3-F749-45A4-9C93-5D2E228EA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ome more pre-defined Scheme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”, “or” do what you might expect, performing a short-circuited Boolean AND and OR operation on multipl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value besides #f is considered “true”.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or (null? l) (eq? (car l) “Alex”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and (even? 4) (odd? 3) (zero? 1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?” returns #t if the given argument is a symbol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8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ype checking i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dynamically ty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cquire the type of the values assigned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arameters acquire the type of actu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is, all type checking in Scheme must be don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ype errors become run-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cad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cdr ‘a   cdr expect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as first-clas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Scheme code to be written very flexibly and very gen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By passing a procedure as a parameter, a very simple procedure can be written which applies any procedure to every element in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as a first-class objec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square (lambda (x) (* x x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apply-to-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l 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null? l)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 (c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p (car l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apply-to-all (cdr l) p)))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 4 5 6) squar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1 4 9 16 25 36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(1 2 3) (4 5 6)) revers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3 2 1) (6 5 4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procedure can be used for many radically-different purp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implicity vs. 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for writing a procedure which takes another procedure as a parameter is strikingly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eason is that there are no type decla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mplicity is not without cost; all errors made will be run-time errors, since no static type checking can be done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) con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: cons expects 2 arguments,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other exampl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of apply-to-all we just saw treats the list as a flat list.  What if we wanted a version which handled sublists recursiv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eval”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752120"/>
            <a:ext cx="588636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the “quote” procedure allows evaluation of an expression to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and data have the same structure in Scheme; they’re both lis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forces evaluation of the contents of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al (cons ‘+ ‘(1 2 3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following shorthand synta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cons ‘+ ‘(1 2 3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legal.  Think of the rules regarding evaluation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must evaluate to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in this list is (+ 1 2 3), which is a list, not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which buil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allows you to write procedures which build and evaluate procedur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problem.  You have a parameter “L” in a procedure which is a list of integers, and you’d like to get the sum of th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’t just say (+ L), because “+” takes numbers as arguments, not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!  Build yourself a procedure which will build a call to “+” using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build a procedure call by constructing a list and then evaluat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adder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procedure called “adder” which does exactly that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efine ad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(null? L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else (eval (cons ‘+ L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out a procedure which generically builds a call to any procedure in the same fash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0:07:16Z</dcterms:created>
  <dc:creator>Alex Thornton</dc:creator>
  <dc:description/>
  <dc:language>en-US</dc:language>
  <cp:lastModifiedBy>tim finin</cp:lastModifiedBy>
  <dcterms:modified xsi:type="dcterms:W3CDTF">2002-11-07T22:59:01Z</dcterms:modified>
  <cp:revision>45</cp:revision>
  <dc:subject/>
  <dc:title>No Slide Title</dc:title>
</cp:coreProperties>
</file>