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744-412C-4565-B601-259BB2F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C91-B56B-44E6-8D02-3E483B9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105-79BD-40A7-9B1A-614A6614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1C9-8E32-47A0-A66A-F45BACCC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6D7-BB01-4242-AA66-1B77733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E03-5ED8-4414-B0E7-CFF6B29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610-E1B2-4B6F-84D2-FB24923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FC4-D9E8-4E50-86A7-BCAC9D1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F1A-EC28-4F2A-A859-C65C8A1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BC4-6BB0-4E9B-BDB8-6AABF38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84A-9B56-4C31-868C-D3C484F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DE1-6BCF-4307-8318-A86D9F1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4A3-19DC-46CF-89BA-6E0B5CF3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swiss.ai.mit.edu/~jaffer/r5rs_toc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ick Introduction to Programming i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+ '(1 2 3 4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append '((1 2 3) (a b c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expects the value of its first argument to be a fun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 map takes an n-ary function and n lists. It applies the function to the n first elements of the lists, then to the n second elements of the lis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etc. and returns a list of th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+ '(1 2 3) '(1 2 3) '(1 2 3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&gt;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 6 9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+ treated as a ternary(n=3) function 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car '((a b) (d e) (g h))) ==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 d g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ar is unary (n=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ap and 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map-append" takes two arguments, a function fn, and a list, and maps that function over the list _appending_ together all of the results. (fn must take one argument and return a 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n th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ppend (map fn the-list)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-append cdr '((1 2 3) (1 2 3) (1 2 3))) =&gt; (2 3 2 3 2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a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 cdr '((1 2 3) (1 2 3) (1 2 3))) =&gt; ((2 3) (2 3) (2 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nam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mbda (x) (+ x 2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4) =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(lambda (x) (+ x 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1 2 3 4 5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2 4 6 8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mbda expressions make it possible to create new functions at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constr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*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rec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s 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name init-form)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each name to its init-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: bindings order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*: bindings done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rec: binds all names to undefined, evals each init form, mutates binding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6560" y="2276640"/>
            <a:ext cx="612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7320" y="2057400"/>
            <a:ext cx="7191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(x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f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= n 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n (fact (- n 1)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act 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evaluation of this form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&gt;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v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share storage, else #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ual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displa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eqv? but stri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null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the emp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list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is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a list, then (cons x a) is also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q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v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: uses eq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ber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u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a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a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d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d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he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 scoped dialect of Li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and simpl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lass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da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types (weakly or dynamically typ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tions have first class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ative, functional, and message passing styles find convenient expression in sche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ither a list or an at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st is evaluated to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or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is defined to be a list whose first element is a special form operato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aluation of the expression depends on the particular special form oper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valu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evaluating the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the value of the first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values of the rest of the elements of the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he most recent value that has been assigned to that symbol (via "set!" for examp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symbol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itself. These include numbers and strings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al about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in support fo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Storage Manag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-class Function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functions at run time. Create unname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Synta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complex precedence rules and othe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ve Environ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of the uniform syntax and other features it is easy to define your own language on top of Sche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the MIT Scheme interpreter on borg, typ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eem/software/scheme/bin/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your Scheme function defini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.s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urrent directory (if you use emacs, you get some nifty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ad “file.scm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 Schem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Scheme from within ema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plits your window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you a shell within emacs in one window, in which you can run Sche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file.scm in the other wind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cheme Reference Man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Scheme links from  the course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(straight) list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1080" y="194616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lst1 `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lst1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18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41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57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2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3960" y="46832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2760" y="46832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683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4360" y="468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24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888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316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92960" y="437832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600" y="4384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ir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880" y="1946160"/>
            <a:ext cx="40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pair1 `(a .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 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3317760"/>
            <a:ext cx="1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560" y="377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353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492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3591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mutable operations to lists: implementation of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28954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3200" y="28954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200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6483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648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1240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228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06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0240" y="51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52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with an empty queue, add a, b, and c to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sequence, using the code in question B1 of ass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linked structure, containing four cells, look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93432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400" y="56707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n Sche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a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d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introduc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, but just rewire their argument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roduces a new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3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3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o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Pat Ki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'(Robin Sandy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John Q Public)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'Sandy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(John Q Public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(length p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Mr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ine town ‘Halif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of town 'may 'have 'already 'won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-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 (John Q Publ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lcolm 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dmiral Grace Murray Hopper)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Spot) (Aristotle) (A A Mil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Z Z T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ir Larry Olivi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iss Scarlet)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et-first-names names) =&gt;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As First-class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'(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first name-list))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map-names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rest name-list))))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-names first-name names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=&gt; 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 and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variable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  ‘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 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above can be returned by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2:42:33Z</dcterms:created>
  <dc:creator>Evangelos E. Milios</dc:creator>
  <dc:description/>
  <dc:language>en-US</dc:language>
  <cp:lastModifiedBy>tim finin</cp:lastModifiedBy>
  <dcterms:modified xsi:type="dcterms:W3CDTF">2002-11-07T23:20:58Z</dcterms:modified>
  <cp:revision>86</cp:revision>
  <dc:subject/>
  <dc:title>Let’s Scheme</dc:title>
</cp:coreProperties>
</file>