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7772400" cy="100584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699480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8440" y="5400360"/>
            <a:ext cx="699480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88440" y="540036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972600" y="540036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753640" y="235332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118840" y="235332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88440" y="540036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753640" y="540036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118840" y="540036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88440" y="2353320"/>
            <a:ext cx="699480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699480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8440" y="401040"/>
            <a:ext cx="6994800" cy="77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88440" y="540036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972600" y="540036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8440" y="5400360"/>
            <a:ext cx="699480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143000" y="2571840"/>
            <a:ext cx="9132840" cy="152280"/>
            <a:chOff x="-1143000" y="2571840"/>
            <a:chExt cx="9132840" cy="152280"/>
          </a:xfrm>
        </p:grpSpPr>
        <p:sp>
          <p:nvSpPr>
            <p:cNvPr id="1" name=""/>
            <p:cNvSpPr/>
            <p:nvPr/>
          </p:nvSpPr>
          <p:spPr>
            <a:xfrm>
              <a:off x="-1143000" y="2571840"/>
              <a:ext cx="9132840" cy="745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50000">
                  <a:srgbClr val="ebebeb"/>
                </a:gs>
                <a:gs pos="100000">
                  <a:srgbClr val="bcbcbc"/>
                </a:gs>
              </a:gsLst>
              <a:lin ang="0"/>
            </a:gradFill>
            <a:ln w="0">
              <a:noFill/>
            </a:ln>
          </p:spPr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1143000" y="268596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7b7b7b"/>
                </a:gs>
                <a:gs pos="50000">
                  <a:srgbClr val="cecece"/>
                </a:gs>
                <a:gs pos="100000">
                  <a:srgbClr val="7b7b7b"/>
                </a:gs>
              </a:gsLst>
              <a:lin ang="0"/>
            </a:gradFill>
            <a:ln w="0">
              <a:noFill/>
            </a:ln>
          </p:spPr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"/>
          <p:cNvSpPr txBox="1"/>
          <p:nvPr/>
        </p:nvSpPr>
        <p:spPr>
          <a:xfrm>
            <a:off x="-1052640" y="7628040"/>
            <a:ext cx="12812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itthögsko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3287880" y="7628040"/>
            <a:ext cx="2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fld id="{4622517B-1E59-44DE-924B-4083E32A22E8}" type="datetime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 txBox="1"/>
          <p:nvPr/>
        </p:nvSpPr>
        <p:spPr>
          <a:xfrm>
            <a:off x="7527960" y="7628040"/>
            <a:ext cx="382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fld id="{5502E6D0-5ED3-4DB6-849E-5A70D71D296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388440" y="2353320"/>
            <a:ext cx="699480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-457200" y="342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Str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28600" y="5029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J.E. Sprag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mmon Li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y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-4572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Using Str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-457200" y="3200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w we have a stream we can pass it as an argument to form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gt; (format str “Something~%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we look at the file at this point, the output may or may not be there.  Some implementations save up output and write it in chun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 may not all appear until we close the stre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gt; (close st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-4572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:inp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-457200" y="312408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we just want to read from a file, we open a stream wi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:direction :inpu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gt; (setf str (open path :direction :input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#&lt;Stream C01C86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 can use any input function on a fi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gt; (read-line st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thing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gt; (close st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-4572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with-open-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-457200" y="3124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ith-open-fil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cro is often used instead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ts first argument should be a list containing a variable name followed by arguments you might give to op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fter this it takes a body of code, which is evaluated with the variable bound to a stream created by passing the remaining arguments to op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-4572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Using with-open-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-457200" y="3276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fterwards the stream is automatically clo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with-open-file (str path :direction :out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if-exists :superse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format str “Something~%”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with-open-fil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cro puts the close within 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wind-prote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so that the file is guaranteed to get closed, even if an error interrupts the evaluation of the bod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-4572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Str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-457200" y="3048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eams are Lisp objects representing sources and/or destinations of charac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 read from or write to a file, you open it as a stre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eams are not identical with fi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en you read or print at the toplevel, you also use a stre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ou can even create streams that read or write to str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-4572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*standard-input* and *standard-output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-457200" y="32767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y default, input is read from the stream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*standard-input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default  place for output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*standard-output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itially, they will probably be the same place: a stream representing the toplev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-4572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Read and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-457200" y="358128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takes an optional argument, which should be a stream, and defaults to *standard-input*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first argument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orm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can also be a stream, but when it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the output is sent to *standard-output*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-4572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Pathn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-457200" y="3124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athna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portable way of specifying a fi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athna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has six compon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o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vi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irecto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a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yp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er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ou make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athna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by call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ke-pathna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with one or more of the corresponding keyword argu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-4572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make-pathn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-457200" y="35053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 the simplest case, you just specify the name and let the rest of the pathname defaul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 (setf path (make-pathname :name “bw”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#P”bw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-4572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o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-457200" y="327672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basic function for opening a file 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p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t takes a pathname (or string) and a large number of optional keywords argu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f successful it returns a stream that points to the fi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-4572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Key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-457200" y="3200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ou specify how you intend to use a stream when you create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dire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rgument signals whether you are going to write to the stream, read from it, or bo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three possible values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-4572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More key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-457200" y="35053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the stream is used for output,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if-exi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gument says what to do if the destination file already ex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ually it should b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:superse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 to create a stream on which you can write to the file “bw”, you sa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gt; (setf str (open path :direction :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if-exists :supersede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#&lt;Stream C017E6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n Spragg</dc:creator>
  <dc:description/>
  <dc:language>en-US</dc:language>
  <cp:lastModifiedBy>Jon Spragg</cp:lastModifiedBy>
  <cp:revision>0</cp:revision>
  <dc:subject>common lisp</dc:subject>
  <dc:title>Streams</dc:title>
</cp:coreProperties>
</file>