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26E-8D0A-4E18-9567-C08A84D6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D73-8A25-49BE-9424-3982BD9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38D-04EE-45DB-B66A-3006D86F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4D1-FE77-46BC-A549-513790C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7EB7-F068-4BBB-A552-84BFC189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EDD-AEDE-4451-8A28-59C061C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B1EB-0359-4FDA-89F6-99797B2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EA5-0D1A-4E89-8A0C-1D29F52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F66-31F6-4CE5-9027-6D0BB3F9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CE5C-38D2-4032-8369-9DA232C5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410B-F3F2-4446-8B47-CB9C164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752-F384-4B38-9744-B9ED79B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7D59-B73C-4E7F-B84E-123BB61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E540-A75D-415D-995B-127FA850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506A-E830-4246-BEAF-C6069CB5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0E55-2363-4486-90BD-FC9BD6A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37B-1943-4720-A825-3D106AA8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F14-BA73-438B-8E89-D9B8561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3DD-E567-4080-B58E-F6195964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171-472D-458D-93E9-13977BA0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277-9035-4437-8573-8B69FCC4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144-65F5-49B1-BC39-389B1C6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B7A-5513-424B-B683-1FBA9A7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7EE-D064-4556-AEA5-36ABEBA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F97-4559-477A-A1E0-86EC260424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103-BFD7-4670-8402-540624E1A0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EQUAL could be defin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defun equal (x 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; this is how equal could be defin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cond ((numberp x) (=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x) (eq x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atom y) ni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(equal (car x) (car y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(equal (cdr x) (cdr y))))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Some simple list processing exampl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member (x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atom l) ni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equal x (car l)) (cdr 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member x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append (l1 l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(null l1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2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1) (append (cdr l1) l2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either of these does O(n^2) cons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 reverse 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ppend  (reverse  (cdr  l))  (list  (car l))))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reverse (l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nd l (append  (reverse  (cdr  l))  (list  (car  l)))))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ariations on rever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;; this tail recursive operation does O(n) con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reverse (l) (reverse1 l ni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 reverse  (l  ac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 (null 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reverse  (cdr  l)  (cons  (car  l)  acc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) nil)      ; empty list do not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(car l))  ; cons an atom onto flattend cd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(car l) (flatten (cdr l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 otherwise flatten head &amp; tail and append resul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 (append (flatten (car l)) (flatten (cdr l)))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latten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;; this version avoids append, which is expens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 (l) (flatten1 l nil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defun flatten1 (l ac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d ((null list) acc)  ; all do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(atom  l)           ; stick atom on the front of ac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cons  l acc)) ; of the accumul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t (flatten1 (car l) (flatten1 (cdr l) acc)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gher order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defun mapcar (f 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if (null l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cons (apply f (list (car l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apcar f (cdr l))))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pcar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1 (f l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ull l)  nil  (cons (apply f (list (car l)))  (mapcar f (cdr l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efun mapcar (f &amp;rest arg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"Apply f to successive cars of all ARGS. Return the list of results."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;; If no list is exhausted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f (not (memq 'nil args)) ; apply function to C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s (apply f (mapcar1 'car args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mapcar* f  (mapcar1 'cdr args)))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20T23:54:39Z</dcterms:modified>
  <cp:revision>15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