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43000" y="2571840"/>
            <a:ext cx="9132840" cy="152280"/>
            <a:chOff x="-1143000" y="2571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-1143000" y="2571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143000" y="2685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-1052640" y="7628040"/>
            <a:ext cx="1281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287880" y="7628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EDA7C874-CE39-4E5A-B14A-BDF325EAC7A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527960" y="7628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5B0680D-15C4-4B1F-9EE2-798E750A70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-457200" y="29718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olving in Common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panding a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457200" y="3124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w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r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rmine whether a 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pplicable to a part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plicable to it, ascertain all the way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ti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n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gure out what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sults from applying an instantia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Problem Spa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seem to handle adequately  the notion of physica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seems natural to extend our notions of physical space and use it as a topological metaphor for problems and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problem space model of problems and problem solving makes  use of the idea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at are so useful in reasoning about physical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457200" y="3505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lem spa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t represent distinct configurations of the objects and relationships of the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ich define how to move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rators typically have par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ining a Problem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4572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ing a problem  in a given problem space requires two thing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itial state is a distinguished state that represents the starting point within the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goal is a specification of the subset of the problem space which could serve as a solution to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olv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457200" y="3352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ving a problem in this model is accomplished by finding a sequence of operators which, when applied to the initial state, allows one to reach a state satisfying the goal criter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the Blocks World example, the solution is a sequence of transformations that represent a lega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457200" y="35053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easy to see why this is an attractive model of problem sol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solve a problem, all we have to do is define the problem space and then unleash a general-purpose search engine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assic Problem Solv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457200" y="4038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ssic problem sol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sts of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nterf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user-supplied problem spaces,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 eng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4572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face requires the ability to manipulate states and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kinds of manipulations are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 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Ascertain whether a given state satisfies the goal crite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Detect when two descriptions of states refer to the same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dis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 Produce a human readable description of a given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457200" y="3352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mportance of goal detection is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 identity is important because we make no progress by re exploring already examin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ying states allows us to observe and debug system beh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/>
  <dc:language>en-US</dc:language>
  <cp:lastModifiedBy>Jon Spragg</cp:lastModifiedBy>
  <cp:revision>0</cp:revision>
  <dc:subject>common lisp</dc:subject>
  <dc:title>Problem Sovling in Common Lisp</dc:title>
</cp:coreProperties>
</file>