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112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5400" y="304920"/>
            <a:ext cx="7153200" cy="63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112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3280" y="6607080"/>
            <a:ext cx="982800" cy="1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UMBC CMSC 33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5840" y="6545160"/>
            <a:ext cx="1128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6092-BE61-4348-8A6A-02CF5A405B97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-2174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01640" indent="-231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01640" indent="-231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01640" indent="-231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00"/>
                </a:solidFill>
                <a:latin typeface="Times New Roman"/>
              </a:rPr>
              <a:t>Common </a:t>
            </a:r>
            <a:br>
              <a:rPr sz="12900"/>
            </a:br>
            <a:r>
              <a:rPr b="1" lang="en-US" sz="12900" spc="-1" strike="noStrike">
                <a:solidFill>
                  <a:srgbClr val="000000"/>
                </a:solidFill>
                <a:latin typeface="Times New Roman"/>
              </a:rPr>
              <a:t>Lisp</a:t>
            </a:r>
            <a:br>
              <a:rPr sz="12900"/>
            </a:br>
            <a:r>
              <a:rPr b="1" lang="en-US" sz="129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1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tf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09160" indent="-20916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create global variables implicitly just by assigning them value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56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setf   x   (list  ‘a  ‘b  ‘c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56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B 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-20916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 it is better lisp style  to use defparameter to declare global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-20916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give setf any even number of argu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56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tf  a   1 b   2 c  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ame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56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tf a 1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tf b 2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tf c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do more than just assign values to variables with set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rst argument to setf can be an expression as well as a variable nam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uch cases, the value of the second argument is inserted 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l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ferred to by the fir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f  (car  x)  ‘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 B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0440" y="304920"/>
            <a:ext cx="102564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tf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3886200" cy="495288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q a (make-array 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(NIL NIL N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aref a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f (aref a 1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(NIL 3 N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aref a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defstruct foo b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76920" y="1447920"/>
            <a:ext cx="3886200" cy="495288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tq a (make-foo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s(FOO :BAR N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foo-bar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f (foo-bar a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s(FOO :BA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foo-bar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ctional programm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unctional programming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s writing programs that work by returning values, instead of by modifying th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the dominant programming paradigm in Lis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built-in lisp functions are meant to be called for the values they return, not for side-eff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53912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s of functional programm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2189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11320" indent="-2113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an object and a list and returns a new list containing everything but that o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(setf  lst  ‘(b u t t e 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 U T T E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(remove ‘e l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 U T T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1320" indent="-2113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 remove does not remove an item from the list!  The original list is untouched after the call to remo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l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 U T T E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1320" indent="-21132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ctually remove an item from a list you would have to use set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setf  lst  (remove ‘e lst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1320" indent="-21132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al programming means, essentially, avoiding setf, and other assignment mac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87120" y="304920"/>
            <a:ext cx="717228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w remove could be defin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’s how remove could be defin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efun remove (x li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d ((null list) ni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(equal x (car list)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emove x (cdr list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 (cons (car list) (remove x (cdr list)))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 that it “copies” the top-level of the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ter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we want to do something repeatedly, it is sometimes more natural to use iteration than recursion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function us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print out the squares of the integers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efun  show-squares  (start  e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o  ((i  start  (+  i  1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(&gt;  i  end)  ‘d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ormat t  “~A  ~A~%”  i (* i i)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85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199800" indent="-1998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ro is CL’s fundamental iteration oper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9800" indent="-1998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create variables, and the first argument is a list of variable specifications.  Each element is of the form: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ymbol, 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expres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9800" indent="-19980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cond argument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hould be a list containing one or more expre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2560" indent="-2026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irst expression is used to test whether iteration should stop.  In the case above, the test expression is (&gt;  i end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2560" indent="-2026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maining expression in this list will be evaluated in order when iteration stops, and the value of the last will be returned as the value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this examp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9800" indent="-19980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maining arguments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rise the body of the lo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lis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10484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 has a simpler iteration operator for handling lists,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fun len  (l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calculate the length  of  ls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let  ((l 0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olist  (obj  lst)  (setf l (+ l 1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dolist takes an argument of the form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followed by a body of expre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ody will be evaluated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bound to successive elements of the list returned by expre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43520" y="304920"/>
            <a:ext cx="105696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a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call Lisp’s evaluation process with the eval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f s1 '(cadr '(one two three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ADR '(ONE TWO THREE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eval s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eval (list 'cdr (car '((quote (a . b)) c)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put and Outpu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13840" indent="-213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t is the most primitive output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print (list 'foo 'bar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OO B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OO B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-213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general output function in CL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tak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or more argument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-2167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rst indicates where the input is to be printe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-2167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cond is a string templa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-2167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maining arguments are objects whose printed representations are to be inserted into the templ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format t “~A plus ~A equals ~A.~%” 2 3 (+  2  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plus 3 equals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ctions as objec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lisp, functions are regular objects, like symbols, or strings, or li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give the name of a function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it will return the associated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o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pecial opera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o we don’t have to quote the argu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defun add1 (n) (+ n 1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function 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&lt;SYSTEM-FUNCTION +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function add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&lt;CLOSURE ADD1 (N) (DECLARE (SYSTEM::IN-DEFUN ADD1)) (BLOCK ADD1 (+ N 1)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as we can use ‘ as an abbreviation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uo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can use #’ as an abbreviation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#’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&lt;SYSTEM-FUNCTION +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abbreviation is known as sharp-quo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 any other kind of object, we can pass functions as argument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function that takes a function as an argument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pp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a function and a list of arguments for it, and returns the result of applying the function to the argu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apply  #’+  ‘(1  2  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can be given any number of arguments, so long as the last is a li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apply  #’+  1  2  ‘(3  4  5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imple version of apply could be written as fol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efun apply (f list) (eval (cons f list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cal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unc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unc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lik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pp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ut does not need the arguments to be packaged in a l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 (funcall  #’+  1  2 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could be written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efun funcall (f &amp;rest arg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val (cons f args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ambd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485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fu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cro creates a function and gives it a n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functions don’t have to have names, and we don’t ne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fu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define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refer to functions literally by using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ambda express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ambda express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411200"/>
            <a:ext cx="7772400" cy="403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ambda express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list containing the symbo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amb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llowed by a lis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llowed by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od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zero or more express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(setf f (lambda (x) (+ x 1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&lt;CLOSURE :LAMBDA (X) (+ X 1)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(funcall f 1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ambda expression can be considered as the name of a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an ordinary function name,  a lambda expression can be the first element of a function cal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(lambda  (x)  (+  x  100))  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by affixing a sharp-quote to a lambda expression, we get the corresponding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funcall  #’(lambda (x)  (+  x 100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3344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e types, no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don’t have to declare the types of variables, because any variable can hold objects of any ty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ugh type declaration is never required, you may want to make them for reasons of efficienc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uilt-in CL types form a hierarchy of subtypes and supertyp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 typ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upertype of all types, so everything is of typ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890720" y="5624640"/>
            <a:ext cx="561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84360" y="4862520"/>
            <a:ext cx="1063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59960" y="4100400"/>
            <a:ext cx="1030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82920" y="3338640"/>
            <a:ext cx="1115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12960" y="2500200"/>
            <a:ext cx="64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84360" y="1814400"/>
            <a:ext cx="1114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36640" y="1128600"/>
            <a:ext cx="792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42280" y="595440"/>
            <a:ext cx="266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133720" y="5257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133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133720" y="3733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133720" y="2895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1337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15235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133720" y="990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06640" y="519120"/>
            <a:ext cx="2956680" cy="59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(typep  27 ‘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typep  27  ‘at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typep  27  ‘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typep  27  ‘re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typep 27  ‘ra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typep  27  ‘integ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typep  27  ‘fixnu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(typep  27  ‘vec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andard function for input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given no arguments, it reads from the default place, which is usually standard in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defun  ask (str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format  t  “~A”  str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ead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(ask  “How old are you? “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old are you?  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ocal Variabl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f the most frequently used operators in CL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allows local variables to be used in a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et expression has two parts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comes a list of instructions for creating variables, each of the for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xpressio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variables are valid within the body of the l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the list of variables and values comes the body of expressions, which are evaluated in or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1600200"/>
            <a:ext cx="3124080" cy="405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let ((x 100) (y 200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rint (+ x y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tq x 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rint (+ x y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let exampl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defun  ask-number  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(format t  “Please enter a number. “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(let ((val  (read)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f  (numberp v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(ask-number)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-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ask-numb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enter a number. 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enter a number.  (this is a numb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enter a number.  5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lobal variabl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variables are visible throughout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variables can be created by giving a symbol and a value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fparamet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fv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(defparameter *foo*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FOO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*foo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(defvar *bar* (+ *foo*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BAR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*bar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(defvar *bar* 3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BAR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*bar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3429000"/>
            <a:ext cx="3048120" cy="2209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: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fparameter v e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s a global variable named v and sets its value to be 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fvar v e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just like defparameter if no global variable named v exists.  Otherwise it does noth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lobal constan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define a global constant, by call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fconsta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defconstant +limit+  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LIMIT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f +limit+ 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** - SETQ: the value of the constant +LIMIT+ may not be al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Break [5]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lus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lus is a lisp convention to identify symbols as constants.  Just like star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ar is a lisp convention to identify global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en in doub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in doubt about whether some symbol is a global variable or constant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ound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 (boundp  ‘*foo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 (boundp  ‘fishcak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signm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22840" indent="-222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several assignment operators in Common Lisp: set, setq and set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general assignment operator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it to assign both local and global 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setf *blob* 8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let ((n 10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tf n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18T11:04:34Z</dcterms:created>
  <dc:creator>Jon Spragg</dc:creator>
  <dc:description/>
  <dc:language>en-US</dc:language>
  <cp:lastModifiedBy>Tim Finin</cp:lastModifiedBy>
  <dcterms:modified xsi:type="dcterms:W3CDTF">2000-11-29T20:58:42Z</dcterms:modified>
  <cp:revision>117</cp:revision>
  <dc:subject/>
  <dc:title>Common Lisp</dc:title>
</cp:coreProperties>
</file>