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AC20-E240-436C-920A-5BF59303B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F2A5-510E-4AE9-9F24-D44FC4B3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80C6-D090-48D9-8ED3-53CFDBF4C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F902-B28B-4E4D-8394-6EC958B14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BF77-DC9A-4733-9E5B-C766254A3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BE76-4318-46CC-8BD3-CE7290D5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06C1-E1A5-43E7-A38F-C5083553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7EE3-0C60-4BF1-881F-5B8EB0AC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2E0C-6B55-444B-80C6-BC6D66A4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51B3-D1F0-4252-87BA-36ECFF8B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5B93-15D9-4149-B9D8-5B404FB9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8378-5ECB-4DEF-9226-12D5EBA6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6BC2-A68D-432C-9E18-9B166A42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B84D-89AC-4C7C-AB47-D91583CB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0B24-FAF7-4003-973C-487B3F6B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95C3-A243-4A49-8594-735B1F1EE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2D1D-E3E5-44C4-8F81-DB5EEED8F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3CBF-231A-4730-918F-54CFCDF0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F6D6-FCEF-49A2-9C2D-78BDC991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71A8-3D0F-4AA8-B047-BB2ABD46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DAEE-4007-4FE1-836E-BF7BFCDE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7B04-A722-406E-86F6-2E181996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4B87-8A80-4AB4-969A-35D6EFE3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EA9A-8D26-4E3B-ABBD-7EDE60BB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3A90-F276-4566-B1E8-31D51E506A2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71E6-42E8-4961-A16C-EB2D8CE8BE0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isp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Other useful Func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NULL S)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sts if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the empty li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LISTP S)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sts if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a li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LIST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kes a list of its (evaluated) argumen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LIST 'A '(B C) 'D)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returns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A (B C) D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LIST (CDR '(A B)) 'C)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turns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((B) C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APPE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catenates two lis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APPEND '(A B) '((X) Y) )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returns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A B (X) Y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CA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A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f a list is the first thing in the li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A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only defined for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nonempt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lis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3505320"/>
            <a:ext cx="7772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Comic Sans MS"/>
              </a:rPr>
              <a:t>If L i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Comic Sans MS"/>
              </a:rPr>
              <a:t>Then (CAR  L) 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A  B  C)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46483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 (X  Y)  Z)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X  Y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51814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 ( ) ( ) )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 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5715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 )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undefin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CD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-246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D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f a list is what's left when you remove 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D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only defined for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nonempt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lis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46960" indent="-246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D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f a list is always a li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CDR 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xampl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2514600"/>
            <a:ext cx="7772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Comic Sans MS"/>
              </a:rPr>
              <a:t>If L i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Comic Sans MS"/>
              </a:rPr>
              <a:t>Then (CDR  L) 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A  B  C)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B C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36576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 (X  Y)  Z)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Z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8150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 ( ) ( ) )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 ( ) 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53481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 )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undefin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4267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X)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 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C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ON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akes two argumen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first argument can be any S-express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second argument should be a lis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result is a new list whos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A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the first argument and whos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D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the seco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Just move one parenthesis to get the result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066680" y="5562720"/>
            <a:ext cx="7086600" cy="761760"/>
            <a:chOff x="1066680" y="5562720"/>
            <a:chExt cx="7086600" cy="761760"/>
          </a:xfrm>
        </p:grpSpPr>
        <p:grpSp>
          <p:nvGrpSpPr>
            <p:cNvPr id="127" name=""/>
            <p:cNvGrpSpPr/>
            <p:nvPr/>
          </p:nvGrpSpPr>
          <p:grpSpPr>
            <a:xfrm>
              <a:off x="2666520" y="5943600"/>
              <a:ext cx="686160" cy="380880"/>
              <a:chOff x="2666520" y="5943600"/>
              <a:chExt cx="686160" cy="380880"/>
            </a:xfrm>
          </p:grpSpPr>
          <p:sp>
            <p:nvSpPr>
              <p:cNvPr id="128" name=""/>
              <p:cNvSpPr/>
              <p:nvPr/>
            </p:nvSpPr>
            <p:spPr>
              <a:xfrm flipV="1">
                <a:off x="3352680" y="6019920"/>
                <a:ext cx="0" cy="30456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2666520" y="6324480"/>
                <a:ext cx="685800" cy="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2666880" y="5943600"/>
                <a:ext cx="0" cy="38088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1066680" y="5562720"/>
              <a:ext cx="708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Comic Sans MS"/>
                </a:rPr>
                <a:t>CONS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of     </a:t>
              </a:r>
              <a:r>
                <a:rPr b="0" lang="en-US" sz="2400" spc="-1" strike="noStrike">
                  <a:solidFill>
                    <a:srgbClr val="ffffcc"/>
                  </a:solidFill>
                  <a:latin typeface="Comic Sans MS"/>
                </a:rPr>
                <a:t>A   ( B  C )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     gives     </a:t>
              </a:r>
              <a:r>
                <a:rPr b="0" lang="en-US" sz="2400" spc="-1" strike="noStrike">
                  <a:solidFill>
                    <a:srgbClr val="ffffcc"/>
                  </a:solidFill>
                  <a:latin typeface="Comic Sans MS"/>
                </a:rPr>
                <a:t>( A  B  C 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CONS 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xampl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3124080"/>
            <a:ext cx="8686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Comic Sans MS"/>
              </a:rPr>
              <a:t>(CAR L)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   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Comic Sans MS"/>
              </a:rPr>
              <a:t>(CDR L)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(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Comic Sans MS"/>
              </a:rPr>
              <a:t>CONS (CAR L) (CDR L)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(A  B  C)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A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(B C)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       (A  B  C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42670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( (X  Y)  Z)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(X  Y)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(Z)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       ( (X  Y)  Z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542448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( ( ) ( ) )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( )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( ( ) )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       ( ( ) ( ) 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59580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( )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undefined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undefined      undefin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4876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(X)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X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( )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        (X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ON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puts together what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A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D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ake apar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otted Pair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second argument to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ON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should be a li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f it isn't, you get a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dotted pai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ON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f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A . B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 aren't using dotted pairs in this clas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f you get a dotted pair, it's because you gav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ON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 atom as a second argu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EQ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Q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ests whether two atoms are equ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tegers are a kind of ato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Q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undefined for lis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t might work for lists, it might no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ut it won't give you an error mess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s with any predicate,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Q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returns either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NI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r something that isn't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NI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ATO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ATOM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akes any S-expression as an argu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ATOM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returns "true" if the argument you gave it is an ato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s with any predicate,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ATOM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returns either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NI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r something that isn't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NI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CON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O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mplements the 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if...then...elseif...then...elseif...then...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trol struc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arguments to a function are evaluated before the function is call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s isn't what you want fo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CON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O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 a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special form,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a fun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ersions of LISP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Lisp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an old language with many varian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sp is alive and well tod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st modern versions are based on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ommon Lis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LispWork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 based on Common Lis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chem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one of the major varian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essentials haven’t changed mu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pecial form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special form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like a function, but it evaluates the arguments as it needs th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OND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QUOT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DEFU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re special for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ou can define your own special for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 won't be defining special forms in this cour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rm of the</a:t>
            </a: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 CON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2362320"/>
            <a:ext cx="7467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COND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   (</a:t>
            </a:r>
            <a:r>
              <a:rPr b="0" i="1" lang="en-US" sz="3200" spc="-1" strike="noStrike">
                <a:solidFill>
                  <a:srgbClr val="ffffcc"/>
                </a:solidFill>
                <a:latin typeface="Comic Sans MS"/>
              </a:rPr>
              <a:t>condition1   result1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)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   (</a:t>
            </a:r>
            <a:r>
              <a:rPr b="0" i="1" lang="en-US" sz="3200" spc="-1" strike="noStrike">
                <a:solidFill>
                  <a:srgbClr val="ffffcc"/>
                </a:solidFill>
                <a:latin typeface="Comic Sans MS"/>
              </a:rPr>
              <a:t>condition2   result2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)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   . . .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   (T    </a:t>
            </a:r>
            <a:r>
              <a:rPr b="0" i="1" lang="en-US" sz="3200" spc="-1" strike="noStrike">
                <a:solidFill>
                  <a:srgbClr val="ffffcc"/>
                </a:solidFill>
                <a:latin typeface="Comic Sans MS"/>
              </a:rPr>
              <a:t>resultN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) 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efining Func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DEFUN </a:t>
            </a:r>
            <a:r>
              <a:rPr b="0" i="1" lang="en-US" sz="3200" spc="-1" strike="noStrike">
                <a:solidFill>
                  <a:srgbClr val="ffffcc"/>
                </a:solidFill>
                <a:latin typeface="Comic Sans MS"/>
              </a:rPr>
              <a:t>function_name  parameter_list</a:t>
            </a:r>
            <a:br>
              <a:rPr sz="3200"/>
            </a:br>
            <a:r>
              <a:rPr b="0" i="1" lang="en-US" sz="3200" spc="-1" strike="noStrike">
                <a:solidFill>
                  <a:srgbClr val="ffffcc"/>
                </a:solidFill>
                <a:latin typeface="Comic Sans MS"/>
              </a:rPr>
              <a:t>        function_body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mple: Test if the argument is the empty li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DEFUN  NULL   (X)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(COND</a:t>
            </a:r>
            <a:br>
              <a:rPr sz="20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     (X   NIL)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     (T   T)  )    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3733920"/>
            <a:ext cx="1219320" cy="45720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38480" y="3733920"/>
            <a:ext cx="762120" cy="53316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4267080"/>
            <a:ext cx="2514600" cy="152424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xample: MEMBE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an example we define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MEMBE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which tests whether an atom is in a list of ato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DEFUN MEMBER (A LAT)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    (COND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      ((NULL LAT)   NIL)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      ((EQ A (CAR LAT))   T)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      (T   (MEMBER A (CDR LAT))) ) 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MEMBE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is typically a built-in fun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ules for Recurs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andle the base (“simplest”) cases fir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cur only with a “simpler” c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mpler” = more like the base ca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n’t alter global variables (you can’t anyway with the Lisp functions I’ve told you about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n’t look down into the recurs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Guidelines for Lisp Func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less the function is trivial, start with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OND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andle the base case firs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void having more than one base c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base case is usually testing for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NUL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 something with 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A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nd recur with the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D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xample: UN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2209680"/>
            <a:ext cx="8610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DEFUN UNION (SET1 SET2)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(COND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   ((NULL SET1)   SET2)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   ((MEMBER (CAR SET1) SET2)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     (UNION (CDR SET1) SET2)  )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   (T (CONS (CAR SET1)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        (UNION (CDR SET1) SET2)  ))  )  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till more useful Func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LENGTH L)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turns the length of list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RANDOM N)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, where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N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 an integer, returns a random integer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&gt;= 0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&lt; 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En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ecurs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cursion is essential in Lis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recursive definit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a definition in whi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ertain things are specified as belonging to the category being defined, an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rule or rules are given for building new things in the category from other things already known to be in the categor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nformal Synta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atom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either an integer or an identifi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lis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a left parenthesis, followed by zero or more S-expressions, followed by a right parenthesi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S-express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an atom or a lis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mple: 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A (B 3) (C) ( ( ) ) 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rmal Syntax (approximate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&lt;S-expression&gt; ::= &lt;atom&gt; | &lt;list&gt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&lt;atom&gt; ::= &lt;number&gt; | &lt;identifier&gt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&lt;list&gt; ::= ( &lt;S-expressions&gt; 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&lt;S-expressions &gt; ::= &lt;empty&gt;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    | &lt;S-expressions &gt; &lt;S-expression&gt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&lt;number&gt; ::= &lt;digit&gt; | &lt;number&gt; &lt;digit&gt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&lt;identifier&gt; ::=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string of printable characters, not including parenthes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 and NI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NI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the name of the empty li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s a test,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NI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means “false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T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 usually used to mean “true,” but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ything that isn’t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 NI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“true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NIL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 both an atom and a li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t’s defined this way, so just accept 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unction calls and dat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function call is written as a li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first element is the name of the fun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maining elements are the argum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mple: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F A B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lls function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with arguments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ta is written as atoms or lis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mple: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F A B)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a list of three elemen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o you see a problem here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Quot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F A B)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 call to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F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or is it just data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l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literal dat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must be quoted (atoms, too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QUOTE (F A B))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the list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(F A B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QUOT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is a “special form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arguments to a special form are not evaluat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'(F A B)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another way to quote 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re is just one single quote at the beginn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t quotes one S-express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asic Func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A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returns the head of a li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DR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turns the tail of a li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CON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serts a new head into a li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Q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pares two atoms for equal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ATOM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sts if its argument is an atom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8T20:19:06Z</dcterms:created>
  <dc:creator>Villanova</dc:creator>
  <dc:description/>
  <dc:language>en-US</dc:language>
  <cp:lastModifiedBy>Tim Finin</cp:lastModifiedBy>
  <cp:lastPrinted>2000-11-01T21:37:14Z</cp:lastPrinted>
  <dcterms:modified xsi:type="dcterms:W3CDTF">2000-11-13T20:42:55Z</dcterms:modified>
  <cp:revision>13</cp:revision>
  <dc:subject/>
  <dc:title>Lis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renoir.vill.edu:80/~dmatusze/8310/index.html</vt:lpwstr>
  </property>
  <property fmtid="{D5CDD505-2E9C-101B-9397-08002B2CF9AE}" pid="9" name="LinkColor">
    <vt:r8>16711782</vt:r8>
  </property>
  <property fmtid="{D5CDD505-2E9C-101B-9397-08002B2CF9AE}" pid="10" name="MailAddress">
    <vt:lpwstr>dave@acm.org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avesHTML\davesnewweb\8310\lecture_note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