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bscure Aspects of Common Lisp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et ((x 1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foo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e (special 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 x within the function will no longer refer to the lexical variable existing where the function was defined, but will refer to whatever special x exists at the time the function is cal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let ((x 2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clare (special 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o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Where is Dynamic Scope Usefu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to give some global variable a new value temporar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 there are 11 global variables that control the way objects are printed, including *print-base*, which is 10 by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display numbers in hexadecimal (base 16), you can do it by rebinding *print-base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let ((*print-base* 16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inc 32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 are displayed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generated by princ: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returned: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pil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nli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lequin FreeLis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egro Common Lisp L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as a compi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checking benchmarks, or delivering a program, you need to compile your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d code runs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isp functions can be compiled either individually or by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defun foo (x) (+ x 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compiled-function-p #’f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compile ‘f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mpile-fi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ual way to compile Lisp code is not to compile functions individually, but to compile whole fil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e-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compile-file “da.lsp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file takes a filename and creates a compiled version of the source file with the same name but a different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SP:   .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gro:  .f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L:      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symbols as data objects and as names for things without understanding how the two roles ar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is best, and useful, to understand what exactly a symbol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ymbol Nam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I have described symbols as variable names existing as objects in their own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range of possible Lisp symbols is broader than the range of variable names allowed in most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mbol can  have any string as its name. You can get the name of a symbol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-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symbol-name ‘a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pecial Syntax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special syntax for referring to symbols whose names contain whitespace or other things that might be significant to the r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equence of characters between vertical bars is treated as a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list ‘|Lisp 1.5| ‘|| ‘|ABC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|lLisp 1.5| || |ABC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tical bars are a special syntax for denoting symbo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part of the symbol’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ymbol-name ‘|a b c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 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bscure Common Lis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 (dynamic sc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  and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q, setf, and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*, and LET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roperty Lis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mmon Lisp every symbol h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perty-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a symbol and a key of any type, and returns the value associated with that key in the symbol’s property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get ‘house ‘col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lists use eql to compare k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ociate a value with a key you can use setf with g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etf (get ‘house ‘colour) ‘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get ‘house ‘col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ymbols are more than just nam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 are highly structured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mbol can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m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as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a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property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ymbols are Big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>
            <a:off x="3359160" y="2292480"/>
            <a:ext cx="2806560" cy="3644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22860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36576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4197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1814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860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28600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2860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505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48840" y="242424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20960" y="311004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73600" y="3795840"/>
            <a:ext cx="958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9880" y="4557600"/>
            <a:ext cx="124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8840" y="531972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1800" y="2424240"/>
            <a:ext cx="1047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96600" y="37958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600" y="4557600"/>
            <a:ext cx="17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&lt;fun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20280" y="5396040"/>
            <a:ext cx="1740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lour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60" y="615780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18288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600200" y="2209320"/>
            <a:ext cx="41911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066680" y="2666520"/>
            <a:ext cx="586764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2590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4800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5562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us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mbol-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et at a symbol name from its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also get at symbols from their names (str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ore complicated because of pack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ly, packages are symbol-tables, mapping names to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rdinary symbol belongs to a particular packa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mbol that belongs to a package is said to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at pack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variables have symbols as their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s enforce modularity by restricting which symbols are acce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ultiple Packag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programs are often divided up into multiple pack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upports team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at you would have to put at the top of a file containing a distinct package of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fpackage “MY-APPLI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:use “COMMON-LISP” “MY-UTILITI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:nicknames  “APP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:export  “WIN”  “LOSE”  “DRAW”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-package my-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Interesting aspects of keyword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 in the keyword package (known as keywords, :test :key) have two unique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ways evaluate to themselve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fer to them in any package as, for example :x instead of keyword: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ymbols and Variabl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ymbol is the name of a special variable, the value of the variable is stored in a field within the symbol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-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refers to that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igns values to speci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set ‘a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setf (symbol-value ‘a)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xical variabl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exical variables a symbol is just a placehol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will translate it into a reference to a register or a location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ventual compiled code, there will be no trace of the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is no connection between symbols and the values of the lexical variable they re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can be returned as the value of an express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unction is defined within the scope of a lexical variable, it can continue to refer to that variable, even if it is returned as a value outside the context where the variable was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T* and DO*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let ((a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 (+ 2 a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let* ((a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 (+  2 a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e create a function that adds 3 to its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etf fn (let ((i 3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’(lambda (x) (+ x i)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&lt;Interpreted-Function C0A51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funcall fn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function refers to a variable defined outside it,  it’s call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that refers to a free lexical variable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must persist as long as the function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alked about local and global variables in the first l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the real distinction is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x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, which have lexical scope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, which have dynamic 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exical Scop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lexical scope, a symbol refers to the variable that has that name in the context where the symbol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variables have lexical scope by defaul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f we define a function in an environment where there is a variable called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t ((x  10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fun foo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x in the body will refer to that variable, regardless of any x that might exist where foo is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let ((x 20)) (foo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ynamic Scop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ynamic scope, we look for a variable in the environment where the function is called, not in the environment where it was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use a variable to have dynamic scope, we must declare it to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ny context where i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07:34:50Z</dcterms:created>
  <dc:creator>Jon Spragg</dc:creator>
  <dc:description/>
  <cp:keywords>closure dynamic extent</cp:keywords>
  <dc:language>en-US</dc:language>
  <cp:lastModifiedBy>Tim Finin</cp:lastModifiedBy>
  <dcterms:modified xsi:type="dcterms:W3CDTF">2000-11-27T05:14:34Z</dcterms:modified>
  <cp:revision>55</cp:revision>
  <dc:subject>common Lisp</dc:subject>
  <dc:title>Obscure Aspects of Common Lisp</dc:title>
</cp:coreProperties>
</file>