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74188" cy="5943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ebebeb"/>
                </a:gs>
                <a:gs pos="100000">
                  <a:srgbClr val="bbbb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87840" y="6486480"/>
            <a:ext cx="1283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thögsko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133880" y="6486480"/>
            <a:ext cx="87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9BEC-CE5B-4B41-BAF0-3297B9DAF7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57400" y="648648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26D2-3152-4DF0-AC4E-A2B659E3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.E. Sp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ich, when and wher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bo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operator you rarely use, but you can build macros up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all the time you will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 allow for sudden exits,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bo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lici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tch and throw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it from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any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necessary to transfer control back through several function c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this, we 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 take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n be any kind of object, followed by a body of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uper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tch ‘ab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We’ll never see this.”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sub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row ‘abort 99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ressions are evaluated in order, as if 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ny point within this code or code called by it,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correspond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ca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to return immedi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su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 give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a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ass control through (and thereby kill) 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o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rder to reach the one with the matc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no pend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righ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an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so interrupts execution, but instead of transferring control to another part higher up in the calling tree, it transfers control to the Lisp error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usually invoke a break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nwind-protec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you want code to be proof against interruptions lik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can ensure that such interruptions won’t leave your program in an inconsistent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wind-prot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any number of argument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value of th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remaining expressions will be evaluated even if the evaluation of the first is interru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setf x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catch ‘ab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wind-pro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row ‘abort 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tf x 2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even though 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r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s control back to the wai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sures that the second expression gets evaluated on the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, certain actions have to be followed by some kind of cleanup or rese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wind-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be us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lock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Lisp has 3 basic operators for creating blocks of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(pro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at t “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at t “b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+ 11 1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lock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only the value of the last expression is returned, the us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side-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lo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ik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name and an emergency ex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argument should be a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comes the name of the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y point within the body, you can halt evaluation and return a value immediately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block’s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-fro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block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Here we go.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-from head ‘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ormat t “We’ll never see this.”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r code to make a sudden but graceful exit from anywhere in a body of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argument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turned as the value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d by the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 afte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not evalu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lso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retur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, which returns its arguments as the value of an enclo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(block 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 27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turn from an iter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L operators that take a body of expressions implicitly enclose the body in a block named nil. 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(dolist (x ‘(a b c d e f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mat t “~A “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(eql x ‘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turn ‘done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efun and return-fro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of a function defined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mplicitly enclosed 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same name as the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fun foo 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turn-from foo 27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of an explicit or implici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ei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-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agbod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gbo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used with g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 appearing in the body are interpreted as lab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ing such a label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nds control to the expression following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(tag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tf x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tf x (+ x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mat t  “~A “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 (&lt;  x 10) (go top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2 3 4 5 6 7 8 9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08:01:52Z</dcterms:created>
  <dc:creator>Jon Spragg</dc:creator>
  <dc:description/>
  <cp:keywords>control common lisp</cp:keywords>
  <dc:language>en-US</dc:language>
  <cp:lastModifiedBy>Tim Finin</cp:lastModifiedBy>
  <dcterms:modified xsi:type="dcterms:W3CDTF">2000-11-27T05:16:31Z</dcterms:modified>
  <cp:revision>33</cp:revision>
  <dc:subject>common lisp</dc:subject>
  <dc:title>Control</dc:title>
</cp:coreProperties>
</file>