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112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5400" y="304920"/>
            <a:ext cx="7153200" cy="63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112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112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280" y="6607080"/>
            <a:ext cx="9828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MBC CMSC 33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5840" y="6545160"/>
            <a:ext cx="1128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CC97-8279-4A0B-8841-0CCB60EC333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-2174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31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1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Common 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Lisp</a:t>
            </a:r>
            <a:br>
              <a:rPr sz="12900"/>
            </a:b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global variables implicitly just by assigning them valu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 x   (list  ‘a  ‘b  ‘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B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 it is better lisp style  to use defparameter to declare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ive setf any even number of arg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 a   1 b   2 c  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ame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a 1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b 2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c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do more than just assign values to variables with set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argument to setf can be an expression as well as a variable nam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uch cases, the value of the second argument is inserted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ferred to by the fir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 (car  x)  ‘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 B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440" y="304920"/>
            <a:ext cx="102564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make-array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NIL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aref a 1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NIL 3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struct foo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3886200" cy="4952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a (make-fo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foo-bar a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s(FOO :BA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o-bar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al programm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al programming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writing programs that work by returning values, instead of by modifying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dominant programming paradigm in Li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uilt-in lisp functions are meant to be called for the values they return, not for side-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53912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s of functional programm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n object and a list and returns a new list containing everything but that o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setf  lst  ‘(b u t t e 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remove ‘e l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remove does not remove an item from the list!  The original list is untouched after the call to rem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 U T T 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ctually remove an item from a list you would have to use set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 lst  (remove ‘e ls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1320" indent="-2113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programming means, essentially, avoiding setf, and other assignment mac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7120" y="304920"/>
            <a:ext cx="717228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remove could be defin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’s how remove could b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remove (x 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d ((null list) n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equal x (car list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move x (cdr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 (cons (car list) (remove x (cdr list))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it “copies” the top-level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er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want to do something repeatedly, it is sometimes more natural to use iteration than recursi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unction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rint out the squares of the integer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 show-squares  (start  e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o  ((i  start  (+  i 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&gt;  i  end)  ‘d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 “~A  ~A~%”  i (* i i)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 is CL’s fundamental iteration op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create variables, and the first argument is a list of variable specifications.  Each element is of the form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ymbol, 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expre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argumen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uld be a list containing one or more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expression is used to test whether iteration should stop.  In the case above, the test expression is (&gt;  i end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2560" indent="-20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maining expression in this list will be evaluated in order when iteration stops, and the value of the last will be returned as the valu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9800" indent="-1998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maining argument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rise the body of the lo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10484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 has a simpler iteration operator for handling lists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fun len  (l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lculate the length  of  l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et  ((l 0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olist  (obj  lst)  (setf l (+ l 1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dolist takes an argument of the for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llowed by a body of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dy will be evalu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ound to successive elements of the list returned by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43520" y="304920"/>
            <a:ext cx="1056960" cy="1379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all Lisp’s evaluation process with the eval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s1 '(cadr '(one two three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DR '(ONE TWO THRE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val (list 'cdr (car '((quote (a . b)) c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put and Outpu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is the most primitive outpu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print (list 'foo 'ba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O 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output function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t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r more argument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indicates where the input is to be prin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is a string templ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-2167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arguments are objects whose printed representations are to be inserted into the temp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format t “~A plus ~A equals ~A.~%” 2 3 (+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lus 3 equals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s as ob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isp, functions are regular objects, like symbols, or strings, or l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give the name of a function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it will return the associated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 we don’t have to quote the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fun add1 (n) (+ n 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function add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&lt;CLOSURE ADD1 (N) (DECLARE (SYSTEM::IN-DEFUN ADD1)) (BLOCK ADD1 (+ N 1)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we can use ‘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can use #’ as an abbrevi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#’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SYSTEM-FUNCTION +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bbreviation is known as sharp-qu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any other kind of object, we can pass functions as argument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function that takes a function as an argumen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a function and a list of arguments for it, and returns the result of applying the function to the argu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‘(1  2 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given any number of arguments, so long as the last is a 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pply  #’+  1  2  ‘(3  4 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version of apply could be written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apply (f list) (eval (cons f list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ut does not need the arguments to be packaged in a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funcall  #’+  1  2 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uld be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fun funcall (f &amp;rest ar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val (cons f args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ro creates a function and gives it a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functions don’t have to have names, and we don’t ne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fin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refer to functions literally by using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mbda expr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1120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 expre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list containing the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mb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lis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llowed by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zero or more expres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setf f (lambda (x) (+ x 1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&lt;CLOSURE :LAMBDA (X) (+ X 1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funcall 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mbda expression can be considered as the name of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 ordinary function name,  a lambda expression can be the first element of a function c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(lambda  (x)  (+  x  100)) 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y affixing a sharp-quote to a lambda expression, we get the corresponding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funcall  #’(lambda (x)  (+  x 10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types,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don’t have to declare the types of variables, because any variable can hold objects of any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 type declaration is never required, you may want to make them for reasons of efficienc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ilt-in CL types form a hierarchy of subtypes and superty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pertype of all types, so everything is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90720" y="5624640"/>
            <a:ext cx="56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4360" y="4862520"/>
            <a:ext cx="106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59960" y="410040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82920" y="333864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2960" y="250020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84360" y="1814400"/>
            <a:ext cx="111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36640" y="1128600"/>
            <a:ext cx="7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42280" y="5954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33720" y="5257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133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337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1523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33720" y="99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06640" y="519120"/>
            <a:ext cx="295668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‘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a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27  ‘ra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typep  27  ‘fixn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typep  27  ‘v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 function for inpu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given no arguments, it reads from the default place, which is usually standard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defun  ask (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mat  t  “~A”  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ad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 (ask  “How old are you? 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you? 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frequently used operators in C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lows local variables to be used in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 expression has two parts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omes a list of instructions for creating variables, each of the fo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v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ressio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are valid within the body of the 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233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list of variables and values comes the body of expressions, which are evaluated in or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1600200"/>
            <a:ext cx="3124080" cy="405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et ((x 100) (y 2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x 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int (+ x y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let examp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un  ask-number  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format t  “Please enter a number. “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let ((val  (read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f  (numberp v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(ask-number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ask-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(this is a 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enter a number. 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variab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are visible throughout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variables can be created by giving a symbol and a valu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para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v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parameter *foo*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fo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(+ *foo*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(defvar *bar* 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*ba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3429000"/>
            <a:ext cx="3048120" cy="2209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paramete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a global variable named v and sets its value to be 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var v e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just like defparameter if no global variable named v exists.  Otherwise it does n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lobal consta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define a global constant, by call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fconstant +limit+ 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LIMIT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+limit+ 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 - SETQ: the value of the constant +LIMIT+ may not be al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Break [5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lus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lus is a lisp convention to identify symbols as constants.  Just like star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ar is a lisp convention to identify global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in doub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n doubt about whether some symbol is a global variable or constant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und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*foo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 (boundp  ‘fishc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5400" y="304920"/>
            <a:ext cx="7153200" cy="7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assignment operators in Common Lisp: set, setq and 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general assignment operato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it to assign both local and global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setf *blob* 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let ((n 1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tf n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8T11:04:34Z</dcterms:created>
  <dc:creator>Jon Spragg</dc:creator>
  <dc:description/>
  <dc:language>en-US</dc:language>
  <cp:lastModifiedBy>Tim Finin</cp:lastModifiedBy>
  <dcterms:modified xsi:type="dcterms:W3CDTF">2000-11-29T20:57:15Z</dcterms:modified>
  <cp:revision>116</cp:revision>
  <dc:subject/>
  <dc:title>Common Lisp</dc:title>
</cp:coreProperties>
</file>