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472-F11E-4011-A161-DE881837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919-ABEC-4CE5-A906-AFA68EC6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21E-209C-43F2-9EB2-242AB376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307-C573-414D-AF31-DCB474EA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57CF-D10C-4826-9DBB-2DE8ED83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8D81-9D8D-4E49-8F1B-5C7E99F4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CBAE-8C3D-46EB-BA2A-851E8C49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BCC2-FA43-45A6-8575-0F172D19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FC61-33D5-438C-A4B0-8C333085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2974-2A08-40F3-A86C-104A37FD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AFFE-710B-49BF-A4B2-36B97C0D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616-8B7E-4604-9752-3885E2F5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F2EB-4909-4F38-AE30-FA1A31A7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EA3A-BD2D-41D6-B477-42991CF9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99D7-329F-4692-8374-A67109D3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F3E3-4727-4054-AF97-4A389103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26BB-27ED-40F0-BA72-B11AB8FE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DE2-10AC-44C8-8CC6-1BC8531A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51D-DFC5-4B20-9C61-941F8648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04C-9B87-4F9D-BE2F-984F30F8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989-6C3D-45EB-ADE4-8E489D5F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E9A-38E6-4158-B5F4-E5E698CB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80E-073F-4CE1-8C30-D1F6B3E8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E8E-CB96-4E46-BDD9-A71AFB1A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5F58-AAFA-462C-97F8-366E6209AC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D007-347C-45EE-BE87-6A789AC8CC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Harlequin LispWork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pairing a Fun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nge the function in the Editor window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89548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defun lookup (a pair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c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(null pairs)  ni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(eq a (car (car pairs)))  (car (cdr (car pairs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t  (lookup a (cdr pairs))) )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53341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n compile it and try it ag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re Built-In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CAR (CAR X))  --&gt;  (CAAR X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CAR (CDR X))  --&gt;  (CADR X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809880"/>
            <a:ext cx="8610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defun lookup (a pair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co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(null pairs)  ni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(eq a (caar pairs))  (cadar pairs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t  (lookup a (cdr pairs))) )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LispWork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 BURKS 5, the file is 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wper410.ex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 up LispWorks; you get two windo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Listener 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LispWorks Personal Ed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LispWorks Personal Edi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, u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ools -&gt; Edit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o open a third window (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ditor 1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Window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the Listener 1 window to evaluate Lisp expressions direct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L-USER 1 &gt; (car '(a b c)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oesn't matter in LispWor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Editor 1 window, use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ex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ab, and use this window to define fun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dit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dit as usual 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dit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you know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mac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you can u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mac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mands in this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you don’t know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mac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you are not missing anything ess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av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ave As…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ork as usu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i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uffers -&gt; Compi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o compile your functions into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ten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times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uffers -&gt; Compi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mand is on a menu 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pWorks Personal Edi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so, visit the Editor window before using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 functions 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ten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oading Previously Saved Fi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ile -&gt; Compile and Load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 use the Lisp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OA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function: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load "C:\\Lisp\\myprog.lsp"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ving a Transcrip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need to save and print a transcript of the tests of your fun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istener window doesn’t have any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av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ma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eyboard editing shortcuts don’t 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elect A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p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di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menu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: Searching an AV Lis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048120"/>
            <a:ext cx="84582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defun lookup (a pair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c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(null pairs)  ni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(eq a (car (car pairs)))  (cdr (car pairs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t  (lookup a (cdr pairs))) )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Editor window, 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il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dit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, click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uffers -&gt; Compi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says "Press Space to continue", so do s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y the function in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tene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L-USER 20 : 2 &gt; (lookup 'b '((a x)(b y)(c z))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’s wrong-- we should ge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Y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(Y);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go back to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dit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window to fix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20:36:21Z</dcterms:created>
  <dc:creator>Villanova</dc:creator>
  <dc:description/>
  <dc:language>en-US</dc:language>
  <cp:lastModifiedBy>Villanova</cp:lastModifiedBy>
  <dcterms:modified xsi:type="dcterms:W3CDTF">2000-11-06T23:09:29Z</dcterms:modified>
  <cp:revision>10</cp:revision>
  <dc:subject/>
  <dc:title>Using LispWor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renoir.vill.edu:80/~dmatusze/8310/index.html</vt:lpwstr>
  </property>
  <property fmtid="{D5CDD505-2E9C-101B-9397-08002B2CF9AE}" pid="9" name="LinkColor">
    <vt:r8>16711782</vt:r8>
  </property>
  <property fmtid="{D5CDD505-2E9C-101B-9397-08002B2CF9AE}" pid="10" name="MailAddress">
    <vt:lpwstr>dave@acm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avesHTML\davesnewweb\8310\lecture_not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