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36F9-47AB-4C80-B315-6013ED56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3AAB-B90D-484C-8D93-0BFA30B6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0BA-DF9F-4170-BC4F-18EB9C81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5CD-9BD1-41EC-B88C-A5DCBC0F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596-FB42-4480-BAAA-70A17D0D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E19-815C-4301-A916-54D63C95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FB5C-1C26-4F46-87EB-3BC29CE6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A1F2-430E-4AA1-9260-B8E8DB0B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2A9F-8355-4223-8C3B-818F6E09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3104-9073-4F3E-8DC0-BC765268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44A-1202-4216-8354-91985F79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E610-79F1-4826-AA92-6DD4EBC7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E752-064F-43F6-9BDA-D1A55D0E8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gent Communication Languages: Past, Present and Futur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5410080"/>
            <a:ext cx="4952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annis Labrou and Tim Fin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Mary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timore Cou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2000, Barcelona,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3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6720" y="7315200"/>
            <a:ext cx="1096920" cy="1625040"/>
            <a:chOff x="306720" y="7315200"/>
            <a:chExt cx="1096920" cy="1625040"/>
          </a:xfrm>
        </p:grpSpPr>
        <p:grpSp>
          <p:nvGrpSpPr>
            <p:cNvPr id="44" name=""/>
            <p:cNvGrpSpPr/>
            <p:nvPr/>
          </p:nvGrpSpPr>
          <p:grpSpPr>
            <a:xfrm>
              <a:off x="590760" y="7577280"/>
              <a:ext cx="685800" cy="1362960"/>
              <a:chOff x="590760" y="7577280"/>
              <a:chExt cx="685800" cy="1362960"/>
            </a:xfrm>
          </p:grpSpPr>
          <p:sp>
            <p:nvSpPr>
              <p:cNvPr id="45" name=""/>
              <p:cNvSpPr/>
              <p:nvPr/>
            </p:nvSpPr>
            <p:spPr>
              <a:xfrm>
                <a:off x="590760" y="7891920"/>
                <a:ext cx="685800" cy="6292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47640" y="8730720"/>
                <a:ext cx="228600" cy="209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90360" y="8730720"/>
                <a:ext cx="228600" cy="209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90760" y="8206560"/>
                <a:ext cx="685800" cy="6292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04880" y="7577280"/>
                <a:ext cx="0" cy="57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87960" y="7577280"/>
                <a:ext cx="57240" cy="52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87960" y="8311320"/>
                <a:ext cx="171360" cy="26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1062000" y="8619480"/>
                <a:ext cx="96120" cy="88200"/>
                <a:chOff x="1062000" y="8619480"/>
                <a:chExt cx="96120" cy="8820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062000" y="8619480"/>
                  <a:ext cx="96120" cy="8820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 flipV="1">
                  <a:off x="1109160" y="8645400"/>
                  <a:ext cx="27000" cy="19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727200" y="8619480"/>
                <a:ext cx="96120" cy="88200"/>
                <a:chOff x="727200" y="8619480"/>
                <a:chExt cx="96120" cy="88200"/>
              </a:xfrm>
            </p:grpSpPr>
            <p:sp>
              <p:nvSpPr>
                <p:cNvPr id="56" name=""/>
                <p:cNvSpPr/>
                <p:nvPr/>
              </p:nvSpPr>
              <p:spPr>
                <a:xfrm flipH="1">
                  <a:off x="726840" y="8619480"/>
                  <a:ext cx="96120" cy="8820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 flipV="1">
                  <a:off x="749160" y="8645400"/>
                  <a:ext cx="27000" cy="19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" name=""/>
              <p:cNvSpPr/>
              <p:nvPr/>
            </p:nvSpPr>
            <p:spPr>
              <a:xfrm>
                <a:off x="876240" y="8081640"/>
                <a:ext cx="78480" cy="720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687960" y="8751600"/>
                <a:ext cx="502200" cy="50040"/>
                <a:chOff x="687960" y="8751600"/>
                <a:chExt cx="502200" cy="5004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687960" y="8751600"/>
                  <a:ext cx="54720" cy="5004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42680" y="8751600"/>
                  <a:ext cx="54720" cy="5004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97400" y="8751600"/>
                  <a:ext cx="54360" cy="5004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56800" y="8751600"/>
                  <a:ext cx="54720" cy="5004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911520" y="8751600"/>
                  <a:ext cx="54720" cy="5004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966240" y="8751600"/>
                  <a:ext cx="54720" cy="5004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025640" y="8751600"/>
                  <a:ext cx="54720" cy="5004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80360" y="8751600"/>
                  <a:ext cx="54720" cy="5004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135440" y="8751600"/>
                  <a:ext cx="54720" cy="5004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1019160" y="8311320"/>
                <a:ext cx="171360" cy="262080"/>
                <a:chOff x="1019160" y="8311320"/>
                <a:chExt cx="171360" cy="2620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1019160" y="8311320"/>
                  <a:ext cx="171360" cy="262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62000" y="8363520"/>
                  <a:ext cx="92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062000" y="8416080"/>
                  <a:ext cx="92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062000" y="8468640"/>
                  <a:ext cx="92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62000" y="8521200"/>
                  <a:ext cx="92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" name=""/>
              <p:cNvSpPr/>
              <p:nvPr/>
            </p:nvSpPr>
            <p:spPr>
              <a:xfrm>
                <a:off x="776520" y="8367120"/>
                <a:ext cx="55800" cy="51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419400" y="7315200"/>
              <a:ext cx="628560" cy="576720"/>
            </a:xfrm>
            <a:prstGeom prst="ellipse">
              <a:avLst/>
            </a:prstGeom>
            <a:noFill/>
            <a:ln w="9360">
              <a:solidFill>
                <a:srgbClr val="b2b2b2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7419960"/>
              <a:ext cx="399960" cy="366840"/>
            </a:xfrm>
            <a:prstGeom prst="ellipse">
              <a:avLst/>
            </a:prstGeom>
            <a:noFill/>
            <a:ln w="936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7640" y="7524720"/>
              <a:ext cx="171360" cy="157320"/>
            </a:xfrm>
            <a:prstGeom prst="ellipse">
              <a:avLst/>
            </a:prstGeom>
            <a:noFill/>
            <a:ln w="936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4320" y="7315200"/>
              <a:ext cx="519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ask-a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4280" y="7577280"/>
              <a:ext cx="63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adverti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6720" y="7577280"/>
              <a:ext cx="66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subscri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257440" y="7315200"/>
            <a:ext cx="1298520" cy="1548720"/>
            <a:chOff x="5257440" y="7315200"/>
            <a:chExt cx="1298520" cy="1548720"/>
          </a:xfrm>
        </p:grpSpPr>
        <p:grpSp>
          <p:nvGrpSpPr>
            <p:cNvPr id="83" name=""/>
            <p:cNvGrpSpPr/>
            <p:nvPr/>
          </p:nvGrpSpPr>
          <p:grpSpPr>
            <a:xfrm>
              <a:off x="5257440" y="7565040"/>
              <a:ext cx="685800" cy="1298880"/>
              <a:chOff x="5257440" y="7565040"/>
              <a:chExt cx="685800" cy="1298880"/>
            </a:xfrm>
          </p:grpSpPr>
          <p:sp>
            <p:nvSpPr>
              <p:cNvPr id="84" name=""/>
              <p:cNvSpPr/>
              <p:nvPr/>
            </p:nvSpPr>
            <p:spPr>
              <a:xfrm flipH="1">
                <a:off x="5257080" y="7864560"/>
                <a:ext cx="685800" cy="5994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5657040" y="8664120"/>
                <a:ext cx="228600" cy="19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5314320" y="8664120"/>
                <a:ext cx="228600" cy="19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5257080" y="8164440"/>
                <a:ext cx="685800" cy="5994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829120" y="7565040"/>
                <a:ext cx="0" cy="54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5788080" y="7565040"/>
                <a:ext cx="57240" cy="49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5674680" y="8264520"/>
                <a:ext cx="171360" cy="24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5375160" y="8558280"/>
                <a:ext cx="96120" cy="84240"/>
                <a:chOff x="5375160" y="8558280"/>
                <a:chExt cx="96120" cy="84240"/>
              </a:xfrm>
            </p:grpSpPr>
            <p:sp>
              <p:nvSpPr>
                <p:cNvPr id="92" name=""/>
                <p:cNvSpPr/>
                <p:nvPr/>
              </p:nvSpPr>
              <p:spPr>
                <a:xfrm flipH="1">
                  <a:off x="5374800" y="8558280"/>
                  <a:ext cx="96120" cy="8424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 flipV="1">
                  <a:off x="5397120" y="8582760"/>
                  <a:ext cx="27000" cy="18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5710320" y="8558280"/>
                <a:ext cx="96120" cy="84240"/>
                <a:chOff x="5710320" y="8558280"/>
                <a:chExt cx="96120" cy="8424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5710320" y="8558280"/>
                  <a:ext cx="96120" cy="8424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>
                  <a:off x="5757480" y="8582760"/>
                  <a:ext cx="27000" cy="18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 flipH="1">
                <a:off x="5579280" y="8046000"/>
                <a:ext cx="78480" cy="684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5343120" y="8683920"/>
                <a:ext cx="502200" cy="47880"/>
                <a:chOff x="5343120" y="8683920"/>
                <a:chExt cx="502200" cy="47880"/>
              </a:xfrm>
            </p:grpSpPr>
            <p:sp>
              <p:nvSpPr>
                <p:cNvPr id="99" name=""/>
                <p:cNvSpPr/>
                <p:nvPr/>
              </p:nvSpPr>
              <p:spPr>
                <a:xfrm flipH="1">
                  <a:off x="5790600" y="8683920"/>
                  <a:ext cx="54720" cy="478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>
                  <a:off x="5735880" y="8683920"/>
                  <a:ext cx="54720" cy="478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5681160" y="8683920"/>
                  <a:ext cx="54360" cy="478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>
                  <a:off x="5621760" y="8683920"/>
                  <a:ext cx="54720" cy="478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>
                  <a:off x="5567040" y="8683920"/>
                  <a:ext cx="54720" cy="478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>
                  <a:off x="5512320" y="8683920"/>
                  <a:ext cx="54720" cy="478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5452920" y="8683920"/>
                  <a:ext cx="54720" cy="478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>
                  <a:off x="5398200" y="8683920"/>
                  <a:ext cx="54720" cy="478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>
                  <a:off x="5343120" y="8683920"/>
                  <a:ext cx="54720" cy="478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5343480" y="8264520"/>
                <a:ext cx="171360" cy="249480"/>
                <a:chOff x="5343480" y="8264520"/>
                <a:chExt cx="171360" cy="249480"/>
              </a:xfrm>
            </p:grpSpPr>
            <p:sp>
              <p:nvSpPr>
                <p:cNvPr id="109" name=""/>
                <p:cNvSpPr/>
                <p:nvPr/>
              </p:nvSpPr>
              <p:spPr>
                <a:xfrm flipH="1">
                  <a:off x="5343480" y="8264520"/>
                  <a:ext cx="17136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>
                  <a:off x="5379120" y="8314200"/>
                  <a:ext cx="92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>
                  <a:off x="5379120" y="8364240"/>
                  <a:ext cx="92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5379120" y="8414280"/>
                  <a:ext cx="92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>
                  <a:off x="5379120" y="8464320"/>
                  <a:ext cx="92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 flipH="1">
                <a:off x="5700960" y="8317440"/>
                <a:ext cx="55800" cy="4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5486400" y="7315200"/>
              <a:ext cx="628560" cy="549720"/>
            </a:xfrm>
            <a:prstGeom prst="ellipse">
              <a:avLst/>
            </a:prstGeom>
            <a:noFill/>
            <a:ln w="9360">
              <a:solidFill>
                <a:srgbClr val="b2b2b2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00520" y="7415280"/>
              <a:ext cx="399960" cy="349560"/>
            </a:xfrm>
            <a:prstGeom prst="ellipse">
              <a:avLst/>
            </a:prstGeom>
            <a:noFill/>
            <a:ln w="936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15000" y="7515000"/>
              <a:ext cx="171360" cy="149760"/>
            </a:xfrm>
            <a:prstGeom prst="ellipse">
              <a:avLst/>
            </a:prstGeom>
            <a:noFill/>
            <a:ln w="936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31320" y="731520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te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73320" y="7415280"/>
              <a:ext cx="7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recomm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74800" y="756396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regi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7T21:37:37Z</dcterms:created>
  <dc:creator>tim finin</dc:creator>
  <dc:description/>
  <dc:language>en-US</dc:language>
  <cp:lastModifiedBy>Yannis Labrou</cp:lastModifiedBy>
  <cp:lastPrinted>1998-05-07T21:41:05Z</cp:lastPrinted>
  <dcterms:modified xsi:type="dcterms:W3CDTF">2000-03-13T18:39:02Z</dcterms:modified>
  <cp:revision>6</cp:revision>
  <dc:subject/>
  <dc:title>Agent Communication Languages</dc:title>
</cp:coreProperties>
</file>