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07CE3-D388-4221-B94A-A778504680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8C39B-D605-408B-ABB3-F11837093D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C8EE7-5E7A-4661-BF72-BDA13D8D8B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F5883-49B8-43A2-8169-7E9DEFA33B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6D158-5BED-499F-8030-2E3B9EEBF0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919DE-4B2B-4478-AFA8-408AA8FAFA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B6D4B-F91A-4788-A48C-A0516A2D45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01DFC-9329-4549-A239-5378E59EE6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48F15-D355-4A1E-8F6B-A9CACE236C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8B056-6BB8-4F49-9160-5263446E33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F385A-C4D8-40C8-A2EA-A098A42326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A174E-C968-4876-B883-3A4E29D82D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2960" indent="-233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01640" indent="-2314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601640" indent="-2314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601640" indent="-2314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E432-177C-4DA4-BB47-4DBE7F91AA4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762120" y="12193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Alternative approaches and language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rb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6960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rtually all of what CORBA provides is also available in Java via a combination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R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RMI 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ns and enterprise be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event 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cusing on a single language has strong advantages and disadvant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Java Beans and EJB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100440" indent="-100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java.sun.com/bean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440" indent="-100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Beans components, or Beans, are reusable software components that can be manipulated visually in a builder too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440" indent="-100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 unifying features that distinguish a Bean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2120" indent="-20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rospection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nables a builder tool to analyze how a Bean work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02120" indent="-20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stomization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nables a developer to use an app builder tool to customize the appearance and behavior of a Be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02120" indent="-20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vent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nables Beans to communicate and connect togeth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02120" indent="-20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tie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nable developers to customize and program with Bea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02120" indent="-20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sistenc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nables developers to customize Beans in an app builder, and then retrieve those Beans, with customized features intact, for future u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0440" indent="-100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erprise JavaBeans (EJBs) extends the JavaBeans component model to handle the needs of transactional business appl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javalogo52x88" descr=""/>
          <p:cNvPicPr/>
          <p:nvPr/>
        </p:nvPicPr>
        <p:blipFill>
          <a:blip r:embed="rId1"/>
          <a:stretch/>
        </p:blipFill>
        <p:spPr>
          <a:xfrm>
            <a:off x="7620120" y="304920"/>
            <a:ext cx="1081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Jini</a:t>
            </a:r>
            <a:endParaRPr b="1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ni provides simple mechanisms which                           enable devices to plug together to form                                      an impromptu commun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device provides services that other devices in the community may u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3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devices provide their own interfaces, which ensures reliability and compatibi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ni uses a lookup service with which devices and services reg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device plugs in, it goes through an add-in protocol, called discovery and join-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3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vice first locates the lookup service (discovery) and then uploads an object that implements all of its services' interfaces (join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jini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600200" cy="1289160"/>
          </a:xfrm>
          <a:prstGeom prst="rect">
            <a:avLst/>
          </a:prstGeom>
          <a:ln w="0">
            <a:noFill/>
          </a:ln>
        </p:spPr>
      </p:pic>
      <p:pic>
        <p:nvPicPr>
          <p:cNvPr id="66" name="stack2" descr=""/>
          <p:cNvPicPr/>
          <p:nvPr/>
        </p:nvPicPr>
        <p:blipFill>
          <a:blip r:embed="rId2"/>
          <a:stretch/>
        </p:blipFill>
        <p:spPr>
          <a:xfrm>
            <a:off x="6019920" y="304920"/>
            <a:ext cx="297180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Jini</a:t>
            </a:r>
            <a:endParaRPr b="1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use a service, a person or a program locates it using the lookup service. The service's object is copied from the lookup service to the requesting device where it will be us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okup service acts as an temporary intermediary to connect a client looking for a service with that servi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the connection is made, the lookup service is not involved in any of the resulting interactions between that client and that servi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ni also defines a leasing and transaction mechanism to provide resilience in a dynamic networked environ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jini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60020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Javaspace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114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Spaces is a simple unified mechanism for dynamic communication, coordination, and sharing of objects between Java technology-based network resources like clients and serv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based on the Linda tuple-space mod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javaspaces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4343400" cy="28004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573000" y="5715000"/>
            <a:ext cx="51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java.sun.com/products/javaspace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omparison of DCOM/CORBA/Java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5800" y="2133720"/>
          <a:ext cx="7772400" cy="457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3720"/>
                    <a:ext cx="7772400" cy="45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6615360" y="583236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I ~19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AP: The Simple Object Access Protocol 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173520" indent="-17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AP is an XML/HTTP-based protocol for accessing services, objects and servers in a platform-independent mann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3520" indent="-17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urrent IETF specifica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search.ietf.org/internet-drafts/draft-box-http-soap-01.t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3520" indent="-17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on-binary XML encoding provides flexibility and platform independ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3520" indent="-17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TTP transport obviates many firewall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3520" indent="-17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ers several basic message oriented protocols, includ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quest-respo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e-and-forg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3520" indent="-17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zTalk builds on SOAP, adding more service oriented features, such as QOS and rou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AP: The Simple Object Access Protocol 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2209680"/>
            <a:ext cx="4038480" cy="4353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OAP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erializedStream SerializationPattern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urn:schemas-microsoft-com: soap:v1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aders="#ref-0" main="#ref-1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headers id="ref-0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InterfaceNa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ap:cdl:com.develop.demos.purchase_bo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InterfaceNa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CustomerI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DFE06E0-4DB4-4809-A7CF-4DDA32D5B08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CustomerI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header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PurchaseBook id="ref-1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_ _param0&gt;0201379368&lt;/_ _param0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PurchaseBook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SerializedStrea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2209680"/>
            <a:ext cx="4191120" cy="4353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OAP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erializedStream SerializationPattern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urn:schemas-microsoft-com:soap:v1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aders="#ref-0" main="#ref-1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headers id="ref-0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InterfaceNa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ap:cdl:com.develop.demos.purchase_bo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InterfaceNa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CustomerI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DFE06E0-4DB4-4809-A7CF-4DDA32D5B08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CustomerI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header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PurchaseBook id="ref-1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_ _param0&gt;0201379368&lt;/_ _param0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PurchaseBook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SerializedStrea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xample of a SOAP request-response 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pen Knowledge Base Connectivity 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ai.sri.com/~okbc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BC is to KBs what ODBC is to Databases -- defines a standard API for frame-based KR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s two access protocols (frame oriented operations and a senential tell/ask) and a linear batch language (def-okb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s a client-server model for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s an object-oriented view of a K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s wide variation in underlying K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opted as KRS interoperation protocol within DARPA High Performance Knowledge Base (HPKB)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BC drivers available for Loom, Ontolingua, Ocelot, ATP, JavaKB, TupleKB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BC applications include GKB (SRI), Jot (KSL), Ontolingua (KSL), Riboweb (SMI), Protégé (SMI), Hike (SAIC)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lternatives to ACL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0680" indent="-220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many alternatives to using ACLs for communicating and sharing infor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oldest to newest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368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al language (Espan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368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 languages (SQL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368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ain dependant (EDI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368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d object systems (CORBA,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368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368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languages (e-speak, BizTalk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368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languages (XML, RDF, DAM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size won’t fit all, so we need to appreciate the strengths and weakne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also see mixing, matching and morp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OKBC Runtime Architecture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572000" y="1780920"/>
            <a:ext cx="4257720" cy="3747960"/>
            <a:chOff x="4572000" y="1780920"/>
            <a:chExt cx="4257720" cy="3747960"/>
          </a:xfrm>
        </p:grpSpPr>
        <p:sp>
          <p:nvSpPr>
            <p:cNvPr id="88" name=""/>
            <p:cNvSpPr/>
            <p:nvPr/>
          </p:nvSpPr>
          <p:spPr>
            <a:xfrm rot="16200000">
              <a:off x="4460760" y="3407760"/>
              <a:ext cx="3747960" cy="4939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KBC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588000" y="2043000"/>
              <a:ext cx="827280" cy="571680"/>
            </a:xfrm>
            <a:prstGeom prst="rect">
              <a:avLst/>
            </a:prstGeom>
            <a:solidFill>
              <a:srgbClr val="ccc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oom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ri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85120" y="3943440"/>
              <a:ext cx="825480" cy="571320"/>
            </a:xfrm>
            <a:prstGeom prst="rect">
              <a:avLst/>
            </a:prstGeom>
            <a:solidFill>
              <a:srgbClr val="ccc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ri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3440" y="2889360"/>
              <a:ext cx="827280" cy="569880"/>
            </a:xfrm>
            <a:prstGeom prst="rect">
              <a:avLst/>
            </a:prstGeom>
            <a:solidFill>
              <a:srgbClr val="66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oom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P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86440" y="4827600"/>
              <a:ext cx="825480" cy="571320"/>
            </a:xfrm>
            <a:prstGeom prst="rect">
              <a:avLst/>
            </a:prstGeom>
            <a:solidFill>
              <a:srgbClr val="99ff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P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88320" y="2658960"/>
              <a:ext cx="333360" cy="18252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91200" y="4557600"/>
              <a:ext cx="335160" cy="18432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754760" y="4998960"/>
              <a:ext cx="295560" cy="204840"/>
            </a:xfrm>
            <a:prstGeom prst="leftRightArrow">
              <a:avLst>
                <a:gd name="adj1" fmla="val 50000"/>
                <a:gd name="adj2" fmla="val 28724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819920" y="3090960"/>
              <a:ext cx="295560" cy="203040"/>
            </a:xfrm>
            <a:prstGeom prst="leftRightArrow">
              <a:avLst>
                <a:gd name="adj1" fmla="val 50000"/>
                <a:gd name="adj2" fmla="val 28978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245440" y="2698920"/>
              <a:ext cx="571680" cy="385560"/>
            </a:xfrm>
            <a:prstGeom prst="flowChartMagneticDisk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258040" y="3112920"/>
              <a:ext cx="571680" cy="385920"/>
            </a:xfrm>
            <a:prstGeom prst="flowChartMagneticDisk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153280" y="4659480"/>
              <a:ext cx="571680" cy="387360"/>
            </a:xfrm>
            <a:prstGeom prst="flowChartMagneticDisk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166240" y="5073480"/>
              <a:ext cx="571320" cy="385920"/>
            </a:xfrm>
            <a:prstGeom prst="flowChartMagneticDisk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4572000" y="1800360"/>
              <a:ext cx="1490400" cy="1295280"/>
              <a:chOff x="4572000" y="1800360"/>
              <a:chExt cx="1490400" cy="1295280"/>
            </a:xfrm>
          </p:grpSpPr>
          <p:grpSp>
            <p:nvGrpSpPr>
              <p:cNvPr id="102" name=""/>
              <p:cNvGrpSpPr/>
              <p:nvPr/>
            </p:nvGrpSpPr>
            <p:grpSpPr>
              <a:xfrm>
                <a:off x="4572000" y="1800360"/>
                <a:ext cx="1024200" cy="1295280"/>
                <a:chOff x="4572000" y="1800360"/>
                <a:chExt cx="1024200" cy="129528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4572000" y="1804680"/>
                  <a:ext cx="571680" cy="128880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br>
                    <a:rPr sz="1800"/>
                  </a:b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p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 rot="10800000">
                  <a:off x="5141520" y="1800360"/>
                  <a:ext cx="454680" cy="1295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OKBC Lib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" name=""/>
              <p:cNvSpPr/>
              <p:nvPr/>
            </p:nvSpPr>
            <p:spPr>
              <a:xfrm flipV="1">
                <a:off x="5590440" y="2414520"/>
                <a:ext cx="471960" cy="20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4597560" y="4129200"/>
              <a:ext cx="1488600" cy="1295280"/>
              <a:chOff x="4597560" y="4129200"/>
              <a:chExt cx="1488600" cy="1295280"/>
            </a:xfrm>
          </p:grpSpPr>
          <p:grpSp>
            <p:nvGrpSpPr>
              <p:cNvPr id="107" name=""/>
              <p:cNvGrpSpPr/>
              <p:nvPr/>
            </p:nvGrpSpPr>
            <p:grpSpPr>
              <a:xfrm>
                <a:off x="4597560" y="4129200"/>
                <a:ext cx="1022400" cy="1295280"/>
                <a:chOff x="4597560" y="4129200"/>
                <a:chExt cx="1022400" cy="129528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4597560" y="4133520"/>
                  <a:ext cx="571320" cy="128880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Java</a:t>
                  </a:r>
                  <a:br>
                    <a:rPr sz="1800"/>
                  </a:b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p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 rot="10800000">
                  <a:off x="5165280" y="4129200"/>
                  <a:ext cx="454680" cy="1295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OKBC Lib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" name=""/>
              <p:cNvSpPr/>
              <p:nvPr/>
            </p:nvSpPr>
            <p:spPr>
              <a:xfrm flipV="1">
                <a:off x="5614560" y="4743360"/>
                <a:ext cx="471600" cy="20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83840" y="1434960"/>
            <a:ext cx="420228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-server 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libraries in Java, C, Li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ingle source for consist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 in Java, Li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ivers for Loom, Ontolingua, Ocelot, ATP, Snark, Cyc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parent network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ensible connec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alternative security, authentication poli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for efficient networ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side ca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mote procedure 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umerators with pre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ervice Language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service languages we mean a new class of languages designed to facilitate service description, service discovery, and application data exch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lTalk (DEC circa ‘9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speak (H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zTalk (Microsoft et. al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794120" y="1217520"/>
            <a:ext cx="1155960" cy="11034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HP E-Speak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062240" cy="54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3840" indent="-213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Http://e-speak.org/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-213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s a language and protocols at the service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-213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software components released under G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-213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ices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roker, Discovery, Mediation, 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-213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ecification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tracts, Vocabularies,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-213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rity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-Speak core as a “sandbox”, local names, certif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-213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ML, Java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queries, vocabularies, mess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57600" y="4359240"/>
            <a:ext cx="4348440" cy="94608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-Speak 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iscovery, Registration, Naming,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ecurity,  Persistence, Messaging, Events,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Vocabularies, Repository,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1353960"/>
            <a:ext cx="1155600" cy="115596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5397480"/>
            <a:ext cx="4334040" cy="78912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ports, Platforms,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HTTP, TCP/IP, ESIP, RMI, Jini, CORBA, DCOM,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M+, EJB, Java, Perl, Python,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01040" y="1230480"/>
            <a:ext cx="1155600" cy="11952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3349800"/>
            <a:ext cx="4359240" cy="91728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ser Login, Billing,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ccount Management, Authentication/Authorization,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atching &amp; Lookup, Anonymity,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2614680"/>
            <a:ext cx="4335480" cy="65556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-Speak Component 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rvice Selection, Provisioning and Dispa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Microsoft’s BizTalk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2840" indent="-222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http://biztalk.org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zTalk is an industry initiative started by Microsoft and supported by a wide range of organizations, from technology vendors like SAP and CommerceOne to technology users like Boeing and BP/Amoc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zTalk Framework™ is a set of guidelines for how to publish schemas in XML and how to use XML messages to easily integrate software programs together in order to build rich new solut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Web Language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the web becomes increasingly pervasive and important, it’s  specialized languages for representing and sharing information are becoming more signific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key web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 and web scra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and associated DT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DF and associated standards (e.g., RSS, PI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expressive web languages, such as SHOE and D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What is XM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ML describes document structure and visual 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is a meta-language used to define other domain- or industry specific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does not address visual 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addresses “structuring” of data rather than doc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documents by themselves, bear no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TDs and XML document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uses XML to define an XML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wly-define XML language is described in a Document Type Definition (DT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TD (a .dtd file) is a text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perly-defined XML document (a .xml file) is another text file that adheres to some particular DT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XML document contains no information for displaying its cont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isplaying XML document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XML “paradigm”, data structure and presentation are totally sepa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sible Stylesheet Language (XSL) can be used to describe how a XML document is to be display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SL is a language that can be used to define a stylesheet (a .xsl fi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gram such as a browser, can use a XML document, a DTD and a stylesheet to validate and present the contents of the XML docu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XML and semantic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believe that XML will solve one of HTML’s major problems: semantic-less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ML documents do not have semanti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documents can only have semantics by “convention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community of users agree to use a particular DTD to describe a particular kind of domain data, then the resulting XML documents will have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No Semantics? Then why XML?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data is better than unstructured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ty consensus can result to “semantics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documents are easier to parse and thus process automat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if different DTD’s are used to describe same-domain-data, conversion is easier than pure tex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stylesheets offer context-dependant multiple views of XM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NL as an ACL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6000" indent="-216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ural languages are the preferred ACL for human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have strongly influenced the theoretical framework of ACLs for artificial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artificial agents accept and interpret NL utterances from humans and also use artificial ACLs to talk to other artificial agents. (“Mr. Data, make it so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researchers predict a future in which NL utterances will be used as the ultimate ACL for all agents, human and soft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rdata3" descr=""/>
          <p:cNvPicPr/>
          <p:nvPr/>
        </p:nvPicPr>
        <p:blipFill>
          <a:blip r:embed="rId1"/>
          <a:stretch/>
        </p:blipFill>
        <p:spPr>
          <a:xfrm>
            <a:off x="7620120" y="380880"/>
            <a:ext cx="11048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onclusion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size won’t fit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purpose vs. specialized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gs will continue to evol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ice: if you are implementing a single application, before you go with an ACL, convince yourself that it’s not right for either (1) a database approach or (2) a distributed objects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atabase Language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00520" indent="-200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atabase field has developed techniques for sharing information in a distributed environ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0520" indent="-200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act, it has pioneered the theory and practice of critical concepts lik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2920" indent="-200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urrency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2920" indent="-200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2920" indent="-200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2920" indent="-200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and access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2920" indent="-200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query languages (e.g., SQL, OQ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2920" indent="-200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APIs (e.g., ODBC, JDB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of which the agents world has mostly ignored to d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2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omain Dependant Language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have always been specialized languages, protocols, architectures and systems developed for sharing particular knowledge, e.g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ic Data Interchange (EDI) -- designed for sharing well defined business documents (PO, RFQ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39.50 -- designed to allow an IR client application to talk to an IR backend ser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ster: designed for sharing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omain Dependant Languages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xample -- EDI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I involves the application to application exchange of  electronic data in support of standard business transactions across enterprise boundaries in such a way that no human interpretation or processing is requi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standards were developed in the 80’s: X12 in the US and EDIFACT in the E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designed to exchange such business documents as purchase orders, requests for quotations, etc. and their constituent pa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ented toward integration with legacy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being reengineered for XM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very general, expressive, flexible, or exten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istributed Object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07000" indent="-207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aches to sharing objects in a distributed system have been evolving over the past 15 yea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-207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-207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d Computing Environment (DCE) developed by the Open Group in the early 90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-207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2070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2070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erprise Java Beans (EJ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2070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-207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LE/COM/DCOM/ActiveX (Microsof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-207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istributed Objects -- Typical Components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18520" indent="-21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istributed object is an object that can be accessed remotely. An object is typically considered to encapsulate data and behav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520" indent="-21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te procedure/method c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520" indent="-21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definition language by which one can specify an object or class’s signature, I.e. its methods and the number and types of their arg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520" indent="-21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B (Object request broker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520" indent="-21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standard services -- e.g., naming, timing, security, persistence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ORBA ORB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d by the OMG (Object Management Group) http://omg.org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the CRRBA FAQ for more information http://www.aurora-tech.com/corba-faq/ The ORB is the heart of a CRBA system and mediates communication between clients and serv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-orb communication is less stand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can access remote objects by name, or by interface or by capa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last feature is provided by the CORBA trader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Tim Finin</cp:lastModifiedBy>
  <cp:lastPrinted>1999-06-10T17:20:13Z</cp:lastPrinted>
  <dcterms:modified xsi:type="dcterms:W3CDTF">2000-03-20T01:22:08Z</dcterms:modified>
  <cp:revision>16</cp:revision>
  <dc:subject/>
  <dc:title>No Slide Title</dc:title>
</cp:coreProperties>
</file>