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CD8-83A9-46D0-8FF1-46ADBD03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406-94EB-435C-9874-E63BA67C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DA9-7BF4-4385-B19F-567CABC5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BC8-D4FE-4642-9548-C93562CC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EC4-17CB-4279-BC16-4162B043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E02-98B3-489D-9A83-6C1624F4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72A-1828-4AC1-96E1-B56C33A6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ECA-5BD4-46C7-803F-19D4952D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660-D03E-453A-8824-F27237C7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11E-9243-47D2-82FD-04EA13A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D52-3146-4BF3-B805-0FC412E0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AED-D316-40A4-A6E6-0DADE4F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FC9A-78FE-420E-8AEC-9AC65C0A2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93800" indent="-109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31760" indent="-123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5680" indent="-109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55680" indent="-109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55680" indent="-109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33"/>
                </a:solidFill>
                <a:latin typeface="Times New Roman"/>
              </a:rPr>
              <a:t>Conceptual and Theoretical Foundations II</a:t>
            </a:r>
            <a:endParaRPr b="1" lang="en-US" sz="8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69F-1816-442A-B50D-BD8121F128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560" y="239760"/>
            <a:ext cx="7616880" cy="127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ommon Semantics </a:t>
            </a:r>
            <a:br>
              <a:rPr sz="36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Shared Ontologies and Ontolingua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6440" y="1739880"/>
            <a:ext cx="833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Ontology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common vocabulary and agreed upon meanings to describe a subject dom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629080"/>
            <a:ext cx="71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On*tol"o*gy (?), n. [Gr. the things which exist (pl.neut. of , , being, p.pr. of to be) + -logy: cf.F. ontologie.]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department of the science of metaphysics which investigates and explai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nature and essential properties and relations of all be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s such, or the principles and causes of be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Webster's Revised Unabridged Dictionary (G &amp; C. Merriam Co., 1913, edited by Noah Por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576680"/>
            <a:ext cx="70074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not a profoundly new idea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bulary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schema (for a data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subclass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684-E962-4AF0-B307-BCF68BEDB0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mportance of ontologies in communication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of the importance of ontologies in communication is the fate of NASA’s Mars Climate Orb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rashed into Mars on September 23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PL used metric units in their program controlling the thrusters and Lockheed-Martin used imperial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establishing an orbit at an altitude of 140km, it did so at 60km, causing it to burn up in the Martian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CA2-5DBA-40FD-A7B7-3998BF8BA7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0200" y="85680"/>
            <a:ext cx="7743600" cy="64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Conceptual Schema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6440" y="2933640"/>
            <a:ext cx="3578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ble: pri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*stockNo: integer;  cost: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711600" y="1743120"/>
            <a:ext cx="1152360" cy="1460520"/>
            <a:chOff x="3711600" y="1743120"/>
            <a:chExt cx="1152360" cy="1460520"/>
          </a:xfrm>
        </p:grpSpPr>
        <p:sp>
          <p:nvSpPr>
            <p:cNvPr id="111" name=""/>
            <p:cNvSpPr/>
            <p:nvPr/>
          </p:nvSpPr>
          <p:spPr>
            <a:xfrm>
              <a:off x="3711600" y="1743120"/>
              <a:ext cx="11523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  74.5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0  77.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20960" y="1793880"/>
              <a:ext cx="11052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20960" y="2048040"/>
              <a:ext cx="11052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20960" y="2301840"/>
              <a:ext cx="11052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20960" y="1793880"/>
              <a:ext cx="4953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20960" y="2048040"/>
              <a:ext cx="4953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20960" y="2301840"/>
              <a:ext cx="4953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425600" y="1930320"/>
            <a:ext cx="1635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1320" y="2997360"/>
            <a:ext cx="273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Base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4684680"/>
            <a:ext cx="293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u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1200" y="837720"/>
            <a:ext cx="75816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ceptual schema specifies the intended meaning of concepts used in a dat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562360" y="5738400"/>
            <a:ext cx="587160" cy="469800"/>
          </a:xfrm>
          <a:prstGeom prst="line">
            <a:avLst/>
          </a:prstGeom>
          <a:ln w="507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2080" y="3457440"/>
            <a:ext cx="10454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375240" y="4160880"/>
            <a:ext cx="827280" cy="5382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075440" y="4684680"/>
            <a:ext cx="635040" cy="39384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86360" y="4457880"/>
            <a:ext cx="1045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97400" y="6100920"/>
            <a:ext cx="105768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Unit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1280" y="4114800"/>
            <a:ext cx="510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(x, y) 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’, y’) [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auto_part(x’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&amp; part_no(x’) = 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tail_price(x’, y’, Value-In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magnitude(y’, US_dollar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E58-8E09-447A-9C95-6095D1947D0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mplicit vs. Explicit Ontologi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which communicate and work together must share an ont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red ontology can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ontology are typically represented only by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ontologies are (ideally) given a declarative representation in a well defined knowledge representa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567-54AD-4ECF-BE11-163B1491F6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Conceptualizations, Vocabularies and Axiomitization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important aspects to explicit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ptualiz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lves the underlying model of the domain in terms of objects, attributes and re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assigning symbols or terms to refer to those objects, attributes and re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xiomit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encoding rules and constraints which capture significant aspects of the domain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ntologies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based on different conceptu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based on the same conceptualization but use different vocabul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 in how much they attempt to axiomitize the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A65-B50A-4BE4-AB72-BC0FB81FA2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imple exampl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724280" y="2362320"/>
            <a:ext cx="3200400" cy="1218600"/>
            <a:chOff x="4724280" y="2362320"/>
            <a:chExt cx="3200400" cy="1218600"/>
          </a:xfrm>
        </p:grpSpPr>
        <p:sp>
          <p:nvSpPr>
            <p:cNvPr id="135" name=""/>
            <p:cNvSpPr/>
            <p:nvPr/>
          </p:nvSpPr>
          <p:spPr>
            <a:xfrm>
              <a:off x="5867280" y="2362320"/>
              <a:ext cx="914400" cy="380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3200040"/>
              <a:ext cx="914400" cy="380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200040"/>
              <a:ext cx="914400" cy="380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it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3200040"/>
              <a:ext cx="914400" cy="380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289548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1480" y="2895480"/>
              <a:ext cx="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24480" y="274284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1160" y="2895480"/>
              <a:ext cx="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838080" y="2362320"/>
            <a:ext cx="3200400" cy="1218600"/>
            <a:chOff x="838080" y="2362320"/>
            <a:chExt cx="3200400" cy="1218600"/>
          </a:xfrm>
        </p:grpSpPr>
        <p:sp>
          <p:nvSpPr>
            <p:cNvPr id="144" name=""/>
            <p:cNvSpPr/>
            <p:nvPr/>
          </p:nvSpPr>
          <p:spPr>
            <a:xfrm>
              <a:off x="1981080" y="2362320"/>
              <a:ext cx="914400" cy="380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8080" y="3200040"/>
              <a:ext cx="914400" cy="380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81080" y="3200040"/>
              <a:ext cx="914400" cy="380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m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4080" y="3200040"/>
              <a:ext cx="914400" cy="380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5280" y="289548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95280" y="2895480"/>
              <a:ext cx="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274284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4960" y="2895480"/>
              <a:ext cx="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38080" y="4267080"/>
            <a:ext cx="3200400" cy="2057040"/>
            <a:chOff x="838080" y="4267080"/>
            <a:chExt cx="3200400" cy="2057040"/>
          </a:xfrm>
        </p:grpSpPr>
        <p:sp>
          <p:nvSpPr>
            <p:cNvPr id="153" name=""/>
            <p:cNvSpPr/>
            <p:nvPr/>
          </p:nvSpPr>
          <p:spPr>
            <a:xfrm>
              <a:off x="1981080" y="4267080"/>
              <a:ext cx="914400" cy="380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838080" y="4647960"/>
              <a:ext cx="3200400" cy="838440"/>
              <a:chOff x="838080" y="4647960"/>
              <a:chExt cx="3200400" cy="838440"/>
            </a:xfrm>
          </p:grpSpPr>
          <p:sp>
            <p:nvSpPr>
              <p:cNvPr id="155" name=""/>
              <p:cNvSpPr/>
              <p:nvPr/>
            </p:nvSpPr>
            <p:spPr>
              <a:xfrm>
                <a:off x="838080" y="5105160"/>
                <a:ext cx="914400" cy="38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pp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81080" y="5105160"/>
                <a:ext cx="914400" cy="38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itru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24080" y="5105160"/>
                <a:ext cx="914400" cy="38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95280" y="48006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95280" y="48006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38280" y="46479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504960" y="48006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838080" y="5486400"/>
              <a:ext cx="3200400" cy="837720"/>
              <a:chOff x="838080" y="5486400"/>
              <a:chExt cx="3200400" cy="837720"/>
            </a:xfrm>
          </p:grpSpPr>
          <p:sp>
            <p:nvSpPr>
              <p:cNvPr id="163" name=""/>
              <p:cNvSpPr/>
              <p:nvPr/>
            </p:nvSpPr>
            <p:spPr>
              <a:xfrm>
                <a:off x="838080" y="5943240"/>
                <a:ext cx="914400" cy="38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81080" y="5943240"/>
                <a:ext cx="914400" cy="38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em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24080" y="5943240"/>
                <a:ext cx="914400" cy="38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an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95280" y="563868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95280" y="563868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38280" y="5486400"/>
                <a:ext cx="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04960" y="563868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5867280" y="4648320"/>
            <a:ext cx="91440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486400"/>
            <a:ext cx="91440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p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0280" y="5486400"/>
            <a:ext cx="91440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181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5181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181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7280" y="54864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B45-6E9C-4901-AE64-3C2032B50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5500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Ontologies vs. KBs</a:t>
            </a:r>
            <a:endParaRPr b="1" lang="en-US" sz="4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ies are distinguished from KBs not by their form, but by the role they play in representing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sus models for a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properties that hold in all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classes rather than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ded to support multiple task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change during problem solving and are suited for “compiling” into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satisfy a community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90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collaborativ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90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translation to multiple logical formal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CE6-A438-4C03-B003-294B2C6F905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6952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Ontology Library and Editing Tools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113640" y="2319480"/>
            <a:ext cx="5799600" cy="4049640"/>
            <a:chOff x="3113640" y="2319480"/>
            <a:chExt cx="5799600" cy="4049640"/>
          </a:xfrm>
        </p:grpSpPr>
        <p:sp>
          <p:nvSpPr>
            <p:cNvPr id="182" name=""/>
            <p:cNvSpPr/>
            <p:nvPr/>
          </p:nvSpPr>
          <p:spPr>
            <a:xfrm>
              <a:off x="5479920" y="3062160"/>
              <a:ext cx="67644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p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5915160" y="5424480"/>
            <a:ext cx="1066680" cy="94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15160" y="5424480"/>
                      <a:ext cx="1066680" cy="9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5" name=""/>
            <p:cNvGrpSpPr/>
            <p:nvPr/>
          </p:nvGrpSpPr>
          <p:grpSpPr>
            <a:xfrm>
              <a:off x="6203160" y="5046840"/>
              <a:ext cx="646920" cy="304560"/>
              <a:chOff x="6203160" y="5046840"/>
              <a:chExt cx="646920" cy="304560"/>
            </a:xfrm>
          </p:grpSpPr>
          <p:sp>
            <p:nvSpPr>
              <p:cNvPr id="186" name=""/>
              <p:cNvSpPr/>
              <p:nvPr/>
            </p:nvSpPr>
            <p:spPr>
              <a:xfrm rot="16200000">
                <a:off x="6554880" y="5046840"/>
                <a:ext cx="295200" cy="295200"/>
              </a:xfrm>
              <a:prstGeom prst="right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16200000">
                <a:off x="6204240" y="5054400"/>
                <a:ext cx="295200" cy="298440"/>
              </a:xfrm>
              <a:prstGeom prst="right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14504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Brow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8400" y="4241880"/>
              <a:ext cx="8877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a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7212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o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260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Ext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97760" y="4241880"/>
              <a:ext cx="8859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he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378320" y="4475160"/>
              <a:ext cx="20304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9920" y="447984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84600" y="4475160"/>
              <a:ext cx="1666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655880" y="4610160"/>
              <a:ext cx="1126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75040" y="4614840"/>
              <a:ext cx="730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268880" y="4614840"/>
              <a:ext cx="11736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9480" y="46195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14680" y="4624560"/>
              <a:ext cx="71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75320" y="4749840"/>
              <a:ext cx="727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557240" y="4756320"/>
              <a:ext cx="1126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40320" y="4440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40320" y="4575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6000" y="457524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6080" y="4575240"/>
              <a:ext cx="666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92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448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35360" y="4714920"/>
              <a:ext cx="68400" cy="57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932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164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5640" y="4849920"/>
              <a:ext cx="6804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849920"/>
              <a:ext cx="666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5664240" y="4452840"/>
              <a:ext cx="272880" cy="331920"/>
              <a:chOff x="5664240" y="4452840"/>
              <a:chExt cx="272880" cy="331920"/>
            </a:xfrm>
          </p:grpSpPr>
          <p:sp>
            <p:nvSpPr>
              <p:cNvPr id="215" name=""/>
              <p:cNvSpPr/>
              <p:nvPr/>
            </p:nvSpPr>
            <p:spPr>
              <a:xfrm flipH="1">
                <a:off x="5678640" y="4492800"/>
                <a:ext cx="11736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00680" y="44989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26240" y="4503600"/>
                <a:ext cx="7308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65760" y="4452840"/>
                <a:ext cx="684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6900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6424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69080" y="4592520"/>
                <a:ext cx="6804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05360" y="4627440"/>
                <a:ext cx="7308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702040" y="4633920"/>
                <a:ext cx="96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65760" y="4592520"/>
                <a:ext cx="6840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81520" y="4727520"/>
                <a:ext cx="6696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6760" y="4727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428800" y="4489560"/>
              <a:ext cx="223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1500" spc="-1" strike="noStrike">
                  <a:solidFill>
                    <a:srgbClr val="969696"/>
                  </a:solidFill>
                  <a:latin typeface="Arial"/>
                </a:rPr>
                <a:t>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180040" y="4452840"/>
              <a:ext cx="271440" cy="196920"/>
              <a:chOff x="5180040" y="4452840"/>
              <a:chExt cx="271440" cy="196920"/>
            </a:xfrm>
          </p:grpSpPr>
          <p:sp>
            <p:nvSpPr>
              <p:cNvPr id="229" name=""/>
              <p:cNvSpPr/>
              <p:nvPr/>
            </p:nvSpPr>
            <p:spPr>
              <a:xfrm flipH="1">
                <a:off x="5190840" y="4492800"/>
                <a:ext cx="11916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315040" y="44989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40240" y="4503600"/>
                <a:ext cx="7308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81560" y="445284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8480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8004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8488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6253200" y="4454640"/>
              <a:ext cx="495360" cy="333360"/>
              <a:chOff x="6253200" y="4454640"/>
              <a:chExt cx="495360" cy="333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6395760" y="4494240"/>
                <a:ext cx="10620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02320" y="45007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12040" y="4505400"/>
                <a:ext cx="8712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72080" y="4594320"/>
                <a:ext cx="6696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658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08880" y="4629240"/>
                <a:ext cx="7128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516360" y="4635360"/>
                <a:ext cx="9828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92960" y="4729320"/>
                <a:ext cx="6804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484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276960" y="4484520"/>
                <a:ext cx="23832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13480" y="4489560"/>
                <a:ext cx="20160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674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2532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8196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72160" y="4594320"/>
                <a:ext cx="6660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145280" y="4454640"/>
              <a:ext cx="598680" cy="473040"/>
              <a:chOff x="7145280" y="4454640"/>
              <a:chExt cx="598680" cy="473040"/>
            </a:xfrm>
          </p:grpSpPr>
          <p:sp>
            <p:nvSpPr>
              <p:cNvPr id="253" name=""/>
              <p:cNvSpPr/>
              <p:nvPr/>
            </p:nvSpPr>
            <p:spPr>
              <a:xfrm flipH="1">
                <a:off x="7391160" y="4494240"/>
                <a:ext cx="10620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97720" y="45007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07440" y="4505400"/>
                <a:ext cx="8712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604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612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04280" y="4629240"/>
                <a:ext cx="7128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511760" y="4635360"/>
                <a:ext cx="9828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8836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438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7272000" y="4484520"/>
                <a:ext cx="23796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508880" y="4489560"/>
                <a:ext cx="20160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628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2486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677000" y="4594320"/>
                <a:ext cx="6696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66120" y="4594320"/>
                <a:ext cx="6804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7160760" y="4635360"/>
                <a:ext cx="11772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80280" y="464040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07280" y="4645080"/>
                <a:ext cx="7128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46800" y="4594320"/>
                <a:ext cx="6696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452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5012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83520" y="4770360"/>
                <a:ext cx="7128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191000" y="4775040"/>
                <a:ext cx="9828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67600" y="4870440"/>
                <a:ext cx="684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2312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500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8115480" y="4454640"/>
              <a:ext cx="598320" cy="473040"/>
              <a:chOff x="8115480" y="4454640"/>
              <a:chExt cx="598320" cy="47304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8362800" y="4494240"/>
                <a:ext cx="10800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467560" y="45007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478720" y="4505400"/>
                <a:ext cx="8748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43768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33112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74120" y="4629240"/>
                <a:ext cx="7128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8481960" y="4635360"/>
                <a:ext cx="986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458200" y="4729320"/>
                <a:ext cx="684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61372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8242200" y="4484520"/>
                <a:ext cx="23832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8720" y="4489560"/>
                <a:ext cx="20160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43264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21844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64720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537400" y="4594320"/>
                <a:ext cx="6696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8131320" y="4635360"/>
                <a:ext cx="11736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50120" y="464040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77120" y="4645080"/>
                <a:ext cx="7164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17000" y="4594320"/>
                <a:ext cx="6660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1154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319960" y="4735440"/>
                <a:ext cx="6696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255160" y="4770360"/>
                <a:ext cx="7272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8160840" y="4775040"/>
                <a:ext cx="96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139240" y="4870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9296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2202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8506800" y="44132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11640" y="4564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00480" y="4699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06720" y="48434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6520" y="4368960"/>
              <a:ext cx="7916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Edi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13640" y="2976480"/>
              <a:ext cx="7945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Libra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203160" y="3873240"/>
              <a:ext cx="646920" cy="302040"/>
              <a:chOff x="6203160" y="3873240"/>
              <a:chExt cx="646920" cy="302040"/>
            </a:xfrm>
          </p:grpSpPr>
          <p:sp>
            <p:nvSpPr>
              <p:cNvPr id="313" name=""/>
              <p:cNvSpPr/>
              <p:nvPr/>
            </p:nvSpPr>
            <p:spPr>
              <a:xfrm rot="16200000">
                <a:off x="6556320" y="3871440"/>
                <a:ext cx="291960" cy="295200"/>
              </a:xfrm>
              <a:prstGeom prst="right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16200000">
                <a:off x="6205680" y="3879720"/>
                <a:ext cx="292320" cy="298440"/>
              </a:xfrm>
              <a:prstGeom prst="right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4110120" y="2664000"/>
              <a:ext cx="136692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WordN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Penman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CYC Upper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79920" y="2652840"/>
              <a:ext cx="67644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6896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hysi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Obje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6896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c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ausal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39280" y="2320920"/>
              <a:ext cx="12564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Lexicons &amp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Skeleton Ontolog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0924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Comm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008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Geograph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Terr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008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ontex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8520" y="2776680"/>
              <a:ext cx="5083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916520" y="2878200"/>
              <a:ext cx="271440" cy="196920"/>
              <a:chOff x="4916520" y="2878200"/>
              <a:chExt cx="271440" cy="19692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4932360" y="2917800"/>
                <a:ext cx="11736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52960" y="292104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8520" y="2925720"/>
                <a:ext cx="7128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19840" y="287820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2128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1652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2136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H="1">
              <a:off x="4341960" y="2782800"/>
              <a:ext cx="20304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43560" y="278928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8240" y="2784600"/>
              <a:ext cx="1666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4619160" y="2917800"/>
              <a:ext cx="1126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38680" y="2924280"/>
              <a:ext cx="730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231800" y="2924280"/>
              <a:ext cx="1177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52760" y="292752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78320" y="2932200"/>
              <a:ext cx="7128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03600" y="2749680"/>
              <a:ext cx="68400" cy="5688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3600" y="2884320"/>
              <a:ext cx="684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19640" y="288432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89360" y="2884320"/>
              <a:ext cx="6696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210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1632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3024360"/>
              <a:ext cx="684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116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800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5016600" y="3017880"/>
              <a:ext cx="271440" cy="331920"/>
              <a:chOff x="5016600" y="3017880"/>
              <a:chExt cx="271440" cy="331920"/>
            </a:xfrm>
          </p:grpSpPr>
          <p:sp>
            <p:nvSpPr>
              <p:cNvPr id="350" name=""/>
              <p:cNvSpPr/>
              <p:nvPr/>
            </p:nvSpPr>
            <p:spPr>
              <a:xfrm flipH="1">
                <a:off x="5032440" y="3057480"/>
                <a:ext cx="11736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53040" y="306072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78600" y="3065400"/>
                <a:ext cx="7128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19560" y="3017880"/>
                <a:ext cx="6696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2136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1660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221440" y="3157560"/>
                <a:ext cx="6660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59520" y="3192480"/>
                <a:ext cx="7272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055840" y="3197160"/>
                <a:ext cx="9828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19560" y="3157560"/>
                <a:ext cx="6696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33880" y="329256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199120" y="3292560"/>
                <a:ext cx="6804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7529400" y="2664000"/>
              <a:ext cx="136836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Ope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Logis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Sensor Manag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Battlefield 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Command and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4272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Domain-Specif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95720" y="3494160"/>
              <a:ext cx="4811760" cy="287280"/>
            </a:xfrm>
            <a:prstGeom prst="rect">
              <a:avLst/>
            </a:prstGeom>
            <a:solidFill>
              <a:srgbClr val="00353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asic Representation Concepts:  Sets, Sequences, Arrays, Quantities, Probabilit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0" y="1219320"/>
            <a:ext cx="3505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Ontolingu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language for building, publishing, and sharing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eb-based interface to       a browser/editor server at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http://ontolingua.stanford.edu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irror si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ies can be      translated into a number of content languages, including KIF, LOOM, Prolog, CLIP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mera is a tool for merging existing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E00-12E9-440F-B8C3-67500150738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Big Ontologi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large, general ontologies that are freely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ampl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general purpos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 large, on-line lexical refer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 Fact Book 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Meg of KIF senten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LM’s Unified Medical Langua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http://www.cs.utexas.edu/users/mfkb/related.html f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FA0-7405-4792-9657-9458C92A99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WordNet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Net® is an on-line lexical reference system whose design is inspired by psycholinguistic theories of human lexical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nouns, verbs, adjectives and adverbs are organized into synonym sets, each representing one underlying lexical concep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relations link the synonym 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the Cognitive Science Laboratory at Princet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linguistically motivated, many groups have used it as a general ontology of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on-line or for down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ogsci.princeton.edu/~w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wn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210528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D29-6739-4C5D-995E-4480B9D73C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Representation and Reasoning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t agents need to be able to represent and reason about many things,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3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s of other agents (human or artificial) beliefs, desires, intentions, perceptions, plan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3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, task structures, plan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3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-data about documents and collections of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they will need 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mun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range of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ariety of content languages have been used with ACLs, including KIF, SL, Loom, Prolog, CLIPS, SQL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pecial interest in content languages that can serve as a neutral, but expressive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lingu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 wide range of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look at KIF in a bit more d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F50-5946-4732-AF80-D93129CD1CB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33"/>
                </a:solidFill>
                <a:latin typeface="Times New Roman"/>
              </a:rPr>
              <a:t>Cyc</a:t>
            </a:r>
            <a:endParaRPr b="1" lang="en-US" sz="6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 is a large KB which has been                   under continual development since about 198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YC KB is a formalized representation a vast quantity of fundamental human knowledge: facts, rules of thumb, and heuristics for reasoning about the objects and events of everyday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 is encoded in the KR language CY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per CYC Ont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 approximately 3,000 terms “capturing the most general concepts of human consensus reality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cyc.com/cyc-2-1/cove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cyc-logo-75-t" descr=""/>
          <p:cNvPicPr/>
          <p:nvPr/>
        </p:nvPicPr>
        <p:blipFill>
          <a:blip r:embed="rId1"/>
          <a:stretch/>
        </p:blipFill>
        <p:spPr>
          <a:xfrm>
            <a:off x="6058080" y="0"/>
            <a:ext cx="308592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623-7A30-42BF-9685-50F9C6A4F0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World Fact Book</a:t>
            </a:r>
            <a:endParaRPr b="1" lang="en-US" sz="4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920" indent="-115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’s WFB aims to semi-automatically construct a substantial KB of basic geographic, economic, political, and demographic knowledge about the world's n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: CIA World Fact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 MB ~ 5K classes &amp; 64K facts and rules encoded in 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in several forms fr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-ksl-svc.stanford.edu:5915/doc/wfb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map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51160" cy="1625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724280" y="1981080"/>
            <a:ext cx="4191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ple: resources, industries, commod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4640" indent="-174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related: crude-oil reserves, production, ex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4640" indent="-174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al mining,computer industry,auto parts industry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y basic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4640" indent="-174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atural resource is a deposit of stuff; an industry is a collection of businesses; a commodity is an item whose sales can be measured as a continuous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ine related classes &amp; identify key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4640" indent="-174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material, process, product, customer, location,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4640" indent="-174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ine each industry as a conjunction of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4640" indent="-174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generative factors discriminate 500 indu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e values of factors (mining&lt;extra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8AF-D8F3-4CC7-9EC1-5833098056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Unified Medical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Language System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development since 1986 by the National Library of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standardize medical terminology by constructing a central dictionary + thesaurus + semantic network+ search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pose is to “aid the development of systems that help health professionals and researchers retrieve and integrate electronic biomedical information from a variety of sources and to make it easy for users to link disparate information systems, including computer-based patient records,bibliographic databases, factual databases, and expert system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our UMLS knowledge sour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LS Metathesau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ST Lexi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LS Semantic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LS Information Sources 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umls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546360" cy="13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1AB-88DD-4E41-BDB2-40B1FC29CD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Ontology Conclusion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ontologies are essential for agent communication and knowledg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logy tools and standards ar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ingua and OKBC are good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and RDF may be a next st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large general ontologie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, WFB, WordNet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re informa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kr.org/top describes projects addressing major ontology construction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 mailing list: send mail to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majordomo@cs.umbc.edu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fo ontolo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in message body for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I Ad Hoc Group on Ontology Standards: http://WWW-KSL.Stanford.EDU/onto-std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2A3-B848-4A32-985D-623FD0EE24E1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KR Language Component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ogical form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10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for well formed formulae (wf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10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ulary of logical symbols (e.g., and, or, not, =&gt;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10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tion semantics for the logical symbols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=&gt; A B)” is true if and only if B is true or A is 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10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ulary of non-logical symbols (relations,functions,const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10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 of non-primitive symbol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lt;=&gt; (Bachelor ?x) (AND (Man ?x) (Unmarried ?x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10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oms restricting the interpretations of primitive symbol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=&gt; (Person ?x) (Gender (Mother ?x) Femal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roof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10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 of the reasoning steps that are logically sound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“(=&gt; S1 S2)” and “S1”, conclude “S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lassical Definitions Are Not Enough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provide equivale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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bachelo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married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symbols can be eliminated by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B is then expressed in terms of undefined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fined symbols are given “meaning” by axi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~[on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(y,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ontologies must have both definitions and axi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8CE-F7E0-4C53-8541-E298C45012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O-O Languages Too Restrictive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s, object schema, description logics are popular KR languages used for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support definitional axioms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subclas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S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)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value clas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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S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value cardinality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on’t support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ary relations an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roperties of relations an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transitive, sym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sufficien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x&gt;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8A3-A528-4204-8D3E-5E9C212039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31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Knowledge Interchange Format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~ First order logic                                                           with se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lingu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ncoded                                               declarative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translation among n                                                               systems from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language for reusable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independent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expressive - can represent knowledge in typical application K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able - into and out of typical application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readable - good for publishing reference models and ont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pecification at http://logic.stanford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114800" y="838080"/>
            <a:ext cx="4541760" cy="2462040"/>
            <a:chOff x="4114800" y="838080"/>
            <a:chExt cx="4541760" cy="2462040"/>
          </a:xfrm>
        </p:grpSpPr>
        <p:grpSp>
          <p:nvGrpSpPr>
            <p:cNvPr id="55" name=""/>
            <p:cNvGrpSpPr/>
            <p:nvPr/>
          </p:nvGrpSpPr>
          <p:grpSpPr>
            <a:xfrm>
              <a:off x="4116600" y="2306520"/>
              <a:ext cx="1720800" cy="966240"/>
              <a:chOff x="4116600" y="2306520"/>
              <a:chExt cx="1720800" cy="9662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116600" y="2306520"/>
                <a:ext cx="172080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4116600" y="2612880"/>
                <a:ext cx="1720800" cy="6598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 flipH="1">
              <a:off x="4165560" y="2668320"/>
              <a:ext cx="998640" cy="541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339800" y="2723760"/>
              <a:ext cx="7884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now. 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520520" y="2860560"/>
              <a:ext cx="252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59600" y="2984400"/>
              <a:ext cx="4928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ang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115160" y="2341440"/>
              <a:ext cx="15854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IF &lt;-&gt; Lang1 Transl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193360" y="2909520"/>
              <a:ext cx="648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s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897600" y="2306520"/>
              <a:ext cx="1758960" cy="993600"/>
              <a:chOff x="6897600" y="2306520"/>
              <a:chExt cx="1758960" cy="99360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6897600" y="2306520"/>
                <a:ext cx="1721880" cy="966240"/>
                <a:chOff x="6897600" y="2306520"/>
                <a:chExt cx="1721880" cy="9662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897600" y="2306520"/>
                  <a:ext cx="1721880" cy="30492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897600" y="2612880"/>
                  <a:ext cx="1721880" cy="65988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6951600" y="2667240"/>
                <a:ext cx="989280" cy="54252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18560" y="2728440"/>
                <a:ext cx="7884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now. B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314480" y="2860200"/>
                <a:ext cx="2520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88120" y="2990880"/>
                <a:ext cx="49284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Lang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919200" y="2347920"/>
                <a:ext cx="158544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IF &lt;-&gt; Lang2 Transla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008200" y="2952720"/>
                <a:ext cx="64836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ys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878880" y="838080"/>
              <a:ext cx="1736280" cy="1008000"/>
              <a:chOff x="6878880" y="838080"/>
              <a:chExt cx="1736280" cy="1008000"/>
            </a:xfrm>
          </p:grpSpPr>
          <p:sp>
            <p:nvSpPr>
              <p:cNvPr id="75" name=""/>
              <p:cNvSpPr/>
              <p:nvPr/>
            </p:nvSpPr>
            <p:spPr>
              <a:xfrm>
                <a:off x="6895080" y="1504800"/>
                <a:ext cx="1720080" cy="30564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878880" y="1504800"/>
                <a:ext cx="145440" cy="2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95080" y="838080"/>
                <a:ext cx="1720080" cy="66060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54480" y="879480"/>
                <a:ext cx="1501200" cy="5428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76680" y="931680"/>
                <a:ext cx="91800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now. B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 K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316280" y="1498680"/>
                <a:ext cx="9226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ibra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114800" y="858600"/>
              <a:ext cx="1726920" cy="964800"/>
              <a:chOff x="4114800" y="858600"/>
              <a:chExt cx="1726920" cy="964800"/>
            </a:xfrm>
          </p:grpSpPr>
          <p:sp>
            <p:nvSpPr>
              <p:cNvPr id="82" name=""/>
              <p:cNvSpPr/>
              <p:nvPr/>
            </p:nvSpPr>
            <p:spPr>
              <a:xfrm>
                <a:off x="4119840" y="858600"/>
                <a:ext cx="1721880" cy="6595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71800" y="873360"/>
                <a:ext cx="999000" cy="54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851360" y="936720"/>
                <a:ext cx="7884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now. B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44040" y="1069920"/>
                <a:ext cx="2520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8400" y="1199160"/>
                <a:ext cx="49284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Lang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65200" y="874800"/>
                <a:ext cx="64836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ys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4114800" y="1518120"/>
                <a:ext cx="1721880" cy="305280"/>
                <a:chOff x="4114800" y="1518120"/>
                <a:chExt cx="1721880" cy="3052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114800" y="1518120"/>
                  <a:ext cx="1721880" cy="30528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115160" y="1596240"/>
                  <a:ext cx="158544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KIF &lt;-&gt; Lang3 Transla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 rot="2620200">
              <a:off x="5713200" y="1401480"/>
              <a:ext cx="1322280" cy="1322280"/>
            </a:xfrm>
            <a:custGeom>
              <a:avLst/>
              <a:gdLst>
                <a:gd name="textAreaLeft" fmla="*/ 330480 w 1322280"/>
                <a:gd name="textAreaRight" fmla="*/ 991800 w 1322280"/>
                <a:gd name="textAreaTop" fmla="*/ 330480 h 1322280"/>
                <a:gd name="textAreaBottom" fmla="*/ 99180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62040" y="192384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Loom and PowerLoom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ophisticated KR systems from USC/ISI useful in as a content language and for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m is available in Lisp, PowerLoom in Lisp, C++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ing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use a fully expressive, logic-based representation language (a variant of KIF) and provide a classifier as a standard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m provides forward-chaining, semantic unification and object-oriented truth mainte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Loom uses a Prolog-technology backward chainer as its deductive compon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http://www.isi.edu/isd/LO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owerloom-home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1190880" cy="1216080"/>
          </a:xfrm>
          <a:prstGeom prst="rect">
            <a:avLst/>
          </a:prstGeom>
          <a:ln w="0">
            <a:noFill/>
          </a:ln>
        </p:spPr>
      </p:pic>
      <p:pic>
        <p:nvPicPr>
          <p:cNvPr id="96" name="new-loom-home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16000" cy="11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67E-F697-4FB1-B79B-2B539E5061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Other alternativ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BC (see ont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objects (see AgentBuil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 (see FIP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.your favorite representation language her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9A4-AD23-4B05-8FEE-7C0BCD583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33"/>
                </a:solidFill>
                <a:latin typeface="Times New Roman"/>
              </a:rPr>
              <a:t>Ontologies</a:t>
            </a:r>
            <a:endParaRPr b="1" lang="en-US" sz="129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71E-28B1-4C60-A1CA-CBB9185C4B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17:22:37Z</dcterms:created>
  <dc:creator>Tim Finin and BIll Chu</dc:creator>
  <dc:description/>
  <dc:language>en-US</dc:language>
  <cp:lastModifiedBy>Tim Finin</cp:lastModifiedBy>
  <cp:lastPrinted>1998-06-18T21:55:04Z</cp:lastPrinted>
  <dcterms:modified xsi:type="dcterms:W3CDTF">2000-03-20T01:00:11Z</dcterms:modified>
  <cp:revision>50</cp:revision>
  <dc:subject>EECOMS presentation</dc:subject>
  <dc:title>Mobile Agents and secu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umbc.edu/~finin</vt:lpwstr>
  </property>
  <property fmtid="{D5CDD505-2E9C-101B-9397-08002B2CF9AE}" pid="9" name="LinkColor">
    <vt:r8>16711782</vt:r8>
  </property>
  <property fmtid="{D5CDD505-2E9C-101B-9397-08002B2CF9AE}" pid="10" name="MailAddress">
    <vt:lpwstr>finin@umb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finin\talk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