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7.wmf" ContentType="image/x-wmf"/>
  <Override PartName="/ppt/media/image15.png" ContentType="image/png"/>
  <Override PartName="/ppt/media/image5.jpeg" ContentType="image/jpeg"/>
  <Override PartName="/ppt/media/image14.png" ContentType="image/png"/>
  <Override PartName="/ppt/media/image9.png" ContentType="image/png"/>
  <Override PartName="/ppt/media/image1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0.wmf" ContentType="image/x-wmf"/>
  <Override PartName="/ppt/media/image2.png" ContentType="image/png"/>
  <Override PartName="/ppt/media/image8.wmf" ContentType="image/x-wmf"/>
  <Override PartName="/ppt/media/image13.png" ContentType="image/png"/>
  <Override PartName="/ppt/embeddings/oleObject1.pptx" ContentType="application/vnd.openxmlformats-officedocument.presentationml.presentation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18E964-9C48-4DC6-B132-3CEAEF00E9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423400-C041-4F44-989C-017D1FFB64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C53C05-1A6A-468C-A17E-25A36A3976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EC3F1E-7D4F-4A74-BD62-4017D153815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F24848-5319-4974-98BB-361A2A215DB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6446BD-0E20-4D5F-B168-EA2C92C734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42C68B-73D6-4325-A56D-E7E8A3F55C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899829-9EA5-4366-9E4E-3225E3C5F3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EC6D66-6F42-412C-B431-F46C4A7071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B801E4-3E9B-4A7E-A3BA-05DDA94267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B1A7C0-AF87-4B87-8204-0FA7567C67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C0F39C-8E20-4F46-A54E-EAFF4691AF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5360" indent="-2253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200" indent="-2253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2960" indent="-233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568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601640" indent="-2314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601640" indent="-2314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601640" indent="-2314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BEF07-C2D3-4EE5-B35C-CEDF77CD186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0.wmf"/><Relationship Id="rId6" Type="http://schemas.openxmlformats.org/officeDocument/2006/relationships/slide" Target="slide15.xml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ff0000"/>
                </a:solidFill>
                <a:latin typeface="Times New Roman"/>
              </a:rPr>
              <a:t>Applications</a:t>
            </a:r>
            <a:endParaRPr b="1" lang="en-US" sz="106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Negotiation among agents </a:t>
            </a:r>
            <a:br>
              <a:rPr sz="4000"/>
            </a:b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in the Supply Chain</a:t>
            </a: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3048120" y="1905120"/>
          <a:ext cx="5824440" cy="43909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8120" y="1905120"/>
                    <a:ext cx="5824440" cy="43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228600" y="1523880"/>
            <a:ext cx="3276720" cy="50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5360" indent="-22536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o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pport automated or semi-automated negotiation among applications in a supply-cha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velop an approach that can integrate with existing business practices and proced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velop an approach that uses standards and technologies likely to be acceptable to the business commun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Specific Approach</a:t>
            </a: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4582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  Use (modified) FIPA ACL primitives for nego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200" indent="-2253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ortant contribution is the set of primitives and their seman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  Use XML, extended with KIF, as the content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200" indent="-2253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F-based extensions allow the use of constraints and business r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  Introduce the notion of adjustable autonomy into agent-based supply chain nego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200" indent="-2253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“decision rules”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decide how to respond augmen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200" indent="-2253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“authorization rules”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decide if the action should be reviewed for authorization and by who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Negotiation primitives</a:t>
            </a: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5360" indent="-225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ed on the FIPA ACL with exten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ic negotiation primitiv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200" indent="-2253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f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call for propos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200" indent="-2253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opose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ropose (or counter-propose) an 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200" indent="-2253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ccept-proposal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ccept a propos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200" indent="-22536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ject-proposal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reject a proposal  (with optional reaso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ACL primitives useful in negoti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200" indent="-2253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, query, request, not_understood, refuse, 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200" indent="-2253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vertise, subscribe, broker, register,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ific negotiation protocols are defined using these primit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200" indent="-2253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.g., Iterated-contract-net, English-auction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Examples of negotiation primitives</a:t>
            </a: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1911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12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cfp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:from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“http://umbc.edu/~finin/self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:languag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KIF/XM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:ontology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http://ec.ibm.com/ec4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:content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“&lt;proposal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salesContract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buyer&gt; “http://umbc.edu/~finin/self” &lt;/buy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price unit=usd&gt; ?Price &lt;/pric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goods&gt; … &lt;/goods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/salesContract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constraints&gt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kif&gt; &lt;rel name=less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arg ?Prince&gt; &lt;arg 5000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/rel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/kif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/constraints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/proposal&gt;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:protocol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bestAndFinal0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:reply-with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cfp3245a.11.06.99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724280" y="1523880"/>
            <a:ext cx="419112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11240" indent="-1112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propo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480" indent="-457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:to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“http://umbc.edu/~finin/self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480" indent="-457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:fro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“http://compusa.com/self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480" indent="-457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:languag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KIF/XM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480" indent="-457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:ontology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http://ec.ibm.com/ec4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480" indent="-457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:content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“&lt;proposal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480" indent="-457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salesContract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480" indent="-457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buyer&gt; “http://umbc.edu/~finin/self” &lt;/buy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480" indent="-457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price unit=usd&gt; 4500 &lt;/pric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480" indent="-457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goods&gt; … &lt;/goods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480" indent="-457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/salesContract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480" indent="-457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/proposal&gt;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480" indent="-457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:in-reply-to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cfp3245a.11.06.9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480" indent="-457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:protocol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bestAndFinal0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480" indent="-457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:reply-with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offer4762579.11.06.736125409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480" indent="-457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480" indent="-457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Defining negotiation protocols</a:t>
            </a: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392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fferent protocols can be defined using the communicative primitiv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45400" indent="-211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tract-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5400" indent="-211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terated contract-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5400" indent="-211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glish au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5400" indent="-211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st protocols can be defined with a simple deterministic finite-state automata (DFA) formalism.  More complicated ones will require CP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gotiations can be augmented by “side conversations” composed of queries, informs,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2590920" y="1676520"/>
          <a:ext cx="6394320" cy="373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676520"/>
                    <a:ext cx="6394320" cy="373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"/>
          <p:cNvSpPr/>
          <p:nvPr/>
        </p:nvSpPr>
        <p:spPr>
          <a:xfrm>
            <a:off x="2833200" y="5638680"/>
            <a:ext cx="623556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b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Basic FIPA-Contract-Net Protoc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CARROT: Cooperating Agent-based Routing and Retrieval of Text</a:t>
            </a:r>
            <a:br>
              <a:rPr sz="3200"/>
            </a:b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426744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example of a mediated agent-based information retrieval architecture developed at UMB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5080" indent="-235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s provide access to different corpora, using existing IR eng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09320" cy="1276200"/>
          </a:xfrm>
          <a:prstGeom prst="rect">
            <a:avLst/>
          </a:prstGeom>
          <a:ln w="0">
            <a:noFill/>
          </a:ln>
        </p:spPr>
      </p:pic>
      <p:grpSp>
        <p:nvGrpSpPr>
          <p:cNvPr id="128" name=""/>
          <p:cNvGrpSpPr/>
          <p:nvPr/>
        </p:nvGrpSpPr>
        <p:grpSpPr>
          <a:xfrm>
            <a:off x="4038480" y="1905120"/>
            <a:ext cx="4736160" cy="2483640"/>
            <a:chOff x="4038480" y="1905120"/>
            <a:chExt cx="4736160" cy="2483640"/>
          </a:xfrm>
        </p:grpSpPr>
        <p:sp>
          <p:nvSpPr>
            <p:cNvPr id="129" name=""/>
            <p:cNvSpPr/>
            <p:nvPr/>
          </p:nvSpPr>
          <p:spPr>
            <a:xfrm>
              <a:off x="5543280" y="1920960"/>
              <a:ext cx="1360800" cy="196992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644960" y="2042640"/>
              <a:ext cx="859680" cy="35856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827480" y="2507040"/>
              <a:ext cx="859680" cy="37044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719120" y="3055680"/>
              <a:ext cx="857520" cy="35856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462080" y="3581280"/>
              <a:ext cx="859680" cy="3589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221720" y="3955680"/>
              <a:ext cx="5720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Multip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User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582320" y="4052880"/>
              <a:ext cx="11923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Multiple information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sourc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722120" y="2148480"/>
              <a:ext cx="780840" cy="34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575240" y="2245680"/>
              <a:ext cx="927720" cy="392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rot="1392600">
              <a:off x="4764240" y="2394720"/>
              <a:ext cx="514080" cy="27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Queries &amp;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document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 rot="1384200">
              <a:off x="4834800" y="2071440"/>
              <a:ext cx="459360" cy="18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edback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rot="20912400">
              <a:off x="7011000" y="2360880"/>
              <a:ext cx="404640" cy="18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querie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rot="20913000">
              <a:off x="6813360" y="2028960"/>
              <a:ext cx="514080" cy="18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document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 flipV="1">
              <a:off x="6773760" y="2148120"/>
              <a:ext cx="915840" cy="196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6823080" y="2308680"/>
              <a:ext cx="829800" cy="18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823440" y="3516120"/>
              <a:ext cx="622800" cy="14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flipH="1" flipV="1">
              <a:off x="6773400" y="3612600"/>
              <a:ext cx="683640" cy="14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969600" y="3125880"/>
              <a:ext cx="731160" cy="4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H="1" flipV="1">
              <a:off x="6919920" y="3222000"/>
              <a:ext cx="780840" cy="4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V="1">
              <a:off x="6969600" y="2638080"/>
              <a:ext cx="830520" cy="9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flipH="1">
              <a:off x="6969240" y="2735280"/>
              <a:ext cx="780840" cy="9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0" name=""/>
            <p:cNvGrpSpPr/>
            <p:nvPr/>
          </p:nvGrpSpPr>
          <p:grpSpPr>
            <a:xfrm>
              <a:off x="5845680" y="3175560"/>
              <a:ext cx="243360" cy="103680"/>
              <a:chOff x="5845680" y="3175560"/>
              <a:chExt cx="243360" cy="103680"/>
            </a:xfrm>
          </p:grpSpPr>
          <p:sp>
            <p:nvSpPr>
              <p:cNvPr id="151" name=""/>
              <p:cNvSpPr/>
              <p:nvPr/>
            </p:nvSpPr>
            <p:spPr>
              <a:xfrm>
                <a:off x="5880600" y="3175560"/>
                <a:ext cx="173520" cy="1036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640" bIns="26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flipV="1">
                <a:off x="6019560" y="3175560"/>
                <a:ext cx="69480" cy="3456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6019560" y="3244680"/>
                <a:ext cx="69480" cy="3456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 flipH="1">
                <a:off x="5845680" y="3244680"/>
                <a:ext cx="69480" cy="3456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 flipH="1" flipV="1">
                <a:off x="5845680" y="3175560"/>
                <a:ext cx="69480" cy="3456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6" name=""/>
            <p:cNvGrpSpPr/>
            <p:nvPr/>
          </p:nvGrpSpPr>
          <p:grpSpPr>
            <a:xfrm>
              <a:off x="6039720" y="3612960"/>
              <a:ext cx="342720" cy="146520"/>
              <a:chOff x="6039720" y="3612960"/>
              <a:chExt cx="342720" cy="146520"/>
            </a:xfrm>
          </p:grpSpPr>
          <p:sp>
            <p:nvSpPr>
              <p:cNvPr id="157" name=""/>
              <p:cNvSpPr/>
              <p:nvPr/>
            </p:nvSpPr>
            <p:spPr>
              <a:xfrm>
                <a:off x="6088680" y="3612960"/>
                <a:ext cx="244800" cy="14652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flipV="1">
                <a:off x="6284520" y="3612960"/>
                <a:ext cx="97920" cy="4896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6284520" y="3710520"/>
                <a:ext cx="97920" cy="4896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>
                <a:off x="6039720" y="3710520"/>
                <a:ext cx="97920" cy="4896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39720" y="3612960"/>
                <a:ext cx="97920" cy="4896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2" name=""/>
            <p:cNvGrpSpPr/>
            <p:nvPr/>
          </p:nvGrpSpPr>
          <p:grpSpPr>
            <a:xfrm>
              <a:off x="5748840" y="2261160"/>
              <a:ext cx="536760" cy="230040"/>
              <a:chOff x="5748840" y="2261160"/>
              <a:chExt cx="536760" cy="230040"/>
            </a:xfrm>
          </p:grpSpPr>
          <p:sp>
            <p:nvSpPr>
              <p:cNvPr id="163" name=""/>
              <p:cNvSpPr/>
              <p:nvPr/>
            </p:nvSpPr>
            <p:spPr>
              <a:xfrm>
                <a:off x="5825880" y="2261520"/>
                <a:ext cx="383040" cy="2296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flipV="1">
                <a:off x="6132240" y="2261160"/>
                <a:ext cx="153360" cy="7668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6132240" y="2414520"/>
                <a:ext cx="153360" cy="7668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flipH="1">
                <a:off x="5748840" y="2414520"/>
                <a:ext cx="153000" cy="7668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 flipH="1" flipV="1">
                <a:off x="5748840" y="2261160"/>
                <a:ext cx="153000" cy="7668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6382800" y="2491920"/>
              <a:ext cx="243360" cy="103320"/>
              <a:chOff x="6382800" y="2491920"/>
              <a:chExt cx="243360" cy="103320"/>
            </a:xfrm>
          </p:grpSpPr>
          <p:sp>
            <p:nvSpPr>
              <p:cNvPr id="169" name=""/>
              <p:cNvSpPr/>
              <p:nvPr/>
            </p:nvSpPr>
            <p:spPr>
              <a:xfrm>
                <a:off x="6417720" y="2491920"/>
                <a:ext cx="173520" cy="10332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280" bIns="26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 flipV="1">
                <a:off x="6556680" y="2491920"/>
                <a:ext cx="69480" cy="3456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6556680" y="2560680"/>
                <a:ext cx="69480" cy="3456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 flipH="1">
                <a:off x="6382800" y="2560680"/>
                <a:ext cx="69480" cy="3456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flipH="1" flipV="1">
                <a:off x="6382800" y="2491920"/>
                <a:ext cx="69480" cy="3456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4" name=""/>
            <p:cNvGrpSpPr/>
            <p:nvPr/>
          </p:nvGrpSpPr>
          <p:grpSpPr>
            <a:xfrm>
              <a:off x="6383160" y="3175200"/>
              <a:ext cx="340200" cy="144360"/>
              <a:chOff x="6383160" y="3175200"/>
              <a:chExt cx="340200" cy="144360"/>
            </a:xfrm>
          </p:grpSpPr>
          <p:sp>
            <p:nvSpPr>
              <p:cNvPr id="175" name=""/>
              <p:cNvSpPr/>
              <p:nvPr/>
            </p:nvSpPr>
            <p:spPr>
              <a:xfrm>
                <a:off x="6431760" y="3175560"/>
                <a:ext cx="243000" cy="1440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 flipV="1">
                <a:off x="6626160" y="3175200"/>
                <a:ext cx="97200" cy="4788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6626160" y="3271320"/>
                <a:ext cx="97200" cy="4788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 flipH="1">
                <a:off x="6383160" y="3271320"/>
                <a:ext cx="97200" cy="4788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 flipH="1" flipV="1">
                <a:off x="6383160" y="3175200"/>
                <a:ext cx="97200" cy="4788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6186600" y="2148120"/>
              <a:ext cx="293040" cy="126720"/>
              <a:chOff x="6186600" y="2148120"/>
              <a:chExt cx="293040" cy="126720"/>
            </a:xfrm>
          </p:grpSpPr>
          <p:sp>
            <p:nvSpPr>
              <p:cNvPr id="181" name=""/>
              <p:cNvSpPr/>
              <p:nvPr/>
            </p:nvSpPr>
            <p:spPr>
              <a:xfrm>
                <a:off x="6228360" y="2148480"/>
                <a:ext cx="209160" cy="12636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 flipV="1">
                <a:off x="6395760" y="2148120"/>
                <a:ext cx="83880" cy="4212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6395760" y="2232720"/>
                <a:ext cx="83880" cy="4212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flipH="1">
                <a:off x="6186600" y="2232720"/>
                <a:ext cx="83520" cy="4212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 flipH="1" flipV="1">
                <a:off x="6186600" y="2148120"/>
                <a:ext cx="83520" cy="4212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6" name=""/>
            <p:cNvGrpSpPr/>
            <p:nvPr/>
          </p:nvGrpSpPr>
          <p:grpSpPr>
            <a:xfrm>
              <a:off x="6039360" y="3368880"/>
              <a:ext cx="196560" cy="83520"/>
              <a:chOff x="6039360" y="3368880"/>
              <a:chExt cx="196560" cy="83520"/>
            </a:xfrm>
          </p:grpSpPr>
          <p:sp>
            <p:nvSpPr>
              <p:cNvPr id="187" name=""/>
              <p:cNvSpPr/>
              <p:nvPr/>
            </p:nvSpPr>
            <p:spPr>
              <a:xfrm>
                <a:off x="6067800" y="3369240"/>
                <a:ext cx="140040" cy="8316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600" bIns="126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 flipV="1">
                <a:off x="6179760" y="3368880"/>
                <a:ext cx="56160" cy="2772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6179760" y="3424680"/>
                <a:ext cx="56160" cy="2772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 flipH="1">
                <a:off x="6039360" y="3424680"/>
                <a:ext cx="55800" cy="2772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 flipH="1" flipV="1">
                <a:off x="6039360" y="3368880"/>
                <a:ext cx="55800" cy="2772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2" name=""/>
            <p:cNvGrpSpPr/>
            <p:nvPr/>
          </p:nvGrpSpPr>
          <p:grpSpPr>
            <a:xfrm>
              <a:off x="6039720" y="3028680"/>
              <a:ext cx="342720" cy="146520"/>
              <a:chOff x="6039720" y="3028680"/>
              <a:chExt cx="342720" cy="146520"/>
            </a:xfrm>
          </p:grpSpPr>
          <p:sp>
            <p:nvSpPr>
              <p:cNvPr id="193" name=""/>
              <p:cNvSpPr/>
              <p:nvPr/>
            </p:nvSpPr>
            <p:spPr>
              <a:xfrm>
                <a:off x="6088680" y="3028680"/>
                <a:ext cx="244800" cy="14652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 flipV="1">
                <a:off x="6284520" y="3028680"/>
                <a:ext cx="97920" cy="4896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6284520" y="3126240"/>
                <a:ext cx="97920" cy="4896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 flipH="1">
                <a:off x="6039720" y="3126240"/>
                <a:ext cx="97920" cy="4896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 flipH="1" flipV="1">
                <a:off x="6039720" y="3028680"/>
                <a:ext cx="97920" cy="4896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5649480" y="2735280"/>
              <a:ext cx="243360" cy="103680"/>
              <a:chOff x="5649480" y="2735280"/>
              <a:chExt cx="243360" cy="103680"/>
            </a:xfrm>
          </p:grpSpPr>
          <p:sp>
            <p:nvSpPr>
              <p:cNvPr id="199" name=""/>
              <p:cNvSpPr/>
              <p:nvPr/>
            </p:nvSpPr>
            <p:spPr>
              <a:xfrm>
                <a:off x="5684400" y="2735280"/>
                <a:ext cx="173520" cy="1036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640" bIns="26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 flipV="1">
                <a:off x="5823360" y="2735280"/>
                <a:ext cx="69480" cy="3456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5823360" y="2804400"/>
                <a:ext cx="69480" cy="3456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 flipH="1">
                <a:off x="5649480" y="2804400"/>
                <a:ext cx="69480" cy="3456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 flipH="1" flipV="1">
                <a:off x="5649480" y="2735280"/>
                <a:ext cx="69480" cy="3456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aphicFrame>
          <p:nvGraphicFramePr>
            <p:cNvPr id="204" name=""/>
            <p:cNvGraphicFramePr/>
            <p:nvPr/>
          </p:nvGraphicFramePr>
          <p:xfrm>
            <a:off x="4038480" y="1905120"/>
            <a:ext cx="579600" cy="5868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205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4038480" y="1905120"/>
                      <a:ext cx="579600" cy="586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06" name=""/>
            <p:cNvGraphicFramePr/>
            <p:nvPr/>
          </p:nvGraphicFramePr>
          <p:xfrm>
            <a:off x="4185360" y="3272040"/>
            <a:ext cx="579600" cy="58428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207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4185360" y="3272040"/>
                      <a:ext cx="579600" cy="584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08" name=""/>
            <p:cNvSpPr/>
            <p:nvPr/>
          </p:nvSpPr>
          <p:spPr>
            <a:xfrm flipV="1">
              <a:off x="4771800" y="3272040"/>
              <a:ext cx="830520" cy="9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 flipV="1">
              <a:off x="4722120" y="3418560"/>
              <a:ext cx="880200" cy="14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 rot="275400">
              <a:off x="6922440" y="3222000"/>
              <a:ext cx="1240920" cy="27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tadat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on collection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921640" y="4003200"/>
              <a:ext cx="7718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Specialized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Agent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602320" y="3125880"/>
              <a:ext cx="79164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Broker Agent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555520" y="2735280"/>
              <a:ext cx="86472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Provider Agent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rot="20900400">
              <a:off x="4773960" y="3500280"/>
              <a:ext cx="986040" cy="27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tadat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about User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700960" y="2392560"/>
              <a:ext cx="70308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User Agent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6" name=""/>
          <p:cNvSpPr/>
          <p:nvPr/>
        </p:nvSpPr>
        <p:spPr>
          <a:xfrm>
            <a:off x="152280" y="4724280"/>
            <a:ext cx="84582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35080" indent="-235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s share metadata with Broker agents, which route queries and new documents to the “right” place(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5080" indent="-235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enabling technologi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22480"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QML agent communication languag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22480"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-gram 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>
            <a:hlinkClick r:id="rId6" action="ppaction://hlinksldjump"/>
          </p:cNvPr>
          <p:cNvSpPr/>
          <p:nvPr/>
        </p:nvSpPr>
        <p:spPr>
          <a:xfrm>
            <a:off x="8077320" y="5943600"/>
            <a:ext cx="685800" cy="60948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4303" h="21600">
                <a:moveTo>
                  <a:pt x="0" y="0"/>
                </a:moveTo>
                <a:lnTo>
                  <a:pt x="24303" y="0"/>
                </a:lnTo>
                <a:lnTo>
                  <a:pt x="24303" y="21600"/>
                </a:lnTo>
                <a:lnTo>
                  <a:pt x="0" y="21600"/>
                </a:lnTo>
                <a:close/>
              </a:path>
              <a:path fill="lightenLess" w="24303" h="21600">
                <a:moveTo>
                  <a:pt x="0" y="0"/>
                </a:moveTo>
                <a:lnTo>
                  <a:pt x="24303" y="0"/>
                </a:lnTo>
                <a:lnTo>
                  <a:pt x="22903" y="1400"/>
                </a:lnTo>
                <a:lnTo>
                  <a:pt x="1400" y="1400"/>
                </a:lnTo>
                <a:close/>
              </a:path>
              <a:path fill="darken" w="24303" h="21600">
                <a:moveTo>
                  <a:pt x="24303" y="0"/>
                </a:moveTo>
                <a:lnTo>
                  <a:pt x="24303" y="21600"/>
                </a:lnTo>
                <a:lnTo>
                  <a:pt x="22903" y="20200"/>
                </a:lnTo>
                <a:lnTo>
                  <a:pt x="22903" y="1400"/>
                </a:lnTo>
                <a:close/>
              </a:path>
              <a:path fill="darkenLess" w="24303" h="21600">
                <a:moveTo>
                  <a:pt x="243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03" y="20200"/>
                </a:lnTo>
                <a:close/>
              </a:path>
              <a:path fill="lighten" w="243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303" h="21600">
                <a:moveTo>
                  <a:pt x="5145" y="3794"/>
                </a:moveTo>
                <a:lnTo>
                  <a:pt x="19158" y="10800"/>
                </a:lnTo>
                <a:lnTo>
                  <a:pt x="5145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150840" y="457200"/>
            <a:ext cx="8820000" cy="5551200"/>
            <a:chOff x="150840" y="457200"/>
            <a:chExt cx="8820000" cy="5551200"/>
          </a:xfrm>
        </p:grpSpPr>
        <p:sp>
          <p:nvSpPr>
            <p:cNvPr id="221" name=""/>
            <p:cNvSpPr/>
            <p:nvPr/>
          </p:nvSpPr>
          <p:spPr>
            <a:xfrm>
              <a:off x="1295280" y="5257800"/>
              <a:ext cx="2909880" cy="75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gent Control Ag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22440" y="797040"/>
              <a:ext cx="77724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308240" y="2397240"/>
              <a:ext cx="64008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93840" y="720720"/>
              <a:ext cx="77724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079640" y="2320920"/>
              <a:ext cx="64008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marL="343080" indent="-343080"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871720" y="2044800"/>
              <a:ext cx="3210120" cy="1900080"/>
            </a:xfrm>
            <a:prstGeom prst="ellipse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102120" y="2174760"/>
              <a:ext cx="379440" cy="379440"/>
            </a:xfrm>
            <a:prstGeom prst="cube">
              <a:avLst>
                <a:gd name="adj" fmla="val 24995"/>
              </a:avLst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102120" y="2266920"/>
              <a:ext cx="349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 flipH="1">
              <a:off x="6119640" y="477720"/>
              <a:ext cx="1198800" cy="1379520"/>
            </a:xfrm>
            <a:prstGeom prst="cube">
              <a:avLst>
                <a:gd name="adj" fmla="val 24995"/>
              </a:avLst>
            </a:prstGeom>
            <a:gradFill rotWithShape="0">
              <a:gsLst>
                <a:gs pos="0">
                  <a:srgbClr val="3365fb"/>
                </a:gs>
                <a:gs pos="50000">
                  <a:srgbClr val="e9eefd"/>
                </a:gs>
                <a:gs pos="100000">
                  <a:srgbClr val="3365fb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flipH="1">
              <a:off x="6079320" y="849240"/>
              <a:ext cx="260280" cy="662040"/>
            </a:xfrm>
            <a:prstGeom prst="cube">
              <a:avLst>
                <a:gd name="adj" fmla="val 26666"/>
              </a:avLst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751120" y="2936880"/>
              <a:ext cx="378000" cy="379440"/>
            </a:xfrm>
            <a:prstGeom prst="cube">
              <a:avLst>
                <a:gd name="adj" fmla="val 24995"/>
              </a:avLst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751120" y="3029040"/>
              <a:ext cx="349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043520" y="3697200"/>
              <a:ext cx="377640" cy="379440"/>
            </a:xfrm>
            <a:prstGeom prst="cube">
              <a:avLst>
                <a:gd name="adj" fmla="val 24995"/>
              </a:avLst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041720" y="3787920"/>
              <a:ext cx="349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897520" y="2817720"/>
              <a:ext cx="379440" cy="378000"/>
            </a:xfrm>
            <a:prstGeom prst="cube">
              <a:avLst>
                <a:gd name="adj" fmla="val 24995"/>
              </a:avLst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894280" y="2906640"/>
              <a:ext cx="349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099040" y="2000160"/>
              <a:ext cx="378000" cy="379440"/>
            </a:xfrm>
            <a:prstGeom prst="cube">
              <a:avLst>
                <a:gd name="adj" fmla="val 24995"/>
              </a:avLst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095800" y="2090880"/>
              <a:ext cx="349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 flipV="1">
              <a:off x="3174840" y="4082760"/>
              <a:ext cx="900360" cy="523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flipH="1">
              <a:off x="6165360" y="2930400"/>
              <a:ext cx="895320" cy="98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 flipH="1">
              <a:off x="5424120" y="1190520"/>
              <a:ext cx="685800" cy="1020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803240" y="3159000"/>
              <a:ext cx="941400" cy="3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185840" y="739800"/>
              <a:ext cx="1200240" cy="1379520"/>
            </a:xfrm>
            <a:prstGeom prst="cube">
              <a:avLst>
                <a:gd name="adj" fmla="val 24995"/>
              </a:avLst>
            </a:prstGeom>
            <a:solidFill>
              <a:srgbClr val="474747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163600" y="1109520"/>
              <a:ext cx="260640" cy="660600"/>
            </a:xfrm>
            <a:prstGeom prst="cube">
              <a:avLst>
                <a:gd name="adj" fmla="val 26666"/>
              </a:avLst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099040" y="3632040"/>
              <a:ext cx="378000" cy="379440"/>
            </a:xfrm>
            <a:prstGeom prst="cube">
              <a:avLst>
                <a:gd name="adj" fmla="val 24995"/>
              </a:avLst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097600" y="3719520"/>
              <a:ext cx="349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 flipH="1" flipV="1">
              <a:off x="5384880" y="3997080"/>
              <a:ext cx="91440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086280" y="457200"/>
              <a:ext cx="1199880" cy="1378080"/>
            </a:xfrm>
            <a:prstGeom prst="cube">
              <a:avLst>
                <a:gd name="adj" fmla="val 24995"/>
              </a:avLst>
            </a:prstGeom>
            <a:gradFill rotWithShape="0">
              <a:gsLst>
                <a:gs pos="0">
                  <a:srgbClr val="3365fb"/>
                </a:gs>
                <a:gs pos="50000">
                  <a:srgbClr val="e9eefd"/>
                </a:gs>
                <a:gs pos="100000">
                  <a:srgbClr val="3365fb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065480" y="826920"/>
              <a:ext cx="260280" cy="660600"/>
            </a:xfrm>
            <a:prstGeom prst="cube">
              <a:avLst>
                <a:gd name="adj" fmla="val 26666"/>
              </a:avLst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394160" y="1782720"/>
              <a:ext cx="378000" cy="379440"/>
            </a:xfrm>
            <a:prstGeom prst="cube">
              <a:avLst>
                <a:gd name="adj" fmla="val 24995"/>
              </a:avLst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390920" y="1873080"/>
              <a:ext cx="349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267080" y="1025640"/>
              <a:ext cx="304920" cy="76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3" name=""/>
            <p:cNvGrpSpPr/>
            <p:nvPr/>
          </p:nvGrpSpPr>
          <p:grpSpPr>
            <a:xfrm>
              <a:off x="569880" y="2490840"/>
              <a:ext cx="1239840" cy="1377720"/>
              <a:chOff x="569880" y="2490840"/>
              <a:chExt cx="1239840" cy="1377720"/>
            </a:xfrm>
          </p:grpSpPr>
          <p:sp>
            <p:nvSpPr>
              <p:cNvPr id="254" name=""/>
              <p:cNvSpPr/>
              <p:nvPr/>
            </p:nvSpPr>
            <p:spPr>
              <a:xfrm>
                <a:off x="569880" y="2490840"/>
                <a:ext cx="1200240" cy="1377720"/>
              </a:xfrm>
              <a:prstGeom prst="cube">
                <a:avLst>
                  <a:gd name="adj" fmla="val 24995"/>
                </a:avLst>
              </a:prstGeom>
              <a:gradFill rotWithShape="0">
                <a:gsLst>
                  <a:gs pos="0">
                    <a:srgbClr val="3365fb"/>
                  </a:gs>
                  <a:gs pos="50000">
                    <a:srgbClr val="e9eefd"/>
                  </a:gs>
                  <a:gs pos="100000">
                    <a:srgbClr val="3365fb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1549440" y="2860560"/>
                <a:ext cx="260280" cy="659880"/>
              </a:xfrm>
              <a:prstGeom prst="cube">
                <a:avLst>
                  <a:gd name="adj" fmla="val 26666"/>
                </a:avLst>
              </a:prstGeom>
              <a:solidFill>
                <a:srgbClr val="b2b2b2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593280" y="3076560"/>
                <a:ext cx="909000" cy="47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Back-en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(mg)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7" name=""/>
            <p:cNvSpPr/>
            <p:nvPr/>
          </p:nvSpPr>
          <p:spPr>
            <a:xfrm>
              <a:off x="2352600" y="1430280"/>
              <a:ext cx="725400" cy="93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50840" y="1011240"/>
              <a:ext cx="1049040" cy="107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g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Na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erv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107880" y="942840"/>
              <a:ext cx="909000" cy="47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Back-en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(Telltale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flipH="1">
              <a:off x="7065360" y="2251080"/>
              <a:ext cx="1199880" cy="1379520"/>
            </a:xfrm>
            <a:prstGeom prst="cube">
              <a:avLst>
                <a:gd name="adj" fmla="val 24995"/>
              </a:avLst>
            </a:prstGeom>
            <a:gradFill rotWithShape="0">
              <a:gsLst>
                <a:gs pos="0">
                  <a:srgbClr val="3365fb"/>
                </a:gs>
                <a:gs pos="50000">
                  <a:srgbClr val="e9eefd"/>
                </a:gs>
                <a:gs pos="100000">
                  <a:srgbClr val="3365fb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flipH="1">
              <a:off x="7026120" y="2620800"/>
              <a:ext cx="262080" cy="660600"/>
            </a:xfrm>
            <a:prstGeom prst="cube">
              <a:avLst>
                <a:gd name="adj" fmla="val 26666"/>
              </a:avLst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618320" y="2789280"/>
              <a:ext cx="420840" cy="25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974960" y="3773520"/>
              <a:ext cx="1199880" cy="1378080"/>
            </a:xfrm>
            <a:prstGeom prst="cube">
              <a:avLst>
                <a:gd name="adj" fmla="val 24995"/>
              </a:avLst>
            </a:prstGeom>
            <a:solidFill>
              <a:srgbClr val="474747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952720" y="4143240"/>
              <a:ext cx="262080" cy="660600"/>
            </a:xfrm>
            <a:prstGeom prst="cube">
              <a:avLst>
                <a:gd name="adj" fmla="val 26666"/>
              </a:avLst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6281640" y="3675240"/>
              <a:ext cx="1200240" cy="1379520"/>
            </a:xfrm>
            <a:prstGeom prst="cube">
              <a:avLst>
                <a:gd name="adj" fmla="val 24995"/>
              </a:avLst>
            </a:prstGeom>
            <a:solidFill>
              <a:srgbClr val="474747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6241320" y="4044960"/>
              <a:ext cx="260280" cy="660240"/>
            </a:xfrm>
            <a:prstGeom prst="cube">
              <a:avLst>
                <a:gd name="adj" fmla="val 26666"/>
              </a:avLst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003040" y="4367160"/>
              <a:ext cx="8373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Ag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609600" y="4214880"/>
              <a:ext cx="9622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Brok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204560" y="1305000"/>
              <a:ext cx="8373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Ag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197520" y="2765520"/>
              <a:ext cx="2623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KQML Messag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459120" y="941400"/>
              <a:ext cx="909000" cy="47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Back-en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(Telltale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7373520" y="2770200"/>
              <a:ext cx="909000" cy="47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Back-en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(DBM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7556400" y="4302000"/>
              <a:ext cx="114300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624800" y="4495680"/>
              <a:ext cx="1346040" cy="75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Queri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&amp; Dat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5029200" y="4572000"/>
            <a:ext cx="2971800" cy="2209680"/>
          </a:xfrm>
          <a:custGeom>
            <a:avLst/>
            <a:gdLst/>
            <a:ahLst/>
            <a:rect l="l" t="t" r="r" b="b"/>
            <a:pathLst>
              <a:path w="1872" h="1392">
                <a:moveTo>
                  <a:pt x="192" y="960"/>
                </a:moveTo>
                <a:lnTo>
                  <a:pt x="48" y="768"/>
                </a:lnTo>
                <a:lnTo>
                  <a:pt x="48" y="672"/>
                </a:lnTo>
                <a:lnTo>
                  <a:pt x="0" y="576"/>
                </a:lnTo>
                <a:lnTo>
                  <a:pt x="0" y="528"/>
                </a:lnTo>
                <a:lnTo>
                  <a:pt x="48" y="384"/>
                </a:lnTo>
                <a:lnTo>
                  <a:pt x="96" y="384"/>
                </a:lnTo>
                <a:lnTo>
                  <a:pt x="192" y="336"/>
                </a:lnTo>
                <a:lnTo>
                  <a:pt x="336" y="336"/>
                </a:lnTo>
                <a:lnTo>
                  <a:pt x="384" y="336"/>
                </a:lnTo>
                <a:lnTo>
                  <a:pt x="432" y="336"/>
                </a:lnTo>
                <a:lnTo>
                  <a:pt x="576" y="336"/>
                </a:lnTo>
                <a:lnTo>
                  <a:pt x="624" y="336"/>
                </a:lnTo>
                <a:lnTo>
                  <a:pt x="816" y="384"/>
                </a:lnTo>
                <a:lnTo>
                  <a:pt x="912" y="384"/>
                </a:lnTo>
                <a:lnTo>
                  <a:pt x="1008" y="384"/>
                </a:lnTo>
                <a:lnTo>
                  <a:pt x="1104" y="336"/>
                </a:lnTo>
                <a:lnTo>
                  <a:pt x="1152" y="144"/>
                </a:lnTo>
                <a:lnTo>
                  <a:pt x="1200" y="48"/>
                </a:lnTo>
                <a:lnTo>
                  <a:pt x="1344" y="0"/>
                </a:lnTo>
                <a:lnTo>
                  <a:pt x="1584" y="0"/>
                </a:lnTo>
                <a:lnTo>
                  <a:pt x="1728" y="96"/>
                </a:lnTo>
                <a:lnTo>
                  <a:pt x="1776" y="96"/>
                </a:lnTo>
                <a:lnTo>
                  <a:pt x="1824" y="144"/>
                </a:lnTo>
                <a:lnTo>
                  <a:pt x="1872" y="240"/>
                </a:lnTo>
                <a:lnTo>
                  <a:pt x="1872" y="384"/>
                </a:lnTo>
                <a:lnTo>
                  <a:pt x="1776" y="432"/>
                </a:lnTo>
                <a:lnTo>
                  <a:pt x="1728" y="432"/>
                </a:lnTo>
                <a:lnTo>
                  <a:pt x="1632" y="432"/>
                </a:lnTo>
                <a:lnTo>
                  <a:pt x="1488" y="384"/>
                </a:lnTo>
                <a:lnTo>
                  <a:pt x="1344" y="480"/>
                </a:lnTo>
                <a:lnTo>
                  <a:pt x="1344" y="576"/>
                </a:lnTo>
                <a:lnTo>
                  <a:pt x="1344" y="624"/>
                </a:lnTo>
                <a:lnTo>
                  <a:pt x="1392" y="672"/>
                </a:lnTo>
                <a:lnTo>
                  <a:pt x="1440" y="768"/>
                </a:lnTo>
                <a:lnTo>
                  <a:pt x="1536" y="816"/>
                </a:lnTo>
                <a:lnTo>
                  <a:pt x="1584" y="816"/>
                </a:lnTo>
                <a:lnTo>
                  <a:pt x="1632" y="864"/>
                </a:lnTo>
                <a:lnTo>
                  <a:pt x="1632" y="1056"/>
                </a:lnTo>
                <a:lnTo>
                  <a:pt x="1632" y="1248"/>
                </a:lnTo>
                <a:lnTo>
                  <a:pt x="1584" y="1296"/>
                </a:lnTo>
                <a:lnTo>
                  <a:pt x="1488" y="1344"/>
                </a:lnTo>
                <a:lnTo>
                  <a:pt x="1296" y="1392"/>
                </a:lnTo>
                <a:lnTo>
                  <a:pt x="1200" y="1392"/>
                </a:lnTo>
                <a:lnTo>
                  <a:pt x="864" y="1248"/>
                </a:lnTo>
                <a:lnTo>
                  <a:pt x="816" y="1200"/>
                </a:lnTo>
                <a:lnTo>
                  <a:pt x="720" y="1056"/>
                </a:lnTo>
                <a:lnTo>
                  <a:pt x="576" y="1008"/>
                </a:lnTo>
                <a:lnTo>
                  <a:pt x="336" y="960"/>
                </a:lnTo>
                <a:lnTo>
                  <a:pt x="240" y="960"/>
                </a:lnTo>
                <a:lnTo>
                  <a:pt x="192" y="960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85800" y="4572000"/>
            <a:ext cx="2971800" cy="2209680"/>
          </a:xfrm>
          <a:custGeom>
            <a:avLst/>
            <a:gdLst/>
            <a:ahLst/>
            <a:rect l="l" t="t" r="r" b="b"/>
            <a:pathLst>
              <a:path w="1872" h="1392">
                <a:moveTo>
                  <a:pt x="192" y="960"/>
                </a:moveTo>
                <a:lnTo>
                  <a:pt x="48" y="768"/>
                </a:lnTo>
                <a:lnTo>
                  <a:pt x="48" y="672"/>
                </a:lnTo>
                <a:lnTo>
                  <a:pt x="0" y="576"/>
                </a:lnTo>
                <a:lnTo>
                  <a:pt x="0" y="528"/>
                </a:lnTo>
                <a:lnTo>
                  <a:pt x="48" y="384"/>
                </a:lnTo>
                <a:lnTo>
                  <a:pt x="96" y="384"/>
                </a:lnTo>
                <a:lnTo>
                  <a:pt x="192" y="336"/>
                </a:lnTo>
                <a:lnTo>
                  <a:pt x="336" y="336"/>
                </a:lnTo>
                <a:lnTo>
                  <a:pt x="384" y="336"/>
                </a:lnTo>
                <a:lnTo>
                  <a:pt x="432" y="336"/>
                </a:lnTo>
                <a:lnTo>
                  <a:pt x="576" y="336"/>
                </a:lnTo>
                <a:lnTo>
                  <a:pt x="624" y="336"/>
                </a:lnTo>
                <a:lnTo>
                  <a:pt x="816" y="384"/>
                </a:lnTo>
                <a:lnTo>
                  <a:pt x="912" y="384"/>
                </a:lnTo>
                <a:lnTo>
                  <a:pt x="1008" y="384"/>
                </a:lnTo>
                <a:lnTo>
                  <a:pt x="1104" y="336"/>
                </a:lnTo>
                <a:lnTo>
                  <a:pt x="1152" y="144"/>
                </a:lnTo>
                <a:lnTo>
                  <a:pt x="1200" y="48"/>
                </a:lnTo>
                <a:lnTo>
                  <a:pt x="1344" y="0"/>
                </a:lnTo>
                <a:lnTo>
                  <a:pt x="1584" y="0"/>
                </a:lnTo>
                <a:lnTo>
                  <a:pt x="1728" y="96"/>
                </a:lnTo>
                <a:lnTo>
                  <a:pt x="1776" y="96"/>
                </a:lnTo>
                <a:lnTo>
                  <a:pt x="1824" y="144"/>
                </a:lnTo>
                <a:lnTo>
                  <a:pt x="1872" y="240"/>
                </a:lnTo>
                <a:lnTo>
                  <a:pt x="1872" y="384"/>
                </a:lnTo>
                <a:lnTo>
                  <a:pt x="1776" y="432"/>
                </a:lnTo>
                <a:lnTo>
                  <a:pt x="1728" y="432"/>
                </a:lnTo>
                <a:lnTo>
                  <a:pt x="1632" y="432"/>
                </a:lnTo>
                <a:lnTo>
                  <a:pt x="1488" y="384"/>
                </a:lnTo>
                <a:lnTo>
                  <a:pt x="1344" y="480"/>
                </a:lnTo>
                <a:lnTo>
                  <a:pt x="1344" y="576"/>
                </a:lnTo>
                <a:lnTo>
                  <a:pt x="1344" y="624"/>
                </a:lnTo>
                <a:lnTo>
                  <a:pt x="1392" y="672"/>
                </a:lnTo>
                <a:lnTo>
                  <a:pt x="1440" y="768"/>
                </a:lnTo>
                <a:lnTo>
                  <a:pt x="1536" y="816"/>
                </a:lnTo>
                <a:lnTo>
                  <a:pt x="1584" y="816"/>
                </a:lnTo>
                <a:lnTo>
                  <a:pt x="1632" y="864"/>
                </a:lnTo>
                <a:lnTo>
                  <a:pt x="1632" y="1056"/>
                </a:lnTo>
                <a:lnTo>
                  <a:pt x="1632" y="1248"/>
                </a:lnTo>
                <a:lnTo>
                  <a:pt x="1584" y="1296"/>
                </a:lnTo>
                <a:lnTo>
                  <a:pt x="1488" y="1344"/>
                </a:lnTo>
                <a:lnTo>
                  <a:pt x="1296" y="1392"/>
                </a:lnTo>
                <a:lnTo>
                  <a:pt x="1200" y="1392"/>
                </a:lnTo>
                <a:lnTo>
                  <a:pt x="864" y="1248"/>
                </a:lnTo>
                <a:lnTo>
                  <a:pt x="816" y="1200"/>
                </a:lnTo>
                <a:lnTo>
                  <a:pt x="720" y="1056"/>
                </a:lnTo>
                <a:lnTo>
                  <a:pt x="576" y="1008"/>
                </a:lnTo>
                <a:lnTo>
                  <a:pt x="336" y="960"/>
                </a:lnTo>
                <a:lnTo>
                  <a:pt x="240" y="960"/>
                </a:lnTo>
                <a:lnTo>
                  <a:pt x="192" y="960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Broker and back-end agents</a:t>
            </a: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268920" y="4876920"/>
            <a:ext cx="4304160" cy="1783800"/>
            <a:chOff x="268920" y="4876920"/>
            <a:chExt cx="4304160" cy="1783800"/>
          </a:xfrm>
        </p:grpSpPr>
        <p:sp>
          <p:nvSpPr>
            <p:cNvPr id="279" name=""/>
            <p:cNvSpPr/>
            <p:nvPr/>
          </p:nvSpPr>
          <p:spPr>
            <a:xfrm>
              <a:off x="1251720" y="6368760"/>
              <a:ext cx="18504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926280" y="5421600"/>
              <a:ext cx="393480" cy="32076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663560" y="5421600"/>
              <a:ext cx="393480" cy="32076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584800" y="5403600"/>
              <a:ext cx="356760" cy="3571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449880" y="5421600"/>
              <a:ext cx="101160" cy="32076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3596040" y="5421600"/>
              <a:ext cx="466560" cy="32076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566440" y="6099840"/>
              <a:ext cx="393480" cy="10116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566440" y="6244920"/>
              <a:ext cx="393480" cy="32040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327680" y="5582160"/>
              <a:ext cx="328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934720" y="5582160"/>
              <a:ext cx="51120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lgDash"/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941400" y="5211720"/>
              <a:ext cx="463320" cy="20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9840" rIns="69840" tIns="34920" bIns="349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KQM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647360" y="5211720"/>
              <a:ext cx="533520" cy="20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9840" rIns="69840" tIns="34920" bIns="349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KQM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849480" y="5101920"/>
              <a:ext cx="556560" cy="20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9840" rIns="69840" tIns="34920" bIns="3492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Arial"/>
                </a:rPr>
                <a:t>broker.c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932560" y="5200560"/>
              <a:ext cx="440640" cy="34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9840" rIns="69840" tIns="34920" bIns="3492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C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gen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072520" y="6219360"/>
              <a:ext cx="512280" cy="20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9840" rIns="69840" tIns="34920" bIns="349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elltal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4" name=""/>
            <p:cNvGrpSpPr/>
            <p:nvPr/>
          </p:nvGrpSpPr>
          <p:grpSpPr>
            <a:xfrm>
              <a:off x="268920" y="4981320"/>
              <a:ext cx="516240" cy="1236240"/>
              <a:chOff x="268920" y="4981320"/>
              <a:chExt cx="516240" cy="1236240"/>
            </a:xfrm>
          </p:grpSpPr>
          <p:grpSp>
            <p:nvGrpSpPr>
              <p:cNvPr id="295" name=""/>
              <p:cNvGrpSpPr/>
              <p:nvPr/>
            </p:nvGrpSpPr>
            <p:grpSpPr>
              <a:xfrm>
                <a:off x="367920" y="4981320"/>
                <a:ext cx="177480" cy="1027800"/>
                <a:chOff x="367920" y="4981320"/>
                <a:chExt cx="177480" cy="1027800"/>
              </a:xfrm>
            </p:grpSpPr>
            <p:sp>
              <p:nvSpPr>
                <p:cNvPr id="296" name=""/>
                <p:cNvSpPr/>
                <p:nvPr/>
              </p:nvSpPr>
              <p:spPr>
                <a:xfrm>
                  <a:off x="367920" y="4981320"/>
                  <a:ext cx="177480" cy="1027800"/>
                </a:xfrm>
                <a:prstGeom prst="rect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545400" y="4981320"/>
                  <a:ext cx="0" cy="102780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367920" y="4981320"/>
                  <a:ext cx="0" cy="102780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443880" y="4981320"/>
                  <a:ext cx="0" cy="102780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469080" y="4981320"/>
                  <a:ext cx="0" cy="102780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01" name=""/>
              <p:cNvSpPr/>
              <p:nvPr/>
            </p:nvSpPr>
            <p:spPr>
              <a:xfrm>
                <a:off x="268920" y="6046560"/>
                <a:ext cx="516240" cy="17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7520" rIns="47520" tIns="23760" bIns="2376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235080"/>
                    <a:tab algn="l" pos="469800"/>
                    <a:tab algn="l" pos="704880"/>
                    <a:tab algn="l" pos="939960"/>
                    <a:tab algn="l" pos="1174680"/>
                    <a:tab algn="l" pos="1409760"/>
                    <a:tab algn="l" pos="1644480"/>
                    <a:tab algn="l" pos="1879560"/>
                    <a:tab algn="l" pos="2114640"/>
                    <a:tab algn="l" pos="2349360"/>
                    <a:tab algn="l" pos="2584440"/>
                    <a:tab algn="l" pos="2819520"/>
                    <a:tab algn="l" pos="3054240"/>
                    <a:tab algn="l" pos="3289320"/>
                    <a:tab algn="l" pos="3524400"/>
                    <a:tab algn="l" pos="3759120"/>
                    <a:tab algn="l" pos="3994200"/>
                    <a:tab algn="l" pos="4229280"/>
                    <a:tab algn="l" pos="4464000"/>
                    <a:tab algn="l" pos="469908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Network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2" name=""/>
            <p:cNvSpPr/>
            <p:nvPr/>
          </p:nvSpPr>
          <p:spPr>
            <a:xfrm>
              <a:off x="2955960" y="6417360"/>
              <a:ext cx="681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058120" y="5582160"/>
              <a:ext cx="511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V="1">
              <a:off x="2763360" y="5766840"/>
              <a:ext cx="0" cy="328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763360" y="5072400"/>
              <a:ext cx="0" cy="328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6" name=""/>
            <p:cNvGrpSpPr/>
            <p:nvPr/>
          </p:nvGrpSpPr>
          <p:grpSpPr>
            <a:xfrm>
              <a:off x="3645000" y="6136200"/>
              <a:ext cx="320400" cy="430200"/>
              <a:chOff x="3645000" y="6136200"/>
              <a:chExt cx="320400" cy="430200"/>
            </a:xfrm>
          </p:grpSpPr>
          <p:sp>
            <p:nvSpPr>
              <p:cNvPr id="307" name=""/>
              <p:cNvSpPr/>
              <p:nvPr/>
            </p:nvSpPr>
            <p:spPr>
              <a:xfrm>
                <a:off x="3645000" y="6177600"/>
                <a:ext cx="320400" cy="318240"/>
              </a:xfrm>
              <a:prstGeom prst="rect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3645000" y="6463800"/>
                <a:ext cx="320400" cy="102600"/>
              </a:xfrm>
              <a:prstGeom prst="ellipse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280" bIns="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3645000" y="6136200"/>
                <a:ext cx="320400" cy="103320"/>
              </a:xfrm>
              <a:prstGeom prst="ellipse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280" bIns="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0" name=""/>
            <p:cNvSpPr/>
            <p:nvPr/>
          </p:nvSpPr>
          <p:spPr>
            <a:xfrm flipV="1">
              <a:off x="3832560" y="5735520"/>
              <a:ext cx="0" cy="389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3092760" y="4876920"/>
              <a:ext cx="521280" cy="20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9840" rIns="69840" tIns="34920" bIns="349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K GU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062240" y="6143400"/>
              <a:ext cx="510840" cy="20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9840" rIns="69840" tIns="34920" bIns="349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orpu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24520" y="5582160"/>
              <a:ext cx="401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4" name=""/>
          <p:cNvSpPr/>
          <p:nvPr/>
        </p:nvSpPr>
        <p:spPr>
          <a:xfrm>
            <a:off x="5796000" y="6297480"/>
            <a:ext cx="18162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7977240" y="4861080"/>
            <a:ext cx="706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369040" y="5460840"/>
            <a:ext cx="385560" cy="31464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6091200" y="5460840"/>
            <a:ext cx="387360" cy="31464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977160" y="4800600"/>
            <a:ext cx="385560" cy="3142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6994440" y="5443560"/>
            <a:ext cx="351000" cy="3492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843680" y="5460840"/>
            <a:ext cx="100080" cy="31464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7986600" y="5460840"/>
            <a:ext cx="459000" cy="31464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77160" y="6126120"/>
            <a:ext cx="385560" cy="9864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977160" y="6267600"/>
            <a:ext cx="385560" cy="3142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762520" y="5618160"/>
            <a:ext cx="322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338960" y="5618160"/>
            <a:ext cx="50184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384880" y="5207040"/>
            <a:ext cx="463320" cy="20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9840" rIns="69840" tIns="34920" bIns="349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QM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078600" y="5207040"/>
            <a:ext cx="533520" cy="20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9840" rIns="69840" tIns="34920" bIns="349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KQM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7540560" y="4830840"/>
            <a:ext cx="521280" cy="20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9840" rIns="69840" tIns="34920" bIns="349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K GU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7927920" y="5219640"/>
            <a:ext cx="899280" cy="20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9840" rIns="69840" tIns="34920" bIns="349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our App Her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7331760" y="5243400"/>
            <a:ext cx="44064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9840" rIns="69840" tIns="34920" bIns="349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C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g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444720" y="6291360"/>
            <a:ext cx="512280" cy="20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9840" rIns="69840" tIns="34920" bIns="349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elltal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2" name=""/>
          <p:cNvGrpSpPr/>
          <p:nvPr/>
        </p:nvGrpSpPr>
        <p:grpSpPr>
          <a:xfrm>
            <a:off x="4723560" y="5029200"/>
            <a:ext cx="516240" cy="1215000"/>
            <a:chOff x="4723560" y="5029200"/>
            <a:chExt cx="516240" cy="1215000"/>
          </a:xfrm>
        </p:grpSpPr>
        <p:grpSp>
          <p:nvGrpSpPr>
            <p:cNvPr id="333" name=""/>
            <p:cNvGrpSpPr/>
            <p:nvPr/>
          </p:nvGrpSpPr>
          <p:grpSpPr>
            <a:xfrm>
              <a:off x="4820760" y="5029200"/>
              <a:ext cx="173880" cy="1007280"/>
              <a:chOff x="4820760" y="5029200"/>
              <a:chExt cx="173880" cy="1007280"/>
            </a:xfrm>
          </p:grpSpPr>
          <p:sp>
            <p:nvSpPr>
              <p:cNvPr id="334" name=""/>
              <p:cNvSpPr/>
              <p:nvPr/>
            </p:nvSpPr>
            <p:spPr>
              <a:xfrm>
                <a:off x="4820760" y="5029200"/>
                <a:ext cx="173880" cy="1007280"/>
              </a:xfrm>
              <a:prstGeom prst="rect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4994640" y="5029200"/>
                <a:ext cx="0" cy="100728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4820760" y="5029200"/>
                <a:ext cx="0" cy="100728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4895280" y="5029200"/>
                <a:ext cx="0" cy="100728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4920120" y="5029200"/>
                <a:ext cx="0" cy="100728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9" name=""/>
            <p:cNvSpPr/>
            <p:nvPr/>
          </p:nvSpPr>
          <p:spPr>
            <a:xfrm>
              <a:off x="4723560" y="6073200"/>
              <a:ext cx="516240" cy="17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7520" rIns="47520" tIns="23760" bIns="2376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235080"/>
                  <a:tab algn="l" pos="469800"/>
                  <a:tab algn="l" pos="704880"/>
                  <a:tab algn="l" pos="939960"/>
                  <a:tab algn="l" pos="1174680"/>
                  <a:tab algn="l" pos="1409760"/>
                  <a:tab algn="l" pos="1644480"/>
                  <a:tab algn="l" pos="1879560"/>
                  <a:tab algn="l" pos="2114640"/>
                  <a:tab algn="l" pos="2349360"/>
                  <a:tab algn="l" pos="2584440"/>
                  <a:tab algn="l" pos="2819520"/>
                  <a:tab algn="l" pos="3054240"/>
                  <a:tab algn="l" pos="3289320"/>
                  <a:tab algn="l" pos="3524400"/>
                  <a:tab algn="l" pos="3759120"/>
                  <a:tab algn="l" pos="3994200"/>
                  <a:tab algn="l" pos="4229280"/>
                  <a:tab algn="l" pos="4464000"/>
                  <a:tab algn="l" pos="469908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Network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4973760" y="5618160"/>
            <a:ext cx="39528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478560" y="5618160"/>
            <a:ext cx="50184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 flipV="1">
            <a:off x="7170840" y="5798880"/>
            <a:ext cx="0" cy="32220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flipV="1">
            <a:off x="7170840" y="5119560"/>
            <a:ext cx="0" cy="322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4" name=""/>
          <p:cNvGrpSpPr/>
          <p:nvPr/>
        </p:nvGrpSpPr>
        <p:grpSpPr>
          <a:xfrm>
            <a:off x="8032680" y="6113520"/>
            <a:ext cx="314280" cy="422280"/>
            <a:chOff x="8032680" y="6113520"/>
            <a:chExt cx="314280" cy="422280"/>
          </a:xfrm>
        </p:grpSpPr>
        <p:sp>
          <p:nvSpPr>
            <p:cNvPr id="345" name=""/>
            <p:cNvSpPr/>
            <p:nvPr/>
          </p:nvSpPr>
          <p:spPr>
            <a:xfrm>
              <a:off x="8032680" y="6154200"/>
              <a:ext cx="314280" cy="31284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032680" y="6113520"/>
              <a:ext cx="314280" cy="1015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8032680" y="6435360"/>
              <a:ext cx="314280" cy="10044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8" name=""/>
          <p:cNvSpPr/>
          <p:nvPr/>
        </p:nvSpPr>
        <p:spPr>
          <a:xfrm>
            <a:off x="8453520" y="6039000"/>
            <a:ext cx="690480" cy="20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9840" rIns="69840" tIns="34920" bIns="349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372440" y="6392880"/>
            <a:ext cx="668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 flipV="1">
            <a:off x="8136000" y="5772240"/>
            <a:ext cx="0" cy="333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590920" y="4800600"/>
            <a:ext cx="385560" cy="3142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105520" y="15238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105520" y="1828800"/>
            <a:ext cx="365760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111240" indent="-11124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ack-end agen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llects metadata from back-end ag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es Telltale to manage these metadata corpo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wise similar to back-end ag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n be organized in hierarch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85800" y="1828800"/>
            <a:ext cx="365760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111240" indent="-1112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arrot Bro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racts with local IR/DB engines to access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 interference with existing application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nerates metadata, to be shared with one or more brok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etadata for a set of documents is a [compressed]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gram pro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Infomaster</a:t>
            </a: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0680" indent="-2206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nford’s Infomaster  is a system which integrates structured information sources, e.g., DBs and  KB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0680" indent="-2206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ation sources send and receive messages in KQML+KIF and describe their features and their semantic content in K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0680" indent="-2206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rently four subsystem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53680" indent="-22068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Gates Information Network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-- information about the Stanford CS department and the Gates buildin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53680" indent="-22068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tanford Information Network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-- information about Stanford University in genera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53680" indent="-22068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ternet Rental Syste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-- information about Bay Area rentals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53680" indent="-22068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ternet Exchang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-- information about used goo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0680" indent="-2206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infomaster.stanford.edu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3184560" cy="3108600"/>
          </a:xfrm>
          <a:prstGeom prst="rect">
            <a:avLst/>
          </a:prstGeom>
          <a:ln w="0">
            <a:noFill/>
          </a:ln>
        </p:spPr>
      </p:pic>
      <p:pic>
        <p:nvPicPr>
          <p:cNvPr id="358" name="" descr=""/>
          <p:cNvPicPr/>
          <p:nvPr/>
        </p:nvPicPr>
        <p:blipFill>
          <a:blip r:embed="rId2"/>
          <a:stretch/>
        </p:blipFill>
        <p:spPr>
          <a:xfrm>
            <a:off x="2819520" y="457200"/>
            <a:ext cx="4359240" cy="4329000"/>
          </a:xfrm>
          <a:prstGeom prst="rect">
            <a:avLst/>
          </a:prstGeom>
          <a:ln w="0">
            <a:noFill/>
          </a:ln>
        </p:spPr>
      </p:pic>
      <p:pic>
        <p:nvPicPr>
          <p:cNvPr id="359" name="" descr=""/>
          <p:cNvPicPr/>
          <p:nvPr/>
        </p:nvPicPr>
        <p:blipFill>
          <a:blip r:embed="rId3"/>
          <a:stretch/>
        </p:blipFill>
        <p:spPr>
          <a:xfrm>
            <a:off x="1219320" y="2263680"/>
            <a:ext cx="4533840" cy="4594320"/>
          </a:xfrm>
          <a:prstGeom prst="rect">
            <a:avLst/>
          </a:prstGeom>
          <a:ln w="0">
            <a:noFill/>
          </a:ln>
        </p:spPr>
      </p:pic>
      <p:pic>
        <p:nvPicPr>
          <p:cNvPr id="360" name="" descr=""/>
          <p:cNvPicPr/>
          <p:nvPr/>
        </p:nvPicPr>
        <p:blipFill>
          <a:blip r:embed="rId4"/>
          <a:stretch/>
        </p:blipFill>
        <p:spPr>
          <a:xfrm>
            <a:off x="6095880" y="152280"/>
            <a:ext cx="2954520" cy="648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Examples of Applications using ACLs</a:t>
            </a:r>
            <a:endParaRPr b="1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762120" y="14475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 have been a number of large R&amp;D applications which used ACLs in an integral w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61880" indent="-231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arro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distributed information retriev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61880" indent="-231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IIMPLE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 Manufacturing planning and schedu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61880" indent="-231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imsa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 Advising on government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61880" indent="-231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nisys NLA -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ech system toolki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61880" indent="-231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MDL -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iv. of Michigan Digital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61880" indent="-231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fomaster -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ormation integ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Kimsac</a:t>
            </a:r>
            <a:endParaRPr b="1" lang="en-US" sz="5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5360" indent="-2253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IMSAC - Kiosk-based Integrated Multimedia Service Access for Citiz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PRIT project involving a set of European companies, university groups, and government agen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sonal Service Assistant (PSA) operates on behalf of a user in an analogous manner to a human personal secretary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QML used to coordinate the different compone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3" name="k-logo3" descr=""/>
          <p:cNvPicPr/>
          <p:nvPr/>
        </p:nvPicPr>
        <p:blipFill>
          <a:blip r:embed="rId1"/>
          <a:stretch/>
        </p:blipFill>
        <p:spPr>
          <a:xfrm>
            <a:off x="3505320" y="457200"/>
            <a:ext cx="5219640" cy="10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nlhome" descr=""/>
          <p:cNvPicPr/>
          <p:nvPr/>
        </p:nvPicPr>
        <p:blipFill>
          <a:blip r:embed="rId1"/>
          <a:stretch/>
        </p:blipFill>
        <p:spPr>
          <a:xfrm>
            <a:off x="3657600" y="304920"/>
            <a:ext cx="5342040" cy="18558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Unisys Natural 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Language Assistant</a:t>
            </a:r>
            <a:endParaRPr b="1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05740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5360" indent="-225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suite of development tools and runtime components designed to support the creation and execution of spoken language, self-help applications using speech recogni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es conceptual use of an ACL based on KQ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L Mortgage Assista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one application built with this toolkit whic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200" indent="-2253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real time mortgage payment quotation syste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200" indent="-2253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ows telephone callers to talk through a mortgage quote, providing a conversational dialog with the caller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UMDL</a:t>
            </a:r>
            <a:endParaRPr b="1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25360" indent="-2253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DL uses an agent architecture that supports the teaming of agents to provide complex services by combining limited individual capabilit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DL agents speak a dialect of KQM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ree classes of agents are us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200" indent="-2253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 Interface Agents (UIAs) accept queries and add them to user profi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200" indent="-2253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diators apply user profile to plan and forward to Collection Interface Agents (CI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200" indent="-2253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As provide interface functions to search eng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ttp://www.si.umich.edu/UMDL/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umdl" descr=""/>
          <p:cNvPicPr/>
          <p:nvPr/>
        </p:nvPicPr>
        <p:blipFill>
          <a:blip r:embed="rId1"/>
          <a:stretch/>
        </p:blipFill>
        <p:spPr>
          <a:xfrm>
            <a:off x="3581280" y="304920"/>
            <a:ext cx="5048280" cy="1190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UMDL</a:t>
            </a: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-360" y="1294920"/>
            <a:ext cx="43434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040" indent="-1760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MDL treats alternative information services as competing economic activiti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-1760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s interact in supplier-producer relationship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-1760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s dynamically connect with each other as opportunities ari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191120" y="1379520"/>
            <a:ext cx="4716360" cy="20494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228600" y="4495680"/>
            <a:ext cx="8610480" cy="205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1240" indent="-11124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collections, represented by 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collection interface agent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provide ``raw materials'' in this proces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brary end users, represented by 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user interface agent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re the consumers of the ``finished goods''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Mediator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agent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ridge the gap by bringing to bear knowledge, processing, storage, or other computational resources to improve the expected value of the inform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Ontologies in UMDL</a:t>
            </a: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1148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1240" indent="-1112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UMDL ontology for bibliographic relations defines a fairly elaborate structure of precisely defined concept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ers can explore the CD holdings via a Java applet which accesses an ontology knowledge base describing the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191120" y="1676520"/>
            <a:ext cx="4800600" cy="4248000"/>
          </a:xfrm>
          <a:prstGeom prst="rect">
            <a:avLst/>
          </a:prstGeom>
          <a:ln w="0">
            <a:noFill/>
          </a:ln>
        </p:spPr>
      </p:pic>
      <p:pic>
        <p:nvPicPr>
          <p:cNvPr id="59" name="work_family" descr=""/>
          <p:cNvPicPr/>
          <p:nvPr/>
        </p:nvPicPr>
        <p:blipFill>
          <a:blip r:embed="rId2"/>
          <a:stretch/>
        </p:blipFill>
        <p:spPr>
          <a:xfrm>
            <a:off x="533520" y="3581280"/>
            <a:ext cx="3200400" cy="314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609480" y="1981080"/>
            <a:ext cx="487692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115920" indent="-115920">
              <a:spcBef>
                <a:spcPts val="451"/>
              </a:spcBef>
              <a:buClr>
                <a:srgbClr val="00cc99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under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National Institute of Standards and Technology / Advanced Technology Progra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47760" indent="-11592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chnologies for the Integration of Manufacturing Applications (TIM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47760" indent="-11592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~ $45M over six years in two ATP proj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spcBef>
                <a:spcPts val="45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Goal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Plug and Play framework of business objectives and integration-enabling tools allowing a suite of solutions that can be implemented “out-of-the-box” at small and midsized manufacturing and process sites including MES, ERP, Finite Scheduling, and Capacity Analysis/Decision Sup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spcBef>
                <a:spcPts val="45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bjectives: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operability, configurability, adaptability, extensibility, plug and play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257800" y="1676520"/>
            <a:ext cx="3429000" cy="5029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111240" indent="-11124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articipa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BM Corp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iversit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1177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iversity of Maryland Baltimore County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1177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iversity of North Carolina at Charlott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1177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iversity of Florida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erclain USA Ltd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oe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QAD Inc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SE System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ucent Techn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gersoll-Rand C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1177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mand Solution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1177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LoG Remex Inc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rc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visionIt Soft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Haley Corpo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62320" cy="204624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61960" y="380880"/>
            <a:ext cx="2971800" cy="11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IIMPLEX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EECOMS</a:t>
            </a: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73560" y="343080"/>
            <a:ext cx="3213360" cy="5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nsortium for Integrated Intellig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nufacturing Planning and Execu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181480" y="1028880"/>
            <a:ext cx="3657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xtended Enterprise Coalition for Integra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llaborative Manufacturing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7720" y="342720"/>
            <a:ext cx="8001000" cy="11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Manufacturing Enterprise Integration</a:t>
            </a:r>
            <a:endParaRPr b="1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120" y="17524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2840" indent="-222840">
              <a:lnSpc>
                <a:spcPct val="90000"/>
              </a:lnSpc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planning and execution is imperative for agile manufactu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59440" indent="-222840">
              <a:lnSpc>
                <a:spcPct val="90000"/>
              </a:lnSpc>
              <a:spcBef>
                <a:spcPts val="2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rts delivery is delayed by the part suppli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59440" indent="-222840">
              <a:lnSpc>
                <a:spcPct val="90000"/>
              </a:lnSpc>
              <a:spcBef>
                <a:spcPts val="2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 preferred customer asks to move ahead a deliv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59440" indent="-222840">
              <a:lnSpc>
                <a:spcPct val="90000"/>
              </a:lnSpc>
              <a:spcBef>
                <a:spcPts val="2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chine breaks down on shop flo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-22284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s involves collaboration among business applications and manag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-22284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siness applications are legacy system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59440" indent="-222840">
              <a:lnSpc>
                <a:spcPct val="90000"/>
              </a:lnSpc>
              <a:spcBef>
                <a:spcPts val="2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t intended to talk to each other (no API, no means of communica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59440" indent="-222840">
              <a:lnSpc>
                <a:spcPct val="90000"/>
              </a:lnSpc>
              <a:spcBef>
                <a:spcPts val="2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veloped over long period of time (expensive to chang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59440" indent="-222840">
              <a:lnSpc>
                <a:spcPct val="90000"/>
              </a:lnSpc>
              <a:spcBef>
                <a:spcPts val="2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ny decision steps are not covered (white space between application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-22284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agent system (MAS) approa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59440" indent="-222840">
              <a:lnSpc>
                <a:spcPct val="90000"/>
              </a:lnSpc>
              <a:spcBef>
                <a:spcPts val="2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lexible and dynamic communication among 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59440" indent="-222840">
              <a:lnSpc>
                <a:spcPct val="90000"/>
              </a:lnSpc>
              <a:spcBef>
                <a:spcPts val="2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ug-and-pl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59440" indent="-222840">
              <a:lnSpc>
                <a:spcPct val="90000"/>
              </a:lnSpc>
              <a:spcBef>
                <a:spcPts val="2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face agents to interact with peop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59440" indent="-222840">
              <a:lnSpc>
                <a:spcPct val="90000"/>
              </a:lnSpc>
              <a:spcBef>
                <a:spcPts val="2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agents to fill the white space between business 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CIIMPLEX Architecture</a:t>
            </a: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638280" y="1676520"/>
            <a:ext cx="8070840" cy="4404960"/>
            <a:chOff x="638280" y="1676520"/>
            <a:chExt cx="8070840" cy="4404960"/>
          </a:xfrm>
        </p:grpSpPr>
        <p:sp>
          <p:nvSpPr>
            <p:cNvPr id="70" name=""/>
            <p:cNvSpPr/>
            <p:nvPr/>
          </p:nvSpPr>
          <p:spPr>
            <a:xfrm>
              <a:off x="993960" y="1860480"/>
              <a:ext cx="978120" cy="309600"/>
            </a:xfrm>
            <a:prstGeom prst="rect">
              <a:avLst/>
            </a:prstGeom>
            <a:solidFill>
              <a:srgbClr val="99cc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2736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M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238480" y="1860480"/>
              <a:ext cx="978120" cy="309600"/>
            </a:xfrm>
            <a:prstGeom prst="rect">
              <a:avLst/>
            </a:prstGeom>
            <a:solidFill>
              <a:srgbClr val="99cc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2736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ER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83360" y="1859040"/>
              <a:ext cx="1333440" cy="307800"/>
            </a:xfrm>
            <a:prstGeom prst="rect">
              <a:avLst/>
            </a:prstGeom>
            <a:solidFill>
              <a:srgbClr val="99cc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chedul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328080" y="1676520"/>
              <a:ext cx="1333440" cy="490320"/>
            </a:xfrm>
            <a:prstGeom prst="rect">
              <a:avLst/>
            </a:prstGeom>
            <a:solidFill>
              <a:srgbClr val="99cc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2736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ustom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Respons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083560" y="1860480"/>
              <a:ext cx="977760" cy="309600"/>
            </a:xfrm>
            <a:prstGeom prst="rect">
              <a:avLst/>
            </a:prstGeom>
            <a:solidFill>
              <a:srgbClr val="99cc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2736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438560" y="2170080"/>
              <a:ext cx="0" cy="370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772000" y="2170080"/>
              <a:ext cx="0" cy="370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194360" y="2170080"/>
              <a:ext cx="0" cy="370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616720" y="2170080"/>
              <a:ext cx="0" cy="370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7039080" y="2170080"/>
              <a:ext cx="0" cy="370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660840" y="3278160"/>
              <a:ext cx="1067040" cy="49392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Gatewa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g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194360" y="3773520"/>
              <a:ext cx="0" cy="369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27200" y="2540160"/>
              <a:ext cx="737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27200" y="2602080"/>
              <a:ext cx="737892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MQ Seri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27200" y="2908440"/>
              <a:ext cx="737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27200" y="4143240"/>
              <a:ext cx="737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8280" y="4203720"/>
              <a:ext cx="73789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CIIMPLEX Agent Communication Infrastruct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27200" y="4513320"/>
              <a:ext cx="737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194360" y="2908440"/>
              <a:ext cx="0" cy="369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27200" y="4894200"/>
              <a:ext cx="711360" cy="370080"/>
            </a:xfrm>
            <a:prstGeom prst="rect">
              <a:avLst/>
            </a:prstGeom>
            <a:solidFill>
              <a:srgbClr val="ff7c80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N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082880" y="4524480"/>
              <a:ext cx="0" cy="369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616400" y="4894200"/>
              <a:ext cx="711000" cy="370080"/>
            </a:xfrm>
            <a:prstGeom prst="rect">
              <a:avLst/>
            </a:prstGeom>
            <a:solidFill>
              <a:srgbClr val="ff7c80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838680" y="4894200"/>
              <a:ext cx="1067040" cy="617760"/>
            </a:xfrm>
            <a:prstGeom prst="rect">
              <a:avLst/>
            </a:prstGeom>
            <a:solidFill>
              <a:srgbClr val="ff7c80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at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min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g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505240" y="4894200"/>
              <a:ext cx="1067040" cy="493920"/>
            </a:xfrm>
            <a:prstGeom prst="rect">
              <a:avLst/>
            </a:prstGeom>
            <a:solidFill>
              <a:srgbClr val="ff7c80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Monitor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g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172480" y="4894200"/>
              <a:ext cx="1066680" cy="617760"/>
            </a:xfrm>
            <a:prstGeom prst="rect">
              <a:avLst/>
            </a:prstGeom>
            <a:solidFill>
              <a:srgbClr val="ff7c80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2736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IIMPLE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nalysi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g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594840" y="4894200"/>
              <a:ext cx="1244520" cy="617760"/>
            </a:xfrm>
            <a:prstGeom prst="rect">
              <a:avLst/>
            </a:prstGeom>
            <a:solidFill>
              <a:srgbClr val="ff7c80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cenar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oordin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g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216920" y="4524480"/>
              <a:ext cx="0" cy="369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705640" y="4524480"/>
              <a:ext cx="0" cy="369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949840" y="4524480"/>
              <a:ext cx="0" cy="369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372200" y="4524480"/>
              <a:ext cx="0" cy="369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883160" y="4524480"/>
              <a:ext cx="0" cy="369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1" name=""/>
            <p:cNvGrpSpPr/>
            <p:nvPr/>
          </p:nvGrpSpPr>
          <p:grpSpPr>
            <a:xfrm>
              <a:off x="8029800" y="5189400"/>
              <a:ext cx="679320" cy="892080"/>
              <a:chOff x="8029800" y="5189400"/>
              <a:chExt cx="679320" cy="892080"/>
            </a:xfrm>
          </p:grpSpPr>
          <p:sp>
            <p:nvSpPr>
              <p:cNvPr id="102" name=""/>
              <p:cNvSpPr/>
              <p:nvPr/>
            </p:nvSpPr>
            <p:spPr>
              <a:xfrm>
                <a:off x="8029800" y="5189400"/>
                <a:ext cx="679320" cy="892080"/>
              </a:xfrm>
              <a:prstGeom prst="rect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5440" rIns="55440" tIns="27000" bIns="27000" anchor="ctr">
                <a:noAutofit/>
              </a:bodyPr>
              <a:p>
                <a:pPr algn="ctr">
                  <a:tabLst>
                    <a:tab algn="l" pos="0"/>
                    <a:tab algn="l" pos="330120"/>
                    <a:tab algn="l" pos="660240"/>
                    <a:tab algn="l" pos="990720"/>
                    <a:tab algn="l" pos="1320840"/>
                    <a:tab algn="l" pos="1650960"/>
                    <a:tab algn="l" pos="1981080"/>
                    <a:tab algn="l" pos="2311560"/>
                    <a:tab algn="l" pos="2641680"/>
                    <a:tab algn="l" pos="2971800"/>
                    <a:tab algn="l" pos="3301920"/>
                    <a:tab algn="l" pos="3632040"/>
                    <a:tab algn="l" pos="3962520"/>
                    <a:tab algn="l" pos="4292640"/>
                    <a:tab algn="l" pos="4622760"/>
                    <a:tab algn="l" pos="4952880"/>
                    <a:tab algn="l" pos="5283360"/>
                    <a:tab algn="l" pos="5613480"/>
                    <a:tab algn="l" pos="5943600"/>
                    <a:tab algn="l" pos="6273720"/>
                    <a:tab algn="l" pos="66038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8056800" y="5352840"/>
                <a:ext cx="625320" cy="7016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8104680" y="5341680"/>
                <a:ext cx="587160" cy="72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5440" rIns="55440" tIns="27000" bIns="27000" anchor="t">
                <a:spAutoFit/>
              </a:bodyPr>
              <a:p>
                <a:pPr algn="ctr">
                  <a:tabLst>
                    <a:tab algn="l" pos="0"/>
                    <a:tab algn="l" pos="330120"/>
                    <a:tab algn="l" pos="660240"/>
                    <a:tab algn="l" pos="990720"/>
                    <a:tab algn="l" pos="1320840"/>
                    <a:tab algn="l" pos="1650960"/>
                    <a:tab algn="l" pos="1981080"/>
                    <a:tab algn="l" pos="2311560"/>
                    <a:tab algn="l" pos="2641680"/>
                    <a:tab algn="l" pos="2971800"/>
                    <a:tab algn="l" pos="3301920"/>
                    <a:tab algn="l" pos="3632040"/>
                    <a:tab algn="l" pos="3962520"/>
                    <a:tab algn="l" pos="4292640"/>
                    <a:tab algn="l" pos="4622760"/>
                    <a:tab algn="l" pos="4952880"/>
                    <a:tab algn="l" pos="5283360"/>
                    <a:tab algn="l" pos="5613480"/>
                    <a:tab algn="l" pos="5943600"/>
                    <a:tab algn="l" pos="6273720"/>
                    <a:tab algn="l" pos="660384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Java-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330120"/>
                    <a:tab algn="l" pos="660240"/>
                    <a:tab algn="l" pos="990720"/>
                    <a:tab algn="l" pos="1320840"/>
                    <a:tab algn="l" pos="1650960"/>
                    <a:tab algn="l" pos="1981080"/>
                    <a:tab algn="l" pos="2311560"/>
                    <a:tab algn="l" pos="2641680"/>
                    <a:tab algn="l" pos="2971800"/>
                    <a:tab algn="l" pos="3301920"/>
                    <a:tab algn="l" pos="3632040"/>
                    <a:tab algn="l" pos="3962520"/>
                    <a:tab algn="l" pos="4292640"/>
                    <a:tab algn="l" pos="4622760"/>
                    <a:tab algn="l" pos="4952880"/>
                    <a:tab algn="l" pos="5283360"/>
                    <a:tab algn="l" pos="5613480"/>
                    <a:tab algn="l" pos="5943600"/>
                    <a:tab algn="l" pos="6273720"/>
                    <a:tab algn="l" pos="660384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Enabled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330120"/>
                    <a:tab algn="l" pos="660240"/>
                    <a:tab algn="l" pos="990720"/>
                    <a:tab algn="l" pos="1320840"/>
                    <a:tab algn="l" pos="1650960"/>
                    <a:tab algn="l" pos="1981080"/>
                    <a:tab algn="l" pos="2311560"/>
                    <a:tab algn="l" pos="2641680"/>
                    <a:tab algn="l" pos="2971800"/>
                    <a:tab algn="l" pos="3301920"/>
                    <a:tab algn="l" pos="3632040"/>
                    <a:tab algn="l" pos="3962520"/>
                    <a:tab algn="l" pos="4292640"/>
                    <a:tab algn="l" pos="4622760"/>
                    <a:tab algn="l" pos="4952880"/>
                    <a:tab algn="l" pos="5283360"/>
                    <a:tab algn="l" pos="5613480"/>
                    <a:tab algn="l" pos="5943600"/>
                    <a:tab algn="l" pos="6273720"/>
                    <a:tab algn="l" pos="660384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Web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330120"/>
                    <a:tab algn="l" pos="660240"/>
                    <a:tab algn="l" pos="990720"/>
                    <a:tab algn="l" pos="1320840"/>
                    <a:tab algn="l" pos="1650960"/>
                    <a:tab algn="l" pos="1981080"/>
                    <a:tab algn="l" pos="2311560"/>
                    <a:tab algn="l" pos="2641680"/>
                    <a:tab algn="l" pos="2971800"/>
                    <a:tab algn="l" pos="3301920"/>
                    <a:tab algn="l" pos="3632040"/>
                    <a:tab algn="l" pos="3962520"/>
                    <a:tab algn="l" pos="4292640"/>
                    <a:tab algn="l" pos="4622760"/>
                    <a:tab algn="l" pos="4952880"/>
                    <a:tab algn="l" pos="5283360"/>
                    <a:tab algn="l" pos="5613480"/>
                    <a:tab algn="l" pos="5943600"/>
                    <a:tab algn="l" pos="6273720"/>
                    <a:tab algn="l" pos="660384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Browser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8030160" y="5189400"/>
                <a:ext cx="529200" cy="19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5440" rIns="55440" tIns="27000" bIns="27000" anchor="t">
                <a:spAutoFit/>
              </a:bodyPr>
              <a:p>
                <a:pPr>
                  <a:tabLst>
                    <a:tab algn="l" pos="0"/>
                    <a:tab algn="l" pos="330120"/>
                    <a:tab algn="l" pos="660240"/>
                    <a:tab algn="l" pos="990720"/>
                    <a:tab algn="l" pos="1320840"/>
                    <a:tab algn="l" pos="1650960"/>
                    <a:tab algn="l" pos="1981080"/>
                    <a:tab algn="l" pos="2311560"/>
                    <a:tab algn="l" pos="2641680"/>
                    <a:tab algn="l" pos="2971800"/>
                    <a:tab algn="l" pos="3301920"/>
                    <a:tab algn="l" pos="3632040"/>
                    <a:tab algn="l" pos="3962520"/>
                    <a:tab algn="l" pos="4292640"/>
                    <a:tab algn="l" pos="4622760"/>
                    <a:tab algn="l" pos="4952880"/>
                    <a:tab algn="l" pos="5283360"/>
                    <a:tab algn="l" pos="5613480"/>
                    <a:tab algn="l" pos="5943600"/>
                    <a:tab algn="l" pos="6273720"/>
                    <a:tab algn="l" pos="660384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Netscap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6" name=""/>
            <p:cNvSpPr/>
            <p:nvPr/>
          </p:nvSpPr>
          <p:spPr>
            <a:xfrm>
              <a:off x="7648920" y="5418000"/>
              <a:ext cx="546120" cy="304920"/>
            </a:xfrm>
            <a:custGeom>
              <a:avLst/>
              <a:gdLst/>
              <a:ahLst/>
              <a:rect l="l" t="t" r="r" b="b"/>
              <a:pathLst>
                <a:path w="344" h="192">
                  <a:moveTo>
                    <a:pt x="0" y="0"/>
                  </a:moveTo>
                  <a:cubicBezTo>
                    <a:pt x="116" y="56"/>
                    <a:pt x="232" y="112"/>
                    <a:pt x="288" y="144"/>
                  </a:cubicBezTo>
                  <a:cubicBezTo>
                    <a:pt x="344" y="176"/>
                    <a:pt x="336" y="192"/>
                    <a:pt x="336" y="192"/>
                  </a:cubicBezTo>
                  <a:cubicBezTo>
                    <a:pt x="336" y="192"/>
                    <a:pt x="312" y="168"/>
                    <a:pt x="288" y="144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30T18:28:10Z</dcterms:created>
  <dc:creator> </dc:creator>
  <dc:description/>
  <dc:language>en-US</dc:language>
  <cp:lastModifiedBy>Yannis Labrou</cp:lastModifiedBy>
  <cp:lastPrinted>1999-06-10T17:20:13Z</cp:lastPrinted>
  <dcterms:modified xsi:type="dcterms:W3CDTF">2000-03-19T22:22:32Z</dcterms:modified>
  <cp:revision>7</cp:revision>
  <dc:subject/>
  <dc:title>No Slide Title</dc:title>
</cp:coreProperties>
</file>