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2BB-4CF5-4E4F-A2D8-2B8FEB38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BE8-91B7-4F2E-9E41-87BCB8A0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: Developed initially to support AR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t preexist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6C95-230B-4730-A1B9-84291A46D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0AB7-C6C3-4B4C-99D6-B81737EBA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C2D4-C891-4C9B-A504-48EC8307E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18A0-FBFE-4859-BD52-73FFC2504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A57C-9128-43BF-B7C4-72BE85B74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4734-E764-4B08-9CF9-D3CAB66D9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1203-29DD-48CE-9D55-338008AC0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AC26-351A-4EDF-97E0-539225456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4419-61B3-4486-AE6B-A02B17419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A137-EC96-44A5-AE03-8005572E2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0C94-1DFB-4242-9CD2-F1565B90D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FDE-220C-4DCF-B23D-134883AF1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10B-CE2D-4653-B45A-0FC94F870B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Times New Roman"/>
              </a:rPr>
              <a:t>APIs and</a:t>
            </a:r>
            <a:br>
              <a:rPr sz="14200"/>
            </a:br>
            <a:r>
              <a:rPr b="1" lang="en-US" sz="142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1" lang="en-US" sz="1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ATlit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Lite (Java Agent Template, Lite), from Stanford,  is a package of Java programs that allow users to quickly create agents that communicate robustly over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Lite  agents register with an Agent Message Router facilitator (A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extend the JATLi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delivery takes place through the A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R allows for agents to be run as applets launched from a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java.stanford.edu/java_agent/htm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atliteftp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37846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AFMA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-based Agent Framework for Multi-Agent Systems (JAFMAS), from U of Cincinnati, is a set of classes to support implementing communicating  agents 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FMAS supports communication and conver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extends JAFMA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upport is provided for both directed communication and subject-based broadcas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the AARIA project, a DoD sponsored manufacturing planning and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cs.uc.edu/~abaker/JAFMA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ariaLogoSml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187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kheed/UMBC KQML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Software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14800" y="1447560"/>
            <a:ext cx="474192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 fontScale="95000"/>
          </a:bodyPr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 independent message rou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per  agent - handles  sending and  asynchronous receiving of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 Representation Interface Libr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I makes application look like a 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 na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ger, Controller, Visualize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ker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xy agent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4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tor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2960" y="4041720"/>
            <a:ext cx="679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5280" y="2133720"/>
            <a:ext cx="3696120" cy="3568680"/>
            <a:chOff x="305280" y="2133720"/>
            <a:chExt cx="3696120" cy="3568680"/>
          </a:xfrm>
        </p:grpSpPr>
        <p:sp>
          <p:nvSpPr>
            <p:cNvPr id="79" name=""/>
            <p:cNvSpPr/>
            <p:nvPr/>
          </p:nvSpPr>
          <p:spPr>
            <a:xfrm flipH="1">
              <a:off x="3001320" y="3471840"/>
              <a:ext cx="999720" cy="1244520"/>
            </a:xfrm>
            <a:prstGeom prst="cube">
              <a:avLst>
                <a:gd name="adj" fmla="val 24995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47720" y="4330800"/>
              <a:ext cx="54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82120" y="3741840"/>
              <a:ext cx="215640" cy="699840"/>
            </a:xfrm>
            <a:prstGeom prst="cube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05280" y="3092400"/>
              <a:ext cx="740160" cy="2494800"/>
              <a:chOff x="305280" y="3092400"/>
              <a:chExt cx="740160" cy="24948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511200" y="3092400"/>
                <a:ext cx="369360" cy="2146320"/>
                <a:chOff x="511200" y="3092400"/>
                <a:chExt cx="369360" cy="21463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11200" y="3092400"/>
                  <a:ext cx="369360" cy="21463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80560" y="3092400"/>
                  <a:ext cx="0" cy="214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11200" y="3092400"/>
                  <a:ext cx="0" cy="214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71040" y="3092400"/>
                  <a:ext cx="0" cy="214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23600" y="3092400"/>
                  <a:ext cx="0" cy="214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305280" y="5345280"/>
                <a:ext cx="74016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31680" bIns="316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17600"/>
                    <a:tab algn="l" pos="835200"/>
                    <a:tab algn="l" pos="1252440"/>
                    <a:tab algn="l" pos="1670040"/>
                    <a:tab algn="l" pos="2087640"/>
                    <a:tab algn="l" pos="2505240"/>
                    <a:tab algn="l" pos="2922480"/>
                    <a:tab algn="l" pos="3340080"/>
                    <a:tab algn="l" pos="3757680"/>
                    <a:tab algn="l" pos="4175280"/>
                    <a:tab algn="l" pos="4592520"/>
                    <a:tab algn="l" pos="5010120"/>
                    <a:tab algn="l" pos="5427720"/>
                    <a:tab algn="l" pos="5845320"/>
                    <a:tab algn="l" pos="6262560"/>
                    <a:tab algn="l" pos="6680160"/>
                    <a:tab algn="l" pos="7097760"/>
                    <a:tab algn="l" pos="7515360"/>
                    <a:tab algn="l" pos="7932600"/>
                    <a:tab algn="l" pos="83502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1803240" y="3741840"/>
              <a:ext cx="210960" cy="699840"/>
            </a:xfrm>
            <a:prstGeom prst="cube">
              <a:avLst>
                <a:gd name="adj" fmla="val 49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19240" y="4122720"/>
              <a:ext cx="423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7920" y="41068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73280" y="2438280"/>
              <a:ext cx="7110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4160" y="2743200"/>
              <a:ext cx="326520" cy="10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88560" y="5132520"/>
              <a:ext cx="8071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206440" y="4191120"/>
              <a:ext cx="0" cy="9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17560" y="42609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17560" y="398628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17560" y="405612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7560" y="419112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754360" y="323388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4600" y="2733840"/>
              <a:ext cx="886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7720" y="3781440"/>
              <a:ext cx="61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5000" y="4768920"/>
              <a:ext cx="668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369440" y="4111560"/>
              <a:ext cx="12600" cy="60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87480" y="2743200"/>
              <a:ext cx="865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31720"/>
                  <a:tab algn="l" pos="1063800"/>
                  <a:tab algn="l" pos="1595520"/>
                  <a:tab algn="l" pos="2127240"/>
                  <a:tab algn="l" pos="2658960"/>
                  <a:tab algn="l" pos="3191040"/>
                  <a:tab algn="l" pos="3722760"/>
                  <a:tab algn="l" pos="4254480"/>
                  <a:tab algn="l" pos="4786200"/>
                  <a:tab algn="l" pos="5318280"/>
                  <a:tab algn="l" pos="5850000"/>
                  <a:tab algn="l" pos="6381720"/>
                  <a:tab algn="l" pos="6913440"/>
                  <a:tab algn="l" pos="7445520"/>
                  <a:tab algn="l" pos="7977240"/>
                  <a:tab algn="l" pos="8508960"/>
                  <a:tab algn="l" pos="9040680"/>
                  <a:tab algn="l" pos="9572760"/>
                  <a:tab algn="l" pos="10104480"/>
                  <a:tab algn="l" pos="106362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87520" y="3048120"/>
              <a:ext cx="3376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3640" y="2133720"/>
              <a:ext cx="7110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0840" y="2411280"/>
              <a:ext cx="456840" cy="12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411120"/>
            <a:ext cx="51818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Jackal 3.0</a:t>
            </a:r>
            <a:endParaRPr b="1" lang="en-US" sz="8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63320"/>
            <a:ext cx="8076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al is a Java package which allows applications written in Java to communicate via KQ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eatures of Jack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using KQ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-in support for 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gents in one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ransport protocols (tcp/ip, http or sm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ation policies based on KQM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s the user with a blackboard-style interface to the message flow, for maximum flexi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ing and non-blocking message-waiting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 agent naming sch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0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-in support for basic services, including ANS and “control ag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jm2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2266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sation Templat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280" y="2311560"/>
            <a:ext cx="684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nversation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vers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kqml-ask-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uthor "R. Scott Cost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ate "3/4/98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art-state STA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ccepting-states ST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ask-one) (from START) (to Asked) (match "(ask-one)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tell)    (from Asked) (to STOP)  (match "(tell)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deny)    (from Asked) (to STOP)  (match "(deny)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untell)  (from Asked) (to STOP)  (match "(untell)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sorry)   (from Asked) (to STOP)  (match "(sorry)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c (label error)   (from Asked) (to STOP)  (match "(error)"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600200"/>
            <a:ext cx="4495680" cy="2819520"/>
          </a:xfrm>
          <a:prstGeom prst="rect">
            <a:avLst/>
          </a:prstGeom>
          <a:solidFill>
            <a:srgbClr val="e1e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394000"/>
            <a:ext cx="763560" cy="760320"/>
          </a:xfrm>
          <a:prstGeom prst="ellipse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6440" y="2394000"/>
            <a:ext cx="760680" cy="7603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40680" y="2239920"/>
            <a:ext cx="1065240" cy="1068480"/>
          </a:xfrm>
          <a:prstGeom prst="ellipse">
            <a:avLst/>
          </a:prstGeom>
          <a:solidFill>
            <a:srgbClr val="ff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2394000"/>
            <a:ext cx="763560" cy="760320"/>
          </a:xfrm>
          <a:prstGeom prst="ellipse">
            <a:avLst/>
          </a:prstGeom>
          <a:solidFill>
            <a:srgbClr val="ff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6" idx="6"/>
            <a:endCxn id="117" idx="2"/>
          </p:cNvCxnSpPr>
          <p:nvPr/>
        </p:nvCxnSpPr>
        <p:spPr>
          <a:xfrm>
            <a:off x="4802040" y="2774520"/>
            <a:ext cx="915120" cy="108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8" idx="2"/>
          </p:cNvCxnSpPr>
          <p:nvPr/>
        </p:nvCxnSpPr>
        <p:spPr>
          <a:xfrm>
            <a:off x="6476760" y="2774520"/>
            <a:ext cx="764280" cy="108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7" idx="6"/>
            <a:endCxn id="118" idx="1"/>
          </p:cNvCxnSpPr>
          <p:nvPr/>
        </p:nvCxnSpPr>
        <p:spPr>
          <a:xfrm flipV="1">
            <a:off x="6477120" y="2395080"/>
            <a:ext cx="918000" cy="380160"/>
          </a:xfrm>
          <a:prstGeom prst="curvedConnector5">
            <a:avLst>
              <a:gd name="adj1" fmla="val 2040"/>
              <a:gd name="adj2" fmla="val 80663"/>
              <a:gd name="adj3" fmla="val 204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6"/>
            <a:endCxn id="118" idx="3"/>
          </p:cNvCxnSpPr>
          <p:nvPr/>
        </p:nvCxnSpPr>
        <p:spPr>
          <a:xfrm>
            <a:off x="6477120" y="2774880"/>
            <a:ext cx="918000" cy="378720"/>
          </a:xfrm>
          <a:prstGeom prst="curvedConnector5">
            <a:avLst>
              <a:gd name="adj1" fmla="val 2040"/>
              <a:gd name="adj2" fmla="val 88201"/>
              <a:gd name="adj3" fmla="val 204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7" idx="6"/>
            <a:endCxn id="118" idx="0"/>
          </p:cNvCxnSpPr>
          <p:nvPr/>
        </p:nvCxnSpPr>
        <p:spPr>
          <a:xfrm flipV="1">
            <a:off x="6477120" y="2239560"/>
            <a:ext cx="1296000" cy="535680"/>
          </a:xfrm>
          <a:prstGeom prst="curvedConnector5">
            <a:avLst>
              <a:gd name="adj1" fmla="val 1444"/>
              <a:gd name="adj2" fmla="val 107128"/>
              <a:gd name="adj3" fmla="val 1444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6"/>
            <a:endCxn id="118" idx="4"/>
          </p:cNvCxnSpPr>
          <p:nvPr/>
        </p:nvCxnSpPr>
        <p:spPr>
          <a:xfrm>
            <a:off x="6477120" y="2774880"/>
            <a:ext cx="1296000" cy="534240"/>
          </a:xfrm>
          <a:prstGeom prst="curvedConnector5">
            <a:avLst>
              <a:gd name="adj1" fmla="val 1444"/>
              <a:gd name="adj2" fmla="val 105327"/>
              <a:gd name="adj3" fmla="val 1444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043160" y="26607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03560" y="26035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88360" y="2627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75400" y="24829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sk-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62320" y="16002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7040" y="217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unte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1760" y="24829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e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5800" y="3078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7600" y="3549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r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ing Colored Petri Net Specification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ed Petri Nets                                 (CPNs) offer a well defined                         and expressive formal model                        for specifying agent conver-                    sations and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 equivalent to                            regular Petri n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modeling of                     concurrency and resource sh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used and supported by a large body of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enough for general use and practical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 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jdfa_cpn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876560" cy="2801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07240" y="4038480"/>
            <a:ext cx="44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PN for KQML Register Conver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perties of CPN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952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PN formalism has a formal, mathematical representation with a well-defined syntax and semant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N models can be made with or without explicit reference to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med CPN models are used to validate the functional/logical correctness of a system, w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d CPN models are used to evaluate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-nets can be simulated interactively or automat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-nets also offers more formal verification methods, known as state space analysis and invariant analysis. In this way it is possible to prove certain behavioral proper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KQM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mework and API for constructing Java-based, KQML-speaking softwar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(s):  AIX, Windows 95/NT, Solaris 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the following three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P (KQML transfer protocol): a socket-based transport protocol for a KQML message represented in ASCI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 (agent transfer protocol): a protocol for KQML messages transferred by a mobile agent that is implemented by Agl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P (object transfer protocol): a transfer protocol for Java objects that are contained in a KQML mess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1996 proposal for a new KQML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lphaworks.ibm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QML-lit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ort supported by the DARPA COAB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standardize on a small core of an ACL that will satisfy the needs of participants in the DARPA COAB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irection -- meld Labrou and Finin version of KQML with FIPA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rpa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582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Toronto,                                                   Enterprise Integration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independent COOrdination Language (COOL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nguage for describing the coordination level conventions used by cooperating agents a framework for carrying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d activities in multiagent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ool for design, experimentation &amp; validation of cooperation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ool for incremental, in context acquisition of cooperation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KQML syntax with an extended range of perform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FSA to specify agen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to problems in supply-cha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ie.utoronto.ca/EIL/ABS-page/ABS-overview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ABS-overview_figure_id_1" descr=""/>
          <p:cNvPicPr/>
          <p:nvPr/>
        </p:nvPicPr>
        <p:blipFill>
          <a:blip r:embed="rId1"/>
          <a:stretch/>
        </p:blipFill>
        <p:spPr>
          <a:xfrm>
            <a:off x="5715000" y="457200"/>
            <a:ext cx="29782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kinds of applic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QML (or some other ACL), th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imp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Is facilitate the incorporation of KQML-speaking capabilities into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L itself is an abstraction, a collection of primitives that are deemed useful for higher level communication betwee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applications have used KQML or ACL, which is KQML with KIF as the content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 fielded applications that use the FIPA ACL as of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Talk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alk is a language for describing coordination protocols for multiagent syst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NTT Communication Science Laboratories and Ishida Laboratory, Kyoto U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in Common L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conversation protocols  through the specification of DFA-like 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s support inheritance and can thus be speci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kecl.ntt.co.jp/a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KQM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KQ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dds KQML functionality to any Tcl/Tk sh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simple route to high level communication among Tcl/Tk based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rporates tools for a facilitated environment (resource broker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s to KQML functions are converted to and from string representations automatic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KQML implements a call-by-value-result mechanism to best mirror usage of C fun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ipts are registered dynamically for handling incoming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processing is interrupted by handler, and resumes when message handling is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cs.umbc.edu/kqml/tkq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8480" y="1530360"/>
            <a:ext cx="4542840" cy="4559400"/>
            <a:chOff x="4578480" y="1530360"/>
            <a:chExt cx="4542840" cy="4559400"/>
          </a:xfrm>
        </p:grpSpPr>
        <p:sp>
          <p:nvSpPr>
            <p:cNvPr id="156" name=""/>
            <p:cNvSpPr/>
            <p:nvPr/>
          </p:nvSpPr>
          <p:spPr>
            <a:xfrm>
              <a:off x="6864480" y="2216160"/>
              <a:ext cx="219708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8840" y="1530360"/>
              <a:ext cx="1739880" cy="901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05560" y="3330720"/>
              <a:ext cx="3936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t receiver 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t reply 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qml send_msg 0 tell 24 receiver 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8480" y="4807080"/>
              <a:ext cx="1434960" cy="749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6200" y="4976640"/>
              <a:ext cx="1025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KQ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uncti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0240" y="2521080"/>
              <a:ext cx="1282680" cy="672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8760" y="2363760"/>
              <a:ext cx="11066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ecifies 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7440" y="5645160"/>
              <a:ext cx="1435320" cy="444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25600" y="5738760"/>
              <a:ext cx="1115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form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4480" y="1625760"/>
              <a:ext cx="14860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KQML w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perly interpr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is as a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27640" y="4121280"/>
              <a:ext cx="31752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70640" y="4121280"/>
              <a:ext cx="24120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11840" y="4959360"/>
              <a:ext cx="901800" cy="444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65120" y="5052960"/>
              <a:ext cx="749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6760" y="4121280"/>
              <a:ext cx="13968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3080" y="2311560"/>
              <a:ext cx="2208240" cy="11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ce reply n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variable, TKQML w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lock, and a reference to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urn message will 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d in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3056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3240" y="2444760"/>
              <a:ext cx="82548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7480" y="3511440"/>
              <a:ext cx="1396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pen Agent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i.sri.com/oaa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ramework for integrating a community of heterogeneous software agents in a distribut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assumes a centr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or Ag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mediates all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or implemented in Pro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L based on Pr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ri-logo3dTransparent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524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228600"/>
            <a:ext cx="9144000" cy="6627960"/>
            <a:chOff x="0" y="228600"/>
            <a:chExt cx="9144000" cy="6627960"/>
          </a:xfrm>
        </p:grpSpPr>
        <p:sp>
          <p:nvSpPr>
            <p:cNvPr id="179" name=""/>
            <p:cNvSpPr/>
            <p:nvPr/>
          </p:nvSpPr>
          <p:spPr>
            <a:xfrm>
              <a:off x="0" y="228600"/>
              <a:ext cx="2438280" cy="662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228600"/>
              <a:ext cx="678024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6400800"/>
              <a:ext cx="67816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2080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AA Architectur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1676520"/>
            <a:ext cx="5854680" cy="1263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ilitator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5562720"/>
            <a:ext cx="19051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alit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907240" y="2971800"/>
            <a:ext cx="1294920" cy="2790360"/>
            <a:chOff x="5907240" y="2971800"/>
            <a:chExt cx="1294920" cy="2790360"/>
          </a:xfrm>
        </p:grpSpPr>
        <p:sp>
          <p:nvSpPr>
            <p:cNvPr id="186" name=""/>
            <p:cNvSpPr/>
            <p:nvPr/>
          </p:nvSpPr>
          <p:spPr>
            <a:xfrm>
              <a:off x="6059520" y="3809880"/>
              <a:ext cx="1142640" cy="927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07240" y="3962520"/>
              <a:ext cx="1153800" cy="928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6720" y="4876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907240" y="5170320"/>
              <a:ext cx="1218960" cy="591840"/>
              <a:chOff x="5907240" y="5170320"/>
              <a:chExt cx="1218960" cy="591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907240" y="5371200"/>
                <a:ext cx="1218960" cy="3909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07240" y="5170320"/>
                <a:ext cx="1218960" cy="1897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P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>
              <a:off x="6592680" y="297180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440400" y="2971800"/>
              <a:ext cx="0" cy="99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543800" y="2971440"/>
            <a:ext cx="1120320" cy="1903680"/>
            <a:chOff x="7543800" y="2971440"/>
            <a:chExt cx="1120320" cy="1903680"/>
          </a:xfrm>
        </p:grpSpPr>
        <p:sp>
          <p:nvSpPr>
            <p:cNvPr id="195" name=""/>
            <p:cNvSpPr/>
            <p:nvPr/>
          </p:nvSpPr>
          <p:spPr>
            <a:xfrm>
              <a:off x="7619760" y="3814560"/>
              <a:ext cx="1044360" cy="92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43800" y="3948120"/>
              <a:ext cx="1045800" cy="92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53280" y="297180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000640" y="2971440"/>
              <a:ext cx="0" cy="99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724880" y="1905120"/>
            <a:ext cx="456840" cy="456840"/>
            <a:chOff x="7724880" y="1905120"/>
            <a:chExt cx="456840" cy="456840"/>
          </a:xfrm>
        </p:grpSpPr>
        <p:sp>
          <p:nvSpPr>
            <p:cNvPr id="200" name=""/>
            <p:cNvSpPr/>
            <p:nvPr/>
          </p:nvSpPr>
          <p:spPr>
            <a:xfrm>
              <a:off x="7724880" y="1905120"/>
              <a:ext cx="456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3520" y="2019600"/>
              <a:ext cx="2376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23520" y="209556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5120" y="221004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73840" y="2286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50204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368960" y="2971800"/>
            <a:ext cx="1196280" cy="1922400"/>
            <a:chOff x="4368960" y="2971800"/>
            <a:chExt cx="1196280" cy="1922400"/>
          </a:xfrm>
        </p:grpSpPr>
        <p:sp>
          <p:nvSpPr>
            <p:cNvPr id="207" name=""/>
            <p:cNvSpPr/>
            <p:nvPr/>
          </p:nvSpPr>
          <p:spPr>
            <a:xfrm>
              <a:off x="4521240" y="3814560"/>
              <a:ext cx="1044000" cy="927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68960" y="3967200"/>
              <a:ext cx="1045800" cy="92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L to I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902120" y="2976480"/>
              <a:ext cx="0" cy="99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054400" y="297180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1371600"/>
            <a:ext cx="236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User Interface Age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ccept multimodal input and pres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19520" y="2971800"/>
            <a:ext cx="1209240" cy="2522520"/>
            <a:chOff x="2819520" y="2971800"/>
            <a:chExt cx="1209240" cy="2522520"/>
          </a:xfrm>
        </p:grpSpPr>
        <p:sp>
          <p:nvSpPr>
            <p:cNvPr id="213" name=""/>
            <p:cNvSpPr/>
            <p:nvPr/>
          </p:nvSpPr>
          <p:spPr>
            <a:xfrm>
              <a:off x="2984400" y="3809880"/>
              <a:ext cx="1044360" cy="927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3962520"/>
              <a:ext cx="1044360" cy="928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5284800"/>
              <a:ext cx="223560" cy="209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28840" y="5284800"/>
              <a:ext cx="225000" cy="209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78200" y="5284800"/>
              <a:ext cx="223200" cy="209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054240" y="4950000"/>
              <a:ext cx="28224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41520" y="497376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46200" y="4960800"/>
              <a:ext cx="34272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349440" y="2987640"/>
              <a:ext cx="0" cy="99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3880" y="2971800"/>
              <a:ext cx="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28600" y="837720"/>
            <a:ext cx="2133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cc99"/>
                </a:solidFill>
                <a:latin typeface="Times New Roman"/>
              </a:rPr>
              <a:t>Agen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3124080"/>
            <a:ext cx="5486400" cy="45720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6480" y="31240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teragent Communica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0" y="2516040"/>
            <a:ext cx="23623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Natural Language Age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produce requests in I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0" y="3456000"/>
            <a:ext cx="236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Facilitator Age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receive ICL requests and coordinate multiagent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0" y="4600440"/>
            <a:ext cx="23623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App Age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wrap legacy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0" y="5334120"/>
            <a:ext cx="236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Meta Age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pply domain knowledge to help coordinate other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553080"/>
            <a:ext cx="40384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I International, AI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6553080"/>
            <a:ext cx="297180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hitectur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1295280"/>
            <a:ext cx="670428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553080"/>
            <a:ext cx="281952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ai.sri.com/~o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sri-logo3dTransparent" descr=""/>
          <p:cNvPicPr/>
          <p:nvPr/>
        </p:nvPicPr>
        <p:blipFill>
          <a:blip r:embed="rId6"/>
          <a:stretch/>
        </p:blipFill>
        <p:spPr>
          <a:xfrm>
            <a:off x="152280" y="6356520"/>
            <a:ext cx="757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228600"/>
            <a:ext cx="9144000" cy="6627960"/>
            <a:chOff x="0" y="228600"/>
            <a:chExt cx="9144000" cy="6627960"/>
          </a:xfrm>
        </p:grpSpPr>
        <p:sp>
          <p:nvSpPr>
            <p:cNvPr id="237" name=""/>
            <p:cNvSpPr/>
            <p:nvPr/>
          </p:nvSpPr>
          <p:spPr>
            <a:xfrm>
              <a:off x="0" y="228600"/>
              <a:ext cx="2438280" cy="662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2320" y="228600"/>
              <a:ext cx="678024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6400800"/>
              <a:ext cx="67816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6553080"/>
            <a:ext cx="40384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I International, AI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6553080"/>
            <a:ext cx="297180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hitectur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295280"/>
            <a:ext cx="670428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sri-logo3dTransparent" descr=""/>
          <p:cNvPicPr/>
          <p:nvPr/>
        </p:nvPicPr>
        <p:blipFill>
          <a:blip r:embed="rId1"/>
          <a:stretch/>
        </p:blipFill>
        <p:spPr>
          <a:xfrm>
            <a:off x="152280" y="6356520"/>
            <a:ext cx="757440" cy="501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324480" y="6553080"/>
            <a:ext cx="281952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ai.sri.com/~o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884160"/>
            <a:ext cx="670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agent Communication Languag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ICL)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750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1720" y="1371600"/>
            <a:ext cx="65829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CL, ag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ister capability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est services of commun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queries, execute actions,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set triggers, manipu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L defines both conversation layer of requests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-based conten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L deleg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request + advice &amp;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programm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C++, Visual Basic, Java, Delphi, Prolog,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561640"/>
            <a:ext cx="2362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ICL is platform-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370160"/>
            <a:ext cx="236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ICL: </a:t>
            </a:r>
            <a:br>
              <a:rPr sz="2400"/>
            </a:b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unified means of expressing </a:t>
            </a:r>
            <a:br>
              <a:rPr sz="2400"/>
            </a:b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all agent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228600"/>
            <a:ext cx="9144000" cy="6627960"/>
            <a:chOff x="0" y="228600"/>
            <a:chExt cx="9144000" cy="6627960"/>
          </a:xfrm>
        </p:grpSpPr>
        <p:sp>
          <p:nvSpPr>
            <p:cNvPr id="252" name=""/>
            <p:cNvSpPr/>
            <p:nvPr/>
          </p:nvSpPr>
          <p:spPr>
            <a:xfrm>
              <a:off x="0" y="228600"/>
              <a:ext cx="2438280" cy="662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228600"/>
              <a:ext cx="678024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6400800"/>
              <a:ext cx="67816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6553080"/>
            <a:ext cx="40384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I International, AI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6553080"/>
            <a:ext cx="297180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hitectur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295280"/>
            <a:ext cx="670428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sri-logo3dTransparent" descr=""/>
          <p:cNvPicPr/>
          <p:nvPr/>
        </p:nvPicPr>
        <p:blipFill>
          <a:blip r:embed="rId1"/>
          <a:stretch/>
        </p:blipFill>
        <p:spPr>
          <a:xfrm>
            <a:off x="152280" y="6356520"/>
            <a:ext cx="757440" cy="501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324480" y="6553080"/>
            <a:ext cx="281952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ai.sri.com/~o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2080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legation through IC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1371600"/>
            <a:ext cx="64771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aa_Solve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TaskExp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ramLi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-based (cf. Pro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me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dvice &amp;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gh-level task 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query, action, inform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_limit(N), time_limit(T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_ok(TF), priority(P), address(Agt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(Mode), block(TF), collect(Mode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aa_AddData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ataExp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ramLi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aa_AddTrigger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Ty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o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aa_Solve((manager(‘John Bear’,M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one_number(M,P))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query(var(P)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294560"/>
            <a:ext cx="2362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266360"/>
            <a:ext cx="2362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Data &amp; Trigg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257080"/>
            <a:ext cx="236232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99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Base and JAID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dish Institute for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CS) Intelligent Systems Laboratory has developed several tool kits for building KQML/KIF speaking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ID  (Java-based Agent &amp; Internet aware application Development)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ded for building Java based agents or other Internet applications, supports a several protocols (HTTP, SMTP, HTML, etc.) &amp; ACLs (MIL/MIF and KQM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og based toolkit supporting Internet protocols and KQML/K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everal large projects (e.g., KIMS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ttp://www.sics.se/is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ic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1589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tsina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2680" indent="-112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in CMU’s Agent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able Task Structure-based Intelligent Network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dialect of KQML for inter-agent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e kinds of ag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11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 Agents represent users, and communicate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11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Agents, which are capable of making plans to achieve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180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-independent sub-plans, indexed by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180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-specific sub-plans can be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11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Agents may collaborate with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s.cmu.edu/~softagent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retsina-organizat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3434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side a RETSINA Agen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5" name="retsina-control-overview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934320" cy="4799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4920" y="4876920"/>
            <a:ext cx="9144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mmary of systems using KQM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arie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infrastructure to use KQML, i.e., support for network protocols, messaging infrastructure, conversatio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system types of application that use KQML for inter-age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pplication’s KQML is slightly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differences in the exact syntactic form of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the infrastructure for registration and ag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ets of primitives and meaning assigned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pplications and APIs to examin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sleuth (M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OS (Boe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master (Stanford), uses ACL (KQML+K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heed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TLite (Stanfor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FMAS (U of Cincinna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al (UM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KQML (I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-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appendix for still 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isting KQML applications are not inter-operabl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QML applications cannot exchange KQML messages because KQML has no agreed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t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teroperability obstacles are much more munda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ght syntact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greement on agent naming and regis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motivation to have interoperation between entir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ic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ment on the syntax, naming and registration will allow KQML applications to interact, if there is a need to do so, ind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sations: A new trend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OS, Infosleuth, JAFMAS and Jackal exhibit a shift of attention to convers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versation is a sequence of messages that agents “agree” to observe, when engaging in message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versation is focusing on the observed actions of an agent’s communicativ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KQML and FIPA ACLs have taken an interest in conversations (protoco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 may well be the only enforceable compliance-checking for communicating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me FIPA Platform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ca (Sieme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de (CSE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rogo.cselt.stet.it/ufv/jade/JADEFeature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OS (Nor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irac.nosc.mil:6996/FIPA_SMART/FipaSmartIntro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us (B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abs.bt.com/projects/agents/zeu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BS (GI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nfosleuth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sleuth is an MCC project following                          the steps of the Carnot project (MC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is to provide a basic agent infrastructure required for intelligent manipula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mantic) Integration of  heterogeneous information sources in an open, dynamic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ion of  the development of agent-bas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include meta-data extraction, cooperating Broker agents, and agent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mcc.com/projects/infosleuth2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leuth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270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fosleuth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1371600"/>
          <a:ext cx="6900840" cy="51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90084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AoS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oS (Knowledgeable Agent oriented System), from Boeing, aims to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-oriented programming built on a foundation of distributed objec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conversations between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 support between agents and non-agent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’ design for specialized suites of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agent communication takes into acc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240" indent="-226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prim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240" indent="-226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240" indent="-226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ble conversation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rofile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5401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AoS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oS is an architectur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ructure is based on Agent Oriented Programming (Shoham, Stanf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hasis is on agent interactions, structured as conversations, not as single message ex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QML variant is the communication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elivery is CORBA-based (use of OR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mg8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724120" cy="1977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77240" y="2209680"/>
            <a:ext cx="28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Query conversation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fomaster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ster (Stanford) is an information integr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ster integrates only structured information sources, e.g., databases and knowledge b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it gives the illusion of a centralized, homogeneous inform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ources send and receive ACL messages, i.e. KQML messages with KIF as their content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ources describe their features and their semantic content in 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nfomaster.stanford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usealc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6:41:31Z</dcterms:created>
  <dc:creator>LAIT</dc:creator>
  <dc:description/>
  <dc:language>en-US</dc:language>
  <cp:lastModifiedBy>Yannis Labrou</cp:lastModifiedBy>
  <cp:lastPrinted>1998-04-11T16:27:10Z</cp:lastPrinted>
  <dcterms:modified xsi:type="dcterms:W3CDTF">2000-03-19T22:19:23Z</dcterms:modified>
  <cp:revision>45</cp:revision>
  <dc:subject/>
  <dc:title>No Slide Title</dc:title>
</cp:coreProperties>
</file>