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E452-DC68-40F4-B788-F0F7CDF53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5005-8C8D-40F5-80EC-258C788C3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872B-DEE1-499A-B17B-7B572F4FB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12E2-905B-423E-9FD2-DF6543E7E4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0E4C-90BE-4C6C-B709-360B23B38D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5D0F-8423-45E2-8450-322C1CB43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B524-6E14-4423-8DB7-FC4B9DC7D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DCE8-F87B-4369-A46B-398322AD6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804C-B754-4BF9-943A-C16E04D0D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8498-E610-46F3-A3C4-5D4952BE0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ABB0-3B98-4837-BBF4-3F3DC61F2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71B2-17A8-4F70-9D30-023C6D781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346B-E74D-483A-9618-791F09BABB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Conceptual and Theoretical Foundations I</a:t>
            </a:r>
            <a:endParaRPr b="1" lang="en-US" sz="8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mmon Service Infrastructur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agent systems assume a common set of servi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S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 or Facili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visual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often tied rather closely to an ACL since a given service is implemented to speak a single 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, some of the services (e.g., name registration) may be logically ACL-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Some ACLs don’t have a notion of an agent’s name and others have elaborate systems of 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Times New Roman"/>
              </a:rPr>
              <a:t>Mobility</a:t>
            </a:r>
            <a:endParaRPr b="1" lang="en-US" sz="129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ent Characteristic: 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bility?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programs in Telescript, Agent-Tcl, Voyager, etc. and, to a limited degree, Java Appl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-- this definition implies some agent attributes, e.g. autonomy, persistence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agents offer some very interesting advantages as well as some disadvan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n important technology for distributed systems but is largely orthogonal to other “agent”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50840" y="1660680"/>
            <a:ext cx="7102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bile agent is an executing program that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migr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machine to machine in a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heterogeneous network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its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own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Sneakers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1600200" cy="13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bile Agents 101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0" name="slide5" descr=""/>
          <p:cNvPicPr/>
          <p:nvPr/>
        </p:nvPicPr>
        <p:blipFill>
          <a:blip r:embed="rId1"/>
          <a:stretch/>
        </p:blipFill>
        <p:spPr>
          <a:xfrm>
            <a:off x="0" y="1295280"/>
            <a:ext cx="4724280" cy="2880000"/>
          </a:xfrm>
          <a:prstGeom prst="rect">
            <a:avLst/>
          </a:prstGeom>
          <a:ln w="0">
            <a:noFill/>
          </a:ln>
        </p:spPr>
      </p:pic>
      <p:pic>
        <p:nvPicPr>
          <p:cNvPr id="111" name="slide10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4991040" cy="2427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7440" y="4343400"/>
            <a:ext cx="31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ve the prog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28954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gram (code+state) can keep on moving, modifying its state and accumula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bile Agents 101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523880"/>
            <a:ext cx="443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 occupy Places/Docks/Servers which provid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lide14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4143600" cy="1486080"/>
          </a:xfrm>
          <a:prstGeom prst="rect">
            <a:avLst/>
          </a:prstGeom>
          <a:ln w="0">
            <a:noFill/>
          </a:ln>
        </p:spPr>
      </p:pic>
      <p:pic>
        <p:nvPicPr>
          <p:cNvPr id="117" name="slide15" descr=""/>
          <p:cNvPicPr/>
          <p:nvPr/>
        </p:nvPicPr>
        <p:blipFill>
          <a:blip r:embed="rId2"/>
          <a:stretch/>
        </p:blipFill>
        <p:spPr>
          <a:xfrm>
            <a:off x="228600" y="5029200"/>
            <a:ext cx="4143240" cy="1467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39625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 “go” to travel/migrate/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use a remote service, taking both code and 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lide16" descr=""/>
          <p:cNvPicPr/>
          <p:nvPr/>
        </p:nvPicPr>
        <p:blipFill>
          <a:blip r:embed="rId3"/>
          <a:stretch/>
        </p:blipFill>
        <p:spPr>
          <a:xfrm>
            <a:off x="4724280" y="2209680"/>
            <a:ext cx="4191120" cy="1467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05520" y="1523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 “meet” to transact business &amp; exchange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slide20" descr=""/>
          <p:cNvPicPr/>
          <p:nvPr/>
        </p:nvPicPr>
        <p:blipFill>
          <a:blip r:embed="rId4"/>
          <a:stretch/>
        </p:blipFill>
        <p:spPr>
          <a:xfrm>
            <a:off x="4648320" y="5105520"/>
            <a:ext cx="4152960" cy="1466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0" y="38862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 are authenticated and  limited in capabilities (lifetime, size, spending, etc.).  Limits are established at birth  and re-negotiated for trav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bile Agents 101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a mobile agent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de +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 servers need to provide a set of standard services 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(of cour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ies of other MA servers to go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ing services for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to other agents, messaging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OS re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amples of MA frameworks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all established frameworks (in Java) that are freely available for research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l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BM) -- http://www.trl.ibm.co.jp/aglet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ord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itsubishi)  -- http://www.meitca.com/HSL/Projects/Concordia/whatisit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mpingB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 http://www.JumpingBean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yss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General Magic) --http://www.genmagic.com/technology/odysse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bjectspace) -- http://www.objectspace.com/voy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uttgart) http://www.informatik.uni-stuttgart.de/ipvr/vs/projekte/mol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MA frameworks are available in Tcl, Scheme, Oracl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ven good reasons for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sing Mobile agents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reduce network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overcome network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encapsulate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execute asynchronously and autonom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dapt dyna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naturally heterogen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robust and fault tole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38560" y="1905120"/>
            <a:ext cx="29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Times New Roman"/>
              </a:rPr>
              <a:t>After Danny Lange,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our bad reasons to use MA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on this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ng and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we control host of autonomous mobil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s are often much bigger tha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ness of paradi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 evol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Speech Act Theory and BDI Theories</a:t>
            </a:r>
            <a:endParaRPr b="1" lang="en-US" sz="8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storical Note: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nowledge Sharing Effort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ed by DARPA circa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nsored by DARPA, NSF, AFOS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on by dozens of researchers in academia and indu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ing techniques, methodologies and software tools for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nowledge sha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nowledge re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and reuse can occur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xec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intentional level, BDI theories, speech acts and ACLs: How do they all fit together?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L have message types that are usually modeled after speech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acts may be understood in terms of an intentional-level description of an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ntional description makes references to beliefs, desires, intentions and other mod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I frameworks have the power to describe an agents’ behavior, including communicative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he intentional stance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have “propositional attitud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itional attitudes are three-part relationship 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e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tent-bearing proposition (e.g.,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is rai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)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nite set of propositional attitudes an agent might have with respect to the proposition (e.g., believing, asserting, fearing, wondering, hoping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ear, raining(t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n ascribing mental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qualities to machin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ssue is not whether a system is really intentional but whether we can coherently view it as such (Daniel Denne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ribing mental qualities to machines (John McCarthy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im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ascription expresses the same information about a machine that it expresses about a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17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ful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ascription helps us understand the structure of the machine, its past or future behavior, or how to repair it or improv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DI Agents, Theories and Architectur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I architectures describe the internal state of an agent by the mental states of beliefs, goals and int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I theories provide a conceptual model of the knowledge, goals, and commitments of an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I agents have some (implicit or explicit) representations of the corresponding at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DI Model and Communication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04640" y="1397160"/>
            <a:ext cx="6858360" cy="3365280"/>
            <a:chOff x="1304640" y="1397160"/>
            <a:chExt cx="6858360" cy="3365280"/>
          </a:xfrm>
        </p:grpSpPr>
        <p:grpSp>
          <p:nvGrpSpPr>
            <p:cNvPr id="143" name=""/>
            <p:cNvGrpSpPr/>
            <p:nvPr/>
          </p:nvGrpSpPr>
          <p:grpSpPr>
            <a:xfrm>
              <a:off x="1304640" y="1460520"/>
              <a:ext cx="3013200" cy="2673360"/>
              <a:chOff x="1304640" y="1460520"/>
              <a:chExt cx="3013200" cy="26733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2957400" y="2577960"/>
                <a:ext cx="1360440" cy="1555920"/>
                <a:chOff x="2957400" y="2577960"/>
                <a:chExt cx="1360440" cy="15559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881520" y="3162240"/>
                  <a:ext cx="436320" cy="243000"/>
                </a:xfrm>
                <a:prstGeom prst="rtTriangl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957400" y="2577960"/>
                  <a:ext cx="1020960" cy="155592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686040" y="2917800"/>
                  <a:ext cx="195480" cy="291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540240" y="3695760"/>
                  <a:ext cx="388800" cy="19512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782880" y="3016080"/>
                  <a:ext cx="98640" cy="96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200400" y="3306600"/>
                  <a:ext cx="146160" cy="29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1304280" y="1460520"/>
                <a:ext cx="2235240" cy="126360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66920" y="1844640"/>
                <a:ext cx="132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 + D =&gt;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59520" y="2230560"/>
                <a:ext cx="88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 =&gt;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484280" y="1809720"/>
                <a:ext cx="898560" cy="549360"/>
                <a:chOff x="1484280" y="1809720"/>
                <a:chExt cx="898560" cy="549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251080" y="2068560"/>
                  <a:ext cx="131760" cy="73080"/>
                </a:xfrm>
                <a:prstGeom prst="rtTriangle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76400" y="1895400"/>
                  <a:ext cx="304920" cy="46368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193840" y="1996920"/>
                  <a:ext cx="57240" cy="86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2151000" y="2228040"/>
                  <a:ext cx="114480" cy="5868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22640" y="2025720"/>
                  <a:ext cx="28440" cy="28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049480" y="2112840"/>
                  <a:ext cx="42840" cy="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1484280" y="1809720"/>
                  <a:ext cx="411120" cy="316080"/>
                  <a:chOff x="1484280" y="1809720"/>
                  <a:chExt cx="411120" cy="3160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1711440" y="1809720"/>
                    <a:ext cx="18396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484280" y="1911240"/>
                    <a:ext cx="184320" cy="21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4" name=""/>
            <p:cNvGrpSpPr/>
            <p:nvPr/>
          </p:nvGrpSpPr>
          <p:grpSpPr>
            <a:xfrm>
              <a:off x="5149440" y="1397160"/>
              <a:ext cx="3013560" cy="2671560"/>
              <a:chOff x="5149440" y="1397160"/>
              <a:chExt cx="3013560" cy="267156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5149080" y="3098880"/>
                <a:ext cx="438120" cy="241200"/>
              </a:xfrm>
              <a:prstGeom prst="rtTriangle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5490360" y="2514600"/>
                <a:ext cx="1019160" cy="15541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5587920" y="2854440"/>
                <a:ext cx="193680" cy="291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5538960" y="3632040"/>
                <a:ext cx="388800" cy="1936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587200" y="295128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6121440" y="3243240"/>
                <a:ext cx="146160" cy="291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27760" y="1397160"/>
                <a:ext cx="2235240" cy="126360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6046200" y="1846440"/>
                <a:ext cx="132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 + D =&gt;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6367320" y="2165400"/>
                <a:ext cx="88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 =&gt;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7015320" y="1503360"/>
                <a:ext cx="961920" cy="855720"/>
                <a:chOff x="7015320" y="1503360"/>
                <a:chExt cx="961920" cy="85572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7015320" y="1862280"/>
                  <a:ext cx="434880" cy="496800"/>
                  <a:chOff x="7015320" y="1862280"/>
                  <a:chExt cx="434880" cy="49680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>
                    <a:off x="7015320" y="2048040"/>
                    <a:ext cx="139680" cy="77760"/>
                  </a:xfrm>
                  <a:prstGeom prst="rtTriangl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>
                    <a:off x="7124760" y="1862280"/>
                    <a:ext cx="325440" cy="496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>
                    <a:off x="7155000" y="1969920"/>
                    <a:ext cx="61920" cy="93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V="1">
                    <a:off x="7139160" y="2219400"/>
                    <a:ext cx="125280" cy="6192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7155000" y="2001960"/>
                    <a:ext cx="31680" cy="3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>
                    <a:off x="7326360" y="2095560"/>
                    <a:ext cx="4608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20250" y="3391"/>
                          <a:pt x="18900" y="5080"/>
                          <a:pt x="18900" y="10800"/>
                        </a:cubicBezTo>
                        <a:cubicBezTo>
                          <a:pt x="18900" y="16520"/>
                          <a:pt x="20250" y="1820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7264440" y="1504800"/>
                  <a:ext cx="712800" cy="403200"/>
                </a:xfrm>
                <a:prstGeom prst="cloudCallout">
                  <a:avLst>
                    <a:gd name="adj1" fmla="val -43750"/>
                    <a:gd name="adj2" fmla="val 70000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7305120" y="1503360"/>
                  <a:ext cx="183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7368480" y="1625760"/>
                  <a:ext cx="18396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7081560" y="1523880"/>
                  <a:ext cx="833760" cy="246240"/>
                  <a:chOff x="7081560" y="1523880"/>
                  <a:chExt cx="833760" cy="2462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>
                    <a:off x="7527240" y="1663560"/>
                    <a:ext cx="41400" cy="22320"/>
                  </a:xfrm>
                  <a:prstGeom prst="rtTriangle">
                    <a:avLst/>
                  </a:prstGeom>
                  <a:solidFill>
                    <a:srgbClr val="ff003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>
                    <a:off x="7559640" y="1606680"/>
                    <a:ext cx="98640" cy="1490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>
                    <a:off x="7569360" y="1639800"/>
                    <a:ext cx="1872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V="1">
                    <a:off x="7564320" y="1714680"/>
                    <a:ext cx="36720" cy="1728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7569360" y="1649520"/>
                    <a:ext cx="9360" cy="9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7619400" y="1676520"/>
                    <a:ext cx="14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20250" y="3391"/>
                          <a:pt x="18900" y="5080"/>
                          <a:pt x="18900" y="10800"/>
                        </a:cubicBezTo>
                        <a:cubicBezTo>
                          <a:pt x="18900" y="16520"/>
                          <a:pt x="20250" y="1820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7081560" y="1523880"/>
                    <a:ext cx="833760" cy="246240"/>
                    <a:chOff x="7081560" y="1523880"/>
                    <a:chExt cx="833760" cy="24624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7702560" y="1536840"/>
                      <a:ext cx="212760" cy="120600"/>
                    </a:xfrm>
                    <a:prstGeom prst="cloud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>
                      <a:off x="7154280" y="1523880"/>
                      <a:ext cx="183960" cy="21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flipH="1">
                      <a:off x="7081200" y="1555920"/>
                      <a:ext cx="18396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96" name=""/>
            <p:cNvSpPr/>
            <p:nvPr/>
          </p:nvSpPr>
          <p:spPr>
            <a:xfrm>
              <a:off x="3024360" y="3513240"/>
              <a:ext cx="2638080" cy="1249200"/>
            </a:xfrm>
            <a:custGeom>
              <a:avLst/>
              <a:gdLst/>
              <a:ahLst/>
              <a:rect l="l" t="t" r="r" b="b"/>
              <a:pathLst>
                <a:path w="1976" h="936">
                  <a:moveTo>
                    <a:pt x="1976" y="144"/>
                  </a:moveTo>
                  <a:cubicBezTo>
                    <a:pt x="1284" y="540"/>
                    <a:pt x="592" y="936"/>
                    <a:pt x="296" y="912"/>
                  </a:cubicBezTo>
                  <a:cubicBezTo>
                    <a:pt x="0" y="888"/>
                    <a:pt x="216" y="152"/>
                    <a:pt x="200" y="0"/>
                  </a:cubicBezTo>
                </a:path>
              </a:pathLst>
            </a:custGeom>
            <a:noFill/>
            <a:ln cap="rnd" w="38160">
              <a:solidFill>
                <a:srgbClr val="ff00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68560" y="3448080"/>
              <a:ext cx="2435400" cy="1271520"/>
            </a:xfrm>
            <a:custGeom>
              <a:avLst/>
              <a:gdLst/>
              <a:ahLst/>
              <a:rect l="l" t="t" r="r" b="b"/>
              <a:pathLst>
                <a:path w="1824" h="952">
                  <a:moveTo>
                    <a:pt x="0" y="240"/>
                  </a:moveTo>
                  <a:cubicBezTo>
                    <a:pt x="624" y="596"/>
                    <a:pt x="1248" y="952"/>
                    <a:pt x="1536" y="912"/>
                  </a:cubicBezTo>
                  <a:cubicBezTo>
                    <a:pt x="1824" y="872"/>
                    <a:pt x="1776" y="436"/>
                    <a:pt x="1728" y="0"/>
                  </a:cubicBezTo>
                </a:path>
              </a:pathLst>
            </a:custGeom>
            <a:noFill/>
            <a:ln cap="rnd" w="38160">
              <a:solidFill>
                <a:srgbClr val="00cc99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990720" y="487692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is a means to (1) reveal to others what our BDI state is and (2) attempt to effect the BDI state of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e recursion: an agent has beliefs about the world, beliefs about other agents, beliefs about the beliefs of other agents, beliefs about the beliefs another agent has about it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92840" y="2514600"/>
            <a:ext cx="507960" cy="838080"/>
          </a:xfrm>
          <a:custGeom>
            <a:avLst/>
            <a:gdLst/>
            <a:ahLst/>
            <a:rect l="l" t="t" r="r" b="b"/>
            <a:pathLst>
              <a:path w="320" h="528">
                <a:moveTo>
                  <a:pt x="128" y="528"/>
                </a:moveTo>
                <a:cubicBezTo>
                  <a:pt x="64" y="452"/>
                  <a:pt x="0" y="376"/>
                  <a:pt x="32" y="288"/>
                </a:cubicBezTo>
                <a:cubicBezTo>
                  <a:pt x="64" y="200"/>
                  <a:pt x="272" y="48"/>
                  <a:pt x="320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2209680"/>
            <a:ext cx="1143000" cy="1371600"/>
          </a:xfrm>
          <a:custGeom>
            <a:avLst/>
            <a:gdLst/>
            <a:ahLst/>
            <a:rect l="l" t="t" r="r" b="b"/>
            <a:pathLst>
              <a:path w="720" h="864">
                <a:moveTo>
                  <a:pt x="720" y="0"/>
                </a:moveTo>
                <a:cubicBezTo>
                  <a:pt x="564" y="192"/>
                  <a:pt x="408" y="384"/>
                  <a:pt x="288" y="528"/>
                </a:cubicBezTo>
                <a:cubicBezTo>
                  <a:pt x="168" y="672"/>
                  <a:pt x="48" y="808"/>
                  <a:pt x="0" y="86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71240" y="1523880"/>
            <a:ext cx="895680" cy="403200"/>
            <a:chOff x="1371240" y="1523880"/>
            <a:chExt cx="895680" cy="403200"/>
          </a:xfrm>
        </p:grpSpPr>
        <p:sp>
          <p:nvSpPr>
            <p:cNvPr id="202" name=""/>
            <p:cNvSpPr/>
            <p:nvPr/>
          </p:nvSpPr>
          <p:spPr>
            <a:xfrm flipH="1">
              <a:off x="1371240" y="1523880"/>
              <a:ext cx="712800" cy="4032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79480" y="1682640"/>
              <a:ext cx="41400" cy="22320"/>
            </a:xfrm>
            <a:prstGeom prst="rtTriangl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90200" y="1625400"/>
              <a:ext cx="98640" cy="149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60400" y="1658880"/>
              <a:ext cx="1908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47440" y="1732680"/>
              <a:ext cx="36720" cy="176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9760" y="1668240"/>
              <a:ext cx="936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14680" y="1695240"/>
              <a:ext cx="14040" cy="2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432800" y="1555560"/>
              <a:ext cx="212760" cy="1206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09880" y="1542960"/>
              <a:ext cx="18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82960" y="1574640"/>
              <a:ext cx="18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H="1">
            <a:off x="3047400" y="2590920"/>
            <a:ext cx="507960" cy="838080"/>
          </a:xfrm>
          <a:custGeom>
            <a:avLst/>
            <a:gdLst/>
            <a:ahLst/>
            <a:rect l="l" t="t" r="r" b="b"/>
            <a:pathLst>
              <a:path w="320" h="528">
                <a:moveTo>
                  <a:pt x="128" y="528"/>
                </a:moveTo>
                <a:cubicBezTo>
                  <a:pt x="64" y="452"/>
                  <a:pt x="0" y="376"/>
                  <a:pt x="32" y="288"/>
                </a:cubicBezTo>
                <a:cubicBezTo>
                  <a:pt x="64" y="200"/>
                  <a:pt x="272" y="48"/>
                  <a:pt x="3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riticism of BDI theori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cessity of having all three modalities is questioned from both e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builders question their relevance in pract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modal BDI logics do not have complete axiomat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not efficiently comp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gap between theory and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55627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peech Act Theory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3506400"/>
            <a:ext cx="7500960" cy="29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ers do not  just utter true or false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ers perform speech a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s, suggestions, promises, threa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utterance is a speech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80960" y="1938240"/>
            <a:ext cx="684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level framework to account for human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743200"/>
            <a:ext cx="413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nguage as A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ust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31104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peech  Act Theory (continued)   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Shut   the   door 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utterance with context  and referen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who is the speaker and the hearer, which door 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o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 of conveying intentions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speaker wants the hearer to close th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loc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 that occur as a result of the illocut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 hearer closes th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nowledge Sharing Effor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1680" indent="-21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sharing requires a communication which requires a comm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1680" indent="-21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divide a language into syntax, semantics, and prag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1680" indent="-21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xisting components that can be used independently or toget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-21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knowledge interchange              format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(synt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-21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tolingu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a language for defining sharable ontologies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(seman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000" indent="-21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Q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a high-level interaction             language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(pragma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38862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5867280"/>
            <a:ext cx="304920" cy="76212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70040" y="44607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ropos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8160" y="5867280"/>
            <a:ext cx="18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ropos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tt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310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nowledge Interchange Forma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F ~ First order logic                                                           with se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lingu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ncoded                                               declarative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translation among n                                                               systems from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language for reusable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independent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y expressive - can represent knowledge in typical application K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able - into and out of typical application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 readable - good for publishing reference models and ontolo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pecification at http://logic.stanford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114800" y="838080"/>
            <a:ext cx="4541760" cy="2462040"/>
            <a:chOff x="4114800" y="838080"/>
            <a:chExt cx="4541760" cy="2462040"/>
          </a:xfrm>
        </p:grpSpPr>
        <p:grpSp>
          <p:nvGrpSpPr>
            <p:cNvPr id="53" name=""/>
            <p:cNvGrpSpPr/>
            <p:nvPr/>
          </p:nvGrpSpPr>
          <p:grpSpPr>
            <a:xfrm>
              <a:off x="4116600" y="2306520"/>
              <a:ext cx="1720800" cy="966240"/>
              <a:chOff x="4116600" y="2306520"/>
              <a:chExt cx="1720800" cy="966240"/>
            </a:xfrm>
          </p:grpSpPr>
          <p:sp>
            <p:nvSpPr>
              <p:cNvPr id="54" name=""/>
              <p:cNvSpPr/>
              <p:nvPr/>
            </p:nvSpPr>
            <p:spPr>
              <a:xfrm flipH="1">
                <a:off x="4116600" y="2306520"/>
                <a:ext cx="172080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4116600" y="2612880"/>
                <a:ext cx="1720800" cy="6598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 flipH="1">
              <a:off x="4165560" y="2668320"/>
              <a:ext cx="998640" cy="54144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339800" y="2723760"/>
              <a:ext cx="7884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Know. 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520520" y="2860560"/>
              <a:ext cx="2520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359600" y="2984400"/>
              <a:ext cx="4928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ang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115160" y="2341440"/>
              <a:ext cx="15854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KIF &lt;-&gt; Lang1 Transl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193360" y="2909520"/>
              <a:ext cx="6483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s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897600" y="2306520"/>
              <a:ext cx="1758960" cy="993600"/>
              <a:chOff x="6897600" y="2306520"/>
              <a:chExt cx="1758960" cy="99360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6897600" y="2306520"/>
                <a:ext cx="1721880" cy="966240"/>
                <a:chOff x="6897600" y="2306520"/>
                <a:chExt cx="1721880" cy="9662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897600" y="2306520"/>
                  <a:ext cx="1721880" cy="30492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897600" y="2612880"/>
                  <a:ext cx="1721880" cy="65988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6951600" y="2667240"/>
                <a:ext cx="989280" cy="54252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018560" y="2728440"/>
                <a:ext cx="7884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now. Ba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14480" y="2860200"/>
                <a:ext cx="2520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88120" y="2990880"/>
                <a:ext cx="49284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Lang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919200" y="2347920"/>
                <a:ext cx="158544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IF &lt;-&gt; Lang2 Transla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08200" y="2952720"/>
                <a:ext cx="64836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ys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6878880" y="838080"/>
              <a:ext cx="1736280" cy="1008000"/>
              <a:chOff x="6878880" y="838080"/>
              <a:chExt cx="1736280" cy="1008000"/>
            </a:xfrm>
          </p:grpSpPr>
          <p:sp>
            <p:nvSpPr>
              <p:cNvPr id="73" name=""/>
              <p:cNvSpPr/>
              <p:nvPr/>
            </p:nvSpPr>
            <p:spPr>
              <a:xfrm>
                <a:off x="6895080" y="1504800"/>
                <a:ext cx="1720080" cy="30564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878880" y="1504800"/>
                <a:ext cx="145440" cy="2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95080" y="838080"/>
                <a:ext cx="1720080" cy="66060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954480" y="879480"/>
                <a:ext cx="1501200" cy="5428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76680" y="931680"/>
                <a:ext cx="91800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now. B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 K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316280" y="1498680"/>
                <a:ext cx="9226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ibra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114800" y="858600"/>
              <a:ext cx="1726920" cy="964800"/>
              <a:chOff x="4114800" y="858600"/>
              <a:chExt cx="1726920" cy="964800"/>
            </a:xfrm>
          </p:grpSpPr>
          <p:sp>
            <p:nvSpPr>
              <p:cNvPr id="80" name=""/>
              <p:cNvSpPr/>
              <p:nvPr/>
            </p:nvSpPr>
            <p:spPr>
              <a:xfrm>
                <a:off x="4119840" y="858600"/>
                <a:ext cx="1721880" cy="6595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771800" y="873360"/>
                <a:ext cx="999000" cy="54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51360" y="936720"/>
                <a:ext cx="7884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now. Ba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44040" y="1069920"/>
                <a:ext cx="2520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8400" y="1199160"/>
                <a:ext cx="49284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Lang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165200" y="874800"/>
                <a:ext cx="64836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ys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4114800" y="1518120"/>
                <a:ext cx="1721880" cy="305280"/>
                <a:chOff x="4114800" y="1518120"/>
                <a:chExt cx="1721880" cy="305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114800" y="1518120"/>
                  <a:ext cx="1721880" cy="30528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115160" y="1596240"/>
                  <a:ext cx="158544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KIF &lt;-&gt; Lang3 Transla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" name=""/>
            <p:cNvSpPr/>
            <p:nvPr/>
          </p:nvSpPr>
          <p:spPr>
            <a:xfrm rot="2620200">
              <a:off x="5713200" y="1401480"/>
              <a:ext cx="1322280" cy="1322280"/>
            </a:xfrm>
            <a:custGeom>
              <a:avLst/>
              <a:gdLst>
                <a:gd name="textAreaLeft" fmla="*/ 330480 w 1322280"/>
                <a:gd name="textAreaRight" fmla="*/ 991800 w 1322280"/>
                <a:gd name="textAreaTop" fmla="*/ 330480 h 1322280"/>
                <a:gd name="textAreaBottom" fmla="*/ 99180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62040" y="192384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560" y="544680"/>
            <a:ext cx="7616880" cy="12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mon Semantics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ared Ontologies and Ontolingua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4160" y="1968120"/>
            <a:ext cx="833112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common vocabulary and agreed upon meanings to describe a subject dom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ingua is a language for building, publishing, and sharing ontolo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b-based interface to a browser/editor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ogies can be automatically translated into other content languages, including KIF, LOOM, Prolo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nguage includes primitives for combining ontolo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5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mon Pragmatics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 Query and Manipulation Language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s a high-level, message-oriented, communication language and protocol for information exchange independent of content syntax and ont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s also independ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47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mechanism, e.g., tcp/ip, email, corba, IIOP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47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level protocols, e.g., Contract Net, Auction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KQML message represents a single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speech act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ask, tell, achieve, …) with an associated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eman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rotocol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ncludes primitive message types of particular interest to building interesting agent architectures (e.g., for mediators, sharing intentio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or completeness...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ome other aspects to effective agent  communication that we must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ransport protocols (e.g., tcp/ip, udp, smtp, http, 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high-level protocols (e.g., contract-net, auctions, name registration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service infrastructure (e.g., ans, broker, facilitator, logger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ACLs have to fit these in som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mon Transport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rotocols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CLs use ASCII strings sent over TCP/IP connections through sockets as their default (or only) transport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oice of protocol is entirely an issue of prag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ctually several issues involve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CL objects are represented (e.g., as ASCII strings, as “objects,” as database tupl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low-level communication protocol is used to move an object from process to process (tcp/ip, u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igher-level communication protocol is used to carry the messages (e.g., HTTP, SMTP, IIOP, CORBA, RPC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digital-comm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552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mmon High-level Protocol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lso a need for communication agents to agree on the agent-level protocols they will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tocol is often conveyed via an extra parameter on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k :from Alice :to Bob …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protocol auction4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protoc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 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auction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regist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protocols are often defined in terms of constraints on possible conversations and can be express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mmars (e.g., DFAs, ATNs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ri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sation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440" indent="-222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or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0T01:12:54Z</dcterms:created>
  <dc:creator>tim finin</dc:creator>
  <dc:description/>
  <dc:language>en-US</dc:language>
  <cp:lastModifiedBy>Yannis Labrou</cp:lastModifiedBy>
  <dcterms:modified xsi:type="dcterms:W3CDTF">2000-03-19T23:27:02Z</dcterms:modified>
  <cp:revision>17</cp:revision>
  <dc:subject/>
  <dc:title>No Slide Title</dc:title>
</cp:coreProperties>
</file>