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E233-FC4D-47BC-BED5-5BD16BF93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ABB9-F895-48F4-B391-567741762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0DB6-7C75-4EB7-8118-C6C4AF414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D859-F93C-43A8-B31B-3465BBDD9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B241-1E10-4BCC-9A4F-E10A13216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F837-940E-4321-ABF3-BCFA88160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301E-B330-4639-8DED-57C145029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0A0B-417E-488C-B54F-C6FAD057A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4073-25A5-4B4E-BD18-3B7922F10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AA1D-2672-4EE8-9959-D138AB60C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423B-535E-40B1-A01E-D098985F5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E4FC-A9D8-4F10-9457-566CA4DA6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7328-D669-4ADE-ACC6-BB37E31EDB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621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Current Issues and Future Tr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362320" y="3733920"/>
            <a:ext cx="434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ational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into mainstream software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Ls and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3880" y="5105520"/>
            <a:ext cx="5911920" cy="144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7600" y="1236600"/>
            <a:ext cx="81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public policies from private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formal linkage between models and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cross communications proces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FA and a CPN can implement the same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 the expression of mode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“conversation management” properties and other non-traditional types of ACL usage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versation Policy Requirem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5305320"/>
            <a:ext cx="59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e-grained public policies which define computational models are a better way to think of conversation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Times New Roman"/>
              </a:rPr>
              <a:t>Agents in Practice</a:t>
            </a:r>
            <a:endParaRPr b="1" lang="en-US" sz="1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s in Practic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gents are going to matter, they must be easily integrated into standard computing enviro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into standard programming langu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interact with standard services (e.g. LDAP ser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integrated into applications that matter (e.g., SAP, MS Office app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work well on the web, in web browsers and we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sing XML to describe ACL mess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KQML and FIPA ACL are using a LISP-like syntax to describe properly-formed AC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L messages have “deep” semantics (KR-like) than account for the Communicative Act, the Sender and the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ep semantics, in the case of FIPA ACL are described in 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CL message as a syntactic object has parameters that are not accounted for in the semantics (language, ontology, in-reply-to, et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sing XML to describe ACL messages (continued)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1680" indent="-21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ally, ACL messages introduce pragmatic elements and a particular syntax useful for parsing and rou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-21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ctic form (e.g., LISP-like) need not be u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-21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ally, ACL messages can be thought as having an “abstract syntax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-21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syntax “allows” for multi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ntactic represent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co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-21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encodings are: Lisp-like balanced parenthesis list, XML or even a Jav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n exampl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22640" y="914400"/>
            <a:ext cx="4978440" cy="5359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!DOCTYPE fipa_acl SYSTEM "fipa_acl.dtd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message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messagetype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inform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/messagetype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sender link="http://www.cs.umbc.edu/~jklabrou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fini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/send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/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receiver link="http://www.cs.umbc.edu/~finin/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fini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/receiv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/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ontology link="http://www.cs.umbc.edu/~jklabrou/ontology/laptop.html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laptop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/ontolog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/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(CPU libretto50 pentium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/content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/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language link="http://www.stanford.edu/kif.html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kif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&lt;/language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&lt;/messageparameter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801800"/>
            <a:ext cx="34099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form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:sender   jklabrou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:receiver finin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:content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(CPU libretto5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entiu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:ontology laptop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:language k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DTD for FIPA ACL mess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523880"/>
            <a:ext cx="77882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"pre-1.0" encoding="US-ASCII"?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NTITY % messagetp "accept-proposal | agree | cancel |cfp |confirm | disconfirm | failure | inform | inform-if | inform-ref |  not-understood | propose | query-if | query-ref | refuse |  reject-proposal | request | request-when | request-whenever |  subscribe"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message (messagetype, messageparameter* )&gt; &lt;!ELEMENT messagetype (%messagetp;)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messageparameter (sender | receiver | content | reply-with |  reply-by| in-reply-to | envelope | language | ontology | protocol |  conversation-id)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sender (agentname)&gt; &lt;!ATTLIST sender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receiver (agentname)&gt; &lt;!ATTLIST receiver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DTD for FIPA ACL messages (continued)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76520"/>
            <a:ext cx="784872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content (#PCDATA)&gt; &lt;!ATTLIST content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reply-with (#PCDATA)&gt; &lt;!ELEMENT reply-by (#PCDATA)&gt; &lt;!ELEMENT in-reply-to (#PCDATA)&gt; &lt;!ATTLIST in-reply-to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envelope (#PCDATA)&gt; &lt;!ELEMENT language (#PCDATA)&gt; &lt;!ATTLIST language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ontology (#PCDATA)&gt; &lt;!ATTLIST ontology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protocol (#PCDATA)&gt; &lt;!ATTLIST protocol link CDATA #REQUIRED 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conversation-id (#PCDATA)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agentname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ments on the XML-encoding of ACL mess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 itself of the ACL message could have been encoded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ep semantics” of the ACL message are taken to be the same as before (“canonical” syntactic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XML-encoding enhances the canonical syntactic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ontains par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values are not strings but link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XML-encoding is not equivalent to the canonical syntactic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vantages of XML-encoding ACL message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ing ACL messages is a big overhead of agent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ML encoding is easier to develop parser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1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an use off-the-shelf XML par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1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dified DTD does not mean re-writing the 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 messages are more WWW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1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gration with web-based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1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for taking advantages of WWW-solutions to outstanding ACL issues (e.g., secu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 messages introduce a pragmatics layer that is unaccounted at the semant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XML, helps better address these pragmatic aspects through the use of links. Links point to additiona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1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can assist with ontological problems (defining and sharing ontolog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1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can point to agent capability and identity information, protocols, even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nversations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s define allowed/useful/desirable sequences of messages for particular tasks and indicate where/how  messages “fit” in exchan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more intuitive and convenient method for handling messages in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conversation composition, scale to varying levels of granu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conversation management independent of agent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communication through conversation sha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ML-encoding and FIPA ACL specific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 has considered (in the abstract) the idea of an abstract synt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-encoded ACL messages inherit the deep semantics of ACL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 addresses the pragmatic aspects of ACL messages in non-ACL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-encoding of ACL messages directly addresses some of the pragmatic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ence of links modifies he meaning of the abstract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yond XML: RDF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 (Resource Description Framework) is a W3C metadata standard build on top of XML (http://www.w3.org/RDF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 data consists of nodes and attached attribute/value pairs, providing the expressive power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ntic net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s can be any web resources (pages, servers, basically anything for which you can give a URI) including other RDF express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ibutes are named properties of the nodes, and their values are either atomic (e.g., strings, numbers) or other resources or metadata instanc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andards are built on top of RDF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P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tform for Privacy Pre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exchange of privacy practices and preferences among Web sites, agents and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S: an infrastructure for                                                       associating metadata labels                                                               with Internet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rch-blocks" descr=""/>
          <p:cNvPicPr/>
          <p:nvPr/>
        </p:nvPicPr>
        <p:blipFill>
          <a:blip r:embed="rId1"/>
          <a:stretch/>
        </p:blipFill>
        <p:spPr>
          <a:xfrm>
            <a:off x="4038480" y="4933800"/>
            <a:ext cx="49723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yond RDF: SHOE and DAM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’s expressive power is quite limited, roughly corresponding to that of semantic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 is an HTML-based knowledge representation language developed by Jim Hendler et al at the University of Maryland (http://www.cs.umd.edu/projects/plus/SHOE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rov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XML compliant way of encoding horn clauses and embedding them in 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amespace for shared ontologies defined on other 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examples include Interlingua (Grosof et. al.) and XML encodings of K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(Darpa Agent Markup Language) will be the next iteration of these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cuments, by themselves do not hav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can help define domain-specific languages for describing particular domai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TD is suggested for describing the domain of ACL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-encoded ACL messages do not alter the semantics of ACL messages but they modify the pragmatic aspects of AC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-encoded ACL messages provide certain advantages over the canonical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ing, WWW-friendliness,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ddressing the shortcomings of the semantics with conversat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KQML and FIPA ACL include specifications for conversations (or conversation protoc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s are not part of the semantic definition of the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s shift the focus to an agent’s observable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s might find conversations more useful than form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ing of primitives is often context/situation dependant and conversations can accommodat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Role of Conversation Polic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8752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ACLs are powerful enough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mpass several different ways to achieve the same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eve several different goals with the sam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was just one way to achieve any goal, CPs would not be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ation Policies define conventional ways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t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pressive power of an 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the depth of modeling of other agents (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v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and publicly expose the agent’s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uncertainty about the next conversational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 of constraints have we develo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-in-one Conversation Polic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8" name="CNet" descr=""/>
          <p:cNvPicPr/>
          <p:nvPr/>
        </p:nvPicPr>
        <p:blipFill>
          <a:blip r:embed="rId1"/>
          <a:stretch/>
        </p:blipFill>
        <p:spPr>
          <a:xfrm>
            <a:off x="1268280" y="1022400"/>
            <a:ext cx="6610320" cy="495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472480" y="608328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sms are out of contro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sues with All-in-one Conversation Polic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8320" y="1174680"/>
            <a:ext cx="7948800" cy="32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isms are out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uch is left 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rs don’t make clear the assumptions (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y use when creating th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6240" indent="-224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what general principle governs conversation turn-tak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compose or compare with other formal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tion: what properties and how to choos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44480" y="5038560"/>
            <a:ext cx="5911920" cy="1101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5120" y="5165640"/>
            <a:ext cx="59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is is the wrong kind of abstraction for conversation polic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versation Policies Also Regulate Other Features of Agent Communic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5840" indent="-19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 management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1400" indent="-19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1400" indent="-19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on, termination,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1400" indent="-19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and turn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1400" indent="-19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, repair, insertion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840" indent="-19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take acknowledgment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840" indent="-19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gmatic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1400" indent="-19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ces on semantically equival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840" indent="-19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-specific sequences with guaranteed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1400" indent="-19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Model of Agent Communic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7" name="cp%20chart%201" descr=""/>
          <p:cNvPicPr/>
          <p:nvPr/>
        </p:nvPicPr>
        <p:blipFill>
          <a:blip r:embed="rId1"/>
          <a:srcRect l="7138" t="1482" r="6349" b="19408"/>
          <a:stretch/>
        </p:blipFill>
        <p:spPr>
          <a:xfrm>
            <a:off x="1355760" y="1152360"/>
            <a:ext cx="6426000" cy="440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079360" y="579600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with computer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versation Policy Definitional Questions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4200" y="14698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onversation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bstract, public, fine-grained constraints on a computatio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ies ex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computational model must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ies should be captured by C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conversation state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ing/Concurrency, Timing, Exceptions, Pragmatics, Conversation Management, Liveness, 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interesting groupings of C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clusters define differ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-216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s are inherently compositional because they combine to induce 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Tim Finin</cp:lastModifiedBy>
  <cp:lastPrinted>1999-06-10T17:20:13Z</cp:lastPrinted>
  <dcterms:modified xsi:type="dcterms:W3CDTF">2000-03-20T00:28:58Z</dcterms:modified>
  <cp:revision>9</cp:revision>
  <dc:subject/>
  <dc:title>No Slide Title</dc:title>
</cp:coreProperties>
</file>