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9.wmf" ContentType="image/x-wmf"/>
  <Override PartName="/ppt/media/image14.png" ContentType="image/png"/>
  <Override PartName="/ppt/media/image17.png" ContentType="image/png"/>
  <Override PartName="/ppt/media/image15.wmf" ContentType="image/x-wmf"/>
  <Override PartName="/ppt/media/image1.wmf" ContentType="image/x-wmf"/>
  <Override PartName="/ppt/media/image3.jpeg" ContentType="image/jpeg"/>
  <Override PartName="/ppt/media/image6.png" ContentType="image/png"/>
  <Override PartName="/ppt/media/image2.png" ContentType="image/png"/>
  <Override PartName="/ppt/media/image10.wmf" ContentType="image/x-wmf"/>
  <Override PartName="/ppt/media/image7.jpeg" ContentType="image/jpeg"/>
  <Override PartName="/ppt/media/image18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DCFE-BD07-42DE-887F-F688D0338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98A3-6192-464C-8E24-35390F7D2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1642-E55A-438C-BBE0-DE727BA6C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F108-903B-4B6A-87A5-F8E6A34F48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2DD3-F5AC-40D1-97EB-A844FDD65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1066-35C0-4100-B74C-CE055871E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684B-E5A1-4156-B196-18E797D8A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F16E-26DE-45C3-958B-A7EAD1C19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BF57-0618-497E-9729-26A2A0321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F6D0-88B6-4548-AED1-A78C2AF5E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3805-50AA-468D-8E65-CD0437832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7492-869A-493F-9CB3-1EC603626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47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47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47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D492-E488-46C2-B464-2BEDBC6AEA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image" Target="../media/image14.png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6.wmf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gent Communication Languages: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Past, Present and Future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95280" y="41144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annis Labrou and Tim Fin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ity of Maryland Baltimore Cou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s2000, Barcelona, SPAI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06720" y="4267080"/>
            <a:ext cx="1293120" cy="2362320"/>
            <a:chOff x="306720" y="4267080"/>
            <a:chExt cx="1293120" cy="2362320"/>
          </a:xfrm>
        </p:grpSpPr>
        <p:grpSp>
          <p:nvGrpSpPr>
            <p:cNvPr id="42" name=""/>
            <p:cNvGrpSpPr/>
            <p:nvPr/>
          </p:nvGrpSpPr>
          <p:grpSpPr>
            <a:xfrm>
              <a:off x="685800" y="4648320"/>
              <a:ext cx="914040" cy="1981080"/>
              <a:chOff x="685800" y="4648320"/>
              <a:chExt cx="914040" cy="1981080"/>
            </a:xfrm>
          </p:grpSpPr>
          <p:sp>
            <p:nvSpPr>
              <p:cNvPr id="43" name=""/>
              <p:cNvSpPr/>
              <p:nvPr/>
            </p:nvSpPr>
            <p:spPr>
              <a:xfrm>
                <a:off x="685800" y="5105520"/>
                <a:ext cx="914040" cy="9144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61400" y="632448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18600" y="632448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800" y="5562720"/>
                <a:ext cx="914040" cy="9144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37720" y="46483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15400" y="4648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15400" y="5715000"/>
                <a:ext cx="2282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314000" y="6162840"/>
                <a:ext cx="128160" cy="128520"/>
                <a:chOff x="1314000" y="6162840"/>
                <a:chExt cx="128160" cy="128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1314000" y="6162840"/>
                  <a:ext cx="128160" cy="12852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V="1">
                  <a:off x="1377000" y="6200640"/>
                  <a:ext cx="36000" cy="28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867960" y="6162840"/>
                <a:ext cx="128160" cy="128520"/>
                <a:chOff x="867960" y="6162840"/>
                <a:chExt cx="128160" cy="128520"/>
              </a:xfrm>
            </p:grpSpPr>
            <p:sp>
              <p:nvSpPr>
                <p:cNvPr id="54" name=""/>
                <p:cNvSpPr/>
                <p:nvPr/>
              </p:nvSpPr>
              <p:spPr>
                <a:xfrm flipH="1">
                  <a:off x="867960" y="6162840"/>
                  <a:ext cx="128160" cy="12852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 flipV="1">
                  <a:off x="897120" y="6200640"/>
                  <a:ext cx="36000" cy="28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1066320" y="5381640"/>
                <a:ext cx="104400" cy="1047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815400" y="6354720"/>
                <a:ext cx="669240" cy="73080"/>
                <a:chOff x="815400" y="6354720"/>
                <a:chExt cx="669240" cy="730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81540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8812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961200" y="6354720"/>
                  <a:ext cx="7236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04040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11348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18656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26576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33884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41192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1256760" y="5715000"/>
                <a:ext cx="228240" cy="380880"/>
                <a:chOff x="1256760" y="5715000"/>
                <a:chExt cx="228240" cy="3808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256760" y="5715000"/>
                  <a:ext cx="22824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313640" y="5791320"/>
                  <a:ext cx="12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313640" y="5867280"/>
                  <a:ext cx="12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313640" y="5943600"/>
                  <a:ext cx="12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313640" y="6019920"/>
                  <a:ext cx="12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933120" y="5796000"/>
                <a:ext cx="741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57200" y="4267080"/>
              <a:ext cx="837720" cy="83844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9480" y="4419720"/>
              <a:ext cx="533160" cy="53316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1760" y="4572000"/>
              <a:ext cx="228240" cy="22860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3040" y="4267080"/>
              <a:ext cx="51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ask-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16560" y="4648320"/>
              <a:ext cx="63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advert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6720" y="4648320"/>
              <a:ext cx="66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subscri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467480" y="4343400"/>
            <a:ext cx="1469880" cy="2362320"/>
            <a:chOff x="7467480" y="4343400"/>
            <a:chExt cx="1469880" cy="2362320"/>
          </a:xfrm>
        </p:grpSpPr>
        <p:grpSp>
          <p:nvGrpSpPr>
            <p:cNvPr id="81" name=""/>
            <p:cNvGrpSpPr/>
            <p:nvPr/>
          </p:nvGrpSpPr>
          <p:grpSpPr>
            <a:xfrm>
              <a:off x="7467480" y="4724640"/>
              <a:ext cx="914400" cy="1981080"/>
              <a:chOff x="7467480" y="4724640"/>
              <a:chExt cx="914400" cy="1981080"/>
            </a:xfrm>
          </p:grpSpPr>
          <p:sp>
            <p:nvSpPr>
              <p:cNvPr id="82" name=""/>
              <p:cNvSpPr/>
              <p:nvPr/>
            </p:nvSpPr>
            <p:spPr>
              <a:xfrm flipH="1">
                <a:off x="7467480" y="5181840"/>
                <a:ext cx="914400" cy="9144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8000280" y="64008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7543080" y="64008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7467480" y="5639040"/>
                <a:ext cx="914400" cy="9144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229600" y="47246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175600" y="47246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022600" y="5791320"/>
                <a:ext cx="22860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7624440" y="6239160"/>
                <a:ext cx="128520" cy="128520"/>
                <a:chOff x="7624440" y="6239160"/>
                <a:chExt cx="128520" cy="128520"/>
              </a:xfrm>
            </p:grpSpPr>
            <p:sp>
              <p:nvSpPr>
                <p:cNvPr id="90" name=""/>
                <p:cNvSpPr/>
                <p:nvPr/>
              </p:nvSpPr>
              <p:spPr>
                <a:xfrm flipH="1">
                  <a:off x="7624080" y="6239160"/>
                  <a:ext cx="128520" cy="12852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 flipV="1">
                  <a:off x="7653240" y="6276960"/>
                  <a:ext cx="36360" cy="28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8070840" y="6239160"/>
                <a:ext cx="128520" cy="128520"/>
                <a:chOff x="8070840" y="6239160"/>
                <a:chExt cx="128520" cy="1285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8070840" y="6239160"/>
                  <a:ext cx="128520" cy="12852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>
                  <a:off x="8134200" y="6276960"/>
                  <a:ext cx="36360" cy="28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 flipH="1">
                <a:off x="7895520" y="5457960"/>
                <a:ext cx="104760" cy="104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7581600" y="6431040"/>
                <a:ext cx="669960" cy="73080"/>
                <a:chOff x="7581600" y="6431040"/>
                <a:chExt cx="669960" cy="73080"/>
              </a:xfrm>
            </p:grpSpPr>
            <p:sp>
              <p:nvSpPr>
                <p:cNvPr id="97" name=""/>
                <p:cNvSpPr/>
                <p:nvPr/>
              </p:nvSpPr>
              <p:spPr>
                <a:xfrm flipH="1">
                  <a:off x="817812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810504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8032680" y="643104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795276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787968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780660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772740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765432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758124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7581600" y="5791320"/>
                <a:ext cx="228600" cy="380880"/>
                <a:chOff x="7581600" y="5791320"/>
                <a:chExt cx="22860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 flipH="1">
                  <a:off x="7581240" y="5791320"/>
                  <a:ext cx="22860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7629120" y="58676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7629120" y="594360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7629120" y="601992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7629120" y="60962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 flipH="1">
                <a:off x="8058960" y="587232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7772400" y="4343400"/>
              <a:ext cx="838080" cy="83844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24680" y="4496040"/>
              <a:ext cx="533520" cy="53316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77320" y="4648320"/>
              <a:ext cx="228600" cy="22860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7880" y="434340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t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4720" y="449604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22640" y="472464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ulti-agent System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research focuses on developing sophisticated individual agents with advanced cap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search is focused 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ulti-agent syste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AS) with an emphasi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-to-agen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ion and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and coalition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haring among the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beliefs, goals and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 markets and swarm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architectural view is the decentralized market or s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dea -- the parallel, autonomous actions of a large collection of individual agents results i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emergent behavio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colle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market view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umes rational agents whereas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swarm 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ssociated with artificial life, does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ent Characteristic: 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bility?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programs in Telescript, Agent-Tcl, Voyager, etc. and, to a limited degree, Java Appl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-- this definition implies some agent attributes, e.g. autonomy, persistence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agents offer some very interesting advantages as well as some disadvan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n important technology for distributed systems but is largely orthogonal to other “agent”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050840" y="1660680"/>
            <a:ext cx="7102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bile agent is an executing program that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migr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machine to machine in a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heterogeneous network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its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own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Sneakers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1600200" cy="13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ent Characteristic: 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elligence?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The size of the price t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serious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digm covers agents of varying degrees of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t agents will te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and apply more sophisticated domai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ing underlying goals and int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 to unexpected situations in a robust 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NLP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2860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of what we will be saying applies to agents of little or no intel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216440" y="1600200"/>
            <a:ext cx="6959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makes an agent an “intelligent agent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5791320" y="304920"/>
            <a:ext cx="137160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me key ideas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07000" indent="-207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agents offer a new paradigm for very large sca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d heterogeneous application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adigm focuses o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utonomous, cooperating processes which can adapt to humans and other ag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ty is an orthogonal characteristic which many, but not all, consider cent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ligence is always a desirable characteristic but is not required by the paradig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adigm is still for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y is communication important?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07000" indent="-20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, but not all, would agree that communication is a requirement for co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ties can do things that no individual (agent) c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introduces heterogene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nomy encourages disregard for other agents’ internal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ng agents need only care about understanding a “common languag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is communication?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almost always means “communication in a common langu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” does not include natural languages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a “common language”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of its vocabulary, i.e., understanding of  the meaning of its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3680" indent="-220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ing how to effectively use the vocabulary to perform tasks, achieve goals, effect one’s environmen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ftware agents, an Agent Communication Language (ACL) is primarily concerned with the 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gent   Communication    Languages:</a:t>
            </a:r>
            <a:br>
              <a:rPr sz="8000"/>
            </a:b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Useful Concepts</a:t>
            </a:r>
            <a:endParaRPr b="1" lang="en-US" sz="8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 Communication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-to-agent communication is key to realizing the potential of the agent paradigm, just as the development of human language was key to the development of human intelligence and socie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use an </a:t>
            </a: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Agent Communication Languag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ACL to communication information and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sereth (CACM, 1992) defined a software agent as any system which uses an ACL to exchange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752480" y="2895480"/>
            <a:ext cx="7086600" cy="2667240"/>
          </a:xfrm>
          <a:custGeom>
            <a:avLst/>
            <a:gdLst/>
            <a:ahLst/>
            <a:rect l="l" t="t" r="r" b="b"/>
            <a:pathLst>
              <a:path w="4464" h="1680">
                <a:moveTo>
                  <a:pt x="1200" y="240"/>
                </a:moveTo>
                <a:lnTo>
                  <a:pt x="1056" y="336"/>
                </a:lnTo>
                <a:lnTo>
                  <a:pt x="864" y="384"/>
                </a:lnTo>
                <a:lnTo>
                  <a:pt x="672" y="480"/>
                </a:lnTo>
                <a:lnTo>
                  <a:pt x="240" y="576"/>
                </a:lnTo>
                <a:lnTo>
                  <a:pt x="96" y="624"/>
                </a:lnTo>
                <a:lnTo>
                  <a:pt x="0" y="816"/>
                </a:lnTo>
                <a:lnTo>
                  <a:pt x="0" y="1008"/>
                </a:lnTo>
                <a:lnTo>
                  <a:pt x="48" y="1152"/>
                </a:lnTo>
                <a:lnTo>
                  <a:pt x="144" y="1200"/>
                </a:lnTo>
                <a:lnTo>
                  <a:pt x="240" y="1248"/>
                </a:lnTo>
                <a:cubicBezTo>
                  <a:pt x="253" y="1250"/>
                  <a:pt x="302" y="1254"/>
                  <a:pt x="324" y="1264"/>
                </a:cubicBezTo>
                <a:cubicBezTo>
                  <a:pt x="360" y="1281"/>
                  <a:pt x="395" y="1305"/>
                  <a:pt x="437" y="1305"/>
                </a:cubicBezTo>
                <a:lnTo>
                  <a:pt x="576" y="1344"/>
                </a:lnTo>
                <a:lnTo>
                  <a:pt x="720" y="1392"/>
                </a:lnTo>
                <a:lnTo>
                  <a:pt x="960" y="1488"/>
                </a:lnTo>
                <a:lnTo>
                  <a:pt x="1104" y="1536"/>
                </a:lnTo>
                <a:lnTo>
                  <a:pt x="1200" y="1632"/>
                </a:lnTo>
                <a:lnTo>
                  <a:pt x="1392" y="1680"/>
                </a:lnTo>
                <a:lnTo>
                  <a:pt x="1536" y="1680"/>
                </a:lnTo>
                <a:lnTo>
                  <a:pt x="1728" y="1680"/>
                </a:lnTo>
                <a:lnTo>
                  <a:pt x="1968" y="1632"/>
                </a:lnTo>
                <a:lnTo>
                  <a:pt x="2112" y="1584"/>
                </a:lnTo>
                <a:lnTo>
                  <a:pt x="2208" y="1584"/>
                </a:lnTo>
                <a:lnTo>
                  <a:pt x="2352" y="1584"/>
                </a:lnTo>
                <a:lnTo>
                  <a:pt x="2592" y="1584"/>
                </a:lnTo>
                <a:lnTo>
                  <a:pt x="2736" y="1584"/>
                </a:lnTo>
                <a:lnTo>
                  <a:pt x="3120" y="1584"/>
                </a:lnTo>
                <a:lnTo>
                  <a:pt x="3696" y="1584"/>
                </a:lnTo>
                <a:lnTo>
                  <a:pt x="3984" y="1440"/>
                </a:lnTo>
                <a:lnTo>
                  <a:pt x="4176" y="1296"/>
                </a:lnTo>
                <a:lnTo>
                  <a:pt x="4320" y="1104"/>
                </a:lnTo>
                <a:lnTo>
                  <a:pt x="4464" y="816"/>
                </a:lnTo>
                <a:lnTo>
                  <a:pt x="4464" y="576"/>
                </a:lnTo>
                <a:lnTo>
                  <a:pt x="4368" y="480"/>
                </a:lnTo>
                <a:lnTo>
                  <a:pt x="4080" y="384"/>
                </a:lnTo>
                <a:lnTo>
                  <a:pt x="3744" y="432"/>
                </a:lnTo>
                <a:lnTo>
                  <a:pt x="3456" y="432"/>
                </a:lnTo>
                <a:lnTo>
                  <a:pt x="3168" y="384"/>
                </a:lnTo>
                <a:lnTo>
                  <a:pt x="3024" y="336"/>
                </a:lnTo>
                <a:lnTo>
                  <a:pt x="2928" y="336"/>
                </a:lnTo>
                <a:lnTo>
                  <a:pt x="2784" y="288"/>
                </a:lnTo>
                <a:lnTo>
                  <a:pt x="2688" y="192"/>
                </a:lnTo>
                <a:lnTo>
                  <a:pt x="2592" y="96"/>
                </a:lnTo>
                <a:lnTo>
                  <a:pt x="2496" y="48"/>
                </a:lnTo>
                <a:lnTo>
                  <a:pt x="2112" y="0"/>
                </a:lnTo>
                <a:lnTo>
                  <a:pt x="1872" y="0"/>
                </a:lnTo>
                <a:lnTo>
                  <a:pt x="1728" y="48"/>
                </a:lnTo>
                <a:lnTo>
                  <a:pt x="1632" y="48"/>
                </a:lnTo>
                <a:lnTo>
                  <a:pt x="1536" y="96"/>
                </a:lnTo>
                <a:lnTo>
                  <a:pt x="1392" y="96"/>
                </a:lnTo>
                <a:lnTo>
                  <a:pt x="1296" y="192"/>
                </a:lnTo>
                <a:lnTo>
                  <a:pt x="1200" y="24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me ACL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2680" indent="-112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RBA an AC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sharing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QML, KIF,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k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SGI’s O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589120" y="5845320"/>
            <a:ext cx="1428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17920" y="584532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303640" y="5559480"/>
            <a:ext cx="914400" cy="571320"/>
          </a:xfrm>
          <a:prstGeom prst="ellipse">
            <a:avLst/>
          </a:prstGeom>
          <a:solidFill>
            <a:srgbClr val="6699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413160" y="4587840"/>
            <a:ext cx="1096920" cy="685800"/>
          </a:xfrm>
          <a:prstGeom prst="ellipse">
            <a:avLst/>
          </a:prstGeom>
          <a:solidFill>
            <a:srgbClr val="6699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7840" y="3508200"/>
            <a:ext cx="1262160" cy="789120"/>
          </a:xfrm>
          <a:prstGeom prst="ellipse">
            <a:avLst/>
          </a:prstGeom>
          <a:solidFill>
            <a:srgbClr val="6699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37200" y="2362320"/>
            <a:ext cx="1451160" cy="907920"/>
          </a:xfrm>
          <a:prstGeom prst="ellipse">
            <a:avLst/>
          </a:prstGeom>
          <a:solidFill>
            <a:srgbClr val="6699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rot="19380000">
            <a:off x="3098520" y="5208120"/>
            <a:ext cx="485640" cy="279360"/>
          </a:xfrm>
          <a:prstGeom prst="rightArrow">
            <a:avLst>
              <a:gd name="adj1" fmla="val 50000"/>
              <a:gd name="adj2" fmla="val 8692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rot="19380000">
            <a:off x="4289040" y="4322520"/>
            <a:ext cx="576360" cy="280800"/>
          </a:xfrm>
          <a:prstGeom prst="rightArrow">
            <a:avLst>
              <a:gd name="adj1" fmla="val 50000"/>
              <a:gd name="adj2" fmla="val 10263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19380000">
            <a:off x="5661000" y="3255480"/>
            <a:ext cx="692280" cy="314280"/>
          </a:xfrm>
          <a:prstGeom prst="rightArrow">
            <a:avLst>
              <a:gd name="adj1" fmla="val 50000"/>
              <a:gd name="adj2" fmla="val 11014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316320" y="5699160"/>
            <a:ext cx="28303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hared objects, procedure cal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d data struct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631400" y="4724280"/>
            <a:ext cx="2885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hared facts, rules, constraints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ocedures and knowle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946120" y="3695760"/>
            <a:ext cx="2556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hared beliefs, plans, goals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d inten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49200" y="2440080"/>
            <a:ext cx="13215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xperien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d strateg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143000" y="5791320"/>
            <a:ext cx="137160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g., CORB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PC, R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84320" y="4191120"/>
            <a:ext cx="1848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.g., KQML, FI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IF, Ag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95280" y="3429000"/>
            <a:ext cx="702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,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569760" y="4778280"/>
            <a:ext cx="8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ha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802760" y="3730680"/>
            <a:ext cx="861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552720" y="2438280"/>
            <a:ext cx="4453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471760" y="5691240"/>
            <a:ext cx="615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ha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utorial Objectiv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the general requirements of agent communication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etch their conceptual and theoretical underpin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some current languages and their realizations in software implement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A standardization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several agent-based projects which are using some of the ACL components discu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rends and future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o communicate is to manipulate a “common language”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agent communication involves two asp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ing the understanding of a “common language”, as humans do for various domains and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common language in order to achieve tasks and goals, and to effect an agent’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derstanding of the meaning of the tokens of a language is the substrate for any form of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the tokens alone, does not mean ability to communicate;  the use of (any) language is driven by a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 Communication,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 the technical level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transported using some lower-level transport  protocol (SMTP,TCP/IP, HTTP, IIOP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ent Communication Language (ACL) defines the types of messages (and their meaning) that agents may ex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time, agents engage in “conversations.” Such interaction protocols (negotiation, auction, etc.), defines task-oriented, shared sequences of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higher-level conceptualization of an agent’s goals and strategies drives the agent’s communicative (and non-communicative)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hat Comes Next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268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and theoretical foundation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868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yered nature of communication, services, mobility issues, Speech Act Theory, B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and theoretical foundation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868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Representation and Ontology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nowledge Sharing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868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, KQML, Ontolin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undation for Intelligent Physical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868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PA ACL, FIPA Agent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accounts for AC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approaches and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Is, Systems an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and future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Introduction to Agents &amp;  Agent Communication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33720" y="2819520"/>
            <a:ext cx="50036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hat is an agent?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050240" cy="331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144000" indent="-1440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emons (e.g., ftp ag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terface clients (e.g., mail ag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agents (e.g., robo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able agents (e.g., VR and graph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t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440" indent="-1440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-facing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4280" indent="-1494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t human-computer interface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4280" indent="-1494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ive user modeling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440" indent="-1440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sonal (expert) assi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4280" indent="-149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personal retrieval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440" indent="-1440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software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440" indent="-1440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operating software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4280" indent="-1494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discovery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4280" indent="-1494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ors and facilit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4280" indent="-1494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agent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840" y="1143000"/>
            <a:ext cx="869616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An agent is a powerful and ubiquit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abstraction in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merlin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hondarobot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990720" cy="1562040"/>
          </a:xfrm>
          <a:prstGeom prst="rect">
            <a:avLst/>
          </a:prstGeom>
          <a:ln w="0">
            <a:noFill/>
          </a:ln>
        </p:spPr>
      </p:pic>
      <p:pic>
        <p:nvPicPr>
          <p:cNvPr id="130" name="clip" descr=""/>
          <p:cNvPicPr/>
          <p:nvPr/>
        </p:nvPicPr>
        <p:blipFill>
          <a:blip r:embed="rId3"/>
          <a:stretch/>
        </p:blipFill>
        <p:spPr>
          <a:xfrm>
            <a:off x="380880" y="533520"/>
            <a:ext cx="1219320" cy="1085760"/>
          </a:xfrm>
          <a:prstGeom prst="rect">
            <a:avLst/>
          </a:prstGeom>
          <a:ln w="0">
            <a:noFill/>
          </a:ln>
        </p:spPr>
      </p:pic>
      <p:pic>
        <p:nvPicPr>
          <p:cNvPr id="131" name="odyssey" descr=""/>
          <p:cNvPicPr/>
          <p:nvPr/>
        </p:nvPicPr>
        <p:blipFill>
          <a:blip r:embed="rId4"/>
          <a:stretch/>
        </p:blipFill>
        <p:spPr>
          <a:xfrm>
            <a:off x="7315200" y="3962520"/>
            <a:ext cx="1219320" cy="950760"/>
          </a:xfrm>
          <a:prstGeom prst="rect">
            <a:avLst/>
          </a:prstGeom>
          <a:ln w="0">
            <a:noFill/>
          </a:ln>
        </p:spPr>
      </p:pic>
      <p:pic>
        <p:nvPicPr>
          <p:cNvPr id="132" name="angst" descr=""/>
          <p:cNvPicPr/>
          <p:nvPr/>
        </p:nvPicPr>
        <p:blipFill>
          <a:blip r:embed="rId5"/>
          <a:stretch/>
        </p:blipFill>
        <p:spPr>
          <a:xfrm>
            <a:off x="5334120" y="48769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33" name="aibo" descr=""/>
          <p:cNvPicPr/>
          <p:nvPr/>
        </p:nvPicPr>
        <p:blipFill>
          <a:blip r:embed="rId6"/>
          <a:stretch/>
        </p:blipFill>
        <p:spPr>
          <a:xfrm>
            <a:off x="7086600" y="5334120"/>
            <a:ext cx="162720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65240"/>
            <a:ext cx="914400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s: A system-building paradigm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572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1520" y="1752480"/>
            <a:ext cx="7392600" cy="3255480"/>
            <a:chOff x="911520" y="1752480"/>
            <a:chExt cx="7392600" cy="3255480"/>
          </a:xfrm>
        </p:grpSpPr>
        <p:sp>
          <p:nvSpPr>
            <p:cNvPr id="137" name=""/>
            <p:cNvSpPr/>
            <p:nvPr/>
          </p:nvSpPr>
          <p:spPr>
            <a:xfrm rot="2760000">
              <a:off x="3728880" y="3624480"/>
              <a:ext cx="254160" cy="685800"/>
            </a:xfrm>
            <a:prstGeom prst="upArrow">
              <a:avLst>
                <a:gd name="adj1" fmla="val 50000"/>
                <a:gd name="adj2" fmla="val 134903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760000">
              <a:off x="5136840" y="2231640"/>
              <a:ext cx="253800" cy="685800"/>
            </a:xfrm>
            <a:prstGeom prst="downArrow">
              <a:avLst>
                <a:gd name="adj1" fmla="val 50000"/>
                <a:gd name="adj2" fmla="val 135119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760000">
              <a:off x="3509640" y="2503440"/>
              <a:ext cx="685800" cy="253800"/>
            </a:xfrm>
            <a:prstGeom prst="rightArrow">
              <a:avLst>
                <a:gd name="adj1" fmla="val 50000"/>
                <a:gd name="adj2" fmla="val 135119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760000">
              <a:off x="4869000" y="3909600"/>
              <a:ext cx="685800" cy="254160"/>
            </a:xfrm>
            <a:prstGeom prst="leftArrow">
              <a:avLst>
                <a:gd name="adj1" fmla="val 50000"/>
                <a:gd name="adj2" fmla="val 134903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760000">
              <a:off x="3994200" y="2768400"/>
              <a:ext cx="1041480" cy="1092240"/>
            </a:xfrm>
            <a:custGeom>
              <a:avLst/>
              <a:gdLst>
                <a:gd name="textAreaLeft" fmla="*/ 237600 w 1041480"/>
                <a:gd name="textAreaRight" fmla="*/ 803880 w 1041480"/>
                <a:gd name="textAreaTop" fmla="*/ 249120 h 1092240"/>
                <a:gd name="textAreaBottom" fmla="*/ 84312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62800" y="1806480"/>
              <a:ext cx="1676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51880" y="4092480"/>
              <a:ext cx="22942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atabase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Knowledge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90080" y="1752480"/>
              <a:ext cx="1779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etrie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87360" y="4014720"/>
              <a:ext cx="1387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50720" y="311004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8520" y="3024360"/>
              <a:ext cx="1515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ogniti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Sc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2560" y="3149640"/>
              <a:ext cx="787680" cy="330120"/>
            </a:xfrm>
            <a:prstGeom prst="leftArrow">
              <a:avLst>
                <a:gd name="adj1" fmla="val 50000"/>
                <a:gd name="adj2" fmla="val 119291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59200" y="3149640"/>
              <a:ext cx="787320" cy="330120"/>
            </a:xfrm>
            <a:prstGeom prst="rightArrow">
              <a:avLst>
                <a:gd name="adj1" fmla="val 50000"/>
                <a:gd name="adj2" fmla="val 119259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22000" y="3141720"/>
              <a:ext cx="96372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I 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11520" y="3102120"/>
              <a:ext cx="184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obile co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52680" y="5450040"/>
            <a:ext cx="6370560" cy="1443960"/>
            <a:chOff x="1552680" y="5450040"/>
            <a:chExt cx="6370560" cy="1443960"/>
          </a:xfrm>
        </p:grpSpPr>
        <p:grpSp>
          <p:nvGrpSpPr>
            <p:cNvPr id="153" name=""/>
            <p:cNvGrpSpPr/>
            <p:nvPr/>
          </p:nvGrpSpPr>
          <p:grpSpPr>
            <a:xfrm>
              <a:off x="3635280" y="5499000"/>
              <a:ext cx="1581120" cy="900360"/>
              <a:chOff x="3635280" y="5499000"/>
              <a:chExt cx="1581120" cy="90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3689280" y="5499000"/>
                <a:ext cx="147312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bjec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8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5280" y="5923080"/>
                <a:ext cx="1581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552680" y="5450040"/>
              <a:ext cx="1498320" cy="1443960"/>
              <a:chOff x="1552680" y="5450040"/>
              <a:chExt cx="1498320" cy="14439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2680" y="5450040"/>
                <a:ext cx="1473120" cy="14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9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77880" y="5932440"/>
                <a:ext cx="1473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52960" y="5576760"/>
              <a:ext cx="2870280" cy="782280"/>
              <a:chOff x="5052960" y="5576760"/>
              <a:chExt cx="2870280" cy="782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052960" y="5576760"/>
                <a:ext cx="2870280" cy="78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2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ructur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2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gramm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7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78440" y="5972040"/>
                <a:ext cx="1212840" cy="1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3114360" y="5554800"/>
              <a:ext cx="451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8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94080" y="5629320"/>
              <a:ext cx="451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8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, what’s a software agent?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162720" indent="-16272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sensus yet, but several key properties are important to this emerging paradigm.  Agent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5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nomou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ing the initiative as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5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-dir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intaining an agenda of goals which it pursues until accomplished or believed im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5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a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agent can delegate rights/actions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5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u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n environment (computational and/or physical) which it is aware of and reacts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5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perat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o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(software or human) to accomplish its t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5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other                                     agents (human or soft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5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odifying beliefs                                                       &amp; behavior based on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4120" y="4876920"/>
            <a:ext cx="3809880" cy="16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ftware Agent Characteristic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391920" y="1574640"/>
            <a:ext cx="2358360" cy="2857680"/>
            <a:chOff x="3391920" y="1574640"/>
            <a:chExt cx="2358360" cy="2857680"/>
          </a:xfrm>
        </p:grpSpPr>
        <p:sp>
          <p:nvSpPr>
            <p:cNvPr id="169" name=""/>
            <p:cNvSpPr/>
            <p:nvPr/>
          </p:nvSpPr>
          <p:spPr>
            <a:xfrm>
              <a:off x="3517920" y="2273400"/>
              <a:ext cx="2158920" cy="2158920"/>
            </a:xfrm>
            <a:prstGeom prst="ellipse">
              <a:avLst/>
            </a:prstGeom>
            <a:noFill/>
            <a:ln w="12708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91920" y="1574640"/>
              <a:ext cx="2358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Times New Roman"/>
                </a:rPr>
                <a:t>Coope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49160" y="3492360"/>
            <a:ext cx="4140360" cy="2159280"/>
            <a:chOff x="749160" y="3492360"/>
            <a:chExt cx="4140360" cy="2159280"/>
          </a:xfrm>
        </p:grpSpPr>
        <p:sp>
          <p:nvSpPr>
            <p:cNvPr id="172" name=""/>
            <p:cNvSpPr/>
            <p:nvPr/>
          </p:nvSpPr>
          <p:spPr>
            <a:xfrm>
              <a:off x="2730600" y="3492360"/>
              <a:ext cx="2158920" cy="2159280"/>
            </a:xfrm>
            <a:prstGeom prst="ellipse">
              <a:avLst/>
            </a:prstGeom>
            <a:noFill/>
            <a:ln w="127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9160" y="4924440"/>
              <a:ext cx="2016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utonom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305240" y="3492360"/>
            <a:ext cx="4383000" cy="2159280"/>
            <a:chOff x="4305240" y="3492360"/>
            <a:chExt cx="4383000" cy="2159280"/>
          </a:xfrm>
        </p:grpSpPr>
        <p:sp>
          <p:nvSpPr>
            <p:cNvPr id="175" name=""/>
            <p:cNvSpPr/>
            <p:nvPr/>
          </p:nvSpPr>
          <p:spPr>
            <a:xfrm>
              <a:off x="4305240" y="3492360"/>
              <a:ext cx="2158920" cy="2159280"/>
            </a:xfrm>
            <a:prstGeom prst="ellipse">
              <a:avLst/>
            </a:prstGeom>
            <a:noFill/>
            <a:ln w="12708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35800" y="4846680"/>
              <a:ext cx="2152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00"/>
                  </a:solidFill>
                  <a:latin typeface="Times New Roman"/>
                </a:rPr>
                <a:t>Adapt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464800" y="6126120"/>
            <a:ext cx="3089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fter Hyacinth Nwana,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5791320"/>
            <a:ext cx="314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these characteristics are not independent and, in general, support one an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gent Architectur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365760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ed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and sw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138560" y="2649600"/>
            <a:ext cx="5004000" cy="3746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20760" y="1463760"/>
            <a:ext cx="67024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are using several archite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gent-based information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ediated Architectur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generalize the client-server architecture which has dominated the Internet since its begi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derhold introduced the notion of a “mediated architecture” for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46080" y="3460680"/>
            <a:ext cx="2347920" cy="2841840"/>
            <a:chOff x="946080" y="3460680"/>
            <a:chExt cx="2347920" cy="2841840"/>
          </a:xfrm>
        </p:grpSpPr>
        <p:sp>
          <p:nvSpPr>
            <p:cNvPr id="186" name=""/>
            <p:cNvSpPr/>
            <p:nvPr/>
          </p:nvSpPr>
          <p:spPr>
            <a:xfrm>
              <a:off x="2673360" y="3668760"/>
              <a:ext cx="620640" cy="5587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73360" y="4329000"/>
              <a:ext cx="620640" cy="55908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54360" y="3746520"/>
              <a:ext cx="634680" cy="105084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9" name=""/>
            <p:cNvGraphicFramePr/>
            <p:nvPr/>
          </p:nvGraphicFramePr>
          <p:xfrm>
            <a:off x="946080" y="3646440"/>
            <a:ext cx="317520" cy="32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46080" y="364644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946080" y="4103640"/>
            <a:ext cx="317520" cy="32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46080" y="410364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946080" y="4560840"/>
            <a:ext cx="317520" cy="320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46080" y="456084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946080" y="5056200"/>
            <a:ext cx="317520" cy="32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46080" y="505620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946080" y="5513400"/>
            <a:ext cx="317520" cy="320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946080" y="551340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"/>
            <p:cNvGraphicFramePr/>
            <p:nvPr/>
          </p:nvGraphicFramePr>
          <p:xfrm>
            <a:off x="946080" y="5970600"/>
            <a:ext cx="317520" cy="320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46080" y="597060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"/>
            <p:cNvSpPr/>
            <p:nvPr/>
          </p:nvSpPr>
          <p:spPr>
            <a:xfrm>
              <a:off x="1263600" y="37767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63600" y="42339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63600" y="469728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57480" y="519264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7480" y="564984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63600" y="610704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0920" y="394164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65120" y="3668760"/>
              <a:ext cx="279360" cy="290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65120" y="4127400"/>
              <a:ext cx="279360" cy="290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65120" y="4584600"/>
              <a:ext cx="279360" cy="290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65120" y="5078520"/>
              <a:ext cx="279360" cy="290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65120" y="5537160"/>
              <a:ext cx="279360" cy="290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65120" y="5994360"/>
              <a:ext cx="279360" cy="2905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65120" y="4735440"/>
              <a:ext cx="279360" cy="139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65120" y="5230800"/>
              <a:ext cx="279360" cy="139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63560" y="382752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71560" y="3833640"/>
              <a:ext cx="0" cy="231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63560" y="4278240"/>
              <a:ext cx="90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63560" y="473544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63560" y="522432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63560" y="5688000"/>
              <a:ext cx="90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3560" y="615780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65120" y="4278240"/>
              <a:ext cx="279360" cy="139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65120" y="5688000"/>
              <a:ext cx="279360" cy="139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84440" y="394812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920" y="46148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357560" y="3686040"/>
              <a:ext cx="312120" cy="292320"/>
              <a:chOff x="1357560" y="3686040"/>
              <a:chExt cx="312120" cy="292320"/>
            </a:xfrm>
          </p:grpSpPr>
          <p:sp>
            <p:nvSpPr>
              <p:cNvPr id="228" name=""/>
              <p:cNvSpPr/>
              <p:nvPr/>
            </p:nvSpPr>
            <p:spPr>
              <a:xfrm>
                <a:off x="1409760" y="370044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57560" y="3686040"/>
                <a:ext cx="312120" cy="29232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357560" y="4143240"/>
              <a:ext cx="312120" cy="292320"/>
              <a:chOff x="1357560" y="4143240"/>
              <a:chExt cx="312120" cy="2923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09760" y="415764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57560" y="4143240"/>
                <a:ext cx="312120" cy="29232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357560" y="4600440"/>
              <a:ext cx="312120" cy="292320"/>
              <a:chOff x="1357560" y="4600440"/>
              <a:chExt cx="312120" cy="292320"/>
            </a:xfrm>
          </p:grpSpPr>
          <p:sp>
            <p:nvSpPr>
              <p:cNvPr id="234" name=""/>
              <p:cNvSpPr/>
              <p:nvPr/>
            </p:nvSpPr>
            <p:spPr>
              <a:xfrm>
                <a:off x="1409760" y="461484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57560" y="4600440"/>
                <a:ext cx="312120" cy="29232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57560" y="5095800"/>
              <a:ext cx="312120" cy="292320"/>
              <a:chOff x="1357560" y="5095800"/>
              <a:chExt cx="312120" cy="292320"/>
            </a:xfrm>
          </p:grpSpPr>
          <p:sp>
            <p:nvSpPr>
              <p:cNvPr id="237" name=""/>
              <p:cNvSpPr/>
              <p:nvPr/>
            </p:nvSpPr>
            <p:spPr>
              <a:xfrm>
                <a:off x="1409760" y="511020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57560" y="5095800"/>
                <a:ext cx="312120" cy="29232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359360" y="5553000"/>
              <a:ext cx="312120" cy="292320"/>
              <a:chOff x="1359360" y="5553000"/>
              <a:chExt cx="312120" cy="292320"/>
            </a:xfrm>
          </p:grpSpPr>
          <p:sp>
            <p:nvSpPr>
              <p:cNvPr id="240" name=""/>
              <p:cNvSpPr/>
              <p:nvPr/>
            </p:nvSpPr>
            <p:spPr>
              <a:xfrm>
                <a:off x="1409760" y="556740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59360" y="5553000"/>
                <a:ext cx="312120" cy="29232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1359360" y="6010200"/>
              <a:ext cx="312120" cy="292320"/>
              <a:chOff x="1359360" y="6010200"/>
              <a:chExt cx="312120" cy="29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409760" y="602460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59360" y="6010200"/>
                <a:ext cx="312120" cy="29232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898640" y="394812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98640" y="437364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11520" y="3821040"/>
              <a:ext cx="55224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11520" y="4481640"/>
              <a:ext cx="55224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73360" y="5078520"/>
              <a:ext cx="620640" cy="5587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73360" y="5738760"/>
              <a:ext cx="620640" cy="5587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54360" y="5156280"/>
              <a:ext cx="634680" cy="105084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90920" y="535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4440" y="535788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90920" y="60246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98640" y="535788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98640" y="578340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11520" y="5230800"/>
              <a:ext cx="552240" cy="36828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11520" y="5891040"/>
              <a:ext cx="552240" cy="36864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27600" y="3460680"/>
              <a:ext cx="567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81d58"/>
                  </a:solidFill>
                  <a:latin typeface="Arial"/>
                </a:rPr>
                <a:t>Cli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867560" y="3505320"/>
            <a:ext cx="3782520" cy="2847960"/>
            <a:chOff x="4867560" y="3505320"/>
            <a:chExt cx="3782520" cy="2847960"/>
          </a:xfrm>
        </p:grpSpPr>
        <p:sp>
          <p:nvSpPr>
            <p:cNvPr id="261" name=""/>
            <p:cNvSpPr/>
            <p:nvPr/>
          </p:nvSpPr>
          <p:spPr>
            <a:xfrm>
              <a:off x="6964200" y="3713040"/>
              <a:ext cx="1562040" cy="52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013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26120" y="4613400"/>
              <a:ext cx="1562040" cy="52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013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88040" y="5322960"/>
              <a:ext cx="1562040" cy="52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013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59760" y="5688360"/>
              <a:ext cx="92340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86720" y="4813200"/>
              <a:ext cx="125640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60080" y="5275440"/>
              <a:ext cx="14212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53600" y="5634000"/>
              <a:ext cx="14277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86280" y="6091200"/>
              <a:ext cx="1660320" cy="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67560" y="4017960"/>
              <a:ext cx="144720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91480" y="4441680"/>
              <a:ext cx="125640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10400" y="3627360"/>
              <a:ext cx="144720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2" name=""/>
            <p:cNvGraphicFramePr/>
            <p:nvPr/>
          </p:nvGraphicFramePr>
          <p:xfrm>
            <a:off x="5438880" y="3505320"/>
            <a:ext cx="342720" cy="34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38880" y="3505320"/>
                      <a:ext cx="34272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" name=""/>
            <p:cNvGraphicFramePr/>
            <p:nvPr/>
          </p:nvGraphicFramePr>
          <p:xfrm>
            <a:off x="5460840" y="3897360"/>
            <a:ext cx="343080" cy="345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60840" y="3897360"/>
                      <a:ext cx="3430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5454720" y="4700520"/>
            <a:ext cx="342720" cy="346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54720" y="4700520"/>
                      <a:ext cx="34272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5462640" y="5500800"/>
            <a:ext cx="342720" cy="345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462640" y="5500800"/>
                      <a:ext cx="34272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6175440" y="385272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1680" y="3537000"/>
              <a:ext cx="1214280" cy="2816280"/>
            </a:xfrm>
            <a:custGeom>
              <a:avLst/>
              <a:gdLst/>
              <a:ahLst/>
              <a:rect l="l" t="t" r="r" b="b"/>
              <a:pathLst>
                <a:path w="765" h="1774">
                  <a:moveTo>
                    <a:pt x="118" y="46"/>
                  </a:moveTo>
                  <a:lnTo>
                    <a:pt x="73" y="73"/>
                  </a:lnTo>
                  <a:lnTo>
                    <a:pt x="46" y="82"/>
                  </a:lnTo>
                  <a:lnTo>
                    <a:pt x="27" y="100"/>
                  </a:lnTo>
                  <a:lnTo>
                    <a:pt x="9" y="128"/>
                  </a:lnTo>
                  <a:lnTo>
                    <a:pt x="0" y="155"/>
                  </a:lnTo>
                  <a:lnTo>
                    <a:pt x="0" y="182"/>
                  </a:lnTo>
                  <a:lnTo>
                    <a:pt x="0" y="209"/>
                  </a:lnTo>
                  <a:lnTo>
                    <a:pt x="0" y="228"/>
                  </a:lnTo>
                  <a:lnTo>
                    <a:pt x="0" y="255"/>
                  </a:lnTo>
                  <a:lnTo>
                    <a:pt x="0" y="282"/>
                  </a:lnTo>
                  <a:lnTo>
                    <a:pt x="0" y="309"/>
                  </a:lnTo>
                  <a:lnTo>
                    <a:pt x="9" y="337"/>
                  </a:lnTo>
                  <a:lnTo>
                    <a:pt x="27" y="364"/>
                  </a:lnTo>
                  <a:lnTo>
                    <a:pt x="36" y="391"/>
                  </a:lnTo>
                  <a:lnTo>
                    <a:pt x="55" y="409"/>
                  </a:lnTo>
                  <a:lnTo>
                    <a:pt x="55" y="437"/>
                  </a:lnTo>
                  <a:lnTo>
                    <a:pt x="64" y="464"/>
                  </a:lnTo>
                  <a:lnTo>
                    <a:pt x="64" y="491"/>
                  </a:lnTo>
                  <a:lnTo>
                    <a:pt x="73" y="518"/>
                  </a:lnTo>
                  <a:lnTo>
                    <a:pt x="73" y="537"/>
                  </a:lnTo>
                  <a:lnTo>
                    <a:pt x="73" y="564"/>
                  </a:lnTo>
                  <a:lnTo>
                    <a:pt x="73" y="591"/>
                  </a:lnTo>
                  <a:lnTo>
                    <a:pt x="73" y="618"/>
                  </a:lnTo>
                  <a:lnTo>
                    <a:pt x="73" y="646"/>
                  </a:lnTo>
                  <a:lnTo>
                    <a:pt x="73" y="673"/>
                  </a:lnTo>
                  <a:lnTo>
                    <a:pt x="64" y="700"/>
                  </a:lnTo>
                  <a:lnTo>
                    <a:pt x="46" y="727"/>
                  </a:lnTo>
                  <a:lnTo>
                    <a:pt x="46" y="746"/>
                  </a:lnTo>
                  <a:lnTo>
                    <a:pt x="36" y="773"/>
                  </a:lnTo>
                  <a:lnTo>
                    <a:pt x="27" y="800"/>
                  </a:lnTo>
                  <a:lnTo>
                    <a:pt x="18" y="836"/>
                  </a:lnTo>
                  <a:lnTo>
                    <a:pt x="18" y="855"/>
                  </a:lnTo>
                  <a:lnTo>
                    <a:pt x="9" y="882"/>
                  </a:lnTo>
                  <a:lnTo>
                    <a:pt x="9" y="909"/>
                  </a:lnTo>
                  <a:lnTo>
                    <a:pt x="9" y="936"/>
                  </a:lnTo>
                  <a:lnTo>
                    <a:pt x="9" y="955"/>
                  </a:lnTo>
                  <a:lnTo>
                    <a:pt x="9" y="982"/>
                  </a:lnTo>
                  <a:lnTo>
                    <a:pt x="18" y="1009"/>
                  </a:lnTo>
                  <a:lnTo>
                    <a:pt x="27" y="1100"/>
                  </a:lnTo>
                  <a:lnTo>
                    <a:pt x="36" y="1100"/>
                  </a:lnTo>
                  <a:lnTo>
                    <a:pt x="46" y="1100"/>
                  </a:lnTo>
                  <a:lnTo>
                    <a:pt x="55" y="1100"/>
                  </a:lnTo>
                  <a:lnTo>
                    <a:pt x="64" y="1100"/>
                  </a:lnTo>
                  <a:lnTo>
                    <a:pt x="73" y="1100"/>
                  </a:lnTo>
                  <a:lnTo>
                    <a:pt x="82" y="1100"/>
                  </a:lnTo>
                  <a:lnTo>
                    <a:pt x="109" y="1100"/>
                  </a:lnTo>
                  <a:lnTo>
                    <a:pt x="136" y="1100"/>
                  </a:lnTo>
                  <a:lnTo>
                    <a:pt x="155" y="1100"/>
                  </a:lnTo>
                  <a:lnTo>
                    <a:pt x="164" y="1100"/>
                  </a:lnTo>
                  <a:lnTo>
                    <a:pt x="173" y="1100"/>
                  </a:lnTo>
                  <a:lnTo>
                    <a:pt x="182" y="1100"/>
                  </a:lnTo>
                  <a:lnTo>
                    <a:pt x="191" y="1100"/>
                  </a:lnTo>
                  <a:lnTo>
                    <a:pt x="191" y="1173"/>
                  </a:lnTo>
                  <a:lnTo>
                    <a:pt x="182" y="1200"/>
                  </a:lnTo>
                  <a:lnTo>
                    <a:pt x="155" y="1227"/>
                  </a:lnTo>
                  <a:lnTo>
                    <a:pt x="136" y="1245"/>
                  </a:lnTo>
                  <a:lnTo>
                    <a:pt x="118" y="1264"/>
                  </a:lnTo>
                  <a:lnTo>
                    <a:pt x="100" y="1291"/>
                  </a:lnTo>
                  <a:lnTo>
                    <a:pt x="82" y="1318"/>
                  </a:lnTo>
                  <a:lnTo>
                    <a:pt x="64" y="1345"/>
                  </a:lnTo>
                  <a:lnTo>
                    <a:pt x="64" y="1364"/>
                  </a:lnTo>
                  <a:lnTo>
                    <a:pt x="46" y="1391"/>
                  </a:lnTo>
                  <a:lnTo>
                    <a:pt x="46" y="1418"/>
                  </a:lnTo>
                  <a:lnTo>
                    <a:pt x="46" y="1445"/>
                  </a:lnTo>
                  <a:lnTo>
                    <a:pt x="46" y="1464"/>
                  </a:lnTo>
                  <a:lnTo>
                    <a:pt x="55" y="1491"/>
                  </a:lnTo>
                  <a:lnTo>
                    <a:pt x="82" y="1509"/>
                  </a:lnTo>
                  <a:lnTo>
                    <a:pt x="100" y="1536"/>
                  </a:lnTo>
                  <a:lnTo>
                    <a:pt x="100" y="1564"/>
                  </a:lnTo>
                  <a:lnTo>
                    <a:pt x="100" y="1591"/>
                  </a:lnTo>
                  <a:lnTo>
                    <a:pt x="91" y="1618"/>
                  </a:lnTo>
                  <a:lnTo>
                    <a:pt x="91" y="1645"/>
                  </a:lnTo>
                  <a:lnTo>
                    <a:pt x="91" y="1673"/>
                  </a:lnTo>
                  <a:lnTo>
                    <a:pt x="91" y="1700"/>
                  </a:lnTo>
                  <a:lnTo>
                    <a:pt x="118" y="1718"/>
                  </a:lnTo>
                  <a:lnTo>
                    <a:pt x="146" y="1745"/>
                  </a:lnTo>
                  <a:lnTo>
                    <a:pt x="173" y="1754"/>
                  </a:lnTo>
                  <a:lnTo>
                    <a:pt x="200" y="1763"/>
                  </a:lnTo>
                  <a:lnTo>
                    <a:pt x="227" y="1773"/>
                  </a:lnTo>
                  <a:lnTo>
                    <a:pt x="246" y="1773"/>
                  </a:lnTo>
                  <a:lnTo>
                    <a:pt x="273" y="1773"/>
                  </a:lnTo>
                  <a:lnTo>
                    <a:pt x="309" y="1773"/>
                  </a:lnTo>
                  <a:lnTo>
                    <a:pt x="346" y="1773"/>
                  </a:lnTo>
                  <a:lnTo>
                    <a:pt x="382" y="1773"/>
                  </a:lnTo>
                  <a:lnTo>
                    <a:pt x="418" y="1773"/>
                  </a:lnTo>
                  <a:lnTo>
                    <a:pt x="446" y="1773"/>
                  </a:lnTo>
                  <a:lnTo>
                    <a:pt x="473" y="1763"/>
                  </a:lnTo>
                  <a:lnTo>
                    <a:pt x="500" y="1754"/>
                  </a:lnTo>
                  <a:lnTo>
                    <a:pt x="527" y="1745"/>
                  </a:lnTo>
                  <a:lnTo>
                    <a:pt x="546" y="1727"/>
                  </a:lnTo>
                  <a:lnTo>
                    <a:pt x="564" y="1700"/>
                  </a:lnTo>
                  <a:lnTo>
                    <a:pt x="573" y="1673"/>
                  </a:lnTo>
                  <a:lnTo>
                    <a:pt x="582" y="1654"/>
                  </a:lnTo>
                  <a:lnTo>
                    <a:pt x="582" y="1627"/>
                  </a:lnTo>
                  <a:lnTo>
                    <a:pt x="591" y="1600"/>
                  </a:lnTo>
                  <a:lnTo>
                    <a:pt x="609" y="1573"/>
                  </a:lnTo>
                  <a:lnTo>
                    <a:pt x="636" y="1554"/>
                  </a:lnTo>
                  <a:lnTo>
                    <a:pt x="664" y="1545"/>
                  </a:lnTo>
                  <a:lnTo>
                    <a:pt x="691" y="1536"/>
                  </a:lnTo>
                  <a:lnTo>
                    <a:pt x="718" y="1509"/>
                  </a:lnTo>
                  <a:lnTo>
                    <a:pt x="736" y="1482"/>
                  </a:lnTo>
                  <a:lnTo>
                    <a:pt x="745" y="1445"/>
                  </a:lnTo>
                  <a:lnTo>
                    <a:pt x="755" y="1409"/>
                  </a:lnTo>
                  <a:lnTo>
                    <a:pt x="755" y="1382"/>
                  </a:lnTo>
                  <a:lnTo>
                    <a:pt x="764" y="1354"/>
                  </a:lnTo>
                  <a:lnTo>
                    <a:pt x="764" y="1327"/>
                  </a:lnTo>
                  <a:lnTo>
                    <a:pt x="764" y="1300"/>
                  </a:lnTo>
                  <a:lnTo>
                    <a:pt x="764" y="1264"/>
                  </a:lnTo>
                  <a:lnTo>
                    <a:pt x="764" y="1245"/>
                  </a:lnTo>
                  <a:lnTo>
                    <a:pt x="764" y="1218"/>
                  </a:lnTo>
                  <a:lnTo>
                    <a:pt x="764" y="1182"/>
                  </a:lnTo>
                  <a:lnTo>
                    <a:pt x="764" y="1100"/>
                  </a:lnTo>
                  <a:lnTo>
                    <a:pt x="755" y="1100"/>
                  </a:lnTo>
                  <a:lnTo>
                    <a:pt x="745" y="1100"/>
                  </a:lnTo>
                  <a:lnTo>
                    <a:pt x="745" y="1027"/>
                  </a:lnTo>
                  <a:lnTo>
                    <a:pt x="745" y="1000"/>
                  </a:lnTo>
                  <a:lnTo>
                    <a:pt x="745" y="973"/>
                  </a:lnTo>
                  <a:lnTo>
                    <a:pt x="745" y="936"/>
                  </a:lnTo>
                  <a:lnTo>
                    <a:pt x="745" y="909"/>
                  </a:lnTo>
                  <a:lnTo>
                    <a:pt x="736" y="882"/>
                  </a:lnTo>
                  <a:lnTo>
                    <a:pt x="727" y="855"/>
                  </a:lnTo>
                  <a:lnTo>
                    <a:pt x="718" y="836"/>
                  </a:lnTo>
                  <a:lnTo>
                    <a:pt x="691" y="809"/>
                  </a:lnTo>
                  <a:lnTo>
                    <a:pt x="682" y="773"/>
                  </a:lnTo>
                  <a:lnTo>
                    <a:pt x="673" y="746"/>
                  </a:lnTo>
                  <a:lnTo>
                    <a:pt x="664" y="727"/>
                  </a:lnTo>
                  <a:lnTo>
                    <a:pt x="664" y="700"/>
                  </a:lnTo>
                  <a:lnTo>
                    <a:pt x="664" y="673"/>
                  </a:lnTo>
                  <a:lnTo>
                    <a:pt x="673" y="646"/>
                  </a:lnTo>
                  <a:lnTo>
                    <a:pt x="682" y="627"/>
                  </a:lnTo>
                  <a:lnTo>
                    <a:pt x="691" y="600"/>
                  </a:lnTo>
                  <a:lnTo>
                    <a:pt x="700" y="573"/>
                  </a:lnTo>
                  <a:lnTo>
                    <a:pt x="709" y="546"/>
                  </a:lnTo>
                  <a:lnTo>
                    <a:pt x="718" y="527"/>
                  </a:lnTo>
                  <a:lnTo>
                    <a:pt x="727" y="500"/>
                  </a:lnTo>
                  <a:lnTo>
                    <a:pt x="736" y="473"/>
                  </a:lnTo>
                  <a:lnTo>
                    <a:pt x="745" y="446"/>
                  </a:lnTo>
                  <a:lnTo>
                    <a:pt x="745" y="427"/>
                  </a:lnTo>
                  <a:lnTo>
                    <a:pt x="745" y="400"/>
                  </a:lnTo>
                  <a:lnTo>
                    <a:pt x="745" y="373"/>
                  </a:lnTo>
                  <a:lnTo>
                    <a:pt x="745" y="346"/>
                  </a:lnTo>
                  <a:lnTo>
                    <a:pt x="745" y="327"/>
                  </a:lnTo>
                  <a:lnTo>
                    <a:pt x="727" y="300"/>
                  </a:lnTo>
                  <a:lnTo>
                    <a:pt x="691" y="282"/>
                  </a:lnTo>
                  <a:lnTo>
                    <a:pt x="655" y="264"/>
                  </a:lnTo>
                  <a:lnTo>
                    <a:pt x="636" y="255"/>
                  </a:lnTo>
                  <a:lnTo>
                    <a:pt x="609" y="228"/>
                  </a:lnTo>
                  <a:lnTo>
                    <a:pt x="591" y="209"/>
                  </a:lnTo>
                  <a:lnTo>
                    <a:pt x="564" y="182"/>
                  </a:lnTo>
                  <a:lnTo>
                    <a:pt x="546" y="155"/>
                  </a:lnTo>
                  <a:lnTo>
                    <a:pt x="536" y="128"/>
                  </a:lnTo>
                  <a:lnTo>
                    <a:pt x="527" y="109"/>
                  </a:lnTo>
                  <a:lnTo>
                    <a:pt x="491" y="82"/>
                  </a:lnTo>
                  <a:lnTo>
                    <a:pt x="464" y="64"/>
                  </a:lnTo>
                  <a:lnTo>
                    <a:pt x="436" y="46"/>
                  </a:lnTo>
                  <a:lnTo>
                    <a:pt x="409" y="28"/>
                  </a:lnTo>
                  <a:lnTo>
                    <a:pt x="382" y="18"/>
                  </a:lnTo>
                  <a:lnTo>
                    <a:pt x="346" y="9"/>
                  </a:lnTo>
                  <a:lnTo>
                    <a:pt x="327" y="9"/>
                  </a:lnTo>
                  <a:lnTo>
                    <a:pt x="300" y="0"/>
                  </a:lnTo>
                  <a:lnTo>
                    <a:pt x="273" y="0"/>
                  </a:lnTo>
                  <a:lnTo>
                    <a:pt x="246" y="0"/>
                  </a:lnTo>
                  <a:lnTo>
                    <a:pt x="227" y="0"/>
                  </a:lnTo>
                  <a:lnTo>
                    <a:pt x="200" y="0"/>
                  </a:lnTo>
                  <a:lnTo>
                    <a:pt x="173" y="9"/>
                  </a:lnTo>
                  <a:lnTo>
                    <a:pt x="118" y="46"/>
                  </a:lnTo>
                  <a:lnTo>
                    <a:pt x="118" y="46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6370560" y="3879720"/>
              <a:ext cx="309600" cy="302040"/>
              <a:chOff x="6370560" y="3879720"/>
              <a:chExt cx="309600" cy="302040"/>
            </a:xfrm>
          </p:grpSpPr>
          <p:sp>
            <p:nvSpPr>
              <p:cNvPr id="283" name=""/>
              <p:cNvSpPr/>
              <p:nvPr/>
            </p:nvSpPr>
            <p:spPr>
              <a:xfrm>
                <a:off x="6408720" y="3917880"/>
                <a:ext cx="220680" cy="2206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70560" y="3879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796080" y="4176720"/>
              <a:ext cx="309600" cy="302040"/>
              <a:chOff x="6796080" y="4176720"/>
              <a:chExt cx="309600" cy="302040"/>
            </a:xfrm>
          </p:grpSpPr>
          <p:sp>
            <p:nvSpPr>
              <p:cNvPr id="286" name=""/>
              <p:cNvSpPr/>
              <p:nvPr/>
            </p:nvSpPr>
            <p:spPr>
              <a:xfrm>
                <a:off x="6834240" y="4214880"/>
                <a:ext cx="220680" cy="2206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96080" y="417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664320" y="4761000"/>
              <a:ext cx="309600" cy="302040"/>
              <a:chOff x="6664320" y="4761000"/>
              <a:chExt cx="309600" cy="302040"/>
            </a:xfrm>
          </p:grpSpPr>
          <p:sp>
            <p:nvSpPr>
              <p:cNvPr id="289" name=""/>
              <p:cNvSpPr/>
              <p:nvPr/>
            </p:nvSpPr>
            <p:spPr>
              <a:xfrm>
                <a:off x="6703920" y="480060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64320" y="476100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657840" y="5284800"/>
              <a:ext cx="309600" cy="302040"/>
              <a:chOff x="6657840" y="5284800"/>
              <a:chExt cx="309600" cy="302040"/>
            </a:xfrm>
          </p:grpSpPr>
          <p:sp>
            <p:nvSpPr>
              <p:cNvPr id="292" name=""/>
              <p:cNvSpPr/>
              <p:nvPr/>
            </p:nvSpPr>
            <p:spPr>
              <a:xfrm>
                <a:off x="6697800" y="532440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57840" y="528480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234120" y="4835520"/>
              <a:ext cx="309600" cy="302040"/>
              <a:chOff x="6234120" y="4835520"/>
              <a:chExt cx="309600" cy="302040"/>
            </a:xfrm>
          </p:grpSpPr>
          <p:sp>
            <p:nvSpPr>
              <p:cNvPr id="295" name=""/>
              <p:cNvSpPr/>
              <p:nvPr/>
            </p:nvSpPr>
            <p:spPr>
              <a:xfrm>
                <a:off x="6273720" y="487512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234120" y="48355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299280" y="5637240"/>
              <a:ext cx="309600" cy="302040"/>
              <a:chOff x="6299280" y="5637240"/>
              <a:chExt cx="309600" cy="302040"/>
            </a:xfrm>
          </p:grpSpPr>
          <p:sp>
            <p:nvSpPr>
              <p:cNvPr id="298" name=""/>
              <p:cNvSpPr/>
              <p:nvPr/>
            </p:nvSpPr>
            <p:spPr>
              <a:xfrm>
                <a:off x="6338880" y="567684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299280" y="563724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323040" y="5991120"/>
              <a:ext cx="309600" cy="302040"/>
              <a:chOff x="6323040" y="5991120"/>
              <a:chExt cx="309600" cy="302040"/>
            </a:xfrm>
          </p:grpSpPr>
          <p:sp>
            <p:nvSpPr>
              <p:cNvPr id="301" name=""/>
              <p:cNvSpPr/>
              <p:nvPr/>
            </p:nvSpPr>
            <p:spPr>
              <a:xfrm>
                <a:off x="6362640" y="603108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23040" y="59911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434280" y="4565520"/>
              <a:ext cx="240840" cy="237600"/>
              <a:chOff x="6434280" y="4565520"/>
              <a:chExt cx="240840" cy="237600"/>
            </a:xfrm>
          </p:grpSpPr>
          <p:sp>
            <p:nvSpPr>
              <p:cNvPr id="304" name=""/>
              <p:cNvSpPr/>
              <p:nvPr/>
            </p:nvSpPr>
            <p:spPr>
              <a:xfrm>
                <a:off x="6464160" y="4597560"/>
                <a:ext cx="17172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34280" y="456552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24800" y="4011480"/>
              <a:ext cx="240840" cy="237600"/>
              <a:chOff x="6724800" y="4011480"/>
              <a:chExt cx="240840" cy="237600"/>
            </a:xfrm>
          </p:grpSpPr>
          <p:sp>
            <p:nvSpPr>
              <p:cNvPr id="307" name=""/>
              <p:cNvSpPr/>
              <p:nvPr/>
            </p:nvSpPr>
            <p:spPr>
              <a:xfrm>
                <a:off x="6754680" y="4041720"/>
                <a:ext cx="165240" cy="1652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4800" y="401148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178760" y="4276800"/>
              <a:ext cx="240840" cy="237600"/>
              <a:chOff x="7178760" y="4276800"/>
              <a:chExt cx="240840" cy="237600"/>
            </a:xfrm>
          </p:grpSpPr>
          <p:sp>
            <p:nvSpPr>
              <p:cNvPr id="310" name=""/>
              <p:cNvSpPr/>
              <p:nvPr/>
            </p:nvSpPr>
            <p:spPr>
              <a:xfrm>
                <a:off x="7209000" y="430848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78760" y="427680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999480" y="4084560"/>
              <a:ext cx="240840" cy="237600"/>
              <a:chOff x="6999480" y="4084560"/>
              <a:chExt cx="240840" cy="237600"/>
            </a:xfrm>
          </p:grpSpPr>
          <p:sp>
            <p:nvSpPr>
              <p:cNvPr id="313" name=""/>
              <p:cNvSpPr/>
              <p:nvPr/>
            </p:nvSpPr>
            <p:spPr>
              <a:xfrm>
                <a:off x="7029360" y="4114800"/>
                <a:ext cx="165240" cy="1652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99480" y="408456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7006680" y="5205240"/>
              <a:ext cx="156960" cy="154440"/>
              <a:chOff x="7006680" y="5205240"/>
              <a:chExt cx="156960" cy="154440"/>
            </a:xfrm>
          </p:grpSpPr>
          <p:sp>
            <p:nvSpPr>
              <p:cNvPr id="316" name=""/>
              <p:cNvSpPr/>
              <p:nvPr/>
            </p:nvSpPr>
            <p:spPr>
              <a:xfrm>
                <a:off x="7034040" y="5232240"/>
                <a:ext cx="101880" cy="101880"/>
              </a:xfrm>
              <a:prstGeom prst="ellipse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006680" y="520524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668280" y="5877000"/>
              <a:ext cx="156960" cy="154440"/>
              <a:chOff x="6668280" y="5877000"/>
              <a:chExt cx="156960" cy="154440"/>
            </a:xfrm>
          </p:grpSpPr>
          <p:sp>
            <p:nvSpPr>
              <p:cNvPr id="319" name=""/>
              <p:cNvSpPr/>
              <p:nvPr/>
            </p:nvSpPr>
            <p:spPr>
              <a:xfrm>
                <a:off x="6689880" y="5897520"/>
                <a:ext cx="11412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68280" y="587700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965280" y="5711760"/>
              <a:ext cx="156960" cy="154440"/>
              <a:chOff x="6965280" y="5711760"/>
              <a:chExt cx="156960" cy="154440"/>
            </a:xfrm>
          </p:grpSpPr>
          <p:sp>
            <p:nvSpPr>
              <p:cNvPr id="322" name=""/>
              <p:cNvSpPr/>
              <p:nvPr/>
            </p:nvSpPr>
            <p:spPr>
              <a:xfrm>
                <a:off x="6986520" y="5732640"/>
                <a:ext cx="11448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965280" y="571176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2560" y="5878440"/>
              <a:ext cx="309600" cy="302040"/>
              <a:chOff x="6802560" y="5878440"/>
              <a:chExt cx="309600" cy="302040"/>
            </a:xfrm>
          </p:grpSpPr>
          <p:sp>
            <p:nvSpPr>
              <p:cNvPr id="325" name=""/>
              <p:cNvSpPr/>
              <p:nvPr/>
            </p:nvSpPr>
            <p:spPr>
              <a:xfrm>
                <a:off x="6842160" y="591804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802560" y="587844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070760" y="5499000"/>
              <a:ext cx="309600" cy="302040"/>
              <a:chOff x="7070760" y="5499000"/>
              <a:chExt cx="309600" cy="302040"/>
            </a:xfrm>
          </p:grpSpPr>
          <p:sp>
            <p:nvSpPr>
              <p:cNvPr id="328" name=""/>
              <p:cNvSpPr/>
              <p:nvPr/>
            </p:nvSpPr>
            <p:spPr>
              <a:xfrm>
                <a:off x="7110360" y="553896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70760" y="549900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507000" y="3662280"/>
              <a:ext cx="309600" cy="303840"/>
              <a:chOff x="6507000" y="3662280"/>
              <a:chExt cx="309600" cy="30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6519960" y="3662280"/>
                <a:ext cx="285480" cy="279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07000" y="366408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370560" y="4255920"/>
              <a:ext cx="319320" cy="311400"/>
              <a:chOff x="6370560" y="4255920"/>
              <a:chExt cx="319320" cy="311400"/>
            </a:xfrm>
          </p:grpSpPr>
          <p:sp>
            <p:nvSpPr>
              <p:cNvPr id="334" name=""/>
              <p:cNvSpPr/>
              <p:nvPr/>
            </p:nvSpPr>
            <p:spPr>
              <a:xfrm>
                <a:off x="6418440" y="4302000"/>
                <a:ext cx="271440" cy="2653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70560" y="42559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599160" y="5994360"/>
              <a:ext cx="340920" cy="330120"/>
              <a:chOff x="6599160" y="5994360"/>
              <a:chExt cx="340920" cy="33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6645240" y="6040440"/>
                <a:ext cx="249120" cy="2509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99160" y="5994360"/>
                <a:ext cx="340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tabLst>
                    <a:tab algn="l" pos="0"/>
                    <a:tab algn="l" pos="11066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15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53400" y="5049720"/>
              <a:ext cx="340920" cy="330120"/>
              <a:chOff x="6953400" y="5049720"/>
              <a:chExt cx="340920" cy="330120"/>
            </a:xfrm>
          </p:grpSpPr>
          <p:sp>
            <p:nvSpPr>
              <p:cNvPr id="340" name=""/>
              <p:cNvSpPr/>
              <p:nvPr/>
            </p:nvSpPr>
            <p:spPr>
              <a:xfrm>
                <a:off x="6999120" y="5095800"/>
                <a:ext cx="249480" cy="2509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53400" y="5049720"/>
                <a:ext cx="340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tabLst>
                    <a:tab algn="l" pos="0"/>
                    <a:tab algn="l" pos="11066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15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470640" y="5011560"/>
              <a:ext cx="340920" cy="330120"/>
              <a:chOff x="6470640" y="5011560"/>
              <a:chExt cx="340920" cy="330120"/>
            </a:xfrm>
          </p:grpSpPr>
          <p:sp>
            <p:nvSpPr>
              <p:cNvPr id="343" name=""/>
              <p:cNvSpPr/>
              <p:nvPr/>
            </p:nvSpPr>
            <p:spPr>
              <a:xfrm>
                <a:off x="6516720" y="5057640"/>
                <a:ext cx="249120" cy="2509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70640" y="5011560"/>
                <a:ext cx="340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tabLst>
                    <a:tab algn="l" pos="0"/>
                    <a:tab algn="l" pos="11066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15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6539040" y="5543640"/>
              <a:ext cx="309600" cy="302040"/>
              <a:chOff x="6539040" y="5543640"/>
              <a:chExt cx="309600" cy="302040"/>
            </a:xfrm>
          </p:grpSpPr>
          <p:sp>
            <p:nvSpPr>
              <p:cNvPr id="346" name=""/>
              <p:cNvSpPr/>
              <p:nvPr/>
            </p:nvSpPr>
            <p:spPr>
              <a:xfrm>
                <a:off x="6578640" y="558324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39040" y="554364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223400" y="4816440"/>
              <a:ext cx="240840" cy="237600"/>
              <a:chOff x="7223400" y="4816440"/>
              <a:chExt cx="240840" cy="237600"/>
            </a:xfrm>
          </p:grpSpPr>
          <p:sp>
            <p:nvSpPr>
              <p:cNvPr id="349" name=""/>
              <p:cNvSpPr/>
              <p:nvPr/>
            </p:nvSpPr>
            <p:spPr>
              <a:xfrm>
                <a:off x="7253280" y="4848120"/>
                <a:ext cx="171360" cy="1717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223400" y="481644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7202520" y="5237280"/>
              <a:ext cx="240840" cy="237600"/>
              <a:chOff x="7202520" y="5237280"/>
              <a:chExt cx="240840" cy="237600"/>
            </a:xfrm>
          </p:grpSpPr>
          <p:sp>
            <p:nvSpPr>
              <p:cNvPr id="352" name=""/>
              <p:cNvSpPr/>
              <p:nvPr/>
            </p:nvSpPr>
            <p:spPr>
              <a:xfrm>
                <a:off x="7232760" y="526896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202520" y="523728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153200" y="5824440"/>
              <a:ext cx="240840" cy="237600"/>
              <a:chOff x="7153200" y="5824440"/>
              <a:chExt cx="240840" cy="237600"/>
            </a:xfrm>
          </p:grpSpPr>
          <p:sp>
            <p:nvSpPr>
              <p:cNvPr id="355" name=""/>
              <p:cNvSpPr/>
              <p:nvPr/>
            </p:nvSpPr>
            <p:spPr>
              <a:xfrm>
                <a:off x="7183440" y="5856120"/>
                <a:ext cx="171360" cy="1717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53200" y="582444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7086600" y="4576680"/>
              <a:ext cx="240840" cy="237600"/>
              <a:chOff x="7086600" y="4576680"/>
              <a:chExt cx="240840" cy="237600"/>
            </a:xfrm>
          </p:grpSpPr>
          <p:sp>
            <p:nvSpPr>
              <p:cNvPr id="358" name=""/>
              <p:cNvSpPr/>
              <p:nvPr/>
            </p:nvSpPr>
            <p:spPr>
              <a:xfrm>
                <a:off x="7116840" y="4608360"/>
                <a:ext cx="171360" cy="1717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086600" y="457668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0" name="" descr=""/>
            <p:cNvPicPr/>
            <p:nvPr/>
          </p:nvPicPr>
          <p:blipFill>
            <a:blip r:embed="rId22"/>
            <a:stretch/>
          </p:blipFill>
          <p:spPr>
            <a:xfrm>
              <a:off x="5384880" y="5919840"/>
              <a:ext cx="709560" cy="33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"/>
            <p:cNvGrpSpPr/>
            <p:nvPr/>
          </p:nvGrpSpPr>
          <p:grpSpPr>
            <a:xfrm>
              <a:off x="5397480" y="5189400"/>
              <a:ext cx="536760" cy="219240"/>
              <a:chOff x="5397480" y="5189400"/>
              <a:chExt cx="536760" cy="21924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0720" y="5189400"/>
                <a:ext cx="360360" cy="157320"/>
              </a:xfrm>
              <a:custGeom>
                <a:avLst/>
                <a:gdLst/>
                <a:ahLst/>
                <a:rect l="l" t="t" r="r" b="b"/>
                <a:pathLst>
                  <a:path w="227" h="99">
                    <a:moveTo>
                      <a:pt x="117" y="0"/>
                    </a:moveTo>
                    <a:lnTo>
                      <a:pt x="214" y="0"/>
                    </a:lnTo>
                    <a:lnTo>
                      <a:pt x="215" y="1"/>
                    </a:lnTo>
                    <a:lnTo>
                      <a:pt x="216" y="1"/>
                    </a:lnTo>
                    <a:lnTo>
                      <a:pt x="217" y="1"/>
                    </a:lnTo>
                    <a:lnTo>
                      <a:pt x="218" y="2"/>
                    </a:lnTo>
                    <a:lnTo>
                      <a:pt x="219" y="3"/>
                    </a:lnTo>
                    <a:lnTo>
                      <a:pt x="219" y="4"/>
                    </a:lnTo>
                    <a:lnTo>
                      <a:pt x="220" y="5"/>
                    </a:lnTo>
                    <a:lnTo>
                      <a:pt x="223" y="31"/>
                    </a:lnTo>
                    <a:lnTo>
                      <a:pt x="226" y="36"/>
                    </a:lnTo>
                    <a:lnTo>
                      <a:pt x="226" y="48"/>
                    </a:lnTo>
                    <a:lnTo>
                      <a:pt x="223" y="48"/>
                    </a:lnTo>
                    <a:lnTo>
                      <a:pt x="223" y="98"/>
                    </a:lnTo>
                    <a:lnTo>
                      <a:pt x="116" y="98"/>
                    </a:lnTo>
                    <a:lnTo>
                      <a:pt x="112" y="98"/>
                    </a:lnTo>
                    <a:lnTo>
                      <a:pt x="109" y="98"/>
                    </a:lnTo>
                    <a:lnTo>
                      <a:pt x="106" y="97"/>
                    </a:lnTo>
                    <a:lnTo>
                      <a:pt x="102" y="96"/>
                    </a:lnTo>
                    <a:lnTo>
                      <a:pt x="99" y="95"/>
                    </a:lnTo>
                    <a:lnTo>
                      <a:pt x="96" y="94"/>
                    </a:lnTo>
                    <a:lnTo>
                      <a:pt x="94" y="92"/>
                    </a:lnTo>
                    <a:lnTo>
                      <a:pt x="93" y="89"/>
                    </a:lnTo>
                    <a:lnTo>
                      <a:pt x="92" y="87"/>
                    </a:lnTo>
                    <a:lnTo>
                      <a:pt x="91" y="85"/>
                    </a:lnTo>
                    <a:lnTo>
                      <a:pt x="83" y="69"/>
                    </a:lnTo>
                    <a:lnTo>
                      <a:pt x="83" y="68"/>
                    </a:lnTo>
                    <a:lnTo>
                      <a:pt x="98" y="68"/>
                    </a:lnTo>
                    <a:lnTo>
                      <a:pt x="102" y="79"/>
                    </a:lnTo>
                    <a:lnTo>
                      <a:pt x="102" y="80"/>
                    </a:lnTo>
                    <a:lnTo>
                      <a:pt x="103" y="81"/>
                    </a:lnTo>
                    <a:lnTo>
                      <a:pt x="104" y="81"/>
                    </a:lnTo>
                    <a:lnTo>
                      <a:pt x="105" y="82"/>
                    </a:lnTo>
                    <a:lnTo>
                      <a:pt x="106" y="83"/>
                    </a:lnTo>
                    <a:lnTo>
                      <a:pt x="107" y="84"/>
                    </a:lnTo>
                    <a:lnTo>
                      <a:pt x="108" y="84"/>
                    </a:lnTo>
                    <a:lnTo>
                      <a:pt x="109" y="84"/>
                    </a:lnTo>
                    <a:lnTo>
                      <a:pt x="139" y="84"/>
                    </a:lnTo>
                    <a:lnTo>
                      <a:pt x="142" y="87"/>
                    </a:lnTo>
                    <a:lnTo>
                      <a:pt x="172" y="87"/>
                    </a:lnTo>
                    <a:lnTo>
                      <a:pt x="175" y="84"/>
                    </a:lnTo>
                    <a:lnTo>
                      <a:pt x="213" y="84"/>
                    </a:lnTo>
                    <a:lnTo>
                      <a:pt x="215" y="84"/>
                    </a:lnTo>
                    <a:lnTo>
                      <a:pt x="216" y="82"/>
                    </a:lnTo>
                    <a:lnTo>
                      <a:pt x="217" y="81"/>
                    </a:lnTo>
                    <a:lnTo>
                      <a:pt x="217" y="79"/>
                    </a:lnTo>
                    <a:lnTo>
                      <a:pt x="217" y="76"/>
                    </a:lnTo>
                    <a:lnTo>
                      <a:pt x="219" y="76"/>
                    </a:lnTo>
                    <a:lnTo>
                      <a:pt x="219" y="72"/>
                    </a:lnTo>
                    <a:lnTo>
                      <a:pt x="217" y="72"/>
                    </a:lnTo>
                    <a:lnTo>
                      <a:pt x="217" y="50"/>
                    </a:lnTo>
                    <a:lnTo>
                      <a:pt x="219" y="50"/>
                    </a:lnTo>
                    <a:lnTo>
                      <a:pt x="219" y="46"/>
                    </a:lnTo>
                    <a:lnTo>
                      <a:pt x="217" y="46"/>
                    </a:lnTo>
                    <a:lnTo>
                      <a:pt x="217" y="43"/>
                    </a:lnTo>
                    <a:lnTo>
                      <a:pt x="213" y="12"/>
                    </a:lnTo>
                    <a:lnTo>
                      <a:pt x="213" y="10"/>
                    </a:lnTo>
                    <a:lnTo>
                      <a:pt x="212" y="8"/>
                    </a:lnTo>
                    <a:lnTo>
                      <a:pt x="211" y="7"/>
                    </a:lnTo>
                    <a:lnTo>
                      <a:pt x="209" y="7"/>
                    </a:lnTo>
                    <a:lnTo>
                      <a:pt x="163" y="7"/>
                    </a:lnTo>
                    <a:lnTo>
                      <a:pt x="148" y="7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101" y="9"/>
                    </a:lnTo>
                    <a:lnTo>
                      <a:pt x="100" y="10"/>
                    </a:lnTo>
                    <a:lnTo>
                      <a:pt x="100" y="12"/>
                    </a:lnTo>
                    <a:lnTo>
                      <a:pt x="89" y="43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3" y="29"/>
                    </a:lnTo>
                    <a:lnTo>
                      <a:pt x="19" y="27"/>
                    </a:lnTo>
                    <a:lnTo>
                      <a:pt x="24" y="25"/>
                    </a:lnTo>
                    <a:lnTo>
                      <a:pt x="29" y="22"/>
                    </a:lnTo>
                    <a:lnTo>
                      <a:pt x="36" y="20"/>
                    </a:lnTo>
                    <a:lnTo>
                      <a:pt x="41" y="19"/>
                    </a:lnTo>
                    <a:lnTo>
                      <a:pt x="47" y="17"/>
                    </a:lnTo>
                    <a:lnTo>
                      <a:pt x="52" y="14"/>
                    </a:lnTo>
                    <a:lnTo>
                      <a:pt x="59" y="13"/>
                    </a:lnTo>
                    <a:lnTo>
                      <a:pt x="64" y="11"/>
                    </a:lnTo>
                    <a:lnTo>
                      <a:pt x="70" y="9"/>
                    </a:lnTo>
                    <a:lnTo>
                      <a:pt x="75" y="7"/>
                    </a:lnTo>
                    <a:lnTo>
                      <a:pt x="80" y="5"/>
                    </a:lnTo>
                    <a:lnTo>
                      <a:pt x="87" y="4"/>
                    </a:lnTo>
                    <a:lnTo>
                      <a:pt x="93" y="3"/>
                    </a:lnTo>
                    <a:lnTo>
                      <a:pt x="98" y="1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00720" y="5256360"/>
                <a:ext cx="158760" cy="54000"/>
              </a:xfrm>
              <a:custGeom>
                <a:avLst/>
                <a:gdLst/>
                <a:ahLst/>
                <a:rect l="l" t="t" r="r" b="b"/>
                <a:pathLst>
                  <a:path w="100" h="34">
                    <a:moveTo>
                      <a:pt x="0" y="1"/>
                    </a:moveTo>
                    <a:lnTo>
                      <a:pt x="90" y="0"/>
                    </a:lnTo>
                    <a:lnTo>
                      <a:pt x="99" y="25"/>
                    </a:lnTo>
                    <a:lnTo>
                      <a:pt x="84" y="25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1" y="21"/>
                    </a:lnTo>
                    <a:lnTo>
                      <a:pt x="80" y="19"/>
                    </a:lnTo>
                    <a:lnTo>
                      <a:pt x="79" y="19"/>
                    </a:lnTo>
                    <a:lnTo>
                      <a:pt x="78" y="19"/>
                    </a:lnTo>
                    <a:lnTo>
                      <a:pt x="78" y="18"/>
                    </a:lnTo>
                    <a:lnTo>
                      <a:pt x="77" y="18"/>
                    </a:lnTo>
                    <a:lnTo>
                      <a:pt x="74" y="16"/>
                    </a:lnTo>
                    <a:lnTo>
                      <a:pt x="71" y="15"/>
                    </a:lnTo>
                    <a:lnTo>
                      <a:pt x="69" y="14"/>
                    </a:lnTo>
                    <a:lnTo>
                      <a:pt x="65" y="14"/>
                    </a:lnTo>
                    <a:lnTo>
                      <a:pt x="62" y="14"/>
                    </a:lnTo>
                    <a:lnTo>
                      <a:pt x="60" y="14"/>
                    </a:lnTo>
                    <a:lnTo>
                      <a:pt x="57" y="14"/>
                    </a:lnTo>
                    <a:lnTo>
                      <a:pt x="54" y="14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4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5" y="15"/>
                    </a:lnTo>
                    <a:lnTo>
                      <a:pt x="33" y="16"/>
                    </a:lnTo>
                    <a:lnTo>
                      <a:pt x="29" y="17"/>
                    </a:lnTo>
                    <a:lnTo>
                      <a:pt x="19" y="33"/>
                    </a:lnTo>
                    <a:lnTo>
                      <a:pt x="0" y="33"/>
                    </a:lnTo>
                    <a:lnTo>
                      <a:pt x="0" y="7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49840" y="5200560"/>
                <a:ext cx="98640" cy="122400"/>
              </a:xfrm>
              <a:custGeom>
                <a:avLst/>
                <a:gdLst/>
                <a:ahLst/>
                <a:rect l="l" t="t" r="r" b="b"/>
                <a:pathLst>
                  <a:path w="62" h="77">
                    <a:moveTo>
                      <a:pt x="18" y="76"/>
                    </a:moveTo>
                    <a:lnTo>
                      <a:pt x="5" y="76"/>
                    </a:lnTo>
                    <a:lnTo>
                      <a:pt x="3" y="76"/>
                    </a:lnTo>
                    <a:lnTo>
                      <a:pt x="2" y="74"/>
                    </a:lnTo>
                    <a:lnTo>
                      <a:pt x="1" y="73"/>
                    </a:lnTo>
                    <a:lnTo>
                      <a:pt x="0" y="7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6" y="1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61" y="35"/>
                    </a:lnTo>
                    <a:lnTo>
                      <a:pt x="61" y="39"/>
                    </a:lnTo>
                    <a:lnTo>
                      <a:pt x="58" y="39"/>
                    </a:lnTo>
                    <a:lnTo>
                      <a:pt x="55" y="41"/>
                    </a:lnTo>
                    <a:lnTo>
                      <a:pt x="58" y="42"/>
                    </a:lnTo>
                    <a:lnTo>
                      <a:pt x="61" y="42"/>
                    </a:lnTo>
                    <a:lnTo>
                      <a:pt x="61" y="65"/>
                    </a:lnTo>
                    <a:lnTo>
                      <a:pt x="58" y="65"/>
                    </a:lnTo>
                    <a:lnTo>
                      <a:pt x="55" y="67"/>
                    </a:lnTo>
                    <a:lnTo>
                      <a:pt x="58" y="68"/>
                    </a:lnTo>
                    <a:lnTo>
                      <a:pt x="61" y="68"/>
                    </a:lnTo>
                    <a:lnTo>
                      <a:pt x="61" y="72"/>
                    </a:lnTo>
                    <a:lnTo>
                      <a:pt x="61" y="73"/>
                    </a:lnTo>
                    <a:lnTo>
                      <a:pt x="60" y="74"/>
                    </a:lnTo>
                    <a:lnTo>
                      <a:pt x="58" y="76"/>
                    </a:lnTo>
                    <a:lnTo>
                      <a:pt x="56" y="76"/>
                    </a:lnTo>
                    <a:lnTo>
                      <a:pt x="18" y="7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37240" y="5200560"/>
                <a:ext cx="27000" cy="12240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76"/>
                    </a:moveTo>
                    <a:lnTo>
                      <a:pt x="0" y="76"/>
                    </a:lnTo>
                    <a:lnTo>
                      <a:pt x="2" y="76"/>
                    </a:lnTo>
                    <a:lnTo>
                      <a:pt x="3" y="74"/>
                    </a:lnTo>
                    <a:lnTo>
                      <a:pt x="4" y="73"/>
                    </a:lnTo>
                    <a:lnTo>
                      <a:pt x="4" y="72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72"/>
                    </a:lnTo>
                    <a:lnTo>
                      <a:pt x="11" y="73"/>
                    </a:lnTo>
                    <a:lnTo>
                      <a:pt x="12" y="74"/>
                    </a:lnTo>
                    <a:lnTo>
                      <a:pt x="13" y="76"/>
                    </a:lnTo>
                    <a:lnTo>
                      <a:pt x="16" y="7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543640" y="5200560"/>
                <a:ext cx="101520" cy="122400"/>
              </a:xfrm>
              <a:custGeom>
                <a:avLst/>
                <a:gdLst/>
                <a:ahLst/>
                <a:rect l="l" t="t" r="r" b="b"/>
                <a:pathLst>
                  <a:path w="64" h="77">
                    <a:moveTo>
                      <a:pt x="59" y="76"/>
                    </a:moveTo>
                    <a:lnTo>
                      <a:pt x="20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6" y="74"/>
                    </a:lnTo>
                    <a:lnTo>
                      <a:pt x="15" y="73"/>
                    </a:lnTo>
                    <a:lnTo>
                      <a:pt x="14" y="73"/>
                    </a:lnTo>
                    <a:lnTo>
                      <a:pt x="13" y="72"/>
                    </a:lnTo>
                    <a:lnTo>
                      <a:pt x="9" y="60"/>
                    </a:lnTo>
                    <a:lnTo>
                      <a:pt x="0" y="35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2" y="1"/>
                    </a:lnTo>
                    <a:lnTo>
                      <a:pt x="63" y="3"/>
                    </a:lnTo>
                    <a:lnTo>
                      <a:pt x="63" y="4"/>
                    </a:lnTo>
                    <a:lnTo>
                      <a:pt x="63" y="39"/>
                    </a:lnTo>
                    <a:lnTo>
                      <a:pt x="59" y="39"/>
                    </a:lnTo>
                    <a:lnTo>
                      <a:pt x="57" y="41"/>
                    </a:lnTo>
                    <a:lnTo>
                      <a:pt x="59" y="42"/>
                    </a:lnTo>
                    <a:lnTo>
                      <a:pt x="63" y="42"/>
                    </a:lnTo>
                    <a:lnTo>
                      <a:pt x="63" y="65"/>
                    </a:lnTo>
                    <a:lnTo>
                      <a:pt x="59" y="65"/>
                    </a:lnTo>
                    <a:lnTo>
                      <a:pt x="57" y="67"/>
                    </a:lnTo>
                    <a:lnTo>
                      <a:pt x="59" y="68"/>
                    </a:lnTo>
                    <a:lnTo>
                      <a:pt x="63" y="68"/>
                    </a:lnTo>
                    <a:lnTo>
                      <a:pt x="63" y="72"/>
                    </a:lnTo>
                    <a:lnTo>
                      <a:pt x="63" y="73"/>
                    </a:lnTo>
                    <a:lnTo>
                      <a:pt x="62" y="74"/>
                    </a:lnTo>
                    <a:lnTo>
                      <a:pt x="60" y="76"/>
                    </a:lnTo>
                    <a:lnTo>
                      <a:pt x="59" y="7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29160" y="5278320"/>
                <a:ext cx="11916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67" y="30"/>
                    </a:lnTo>
                    <a:lnTo>
                      <a:pt x="66" y="28"/>
                    </a:lnTo>
                    <a:lnTo>
                      <a:pt x="62" y="21"/>
                    </a:lnTo>
                    <a:lnTo>
                      <a:pt x="59" y="18"/>
                    </a:lnTo>
                    <a:lnTo>
                      <a:pt x="56" y="16"/>
                    </a:lnTo>
                    <a:lnTo>
                      <a:pt x="53" y="13"/>
                    </a:lnTo>
                    <a:lnTo>
                      <a:pt x="48" y="10"/>
                    </a:lnTo>
                    <a:lnTo>
                      <a:pt x="42" y="9"/>
                    </a:lnTo>
                    <a:lnTo>
                      <a:pt x="36" y="8"/>
                    </a:lnTo>
                    <a:lnTo>
                      <a:pt x="30" y="9"/>
                    </a:lnTo>
                    <a:lnTo>
                      <a:pt x="23" y="10"/>
                    </a:lnTo>
                    <a:lnTo>
                      <a:pt x="17" y="13"/>
                    </a:lnTo>
                    <a:lnTo>
                      <a:pt x="13" y="18"/>
                    </a:lnTo>
                    <a:lnTo>
                      <a:pt x="6" y="18"/>
                    </a:lnTo>
                    <a:lnTo>
                      <a:pt x="0" y="19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59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5" y="11"/>
                    </a:lnTo>
                    <a:lnTo>
                      <a:pt x="65" y="12"/>
                    </a:lnTo>
                    <a:lnTo>
                      <a:pt x="73" y="28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64400" y="526896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4" y="9"/>
                    </a:moveTo>
                    <a:lnTo>
                      <a:pt x="24" y="17"/>
                    </a:lnTo>
                    <a:lnTo>
                      <a:pt x="26" y="20"/>
                    </a:lnTo>
                    <a:lnTo>
                      <a:pt x="23" y="20"/>
                    </a:lnTo>
                    <a:lnTo>
                      <a:pt x="17" y="20"/>
                    </a:lnTo>
                    <a:lnTo>
                      <a:pt x="14" y="12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0" y="0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4" y="9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59280" y="5246640"/>
                <a:ext cx="111240" cy="44640"/>
              </a:xfrm>
              <a:custGeom>
                <a:avLst/>
                <a:gdLst/>
                <a:ahLst/>
                <a:rect l="l" t="t" r="r" b="b"/>
                <a:pathLst>
                  <a:path w="70" h="28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66" y="14"/>
                    </a:lnTo>
                    <a:lnTo>
                      <a:pt x="69" y="21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1" y="20"/>
                    </a:lnTo>
                    <a:lnTo>
                      <a:pt x="59" y="20"/>
                    </a:lnTo>
                    <a:lnTo>
                      <a:pt x="56" y="20"/>
                    </a:lnTo>
                    <a:lnTo>
                      <a:pt x="50" y="20"/>
                    </a:lnTo>
                    <a:lnTo>
                      <a:pt x="46" y="20"/>
                    </a:lnTo>
                    <a:lnTo>
                      <a:pt x="43" y="20"/>
                    </a:lnTo>
                    <a:lnTo>
                      <a:pt x="41" y="20"/>
                    </a:lnTo>
                    <a:lnTo>
                      <a:pt x="38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2" y="24"/>
                    </a:lnTo>
                    <a:lnTo>
                      <a:pt x="30" y="25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2" y="27"/>
                    </a:lnTo>
                    <a:lnTo>
                      <a:pt x="19" y="25"/>
                    </a:lnTo>
                    <a:lnTo>
                      <a:pt x="21" y="23"/>
                    </a:lnTo>
                    <a:lnTo>
                      <a:pt x="24" y="22"/>
                    </a:lnTo>
                    <a:lnTo>
                      <a:pt x="29" y="17"/>
                    </a:lnTo>
                    <a:lnTo>
                      <a:pt x="30" y="15"/>
                    </a:lnTo>
                    <a:lnTo>
                      <a:pt x="29" y="14"/>
                    </a:lnTo>
                    <a:lnTo>
                      <a:pt x="28" y="11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18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1320" y="5294160"/>
                <a:ext cx="10620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6" y="50"/>
                    </a:moveTo>
                    <a:lnTo>
                      <a:pt x="3" y="45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3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3" y="20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0" y="9"/>
                    </a:lnTo>
                    <a:lnTo>
                      <a:pt x="12" y="11"/>
                    </a:lnTo>
                    <a:lnTo>
                      <a:pt x="10" y="9"/>
                    </a:lnTo>
                    <a:lnTo>
                      <a:pt x="14" y="5"/>
                    </a:lnTo>
                    <a:lnTo>
                      <a:pt x="20" y="3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6" y="3"/>
                    </a:lnTo>
                    <a:lnTo>
                      <a:pt x="51" y="5"/>
                    </a:lnTo>
                    <a:lnTo>
                      <a:pt x="54" y="7"/>
                    </a:lnTo>
                    <a:lnTo>
                      <a:pt x="56" y="9"/>
                    </a:lnTo>
                    <a:lnTo>
                      <a:pt x="54" y="11"/>
                    </a:lnTo>
                    <a:lnTo>
                      <a:pt x="56" y="9"/>
                    </a:lnTo>
                    <a:lnTo>
                      <a:pt x="60" y="14"/>
                    </a:lnTo>
                    <a:lnTo>
                      <a:pt x="63" y="20"/>
                    </a:lnTo>
                    <a:lnTo>
                      <a:pt x="65" y="25"/>
                    </a:lnTo>
                    <a:lnTo>
                      <a:pt x="66" y="33"/>
                    </a:lnTo>
                    <a:lnTo>
                      <a:pt x="65" y="38"/>
                    </a:lnTo>
                    <a:lnTo>
                      <a:pt x="63" y="45"/>
                    </a:lnTo>
                    <a:lnTo>
                      <a:pt x="61" y="44"/>
                    </a:lnTo>
                    <a:lnTo>
                      <a:pt x="63" y="45"/>
                    </a:lnTo>
                    <a:lnTo>
                      <a:pt x="60" y="50"/>
                    </a:lnTo>
                    <a:lnTo>
                      <a:pt x="58" y="49"/>
                    </a:lnTo>
                    <a:lnTo>
                      <a:pt x="60" y="50"/>
                    </a:lnTo>
                    <a:lnTo>
                      <a:pt x="56" y="56"/>
                    </a:lnTo>
                    <a:lnTo>
                      <a:pt x="51" y="59"/>
                    </a:lnTo>
                    <a:lnTo>
                      <a:pt x="46" y="62"/>
                    </a:lnTo>
                    <a:lnTo>
                      <a:pt x="39" y="64"/>
                    </a:lnTo>
                    <a:lnTo>
                      <a:pt x="33" y="65"/>
                    </a:lnTo>
                    <a:lnTo>
                      <a:pt x="27" y="64"/>
                    </a:lnTo>
                    <a:lnTo>
                      <a:pt x="20" y="62"/>
                    </a:lnTo>
                    <a:lnTo>
                      <a:pt x="14" y="59"/>
                    </a:lnTo>
                    <a:lnTo>
                      <a:pt x="10" y="56"/>
                    </a:lnTo>
                    <a:lnTo>
                      <a:pt x="6" y="50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435640" y="5289480"/>
                <a:ext cx="104760" cy="106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55" y="10"/>
                    </a:moveTo>
                    <a:lnTo>
                      <a:pt x="59" y="14"/>
                    </a:lnTo>
                    <a:lnTo>
                      <a:pt x="62" y="21"/>
                    </a:lnTo>
                    <a:lnTo>
                      <a:pt x="63" y="23"/>
                    </a:lnTo>
                    <a:lnTo>
                      <a:pt x="64" y="27"/>
                    </a:lnTo>
                    <a:lnTo>
                      <a:pt x="65" y="33"/>
                    </a:lnTo>
                    <a:lnTo>
                      <a:pt x="64" y="40"/>
                    </a:lnTo>
                    <a:lnTo>
                      <a:pt x="62" y="45"/>
                    </a:lnTo>
                    <a:lnTo>
                      <a:pt x="59" y="45"/>
                    </a:lnTo>
                    <a:lnTo>
                      <a:pt x="62" y="45"/>
                    </a:lnTo>
                    <a:lnTo>
                      <a:pt x="59" y="52"/>
                    </a:lnTo>
                    <a:lnTo>
                      <a:pt x="57" y="50"/>
                    </a:lnTo>
                    <a:lnTo>
                      <a:pt x="59" y="52"/>
                    </a:lnTo>
                    <a:lnTo>
                      <a:pt x="55" y="56"/>
                    </a:lnTo>
                    <a:lnTo>
                      <a:pt x="50" y="61"/>
                    </a:lnTo>
                    <a:lnTo>
                      <a:pt x="45" y="63"/>
                    </a:lnTo>
                    <a:lnTo>
                      <a:pt x="39" y="65"/>
                    </a:lnTo>
                    <a:lnTo>
                      <a:pt x="33" y="66"/>
                    </a:lnTo>
                    <a:lnTo>
                      <a:pt x="26" y="65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0" y="56"/>
                    </a:lnTo>
                    <a:lnTo>
                      <a:pt x="6" y="52"/>
                    </a:lnTo>
                    <a:lnTo>
                      <a:pt x="8" y="50"/>
                    </a:lnTo>
                    <a:lnTo>
                      <a:pt x="6" y="52"/>
                    </a:lnTo>
                    <a:lnTo>
                      <a:pt x="3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1" y="27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10" y="10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3"/>
                    </a:lnTo>
                    <a:lnTo>
                      <a:pt x="26" y="1"/>
                    </a:lnTo>
                    <a:lnTo>
                      <a:pt x="33" y="0"/>
                    </a:lnTo>
                    <a:lnTo>
                      <a:pt x="39" y="1"/>
                    </a:lnTo>
                    <a:lnTo>
                      <a:pt x="45" y="3"/>
                    </a:lnTo>
                    <a:lnTo>
                      <a:pt x="50" y="6"/>
                    </a:lnTo>
                    <a:lnTo>
                      <a:pt x="52" y="8"/>
                    </a:lnTo>
                    <a:lnTo>
                      <a:pt x="55" y="10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02480" y="5249880"/>
                <a:ext cx="101520" cy="34920"/>
              </a:xfrm>
              <a:custGeom>
                <a:avLst/>
                <a:gdLst/>
                <a:ahLst/>
                <a:rect l="l" t="t" r="r" b="b"/>
                <a:pathLst>
                  <a:path w="64" h="22">
                    <a:moveTo>
                      <a:pt x="0" y="0"/>
                    </a:moveTo>
                    <a:lnTo>
                      <a:pt x="4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3" y="4"/>
                    </a:lnTo>
                    <a:lnTo>
                      <a:pt x="26" y="5"/>
                    </a:lnTo>
                    <a:lnTo>
                      <a:pt x="30" y="6"/>
                    </a:lnTo>
                    <a:lnTo>
                      <a:pt x="33" y="7"/>
                    </a:lnTo>
                    <a:lnTo>
                      <a:pt x="37" y="8"/>
                    </a:lnTo>
                    <a:lnTo>
                      <a:pt x="40" y="8"/>
                    </a:lnTo>
                    <a:lnTo>
                      <a:pt x="44" y="10"/>
                    </a:lnTo>
                    <a:lnTo>
                      <a:pt x="47" y="11"/>
                    </a:lnTo>
                    <a:lnTo>
                      <a:pt x="51" y="11"/>
                    </a:lnTo>
                    <a:lnTo>
                      <a:pt x="55" y="12"/>
                    </a:lnTo>
                    <a:lnTo>
                      <a:pt x="59" y="13"/>
                    </a:lnTo>
                    <a:lnTo>
                      <a:pt x="61" y="15"/>
                    </a:lnTo>
                    <a:lnTo>
                      <a:pt x="63" y="17"/>
                    </a:lnTo>
                    <a:lnTo>
                      <a:pt x="63" y="21"/>
                    </a:lnTo>
                    <a:lnTo>
                      <a:pt x="61" y="18"/>
                    </a:lnTo>
                    <a:lnTo>
                      <a:pt x="60" y="16"/>
                    </a:lnTo>
                    <a:lnTo>
                      <a:pt x="58" y="15"/>
                    </a:lnTo>
                    <a:lnTo>
                      <a:pt x="39" y="12"/>
                    </a:lnTo>
                    <a:lnTo>
                      <a:pt x="6" y="9"/>
                    </a:lnTo>
                    <a:lnTo>
                      <a:pt x="4" y="8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446800" y="5303880"/>
                <a:ext cx="81000" cy="810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26" y="0"/>
                    </a:moveTo>
                    <a:lnTo>
                      <a:pt x="30" y="0"/>
                    </a:lnTo>
                    <a:lnTo>
                      <a:pt x="35" y="2"/>
                    </a:lnTo>
                    <a:lnTo>
                      <a:pt x="40" y="4"/>
                    </a:lnTo>
                    <a:lnTo>
                      <a:pt x="43" y="7"/>
                    </a:lnTo>
                    <a:lnTo>
                      <a:pt x="46" y="10"/>
                    </a:lnTo>
                    <a:lnTo>
                      <a:pt x="49" y="15"/>
                    </a:lnTo>
                    <a:lnTo>
                      <a:pt x="49" y="19"/>
                    </a:lnTo>
                    <a:lnTo>
                      <a:pt x="50" y="25"/>
                    </a:lnTo>
                    <a:lnTo>
                      <a:pt x="49" y="30"/>
                    </a:lnTo>
                    <a:lnTo>
                      <a:pt x="49" y="34"/>
                    </a:lnTo>
                    <a:lnTo>
                      <a:pt x="46" y="39"/>
                    </a:lnTo>
                    <a:lnTo>
                      <a:pt x="43" y="42"/>
                    </a:lnTo>
                    <a:lnTo>
                      <a:pt x="40" y="46"/>
                    </a:lnTo>
                    <a:lnTo>
                      <a:pt x="35" y="47"/>
                    </a:lnTo>
                    <a:lnTo>
                      <a:pt x="30" y="49"/>
                    </a:lnTo>
                    <a:lnTo>
                      <a:pt x="26" y="50"/>
                    </a:lnTo>
                    <a:lnTo>
                      <a:pt x="21" y="49"/>
                    </a:lnTo>
                    <a:lnTo>
                      <a:pt x="16" y="47"/>
                    </a:lnTo>
                    <a:lnTo>
                      <a:pt x="12" y="46"/>
                    </a:lnTo>
                    <a:lnTo>
                      <a:pt x="8" y="42"/>
                    </a:lnTo>
                    <a:lnTo>
                      <a:pt x="5" y="39"/>
                    </a:lnTo>
                    <a:lnTo>
                      <a:pt x="3" y="34"/>
                    </a:lnTo>
                    <a:lnTo>
                      <a:pt x="1" y="30"/>
                    </a:lnTo>
                    <a:lnTo>
                      <a:pt x="0" y="25"/>
                    </a:lnTo>
                    <a:lnTo>
                      <a:pt x="1" y="19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21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805360" y="53071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4" y="0"/>
                    </a:moveTo>
                    <a:lnTo>
                      <a:pt x="30" y="0"/>
                    </a:lnTo>
                    <a:lnTo>
                      <a:pt x="34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5" y="10"/>
                    </a:lnTo>
                    <a:lnTo>
                      <a:pt x="47" y="15"/>
                    </a:lnTo>
                    <a:lnTo>
                      <a:pt x="49" y="19"/>
                    </a:lnTo>
                    <a:lnTo>
                      <a:pt x="49" y="25"/>
                    </a:lnTo>
                    <a:lnTo>
                      <a:pt x="49" y="30"/>
                    </a:lnTo>
                    <a:lnTo>
                      <a:pt x="47" y="34"/>
                    </a:lnTo>
                    <a:lnTo>
                      <a:pt x="45" y="39"/>
                    </a:lnTo>
                    <a:lnTo>
                      <a:pt x="42" y="42"/>
                    </a:lnTo>
                    <a:lnTo>
                      <a:pt x="38" y="45"/>
                    </a:lnTo>
                    <a:lnTo>
                      <a:pt x="34" y="48"/>
                    </a:lnTo>
                    <a:lnTo>
                      <a:pt x="30" y="48"/>
                    </a:lnTo>
                    <a:lnTo>
                      <a:pt x="24" y="49"/>
                    </a:lnTo>
                    <a:lnTo>
                      <a:pt x="20" y="48"/>
                    </a:lnTo>
                    <a:lnTo>
                      <a:pt x="15" y="48"/>
                    </a:lnTo>
                    <a:lnTo>
                      <a:pt x="10" y="45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1" y="30"/>
                    </a:lnTo>
                    <a:lnTo>
                      <a:pt x="0" y="25"/>
                    </a:lnTo>
                    <a:lnTo>
                      <a:pt x="1" y="19"/>
                    </a:lnTo>
                    <a:lnTo>
                      <a:pt x="2" y="15"/>
                    </a:lnTo>
                    <a:lnTo>
                      <a:pt x="4" y="10"/>
                    </a:lnTo>
                    <a:lnTo>
                      <a:pt x="7" y="7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54600" y="5265720"/>
                <a:ext cx="52560" cy="8100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32" y="16"/>
                    </a:moveTo>
                    <a:lnTo>
                      <a:pt x="25" y="32"/>
                    </a:lnTo>
                    <a:lnTo>
                      <a:pt x="17" y="46"/>
                    </a:lnTo>
                    <a:lnTo>
                      <a:pt x="15" y="5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2" y="14"/>
                    </a:lnTo>
                    <a:lnTo>
                      <a:pt x="25" y="16"/>
                    </a:lnTo>
                    <a:lnTo>
                      <a:pt x="32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62440" y="5210280"/>
                <a:ext cx="76320" cy="42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1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5" y="3"/>
                    </a:lnTo>
                    <a:lnTo>
                      <a:pt x="47" y="23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5" y="26"/>
                    </a:lnTo>
                    <a:lnTo>
                      <a:pt x="4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3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67480" y="521352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39" y="22"/>
                    </a:moveTo>
                    <a:lnTo>
                      <a:pt x="3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42" y="19"/>
                    </a:lnTo>
                    <a:lnTo>
                      <a:pt x="42" y="21"/>
                    </a:lnTo>
                    <a:lnTo>
                      <a:pt x="41" y="21"/>
                    </a:lnTo>
                    <a:lnTo>
                      <a:pt x="40" y="22"/>
                    </a:lnTo>
                    <a:lnTo>
                      <a:pt x="39" y="2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64240" y="520704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16"/>
                    </a:moveTo>
                    <a:lnTo>
                      <a:pt x="3" y="0"/>
                    </a:lnTo>
                    <a:lnTo>
                      <a:pt x="40" y="0"/>
                    </a:lnTo>
                    <a:lnTo>
                      <a:pt x="43" y="16"/>
                    </a:lnTo>
                    <a:lnTo>
                      <a:pt x="42" y="12"/>
                    </a:lnTo>
                    <a:lnTo>
                      <a:pt x="41" y="12"/>
                    </a:lnTo>
                    <a:lnTo>
                      <a:pt x="40" y="8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68840" y="5210280"/>
                <a:ext cx="66960" cy="4284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1" y="2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41" y="23"/>
                    </a:lnTo>
                    <a:lnTo>
                      <a:pt x="41" y="24"/>
                    </a:lnTo>
                    <a:lnTo>
                      <a:pt x="41" y="25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3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454720" y="53118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24" y="0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5" y="5"/>
                    </a:lnTo>
                    <a:lnTo>
                      <a:pt x="37" y="9"/>
                    </a:lnTo>
                    <a:lnTo>
                      <a:pt x="38" y="11"/>
                    </a:lnTo>
                    <a:lnTo>
                      <a:pt x="39" y="16"/>
                    </a:lnTo>
                    <a:lnTo>
                      <a:pt x="40" y="20"/>
                    </a:lnTo>
                    <a:lnTo>
                      <a:pt x="39" y="24"/>
                    </a:lnTo>
                    <a:lnTo>
                      <a:pt x="38" y="27"/>
                    </a:lnTo>
                    <a:lnTo>
                      <a:pt x="37" y="31"/>
                    </a:lnTo>
                    <a:lnTo>
                      <a:pt x="35" y="34"/>
                    </a:lnTo>
                    <a:lnTo>
                      <a:pt x="31" y="36"/>
                    </a:lnTo>
                    <a:lnTo>
                      <a:pt x="28" y="38"/>
                    </a:lnTo>
                    <a:lnTo>
                      <a:pt x="24" y="39"/>
                    </a:lnTo>
                    <a:lnTo>
                      <a:pt x="21" y="40"/>
                    </a:lnTo>
                    <a:lnTo>
                      <a:pt x="16" y="39"/>
                    </a:lnTo>
                    <a:lnTo>
                      <a:pt x="13" y="38"/>
                    </a:lnTo>
                    <a:lnTo>
                      <a:pt x="9" y="36"/>
                    </a:lnTo>
                    <a:lnTo>
                      <a:pt x="6" y="34"/>
                    </a:lnTo>
                    <a:lnTo>
                      <a:pt x="4" y="31"/>
                    </a:lnTo>
                    <a:lnTo>
                      <a:pt x="2" y="27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1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568840" y="520704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0" y="16"/>
                    </a:moveTo>
                    <a:lnTo>
                      <a:pt x="3" y="0"/>
                    </a:lnTo>
                    <a:lnTo>
                      <a:pt x="38" y="0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8" y="8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72080" y="5213520"/>
                <a:ext cx="61920" cy="363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35" y="22"/>
                    </a:moveTo>
                    <a:lnTo>
                      <a:pt x="3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3"/>
                    </a:lnTo>
                    <a:lnTo>
                      <a:pt x="38" y="19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6" y="22"/>
                    </a:lnTo>
                    <a:lnTo>
                      <a:pt x="35" y="2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21400" y="5321160"/>
                <a:ext cx="58680" cy="2700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36" y="0"/>
                    </a:moveTo>
                    <a:lnTo>
                      <a:pt x="33" y="16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97480" y="5307120"/>
                <a:ext cx="55440" cy="2700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21" y="1"/>
                    </a:moveTo>
                    <a:lnTo>
                      <a:pt x="27" y="1"/>
                    </a:lnTo>
                    <a:lnTo>
                      <a:pt x="34" y="0"/>
                    </a:lnTo>
                    <a:lnTo>
                      <a:pt x="31" y="2"/>
                    </a:lnTo>
                    <a:lnTo>
                      <a:pt x="31" y="5"/>
                    </a:lnTo>
                    <a:lnTo>
                      <a:pt x="27" y="14"/>
                    </a:lnTo>
                    <a:lnTo>
                      <a:pt x="27" y="16"/>
                    </a:lnTo>
                    <a:lnTo>
                      <a:pt x="7" y="16"/>
                    </a:lnTo>
                    <a:lnTo>
                      <a:pt x="2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" y="1"/>
                    </a:lnTo>
                    <a:lnTo>
                      <a:pt x="21" y="1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465880" y="532116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0"/>
                    </a:moveTo>
                    <a:lnTo>
                      <a:pt x="18" y="1"/>
                    </a:lnTo>
                    <a:lnTo>
                      <a:pt x="23" y="4"/>
                    </a:lnTo>
                    <a:lnTo>
                      <a:pt x="25" y="7"/>
                    </a:lnTo>
                    <a:lnTo>
                      <a:pt x="26" y="13"/>
                    </a:lnTo>
                    <a:lnTo>
                      <a:pt x="25" y="18"/>
                    </a:lnTo>
                    <a:lnTo>
                      <a:pt x="23" y="23"/>
                    </a:lnTo>
                    <a:lnTo>
                      <a:pt x="18" y="26"/>
                    </a:lnTo>
                    <a:lnTo>
                      <a:pt x="14" y="27"/>
                    </a:lnTo>
                    <a:lnTo>
                      <a:pt x="8" y="26"/>
                    </a:lnTo>
                    <a:lnTo>
                      <a:pt x="4" y="23"/>
                    </a:lnTo>
                    <a:lnTo>
                      <a:pt x="1" y="18"/>
                    </a:ln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07240" y="53071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2" y="17"/>
                    </a:moveTo>
                    <a:lnTo>
                      <a:pt x="8" y="16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7"/>
                    </a:lnTo>
                    <a:lnTo>
                      <a:pt x="12" y="19"/>
                    </a:lnTo>
                    <a:lnTo>
                      <a:pt x="4" y="19"/>
                    </a:lnTo>
                    <a:lnTo>
                      <a:pt x="2" y="17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518080" y="5265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15" y="16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83400" y="5311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2"/>
                    </a:moveTo>
                    <a:lnTo>
                      <a:pt x="16" y="0"/>
                    </a:lnTo>
                    <a:lnTo>
                      <a:pt x="13" y="2"/>
                    </a:lnTo>
                    <a:lnTo>
                      <a:pt x="10" y="9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0" y="17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84840" y="5262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16"/>
                    </a:moveTo>
                    <a:lnTo>
                      <a:pt x="3" y="14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3" y="6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9" y="12"/>
                    </a:lnTo>
                    <a:lnTo>
                      <a:pt x="5" y="13"/>
                    </a:lnTo>
                    <a:lnTo>
                      <a:pt x="4" y="16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416560" y="5265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13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4" y="8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9" y="16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97520" y="5324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3"/>
                    </a:lnTo>
                    <a:lnTo>
                      <a:pt x="9" y="16"/>
                    </a:lnTo>
                    <a:lnTo>
                      <a:pt x="6" y="16"/>
                    </a:lnTo>
                    <a:lnTo>
                      <a:pt x="1" y="13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478480" y="533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1" y="1"/>
                    </a:lnTo>
                    <a:lnTo>
                      <a:pt x="12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2" y="13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4" y="16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10080" y="5297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99320" y="53085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91040" y="530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12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84840" y="52754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6"/>
                    </a:moveTo>
                    <a:lnTo>
                      <a:pt x="0" y="11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18240" y="5235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3" y="16"/>
                    </a:lnTo>
                    <a:lnTo>
                      <a:pt x="13" y="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737320" y="530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6" y="16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32560" y="530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6" y="16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37320" y="5262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6" y="16"/>
                    </a:lnTo>
                    <a:lnTo>
                      <a:pt x="0" y="8"/>
                    </a:ln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32560" y="5262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6" y="16"/>
                    </a:lnTo>
                    <a:lnTo>
                      <a:pt x="0" y="8"/>
                    </a:lnTo>
                    <a:lnTo>
                      <a:pt x="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05440" y="5311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91320" y="526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6" y="13"/>
                    </a:lnTo>
                    <a:lnTo>
                      <a:pt x="2" y="16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397480" y="5257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3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0e2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904000" y="530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59480" y="5278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659560" y="5278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89600" y="5278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12" y="0"/>
                    </a:lnTo>
                    <a:lnTo>
                      <a:pt x="16" y="3"/>
                    </a:lnTo>
                    <a:lnTo>
                      <a:pt x="12" y="12"/>
                    </a:lnTo>
                    <a:lnTo>
                      <a:pt x="9" y="16"/>
                    </a:lnTo>
                    <a:lnTo>
                      <a:pt x="3" y="12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899320" y="53071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478480" y="535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6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10"/>
                    </a:lnTo>
                    <a:lnTo>
                      <a:pt x="12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492880" y="5364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59400" y="5349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6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12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475240" y="5364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0" y="4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06920" y="5349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91080" y="535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494320" y="5345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6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73800" y="5345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472000" y="5337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6" y="16"/>
                    </a:lnTo>
                    <a:lnTo>
                      <a:pt x="10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492880" y="5318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8480" y="5329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2" y="0"/>
                    </a:lnTo>
                    <a:lnTo>
                      <a:pt x="16" y="10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75240" y="5318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59400" y="5330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2" y="4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89640" y="5329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0"/>
                    </a:lnTo>
                    <a:lnTo>
                      <a:pt x="16" y="5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0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06920" y="5330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5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95760" y="5337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877000" y="530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9" y="16"/>
                    </a:lnTo>
                    <a:lnTo>
                      <a:pt x="7" y="8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9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11840" y="5311800"/>
                <a:ext cx="65160" cy="6840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20" y="0"/>
                    </a:moveTo>
                    <a:lnTo>
                      <a:pt x="24" y="1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4" y="6"/>
                    </a:lnTo>
                    <a:lnTo>
                      <a:pt x="36" y="9"/>
                    </a:lnTo>
                    <a:lnTo>
                      <a:pt x="39" y="13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0" y="25"/>
                    </a:lnTo>
                    <a:lnTo>
                      <a:pt x="39" y="29"/>
                    </a:lnTo>
                    <a:lnTo>
                      <a:pt x="36" y="32"/>
                    </a:lnTo>
                    <a:lnTo>
                      <a:pt x="34" y="36"/>
                    </a:lnTo>
                    <a:lnTo>
                      <a:pt x="31" y="38"/>
                    </a:lnTo>
                    <a:lnTo>
                      <a:pt x="28" y="40"/>
                    </a:lnTo>
                    <a:lnTo>
                      <a:pt x="24" y="41"/>
                    </a:lnTo>
                    <a:lnTo>
                      <a:pt x="20" y="42"/>
                    </a:lnTo>
                    <a:lnTo>
                      <a:pt x="17" y="41"/>
                    </a:lnTo>
                    <a:lnTo>
                      <a:pt x="12" y="40"/>
                    </a:lnTo>
                    <a:lnTo>
                      <a:pt x="10" y="38"/>
                    </a:lnTo>
                    <a:lnTo>
                      <a:pt x="6" y="36"/>
                    </a:lnTo>
                    <a:lnTo>
                      <a:pt x="5" y="32"/>
                    </a:lnTo>
                    <a:lnTo>
                      <a:pt x="2" y="29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2" y="13"/>
                    </a:lnTo>
                    <a:lnTo>
                      <a:pt x="5" y="9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7" y="1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24440" y="5324400"/>
                <a:ext cx="41400" cy="4464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12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3" y="8"/>
                    </a:lnTo>
                    <a:lnTo>
                      <a:pt x="25" y="14"/>
                    </a:lnTo>
                    <a:lnTo>
                      <a:pt x="23" y="19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4" y="22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35600" y="5338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10" y="0"/>
                    </a:lnTo>
                    <a:lnTo>
                      <a:pt x="13" y="3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4" y="9"/>
                    </a:lnTo>
                    <a:lnTo>
                      <a:pt x="13" y="12"/>
                    </a:lnTo>
                    <a:lnTo>
                      <a:pt x="10" y="14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51440" y="5367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837400" y="535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64400" y="53514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30920" y="5367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54680" y="5348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829480" y="5348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46760" y="535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18320" y="535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18320" y="533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2" y="5"/>
                    </a:lnTo>
                    <a:lnTo>
                      <a:pt x="16" y="10"/>
                    </a:lnTo>
                    <a:lnTo>
                      <a:pt x="12" y="10"/>
                    </a:lnTo>
                    <a:lnTo>
                      <a:pt x="8" y="16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46760" y="5330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64400" y="53341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6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51440" y="5319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2" y="5"/>
                    </a:lnTo>
                    <a:lnTo>
                      <a:pt x="16" y="10"/>
                    </a:lnTo>
                    <a:lnTo>
                      <a:pt x="12" y="10"/>
                    </a:lnTo>
                    <a:lnTo>
                      <a:pt x="8" y="16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829480" y="53388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16" y="5"/>
                    </a:lnTo>
                    <a:lnTo>
                      <a:pt x="16" y="10"/>
                    </a:lnTo>
                    <a:lnTo>
                      <a:pt x="5" y="1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37400" y="5330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5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830920" y="5319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2" y="5"/>
                    </a:lnTo>
                    <a:lnTo>
                      <a:pt x="16" y="10"/>
                    </a:lnTo>
                    <a:lnTo>
                      <a:pt x="12" y="10"/>
                    </a:lnTo>
                    <a:lnTo>
                      <a:pt x="8" y="16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54680" y="5338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6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92760" y="5278320"/>
                <a:ext cx="11448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71" y="13"/>
                    </a:moveTo>
                    <a:lnTo>
                      <a:pt x="68" y="14"/>
                    </a:lnTo>
                    <a:lnTo>
                      <a:pt x="67" y="19"/>
                    </a:lnTo>
                    <a:lnTo>
                      <a:pt x="61" y="19"/>
                    </a:lnTo>
                    <a:lnTo>
                      <a:pt x="53" y="16"/>
                    </a:lnTo>
                    <a:lnTo>
                      <a:pt x="50" y="14"/>
                    </a:lnTo>
                    <a:lnTo>
                      <a:pt x="45" y="12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9"/>
                    </a:lnTo>
                    <a:lnTo>
                      <a:pt x="19" y="12"/>
                    </a:lnTo>
                    <a:lnTo>
                      <a:pt x="14" y="14"/>
                    </a:lnTo>
                    <a:lnTo>
                      <a:pt x="9" y="19"/>
                    </a:lnTo>
                    <a:lnTo>
                      <a:pt x="7" y="21"/>
                    </a:lnTo>
                    <a:lnTo>
                      <a:pt x="0" y="23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49" y="1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3" y="3"/>
                    </a:lnTo>
                    <a:lnTo>
                      <a:pt x="55" y="4"/>
                    </a:lnTo>
                    <a:lnTo>
                      <a:pt x="56" y="5"/>
                    </a:lnTo>
                    <a:lnTo>
                      <a:pt x="57" y="5"/>
                    </a:lnTo>
                    <a:lnTo>
                      <a:pt x="59" y="6"/>
                    </a:lnTo>
                    <a:lnTo>
                      <a:pt x="62" y="13"/>
                    </a:lnTo>
                    <a:lnTo>
                      <a:pt x="71" y="13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5846760" y="537192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5846760" y="537192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5487840" y="52689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487840" y="52689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5492880" y="52689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5492880" y="52689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5491080" y="5370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5491080" y="5370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5491080" y="52689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5491080" y="52689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5843520" y="527220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843520" y="527220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846760" y="527220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846760" y="527220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5830920" y="529740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5830920" y="529740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497560" y="52689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497560" y="52689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38880" y="53434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38880" y="53434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92880" y="539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92880" y="539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91040" y="5348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91040" y="5348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789520" y="5351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789520" y="5351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5773680" y="5348160"/>
                <a:ext cx="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5773680" y="5348160"/>
                <a:ext cx="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5873760" y="53514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5873760" y="53514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433840" y="5349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33840" y="5349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5516640" y="534348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5516640" y="534348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871960" y="5357880"/>
                <a:ext cx="37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5871960" y="5357880"/>
                <a:ext cx="37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5483160" y="52689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483160" y="52689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5824440" y="5394240"/>
                <a:ext cx="36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5824440" y="5394240"/>
                <a:ext cx="36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5511960" y="5356080"/>
                <a:ext cx="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511960" y="5356080"/>
                <a:ext cx="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91320" y="5357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791320" y="5357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5851440" y="537192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5851440" y="537192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5484960" y="536904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5484960" y="536904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5856120" y="527220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5856120" y="527220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5856120" y="537192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5856120" y="537192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5842080" y="527220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5842080" y="527220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5511960" y="5349960"/>
                <a:ext cx="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5511960" y="5349960"/>
                <a:ext cx="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5842080" y="537192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5842080" y="537192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889600" y="534024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89600" y="534024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435640" y="53560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35640" y="53560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5516640" y="533700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5516640" y="533700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5487840" y="536904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5487840" y="536904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492880" y="536904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5492880" y="536904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91320" y="5361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91320" y="5361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859360" y="527508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5859360" y="527508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4160" y="529740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34160" y="529740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5872320" y="5356080"/>
                <a:ext cx="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5872320" y="5356080"/>
                <a:ext cx="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35640" y="53593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435640" y="53593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5773680" y="5345280"/>
                <a:ext cx="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5773680" y="5345280"/>
                <a:ext cx="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5773680" y="5338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5773680" y="5338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5419800" y="534996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5419800" y="534996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30680" y="53434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30680" y="53434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5416560" y="53434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416560" y="53434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535720" y="5349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35720" y="5349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91040" y="53452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91040" y="53452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89520" y="5356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789520" y="5356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5773680" y="5340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773680" y="5340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38880" y="5337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38880" y="5337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871960" y="5361120"/>
                <a:ext cx="37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5871960" y="5361120"/>
                <a:ext cx="37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479920" y="52722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5479920" y="52722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5511600" y="53593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5511600" y="53593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5500800" y="52722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5500800" y="52722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5418000" y="5337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418000" y="5337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>
                <a:off x="5816520" y="5370480"/>
                <a:ext cx="3672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 flipV="1">
                <a:off x="5816520" y="5370480"/>
                <a:ext cx="3672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530680" y="5337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530680" y="5337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5861160" y="5370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5861160" y="5370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54680" y="53942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54680" y="53942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42120" y="5324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42120" y="5324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511600" y="53625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5511600" y="53625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89600" y="53388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889600" y="53388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42120" y="5329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42120" y="5329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97440" y="533232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97440" y="533232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37080" y="5362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37080" y="5362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9276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9276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5008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5008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72000" y="5295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72000" y="5295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5477040" y="536724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5477040" y="536724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5483160" y="529596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5483160" y="529596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500800" y="536904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500800" y="536904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5816520" y="539424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5816520" y="539424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>
                <a:off x="5462280" y="5369040"/>
                <a:ext cx="363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 flipV="1">
                <a:off x="5462280" y="5369040"/>
                <a:ext cx="363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834160" y="527508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5834160" y="527508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88160" y="5335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888160" y="5335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5843520" y="5275080"/>
                <a:ext cx="3672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5843520" y="5275080"/>
                <a:ext cx="3672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870520" y="536580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870520" y="536580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514480" y="532908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514480" y="532908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864400" y="536904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864400" y="536904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>
                <a:off x="5811480" y="5369040"/>
                <a:ext cx="363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>
                <a:off x="5811480" y="5369040"/>
                <a:ext cx="363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86400" y="529740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86400" y="529740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68760" y="5297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68760" y="5297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86360" y="5330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886360" y="5330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27800" y="53290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527800" y="53290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43888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43888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452920" y="5389560"/>
                <a:ext cx="36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452920" y="5389560"/>
                <a:ext cx="36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5829480" y="52768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5829480" y="52768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50224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224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449680" y="5389560"/>
                <a:ext cx="37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449680" y="5389560"/>
                <a:ext cx="37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50692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0692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76920" y="5330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776920" y="5330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flipV="1">
                <a:off x="5846400" y="5276880"/>
                <a:ext cx="363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5846400" y="5276880"/>
                <a:ext cx="363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644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644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>
                <a:off x="5849640" y="5276880"/>
                <a:ext cx="363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5849640" y="5276880"/>
                <a:ext cx="363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26240" y="52768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5826240" y="52768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5808600" y="5389560"/>
                <a:ext cx="36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808600" y="5389560"/>
                <a:ext cx="36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467320" y="53006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67320" y="53006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5491080" y="5300640"/>
                <a:ext cx="36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5491080" y="5300640"/>
                <a:ext cx="36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5850000" y="530208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5850000" y="530208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42120" y="5321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442120" y="5321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21200" y="5302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21200" y="5302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64080" y="5300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64080" y="5300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510160" y="5300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10160" y="5300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5444640" y="53863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5444640" y="53863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889600" y="53690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889600" y="53690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5424480" y="536580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5424480" y="536580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50872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0872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 flipV="1">
                <a:off x="5510160" y="5343480"/>
                <a:ext cx="3960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>
                <a:off x="5510160" y="5343480"/>
                <a:ext cx="3960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5886360" y="535140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886360" y="535140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86728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6728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5805360" y="5389560"/>
                <a:ext cx="36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5805360" y="5389560"/>
                <a:ext cx="36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5870160" y="5324400"/>
                <a:ext cx="41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5870160" y="5324400"/>
                <a:ext cx="41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5511960" y="532116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5511960" y="532116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781240" y="5369040"/>
                <a:ext cx="41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5781240" y="5369040"/>
                <a:ext cx="41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00680" y="53244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00680" y="53244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5775120" y="5351400"/>
                <a:ext cx="3780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flipV="1">
                <a:off x="5775120" y="5351400"/>
                <a:ext cx="3780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30680" y="5365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30680" y="5365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5783400" y="5372280"/>
                <a:ext cx="41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783400" y="5372280"/>
                <a:ext cx="41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88160" y="5372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88160" y="5372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511600" y="5318280"/>
                <a:ext cx="36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5511600" y="5318280"/>
                <a:ext cx="36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45000" y="5318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445000" y="5318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5869080" y="531972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869080" y="531972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27800" y="53690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27800" y="53690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5441760" y="5386320"/>
                <a:ext cx="37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441760" y="5386320"/>
                <a:ext cx="37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5425560" y="536904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425560" y="536904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70520" y="538812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70520" y="538812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1196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1196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02480" y="531972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02480" y="531972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5802120" y="5388120"/>
                <a:ext cx="37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5802120" y="5388120"/>
                <a:ext cx="37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5495760" y="5302080"/>
                <a:ext cx="36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5495760" y="5302080"/>
                <a:ext cx="36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459400" y="5302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59400" y="5302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5853240" y="530388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5853240" y="530388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19760" y="5303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19760" y="5303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5424480" y="5319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5424480" y="5319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5866920" y="5318280"/>
                <a:ext cx="41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5866920" y="5318280"/>
                <a:ext cx="41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24560" y="53197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524560" y="53197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03920" y="531828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03920" y="531828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5865840" y="531504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865840" y="531504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5797080" y="53863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5797080" y="53863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877000" y="53625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877000" y="53625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5430960" y="537516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5430960" y="537516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5788080" y="537840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5788080" y="537840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227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5227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526000" y="53751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526000" y="53751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456160" y="53038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456160" y="53038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5497560" y="530388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5497560" y="530388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16640" y="5383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16640" y="5383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450040" y="5311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450040" y="5311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053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053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83120" y="5378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83120" y="5378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5440320" y="5383080"/>
                <a:ext cx="36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5440320" y="5383080"/>
                <a:ext cx="36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16520" y="53071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16520" y="53071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5446800" y="5352840"/>
                <a:ext cx="0" cy="3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5446800" y="5352840"/>
                <a:ext cx="0" cy="3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5855760" y="530712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5855760" y="530712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flipV="1">
                <a:off x="5780160" y="5359320"/>
                <a:ext cx="3960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>
                <a:off x="5780160" y="5359320"/>
                <a:ext cx="3960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5437080" y="538164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5437080" y="538164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1040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1040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1808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51808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5866920" y="537372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5866920" y="537372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45292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5292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5861160" y="531036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5861160" y="531036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5166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166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>
                <a:off x="5508360" y="5352840"/>
                <a:ext cx="36360" cy="3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 flipV="1">
                <a:off x="5508360" y="5352840"/>
                <a:ext cx="36360" cy="3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5502240" y="5307120"/>
                <a:ext cx="36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5502240" y="5307120"/>
                <a:ext cx="36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454720" y="5307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454720" y="5307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5793840" y="538308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5793840" y="538308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5506920" y="531036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5506920" y="5310360"/>
                <a:ext cx="38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75200" y="5383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75200" y="5383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808600" y="5311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08600" y="5311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4500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4500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5862600" y="531180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5862600" y="531180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5859360" y="5308560"/>
                <a:ext cx="36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5859360" y="5308560"/>
                <a:ext cx="36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1328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1328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5433840" y="537840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5433840" y="537840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5791320" y="537840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5791320" y="537840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52132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52132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5435640" y="537840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5435640" y="5378400"/>
                <a:ext cx="38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5792760" y="538164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5792760" y="538164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7844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7844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8168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8168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52456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52456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6027840" y="4759200"/>
              <a:ext cx="240840" cy="237600"/>
              <a:chOff x="6027840" y="4759200"/>
              <a:chExt cx="240840" cy="237600"/>
            </a:xfrm>
          </p:grpSpPr>
          <p:sp>
            <p:nvSpPr>
              <p:cNvPr id="808" name=""/>
              <p:cNvSpPr/>
              <p:nvPr/>
            </p:nvSpPr>
            <p:spPr>
              <a:xfrm>
                <a:off x="6059520" y="4791240"/>
                <a:ext cx="17460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027840" y="475920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6678720" y="4417920"/>
              <a:ext cx="240840" cy="237600"/>
              <a:chOff x="6678720" y="4417920"/>
              <a:chExt cx="240840" cy="237600"/>
            </a:xfrm>
          </p:grpSpPr>
          <p:sp>
            <p:nvSpPr>
              <p:cNvPr id="811" name=""/>
              <p:cNvSpPr/>
              <p:nvPr/>
            </p:nvSpPr>
            <p:spPr>
              <a:xfrm>
                <a:off x="6708600" y="4449600"/>
                <a:ext cx="171720" cy="1717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678720" y="441792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6145200" y="3579840"/>
              <a:ext cx="240840" cy="237600"/>
              <a:chOff x="6145200" y="3579840"/>
              <a:chExt cx="240840" cy="237600"/>
            </a:xfrm>
          </p:grpSpPr>
          <p:sp>
            <p:nvSpPr>
              <p:cNvPr id="814" name=""/>
              <p:cNvSpPr/>
              <p:nvPr/>
            </p:nvSpPr>
            <p:spPr>
              <a:xfrm>
                <a:off x="6175440" y="3610080"/>
                <a:ext cx="164880" cy="1648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145200" y="357984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6080400" y="3973680"/>
              <a:ext cx="240840" cy="237600"/>
              <a:chOff x="6080400" y="3973680"/>
              <a:chExt cx="240840" cy="237600"/>
            </a:xfrm>
          </p:grpSpPr>
          <p:sp>
            <p:nvSpPr>
              <p:cNvPr id="817" name=""/>
              <p:cNvSpPr/>
              <p:nvPr/>
            </p:nvSpPr>
            <p:spPr>
              <a:xfrm>
                <a:off x="6110280" y="4003560"/>
                <a:ext cx="165240" cy="1652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080400" y="397368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6158160" y="4460760"/>
              <a:ext cx="240840" cy="237600"/>
              <a:chOff x="6158160" y="4460760"/>
              <a:chExt cx="240840" cy="237600"/>
            </a:xfrm>
          </p:grpSpPr>
          <p:sp>
            <p:nvSpPr>
              <p:cNvPr id="820" name=""/>
              <p:cNvSpPr/>
              <p:nvPr/>
            </p:nvSpPr>
            <p:spPr>
              <a:xfrm>
                <a:off x="6188040" y="449280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158160" y="446076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6158160" y="5511960"/>
              <a:ext cx="240840" cy="237600"/>
              <a:chOff x="6158160" y="5511960"/>
              <a:chExt cx="240840" cy="237600"/>
            </a:xfrm>
          </p:grpSpPr>
          <p:sp>
            <p:nvSpPr>
              <p:cNvPr id="823" name=""/>
              <p:cNvSpPr/>
              <p:nvPr/>
            </p:nvSpPr>
            <p:spPr>
              <a:xfrm>
                <a:off x="6188040" y="554364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158160" y="551196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6166080" y="5830920"/>
              <a:ext cx="240840" cy="237600"/>
              <a:chOff x="6166080" y="5830920"/>
              <a:chExt cx="240840" cy="237600"/>
            </a:xfrm>
          </p:grpSpPr>
          <p:sp>
            <p:nvSpPr>
              <p:cNvPr id="826" name=""/>
              <p:cNvSpPr/>
              <p:nvPr/>
            </p:nvSpPr>
            <p:spPr>
              <a:xfrm>
                <a:off x="6195960" y="586260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166080" y="583092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6992280" y="4867200"/>
              <a:ext cx="156960" cy="154440"/>
              <a:chOff x="6992280" y="4867200"/>
              <a:chExt cx="156960" cy="154440"/>
            </a:xfrm>
          </p:grpSpPr>
          <p:sp>
            <p:nvSpPr>
              <p:cNvPr id="829" name=""/>
              <p:cNvSpPr/>
              <p:nvPr/>
            </p:nvSpPr>
            <p:spPr>
              <a:xfrm>
                <a:off x="7013520" y="4888080"/>
                <a:ext cx="11448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992280" y="486720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820920" y="5100480"/>
              <a:ext cx="156960" cy="154440"/>
              <a:chOff x="6820920" y="5100480"/>
              <a:chExt cx="156960" cy="154440"/>
            </a:xfrm>
          </p:grpSpPr>
          <p:sp>
            <p:nvSpPr>
              <p:cNvPr id="832" name=""/>
              <p:cNvSpPr/>
              <p:nvPr/>
            </p:nvSpPr>
            <p:spPr>
              <a:xfrm>
                <a:off x="6842160" y="5121360"/>
                <a:ext cx="11412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820920" y="510048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915960" y="5533920"/>
              <a:ext cx="156960" cy="154440"/>
              <a:chOff x="6915960" y="5533920"/>
              <a:chExt cx="156960" cy="154440"/>
            </a:xfrm>
          </p:grpSpPr>
          <p:sp>
            <p:nvSpPr>
              <p:cNvPr id="835" name=""/>
              <p:cNvSpPr/>
              <p:nvPr/>
            </p:nvSpPr>
            <p:spPr>
              <a:xfrm>
                <a:off x="6937200" y="5554800"/>
                <a:ext cx="11448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915960" y="553392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7030440" y="4395960"/>
              <a:ext cx="156960" cy="154440"/>
              <a:chOff x="7030440" y="4395960"/>
              <a:chExt cx="156960" cy="154440"/>
            </a:xfrm>
          </p:grpSpPr>
          <p:sp>
            <p:nvSpPr>
              <p:cNvPr id="838" name=""/>
              <p:cNvSpPr/>
              <p:nvPr/>
            </p:nvSpPr>
            <p:spPr>
              <a:xfrm>
                <a:off x="7051680" y="4416480"/>
                <a:ext cx="11412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30440" y="439596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6668280" y="4643280"/>
              <a:ext cx="156960" cy="154440"/>
              <a:chOff x="6668280" y="4643280"/>
              <a:chExt cx="156960" cy="154440"/>
            </a:xfrm>
          </p:grpSpPr>
          <p:sp>
            <p:nvSpPr>
              <p:cNvPr id="841" name=""/>
              <p:cNvSpPr/>
              <p:nvPr/>
            </p:nvSpPr>
            <p:spPr>
              <a:xfrm>
                <a:off x="6689880" y="4664160"/>
                <a:ext cx="11412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668280" y="464328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6482520" y="5381640"/>
              <a:ext cx="156960" cy="154440"/>
              <a:chOff x="6482520" y="5381640"/>
              <a:chExt cx="156960" cy="154440"/>
            </a:xfrm>
          </p:grpSpPr>
          <p:sp>
            <p:nvSpPr>
              <p:cNvPr id="844" name=""/>
              <p:cNvSpPr/>
              <p:nvPr/>
            </p:nvSpPr>
            <p:spPr>
              <a:xfrm>
                <a:off x="6504120" y="5402160"/>
                <a:ext cx="11412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482520" y="538164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6516000" y="4809960"/>
              <a:ext cx="156960" cy="154440"/>
              <a:chOff x="6516000" y="4809960"/>
              <a:chExt cx="156960" cy="154440"/>
            </a:xfrm>
          </p:grpSpPr>
          <p:sp>
            <p:nvSpPr>
              <p:cNvPr id="847" name=""/>
              <p:cNvSpPr/>
              <p:nvPr/>
            </p:nvSpPr>
            <p:spPr>
              <a:xfrm>
                <a:off x="6537240" y="4830840"/>
                <a:ext cx="11448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16000" y="480996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6616080" y="4224240"/>
              <a:ext cx="156960" cy="154440"/>
              <a:chOff x="6616080" y="4224240"/>
              <a:chExt cx="156960" cy="154440"/>
            </a:xfrm>
          </p:grpSpPr>
          <p:sp>
            <p:nvSpPr>
              <p:cNvPr id="850" name=""/>
              <p:cNvSpPr/>
              <p:nvPr/>
            </p:nvSpPr>
            <p:spPr>
              <a:xfrm>
                <a:off x="6637320" y="4245120"/>
                <a:ext cx="109440" cy="1094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16080" y="422424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7569360" y="3541680"/>
              <a:ext cx="620640" cy="5587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69360" y="4278240"/>
              <a:ext cx="620640" cy="5587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07160" y="369396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07160" y="443088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69360" y="5027760"/>
              <a:ext cx="620640" cy="5587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69360" y="5726160"/>
              <a:ext cx="620640" cy="5587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07160" y="518004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607160" y="587844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0" name=""/>
            <p:cNvGraphicFramePr/>
            <p:nvPr/>
          </p:nvGraphicFramePr>
          <p:xfrm>
            <a:off x="5470560" y="4265640"/>
            <a:ext cx="434880" cy="369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86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470560" y="4265640"/>
                      <a:ext cx="43488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2" name=""/>
            <p:cNvSpPr/>
            <p:nvPr/>
          </p:nvSpPr>
          <p:spPr>
            <a:xfrm>
              <a:off x="6991200" y="3754440"/>
              <a:ext cx="165240" cy="165240"/>
            </a:xfrm>
            <a:prstGeom prst="ellipse">
              <a:avLst/>
            </a:prstGeom>
            <a:solidFill>
              <a:srgbClr val="7bf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Book Antiqu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6309000" y="5275440"/>
              <a:ext cx="240840" cy="237600"/>
              <a:chOff x="6309000" y="5275440"/>
              <a:chExt cx="240840" cy="237600"/>
            </a:xfrm>
          </p:grpSpPr>
          <p:sp>
            <p:nvSpPr>
              <p:cNvPr id="864" name=""/>
              <p:cNvSpPr/>
              <p:nvPr/>
            </p:nvSpPr>
            <p:spPr>
              <a:xfrm>
                <a:off x="6338880" y="530712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309000" y="527544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03:42:35Z</dcterms:created>
  <dc:creator>tim finin</dc:creator>
  <dc:description/>
  <dc:language>en-US</dc:language>
  <cp:lastModifiedBy>Tim Finin</cp:lastModifiedBy>
  <cp:lastPrinted>1998-04-11T16:25:36Z</cp:lastPrinted>
  <dcterms:modified xsi:type="dcterms:W3CDTF">2000-03-20T01:39:12Z</dcterms:modified>
  <cp:revision>2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Yannis\Test PP into HTML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