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BABC-A39F-41E0-B4F7-FA532AD03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EE69-6624-49D8-A4DC-70A7D5F49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578-C07A-47CF-899E-C10E19182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96FE-057B-4719-AA03-1EFF3844D5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F95-D4EA-4982-A485-0F2CE405CA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63D9-7B89-4008-B28C-C54403308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9C57-EC47-4C71-8211-40CBD0DE3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2120-AECF-43E3-A794-46D02F089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A34C-9F88-487C-8F77-7B942CF70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A7AD-9430-4F43-B99F-1CB0F9B96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DBBA-96C3-414E-B523-D5BDF2D67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CD69-C414-44C8-A364-425FDCC79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878-D215-49D8-92AE-AFB28B25F5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Knowledge Sharing Effort (KSE)</a:t>
            </a:r>
            <a:endParaRPr b="1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IF vs ANSI KIF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is the object of an ANSI Ad Hoc standardization group (X3T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KIF is somewhat different from previous 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on-monotonic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possible (future) higher-order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 standard infix format for presenting K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560" y="39024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IF Softwa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7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KIF-based reasoners in LISP are available from Stanford (e.g., EPILO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’s ABE (Agent Building Environment) &amp; RAISE reasoning engine use KIF as their extern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ford’s Ontolingua uses KIF as its intern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ors (partial) exist for a number of other KR languages, including LOOM, Classic, CLIPS, Prolog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s for KIF exist which take KIF strings into C++ or Java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IF Summary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is the only widely used interlingua for KB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is the focus of an ANSI standardization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KIF spec at &lt;http://logic.stanford.edu/&gt; and also &lt;http://www.cs.umbc.edu/kif&gt; for mor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future outside the AI-related community is un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not be acceptable to a wider community because its too logic-oriented or not object-oriented o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gain, it’s expressive power may win the 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an mapping of KIF to XML might make it more accep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Knowledge Query and Manipulation Language (KQML)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14080" y="208260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ncludes primitive message types of particular interest to building interesting agent architectures (e.g., for mediators, sharing int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28800" y="352440"/>
            <a:ext cx="77436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QML </a:t>
            </a:r>
            <a:br>
              <a:rPr sz="4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Query and Manipulation Languag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QML Specifications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KQML specification doc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the KQML Agent-Communication Language plus example agent policies and archite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DARPA Knowledge Sharing Initiative, External Interfaces Working Group, 1993. http://www.cs.umbc.edu/papers/kqml93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Proposal for a new KQML Spec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annis Labrou and Tim Finin, TR CS-97-03, Feb.1997, Computer Science and Electrical Engineering Department, University of Maryland Baltimore County, Baltimore, MD 21250. http://www.cs.umbc.edu/kqml/papers/kqml97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also many dialects and “extended” versions of KQML plus lots of important concepts not addressed in either specification document (e.g., secur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mostly focus on the 1997 document plus other ideas used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447920"/>
            <a:ext cx="8686800" cy="518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ultiple KQML dialec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905120"/>
            <a:ext cx="7696080" cy="4190760"/>
          </a:xfrm>
          <a:custGeom>
            <a:avLst/>
            <a:gdLst/>
            <a:ahLst/>
            <a:rect l="l" t="t" r="r" b="b"/>
            <a:pathLst>
              <a:path w="4848" h="2640">
                <a:moveTo>
                  <a:pt x="720" y="192"/>
                </a:moveTo>
                <a:lnTo>
                  <a:pt x="480" y="384"/>
                </a:lnTo>
                <a:lnTo>
                  <a:pt x="288" y="624"/>
                </a:lnTo>
                <a:lnTo>
                  <a:pt x="288" y="816"/>
                </a:lnTo>
                <a:lnTo>
                  <a:pt x="192" y="1056"/>
                </a:lnTo>
                <a:lnTo>
                  <a:pt x="48" y="1152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92" y="1536"/>
                </a:lnTo>
                <a:lnTo>
                  <a:pt x="192" y="1680"/>
                </a:lnTo>
                <a:lnTo>
                  <a:pt x="96" y="1776"/>
                </a:lnTo>
                <a:lnTo>
                  <a:pt x="48" y="1920"/>
                </a:lnTo>
                <a:lnTo>
                  <a:pt x="48" y="2064"/>
                </a:lnTo>
                <a:lnTo>
                  <a:pt x="144" y="2208"/>
                </a:lnTo>
                <a:lnTo>
                  <a:pt x="288" y="2352"/>
                </a:lnTo>
                <a:lnTo>
                  <a:pt x="288" y="2496"/>
                </a:lnTo>
                <a:lnTo>
                  <a:pt x="432" y="2592"/>
                </a:lnTo>
                <a:lnTo>
                  <a:pt x="672" y="2640"/>
                </a:lnTo>
                <a:lnTo>
                  <a:pt x="912" y="2592"/>
                </a:lnTo>
                <a:lnTo>
                  <a:pt x="1104" y="2544"/>
                </a:lnTo>
                <a:lnTo>
                  <a:pt x="1344" y="2304"/>
                </a:lnTo>
                <a:lnTo>
                  <a:pt x="1392" y="2304"/>
                </a:lnTo>
                <a:lnTo>
                  <a:pt x="1584" y="2352"/>
                </a:lnTo>
                <a:lnTo>
                  <a:pt x="1776" y="2448"/>
                </a:lnTo>
                <a:lnTo>
                  <a:pt x="2112" y="2592"/>
                </a:lnTo>
                <a:lnTo>
                  <a:pt x="2352" y="2640"/>
                </a:lnTo>
                <a:lnTo>
                  <a:pt x="2544" y="2448"/>
                </a:lnTo>
                <a:lnTo>
                  <a:pt x="2736" y="2304"/>
                </a:lnTo>
                <a:lnTo>
                  <a:pt x="2832" y="2256"/>
                </a:lnTo>
                <a:lnTo>
                  <a:pt x="3072" y="2304"/>
                </a:lnTo>
                <a:lnTo>
                  <a:pt x="3360" y="2352"/>
                </a:lnTo>
                <a:cubicBezTo>
                  <a:pt x="3508" y="2389"/>
                  <a:pt x="3511" y="2382"/>
                  <a:pt x="3601" y="2406"/>
                </a:cubicBezTo>
                <a:cubicBezTo>
                  <a:pt x="3629" y="2414"/>
                  <a:pt x="3659" y="2417"/>
                  <a:pt x="3687" y="2424"/>
                </a:cubicBezTo>
                <a:cubicBezTo>
                  <a:pt x="3698" y="2427"/>
                  <a:pt x="3718" y="2436"/>
                  <a:pt x="3718" y="2436"/>
                </a:cubicBezTo>
                <a:lnTo>
                  <a:pt x="3744" y="2496"/>
                </a:lnTo>
                <a:lnTo>
                  <a:pt x="3792" y="2496"/>
                </a:lnTo>
                <a:lnTo>
                  <a:pt x="3840" y="2496"/>
                </a:lnTo>
                <a:cubicBezTo>
                  <a:pt x="3824" y="2512"/>
                  <a:pt x="3792" y="2521"/>
                  <a:pt x="3792" y="2544"/>
                </a:cubicBezTo>
                <a:cubicBezTo>
                  <a:pt x="3792" y="2561"/>
                  <a:pt x="3824" y="2559"/>
                  <a:pt x="3841" y="2560"/>
                </a:cubicBezTo>
                <a:cubicBezTo>
                  <a:pt x="3943" y="2566"/>
                  <a:pt x="4046" y="2564"/>
                  <a:pt x="4149" y="2566"/>
                </a:cubicBezTo>
                <a:cubicBezTo>
                  <a:pt x="4300" y="2573"/>
                  <a:pt x="4313" y="2577"/>
                  <a:pt x="4493" y="2566"/>
                </a:cubicBezTo>
                <a:cubicBezTo>
                  <a:pt x="4522" y="2564"/>
                  <a:pt x="4579" y="2553"/>
                  <a:pt x="4579" y="2553"/>
                </a:cubicBezTo>
                <a:lnTo>
                  <a:pt x="4656" y="2400"/>
                </a:lnTo>
                <a:lnTo>
                  <a:pt x="4656" y="2208"/>
                </a:lnTo>
                <a:lnTo>
                  <a:pt x="4608" y="2016"/>
                </a:lnTo>
                <a:cubicBezTo>
                  <a:pt x="4624" y="1984"/>
                  <a:pt x="4643" y="1953"/>
                  <a:pt x="4656" y="1920"/>
                </a:cubicBezTo>
                <a:cubicBezTo>
                  <a:pt x="4663" y="1902"/>
                  <a:pt x="4658" y="1881"/>
                  <a:pt x="4666" y="1864"/>
                </a:cubicBezTo>
                <a:cubicBezTo>
                  <a:pt x="4682" y="1831"/>
                  <a:pt x="4705" y="1801"/>
                  <a:pt x="4733" y="1778"/>
                </a:cubicBezTo>
                <a:cubicBezTo>
                  <a:pt x="4743" y="1770"/>
                  <a:pt x="4764" y="1753"/>
                  <a:pt x="4764" y="1753"/>
                </a:cubicBezTo>
                <a:lnTo>
                  <a:pt x="4848" y="1536"/>
                </a:lnTo>
                <a:lnTo>
                  <a:pt x="4848" y="1344"/>
                </a:lnTo>
                <a:lnTo>
                  <a:pt x="4800" y="1056"/>
                </a:lnTo>
                <a:lnTo>
                  <a:pt x="4752" y="912"/>
                </a:lnTo>
                <a:lnTo>
                  <a:pt x="4608" y="720"/>
                </a:lnTo>
                <a:lnTo>
                  <a:pt x="4368" y="576"/>
                </a:lnTo>
                <a:lnTo>
                  <a:pt x="4176" y="672"/>
                </a:lnTo>
                <a:lnTo>
                  <a:pt x="4080" y="672"/>
                </a:lnTo>
                <a:lnTo>
                  <a:pt x="3888" y="624"/>
                </a:lnTo>
                <a:lnTo>
                  <a:pt x="3648" y="384"/>
                </a:lnTo>
                <a:lnTo>
                  <a:pt x="3552" y="240"/>
                </a:lnTo>
                <a:lnTo>
                  <a:pt x="3360" y="96"/>
                </a:lnTo>
                <a:lnTo>
                  <a:pt x="3120" y="96"/>
                </a:lnTo>
                <a:lnTo>
                  <a:pt x="2880" y="144"/>
                </a:lnTo>
                <a:lnTo>
                  <a:pt x="2688" y="192"/>
                </a:lnTo>
                <a:lnTo>
                  <a:pt x="2448" y="384"/>
                </a:lnTo>
                <a:lnTo>
                  <a:pt x="2256" y="480"/>
                </a:lnTo>
                <a:lnTo>
                  <a:pt x="2112" y="528"/>
                </a:lnTo>
                <a:lnTo>
                  <a:pt x="1872" y="432"/>
                </a:lnTo>
                <a:lnTo>
                  <a:pt x="1680" y="288"/>
                </a:lnTo>
                <a:lnTo>
                  <a:pt x="1584" y="192"/>
                </a:lnTo>
                <a:lnTo>
                  <a:pt x="1536" y="96"/>
                </a:lnTo>
                <a:lnTo>
                  <a:pt x="1344" y="0"/>
                </a:lnTo>
                <a:lnTo>
                  <a:pt x="1152" y="96"/>
                </a:lnTo>
                <a:lnTo>
                  <a:pt x="960" y="192"/>
                </a:lnTo>
                <a:lnTo>
                  <a:pt x="864" y="240"/>
                </a:lnTo>
                <a:lnTo>
                  <a:pt x="816" y="240"/>
                </a:lnTo>
                <a:lnTo>
                  <a:pt x="720" y="192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819520"/>
            <a:ext cx="3352680" cy="2235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3048120"/>
            <a:ext cx="1371600" cy="1371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880" y="4724280"/>
            <a:ext cx="14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No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KQ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124080"/>
            <a:ext cx="220968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419720"/>
            <a:ext cx="609480" cy="609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3000" y="594360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428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KQML Messag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82868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peech ac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perform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, tell, reply, subscribe, achieve, monito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ll(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) = fp[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 Bi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i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)]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[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]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ttribute/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, :language, :from, :in-reply-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0" y="1587600"/>
            <a:ext cx="9066240" cy="2298600"/>
            <a:chOff x="1440" y="1587600"/>
            <a:chExt cx="9066240" cy="2298600"/>
          </a:xfrm>
        </p:grpSpPr>
        <p:sp>
          <p:nvSpPr>
            <p:cNvPr id="102" name=""/>
            <p:cNvSpPr/>
            <p:nvPr/>
          </p:nvSpPr>
          <p:spPr>
            <a:xfrm>
              <a:off x="2873520" y="1587600"/>
              <a:ext cx="619416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ell 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ecbk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930320" y="1752120"/>
              <a:ext cx="1092240" cy="40644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8040" y="2768760"/>
              <a:ext cx="1930320" cy="2520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1971720"/>
              <a:ext cx="213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0040" y="2556000"/>
              <a:ext cx="185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240" y="3062160"/>
              <a:ext cx="1140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5760" y="3301920"/>
              <a:ext cx="3377880" cy="17784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60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QML Syntax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 was originally defined as a language with a particular linear syntax which is based on Li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 syntaxes have been used, e.g., based on SMTP, MIME, HTTP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roposals for a meta-syntax that can support different syntactic dial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 has also been mapped onto objects and passed from agent to agent as objects (e.g., if in the same memory space) or serialize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QML is not about synt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QML Reserved Parameter Keywords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se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sender of the perform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rece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receiver of the perform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igin of the performativ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forward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l destination of the performativ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forward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in-reply-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ected label in a response to a previous message (same 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reply-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the previous message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reply-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ected label in a response to the current messag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representation language of the :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ont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ontology (e.g., set of term definitions) assumed in the :content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ormation about which the performative expresses  an attit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48896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  <a:tab algn="l" pos="10093320"/>
                <a:tab algn="l" pos="10551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Knowledge Interchange Format (KIF)</a:t>
            </a:r>
            <a:endParaRPr b="1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erformatives (1997)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3360" y="914400"/>
            <a:ext cx="8679240" cy="5772240"/>
            <a:chOff x="153360" y="914400"/>
            <a:chExt cx="8679240" cy="5772240"/>
          </a:xfrm>
        </p:grpSpPr>
        <p:sp>
          <p:nvSpPr>
            <p:cNvPr id="115" name=""/>
            <p:cNvSpPr/>
            <p:nvPr/>
          </p:nvSpPr>
          <p:spPr>
            <a:xfrm>
              <a:off x="6019560" y="3657600"/>
              <a:ext cx="990720" cy="76212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019560" y="3581280"/>
              <a:ext cx="1295640" cy="7596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019200" y="2743200"/>
              <a:ext cx="228600" cy="99072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971800"/>
              <a:ext cx="838080" cy="68580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560" y="3733920"/>
              <a:ext cx="114300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00200" y="3733920"/>
              <a:ext cx="1066680" cy="91440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67080" y="1904760"/>
              <a:ext cx="1066680" cy="60948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1981440"/>
              <a:ext cx="1066680" cy="60948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24240"/>
              <a:ext cx="0" cy="106668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2667240"/>
              <a:ext cx="0" cy="152388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266720" y="3657600"/>
              <a:ext cx="1676520" cy="53352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267080" y="4191120"/>
              <a:ext cx="990720" cy="137160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895480" y="4190760"/>
              <a:ext cx="1371600" cy="114300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733920"/>
              <a:ext cx="1523880" cy="45720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360" y="3657600"/>
              <a:ext cx="2133720" cy="13338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forma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3353040"/>
              <a:ext cx="106668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360" y="3353040"/>
              <a:ext cx="106704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6019920"/>
              <a:ext cx="106668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280" y="5257800"/>
              <a:ext cx="106668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Prom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560" y="2210040"/>
              <a:ext cx="106704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In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114300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In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16765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560" y="160020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as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920" y="269100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h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ach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2560" y="5867640"/>
              <a:ext cx="128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ert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advert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4400" y="342900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t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6680" y="44197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ur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25909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as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32767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Go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0960" y="23623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3080" y="4191120"/>
              <a:ext cx="914400" cy="5716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acil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86600" y="4672080"/>
              <a:ext cx="174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oker-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ommend-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ruit-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oker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ommend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ruit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5560" y="182880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oadc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7120" y="1067040"/>
              <a:ext cx="75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t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9160" y="914400"/>
              <a:ext cx="1186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s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ns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te-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te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de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360" y="3549600"/>
              <a:ext cx="82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400" y="228600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k-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k-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k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840" y="5562720"/>
              <a:ext cx="82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5029200"/>
              <a:ext cx="1066680" cy="666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809880" y="4190760"/>
              <a:ext cx="609480" cy="213372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000" y="4648320"/>
              <a:ext cx="930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7640" y="60958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Virtual Knowledge Bas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pecifications describe the performatives using the notion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irtual knowledge b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virtual in two s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QML- speaking agent may not have an explicit  knowledge-base at al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facts” in the VKB cam be intentionally or extensionally 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agents as having a KB is a useful abs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8200" y="411120"/>
            <a:ext cx="75276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imple Query Performa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1676520"/>
            <a:ext cx="4025520" cy="2044440"/>
            <a:chOff x="380880" y="1676520"/>
            <a:chExt cx="4025520" cy="2044440"/>
          </a:xfrm>
        </p:grpSpPr>
        <p:sp>
          <p:nvSpPr>
            <p:cNvPr id="161" name=""/>
            <p:cNvSpPr/>
            <p:nvPr/>
          </p:nvSpPr>
          <p:spPr>
            <a:xfrm>
              <a:off x="380880" y="2467800"/>
              <a:ext cx="767880" cy="5090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47160" y="2472120"/>
              <a:ext cx="759240" cy="50004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840" y="239652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2520" y="241164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154160" y="1843200"/>
              <a:ext cx="2519640" cy="1345320"/>
              <a:chOff x="1154160" y="1843200"/>
              <a:chExt cx="2519640" cy="1345320"/>
            </a:xfrm>
          </p:grpSpPr>
          <p:sp>
            <p:nvSpPr>
              <p:cNvPr id="166" name=""/>
              <p:cNvSpPr/>
              <p:nvPr/>
            </p:nvSpPr>
            <p:spPr>
              <a:xfrm>
                <a:off x="1188360" y="1843200"/>
                <a:ext cx="2449440" cy="134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54160" y="1843200"/>
                <a:ext cx="2519640" cy="134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57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154160" y="2257560"/>
              <a:ext cx="2519640" cy="931320"/>
              <a:chOff x="1154160" y="2257560"/>
              <a:chExt cx="2519640" cy="931320"/>
            </a:xfrm>
          </p:grpSpPr>
          <p:sp>
            <p:nvSpPr>
              <p:cNvPr id="169" name=""/>
              <p:cNvSpPr/>
              <p:nvPr/>
            </p:nvSpPr>
            <p:spPr>
              <a:xfrm>
                <a:off x="1188360" y="2257560"/>
                <a:ext cx="2449440" cy="9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54160" y="2257560"/>
                <a:ext cx="2519640" cy="9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57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039320" y="1676520"/>
              <a:ext cx="87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k-one(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12520" y="2038680"/>
              <a:ext cx="58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tell(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2480" y="2215440"/>
              <a:ext cx="2518920" cy="1345320"/>
              <a:chOff x="1212480" y="2215440"/>
              <a:chExt cx="2518920" cy="1345320"/>
            </a:xfrm>
          </p:grpSpPr>
          <p:sp>
            <p:nvSpPr>
              <p:cNvPr id="174" name=""/>
              <p:cNvSpPr/>
              <p:nvPr/>
            </p:nvSpPr>
            <p:spPr>
              <a:xfrm>
                <a:off x="1245960" y="2215440"/>
                <a:ext cx="2449800" cy="134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2480" y="2215440"/>
                <a:ext cx="2518920" cy="134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154160" y="2256480"/>
              <a:ext cx="2519640" cy="931320"/>
              <a:chOff x="1154160" y="2256480"/>
              <a:chExt cx="2519640" cy="931320"/>
            </a:xfrm>
          </p:grpSpPr>
          <p:sp>
            <p:nvSpPr>
              <p:cNvPr id="177" name=""/>
              <p:cNvSpPr/>
              <p:nvPr/>
            </p:nvSpPr>
            <p:spPr>
              <a:xfrm>
                <a:off x="1188000" y="2256480"/>
                <a:ext cx="2449800" cy="9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54160" y="2256480"/>
                <a:ext cx="2519640" cy="9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45520" y="3445920"/>
              <a:ext cx="81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k-all(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61640" y="2722320"/>
              <a:ext cx="126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tell((p1 p2 p3...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80880" y="4876920"/>
            <a:ext cx="843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sk-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-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-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am-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formatives provide a basic query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993 spec also includ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-abo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do not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24280" y="1600200"/>
            <a:ext cx="4025880" cy="3018240"/>
            <a:chOff x="4724280" y="1600200"/>
            <a:chExt cx="4025880" cy="3018240"/>
          </a:xfrm>
        </p:grpSpPr>
        <p:sp>
          <p:nvSpPr>
            <p:cNvPr id="183" name=""/>
            <p:cNvSpPr/>
            <p:nvPr/>
          </p:nvSpPr>
          <p:spPr>
            <a:xfrm>
              <a:off x="4724280" y="2392200"/>
              <a:ext cx="768600" cy="5083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91640" y="2395440"/>
              <a:ext cx="758520" cy="50184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63600" y="232092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25920" y="233532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497560" y="1766880"/>
              <a:ext cx="2519640" cy="1346040"/>
              <a:chOff x="5497560" y="1766880"/>
              <a:chExt cx="2519640" cy="13460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31760" y="1766880"/>
                <a:ext cx="2449440" cy="134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97560" y="1766880"/>
                <a:ext cx="2519640" cy="134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57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497560" y="2181240"/>
              <a:ext cx="2519640" cy="932760"/>
              <a:chOff x="5497560" y="2181240"/>
              <a:chExt cx="2519640" cy="932760"/>
            </a:xfrm>
          </p:grpSpPr>
          <p:sp>
            <p:nvSpPr>
              <p:cNvPr id="191" name=""/>
              <p:cNvSpPr/>
              <p:nvPr/>
            </p:nvSpPr>
            <p:spPr>
              <a:xfrm>
                <a:off x="5531760" y="2181240"/>
                <a:ext cx="2449440" cy="9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2181240"/>
                <a:ext cx="2519640" cy="9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57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383080" y="1600200"/>
              <a:ext cx="74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k-if(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4840" y="1962000"/>
              <a:ext cx="556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Sor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876920" y="1600560"/>
              <a:ext cx="3709080" cy="2742120"/>
              <a:chOff x="4876920" y="1600560"/>
              <a:chExt cx="3709080" cy="274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26240" y="1600560"/>
                <a:ext cx="3607560" cy="27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6920" y="1600560"/>
                <a:ext cx="3709080" cy="27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497560" y="2181240"/>
              <a:ext cx="2519640" cy="929880"/>
              <a:chOff x="5497560" y="2181240"/>
              <a:chExt cx="2519640" cy="929880"/>
            </a:xfrm>
          </p:grpSpPr>
          <p:sp>
            <p:nvSpPr>
              <p:cNvPr id="199" name=""/>
              <p:cNvSpPr/>
              <p:nvPr/>
            </p:nvSpPr>
            <p:spPr>
              <a:xfrm>
                <a:off x="5531400" y="2181240"/>
                <a:ext cx="244980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97560" y="2181240"/>
                <a:ext cx="251964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326640" y="4343400"/>
              <a:ext cx="106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am-all(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7320" y="2819520"/>
              <a:ext cx="657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tell(P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86400" y="2514600"/>
            <a:ext cx="2549880" cy="914040"/>
            <a:chOff x="5486400" y="2514600"/>
            <a:chExt cx="2549880" cy="914040"/>
          </a:xfrm>
        </p:grpSpPr>
        <p:sp>
          <p:nvSpPr>
            <p:cNvPr id="204" name=""/>
            <p:cNvSpPr/>
            <p:nvPr/>
          </p:nvSpPr>
          <p:spPr>
            <a:xfrm>
              <a:off x="5520600" y="2514600"/>
              <a:ext cx="24800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2514600"/>
              <a:ext cx="25498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562720" y="2514240"/>
            <a:ext cx="2472840" cy="762120"/>
            <a:chOff x="5562720" y="2514240"/>
            <a:chExt cx="2472840" cy="762120"/>
          </a:xfrm>
        </p:grpSpPr>
        <p:sp>
          <p:nvSpPr>
            <p:cNvPr id="207" name=""/>
            <p:cNvSpPr/>
            <p:nvPr/>
          </p:nvSpPr>
          <p:spPr>
            <a:xfrm>
              <a:off x="5596200" y="2514240"/>
              <a:ext cx="24040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514240"/>
              <a:ext cx="24728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4520" y="3048120"/>
            <a:ext cx="65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tell(P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7160" y="3429000"/>
            <a:ext cx="65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tell(P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57800" y="1981440"/>
            <a:ext cx="2936520" cy="1980360"/>
            <a:chOff x="5257800" y="1981440"/>
            <a:chExt cx="2936520" cy="1980360"/>
          </a:xfrm>
        </p:grpSpPr>
        <p:sp>
          <p:nvSpPr>
            <p:cNvPr id="212" name=""/>
            <p:cNvSpPr/>
            <p:nvPr/>
          </p:nvSpPr>
          <p:spPr>
            <a:xfrm>
              <a:off x="5297400" y="1981440"/>
              <a:ext cx="28551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57800" y="1981440"/>
              <a:ext cx="293652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47440" y="3581280"/>
            <a:ext cx="42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ctive Information Performa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114800"/>
            <a:ext cx="86108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subscri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formatives is used to request active information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be(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rough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Keep your response to P curr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t’s content is an embedded KQML performative and thus it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28800" y="1295280"/>
            <a:ext cx="5397480" cy="2489040"/>
            <a:chOff x="1828800" y="1295280"/>
            <a:chExt cx="5397480" cy="2489040"/>
          </a:xfrm>
        </p:grpSpPr>
        <p:sp>
          <p:nvSpPr>
            <p:cNvPr id="218" name=""/>
            <p:cNvSpPr/>
            <p:nvPr/>
          </p:nvSpPr>
          <p:spPr>
            <a:xfrm>
              <a:off x="1828800" y="1833480"/>
              <a:ext cx="1130400" cy="7495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6240" y="1833480"/>
              <a:ext cx="1130040" cy="74952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967120" y="1295280"/>
              <a:ext cx="3193560" cy="1171080"/>
              <a:chOff x="2967120" y="1295280"/>
              <a:chExt cx="3193560" cy="1171080"/>
            </a:xfrm>
          </p:grpSpPr>
          <p:sp>
            <p:nvSpPr>
              <p:cNvPr id="221" name=""/>
              <p:cNvSpPr/>
              <p:nvPr/>
            </p:nvSpPr>
            <p:spPr>
              <a:xfrm>
                <a:off x="3010680" y="1295280"/>
                <a:ext cx="3103920" cy="117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67120" y="1295280"/>
                <a:ext cx="3193560" cy="117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5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582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959120" y="1727280"/>
              <a:ext cx="679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02160" y="1751040"/>
              <a:ext cx="6422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2720" y="1582560"/>
              <a:ext cx="2490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cribe(ask(p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4280" y="2763720"/>
              <a:ext cx="2332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tell(p), tell(p’),.</a:t>
              </a: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940120" y="1650960"/>
              <a:ext cx="3201480" cy="1828440"/>
              <a:chOff x="2940120" y="1650960"/>
              <a:chExt cx="3201480" cy="1828440"/>
            </a:xfrm>
          </p:grpSpPr>
          <p:sp>
            <p:nvSpPr>
              <p:cNvPr id="228" name=""/>
              <p:cNvSpPr/>
              <p:nvPr/>
            </p:nvSpPr>
            <p:spPr>
              <a:xfrm>
                <a:off x="2940120" y="1650960"/>
                <a:ext cx="320004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41560" y="1650960"/>
                <a:ext cx="320004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711520" y="1803240"/>
              <a:ext cx="3658680" cy="1828440"/>
              <a:chOff x="2711520" y="1803240"/>
              <a:chExt cx="3658680" cy="1828440"/>
            </a:xfrm>
          </p:grpSpPr>
          <p:sp>
            <p:nvSpPr>
              <p:cNvPr id="231" name=""/>
              <p:cNvSpPr/>
              <p:nvPr/>
            </p:nvSpPr>
            <p:spPr>
              <a:xfrm>
                <a:off x="2711520" y="1803240"/>
                <a:ext cx="365724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12960" y="1803240"/>
                <a:ext cx="365724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873440" y="1499040"/>
              <a:ext cx="5334840" cy="2285280"/>
              <a:chOff x="1873440" y="1499040"/>
              <a:chExt cx="5334840" cy="2285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873440" y="1499040"/>
                <a:ext cx="5333400" cy="2285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74880" y="1499040"/>
                <a:ext cx="5333400" cy="2285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330640" y="1650600"/>
              <a:ext cx="4420440" cy="2133720"/>
              <a:chOff x="2330640" y="1650600"/>
              <a:chExt cx="4420440" cy="2133720"/>
            </a:xfrm>
          </p:grpSpPr>
          <p:sp>
            <p:nvSpPr>
              <p:cNvPr id="237" name=""/>
              <p:cNvSpPr/>
              <p:nvPr/>
            </p:nvSpPr>
            <p:spPr>
              <a:xfrm>
                <a:off x="2330640" y="1650600"/>
                <a:ext cx="4419000" cy="213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32080" y="1650600"/>
                <a:ext cx="4419000" cy="213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46656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ilitation Servic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23360" y="1714680"/>
            <a:ext cx="8618760" cy="46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ors are a class of agents w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in meta-knowledge about other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communication service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forwarding and broad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-based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knowledg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tives of special interest to facilitato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, broker, recruit, recommend, forward, broadcas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s are generally considered to focus on match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ors can be intelligent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facilitators use domain knowledge in matching services needs and of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498240"/>
            <a:ext cx="760752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pability Description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69400" y="1714680"/>
            <a:ext cx="7386120" cy="3430080"/>
            <a:chOff x="869400" y="1714680"/>
            <a:chExt cx="7386120" cy="3430080"/>
          </a:xfrm>
        </p:grpSpPr>
        <p:sp>
          <p:nvSpPr>
            <p:cNvPr id="243" name=""/>
            <p:cNvSpPr/>
            <p:nvPr/>
          </p:nvSpPr>
          <p:spPr>
            <a:xfrm>
              <a:off x="1939680" y="3079800"/>
              <a:ext cx="6804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65840" y="3241800"/>
              <a:ext cx="1108080" cy="73980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5076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005440" y="2316240"/>
              <a:ext cx="1803240" cy="1574280"/>
              <a:chOff x="5005440" y="2316240"/>
              <a:chExt cx="1803240" cy="1574280"/>
            </a:xfrm>
          </p:grpSpPr>
          <p:sp>
            <p:nvSpPr>
              <p:cNvPr id="246" name=""/>
              <p:cNvSpPr/>
              <p:nvPr/>
            </p:nvSpPr>
            <p:spPr>
              <a:xfrm>
                <a:off x="5033880" y="2316240"/>
                <a:ext cx="1752480" cy="15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222" swAng="54062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222" swAng="5406222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05440" y="2316240"/>
                <a:ext cx="1803240" cy="15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39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3947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959520" y="3139920"/>
              <a:ext cx="65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191120" y="3200400"/>
              <a:ext cx="1130040" cy="749160"/>
              <a:chOff x="4191120" y="3200400"/>
              <a:chExt cx="1130040" cy="749160"/>
            </a:xfrm>
          </p:grpSpPr>
          <p:sp>
            <p:nvSpPr>
              <p:cNvPr id="250" name=""/>
              <p:cNvSpPr/>
              <p:nvPr/>
            </p:nvSpPr>
            <p:spPr>
              <a:xfrm>
                <a:off x="4191120" y="3200400"/>
                <a:ext cx="1130040" cy="749160"/>
              </a:xfrm>
              <a:prstGeom prst="roundRect">
                <a:avLst>
                  <a:gd name="adj" fmla="val 124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07320" y="3360600"/>
                <a:ext cx="913680" cy="519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511280" y="3235320"/>
              <a:ext cx="1158840" cy="847800"/>
            </a:xfrm>
            <a:prstGeom prst="roundRect">
              <a:avLst>
                <a:gd name="adj" fmla="val 12495"/>
              </a:avLst>
            </a:prstGeom>
            <a:solidFill>
              <a:srgbClr val="7b00e4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2606760" y="3103920"/>
              <a:ext cx="1710720" cy="1824840"/>
              <a:chOff x="2606760" y="3103920"/>
              <a:chExt cx="1710720" cy="1824840"/>
            </a:xfrm>
          </p:grpSpPr>
          <p:sp>
            <p:nvSpPr>
              <p:cNvPr id="254" name=""/>
              <p:cNvSpPr/>
              <p:nvPr/>
            </p:nvSpPr>
            <p:spPr>
              <a:xfrm>
                <a:off x="2630520" y="3103920"/>
                <a:ext cx="1666440" cy="182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21600"/>
                    </a:moveTo>
                    <a:arcTo wR="10800" hR="10800" stAng="5406554" swAng="53934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21600"/>
                    </a:moveTo>
                    <a:arcTo wR="10800" hR="10800" stAng="5406554" swAng="5393446"/>
                  </a:path>
                </a:pathLst>
              </a:custGeom>
              <a:noFill/>
              <a:ln cap="rnd" w="50760">
                <a:solidFill>
                  <a:srgbClr val="7b00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06760" y="3103920"/>
                <a:ext cx="1710720" cy="182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6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6372"/>
                  </a:path>
                </a:pathLst>
              </a:custGeom>
              <a:noFill/>
              <a:ln cap="rnd" w="50760">
                <a:solidFill>
                  <a:srgbClr val="7b00e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13240" y="2722680"/>
              <a:ext cx="1555200" cy="1142280"/>
              <a:chOff x="2613240" y="2722680"/>
              <a:chExt cx="1555200" cy="114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33760" y="2722680"/>
                <a:ext cx="1517400" cy="114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8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800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13240" y="2722680"/>
                <a:ext cx="1555200" cy="11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7008" swAng="5407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7008" swAng="5407008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1800360" y="3151080"/>
              <a:ext cx="65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57600" y="2095560"/>
              <a:ext cx="189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advertise(q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9400" y="2400480"/>
              <a:ext cx="27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k-all(advertise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23480" y="4686480"/>
              <a:ext cx="189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b00e4"/>
                  </a:solidFill>
                  <a:latin typeface="Times New Roman"/>
                </a:rPr>
                <a:t>advertise(p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87760" y="3674880"/>
              <a:ext cx="1517040" cy="492120"/>
              <a:chOff x="2687760" y="3674880"/>
              <a:chExt cx="1517040" cy="492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705040" y="3674880"/>
                <a:ext cx="1479240" cy="49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7" y="21600"/>
                    </a:moveTo>
                    <a:arcTo wR="10800" hR="10800" stAng="5407385" swAng="53926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7" y="21600"/>
                    </a:moveTo>
                    <a:arcTo wR="10800" hR="10800" stAng="5407385" swAng="5392615"/>
                  </a:path>
                </a:pathLst>
              </a:custGeom>
              <a:noFill/>
              <a:ln cap="rnd" w="50760">
                <a:solidFill>
                  <a:srgbClr val="7b00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87760" y="3674880"/>
                <a:ext cx="1517040" cy="49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71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7184"/>
                  </a:path>
                </a:pathLst>
              </a:custGeom>
              <a:noFill/>
              <a:ln cap="rnd" w="50760">
                <a:solidFill>
                  <a:srgbClr val="7b00e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937880" y="4305240"/>
              <a:ext cx="189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b00e4"/>
                  </a:solidFill>
                  <a:latin typeface="Times New Roman"/>
                </a:rPr>
                <a:t>advertise(p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208480" y="2951280"/>
              <a:ext cx="1521000" cy="608760"/>
              <a:chOff x="5208480" y="2951280"/>
              <a:chExt cx="1521000" cy="608760"/>
            </a:xfrm>
          </p:grpSpPr>
          <p:sp>
            <p:nvSpPr>
              <p:cNvPr id="268" name=""/>
              <p:cNvSpPr/>
              <p:nvPr/>
            </p:nvSpPr>
            <p:spPr>
              <a:xfrm>
                <a:off x="5232960" y="2951280"/>
                <a:ext cx="14752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7" y="0"/>
                    </a:moveTo>
                    <a:arcTo wR="10800" hR="10800" stAng="-5407385" swAng="54073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7" y="0"/>
                    </a:moveTo>
                    <a:arcTo wR="10800" hR="10800" stAng="-5407385" swAng="5407385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08480" y="2951280"/>
                <a:ext cx="15210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8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816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281280" y="2476440"/>
              <a:ext cx="189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advertise(q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548240" y="2112840"/>
              <a:ext cx="2266200" cy="1981080"/>
              <a:chOff x="4548240" y="2112840"/>
              <a:chExt cx="2266200" cy="1981080"/>
            </a:xfrm>
          </p:grpSpPr>
          <p:sp>
            <p:nvSpPr>
              <p:cNvPr id="272" name=""/>
              <p:cNvSpPr/>
              <p:nvPr/>
            </p:nvSpPr>
            <p:spPr>
              <a:xfrm>
                <a:off x="4583160" y="2112840"/>
                <a:ext cx="2203200" cy="19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4950" swAng="54049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4950" swAng="5404950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48240" y="2112840"/>
                <a:ext cx="2266200" cy="19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1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182"/>
                  </a:path>
                </a:pathLst>
              </a:custGeom>
              <a:noFill/>
              <a:ln cap="rnd" w="5076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357600" y="1714680"/>
              <a:ext cx="189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advertise(q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27040" y="5410080"/>
            <a:ext cx="809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rt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formative is used to describe the performatives an agent is prepared to ac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cilitation Performa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572000" y="1371600"/>
            <a:ext cx="4049640" cy="1711080"/>
            <a:chOff x="4572000" y="1371600"/>
            <a:chExt cx="4049640" cy="1711080"/>
          </a:xfrm>
        </p:grpSpPr>
        <p:grpSp>
          <p:nvGrpSpPr>
            <p:cNvPr id="280" name=""/>
            <p:cNvGrpSpPr/>
            <p:nvPr/>
          </p:nvGrpSpPr>
          <p:grpSpPr>
            <a:xfrm>
              <a:off x="5114880" y="1371600"/>
              <a:ext cx="3506760" cy="1603800"/>
              <a:chOff x="5114880" y="1371600"/>
              <a:chExt cx="3506760" cy="1603800"/>
            </a:xfrm>
          </p:grpSpPr>
          <p:sp>
            <p:nvSpPr>
              <p:cNvPr id="281" name=""/>
              <p:cNvSpPr/>
              <p:nvPr/>
            </p:nvSpPr>
            <p:spPr>
              <a:xfrm>
                <a:off x="7997760" y="1846440"/>
                <a:ext cx="623880" cy="420480"/>
              </a:xfrm>
              <a:prstGeom prst="roundRect">
                <a:avLst>
                  <a:gd name="adj" fmla="val 12495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4880" y="1673280"/>
                <a:ext cx="822240" cy="33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8" y="0"/>
                    </a:moveTo>
                    <a:arcTo wR="10800" hR="10800" stAng="-5413299" swAng="54132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8" y="0"/>
                    </a:moveTo>
                    <a:arcTo wR="10800" hR="10800" stAng="-5413299" swAng="5413299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76960" y="1673280"/>
                <a:ext cx="844200" cy="33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698"/>
                    </a:moveTo>
                    <a:arcTo wR="10800" hR="10800" stAng="-10767477" swAng="53546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698"/>
                    </a:moveTo>
                    <a:arcTo wR="10800" hR="10800" stAng="-10767477" swAng="5354638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59560" y="1824120"/>
                <a:ext cx="615960" cy="406440"/>
              </a:xfrm>
              <a:prstGeom prst="roundRect">
                <a:avLst>
                  <a:gd name="adj" fmla="val 124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38760" y="1687680"/>
                <a:ext cx="82188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13"/>
                    </a:moveTo>
                    <a:arcTo wR="10800" hR="10800" stAng="-10772164" swAng="5358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13"/>
                    </a:moveTo>
                    <a:arcTo wR="10800" hR="10800" stAng="-10772164" swAng="5358945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25800" y="1685880"/>
                <a:ext cx="84456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0"/>
                    </a:moveTo>
                    <a:arcTo wR="10800" hR="10800" stAng="-5412900" swAng="541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0"/>
                    </a:moveTo>
                    <a:arcTo wR="10800" hR="10800" stAng="-5412900" swAng="5412900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8166240" y="1776600"/>
                <a:ext cx="3571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20320" y="1379520"/>
                <a:ext cx="11448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438e00"/>
                    </a:solidFill>
                    <a:latin typeface="Times New Roman"/>
                  </a:rPr>
                  <a:t>broker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88080" y="1778040"/>
                <a:ext cx="3571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84160" y="1371600"/>
                <a:ext cx="12999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advertise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80160" y="2082600"/>
                <a:ext cx="82188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8" y="21600"/>
                    </a:moveTo>
                    <a:arcTo wR="10800" hR="10800" stAng="5413299" swAng="5386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8" y="21600"/>
                    </a:moveTo>
                    <a:arcTo wR="10800" hR="10800" stAng="5413299" swAng="53867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70440" y="2082600"/>
                <a:ext cx="84096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2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2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97840" y="2134080"/>
                <a:ext cx="8218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88120" y="2134080"/>
                <a:ext cx="84420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21600"/>
                    </a:moveTo>
                    <a:arcTo wR="10800" hR="10800" stAng="5412948" swAng="53870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21600"/>
                    </a:moveTo>
                    <a:arcTo wR="10800" hR="10800" stAng="5412948" swAng="5387052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211880" y="2055960"/>
                <a:ext cx="74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22400" y="2040120"/>
                <a:ext cx="55044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sk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65960" y="2683080"/>
                <a:ext cx="5320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tell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25960" y="2725920"/>
                <a:ext cx="5320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tell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4880" y="1851120"/>
                <a:ext cx="636480" cy="465120"/>
              </a:xfrm>
              <a:prstGeom prst="roundRect">
                <a:avLst>
                  <a:gd name="adj" fmla="val 12495"/>
                </a:avLst>
              </a:prstGeom>
              <a:solidFill>
                <a:srgbClr val="438e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66440" y="1898640"/>
                <a:ext cx="37800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572000" y="2567160"/>
              <a:ext cx="1265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rok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8600" y="4138560"/>
            <a:ext cx="3972960" cy="2261880"/>
            <a:chOff x="138600" y="4138560"/>
            <a:chExt cx="3972960" cy="2261880"/>
          </a:xfrm>
        </p:grpSpPr>
        <p:grpSp>
          <p:nvGrpSpPr>
            <p:cNvPr id="303" name=""/>
            <p:cNvGrpSpPr/>
            <p:nvPr/>
          </p:nvGrpSpPr>
          <p:grpSpPr>
            <a:xfrm>
              <a:off x="604800" y="4138560"/>
              <a:ext cx="3506760" cy="1521000"/>
              <a:chOff x="604800" y="4138560"/>
              <a:chExt cx="3506760" cy="1521000"/>
            </a:xfrm>
          </p:grpSpPr>
          <p:sp>
            <p:nvSpPr>
              <p:cNvPr id="304" name=""/>
              <p:cNvSpPr/>
              <p:nvPr/>
            </p:nvSpPr>
            <p:spPr>
              <a:xfrm>
                <a:off x="3487680" y="4614840"/>
                <a:ext cx="623880" cy="422280"/>
              </a:xfrm>
              <a:prstGeom prst="roundRect">
                <a:avLst>
                  <a:gd name="adj" fmla="val 12495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74800" y="4440240"/>
                <a:ext cx="822240" cy="3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8" y="0"/>
                    </a:moveTo>
                    <a:arcTo wR="10800" hR="10800" stAng="-5413299" swAng="54132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8" y="0"/>
                    </a:moveTo>
                    <a:arcTo wR="10800" hR="10800" stAng="-5413299" swAng="5413299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66880" y="4440240"/>
                <a:ext cx="844200" cy="3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699"/>
                    </a:moveTo>
                    <a:arcTo wR="10800" hR="10800" stAng="-10767782" swAng="53549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699"/>
                    </a:moveTo>
                    <a:arcTo wR="10800" hR="10800" stAng="-10767782" swAng="5354942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49480" y="4592520"/>
                <a:ext cx="615960" cy="408240"/>
              </a:xfrm>
              <a:prstGeom prst="roundRect">
                <a:avLst>
                  <a:gd name="adj" fmla="val 124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28680" y="4454640"/>
                <a:ext cx="821880" cy="39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13"/>
                    </a:moveTo>
                    <a:arcTo wR="10800" hR="10800" stAng="-10772389" swAng="53591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13"/>
                    </a:moveTo>
                    <a:arcTo wR="10800" hR="10800" stAng="-10772389" swAng="5359168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15720" y="4454640"/>
                <a:ext cx="84456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0"/>
                    </a:moveTo>
                    <a:arcTo wR="10800" hR="10800" stAng="-5412900" swAng="541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0"/>
                    </a:moveTo>
                    <a:arcTo wR="10800" hR="10800" stAng="-5412900" swAng="5412900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656160" y="4545000"/>
                <a:ext cx="3571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10240" y="4146480"/>
                <a:ext cx="11448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438e00"/>
                    </a:solidFill>
                    <a:latin typeface="Times New Roman"/>
                  </a:rPr>
                  <a:t>recruit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78000" y="4545000"/>
                <a:ext cx="3571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98120" y="4138560"/>
                <a:ext cx="12999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advertise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25880" y="4732200"/>
                <a:ext cx="21837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4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4993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298520" y="4732200"/>
                <a:ext cx="22474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01800" y="4824360"/>
                <a:ext cx="74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2320" y="4808520"/>
                <a:ext cx="55044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sk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8040" y="5410080"/>
                <a:ext cx="5320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tell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4800" y="4619520"/>
                <a:ext cx="636480" cy="466920"/>
              </a:xfrm>
              <a:prstGeom prst="roundRect">
                <a:avLst>
                  <a:gd name="adj" fmla="val 12495"/>
                </a:avLst>
              </a:prstGeom>
              <a:solidFill>
                <a:srgbClr val="438e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8160" y="4665600"/>
                <a:ext cx="37800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38600" y="5884920"/>
              <a:ext cx="1324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ru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726080" y="4038480"/>
            <a:ext cx="4093920" cy="1965600"/>
            <a:chOff x="4726080" y="4038480"/>
            <a:chExt cx="4093920" cy="1965600"/>
          </a:xfrm>
        </p:grpSpPr>
        <p:grpSp>
          <p:nvGrpSpPr>
            <p:cNvPr id="323" name=""/>
            <p:cNvGrpSpPr/>
            <p:nvPr/>
          </p:nvGrpSpPr>
          <p:grpSpPr>
            <a:xfrm>
              <a:off x="5256360" y="4038480"/>
              <a:ext cx="3563640" cy="1965600"/>
              <a:chOff x="5256360" y="4038480"/>
              <a:chExt cx="3563640" cy="1965600"/>
            </a:xfrm>
          </p:grpSpPr>
          <p:sp>
            <p:nvSpPr>
              <p:cNvPr id="324" name=""/>
              <p:cNvSpPr/>
              <p:nvPr/>
            </p:nvSpPr>
            <p:spPr>
              <a:xfrm>
                <a:off x="8139240" y="4511520"/>
                <a:ext cx="623880" cy="422280"/>
              </a:xfrm>
              <a:prstGeom prst="roundRect">
                <a:avLst>
                  <a:gd name="adj" fmla="val 12495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29600" y="4338720"/>
                <a:ext cx="81864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440" y="4338720"/>
                <a:ext cx="84060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699"/>
                    </a:moveTo>
                    <a:arcTo wR="10800" hR="10800" stAng="-10767721" swAng="5354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699"/>
                    </a:moveTo>
                    <a:arcTo wR="10800" hR="10800" stAng="-10767721" swAng="535481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01040" y="4491000"/>
                <a:ext cx="615600" cy="406440"/>
              </a:xfrm>
              <a:prstGeom prst="roundRect">
                <a:avLst>
                  <a:gd name="adj" fmla="val 124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80240" y="4352760"/>
                <a:ext cx="82188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13"/>
                    </a:moveTo>
                    <a:arcTo wR="10800" hR="10800" stAng="-10772164" swAng="5358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13"/>
                    </a:moveTo>
                    <a:arcTo wR="10800" hR="10800" stAng="-10772164" swAng="5358945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7640" y="4352760"/>
                <a:ext cx="84384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8305920" y="4443480"/>
                <a:ext cx="35856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1880" y="4046400"/>
                <a:ext cx="14922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438e00"/>
                    </a:solidFill>
                    <a:latin typeface="Times New Roman"/>
                  </a:rPr>
                  <a:t>recommend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29560" y="4443480"/>
                <a:ext cx="35856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23840" y="4038480"/>
                <a:ext cx="9162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adv(ask(P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0080" y="4541760"/>
                <a:ext cx="2965320" cy="92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39480" y="4541760"/>
                <a:ext cx="2691360" cy="92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438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88480" y="4338720"/>
                <a:ext cx="3380400" cy="132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3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3226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3480" y="4338720"/>
                <a:ext cx="3476520" cy="132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21600"/>
                    </a:moveTo>
                    <a:arcTo wR="10800" hR="10800" stAng="5403141" swAng="53968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21600"/>
                    </a:moveTo>
                    <a:arcTo wR="10800" hR="10800" stAng="5403141" swAng="5396859"/>
                  </a:path>
                </a:pathLst>
              </a:custGeom>
              <a:noFill/>
              <a:ln cap="rnd"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88160" y="5754600"/>
                <a:ext cx="5320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</a:rPr>
                  <a:t>tell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54240" y="5186160"/>
                <a:ext cx="55044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438e00"/>
                    </a:solidFill>
                    <a:latin typeface="Times New Roman"/>
                  </a:rPr>
                  <a:t>ask(P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21280" y="4705560"/>
                <a:ext cx="82188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8" y="21600"/>
                    </a:moveTo>
                    <a:arcTo wR="10800" hR="10800" stAng="5413299" swAng="5386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8" y="21600"/>
                    </a:moveTo>
                    <a:arcTo wR="10800" hR="10800" stAng="5413299" swAng="53867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11920" y="4705560"/>
                <a:ext cx="84096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2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2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26560" y="5052960"/>
                <a:ext cx="12909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fwd(adv(ask(P))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56360" y="4516560"/>
                <a:ext cx="637920" cy="466560"/>
              </a:xfrm>
              <a:prstGeom prst="roundRect">
                <a:avLst>
                  <a:gd name="adj" fmla="val 12495"/>
                </a:avLst>
              </a:prstGeom>
              <a:solidFill>
                <a:srgbClr val="438e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07920" y="4489560"/>
                <a:ext cx="37800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5560" bIns="25560" anchor="t">
                <a:spAutoFit/>
              </a:bodyPr>
              <a:p>
                <a:pPr>
                  <a:tabLst>
                    <a:tab algn="l" pos="0"/>
                    <a:tab algn="l" pos="276120"/>
                    <a:tab algn="l" pos="552600"/>
                    <a:tab algn="l" pos="828720"/>
                    <a:tab algn="l" pos="1104840"/>
                    <a:tab algn="l" pos="1380960"/>
                    <a:tab algn="l" pos="1657440"/>
                    <a:tab algn="l" pos="1933560"/>
                    <a:tab algn="l" pos="2209680"/>
                    <a:tab algn="l" pos="2486160"/>
                    <a:tab algn="l" pos="2762280"/>
                    <a:tab algn="l" pos="3038400"/>
                    <a:tab algn="l" pos="3314880"/>
                    <a:tab algn="l" pos="3591000"/>
                    <a:tab algn="l" pos="3867120"/>
                    <a:tab algn="l" pos="4143240"/>
                    <a:tab algn="l" pos="4419720"/>
                    <a:tab algn="l" pos="4695840"/>
                    <a:tab algn="l" pos="4971960"/>
                    <a:tab algn="l" pos="5248440"/>
                    <a:tab algn="l" pos="552456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726080" y="5487840"/>
              <a:ext cx="2074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omme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219320"/>
            <a:ext cx="4572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facilitation performatives come in a X-one and X-all ver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1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-one and broker-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1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-one and recruit-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1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-one and recommend-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Nam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for mapping agents into names is important in most AC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 assumes that name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n register with B under the name A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n register with C under the name Al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preclude the use of a cent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nt Name Serv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hitecture used by mos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ets registered under a name? Contact information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(albert, tcpip, [cujo.cs.umbc.edu,8080]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(albert,smtp,[agenta@agents.umbc.ed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(albert,http,[www.agents.umbc.edu:8090/kqml/albert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8240" y="46656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me Space Managemen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0280" y="4708440"/>
            <a:ext cx="31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</a:rPr>
              <a:t>ask-one(register(B,...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2600" y="3406680"/>
            <a:ext cx="680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38760" y="3568680"/>
            <a:ext cx="1108080" cy="739800"/>
          </a:xfrm>
          <a:prstGeom prst="roundRect">
            <a:avLst>
              <a:gd name="adj" fmla="val 12495"/>
            </a:avLst>
          </a:prstGeom>
          <a:solidFill>
            <a:srgbClr val="fc0128"/>
          </a:solidFill>
          <a:ln w="50760">
            <a:solidFill>
              <a:srgbClr val="fc012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56280" y="4012920"/>
            <a:ext cx="1520280" cy="584280"/>
            <a:chOff x="5156280" y="4012920"/>
            <a:chExt cx="1520280" cy="584280"/>
          </a:xfrm>
        </p:grpSpPr>
        <p:sp>
          <p:nvSpPr>
            <p:cNvPr id="354" name=""/>
            <p:cNvSpPr/>
            <p:nvPr/>
          </p:nvSpPr>
          <p:spPr>
            <a:xfrm>
              <a:off x="5178600" y="4012920"/>
              <a:ext cx="1476000" cy="58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738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7385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6280" y="4012920"/>
              <a:ext cx="1520280" cy="58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21600"/>
                  </a:moveTo>
                  <a:arcTo wR="10800" hR="10800" stAng="5407184" swAng="53928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21600"/>
                  </a:moveTo>
                  <a:arcTo wR="10800" hR="10800" stAng="5407184" swAng="5392816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832440" y="3467160"/>
            <a:ext cx="650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006800" y="3511440"/>
            <a:ext cx="1130400" cy="749520"/>
            <a:chOff x="4006800" y="3511440"/>
            <a:chExt cx="1130400" cy="749520"/>
          </a:xfrm>
        </p:grpSpPr>
        <p:sp>
          <p:nvSpPr>
            <p:cNvPr id="358" name=""/>
            <p:cNvSpPr/>
            <p:nvPr/>
          </p:nvSpPr>
          <p:spPr>
            <a:xfrm>
              <a:off x="4006800" y="3511440"/>
              <a:ext cx="1130400" cy="7495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2640" y="3672000"/>
              <a:ext cx="107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NS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384200" y="3562200"/>
            <a:ext cx="1158840" cy="847800"/>
          </a:xfrm>
          <a:prstGeom prst="roundRect">
            <a:avLst>
              <a:gd name="adj" fmla="val 12495"/>
            </a:avLst>
          </a:prstGeom>
          <a:solidFill>
            <a:srgbClr val="438e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484720" y="3900600"/>
            <a:ext cx="1517040" cy="847080"/>
            <a:chOff x="2484720" y="3900600"/>
            <a:chExt cx="1517040" cy="847080"/>
          </a:xfrm>
        </p:grpSpPr>
        <p:sp>
          <p:nvSpPr>
            <p:cNvPr id="362" name=""/>
            <p:cNvSpPr/>
            <p:nvPr/>
          </p:nvSpPr>
          <p:spPr>
            <a:xfrm>
              <a:off x="2502000" y="3900600"/>
              <a:ext cx="1479240" cy="84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21600"/>
                  </a:moveTo>
                  <a:arcTo wR="10800" hR="10800" stAng="5407385" swAng="53926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21600"/>
                  </a:moveTo>
                  <a:arcTo wR="10800" hR="10800" stAng="5407385" swAng="5392615"/>
                </a:path>
              </a:pathLst>
            </a:custGeom>
            <a:noFill/>
            <a:ln cap="rnd" w="5076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84720" y="3900600"/>
              <a:ext cx="1517040" cy="84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71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7184"/>
                </a:path>
              </a:pathLst>
            </a:custGeom>
            <a:noFill/>
            <a:ln cap="rnd" w="5076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486160" y="3240000"/>
            <a:ext cx="1555200" cy="762120"/>
            <a:chOff x="2486160" y="3240000"/>
            <a:chExt cx="1555200" cy="762120"/>
          </a:xfrm>
        </p:grpSpPr>
        <p:sp>
          <p:nvSpPr>
            <p:cNvPr id="365" name=""/>
            <p:cNvSpPr/>
            <p:nvPr/>
          </p:nvSpPr>
          <p:spPr>
            <a:xfrm>
              <a:off x="2506680" y="3240000"/>
              <a:ext cx="1517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86160" y="3240000"/>
              <a:ext cx="1555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8" y="0"/>
                  </a:moveTo>
                  <a:arcTo wR="10800" hR="10800" stAng="-5407008" swAng="5407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8" y="0"/>
                  </a:moveTo>
                  <a:arcTo wR="10800" hR="10800" stAng="-5407008" swAng="5407008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73280" y="3478320"/>
            <a:ext cx="650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30520" y="4581360"/>
            <a:ext cx="189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gister(B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9280" y="2971800"/>
            <a:ext cx="258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l(register(B,,...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00680" y="1371600"/>
            <a:ext cx="1143000" cy="762120"/>
          </a:xfrm>
          <a:prstGeom prst="roundRect">
            <a:avLst>
              <a:gd name="adj" fmla="val 12495"/>
            </a:avLst>
          </a:prstGeom>
          <a:solidFill>
            <a:srgbClr val="7b00e4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5240" y="1538280"/>
            <a:ext cx="107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7080" y="2209680"/>
            <a:ext cx="0" cy="1219320"/>
          </a:xfrm>
          <a:prstGeom prst="line">
            <a:avLst/>
          </a:prstGeom>
          <a:ln w="50760">
            <a:solidFill>
              <a:srgbClr val="7b00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220968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58200" y="2270160"/>
            <a:ext cx="311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-one(register(D,...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8240" y="2295360"/>
            <a:ext cx="260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0e4"/>
                </a:solidFill>
                <a:latin typeface="Times New Roman"/>
              </a:rPr>
              <a:t>tell(register(D,,...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480" y="5410080"/>
            <a:ext cx="9023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register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formatives allow agent name servers to provide name space managem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8240" y="414000"/>
            <a:ext cx="76075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orward and Broadcas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040" y="5257800"/>
            <a:ext cx="8413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adca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tives are two of the basic networking primit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360" y="1838160"/>
            <a:ext cx="7380360" cy="2963520"/>
            <a:chOff x="360360" y="1838160"/>
            <a:chExt cx="7380360" cy="2963520"/>
          </a:xfrm>
        </p:grpSpPr>
        <p:grpSp>
          <p:nvGrpSpPr>
            <p:cNvPr id="380" name=""/>
            <p:cNvGrpSpPr/>
            <p:nvPr/>
          </p:nvGrpSpPr>
          <p:grpSpPr>
            <a:xfrm>
              <a:off x="5113440" y="2287440"/>
              <a:ext cx="1558440" cy="685800"/>
              <a:chOff x="5113440" y="2287440"/>
              <a:chExt cx="1558440" cy="685800"/>
            </a:xfrm>
          </p:grpSpPr>
          <p:sp>
            <p:nvSpPr>
              <p:cNvPr id="381" name=""/>
              <p:cNvSpPr/>
              <p:nvPr/>
            </p:nvSpPr>
            <p:spPr>
              <a:xfrm>
                <a:off x="5135400" y="2287440"/>
                <a:ext cx="1514160" cy="68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7" y="0"/>
                    </a:moveTo>
                    <a:arcTo wR="10800" hR="10800" stAng="-5407200" swAng="54072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7" y="0"/>
                    </a:moveTo>
                    <a:arcTo wR="10800" hR="10800" stAng="-5407200" swAng="5407200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13440" y="2287440"/>
                <a:ext cx="1558440" cy="68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9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992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000680" y="2597040"/>
              <a:ext cx="1130040" cy="7495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479320" y="2440080"/>
              <a:ext cx="1555920" cy="533160"/>
              <a:chOff x="2479320" y="2440080"/>
              <a:chExt cx="1555920" cy="533160"/>
            </a:xfrm>
          </p:grpSpPr>
          <p:sp>
            <p:nvSpPr>
              <p:cNvPr id="385" name=""/>
              <p:cNvSpPr/>
              <p:nvPr/>
            </p:nvSpPr>
            <p:spPr>
              <a:xfrm>
                <a:off x="2500200" y="2440080"/>
                <a:ext cx="15174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8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800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79320" y="2440080"/>
                <a:ext cx="155592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7008" swAng="5407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7008" swAng="5407008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632640" y="2514600"/>
              <a:ext cx="1108080" cy="915480"/>
              <a:chOff x="6632640" y="2514600"/>
              <a:chExt cx="1108080" cy="915480"/>
            </a:xfrm>
          </p:grpSpPr>
          <p:sp>
            <p:nvSpPr>
              <p:cNvPr id="388" name=""/>
              <p:cNvSpPr/>
              <p:nvPr/>
            </p:nvSpPr>
            <p:spPr>
              <a:xfrm>
                <a:off x="6632640" y="2654280"/>
                <a:ext cx="1108080" cy="739800"/>
              </a:xfrm>
              <a:prstGeom prst="roundRect">
                <a:avLst>
                  <a:gd name="adj" fmla="val 12495"/>
                </a:avLst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924600" y="2514600"/>
                <a:ext cx="65088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417040" y="1965240"/>
              <a:ext cx="1657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e00"/>
                  </a:solidFill>
                  <a:latin typeface="Times New Roman"/>
                </a:rPr>
                <a:t>fwd(A,C,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40080" y="2514600"/>
              <a:ext cx="65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8080" y="2581200"/>
              <a:ext cx="1158840" cy="847800"/>
            </a:xfrm>
            <a:prstGeom prst="roundRect">
              <a:avLst>
                <a:gd name="adj" fmla="val 12495"/>
              </a:avLst>
            </a:prstGeom>
            <a:solidFill>
              <a:srgbClr val="438e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616040" y="2514600"/>
              <a:ext cx="65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34680" y="1838160"/>
              <a:ext cx="1657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wd(A,C,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0360" y="4025880"/>
              <a:ext cx="1108080" cy="739800"/>
            </a:xfrm>
            <a:prstGeom prst="roundRect">
              <a:avLst>
                <a:gd name="adj" fmla="val 12495"/>
              </a:avLst>
            </a:prstGeom>
            <a:solidFill>
              <a:srgbClr val="7b00e4"/>
            </a:solidFill>
            <a:ln w="50760">
              <a:solidFill>
                <a:srgbClr val="7b00e4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52320" y="3886200"/>
              <a:ext cx="65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9320" y="2590920"/>
              <a:ext cx="7614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438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954080" y="3048120"/>
              <a:ext cx="2009520" cy="761400"/>
              <a:chOff x="1954080" y="3048120"/>
              <a:chExt cx="2009520" cy="761400"/>
            </a:xfrm>
          </p:grpSpPr>
          <p:sp>
            <p:nvSpPr>
              <p:cNvPr id="399" name=""/>
              <p:cNvSpPr/>
              <p:nvPr/>
            </p:nvSpPr>
            <p:spPr>
              <a:xfrm>
                <a:off x="1982880" y="3048120"/>
                <a:ext cx="195876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2" y="21600"/>
                    </a:moveTo>
                    <a:arcTo wR="10800" hR="10800" stAng="5405576" swAng="53944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2" y="21600"/>
                    </a:moveTo>
                    <a:arcTo wR="10800" hR="10800" stAng="5405576" swAng="5394424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54080" y="3048120"/>
                <a:ext cx="200952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54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5426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981080" y="2438280"/>
              <a:ext cx="5182560" cy="1981080"/>
              <a:chOff x="1981080" y="2438280"/>
              <a:chExt cx="5182560" cy="1981080"/>
            </a:xfrm>
          </p:grpSpPr>
          <p:sp>
            <p:nvSpPr>
              <p:cNvPr id="402" name=""/>
              <p:cNvSpPr/>
              <p:nvPr/>
            </p:nvSpPr>
            <p:spPr>
              <a:xfrm>
                <a:off x="1982880" y="2438280"/>
                <a:ext cx="5180760" cy="19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981080" y="2438280"/>
                <a:ext cx="5181480" cy="19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438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3178440" y="3718080"/>
              <a:ext cx="3385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e00"/>
                  </a:solidFill>
                  <a:latin typeface="Times New Roman"/>
                </a:rPr>
                <a:t>broadcast(A, (B,C,D), 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" y="547560"/>
            <a:ext cx="86583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IF Syntax and Semantic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21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ersion of first order predicate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list-based linear ASCII syntax,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all ?x (=&gt; (P ?x) (Q ?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isits ?person (mother mary ?perso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=&gt; (apple ?x) (red ?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&lt;&lt;= (father ?x ?y) (and (child ?x ?y) (male ?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theoretic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includes an axiomatic specification of large function and relation vocabulary and a vocabulary for numbers, sets, an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mmary of KQML97 Performative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wo pages list all of the performatives in the 1997 revised spec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essentially a subset of the performatives in the 1993 specification and represent the ones most often implemented and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426744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k-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to know if the :content is in R's V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k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all of R's instantiations of the :content that are true of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k-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one of R's instantiations of the :content that is true of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ltiple-response version of ask-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nd-of-stream marker to a multiple-response (stream-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sentence is in S'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t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sentence is not in S'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n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gation of the sentence is in S'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asks R to add the :content to it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nser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wants R to reverse the act of a previous 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ete-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remove one matching sentence from it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ete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remove all matching sentences from its VK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reverse the act of a previous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hie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do make something true of its phys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achiev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wants R to reverse the act of a previous ach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ert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know that S can and will process a message like the one in :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advert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know that S cancels a previous advertise and will not process any more messages like the one in the :content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updates to R's response to a perfo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considers R's earlier message to be mal-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r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understands R's message but cannot provide a more informativ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04920" y="228600"/>
            <a:ext cx="426708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announce its readiness to provide a response to the message in :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is ready to respond to a message previously received from 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's next response to a message previously sent by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wants R's remaining responses to a message previously sent by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does not want R's remaining responses to a previous (multi-response)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announces to R its presence and symbolic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reverse the act of a previou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port-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associates its symbolic name with a new transport add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forward the message to the :to agent (R might be that agent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send a message to all agents that R know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ker-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find one response to a &lt;perf&gt; (some agent other than R is going to provide that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ker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find all responses to a &lt;perf&gt; (some agent other than R is going to provide that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mmend-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to learn of an agent who may respond to a &lt;per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mmend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to learn of all agents who may respond to a &lt;per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ruit-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get one suitable agent to respond to a &lt;per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ruit-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wants R to get all suitable agents to respond to a &lt;per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QML Semantic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th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QML doesn’t have a good semantic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was true for the first few years of its use, but has not been true sinc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annis Labr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d a semantic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nnis Labrou and Tim Finin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 semantics approach for KQML -- a general purpose communication language for software ag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ird International Conference on Information and Knowledge Management (CIKM'94), Nov. 199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nnis Labro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Semantics for an Agent Communication Languag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.D. Thesis, UMBC, 19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nnis Labrou and Tim Finin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Semantics and Conversations for an Agent Communication Langu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in "Readings in Agents", Michael Huhns and Munindar Singh (editors.), Morgan Kaufmann, 1997. (reprint of IJCAI-97 paper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pproaches to defining the semantics have been partially explored (more on this la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’s Missing from KQML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favorite perform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OFFER, ACCEP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new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:PROTOCOL, :VERSION, :REPLY-BY, :SIGNATUR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tions for “conversational conte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 context-dependent way of determining default values for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46656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xtensibility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extend KQML by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new performa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new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new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language impediments to any of these types of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chanism for creating machine-readable performative definitions is des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“compositional semantics” would be helpful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eatures have to be added in a more systematic way (e.g., 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QML APIs and System Interface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have been dozens of APIs written for KQ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in and for different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, Scheme, Prolog, C/C++, Java, CLIPS, Smalltalk, Tcl, Perl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terfacing to may differ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m, Cyc, SIMS (Information Integration), SIPE (Planning), Various Databases,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cent is the appearance of KQML-speaking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nt shells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offering more than just an A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these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8240" y="433080"/>
            <a:ext cx="760752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 More Information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79000" y="1701720"/>
            <a:ext cx="828036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224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qml@cs.umbc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224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emai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jordomo@cs.umbc.e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with  body text “info kqml” for more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224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s.umbc.edu/kqm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224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3: http://www.cs.umbc.edu/kqml/kqml93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224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6: http://www.cs.umbc.edu/kqml/kqml97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r2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762120" cy="1015920"/>
          </a:xfrm>
          <a:prstGeom prst="rect">
            <a:avLst/>
          </a:prstGeom>
          <a:ln w="0">
            <a:noFill/>
          </a:ln>
        </p:spPr>
      </p:pic>
      <p:pic>
        <p:nvPicPr>
          <p:cNvPr id="422" name="r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6176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Ontolingua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ingua - Languag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allows full 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order logic with relation constants in domain of dis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expr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uch for most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uch for most system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provides an object-oriented pro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s within the o-o sublanguage easy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any statement is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separates representation from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433760" cy="4690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mplications and Rul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distinguishes between implications and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 (e.g., (=&gt;  (p ?x) (q ?x)) is a conn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re directed (forward or back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&gt;&gt; (p ?x) (q ?x)) vs. (&lt;&lt; = (q ?x) (p ?x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involve derivation.  E.g.,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&lt;&lt;= (status-known ?x) (citizen ?x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&lt;&lt;= (status-known ?x) (not (citizen ?x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infer (status-known Joe) only if one of (citizen Joe) or  (not (citizen Joe)) can be infer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83920" y="266400"/>
            <a:ext cx="784836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ingua - Library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of modules supports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assemble a new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defines a general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s are allowed (sports and medic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may augmen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you can never say l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4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authors may make incompatible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038480" y="1916280"/>
          <a:ext cx="489456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16280"/>
                    <a:ext cx="4894560" cy="303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4024440" y="1542960"/>
            <a:ext cx="4881600" cy="4567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35040" y="1822320"/>
            <a:ext cx="735120" cy="441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ingua -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24520" y="2895480"/>
            <a:ext cx="2832120" cy="3124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15560" y="1677240"/>
            <a:ext cx="1458720" cy="779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87000" y="1906560"/>
            <a:ext cx="860400" cy="441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03960" y="2895480"/>
            <a:ext cx="2895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59280" y="2895480"/>
            <a:ext cx="1066680" cy="19814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59280" y="4876920"/>
            <a:ext cx="106668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5" idx="2"/>
            <a:endCxn id="438" idx="0"/>
          </p:cNvCxnSpPr>
          <p:nvPr/>
        </p:nvCxnSpPr>
        <p:spPr>
          <a:xfrm>
            <a:off x="4444560" y="2457000"/>
            <a:ext cx="94860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36" idx="2"/>
            <a:endCxn id="437" idx="0"/>
          </p:cNvCxnSpPr>
          <p:nvPr/>
        </p:nvCxnSpPr>
        <p:spPr>
          <a:xfrm>
            <a:off x="6217920" y="2349000"/>
            <a:ext cx="63396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37" idx="0"/>
          </p:cNvCxnSpPr>
          <p:nvPr/>
        </p:nvCxnSpPr>
        <p:spPr>
          <a:xfrm flipH="1">
            <a:off x="6850800" y="2331720"/>
            <a:ext cx="764280" cy="564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44" name=""/>
          <p:cNvGrpSpPr/>
          <p:nvPr/>
        </p:nvGrpSpPr>
        <p:grpSpPr>
          <a:xfrm>
            <a:off x="3581280" y="4970520"/>
            <a:ext cx="990720" cy="838080"/>
            <a:chOff x="3581280" y="4970520"/>
            <a:chExt cx="990720" cy="838080"/>
          </a:xfrm>
        </p:grpSpPr>
        <p:sp>
          <p:nvSpPr>
            <p:cNvPr id="445" name=""/>
            <p:cNvSpPr/>
            <p:nvPr/>
          </p:nvSpPr>
          <p:spPr>
            <a:xfrm>
              <a:off x="3733920" y="5122800"/>
              <a:ext cx="83808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1280" y="4970520"/>
              <a:ext cx="83844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9" idx="1"/>
            <a:endCxn id="445" idx="3"/>
          </p:cNvCxnSpPr>
          <p:nvPr/>
        </p:nvCxnSpPr>
        <p:spPr>
          <a:xfrm flipH="1">
            <a:off x="4571640" y="5447880"/>
            <a:ext cx="288000" cy="1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3255120" y="3561480"/>
            <a:ext cx="1458720" cy="779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l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089760" y="3657600"/>
            <a:ext cx="2437920" cy="1905120"/>
            <a:chOff x="6089760" y="3657600"/>
            <a:chExt cx="2437920" cy="1905120"/>
          </a:xfrm>
        </p:grpSpPr>
        <p:sp>
          <p:nvSpPr>
            <p:cNvPr id="450" name=""/>
            <p:cNvSpPr/>
            <p:nvPr/>
          </p:nvSpPr>
          <p:spPr>
            <a:xfrm>
              <a:off x="6089760" y="3657600"/>
              <a:ext cx="129528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42040" y="4038480"/>
              <a:ext cx="129492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2400" y="3733920"/>
              <a:ext cx="129528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46600" y="4419720"/>
              <a:ext cx="129528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e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124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, editors, reviewers interaction via the web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interact via the OKBC or KQM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 translation of ontologies supports the construction of stand-alon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46" idx="0"/>
            <a:endCxn id="448" idx="2"/>
          </p:cNvCxnSpPr>
          <p:nvPr/>
        </p:nvCxnSpPr>
        <p:spPr>
          <a:xfrm flipH="1" flipV="1">
            <a:off x="3983760" y="4341600"/>
            <a:ext cx="1692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7361280" y="1785960"/>
            <a:ext cx="900000" cy="441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40960" y="1888920"/>
            <a:ext cx="947160" cy="441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4600" y="70920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tology Library and Editing Tool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113640" y="2319480"/>
            <a:ext cx="5799600" cy="4049640"/>
            <a:chOff x="3113640" y="2319480"/>
            <a:chExt cx="5799600" cy="4049640"/>
          </a:xfrm>
        </p:grpSpPr>
        <p:sp>
          <p:nvSpPr>
            <p:cNvPr id="459" name=""/>
            <p:cNvSpPr/>
            <p:nvPr/>
          </p:nvSpPr>
          <p:spPr>
            <a:xfrm>
              <a:off x="5479920" y="3062160"/>
              <a:ext cx="67644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0" name=""/>
            <p:cNvGraphicFramePr/>
            <p:nvPr/>
          </p:nvGraphicFramePr>
          <p:xfrm>
            <a:off x="5915160" y="5424480"/>
            <a:ext cx="1066680" cy="94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15160" y="5424480"/>
                      <a:ext cx="106668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2" name=""/>
            <p:cNvGrpSpPr/>
            <p:nvPr/>
          </p:nvGrpSpPr>
          <p:grpSpPr>
            <a:xfrm>
              <a:off x="6203160" y="5046840"/>
              <a:ext cx="646920" cy="304560"/>
              <a:chOff x="6203160" y="5046840"/>
              <a:chExt cx="646920" cy="304560"/>
            </a:xfrm>
          </p:grpSpPr>
          <p:sp>
            <p:nvSpPr>
              <p:cNvPr id="463" name=""/>
              <p:cNvSpPr/>
              <p:nvPr/>
            </p:nvSpPr>
            <p:spPr>
              <a:xfrm rot="16200000">
                <a:off x="6554880" y="5046840"/>
                <a:ext cx="295200" cy="29520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16200000">
                <a:off x="6204240" y="5054400"/>
                <a:ext cx="295200" cy="29844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14504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8400" y="4241880"/>
              <a:ext cx="8877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7212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260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97760" y="4241880"/>
              <a:ext cx="8859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378320" y="4475160"/>
              <a:ext cx="20304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79920" y="447984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84600" y="4475160"/>
              <a:ext cx="166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655880" y="4610160"/>
              <a:ext cx="112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75040" y="4614840"/>
              <a:ext cx="730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268880" y="4614840"/>
              <a:ext cx="11736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89480" y="46195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4680" y="4624560"/>
              <a:ext cx="71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75320" y="4749840"/>
              <a:ext cx="727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557240" y="4756320"/>
              <a:ext cx="1126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40320" y="4440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40320" y="4575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56000" y="457524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6080" y="4575240"/>
              <a:ext cx="666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592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5448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35360" y="4714920"/>
              <a:ext cx="68400" cy="57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5932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164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35640" y="4849920"/>
              <a:ext cx="6804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16360" y="4849920"/>
              <a:ext cx="666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664240" y="4452840"/>
              <a:ext cx="272880" cy="331920"/>
              <a:chOff x="5664240" y="4452840"/>
              <a:chExt cx="272880" cy="33192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5678640" y="4492800"/>
                <a:ext cx="11736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0680" y="4498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26240" y="4503600"/>
                <a:ext cx="730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65760" y="4452840"/>
                <a:ext cx="684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76900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6424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9080" y="4592520"/>
                <a:ext cx="6804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05360" y="4627440"/>
                <a:ext cx="7308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702040" y="4633920"/>
                <a:ext cx="96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765760" y="4592520"/>
                <a:ext cx="6840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81520" y="4727520"/>
                <a:ext cx="6696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6760" y="4727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428800" y="4489560"/>
              <a:ext cx="223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1500" spc="-1" strike="noStrike">
                  <a:solidFill>
                    <a:srgbClr val="808080"/>
                  </a:solidFill>
                  <a:latin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5180040" y="4452840"/>
              <a:ext cx="271440" cy="196920"/>
              <a:chOff x="5180040" y="4452840"/>
              <a:chExt cx="271440" cy="1969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5190840" y="4492800"/>
                <a:ext cx="11916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15040" y="4498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40240" y="4503600"/>
                <a:ext cx="730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81560" y="445284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480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8004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8488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253200" y="4454640"/>
              <a:ext cx="495360" cy="333360"/>
              <a:chOff x="6253200" y="4454640"/>
              <a:chExt cx="495360" cy="33336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6395760" y="4494240"/>
                <a:ext cx="1062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0232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12040" y="4505400"/>
                <a:ext cx="8712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72080" y="4594320"/>
                <a:ext cx="6696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658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0888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516360" y="46353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92960" y="4729320"/>
                <a:ext cx="6804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84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6276960" y="4484520"/>
                <a:ext cx="2383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51348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674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532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68196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72160" y="4594320"/>
                <a:ext cx="6660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145280" y="4454640"/>
              <a:ext cx="598680" cy="473040"/>
              <a:chOff x="7145280" y="4454640"/>
              <a:chExt cx="598680" cy="47304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7391160" y="4494240"/>
                <a:ext cx="1062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9772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507440" y="4505400"/>
                <a:ext cx="8712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6604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612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0428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511760" y="46353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8836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438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272000" y="4484520"/>
                <a:ext cx="2379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0888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4628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486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77000" y="4594320"/>
                <a:ext cx="6696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66120" y="4594320"/>
                <a:ext cx="6804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7160760" y="4635360"/>
                <a:ext cx="1177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80280" y="464040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07280" y="4645080"/>
                <a:ext cx="7128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0" y="4594320"/>
                <a:ext cx="6696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452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5012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3520" y="4770360"/>
                <a:ext cx="7128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191000" y="477504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67600" y="4870440"/>
                <a:ext cx="684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2312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500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8115480" y="4454640"/>
              <a:ext cx="598320" cy="473040"/>
              <a:chOff x="8115480" y="4454640"/>
              <a:chExt cx="598320" cy="47304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8362800" y="4494240"/>
                <a:ext cx="1080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46756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78720" y="4505400"/>
                <a:ext cx="8748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3768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33112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57412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8481960" y="4635360"/>
                <a:ext cx="986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58200" y="4729320"/>
                <a:ext cx="684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61372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8242200" y="4484520"/>
                <a:ext cx="2383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7872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43264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1844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64720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37400" y="4594320"/>
                <a:ext cx="6696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8131320" y="463536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250120" y="464040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77120" y="4645080"/>
                <a:ext cx="716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7000" y="4594320"/>
                <a:ext cx="6660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154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19960" y="4735440"/>
                <a:ext cx="6696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255160" y="4770360"/>
                <a:ext cx="7272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8160840" y="4775040"/>
                <a:ext cx="96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139240" y="4870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9296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202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8506800" y="44132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11640" y="4564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00480" y="4699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06720" y="48434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16520" y="4368960"/>
              <a:ext cx="791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808080"/>
                  </a:solidFill>
                  <a:latin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13640" y="2976480"/>
              <a:ext cx="7945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808080"/>
                  </a:solidFill>
                  <a:latin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808080"/>
                  </a:solidFill>
                  <a:latin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203160" y="3873240"/>
              <a:ext cx="646920" cy="302040"/>
              <a:chOff x="6203160" y="3873240"/>
              <a:chExt cx="646920" cy="302040"/>
            </a:xfrm>
          </p:grpSpPr>
          <p:sp>
            <p:nvSpPr>
              <p:cNvPr id="590" name=""/>
              <p:cNvSpPr/>
              <p:nvPr/>
            </p:nvSpPr>
            <p:spPr>
              <a:xfrm rot="16200000">
                <a:off x="6556320" y="3871440"/>
                <a:ext cx="291960" cy="29520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rot="16200000">
                <a:off x="6205680" y="3879720"/>
                <a:ext cx="292320" cy="29844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4110120" y="2664000"/>
              <a:ext cx="136692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79920" y="2652840"/>
              <a:ext cx="67644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6896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6896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aus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39280" y="2320920"/>
              <a:ext cx="1256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0924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008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Ge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Ter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008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ontex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38520" y="2776680"/>
              <a:ext cx="5083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916520" y="2878200"/>
              <a:ext cx="271440" cy="196920"/>
              <a:chOff x="4916520" y="2878200"/>
              <a:chExt cx="271440" cy="19692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4932360" y="291780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52960" y="292104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078520" y="2925720"/>
                <a:ext cx="712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019840" y="287820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2128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91652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12136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4341960" y="2782800"/>
              <a:ext cx="20304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43560" y="278928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48240" y="2784600"/>
              <a:ext cx="166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619160" y="2917800"/>
              <a:ext cx="112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38680" y="2924280"/>
              <a:ext cx="730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31800" y="2924280"/>
              <a:ext cx="1177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52760" y="292752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78320" y="2932200"/>
              <a:ext cx="712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03600" y="2749680"/>
              <a:ext cx="68400" cy="5688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03600" y="2884320"/>
              <a:ext cx="684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9640" y="288432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89360" y="2884320"/>
              <a:ext cx="6696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210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1632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99000" y="3024360"/>
              <a:ext cx="684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116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800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016600" y="3017880"/>
              <a:ext cx="271440" cy="331920"/>
              <a:chOff x="5016600" y="3017880"/>
              <a:chExt cx="271440" cy="331920"/>
            </a:xfrm>
          </p:grpSpPr>
          <p:sp>
            <p:nvSpPr>
              <p:cNvPr id="627" name=""/>
              <p:cNvSpPr/>
              <p:nvPr/>
            </p:nvSpPr>
            <p:spPr>
              <a:xfrm flipH="1">
                <a:off x="5032440" y="305748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153040" y="306072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178600" y="3065400"/>
                <a:ext cx="712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119560" y="3017880"/>
                <a:ext cx="6696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2136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01660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21440" y="3157560"/>
                <a:ext cx="6660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59520" y="3192480"/>
                <a:ext cx="7272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055840" y="31971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19560" y="3157560"/>
                <a:ext cx="6696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33880" y="329256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199120" y="3292560"/>
                <a:ext cx="6804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7529400" y="2664000"/>
              <a:ext cx="136836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4272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95720" y="3494160"/>
              <a:ext cx="4811760" cy="2872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76320" y="1903320"/>
            <a:ext cx="31226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250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-based interface to a browser/editor serve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250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ies can be translated into a number of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tolingua - Usag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ingua is (one of) the most widely used knowledge development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since 1/94 at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ontolingua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4500 total users, 1200 current users, 300 a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4,200,000 user commands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ly averaging over 7000 commands per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800 ontologies stored on the KS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rror sites in Spain, Netherlands, UMBC, and corporat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modeling, electronic commerce, engineering, ribosomal structure modeling, workflow modeling, molecular biology, cross-disciplinary design and simulation, drug interactions, medical vocabularies, software design reuse, standard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nmonotonic Reasoning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(but not ANSI KIF) allows non-monotonic rules via “circumscribing abnormality”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sis P) is true if we are unable to derive (not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&lt;&lt;= (not (ab ?aspect ?x))  (consis (not (ab ?aspect ?x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ird twee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&lt;=  (flies ?x) (bird ?x)  (not (ab aspect1 ?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prove  (flies twee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f we can prove  (ab aspect1 Twe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will not derive (flies twee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1945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unctions and Relation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7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and relations are sets of lists in the universe of dis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= r (setofall (listof n1 … nk ) ( r  n1 … nk 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arguments to other functions &amp;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(transitive R), (inverse R1 R2), (one-one F), (range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n be "applied" to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lds ?r 1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alue ?f 1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&lt;=&gt;  (transitive ?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=&gt; (and (holds ?r ?x ?y) (holds ?r ?y ?z)) (holds ?r ?x ?z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nowledge About Knowledg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represents knowledge about knowledge by allowing expressions to be treated as objects in the universe of dis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expressions are lists and can be  referred to us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(believes John '(material moon bleuchees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(believes john ?p) (believes mary ?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us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(believes John (listof 'material ?x ?y))                                   (believes Lisa (listof 'material ?x ?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ulary is available for "evaluating"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 (denotation (listof 'F ?x ?y)) (F ?x ?y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(sentence ?p) (true (listof '=&gt; ?p ?p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ig KIF and Little KIF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KIF is  highly expressive language is  a desirable feature; but there are disadvant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s job of building fully conform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systems tend to be “heavyweigh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has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ormance categories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ing dimensions of conformance and specifying alternatives within that dimen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conformance profile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lection of alternatives from each conformance categ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builders decide upon and adhere to a conformance profile sensible for their appl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formance Categories and Profile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ance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tomic, conjunctive, positive, logical, rule-based, quantified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/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onstants, variables, complex terms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variab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Conformance Profiles migh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 (ground atomic assertions &amp; conjunctive for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rder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rder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57800" y="4800600"/>
            <a:ext cx="3505320" cy="1712880"/>
            <a:chOff x="5257800" y="4800600"/>
            <a:chExt cx="3505320" cy="1712880"/>
          </a:xfrm>
        </p:grpSpPr>
        <p:sp>
          <p:nvSpPr>
            <p:cNvPr id="56" name=""/>
            <p:cNvSpPr/>
            <p:nvPr/>
          </p:nvSpPr>
          <p:spPr>
            <a:xfrm>
              <a:off x="5257800" y="4800600"/>
              <a:ext cx="3505320" cy="1712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8480" y="4973760"/>
              <a:ext cx="2919240" cy="142704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3000" y="5086440"/>
              <a:ext cx="2334240" cy="11401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03880" y="5200920"/>
              <a:ext cx="1865880" cy="9108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23680" y="5315040"/>
              <a:ext cx="1398600" cy="6811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98840" y="6191280"/>
              <a:ext cx="3283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KI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052400" y="5918040"/>
              <a:ext cx="406440" cy="254880"/>
              <a:chOff x="7052400" y="5918040"/>
              <a:chExt cx="406440" cy="254880"/>
            </a:xfrm>
          </p:grpSpPr>
          <p:sp>
            <p:nvSpPr>
              <p:cNvPr id="63" name=""/>
              <p:cNvSpPr/>
              <p:nvPr/>
            </p:nvSpPr>
            <p:spPr>
              <a:xfrm>
                <a:off x="7052400" y="5918040"/>
                <a:ext cx="3283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60120" y="5978160"/>
                <a:ext cx="1987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687360" y="5795640"/>
              <a:ext cx="405000" cy="254880"/>
              <a:chOff x="6687360" y="5795640"/>
              <a:chExt cx="405000" cy="254880"/>
            </a:xfrm>
          </p:grpSpPr>
          <p:sp>
            <p:nvSpPr>
              <p:cNvPr id="66" name=""/>
              <p:cNvSpPr/>
              <p:nvPr/>
            </p:nvSpPr>
            <p:spPr>
              <a:xfrm>
                <a:off x="6687360" y="5795640"/>
                <a:ext cx="3283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93640" y="5855760"/>
                <a:ext cx="1987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260400" y="5703480"/>
              <a:ext cx="406440" cy="256680"/>
              <a:chOff x="6260400" y="5703480"/>
              <a:chExt cx="406440" cy="256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0400" y="5703480"/>
                <a:ext cx="3283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68120" y="5765400"/>
                <a:ext cx="1987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775480" y="5481720"/>
              <a:ext cx="4989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lat tup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360" y="5663880"/>
              <a:ext cx="4669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19400" y="5517000"/>
              <a:ext cx="5659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logic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onnectiv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06120" y="5577120"/>
              <a:ext cx="4273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atalo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449480" y="5978160"/>
              <a:ext cx="404640" cy="254880"/>
              <a:chOff x="7449480" y="5978160"/>
              <a:chExt cx="404640" cy="254880"/>
            </a:xfrm>
          </p:grpSpPr>
          <p:sp>
            <p:nvSpPr>
              <p:cNvPr id="76" name=""/>
              <p:cNvSpPr/>
              <p:nvPr/>
            </p:nvSpPr>
            <p:spPr>
              <a:xfrm>
                <a:off x="7449480" y="5978160"/>
                <a:ext cx="3283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55400" y="6038280"/>
                <a:ext cx="1987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633800" y="5577120"/>
              <a:ext cx="6069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atalog 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curs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0T01:12:54Z</dcterms:created>
  <dc:creator>tim finin</dc:creator>
  <dc:description/>
  <dc:language>en-US</dc:language>
  <cp:lastModifiedBy>Tim Finin</cp:lastModifiedBy>
  <dcterms:modified xsi:type="dcterms:W3CDTF">2000-03-20T01:04:52Z</dcterms:modified>
  <cp:revision>19</cp:revision>
  <dc:subject/>
  <dc:title>No Slide Title</dc:title>
</cp:coreProperties>
</file>