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B0D7-FBC3-4808-823E-A9AE46DD7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7DEA-C5CA-492C-84F8-FCEE3B0AC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FAFA-A051-43B9-A1A3-89E4EC19B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EC00-394C-4DF3-B887-54C199C977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8924-3E49-4684-9A09-E8CC133375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B954-8A77-47BC-8EE4-06580B997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6B21-E86F-4334-AC95-159DF324E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0D98-6900-4AE9-961F-23F1C104F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99A53-2702-4A5B-8EAF-1CBAAE05E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4D14-8806-42C1-925B-76A86223C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0609-5516-4300-A3E2-504E9A846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4B2F-A05A-434E-AF25-A004D1DDB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 indent="-23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244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472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472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472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A074-2B51-4D5D-A2F3-B2F60DB65D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ff0000"/>
                </a:solidFill>
                <a:latin typeface="Times New Roman"/>
              </a:rPr>
              <a:t>FIPA</a:t>
            </a:r>
            <a:endParaRPr b="1" lang="en-US" sz="20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-Standardization - FIPA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operation between Agent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PA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CAs and IPs for electronic 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content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message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ding of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-Standardization - FIPA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operation between Agent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L-Messages according to FIPA 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&lt;ca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ve act, like inform,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sen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 of the message (agent 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recei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of the message (agent 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langu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guage of the content, e.g. 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ontolog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tology (e.g. fipa-p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reply-wit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in-reply-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: Su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conversation-id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peration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reply-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dline for latest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protoc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interaction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envelo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ment for the transport 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cont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of the messag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changes in FIPA 99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-Standardization - FIPA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operation between Agent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1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sender   (:name user_agent@bond.mchp.siemens.de:34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receiver (:name hilton_hotel@tcp://hilton.com:5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ontology fipa-p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language 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protocol fipa-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action hilton_hotel@tcp://hilton.com:5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book-hotel    (:arrival   04/07/1999) (:departure 12/07/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:infos 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PA 99: other possibilities to define cont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-Standardization - FIPA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operation between Agent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PA Coop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 have their own formal semantic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 to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not be implemented - agent must behave according to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protocols define structured conversation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s for dialogues between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set of pre-defined 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 IPs can be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718440" y="3314880"/>
            <a:ext cx="878400" cy="397440"/>
          </a:xfrm>
          <a:prstGeom prst="rect">
            <a:avLst/>
          </a:prstGeom>
          <a:solidFill>
            <a:srgbClr val="cccc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10480" y="4486320"/>
            <a:ext cx="2067120" cy="39744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-underst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67440" y="4475160"/>
            <a:ext cx="975960" cy="39744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38098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4038480"/>
            <a:ext cx="289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40384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0384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-Standardization - FIPA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operation between Agent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PA-Query (simplified - for information exchan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-Standardization - FIPA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operation between Agent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99520" y="2838600"/>
            <a:ext cx="2026080" cy="3974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(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3581280"/>
            <a:ext cx="5278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7920" y="4064040"/>
            <a:ext cx="2067120" cy="397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-underst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581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34320" y="4064040"/>
            <a:ext cx="864720" cy="397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10240" y="3581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4360" y="4064040"/>
            <a:ext cx="1955880" cy="397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use(rea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3581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4560" y="5359320"/>
            <a:ext cx="1954440" cy="397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ilure(rea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81840" y="5361120"/>
            <a:ext cx="1387440" cy="397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-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8120" y="5361120"/>
            <a:ext cx="1925280" cy="397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(done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556000" y="4492800"/>
            <a:ext cx="5290920" cy="841320"/>
            <a:chOff x="2556000" y="4492800"/>
            <a:chExt cx="5290920" cy="841320"/>
          </a:xfrm>
        </p:grpSpPr>
        <p:sp>
          <p:nvSpPr>
            <p:cNvPr id="87" name=""/>
            <p:cNvSpPr/>
            <p:nvPr/>
          </p:nvSpPr>
          <p:spPr>
            <a:xfrm>
              <a:off x="6477120" y="4492800"/>
              <a:ext cx="0" cy="38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56000" y="4876920"/>
              <a:ext cx="5278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56000" y="48769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46920" y="48769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2880" y="48769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PA-Request - for task dele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-Standardization - FIPA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operation between Agent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02240" y="2535120"/>
            <a:ext cx="2166120" cy="3974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fp(action, pre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7840" y="3473280"/>
            <a:ext cx="2067120" cy="397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-underst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99200" y="3478320"/>
            <a:ext cx="1968120" cy="397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(pre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82000" y="3476520"/>
            <a:ext cx="1955880" cy="397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use(rea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882600" y="2971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28640" y="3230640"/>
            <a:ext cx="4856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44480" y="3230640"/>
            <a:ext cx="0" cy="19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85040" y="3230640"/>
            <a:ext cx="0" cy="19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2960" y="3230640"/>
            <a:ext cx="0" cy="19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48360" y="4473720"/>
            <a:ext cx="2152440" cy="3974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ept-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74840" y="4486320"/>
            <a:ext cx="2024640" cy="3974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ject-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3963960"/>
            <a:ext cx="0" cy="22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4213080"/>
            <a:ext cx="3124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72280" y="4213080"/>
            <a:ext cx="0" cy="24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5600" y="4213080"/>
            <a:ext cx="0" cy="24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PA-Contract Net - for negot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4038480"/>
            <a:ext cx="164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77720" y="3870360"/>
            <a:ext cx="124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76760" y="5456160"/>
            <a:ext cx="1954440" cy="397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ilure(rea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91560" y="5456160"/>
            <a:ext cx="977400" cy="3974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93120" y="5456160"/>
            <a:ext cx="1754640" cy="397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(d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74920" y="518148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181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80440" y="5211720"/>
            <a:ext cx="0" cy="19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45040" y="5211720"/>
            <a:ext cx="0" cy="19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Times New Roman"/>
              </a:rPr>
              <a:t>The </a:t>
            </a:r>
            <a:br>
              <a:rPr sz="10600"/>
            </a:br>
            <a:r>
              <a:rPr b="1" lang="en-US" sz="10600" spc="-1" strike="noStrike">
                <a:solidFill>
                  <a:srgbClr val="ff0000"/>
                </a:solidFill>
                <a:latin typeface="Times New Roman"/>
              </a:rPr>
              <a:t>FIPA Agent Platform</a:t>
            </a:r>
            <a:endParaRPr b="1" lang="en-US" sz="10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IPA Agent Platform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04920" y="2819520"/>
            <a:ext cx="8167320" cy="3733560"/>
            <a:chOff x="304920" y="2819520"/>
            <a:chExt cx="8167320" cy="3733560"/>
          </a:xfrm>
        </p:grpSpPr>
        <p:sp>
          <p:nvSpPr>
            <p:cNvPr id="123" name=""/>
            <p:cNvSpPr/>
            <p:nvPr/>
          </p:nvSpPr>
          <p:spPr>
            <a:xfrm>
              <a:off x="1600200" y="4114800"/>
              <a:ext cx="5638680" cy="243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24080" y="4495680"/>
              <a:ext cx="99072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19720" y="4495680"/>
              <a:ext cx="99036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38680" y="4495680"/>
              <a:ext cx="99072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05320" y="5410080"/>
              <a:ext cx="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5880" y="541008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76920" y="541008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81080" y="5715000"/>
              <a:ext cx="472464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nternal platform message 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3352680"/>
              <a:ext cx="0" cy="2362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2320" y="3352680"/>
              <a:ext cx="0" cy="2362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2320" y="2895480"/>
              <a:ext cx="914400" cy="533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1080" y="2895480"/>
              <a:ext cx="914400" cy="533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920" y="2819520"/>
              <a:ext cx="1218960" cy="6094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29400" y="480060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495288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82040" y="49942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I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581280" y="1905120"/>
            <a:ext cx="45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belong to one or more agent platforms which provide basic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IPA Agent Platform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04920" y="2819520"/>
            <a:ext cx="8167320" cy="3733560"/>
            <a:chOff x="304920" y="2819520"/>
            <a:chExt cx="8167320" cy="3733560"/>
          </a:xfrm>
        </p:grpSpPr>
        <p:sp>
          <p:nvSpPr>
            <p:cNvPr id="143" name=""/>
            <p:cNvSpPr/>
            <p:nvPr/>
          </p:nvSpPr>
          <p:spPr>
            <a:xfrm>
              <a:off x="1600200" y="4114800"/>
              <a:ext cx="5638680" cy="243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24080" y="4495680"/>
              <a:ext cx="99072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19720" y="4495680"/>
              <a:ext cx="99036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4495680"/>
              <a:ext cx="99072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05320" y="5410080"/>
              <a:ext cx="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5880" y="541008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6920" y="541008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81080" y="5715000"/>
              <a:ext cx="472464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nternal platform message 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19520" y="3352680"/>
              <a:ext cx="0" cy="2362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62320" y="3352680"/>
              <a:ext cx="0" cy="2362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62320" y="2895480"/>
              <a:ext cx="914400" cy="533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1080" y="2895480"/>
              <a:ext cx="914400" cy="533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2819520"/>
              <a:ext cx="1218960" cy="6094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2388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29400" y="480060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495288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82040" y="49942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I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505320" y="1523880"/>
            <a:ext cx="451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gent Management System) provides services like lifecycle management (creation, deletion, pausing, …), name registration,  name lookup, and authent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hat is FIPA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oundation for Intelligent Physical Agents (FIPA) is a non-profit associ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PA’s purpose is to promote the success of emerging agent-based applications, services and equip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PA’s goal is pursued by making available in a timely manner, internationally agreed specifications that maximise interoperability across agent-based applications, services and equip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fipa.org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ipa2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676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IPA Agent Platform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04920" y="2819520"/>
            <a:ext cx="8167320" cy="3733560"/>
            <a:chOff x="304920" y="2819520"/>
            <a:chExt cx="8167320" cy="3733560"/>
          </a:xfrm>
        </p:grpSpPr>
        <p:sp>
          <p:nvSpPr>
            <p:cNvPr id="163" name=""/>
            <p:cNvSpPr/>
            <p:nvPr/>
          </p:nvSpPr>
          <p:spPr>
            <a:xfrm>
              <a:off x="1600200" y="4114800"/>
              <a:ext cx="5638680" cy="243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4080" y="4495680"/>
              <a:ext cx="99072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19720" y="4495680"/>
              <a:ext cx="99036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38680" y="4495680"/>
              <a:ext cx="99072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05320" y="5410080"/>
              <a:ext cx="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95880" y="541008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6920" y="541008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81080" y="5715000"/>
              <a:ext cx="472464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nternal platform message 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9520" y="3352680"/>
              <a:ext cx="0" cy="2362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3352680"/>
              <a:ext cx="0" cy="2362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62320" y="2895480"/>
              <a:ext cx="914400" cy="533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81080" y="2895480"/>
              <a:ext cx="914400" cy="533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4920" y="2819520"/>
              <a:ext cx="1218960" cy="6094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2388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400" y="480060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29400" y="495288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82040" y="49942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I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505320" y="1523880"/>
            <a:ext cx="451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irectory Facilitator) provides yellow pages services which describe the attributes and  capabilities of agents in the plat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IPA Agent Platform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04920" y="2819520"/>
            <a:ext cx="8167320" cy="3733560"/>
            <a:chOff x="304920" y="2819520"/>
            <a:chExt cx="8167320" cy="3733560"/>
          </a:xfrm>
        </p:grpSpPr>
        <p:sp>
          <p:nvSpPr>
            <p:cNvPr id="183" name=""/>
            <p:cNvSpPr/>
            <p:nvPr/>
          </p:nvSpPr>
          <p:spPr>
            <a:xfrm>
              <a:off x="1600200" y="4114800"/>
              <a:ext cx="5638680" cy="243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24080" y="4495680"/>
              <a:ext cx="99072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19720" y="4495680"/>
              <a:ext cx="99036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38680" y="4495680"/>
              <a:ext cx="99072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05320" y="5410080"/>
              <a:ext cx="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95880" y="541008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76920" y="541008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5715000"/>
              <a:ext cx="472464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nternal platform message 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9520" y="3352680"/>
              <a:ext cx="0" cy="2362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62320" y="3352680"/>
              <a:ext cx="0" cy="2362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62320" y="2895480"/>
              <a:ext cx="914400" cy="533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81080" y="2895480"/>
              <a:ext cx="914400" cy="533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920" y="2819520"/>
              <a:ext cx="1218960" cy="6094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2388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29400" y="480060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29400" y="495288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82040" y="49942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I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505320" y="1523880"/>
            <a:ext cx="451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gent Communication Channel) accepts and delivers message between agents on different platforms (+store and forward, +firewa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IPA Agent Platform Implementation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04920" y="2819520"/>
            <a:ext cx="8167320" cy="3733560"/>
            <a:chOff x="304920" y="2819520"/>
            <a:chExt cx="8167320" cy="3733560"/>
          </a:xfrm>
        </p:grpSpPr>
        <p:sp>
          <p:nvSpPr>
            <p:cNvPr id="203" name=""/>
            <p:cNvSpPr/>
            <p:nvPr/>
          </p:nvSpPr>
          <p:spPr>
            <a:xfrm>
              <a:off x="1600200" y="4114800"/>
              <a:ext cx="5638680" cy="243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24080" y="4495680"/>
              <a:ext cx="99072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19720" y="4495680"/>
              <a:ext cx="99036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638680" y="4495680"/>
              <a:ext cx="99072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5410080"/>
              <a:ext cx="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95880" y="541008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6920" y="541008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81080" y="5715000"/>
              <a:ext cx="472464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nternal platform message 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19520" y="3352680"/>
              <a:ext cx="0" cy="2362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62320" y="3352680"/>
              <a:ext cx="0" cy="2362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2320" y="2895480"/>
              <a:ext cx="914400" cy="533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81080" y="2895480"/>
              <a:ext cx="914400" cy="533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920" y="2819520"/>
              <a:ext cx="1218960" cy="6094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2388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29400" y="480060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29400" y="495288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82040" y="49942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I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505320" y="1523880"/>
            <a:ext cx="451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gent Communication Channel) accepts and delivers message between agents on different platforms (+store and forward, +firewa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-Standardization - FIPA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 Communiti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Management System (AM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on, deleting, (de-)registration,...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te pag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ual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for special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ctly one AMS per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y Facilitator (D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-)registration,...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llow pag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-address” of a (mobile) agen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inform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-type,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for agents satisfying distinguished service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least one DF per AP, can be connected in a hierarchic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-Standardization - FIPA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 Communiti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Communication Channel (AC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s messages for not reachabl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s messages within one AP and over 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ly one ACC per 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t over fire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s IIOP used over different 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IPA Platform Implementation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platforms have been imple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us (B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ca (Sieme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DE (Cse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t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interoperability has been demonstr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IPA Application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veral large, ongoing projects which are using FIPA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Assistant -- meeting planning and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travel assistance -- travel planning and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/V entertainment and broad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management and provisioning -- establishing multimedia connections in a V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matic computing -- agents in a wireles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PA is funding a company to implement an open demonstration in the personal assistant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Times New Roman"/>
              </a:rPr>
              <a:t>Ontologies and</a:t>
            </a:r>
            <a:br>
              <a:rPr sz="10600"/>
            </a:br>
            <a:r>
              <a:rPr b="1" lang="en-US" sz="10600" spc="-1" strike="noStrike">
                <a:solidFill>
                  <a:srgbClr val="ff0000"/>
                </a:solidFill>
                <a:latin typeface="Times New Roman"/>
              </a:rPr>
              <a:t>FIPA</a:t>
            </a:r>
            <a:endParaRPr b="1" lang="en-US" sz="10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tologies in the FIPA Reference Model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600200" y="1371600"/>
          <a:ext cx="589104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71600"/>
                    <a:ext cx="58910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-720" y="3276720"/>
            <a:ext cx="227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vid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e.g., trans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FIPA ag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3809880"/>
            <a:ext cx="274320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46360" y="3013200"/>
            <a:ext cx="1852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fin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rve sh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agent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th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7086240" y="31240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ntology agent servic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a FIPA agent in selecting a shared (sub) ontology for communic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d update an ontology, or only some terms of an ontolog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expressions between different ontologies (different names with same meanings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 to query for relationships between terms or between ontolog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 of public ontologies in order to access th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ho is FIPA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PA operates through the open international collaboration of member organisations, which are companies and universities active in the agent fiel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ies: Alcatel, Boeing, British Telecom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utsche Telekom, France Telecom, Fujitsu, Hitatchi, HP, IBM, Fujitsu,  Hewlett Packard, IBM, Intel, Lucent, NEC, NHK, NTT, Nortel, Siemens, SUN,  Telia, Toshib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versities and Research Institutes: GMD, EPFL, Imperial, IRS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ernment Agencies: DAR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e FIPA knowledge model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PA specifie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pa-meta-ont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ontology used to talk about ontolog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largely based on the OKBC model developed by Stanford and S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http://ai.sri.com/~ok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its name sugg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BC is to KBs what ODBC is to 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tandard API to Knowledge Representation Systems (K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OKBC clients (e.g., browsers, editors) exist as well as OKBC drivers for a number of knowledge representation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elationships between ontologi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pa-meta-ontology also inclu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ontol-relationship ?O1 ?O2 ?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scribe translation services, where ?level can b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1 extends the ontology O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c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1 and O2 are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ivalent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1 and O2 are equival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ly-translat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very term in O1 is translatable to a term in O2 without loss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kly-translatabl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erms in O1 are translatable to terms in O2 with some loss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x-translatabl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ing terms from O1 to O2 may introduce some 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IPA’s Work Model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3840" indent="-213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PA’s work is built around annual rounds of FIPA specification deliver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PA97 laid the groundwork and focused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760" indent="-213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 management (common components, agent lifecyc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760" indent="-213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 communication (message format, semantics, interaction protoco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760" indent="-213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/Software intera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PA98 extended fipa97, dealing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760" indent="-213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man-agent 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760" indent="-213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 mo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760" indent="-213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760" indent="-213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tology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PA 99 is work in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760" indent="-213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1: Agen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760" indent="-213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2: Agent Communication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760" indent="-213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3: Agent/Software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760" indent="-213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4-TC7: Specification of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0000"/>
                </a:solidFill>
                <a:latin typeface="Times New Roman"/>
              </a:rPr>
              <a:t>The </a:t>
            </a:r>
            <a:br>
              <a:rPr sz="12900"/>
            </a:br>
            <a:r>
              <a:rPr b="1" lang="en-US" sz="12900" spc="-1" strike="noStrike">
                <a:solidFill>
                  <a:srgbClr val="ff0000"/>
                </a:solidFill>
                <a:latin typeface="Times New Roman"/>
              </a:rPr>
              <a:t>FIPA ACL</a:t>
            </a:r>
            <a:endParaRPr b="1" lang="en-US" sz="129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C2: Agent Communication Languag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FIPA A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speech 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s are actions (communicative actions or C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ve acts are described in both a narrative form and a formal semantics based on modal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 is similar to KQ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 provid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rm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cription of high-level interaction protocols (aka convers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-Standardization - FIPA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operation between Agent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 for Information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ition or reference as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-r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-underst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-if, inform-r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rm, discon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-Standardization - FIPA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operation between Agent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 for task del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-description as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-underst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-when, request-when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-Standardization - FIPA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operation between Agent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 for 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-description and proposition as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ting 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ng 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-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-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2T03:42:35Z</dcterms:created>
  <dc:creator>tim finin</dc:creator>
  <dc:description/>
  <dc:language>en-US</dc:language>
  <cp:lastModifiedBy>Yannis Labrou</cp:lastModifiedBy>
  <dcterms:modified xsi:type="dcterms:W3CDTF">2000-03-19T23:14:27Z</dcterms:modified>
  <cp:revision>8</cp:revision>
  <dc:subject/>
  <dc:title>No Slide Title</dc:title>
</cp:coreProperties>
</file>