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FE47CE-6F05-4B62-AE53-4D81CCAE1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435800" y="55440"/>
            <a:ext cx="167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What’s an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9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hat’s an </a:t>
            </a:r>
            <a:br>
              <a:rPr sz="12900"/>
            </a:br>
            <a:r>
              <a:rPr b="1" lang="en-US" sz="129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Characteristic:  Aut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2133720"/>
            <a:ext cx="3932280" cy="3504960"/>
            <a:chOff x="304920" y="2133720"/>
            <a:chExt cx="3932280" cy="350496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2133720"/>
              <a:ext cx="3860640" cy="3504960"/>
              <a:chOff x="304920" y="2133720"/>
              <a:chExt cx="3860640" cy="3504960"/>
            </a:xfrm>
          </p:grpSpPr>
          <p:sp>
            <p:nvSpPr>
              <p:cNvPr id="176" name=""/>
              <p:cNvSpPr/>
              <p:nvPr/>
            </p:nvSpPr>
            <p:spPr>
              <a:xfrm>
                <a:off x="1092240" y="2133720"/>
                <a:ext cx="2286000" cy="2286000"/>
              </a:xfrm>
              <a:prstGeom prst="ellipse">
                <a:avLst/>
              </a:prstGeom>
              <a:noFill/>
              <a:ln w="203040">
                <a:solidFill>
                  <a:srgbClr val="fc0128"/>
                </a:solidFill>
                <a:round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79560" y="3352680"/>
                <a:ext cx="2286000" cy="2286000"/>
              </a:xfrm>
              <a:prstGeom prst="ellipse">
                <a:avLst/>
              </a:prstGeom>
              <a:noFill/>
              <a:ln w="203040">
                <a:solidFill>
                  <a:srgbClr val="00ff00"/>
                </a:solidFill>
                <a:round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4920" y="3352680"/>
                <a:ext cx="2286000" cy="2286000"/>
              </a:xfrm>
              <a:prstGeom prst="ellipse">
                <a:avLst/>
              </a:prstGeom>
              <a:noFill/>
              <a:ln w="203040">
                <a:solidFill>
                  <a:srgbClr val="000000"/>
                </a:solidFill>
                <a:round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>
              <a:off x="1309680" y="2655720"/>
              <a:ext cx="180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Coop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69720" y="4479840"/>
              <a:ext cx="1555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nom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2579760" y="4403880"/>
              <a:ext cx="1657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 txBox="1"/>
          <p:nvPr/>
        </p:nvSpPr>
        <p:spPr>
          <a:xfrm>
            <a:off x="4317840" y="1828800"/>
            <a:ext cx="472428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act autonomously to pursue their ag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active and re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directe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ly long-l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threaded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2860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viewing from an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tional 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Characteristic:  Mob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88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3360" indent="-333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-- this definition implies some agent attributes, e.g. autonomy, persistenc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agents off some very interesting advantages as well as some disadvan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important technology for distributed systems and is largely orthogonal to other “agent”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50840" y="1660680"/>
            <a:ext cx="71024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bile agent is an executing program that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igr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rom machine to machine in a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heterogeneous network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its 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wn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s vs. Intelligent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2514600"/>
            <a:ext cx="84582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The size of the price t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erious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adigm covers agents of varying degrees of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t agents will ten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and apply more sophisticated domain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ing underlying goals and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 to unexpected situations in a robust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of what we will be saying applies to agents of little or no intellig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03480" y="1766880"/>
            <a:ext cx="6523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makes an agent an “intelligent agen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ome key id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968480"/>
            <a:ext cx="807732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agents offer a new paradigm for very large sca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ibuted heterogeneous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adigm focuses o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utonomous, cooperating processes which can adapt to humans and other a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 is an orthogonal characteristic which many, but not all, consider cent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ce is always a desirable characteristic but is not strictly required by the paradig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adigm is still for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hat is an agent?</a:t>
            </a:r>
            <a:br>
              <a:rPr sz="4400"/>
            </a:b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 brief tour of agent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07960" y="3184560"/>
            <a:ext cx="7050240" cy="33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9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emons (e.g., ftp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clients (e.g., mail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gents (e.g., robo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able agents (e.g., VR and graph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t softwar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9880" y="2052720"/>
            <a:ext cx="869616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60000"/>
              </a:lnSpc>
              <a:spcBef>
                <a:spcPts val="1199"/>
              </a:spcBef>
            </a:pPr>
            <a:r>
              <a:rPr b="0" i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n agent is a powerful and ubiquit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99"/>
              </a:spcBef>
            </a:pPr>
            <a:r>
              <a:rPr b="0" i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bstraction in computer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hat is a software ag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-fac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85840">
              <a:lnSpc>
                <a:spcPct val="6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t human-computer interface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85840">
              <a:lnSpc>
                <a:spcPct val="6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user modeling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(expert)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personal retriev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softwar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ng software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85840">
              <a:lnSpc>
                <a:spcPct val="6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discovery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85840">
              <a:lnSpc>
                <a:spcPct val="6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ors and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85840">
              <a:lnSpc>
                <a:spcPct val="6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85840">
              <a:lnSpc>
                <a:spcPct val="6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6200" y="1671480"/>
            <a:ext cx="869616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60000"/>
              </a:lnSpc>
              <a:spcBef>
                <a:spcPts val="1199"/>
              </a:spcBef>
            </a:pPr>
            <a:r>
              <a:rPr b="0" i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We can identify some sub-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o, what’s a software age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913040"/>
            <a:ext cx="718668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7960" indent="-237960">
              <a:lnSpc>
                <a:spcPct val="89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n’t a consensus yet, but several key concepts are important to this emerging paradig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lnSpc>
                <a:spcPct val="89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oftware 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8592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autonomous, goal-directe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8592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ituated in, is aware of, and reacts to it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8592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es with other agents (software or human) to accomplish it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8120" y="165240"/>
            <a:ext cx="8248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n emerging system-building paradig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765840" y="898560"/>
            <a:ext cx="20700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(with h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71800" y="647712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572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14400" y="1752480"/>
            <a:ext cx="7389720" cy="3254400"/>
            <a:chOff x="914400" y="1752480"/>
            <a:chExt cx="7389720" cy="3254400"/>
          </a:xfrm>
        </p:grpSpPr>
        <p:sp>
          <p:nvSpPr>
            <p:cNvPr id="83" name=""/>
            <p:cNvSpPr/>
            <p:nvPr/>
          </p:nvSpPr>
          <p:spPr>
            <a:xfrm>
              <a:off x="3703680" y="3598920"/>
              <a:ext cx="305280" cy="736920"/>
            </a:xfrm>
            <a:custGeom>
              <a:avLst/>
              <a:gdLst/>
              <a:ahLst/>
              <a:rect l="0" t="0" r="r" b="b"/>
              <a:pathLst>
                <a:path w="848" h="2047">
                  <a:moveTo>
                    <a:pt x="282" y="2047"/>
                  </a:moveTo>
                  <a:lnTo>
                    <a:pt x="564" y="2047"/>
                  </a:lnTo>
                  <a:lnTo>
                    <a:pt x="564" y="613"/>
                  </a:lnTo>
                  <a:lnTo>
                    <a:pt x="848" y="613"/>
                  </a:lnTo>
                  <a:lnTo>
                    <a:pt x="424" y="0"/>
                  </a:lnTo>
                  <a:lnTo>
                    <a:pt x="0" y="613"/>
                  </a:lnTo>
                  <a:lnTo>
                    <a:pt x="282" y="613"/>
                  </a:lnTo>
                  <a:lnTo>
                    <a:pt x="282" y="204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11640" y="2206800"/>
              <a:ext cx="305280" cy="736920"/>
            </a:xfrm>
            <a:custGeom>
              <a:avLst/>
              <a:gdLst/>
              <a:ahLst/>
              <a:rect l="0" t="0" r="r" b="b"/>
              <a:pathLst>
                <a:path w="848" h="2047">
                  <a:moveTo>
                    <a:pt x="282" y="0"/>
                  </a:moveTo>
                  <a:lnTo>
                    <a:pt x="564" y="0"/>
                  </a:lnTo>
                  <a:lnTo>
                    <a:pt x="564" y="1433"/>
                  </a:lnTo>
                  <a:lnTo>
                    <a:pt x="848" y="1433"/>
                  </a:lnTo>
                  <a:lnTo>
                    <a:pt x="424" y="2047"/>
                  </a:lnTo>
                  <a:lnTo>
                    <a:pt x="0" y="1433"/>
                  </a:lnTo>
                  <a:lnTo>
                    <a:pt x="282" y="1433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84440" y="2478240"/>
              <a:ext cx="736920" cy="305280"/>
            </a:xfrm>
            <a:custGeom>
              <a:avLst/>
              <a:gdLst/>
              <a:ahLst/>
              <a:rect l="0" t="0" r="r" b="b"/>
              <a:pathLst>
                <a:path w="2047" h="848">
                  <a:moveTo>
                    <a:pt x="0" y="282"/>
                  </a:moveTo>
                  <a:lnTo>
                    <a:pt x="0" y="564"/>
                  </a:lnTo>
                  <a:lnTo>
                    <a:pt x="1433" y="564"/>
                  </a:lnTo>
                  <a:lnTo>
                    <a:pt x="1433" y="848"/>
                  </a:lnTo>
                  <a:lnTo>
                    <a:pt x="2047" y="424"/>
                  </a:lnTo>
                  <a:lnTo>
                    <a:pt x="1433" y="0"/>
                  </a:lnTo>
                  <a:lnTo>
                    <a:pt x="143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43440" y="3884760"/>
              <a:ext cx="736920" cy="305280"/>
            </a:xfrm>
            <a:custGeom>
              <a:avLst/>
              <a:gdLst/>
              <a:ahLst/>
              <a:rect l="0" t="0" r="r" b="b"/>
              <a:pathLst>
                <a:path w="2047" h="848">
                  <a:moveTo>
                    <a:pt x="2047" y="282"/>
                  </a:moveTo>
                  <a:lnTo>
                    <a:pt x="2047" y="564"/>
                  </a:lnTo>
                  <a:lnTo>
                    <a:pt x="613" y="564"/>
                  </a:lnTo>
                  <a:lnTo>
                    <a:pt x="613" y="848"/>
                  </a:lnTo>
                  <a:lnTo>
                    <a:pt x="0" y="424"/>
                  </a:lnTo>
                  <a:lnTo>
                    <a:pt x="613" y="0"/>
                  </a:lnTo>
                  <a:lnTo>
                    <a:pt x="613" y="282"/>
                  </a:lnTo>
                  <a:lnTo>
                    <a:pt x="2047" y="28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94200" y="2768760"/>
              <a:ext cx="1041840" cy="1092600"/>
            </a:xfrm>
            <a:custGeom>
              <a:avLst/>
              <a:gdLst/>
              <a:ahLst/>
              <a:rect l="0" t="0" r="r" b="b"/>
              <a:pathLst>
                <a:path w="2894" h="3035">
                  <a:moveTo>
                    <a:pt x="1447" y="0"/>
                  </a:moveTo>
                  <a:lnTo>
                    <a:pt x="1592" y="868"/>
                  </a:lnTo>
                  <a:lnTo>
                    <a:pt x="2160" y="212"/>
                  </a:lnTo>
                  <a:lnTo>
                    <a:pt x="1898" y="1038"/>
                  </a:lnTo>
                  <a:lnTo>
                    <a:pt x="2706" y="762"/>
                  </a:lnTo>
                  <a:lnTo>
                    <a:pt x="2079" y="1355"/>
                  </a:lnTo>
                  <a:lnTo>
                    <a:pt x="2894" y="1517"/>
                  </a:lnTo>
                  <a:lnTo>
                    <a:pt x="2079" y="1680"/>
                  </a:lnTo>
                  <a:lnTo>
                    <a:pt x="2706" y="2277"/>
                  </a:lnTo>
                  <a:lnTo>
                    <a:pt x="1898" y="2020"/>
                  </a:lnTo>
                  <a:lnTo>
                    <a:pt x="2160" y="2838"/>
                  </a:lnTo>
                  <a:lnTo>
                    <a:pt x="1615" y="2181"/>
                  </a:lnTo>
                  <a:lnTo>
                    <a:pt x="1432" y="3035"/>
                  </a:lnTo>
                  <a:lnTo>
                    <a:pt x="1273" y="2181"/>
                  </a:lnTo>
                  <a:lnTo>
                    <a:pt x="727" y="2838"/>
                  </a:lnTo>
                  <a:lnTo>
                    <a:pt x="989" y="2011"/>
                  </a:lnTo>
                  <a:lnTo>
                    <a:pt x="182" y="2288"/>
                  </a:lnTo>
                  <a:lnTo>
                    <a:pt x="808" y="1693"/>
                  </a:lnTo>
                  <a:lnTo>
                    <a:pt x="0" y="1524"/>
                  </a:lnTo>
                  <a:lnTo>
                    <a:pt x="808" y="1355"/>
                  </a:lnTo>
                  <a:lnTo>
                    <a:pt x="182" y="762"/>
                  </a:lnTo>
                  <a:lnTo>
                    <a:pt x="989" y="1037"/>
                  </a:lnTo>
                  <a:lnTo>
                    <a:pt x="727" y="209"/>
                  </a:lnTo>
                  <a:lnTo>
                    <a:pt x="1272" y="868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2065320" y="1805040"/>
              <a:ext cx="16747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1452600" y="4091040"/>
              <a:ext cx="229248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atabase 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Knowledge b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5592600" y="1752480"/>
              <a:ext cx="17762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Retrie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5788080" y="4014720"/>
              <a:ext cx="13860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Mach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052880" y="3108240"/>
              <a:ext cx="1014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g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6791400" y="3024360"/>
              <a:ext cx="15127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Cogniti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c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67360" y="3124080"/>
              <a:ext cx="838440" cy="381240"/>
            </a:xfrm>
            <a:custGeom>
              <a:avLst/>
              <a:gdLst/>
              <a:ahLst/>
              <a:rect l="0" t="0" r="r" b="b"/>
              <a:pathLst>
                <a:path w="2329" h="1059">
                  <a:moveTo>
                    <a:pt x="2329" y="352"/>
                  </a:moveTo>
                  <a:lnTo>
                    <a:pt x="2329" y="705"/>
                  </a:lnTo>
                  <a:lnTo>
                    <a:pt x="698" y="705"/>
                  </a:lnTo>
                  <a:lnTo>
                    <a:pt x="698" y="1059"/>
                  </a:lnTo>
                  <a:lnTo>
                    <a:pt x="0" y="530"/>
                  </a:lnTo>
                  <a:lnTo>
                    <a:pt x="698" y="0"/>
                  </a:lnTo>
                  <a:lnTo>
                    <a:pt x="698" y="352"/>
                  </a:lnTo>
                  <a:lnTo>
                    <a:pt x="2329" y="35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33640" y="3124080"/>
              <a:ext cx="838440" cy="381240"/>
            </a:xfrm>
            <a:custGeom>
              <a:avLst/>
              <a:gdLst/>
              <a:ahLst/>
              <a:rect l="0" t="0" r="r" b="b"/>
              <a:pathLst>
                <a:path w="2329" h="1059">
                  <a:moveTo>
                    <a:pt x="0" y="352"/>
                  </a:moveTo>
                  <a:lnTo>
                    <a:pt x="0" y="705"/>
                  </a:lnTo>
                  <a:lnTo>
                    <a:pt x="1630" y="705"/>
                  </a:lnTo>
                  <a:lnTo>
                    <a:pt x="1630" y="1059"/>
                  </a:lnTo>
                  <a:lnTo>
                    <a:pt x="2329" y="530"/>
                  </a:lnTo>
                  <a:lnTo>
                    <a:pt x="1630" y="0"/>
                  </a:lnTo>
                  <a:lnTo>
                    <a:pt x="1630" y="352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923080" y="3141720"/>
              <a:ext cx="965160" cy="41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5000"/>
                </a:lnSpc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AI 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914400" y="3100320"/>
              <a:ext cx="1843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5000"/>
                </a:lnSpc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Mobile co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552680" y="5450040"/>
            <a:ext cx="6370560" cy="949320"/>
            <a:chOff x="1552680" y="5450040"/>
            <a:chExt cx="6370560" cy="949320"/>
          </a:xfrm>
        </p:grpSpPr>
        <p:grpSp>
          <p:nvGrpSpPr>
            <p:cNvPr id="99" name=""/>
            <p:cNvGrpSpPr/>
            <p:nvPr/>
          </p:nvGrpSpPr>
          <p:grpSpPr>
            <a:xfrm>
              <a:off x="3635280" y="5499000"/>
              <a:ext cx="1581120" cy="898560"/>
              <a:chOff x="3635280" y="5499000"/>
              <a:chExt cx="1581120" cy="89856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3689280" y="5499000"/>
                <a:ext cx="1473120" cy="89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bjec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8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35280" y="5923080"/>
                <a:ext cx="1581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552680" y="5450040"/>
              <a:ext cx="1498320" cy="949320"/>
              <a:chOff x="1552680" y="5450040"/>
              <a:chExt cx="1498320" cy="949320"/>
            </a:xfrm>
          </p:grpSpPr>
          <p:sp>
            <p:nvSpPr>
              <p:cNvPr id="103" name=""/>
              <p:cNvSpPr txBox="1"/>
              <p:nvPr/>
            </p:nvSpPr>
            <p:spPr>
              <a:xfrm>
                <a:off x="1552680" y="5450040"/>
                <a:ext cx="1473120" cy="94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gen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9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77880" y="5932440"/>
                <a:ext cx="14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52960" y="5576760"/>
              <a:ext cx="2870280" cy="781200"/>
              <a:chOff x="5052960" y="5576760"/>
              <a:chExt cx="2870280" cy="781200"/>
            </a:xfrm>
          </p:grpSpPr>
          <p:sp>
            <p:nvSpPr>
              <p:cNvPr id="106" name=""/>
              <p:cNvSpPr txBox="1"/>
              <p:nvPr/>
            </p:nvSpPr>
            <p:spPr>
              <a:xfrm>
                <a:off x="5052960" y="5576760"/>
                <a:ext cx="2870280" cy="78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20000"/>
                  </a:lnSpc>
                  <a:spcBef>
                    <a:spcPts val="700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ructure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20000"/>
                  </a:lnSpc>
                  <a:spcBef>
                    <a:spcPts val="700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gramm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00"/>
                  </a:spcBef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7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78440" y="5972040"/>
                <a:ext cx="1212840" cy="11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52920" bIns="-52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 txBox="1"/>
            <p:nvPr/>
          </p:nvSpPr>
          <p:spPr>
            <a:xfrm>
              <a:off x="3114720" y="5553000"/>
              <a:ext cx="4507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4929"/>
                </a:spcBef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5194440" y="5629320"/>
              <a:ext cx="4507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4929"/>
                </a:spcBef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hy another paradig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06440" y="1193760"/>
            <a:ext cx="807732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15"/>
              </a:spcBef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cause it addresses current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5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y distributed and heteroge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inherent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5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active as well as re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5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generalize client-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5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able and evol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interoperability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5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for us to model and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aking an “intentional stanc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5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s over many orders of magn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5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gents, not turtles, all the way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oftware Agent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397320" y="1574640"/>
            <a:ext cx="2351160" cy="2921040"/>
            <a:chOff x="3397320" y="1574640"/>
            <a:chExt cx="2351160" cy="2921040"/>
          </a:xfrm>
        </p:grpSpPr>
        <p:sp>
          <p:nvSpPr>
            <p:cNvPr id="126" name=""/>
            <p:cNvSpPr/>
            <p:nvPr/>
          </p:nvSpPr>
          <p:spPr>
            <a:xfrm>
              <a:off x="3454560" y="2209680"/>
              <a:ext cx="2286000" cy="2286000"/>
            </a:xfrm>
            <a:prstGeom prst="ellipse">
              <a:avLst/>
            </a:prstGeom>
            <a:noFill/>
            <a:ln w="203040">
              <a:solidFill>
                <a:srgbClr val="fc0128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397320" y="1574640"/>
              <a:ext cx="23511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Cooper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50960" y="3429000"/>
            <a:ext cx="4201920" cy="2286000"/>
            <a:chOff x="750960" y="3429000"/>
            <a:chExt cx="4201920" cy="2286000"/>
          </a:xfrm>
        </p:grpSpPr>
        <p:sp>
          <p:nvSpPr>
            <p:cNvPr id="129" name=""/>
            <p:cNvSpPr/>
            <p:nvPr/>
          </p:nvSpPr>
          <p:spPr>
            <a:xfrm>
              <a:off x="2666880" y="3429000"/>
              <a:ext cx="2286000" cy="2286000"/>
            </a:xfrm>
            <a:prstGeom prst="ellipse">
              <a:avLst/>
            </a:prstGeom>
            <a:noFill/>
            <a:ln w="203040">
              <a:solidFill>
                <a:srgbClr val="000000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750960" y="4923000"/>
              <a:ext cx="201312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nom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241880" y="3429000"/>
            <a:ext cx="4444920" cy="2286000"/>
            <a:chOff x="4241880" y="3429000"/>
            <a:chExt cx="4444920" cy="2286000"/>
          </a:xfrm>
        </p:grpSpPr>
        <p:sp>
          <p:nvSpPr>
            <p:cNvPr id="132" name=""/>
            <p:cNvSpPr/>
            <p:nvPr/>
          </p:nvSpPr>
          <p:spPr>
            <a:xfrm>
              <a:off x="4241880" y="3429000"/>
              <a:ext cx="2286000" cy="2286000"/>
            </a:xfrm>
            <a:prstGeom prst="ellipse">
              <a:avLst/>
            </a:prstGeom>
            <a:noFill/>
            <a:ln w="203040">
              <a:solidFill>
                <a:srgbClr val="00ff00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6537240" y="4846680"/>
              <a:ext cx="21495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Adapt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472000" y="6126120"/>
            <a:ext cx="307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Hyacinth Nwana,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Characteristic:  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2133720"/>
            <a:ext cx="3932280" cy="3504960"/>
            <a:chOff x="304920" y="2133720"/>
            <a:chExt cx="3932280" cy="3504960"/>
          </a:xfrm>
        </p:grpSpPr>
        <p:grpSp>
          <p:nvGrpSpPr>
            <p:cNvPr id="143" name=""/>
            <p:cNvGrpSpPr/>
            <p:nvPr/>
          </p:nvGrpSpPr>
          <p:grpSpPr>
            <a:xfrm>
              <a:off x="304920" y="2133720"/>
              <a:ext cx="3860640" cy="3504960"/>
              <a:chOff x="304920" y="2133720"/>
              <a:chExt cx="3860640" cy="3504960"/>
            </a:xfrm>
          </p:grpSpPr>
          <p:sp>
            <p:nvSpPr>
              <p:cNvPr id="144" name=""/>
              <p:cNvSpPr/>
              <p:nvPr/>
            </p:nvSpPr>
            <p:spPr>
              <a:xfrm>
                <a:off x="1092240" y="2133720"/>
                <a:ext cx="2286000" cy="2286000"/>
              </a:xfrm>
              <a:prstGeom prst="ellipse">
                <a:avLst/>
              </a:prstGeom>
              <a:noFill/>
              <a:ln w="203040">
                <a:solidFill>
                  <a:srgbClr val="fc0128"/>
                </a:solidFill>
                <a:round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79560" y="3352680"/>
                <a:ext cx="2286000" cy="2286000"/>
              </a:xfrm>
              <a:prstGeom prst="ellipse">
                <a:avLst/>
              </a:prstGeom>
              <a:noFill/>
              <a:ln w="203040">
                <a:solidFill>
                  <a:srgbClr val="00ff00"/>
                </a:solidFill>
                <a:round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4920" y="3352680"/>
                <a:ext cx="2286000" cy="2286000"/>
              </a:xfrm>
              <a:prstGeom prst="ellipse">
                <a:avLst/>
              </a:prstGeom>
              <a:noFill/>
              <a:ln w="203040">
                <a:solidFill>
                  <a:srgbClr val="000000"/>
                </a:solidFill>
                <a:round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 txBox="1"/>
            <p:nvPr/>
          </p:nvSpPr>
          <p:spPr>
            <a:xfrm>
              <a:off x="1309680" y="2655720"/>
              <a:ext cx="180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Coop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369720" y="4479840"/>
              <a:ext cx="1555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nom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579760" y="4403880"/>
              <a:ext cx="1657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 txBox="1"/>
          <p:nvPr/>
        </p:nvSpPr>
        <p:spPr>
          <a:xfrm>
            <a:off x="4419720" y="1473120"/>
            <a:ext cx="4572000" cy="261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2574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adapt to their environment and users and learn from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28600">
              <a:lnSpc>
                <a:spcPct val="100000"/>
              </a:lnSpc>
              <a:spcBef>
                <a:spcPts val="42574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machine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nowledge discovery, statistical techniqu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28600">
              <a:lnSpc>
                <a:spcPct val="100000"/>
              </a:lnSpc>
              <a:spcBef>
                <a:spcPts val="42574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communication through exchange of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rokering, and facil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28600">
              <a:lnSpc>
                <a:spcPct val="100000"/>
              </a:lnSpc>
              <a:spcBef>
                <a:spcPts val="42574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agents acquire and use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use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28600">
              <a:lnSpc>
                <a:spcPct val="100000"/>
              </a:lnSpc>
              <a:spcBef>
                <a:spcPts val="42574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uated in and aware of thei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24080" y="6553080"/>
            <a:ext cx="28954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Characteristic:  Co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4920" y="2133720"/>
            <a:ext cx="3932280" cy="3504960"/>
            <a:chOff x="304920" y="2133720"/>
            <a:chExt cx="3932280" cy="3504960"/>
          </a:xfrm>
        </p:grpSpPr>
        <p:grpSp>
          <p:nvGrpSpPr>
            <p:cNvPr id="159" name=""/>
            <p:cNvGrpSpPr/>
            <p:nvPr/>
          </p:nvGrpSpPr>
          <p:grpSpPr>
            <a:xfrm>
              <a:off x="304920" y="2133720"/>
              <a:ext cx="3860640" cy="3504960"/>
              <a:chOff x="304920" y="2133720"/>
              <a:chExt cx="3860640" cy="3504960"/>
            </a:xfrm>
          </p:grpSpPr>
          <p:sp>
            <p:nvSpPr>
              <p:cNvPr id="160" name=""/>
              <p:cNvSpPr/>
              <p:nvPr/>
            </p:nvSpPr>
            <p:spPr>
              <a:xfrm>
                <a:off x="1092240" y="2133720"/>
                <a:ext cx="2286000" cy="2286000"/>
              </a:xfrm>
              <a:prstGeom prst="ellipse">
                <a:avLst/>
              </a:prstGeom>
              <a:noFill/>
              <a:ln w="203040">
                <a:solidFill>
                  <a:srgbClr val="fc0128"/>
                </a:solidFill>
                <a:round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79560" y="3352680"/>
                <a:ext cx="2286000" cy="2286000"/>
              </a:xfrm>
              <a:prstGeom prst="ellipse">
                <a:avLst/>
              </a:prstGeom>
              <a:noFill/>
              <a:ln w="203040">
                <a:solidFill>
                  <a:srgbClr val="00ff00"/>
                </a:solidFill>
                <a:round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4920" y="3352680"/>
                <a:ext cx="2286000" cy="2286000"/>
              </a:xfrm>
              <a:prstGeom prst="ellipse">
                <a:avLst/>
              </a:prstGeom>
              <a:noFill/>
              <a:ln w="203040">
                <a:solidFill>
                  <a:srgbClr val="000000"/>
                </a:solidFill>
                <a:round/>
              </a:ln>
            </p:spPr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 txBox="1"/>
            <p:nvPr/>
          </p:nvSpPr>
          <p:spPr>
            <a:xfrm>
              <a:off x="1309680" y="2655720"/>
              <a:ext cx="180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Coop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369720" y="4479840"/>
              <a:ext cx="1555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onom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579760" y="4403880"/>
              <a:ext cx="1657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4572000" y="1346040"/>
            <a:ext cx="439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use standard languages &amp; protocols to cooperate and collaborate to achieve common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228600">
              <a:lnSpc>
                <a:spcPct val="100000"/>
              </a:lnSpc>
              <a:spcBef>
                <a:spcPts val="23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e with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hum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and other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228600">
              <a:lnSpc>
                <a:spcPct val="90000"/>
              </a:lnSpc>
              <a:spcBef>
                <a:spcPts val="23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 by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gent communication langua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228600">
              <a:lnSpc>
                <a:spcPct val="100000"/>
              </a:lnSpc>
              <a:spcBef>
                <a:spcPts val="23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t with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human conven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ntu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228600">
              <a:lnSpc>
                <a:spcPct val="100000"/>
              </a:lnSpc>
              <a:spcBef>
                <a:spcPts val="23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ward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tion and agent ensem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te Redding</dc:creator>
  <dc:description/>
  <dc:language>en-US</dc:language>
  <cp:lastModifiedBy>Tate Redding</cp:lastModifiedBy>
  <cp:revision>0</cp:revision>
  <dc:subject/>
  <dc:title>What's an  agent?</dc:title>
</cp:coreProperties>
</file>