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B12365-4E10-4E45-9FAA-59185F641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m not going to address that question. Because what KQML is about is the third requirement for a common langu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t have a shared pragmatic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t of rules for meeting a person and carrying on a convers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m going to extend the meaning of pragmatics here, just a bit :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t up a slide with an example of some KQML right a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ntax for KQML is si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raps the data/information i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ve inform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t is possible for a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ertise” is used to build routing and information servi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stream in stuff. This takes (I think) a KQML expression as a content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tion: Developed initially to support AR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t preexisting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it is just an application like any other. E.g.. it has its own rou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7188120" y="57240"/>
            <a:ext cx="1892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  <a:ea typeface="Times New Roman"/>
              </a:rPr>
              <a:t>Agent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image" Target="../media/image7.png"/><Relationship Id="rId12" Type="http://schemas.openxmlformats.org/officeDocument/2006/relationships/image" Target="../media/image8.wmf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29528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7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gent</a:t>
            </a:r>
            <a:br>
              <a:rPr sz="11700"/>
            </a:br>
            <a:r>
              <a:rPr b="1" lang="en-US" sz="117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Technology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Desiderata for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gent programming  langu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609480" y="304812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thre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communicat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security (communication &amp; exec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maintaining DBs and/or K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GUI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nteroperability features to support mediated architectures and component-based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669960" y="2041560"/>
            <a:ext cx="763596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hough many languages can be used for writing software agents, here are useful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What are people u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e agents require a language that supports mobility.  Some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signed to work in a sandbox: Java, Safe-Tcl, Safe-Python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 mobile languages: Telescript, Tacoma, Agent-Tcl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-based frameworks for mobile languages: Aglets, Voyager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ng agents can be written in your favorite programming langu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, C/C++, Lisp, Prolog, Smalltalk, Tcl, Per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 suitable agent-commun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7237440" y="6553080"/>
            <a:ext cx="19051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Example -- TKQ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457200" y="1371600"/>
            <a:ext cx="33526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QML application adds KQML functionality to any Tcl/Tk sh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simple route to high level communication among Tcl/Tk based ag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rporates tools for a facilitated environment (resource broker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s to KQML functions are converted to and from string representations automatical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QML implements a call-by-value-result mechanism to best mirror usage of C fun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s are registered dynamically for handling incoming mess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processing is interrupted by handler, and resumes when message handling is compl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4572000" y="1523880"/>
            <a:ext cx="4545000" cy="4572000"/>
            <a:chOff x="4572000" y="1523880"/>
            <a:chExt cx="4545000" cy="4572000"/>
          </a:xfrm>
        </p:grpSpPr>
        <p:sp>
          <p:nvSpPr>
            <p:cNvPr id="790" name=""/>
            <p:cNvSpPr/>
            <p:nvPr/>
          </p:nvSpPr>
          <p:spPr>
            <a:xfrm>
              <a:off x="6858000" y="2209680"/>
              <a:ext cx="2209680" cy="1295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562720" y="1523880"/>
              <a:ext cx="1752480" cy="9144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 txBox="1"/>
            <p:nvPr/>
          </p:nvSpPr>
          <p:spPr>
            <a:xfrm>
              <a:off x="4708440" y="3328920"/>
              <a:ext cx="3930480" cy="9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receiver bo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reply n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qml send_msg 0 tell 24 receiver rep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572000" y="4800600"/>
              <a:ext cx="1447920" cy="7621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 txBox="1"/>
            <p:nvPr/>
          </p:nvSpPr>
          <p:spPr>
            <a:xfrm>
              <a:off x="4784760" y="4975200"/>
              <a:ext cx="10288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KQM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ctio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334120" y="2514600"/>
              <a:ext cx="1295280" cy="6858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 txBox="1"/>
            <p:nvPr/>
          </p:nvSpPr>
          <p:spPr>
            <a:xfrm>
              <a:off x="5470560" y="2362320"/>
              <a:ext cx="110340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ies n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791320" y="5638680"/>
              <a:ext cx="144792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 txBox="1"/>
            <p:nvPr/>
          </p:nvSpPr>
          <p:spPr>
            <a:xfrm>
              <a:off x="5927760" y="5737320"/>
              <a:ext cx="11127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 txBox="1"/>
            <p:nvPr/>
          </p:nvSpPr>
          <p:spPr>
            <a:xfrm>
              <a:off x="5699160" y="1623960"/>
              <a:ext cx="147780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KQML wi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perly interpre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as a vari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5334120" y="4114800"/>
              <a:ext cx="304560" cy="685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6477120" y="4114800"/>
              <a:ext cx="228600" cy="1523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705720" y="4952880"/>
              <a:ext cx="914400" cy="457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 txBox="1"/>
            <p:nvPr/>
          </p:nvSpPr>
          <p:spPr>
            <a:xfrm>
              <a:off x="6765840" y="5051520"/>
              <a:ext cx="747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010280" y="4114800"/>
              <a:ext cx="152640" cy="838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 txBox="1"/>
            <p:nvPr/>
          </p:nvSpPr>
          <p:spPr>
            <a:xfrm>
              <a:off x="6918480" y="2309760"/>
              <a:ext cx="2198520" cy="1155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nce reply na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variable, TKQML wi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lock, and a reference to t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message will b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d in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400800" y="31240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477120" y="2438280"/>
              <a:ext cx="838080" cy="1524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001000" y="3505320"/>
              <a:ext cx="15228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 Sample TKQML Ag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61880" y="939960"/>
            <a:ext cx="3960720" cy="58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yName “MonA-[lrange $argv 0]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qml initialize my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A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subscribers “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qml register-script subscrib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new [kqml get_field :sender kqml_msg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lsearch $subscribers $new] == -1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subscribers [linsert $subscribers 0 $new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qml register-script unsubscrib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name [kqml get_field :sender kqml_msg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idx [lsearch $subscribers $nam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idx &gt;=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subscribers [lreplace $subscribers $idx $id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{1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AA $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A [toolkit prob_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AA != $A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ach sub $subscriber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qml send_msg 0 tell A sub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4308480" y="950760"/>
            <a:ext cx="471816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name specified on command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e agent, register with 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e A to 0 (not important to examp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e subscribers list to emp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the following script to handle subscribe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name of sender 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qml_msg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ways contains mess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ew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name to list of subscri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the following script to handle unsubscribe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name of s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e name in list of subscri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resent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name from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true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AA to the previous value of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e for new value of A (details not important to examp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value in question has changed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name on the subscriber list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a message reporting the new value of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 for some period, then 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228600" y="5335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gent Communicati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gent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n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ent-agent communication is the key to realizing the potential of this new paradigm, just as the development of human language was key to the development of human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ssume that agents use an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gent Communication Language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ACL to communication information and knowl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sereth (CACM, 92) defined a software agent as any system which uses an ACL to exchange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ome AC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152280" y="10666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ORBA an A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sharing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QML, KIF, Ont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hock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 SGI’s Open Agent Architectur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2239920" y="2394000"/>
            <a:ext cx="6597720" cy="3863880"/>
            <a:chOff x="2239920" y="2394000"/>
            <a:chExt cx="6597720" cy="3863880"/>
          </a:xfrm>
        </p:grpSpPr>
        <p:sp>
          <p:nvSpPr>
            <p:cNvPr id="832" name=""/>
            <p:cNvSpPr/>
            <p:nvPr/>
          </p:nvSpPr>
          <p:spPr>
            <a:xfrm>
              <a:off x="2695680" y="5877000"/>
              <a:ext cx="142884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524480" y="5877000"/>
              <a:ext cx="217188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409840" y="5591160"/>
              <a:ext cx="914400" cy="571680"/>
            </a:xfrm>
            <a:prstGeom prst="ellipse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519360" y="4619520"/>
              <a:ext cx="1096920" cy="685800"/>
            </a:xfrm>
            <a:prstGeom prst="ellipse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694400" y="3540240"/>
              <a:ext cx="1262160" cy="789120"/>
            </a:xfrm>
            <a:prstGeom prst="ellipse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143760" y="2394000"/>
              <a:ext cx="1450800" cy="907920"/>
            </a:xfrm>
            <a:prstGeom prst="ellipse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205080" y="5240160"/>
              <a:ext cx="486000" cy="279720"/>
            </a:xfrm>
            <a:custGeom>
              <a:avLst/>
              <a:gdLst/>
              <a:ahLst/>
              <a:rect l="0" t="0" r="r" b="b"/>
              <a:pathLst>
                <a:path w="1350" h="777">
                  <a:moveTo>
                    <a:pt x="0" y="258"/>
                  </a:moveTo>
                  <a:lnTo>
                    <a:pt x="0" y="517"/>
                  </a:lnTo>
                  <a:lnTo>
                    <a:pt x="945" y="517"/>
                  </a:lnTo>
                  <a:lnTo>
                    <a:pt x="945" y="777"/>
                  </a:lnTo>
                  <a:lnTo>
                    <a:pt x="1350" y="389"/>
                  </a:lnTo>
                  <a:lnTo>
                    <a:pt x="945" y="0"/>
                  </a:lnTo>
                  <a:lnTo>
                    <a:pt x="945" y="258"/>
                  </a:lnTo>
                  <a:lnTo>
                    <a:pt x="0" y="258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395960" y="4354560"/>
              <a:ext cx="576720" cy="281520"/>
            </a:xfrm>
            <a:custGeom>
              <a:avLst/>
              <a:gdLst/>
              <a:ahLst/>
              <a:rect l="0" t="0" r="r" b="b"/>
              <a:pathLst>
                <a:path w="1602" h="782">
                  <a:moveTo>
                    <a:pt x="0" y="260"/>
                  </a:moveTo>
                  <a:lnTo>
                    <a:pt x="0" y="520"/>
                  </a:lnTo>
                  <a:lnTo>
                    <a:pt x="1121" y="520"/>
                  </a:lnTo>
                  <a:lnTo>
                    <a:pt x="1121" y="782"/>
                  </a:lnTo>
                  <a:lnTo>
                    <a:pt x="1602" y="391"/>
                  </a:lnTo>
                  <a:lnTo>
                    <a:pt x="1121" y="0"/>
                  </a:lnTo>
                  <a:lnTo>
                    <a:pt x="1121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767560" y="3287880"/>
              <a:ext cx="692640" cy="314640"/>
            </a:xfrm>
            <a:custGeom>
              <a:avLst/>
              <a:gdLst/>
              <a:ahLst/>
              <a:rect l="0" t="0" r="r" b="b"/>
              <a:pathLst>
                <a:path w="1924" h="874">
                  <a:moveTo>
                    <a:pt x="0" y="290"/>
                  </a:moveTo>
                  <a:lnTo>
                    <a:pt x="0" y="582"/>
                  </a:lnTo>
                  <a:lnTo>
                    <a:pt x="1346" y="582"/>
                  </a:lnTo>
                  <a:lnTo>
                    <a:pt x="1346" y="874"/>
                  </a:lnTo>
                  <a:lnTo>
                    <a:pt x="1924" y="436"/>
                  </a:lnTo>
                  <a:lnTo>
                    <a:pt x="1346" y="0"/>
                  </a:lnTo>
                  <a:lnTo>
                    <a:pt x="1346" y="290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 txBox="1"/>
            <p:nvPr/>
          </p:nvSpPr>
          <p:spPr>
            <a:xfrm>
              <a:off x="3427560" y="5730840"/>
              <a:ext cx="2509920" cy="52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ared objects, procedure call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data structur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 txBox="1"/>
            <p:nvPr/>
          </p:nvSpPr>
          <p:spPr>
            <a:xfrm>
              <a:off x="4741920" y="4756320"/>
              <a:ext cx="2557440" cy="52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ared facts, rules, constraints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dures and knowled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 txBox="1"/>
            <p:nvPr/>
          </p:nvSpPr>
          <p:spPr>
            <a:xfrm>
              <a:off x="6056280" y="3727440"/>
              <a:ext cx="2266920" cy="52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ared beliefs, plans, goals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intention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 txBox="1"/>
            <p:nvPr/>
          </p:nvSpPr>
          <p:spPr>
            <a:xfrm>
              <a:off x="7656480" y="2471760"/>
              <a:ext cx="1181160" cy="75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are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perienc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strategi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 txBox="1"/>
            <p:nvPr/>
          </p:nvSpPr>
          <p:spPr>
            <a:xfrm>
              <a:off x="2239920" y="4944960"/>
              <a:ext cx="781200" cy="7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.g.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RB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P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 txBox="1"/>
            <p:nvPr/>
          </p:nvSpPr>
          <p:spPr>
            <a:xfrm>
              <a:off x="2397240" y="4259160"/>
              <a:ext cx="2519280" cy="28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.g., KQML, FIPA, KIF, Agle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 txBox="1"/>
            <p:nvPr/>
          </p:nvSpPr>
          <p:spPr>
            <a:xfrm>
              <a:off x="3836880" y="3287880"/>
              <a:ext cx="1295280" cy="28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.g., AgentTal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 txBox="1"/>
            <p:nvPr/>
          </p:nvSpPr>
          <p:spPr>
            <a:xfrm>
              <a:off x="3678120" y="4809960"/>
              <a:ext cx="806400" cy="40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nowled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ar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 txBox="1"/>
            <p:nvPr/>
          </p:nvSpPr>
          <p:spPr>
            <a:xfrm>
              <a:off x="4910040" y="3762360"/>
              <a:ext cx="858960" cy="434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n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ar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 txBox="1"/>
            <p:nvPr/>
          </p:nvSpPr>
          <p:spPr>
            <a:xfrm>
              <a:off x="6399360" y="2660760"/>
              <a:ext cx="1077840" cy="49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perient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a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 txBox="1"/>
            <p:nvPr/>
          </p:nvSpPr>
          <p:spPr>
            <a:xfrm>
              <a:off x="2579760" y="5722920"/>
              <a:ext cx="612720" cy="40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ar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763560" y="803160"/>
            <a:ext cx="761688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Knowledge Sharing Eff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504720" y="1771560"/>
            <a:ext cx="8134200" cy="409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KSE is a distributed research project involving over a dozen research groups aimed at developing techniques, methodologies and software tools for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knowledge sha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knowledge re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requires a common language (syntax, semantics, pragma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existing components that can be used independently or toge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F -- knowledge interchange format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(synt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tolingua - a language for defining sharable ontologies </a:t>
            </a:r>
            <a:r>
              <a:rPr b="0" i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(semant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QML - a high-level interaction language </a:t>
            </a:r>
            <a:r>
              <a:rPr b="0" i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(pragmat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706320" y="301680"/>
            <a:ext cx="77310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Knowledge Interchang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571680" y="3505320"/>
            <a:ext cx="8001000" cy="27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0040" indent="-230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F ~ First order logic with set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terlingua for encode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3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s translation among n systems from 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O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language for reusable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3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50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independent seman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3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50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ly expressive -- can represent knowledge in typical application knowledge b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3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50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latable -- into and out of typical application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1241280" y="887400"/>
            <a:ext cx="6010560" cy="2200320"/>
            <a:chOff x="1241280" y="887400"/>
            <a:chExt cx="6010560" cy="2200320"/>
          </a:xfrm>
        </p:grpSpPr>
        <p:grpSp>
          <p:nvGrpSpPr>
            <p:cNvPr id="865" name=""/>
            <p:cNvGrpSpPr/>
            <p:nvPr/>
          </p:nvGrpSpPr>
          <p:grpSpPr>
            <a:xfrm>
              <a:off x="1241280" y="1863720"/>
              <a:ext cx="2168640" cy="1224000"/>
              <a:chOff x="1241280" y="1863720"/>
              <a:chExt cx="2168640" cy="1224000"/>
            </a:xfrm>
          </p:grpSpPr>
          <p:sp>
            <p:nvSpPr>
              <p:cNvPr id="866" name=""/>
              <p:cNvSpPr/>
              <p:nvPr/>
            </p:nvSpPr>
            <p:spPr>
              <a:xfrm>
                <a:off x="1241280" y="1863720"/>
                <a:ext cx="2168640" cy="39528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241280" y="2247840"/>
                <a:ext cx="2168640" cy="83988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"/>
            <p:cNvSpPr/>
            <p:nvPr/>
          </p:nvSpPr>
          <p:spPr>
            <a:xfrm>
              <a:off x="1297080" y="2316240"/>
              <a:ext cx="1263600" cy="692280"/>
            </a:xfrm>
            <a:prstGeom prst="ellipse">
              <a:avLst/>
            </a:prstGeom>
            <a:solidFill>
              <a:srgbClr val="ff66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 txBox="1"/>
            <p:nvPr/>
          </p:nvSpPr>
          <p:spPr>
            <a:xfrm>
              <a:off x="1405080" y="2400480"/>
              <a:ext cx="104472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now. 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 txBox="1"/>
            <p:nvPr/>
          </p:nvSpPr>
          <p:spPr>
            <a:xfrm>
              <a:off x="1773360" y="2567160"/>
              <a:ext cx="2840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 txBox="1"/>
            <p:nvPr/>
          </p:nvSpPr>
          <p:spPr>
            <a:xfrm>
              <a:off x="1616040" y="2728800"/>
              <a:ext cx="63036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ng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 txBox="1"/>
            <p:nvPr/>
          </p:nvSpPr>
          <p:spPr>
            <a:xfrm>
              <a:off x="1303200" y="1911240"/>
              <a:ext cx="216072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IF &lt;-&gt; Lang1 Transl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 txBox="1"/>
            <p:nvPr/>
          </p:nvSpPr>
          <p:spPr>
            <a:xfrm>
              <a:off x="2631960" y="2679840"/>
              <a:ext cx="758880" cy="40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ys 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2286000" y="1190520"/>
              <a:ext cx="3819600" cy="0"/>
            </a:xfrm>
            <a:prstGeom prst="line">
              <a:avLst/>
            </a:prstGeom>
            <a:ln w="381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633840" y="2271600"/>
              <a:ext cx="1173240" cy="50976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 txBox="1"/>
            <p:nvPr/>
          </p:nvSpPr>
          <p:spPr>
            <a:xfrm>
              <a:off x="3751200" y="2325600"/>
              <a:ext cx="963720" cy="36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ibrar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7" name=""/>
            <p:cNvGrpSpPr/>
            <p:nvPr/>
          </p:nvGrpSpPr>
          <p:grpSpPr>
            <a:xfrm>
              <a:off x="5052960" y="1863720"/>
              <a:ext cx="2168640" cy="1224000"/>
              <a:chOff x="5052960" y="1863720"/>
              <a:chExt cx="2168640" cy="1224000"/>
            </a:xfrm>
          </p:grpSpPr>
          <p:sp>
            <p:nvSpPr>
              <p:cNvPr id="878" name=""/>
              <p:cNvSpPr/>
              <p:nvPr/>
            </p:nvSpPr>
            <p:spPr>
              <a:xfrm>
                <a:off x="5052960" y="1863720"/>
                <a:ext cx="2168640" cy="39528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052960" y="2247840"/>
                <a:ext cx="2168640" cy="83988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5121360" y="2316240"/>
              <a:ext cx="1251000" cy="6922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 txBox="1"/>
            <p:nvPr/>
          </p:nvSpPr>
          <p:spPr>
            <a:xfrm>
              <a:off x="5214960" y="2398680"/>
              <a:ext cx="104472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now. 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 txBox="1"/>
            <p:nvPr/>
          </p:nvSpPr>
          <p:spPr>
            <a:xfrm>
              <a:off x="5583240" y="2565360"/>
              <a:ext cx="2840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 txBox="1"/>
            <p:nvPr/>
          </p:nvSpPr>
          <p:spPr>
            <a:xfrm>
              <a:off x="5427720" y="2727360"/>
              <a:ext cx="63036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ng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 txBox="1"/>
            <p:nvPr/>
          </p:nvSpPr>
          <p:spPr>
            <a:xfrm>
              <a:off x="3405240" y="887400"/>
              <a:ext cx="1749600" cy="31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nowledge in KI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 txBox="1"/>
            <p:nvPr/>
          </p:nvSpPr>
          <p:spPr>
            <a:xfrm>
              <a:off x="5091120" y="1922400"/>
              <a:ext cx="216072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IF &lt;-&gt; Lang2 Transl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 txBox="1"/>
            <p:nvPr/>
          </p:nvSpPr>
          <p:spPr>
            <a:xfrm>
              <a:off x="6453360" y="2679840"/>
              <a:ext cx="758880" cy="40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ys 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2263680" y="1190520"/>
              <a:ext cx="20880" cy="669960"/>
            </a:xfrm>
            <a:prstGeom prst="line">
              <a:avLst/>
            </a:prstGeom>
            <a:ln w="38160">
              <a:solidFill>
                <a:srgbClr val="5f5f5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105600" y="1190520"/>
              <a:ext cx="0" cy="669960"/>
            </a:xfrm>
            <a:prstGeom prst="line">
              <a:avLst/>
            </a:prstGeom>
            <a:ln w="38160">
              <a:solidFill>
                <a:srgbClr val="5f5f5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4276800" y="1190520"/>
              <a:ext cx="0" cy="1036800"/>
            </a:xfrm>
            <a:prstGeom prst="line">
              <a:avLst/>
            </a:prstGeom>
            <a:ln w="38160">
              <a:solidFill>
                <a:srgbClr val="5f5f5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90360" y="547560"/>
            <a:ext cx="8658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KIF Syntax and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669960" y="1897200"/>
            <a:ext cx="7816680" cy="36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5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ed version of first order predicate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5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list-based linear ASCII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2174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 (forall ?x (=&gt; (P ?x) (Q ?x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5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-theoretic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5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iomatic specification of large function and relation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5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vocabulary for numbers, sets, and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gent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ill cover four aspects of technology related to building agent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90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archite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90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programming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90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e agent 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90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communication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763560" y="239760"/>
            <a:ext cx="761688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Common Semantics </a:t>
            </a:r>
            <a:br>
              <a:rPr sz="3600"/>
            </a:br>
            <a:r>
              <a:rPr b="1" lang="en-US" sz="3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hared Ontologies and Ontoling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406440" y="1739880"/>
            <a:ext cx="8331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Ontolog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common vocabulary and agreed upon meanings to describe a subject dom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1828800" y="262872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  <a:ea typeface="Times New Roman"/>
              </a:rPr>
              <a:t>On*tol"o*gy (?), n. [Gr. the things which exist (pl.neut. of , , being, p.pr. of to be) + -logy: cf.F. ontologie.]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department of the science of metaphysics which investigates and explain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nature and essential properties and relations of all bein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 such, or the principles and causes of be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969696"/>
                </a:solidFill>
                <a:latin typeface="Times New Roman"/>
                <a:ea typeface="Times New Roman"/>
              </a:rPr>
              <a:t>Webster's Revised Unabridged Dictionary (G &amp; C. Merriam Co., 1913, edited by Noah Por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608040" y="4575240"/>
            <a:ext cx="7010280" cy="18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not a profoundly new idea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20680">
              <a:lnSpc>
                <a:spcPct val="80000"/>
              </a:lnSpc>
              <a:spcBef>
                <a:spcPts val="215"/>
              </a:spcBef>
              <a:buClr>
                <a:srgbClr val="000000"/>
              </a:buClr>
              <a:buSzPct val="150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cabulary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20680">
              <a:lnSpc>
                <a:spcPct val="80000"/>
              </a:lnSpc>
              <a:spcBef>
                <a:spcPts val="215"/>
              </a:spcBef>
              <a:buClr>
                <a:srgbClr val="000000"/>
              </a:buClr>
              <a:buSzPct val="150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20680">
              <a:lnSpc>
                <a:spcPct val="80000"/>
              </a:lnSpc>
              <a:spcBef>
                <a:spcPts val="215"/>
              </a:spcBef>
              <a:buClr>
                <a:srgbClr val="000000"/>
              </a:buClr>
              <a:buSzPct val="150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ual schema (for a data b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20680">
              <a:lnSpc>
                <a:spcPct val="80000"/>
              </a:lnSpc>
              <a:spcBef>
                <a:spcPts val="215"/>
              </a:spcBef>
              <a:buClr>
                <a:srgbClr val="000000"/>
              </a:buClr>
              <a:buSzPct val="150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-subclass tax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20680">
              <a:lnSpc>
                <a:spcPct val="80000"/>
              </a:lnSpc>
              <a:spcBef>
                <a:spcPts val="215"/>
              </a:spcBef>
              <a:buClr>
                <a:srgbClr val="000000"/>
              </a:buClr>
              <a:buSzPct val="150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92040" y="324000"/>
            <a:ext cx="80550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Ont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673200" y="1447920"/>
            <a:ext cx="7797960" cy="46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ntology contains specification of concepts to be used for express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231840">
              <a:lnSpc>
                <a:spcPct val="70000"/>
              </a:lnSpc>
              <a:spcBef>
                <a:spcPts val="383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Types of entit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Relations an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231840">
              <a:lnSpc>
                <a:spcPct val="70000"/>
              </a:lnSpc>
              <a:spcBef>
                <a:spcPts val="383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Attributes and propert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tologies are distinguished from KBs not by their form, but by the role they play in represent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231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sus models for a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231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hasis on properties that hold in all si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231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hasis on classes rather than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231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ded to support multiple tasks an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231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change during problem solving and are suited for “compiling” into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231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satisfy a community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hasis on collaborativ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hasis on translation to multiple logical formal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231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for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700200" y="85680"/>
            <a:ext cx="7743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Conceptual Sche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3530520" y="4111560"/>
            <a:ext cx="52704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ce(x, y) =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’, y’) [</a:t>
            </a:r>
            <a:r>
              <a:rPr b="1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uto_part(x’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                  </a:t>
            </a:r>
            <a:r>
              <a:rPr b="1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&amp; stock_no(x’) = 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tail_price(x’, y’, Value-In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magnitude(y’, US_dollars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3645000" y="2932200"/>
            <a:ext cx="3581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: pri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*stockNo: integer;  cost: 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3710160" y="1741320"/>
            <a:ext cx="1155600" cy="915840"/>
            <a:chOff x="3710160" y="1741320"/>
            <a:chExt cx="1155600" cy="915840"/>
          </a:xfrm>
        </p:grpSpPr>
        <p:sp>
          <p:nvSpPr>
            <p:cNvPr id="918" name=""/>
            <p:cNvSpPr txBox="1"/>
            <p:nvPr/>
          </p:nvSpPr>
          <p:spPr>
            <a:xfrm>
              <a:off x="3710160" y="1741320"/>
              <a:ext cx="1155600" cy="9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9  74.50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  77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   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714840" y="1787400"/>
              <a:ext cx="1117440" cy="254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714840" y="2041560"/>
              <a:ext cx="1117440" cy="254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714840" y="2295360"/>
              <a:ext cx="1117440" cy="254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714840" y="1787400"/>
              <a:ext cx="507960" cy="254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714840" y="2041560"/>
              <a:ext cx="507960" cy="254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714840" y="2295360"/>
              <a:ext cx="507960" cy="254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"/>
          <p:cNvSpPr txBox="1"/>
          <p:nvPr/>
        </p:nvSpPr>
        <p:spPr>
          <a:xfrm>
            <a:off x="1424160" y="1928880"/>
            <a:ext cx="1638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839880" y="299556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Base Sch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674640" y="4683240"/>
            <a:ext cx="29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ceptual Sch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781200" y="838080"/>
            <a:ext cx="75819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ceptual schema specifies the intended meaning of concepts used in a data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H="1" flipV="1">
            <a:off x="5587920" y="5764320"/>
            <a:ext cx="536760" cy="419040"/>
          </a:xfrm>
          <a:prstGeom prst="line">
            <a:avLst/>
          </a:prstGeom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7081920" y="3456000"/>
            <a:ext cx="108576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6400800" y="4135320"/>
            <a:ext cx="776160" cy="588960"/>
          </a:xfrm>
          <a:prstGeom prst="line">
            <a:avLst/>
          </a:prstGeom>
          <a:ln w="381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7101000" y="4659480"/>
            <a:ext cx="583920" cy="444240"/>
          </a:xfrm>
          <a:prstGeom prst="line">
            <a:avLst/>
          </a:prstGeom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7666200" y="4456080"/>
            <a:ext cx="10857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6164280" y="6099120"/>
            <a:ext cx="11239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Units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534960" y="709560"/>
            <a:ext cx="77691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Ontology Library and Editing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3114720" y="2319480"/>
            <a:ext cx="5798880" cy="4049640"/>
            <a:chOff x="3114720" y="2319480"/>
            <a:chExt cx="5798880" cy="4049640"/>
          </a:xfrm>
        </p:grpSpPr>
        <p:sp>
          <p:nvSpPr>
            <p:cNvPr id="941" name=""/>
            <p:cNvSpPr txBox="1"/>
            <p:nvPr/>
          </p:nvSpPr>
          <p:spPr>
            <a:xfrm>
              <a:off x="5473800" y="3056040"/>
              <a:ext cx="689040" cy="43020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odels of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ac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42" name="" descr=""/>
            <p:cNvPicPr/>
            <p:nvPr/>
          </p:nvPicPr>
          <p:blipFill>
            <a:blip r:embed="rId1"/>
            <a:stretch/>
          </p:blipFill>
          <p:spPr>
            <a:xfrm>
              <a:off x="5915160" y="5424480"/>
              <a:ext cx="1066680" cy="94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3" name=""/>
            <p:cNvGrpSpPr/>
            <p:nvPr/>
          </p:nvGrpSpPr>
          <p:grpSpPr>
            <a:xfrm>
              <a:off x="6197760" y="5040360"/>
              <a:ext cx="660600" cy="319320"/>
              <a:chOff x="6197760" y="5040360"/>
              <a:chExt cx="660600" cy="319320"/>
            </a:xfrm>
          </p:grpSpPr>
          <p:sp>
            <p:nvSpPr>
              <p:cNvPr id="944" name=""/>
              <p:cNvSpPr/>
              <p:nvPr/>
            </p:nvSpPr>
            <p:spPr>
              <a:xfrm>
                <a:off x="6548400" y="5040360"/>
                <a:ext cx="309960" cy="308160"/>
              </a:xfrm>
              <a:custGeom>
                <a:avLst/>
                <a:gdLst/>
                <a:ahLst/>
                <a:rect l="0" t="0" r="r" b="b"/>
                <a:pathLst>
                  <a:path w="861" h="856">
                    <a:moveTo>
                      <a:pt x="287" y="856"/>
                    </a:moveTo>
                    <a:lnTo>
                      <a:pt x="573" y="856"/>
                    </a:lnTo>
                    <a:lnTo>
                      <a:pt x="573" y="256"/>
                    </a:lnTo>
                    <a:lnTo>
                      <a:pt x="861" y="256"/>
                    </a:lnTo>
                    <a:lnTo>
                      <a:pt x="430" y="0"/>
                    </a:lnTo>
                    <a:lnTo>
                      <a:pt x="0" y="256"/>
                    </a:lnTo>
                    <a:lnTo>
                      <a:pt x="287" y="256"/>
                    </a:lnTo>
                    <a:lnTo>
                      <a:pt x="287" y="856"/>
                    </a:lnTo>
                    <a:close/>
                  </a:path>
                </a:pathLst>
              </a:custGeom>
              <a:solidFill>
                <a:srgbClr val="a2c1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197760" y="5049720"/>
                <a:ext cx="311400" cy="309960"/>
              </a:xfrm>
              <a:custGeom>
                <a:avLst/>
                <a:gdLst/>
                <a:ahLst/>
                <a:rect l="0" t="0" r="r" b="b"/>
                <a:pathLst>
                  <a:path w="865" h="861">
                    <a:moveTo>
                      <a:pt x="287" y="0"/>
                    </a:moveTo>
                    <a:lnTo>
                      <a:pt x="576" y="0"/>
                    </a:lnTo>
                    <a:lnTo>
                      <a:pt x="576" y="602"/>
                    </a:lnTo>
                    <a:lnTo>
                      <a:pt x="865" y="602"/>
                    </a:lnTo>
                    <a:lnTo>
                      <a:pt x="433" y="861"/>
                    </a:lnTo>
                    <a:lnTo>
                      <a:pt x="0" y="602"/>
                    </a:lnTo>
                    <a:lnTo>
                      <a:pt x="287" y="602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a2c1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6" name=""/>
            <p:cNvSpPr txBox="1"/>
            <p:nvPr/>
          </p:nvSpPr>
          <p:spPr>
            <a:xfrm>
              <a:off x="4132440" y="4228920"/>
              <a:ext cx="912960" cy="763560"/>
            </a:xfrm>
            <a:prstGeom prst="rect">
              <a:avLst/>
            </a:prstGeom>
            <a:noFill/>
            <a:ln w="25560">
              <a:solidFill>
                <a:srgbClr val="081d5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  <a:ea typeface="Arial"/>
                </a:rPr>
                <a:t>Brows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 txBox="1"/>
            <p:nvPr/>
          </p:nvSpPr>
          <p:spPr>
            <a:xfrm>
              <a:off x="5095800" y="4228920"/>
              <a:ext cx="912960" cy="763560"/>
            </a:xfrm>
            <a:prstGeom prst="rect">
              <a:avLst/>
            </a:prstGeom>
            <a:noFill/>
            <a:ln w="25560">
              <a:solidFill>
                <a:srgbClr val="cf0e3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  <a:ea typeface="Arial"/>
                </a:rPr>
                <a:t>Compa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 txBox="1"/>
            <p:nvPr/>
          </p:nvSpPr>
          <p:spPr>
            <a:xfrm>
              <a:off x="6059520" y="4228920"/>
              <a:ext cx="912960" cy="763560"/>
            </a:xfrm>
            <a:prstGeom prst="rect">
              <a:avLst/>
            </a:prstGeom>
            <a:noFill/>
            <a:ln w="25560">
              <a:solidFill>
                <a:srgbClr val="081d5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  <a:ea typeface="Arial"/>
                </a:rPr>
                <a:t>Compos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 txBox="1"/>
            <p:nvPr/>
          </p:nvSpPr>
          <p:spPr>
            <a:xfrm>
              <a:off x="7020000" y="4228920"/>
              <a:ext cx="912960" cy="763560"/>
            </a:xfrm>
            <a:prstGeom prst="rect">
              <a:avLst/>
            </a:prstGeom>
            <a:noFill/>
            <a:ln w="25560">
              <a:solidFill>
                <a:srgbClr val="081d5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  <a:ea typeface="Arial"/>
                </a:rPr>
                <a:t>Exten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 txBox="1"/>
            <p:nvPr/>
          </p:nvSpPr>
          <p:spPr>
            <a:xfrm>
              <a:off x="7985160" y="4228920"/>
              <a:ext cx="911160" cy="763560"/>
            </a:xfrm>
            <a:prstGeom prst="rect">
              <a:avLst/>
            </a:prstGeom>
            <a:noFill/>
            <a:ln w="25560">
              <a:solidFill>
                <a:srgbClr val="cf0e3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  <a:ea typeface="Arial"/>
                </a:rPr>
                <a:t>Chec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4384800" y="4468680"/>
              <a:ext cx="190440" cy="13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579920" y="4473720"/>
              <a:ext cx="0" cy="129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578480" y="4468680"/>
              <a:ext cx="179280" cy="13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4662360" y="4603680"/>
              <a:ext cx="100080" cy="144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768920" y="4608360"/>
              <a:ext cx="85680" cy="13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4275000" y="4608360"/>
              <a:ext cx="104760" cy="139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389480" y="4613400"/>
              <a:ext cx="0" cy="134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408560" y="4618080"/>
              <a:ext cx="84240" cy="13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668840" y="4743360"/>
              <a:ext cx="85680" cy="13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4564080" y="4749840"/>
              <a:ext cx="100080" cy="14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533840" y="4433760"/>
              <a:ext cx="81000" cy="698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533840" y="4568760"/>
              <a:ext cx="81000" cy="698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349880" y="4568760"/>
              <a:ext cx="79200" cy="6984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719600" y="4568760"/>
              <a:ext cx="79200" cy="698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352760" y="4708440"/>
              <a:ext cx="79200" cy="698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248000" y="4708440"/>
              <a:ext cx="79200" cy="698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629240" y="4708440"/>
              <a:ext cx="81000" cy="698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ad6900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452840" y="4708440"/>
              <a:ext cx="79200" cy="698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809960" y="4708440"/>
              <a:ext cx="79200" cy="698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fc0128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529160" y="4843440"/>
              <a:ext cx="81000" cy="698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ad6900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710240" y="4843440"/>
              <a:ext cx="79200" cy="698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ad6900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5657760" y="4446720"/>
              <a:ext cx="285840" cy="344520"/>
              <a:chOff x="5657760" y="4446720"/>
              <a:chExt cx="285840" cy="34452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5684760" y="4486320"/>
                <a:ext cx="10476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800680" y="449280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819760" y="4497480"/>
                <a:ext cx="8568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759280" y="4446720"/>
                <a:ext cx="81000" cy="698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762520" y="4586400"/>
                <a:ext cx="810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657760" y="4586400"/>
                <a:ext cx="810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862600" y="4586400"/>
                <a:ext cx="81000" cy="6984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799240" y="4621320"/>
                <a:ext cx="85680" cy="12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5708520" y="4627440"/>
                <a:ext cx="842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759280" y="4586400"/>
                <a:ext cx="81000" cy="698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675400" y="4721400"/>
                <a:ext cx="792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840280" y="4721400"/>
                <a:ext cx="792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 txBox="1"/>
            <p:nvPr/>
          </p:nvSpPr>
          <p:spPr>
            <a:xfrm>
              <a:off x="5429160" y="4489560"/>
              <a:ext cx="22212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969696"/>
                  </a:solidFill>
                  <a:latin typeface="Arial"/>
                  <a:ea typeface="Arial"/>
                </a:rPr>
                <a:t>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"/>
            <p:cNvGrpSpPr/>
            <p:nvPr/>
          </p:nvGrpSpPr>
          <p:grpSpPr>
            <a:xfrm>
              <a:off x="5173560" y="4446720"/>
              <a:ext cx="284040" cy="209520"/>
              <a:chOff x="5173560" y="4446720"/>
              <a:chExt cx="284040" cy="209520"/>
            </a:xfrm>
          </p:grpSpPr>
          <p:sp>
            <p:nvSpPr>
              <p:cNvPr id="987" name=""/>
              <p:cNvSpPr/>
              <p:nvPr/>
            </p:nvSpPr>
            <p:spPr>
              <a:xfrm flipH="1">
                <a:off x="5197320" y="4486320"/>
                <a:ext cx="10656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15040" y="449280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334120" y="4497480"/>
                <a:ext cx="8568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275440" y="4446720"/>
                <a:ext cx="79200" cy="698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278320" y="4586400"/>
                <a:ext cx="792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173560" y="4586400"/>
                <a:ext cx="792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378400" y="4586400"/>
                <a:ext cx="792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6246720" y="4448160"/>
              <a:ext cx="507960" cy="345960"/>
              <a:chOff x="6246720" y="4448160"/>
              <a:chExt cx="507960" cy="345960"/>
            </a:xfrm>
          </p:grpSpPr>
          <p:sp>
            <p:nvSpPr>
              <p:cNvPr id="995" name=""/>
              <p:cNvSpPr/>
              <p:nvPr/>
            </p:nvSpPr>
            <p:spPr>
              <a:xfrm flipH="1">
                <a:off x="6402240" y="4487760"/>
                <a:ext cx="9396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502320" y="449424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505560" y="4498920"/>
                <a:ext cx="10008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465960" y="4587840"/>
                <a:ext cx="792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359400" y="4587840"/>
                <a:ext cx="810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602400" y="4622760"/>
                <a:ext cx="8424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H="1">
                <a:off x="6523200" y="4629240"/>
                <a:ext cx="8568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486480" y="4722840"/>
                <a:ext cx="81000" cy="712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round/>
              </a:ln>
            </p:spPr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642000" y="4722840"/>
                <a:ext cx="79200" cy="712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round/>
              </a:ln>
            </p:spPr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H="1">
                <a:off x="6283440" y="4478400"/>
                <a:ext cx="2253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507000" y="4483080"/>
                <a:ext cx="21456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461280" y="4448160"/>
                <a:ext cx="81000" cy="698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246720" y="4587840"/>
                <a:ext cx="792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675480" y="4587840"/>
                <a:ext cx="79200" cy="6984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566040" y="4587840"/>
                <a:ext cx="79200" cy="698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7139160" y="4448160"/>
              <a:ext cx="610920" cy="485640"/>
              <a:chOff x="7139160" y="4448160"/>
              <a:chExt cx="610920" cy="485640"/>
            </a:xfrm>
          </p:grpSpPr>
          <p:sp>
            <p:nvSpPr>
              <p:cNvPr id="1011" name=""/>
              <p:cNvSpPr/>
              <p:nvPr/>
            </p:nvSpPr>
            <p:spPr>
              <a:xfrm flipH="1">
                <a:off x="7397640" y="4487760"/>
                <a:ext cx="9360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497720" y="449424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500960" y="4498920"/>
                <a:ext cx="10008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59560" y="4587840"/>
                <a:ext cx="810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354800" y="4587840"/>
                <a:ext cx="810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597800" y="4622760"/>
                <a:ext cx="8424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>
                <a:off x="7518240" y="4629240"/>
                <a:ext cx="860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481880" y="4722840"/>
                <a:ext cx="79200" cy="712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round/>
              </a:ln>
            </p:spPr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637400" y="4722840"/>
                <a:ext cx="79200" cy="712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round/>
              </a:ln>
            </p:spPr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>
                <a:off x="7278840" y="4478400"/>
                <a:ext cx="2253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502400" y="4483080"/>
                <a:ext cx="21456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456320" y="4448160"/>
                <a:ext cx="81000" cy="698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242120" y="4587840"/>
                <a:ext cx="792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670880" y="4587840"/>
                <a:ext cx="79200" cy="6984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559640" y="4587840"/>
                <a:ext cx="81000" cy="698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>
                <a:off x="7167600" y="4629240"/>
                <a:ext cx="1047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280280" y="463392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300800" y="4638600"/>
                <a:ext cx="8424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240680" y="4587840"/>
                <a:ext cx="79200" cy="69840"/>
              </a:xfrm>
              <a:prstGeom prst="ellipse">
                <a:avLst/>
              </a:prstGeom>
              <a:solidFill>
                <a:srgbClr val="fafd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139160" y="4729320"/>
                <a:ext cx="79200" cy="698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343640" y="4729320"/>
                <a:ext cx="79200" cy="698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277040" y="4764240"/>
                <a:ext cx="84240" cy="12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7197840" y="4768920"/>
                <a:ext cx="8568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161120" y="4863960"/>
                <a:ext cx="81000" cy="698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316640" y="4857840"/>
                <a:ext cx="81000" cy="71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round/>
              </a:ln>
            </p:spPr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243920" y="4729320"/>
                <a:ext cx="79200" cy="698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8109000" y="4448160"/>
              <a:ext cx="610920" cy="485640"/>
              <a:chOff x="8109000" y="4448160"/>
              <a:chExt cx="610920" cy="485640"/>
            </a:xfrm>
          </p:grpSpPr>
          <p:sp>
            <p:nvSpPr>
              <p:cNvPr id="1038" name=""/>
              <p:cNvSpPr/>
              <p:nvPr/>
            </p:nvSpPr>
            <p:spPr>
              <a:xfrm flipH="1">
                <a:off x="8369280" y="4487760"/>
                <a:ext cx="9540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8467560" y="449424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8472600" y="4498920"/>
                <a:ext cx="10008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8431200" y="4587840"/>
                <a:ext cx="792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325000" y="4587840"/>
                <a:ext cx="810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567640" y="4622760"/>
                <a:ext cx="8424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8488440" y="4629240"/>
                <a:ext cx="8568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451720" y="4722840"/>
                <a:ext cx="81000" cy="712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round/>
              </a:ln>
            </p:spPr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607600" y="4722840"/>
                <a:ext cx="79200" cy="712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round/>
              </a:ln>
            </p:spPr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H="1">
                <a:off x="8248680" y="4478400"/>
                <a:ext cx="2253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472600" y="4483080"/>
                <a:ext cx="21420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426520" y="4448160"/>
                <a:ext cx="81000" cy="698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211960" y="4587840"/>
                <a:ext cx="792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640720" y="4587840"/>
                <a:ext cx="79200" cy="6984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531280" y="4587840"/>
                <a:ext cx="79200" cy="698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H="1">
                <a:off x="8137440" y="4629240"/>
                <a:ext cx="1047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250120" y="463392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271000" y="4638600"/>
                <a:ext cx="8388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210520" y="4587840"/>
                <a:ext cx="79200" cy="69840"/>
              </a:xfrm>
              <a:prstGeom prst="ellipse">
                <a:avLst/>
              </a:prstGeom>
              <a:solidFill>
                <a:srgbClr val="fafd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109000" y="4729320"/>
                <a:ext cx="79200" cy="698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313840" y="4729320"/>
                <a:ext cx="79200" cy="698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248680" y="4764240"/>
                <a:ext cx="85680" cy="12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8167680" y="4768920"/>
                <a:ext cx="842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132760" y="4863960"/>
                <a:ext cx="79200" cy="698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286840" y="4857840"/>
                <a:ext cx="81000" cy="71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round/>
              </a:ln>
            </p:spPr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213760" y="4729320"/>
                <a:ext cx="79200" cy="698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4" name=""/>
            <p:cNvSpPr txBox="1"/>
            <p:nvPr/>
          </p:nvSpPr>
          <p:spPr>
            <a:xfrm>
              <a:off x="8462880" y="4413240"/>
              <a:ext cx="235080" cy="20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 txBox="1"/>
            <p:nvPr/>
          </p:nvSpPr>
          <p:spPr>
            <a:xfrm>
              <a:off x="8667720" y="4564080"/>
              <a:ext cx="235080" cy="20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 txBox="1"/>
            <p:nvPr/>
          </p:nvSpPr>
          <p:spPr>
            <a:xfrm>
              <a:off x="8656560" y="4699080"/>
              <a:ext cx="235080" cy="20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 txBox="1"/>
            <p:nvPr/>
          </p:nvSpPr>
          <p:spPr>
            <a:xfrm>
              <a:off x="8362800" y="4843440"/>
              <a:ext cx="235080" cy="20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 txBox="1"/>
            <p:nvPr/>
          </p:nvSpPr>
          <p:spPr>
            <a:xfrm>
              <a:off x="3116160" y="4368960"/>
              <a:ext cx="792000" cy="53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969696"/>
                  </a:solidFill>
                  <a:latin typeface="Arial"/>
                  <a:ea typeface="Arial"/>
                </a:rPr>
                <a:t>Editi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969696"/>
                  </a:solidFill>
                  <a:latin typeface="Arial"/>
                  <a:ea typeface="Arial"/>
                </a:rPr>
                <a:t>Tool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 txBox="1"/>
            <p:nvPr/>
          </p:nvSpPr>
          <p:spPr>
            <a:xfrm>
              <a:off x="3114720" y="2976480"/>
              <a:ext cx="792000" cy="53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969696"/>
                  </a:solidFill>
                  <a:latin typeface="Arial"/>
                  <a:ea typeface="Arial"/>
                </a:rPr>
                <a:t>Share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969696"/>
                  </a:solidFill>
                  <a:latin typeface="Arial"/>
                  <a:ea typeface="Arial"/>
                </a:rPr>
                <a:t>Librar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0" name=""/>
            <p:cNvGrpSpPr/>
            <p:nvPr/>
          </p:nvGrpSpPr>
          <p:grpSpPr>
            <a:xfrm>
              <a:off x="6197760" y="3867120"/>
              <a:ext cx="660600" cy="316440"/>
              <a:chOff x="6197760" y="3867120"/>
              <a:chExt cx="660600" cy="316440"/>
            </a:xfrm>
          </p:grpSpPr>
          <p:sp>
            <p:nvSpPr>
              <p:cNvPr id="1071" name=""/>
              <p:cNvSpPr/>
              <p:nvPr/>
            </p:nvSpPr>
            <p:spPr>
              <a:xfrm>
                <a:off x="6548400" y="3867120"/>
                <a:ext cx="309960" cy="306720"/>
              </a:xfrm>
              <a:custGeom>
                <a:avLst/>
                <a:gdLst/>
                <a:ahLst/>
                <a:rect l="0" t="0" r="r" b="b"/>
                <a:pathLst>
                  <a:path w="861" h="852">
                    <a:moveTo>
                      <a:pt x="287" y="852"/>
                    </a:moveTo>
                    <a:lnTo>
                      <a:pt x="573" y="852"/>
                    </a:lnTo>
                    <a:lnTo>
                      <a:pt x="573" y="255"/>
                    </a:lnTo>
                    <a:lnTo>
                      <a:pt x="861" y="255"/>
                    </a:lnTo>
                    <a:lnTo>
                      <a:pt x="430" y="0"/>
                    </a:lnTo>
                    <a:lnTo>
                      <a:pt x="0" y="255"/>
                    </a:lnTo>
                    <a:lnTo>
                      <a:pt x="287" y="255"/>
                    </a:lnTo>
                    <a:lnTo>
                      <a:pt x="287" y="852"/>
                    </a:lnTo>
                    <a:close/>
                  </a:path>
                </a:pathLst>
              </a:custGeom>
              <a:solidFill>
                <a:srgbClr val="a2c1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197760" y="3876840"/>
                <a:ext cx="311400" cy="306720"/>
              </a:xfrm>
              <a:custGeom>
                <a:avLst/>
                <a:gdLst/>
                <a:ahLst/>
                <a:rect l="0" t="0" r="r" b="b"/>
                <a:pathLst>
                  <a:path w="865" h="852">
                    <a:moveTo>
                      <a:pt x="287" y="0"/>
                    </a:moveTo>
                    <a:lnTo>
                      <a:pt x="576" y="0"/>
                    </a:lnTo>
                    <a:lnTo>
                      <a:pt x="576" y="596"/>
                    </a:lnTo>
                    <a:lnTo>
                      <a:pt x="865" y="596"/>
                    </a:lnTo>
                    <a:lnTo>
                      <a:pt x="433" y="852"/>
                    </a:lnTo>
                    <a:lnTo>
                      <a:pt x="0" y="596"/>
                    </a:lnTo>
                    <a:lnTo>
                      <a:pt x="287" y="596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a2c1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"/>
            <p:cNvSpPr txBox="1"/>
            <p:nvPr/>
          </p:nvSpPr>
          <p:spPr>
            <a:xfrm>
              <a:off x="4103640" y="2657520"/>
              <a:ext cx="1379520" cy="82404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3530"/>
                  </a:solidFill>
                  <a:latin typeface="Arial"/>
                  <a:ea typeface="Arial"/>
                </a:rPr>
                <a:t>WordNe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3530"/>
                  </a:solidFill>
                  <a:latin typeface="Arial"/>
                  <a:ea typeface="Arial"/>
                </a:rPr>
                <a:t>Penman Ontolog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3530"/>
                  </a:solidFill>
                  <a:latin typeface="Arial"/>
                  <a:ea typeface="Arial"/>
                </a:rPr>
                <a:t>CYC Upper Ontolog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 txBox="1"/>
            <p:nvPr/>
          </p:nvSpPr>
          <p:spPr>
            <a:xfrm>
              <a:off x="5473800" y="2646360"/>
              <a:ext cx="689040" cy="43020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odels of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im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 txBox="1"/>
            <p:nvPr/>
          </p:nvSpPr>
          <p:spPr>
            <a:xfrm>
              <a:off x="6162840" y="3056040"/>
              <a:ext cx="690480" cy="43020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ysic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ject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 txBox="1"/>
            <p:nvPr/>
          </p:nvSpPr>
          <p:spPr>
            <a:xfrm>
              <a:off x="6162840" y="2646360"/>
              <a:ext cx="690480" cy="43020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tion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&amp; Causality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 txBox="1"/>
            <p:nvPr/>
          </p:nvSpPr>
          <p:spPr>
            <a:xfrm>
              <a:off x="4141800" y="2320920"/>
              <a:ext cx="1251000" cy="34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  <a:ea typeface="Arial"/>
                </a:rPr>
                <a:t>Lexicons &amp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  <a:ea typeface="Arial"/>
                </a:rPr>
                <a:t>Skeleton Ontologi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 txBox="1"/>
            <p:nvPr/>
          </p:nvSpPr>
          <p:spPr>
            <a:xfrm>
              <a:off x="5711760" y="2319480"/>
              <a:ext cx="1365120" cy="34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  <a:ea typeface="Arial"/>
                </a:rPr>
                <a:t>Comm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  <a:ea typeface="Arial"/>
                </a:rPr>
                <a:t>Ontologies &amp; Theori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 txBox="1"/>
            <p:nvPr/>
          </p:nvSpPr>
          <p:spPr>
            <a:xfrm>
              <a:off x="6843600" y="3056040"/>
              <a:ext cx="690480" cy="43020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eography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&amp; Terrai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 txBox="1"/>
            <p:nvPr/>
          </p:nvSpPr>
          <p:spPr>
            <a:xfrm>
              <a:off x="6843600" y="2646360"/>
              <a:ext cx="690480" cy="43020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ituation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&amp; Context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532400" y="2770200"/>
              <a:ext cx="52056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2" name=""/>
            <p:cNvGrpSpPr/>
            <p:nvPr/>
          </p:nvGrpSpPr>
          <p:grpSpPr>
            <a:xfrm>
              <a:off x="4910040" y="2871720"/>
              <a:ext cx="284040" cy="209520"/>
              <a:chOff x="4910040" y="2871720"/>
              <a:chExt cx="284040" cy="209520"/>
            </a:xfrm>
          </p:grpSpPr>
          <p:sp>
            <p:nvSpPr>
              <p:cNvPr id="1083" name=""/>
              <p:cNvSpPr/>
              <p:nvPr/>
            </p:nvSpPr>
            <p:spPr>
              <a:xfrm flipH="1">
                <a:off x="4938840" y="2911320"/>
                <a:ext cx="1047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052960" y="291456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072040" y="2919240"/>
                <a:ext cx="8424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013360" y="2871720"/>
                <a:ext cx="79200" cy="698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014800" y="3011400"/>
                <a:ext cx="792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4910040" y="3011400"/>
                <a:ext cx="792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114880" y="3011400"/>
                <a:ext cx="792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0" name=""/>
            <p:cNvSpPr/>
            <p:nvPr/>
          </p:nvSpPr>
          <p:spPr>
            <a:xfrm flipH="1">
              <a:off x="4348080" y="2776680"/>
              <a:ext cx="190440" cy="134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543560" y="2782800"/>
              <a:ext cx="0" cy="13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541760" y="2778120"/>
              <a:ext cx="179640" cy="13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4626000" y="2911320"/>
              <a:ext cx="100080" cy="144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732200" y="2917800"/>
              <a:ext cx="86040" cy="13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4238640" y="2917800"/>
              <a:ext cx="104760" cy="139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352760" y="292104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371840" y="2925720"/>
              <a:ext cx="84240" cy="13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497480" y="2743200"/>
              <a:ext cx="81000" cy="698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497480" y="2878200"/>
              <a:ext cx="81000" cy="698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313160" y="2878200"/>
              <a:ext cx="79200" cy="6984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83240" y="2878200"/>
              <a:ext cx="79200" cy="698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314960" y="3017880"/>
              <a:ext cx="79200" cy="698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210200" y="3017880"/>
              <a:ext cx="79200" cy="698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592520" y="3017880"/>
              <a:ext cx="81000" cy="698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ad6900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414680" y="3017880"/>
              <a:ext cx="79200" cy="698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773600" y="3017880"/>
              <a:ext cx="79200" cy="698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ad6900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5010120" y="3011400"/>
              <a:ext cx="284040" cy="344520"/>
              <a:chOff x="5010120" y="3011400"/>
              <a:chExt cx="284040" cy="344520"/>
            </a:xfrm>
          </p:grpSpPr>
          <p:sp>
            <p:nvSpPr>
              <p:cNvPr id="1108" name=""/>
              <p:cNvSpPr/>
              <p:nvPr/>
            </p:nvSpPr>
            <p:spPr>
              <a:xfrm flipH="1">
                <a:off x="5038560" y="3051000"/>
                <a:ext cx="10512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153040" y="305424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172120" y="3059280"/>
                <a:ext cx="84240" cy="13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113440" y="3011400"/>
                <a:ext cx="79200" cy="698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114880" y="3151080"/>
                <a:ext cx="792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010120" y="3151080"/>
                <a:ext cx="792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214960" y="3151080"/>
                <a:ext cx="79200" cy="6984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153040" y="3186000"/>
                <a:ext cx="8568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H="1">
                <a:off x="5062680" y="3191040"/>
                <a:ext cx="8568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113440" y="3151080"/>
                <a:ext cx="79200" cy="698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027760" y="3286080"/>
                <a:ext cx="810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192640" y="3286080"/>
                <a:ext cx="810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"/>
            <p:cNvSpPr txBox="1"/>
            <p:nvPr/>
          </p:nvSpPr>
          <p:spPr>
            <a:xfrm>
              <a:off x="7523280" y="2657520"/>
              <a:ext cx="1380960" cy="82404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  <a:ea typeface="Arial"/>
                </a:rPr>
                <a:t>Operat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  <a:ea typeface="Arial"/>
                </a:rPr>
                <a:t>Logistic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  <a:ea typeface="Arial"/>
                </a:rPr>
                <a:t>Sensor Managem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  <a:ea typeface="Arial"/>
                </a:rPr>
                <a:t>Battlefield Situat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  <a:ea typeface="Arial"/>
                </a:rPr>
                <a:t>Command and Contro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 txBox="1"/>
            <p:nvPr/>
          </p:nvSpPr>
          <p:spPr>
            <a:xfrm>
              <a:off x="7545240" y="2319480"/>
              <a:ext cx="1365120" cy="34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  <a:ea typeface="Arial"/>
                </a:rPr>
                <a:t>Domain-Specifi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  <a:ea typeface="Arial"/>
                </a:rPr>
                <a:t>Ontologies &amp; Theori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 txBox="1"/>
            <p:nvPr/>
          </p:nvSpPr>
          <p:spPr>
            <a:xfrm>
              <a:off x="4089240" y="3487680"/>
              <a:ext cx="4824360" cy="299880"/>
            </a:xfrm>
            <a:prstGeom prst="rect">
              <a:avLst/>
            </a:prstGeom>
            <a:solidFill>
              <a:srgbClr val="003530"/>
            </a:solidFill>
            <a:ln w="12600">
              <a:solidFill>
                <a:srgbClr val="c1ce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sic Representation Concepts:  Sets, Sequences, Arrays, Quantities, Probabiliti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3" name=""/>
          <p:cNvSpPr txBox="1"/>
          <p:nvPr/>
        </p:nvSpPr>
        <p:spPr>
          <a:xfrm>
            <a:off x="76320" y="1903320"/>
            <a:ext cx="312264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Ontolingu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language for building, publishing, and sharing ontolo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0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50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eb-based interface to a browser/editor server at </a:t>
            </a:r>
            <a:r>
              <a:rPr b="0" i="1" lang="en-US" sz="1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http://ontolingua.stanford.edu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mirror s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0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50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tologies can be translated into a number of content languages, including KIF, LOOM, Prolog, CLIP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763560" y="771480"/>
            <a:ext cx="761688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Common Prag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888840" y="1778040"/>
            <a:ext cx="7772400" cy="33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ust follow the same rules for discourse in order for others to find and speak with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2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to talk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2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fin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2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get their at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2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initiate and maintain a conver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2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deal with what they 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2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respond appropri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514440" y="2082960"/>
            <a:ext cx="81723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QML is a high-level, message-oriented, communication language and protocol for information exchange independent of content syntax and ont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QML is independen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ansport mechanism (e.g., tcp/ip, email,  corba objects, IIOP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of content language (e.g., KIF, SQL, STEP, Prolog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of the ontology assumed by th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QML includes primitive message types of particular interest to building interesting agent architectures (e.g., for mediators, sharing intention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928800" y="352440"/>
            <a:ext cx="77439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KQML </a:t>
            </a:r>
            <a:br>
              <a:rPr sz="5400"/>
            </a:b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Knowledge Query and Manipulation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768240" y="542880"/>
            <a:ext cx="76071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 KQML Mes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628560" y="4267080"/>
            <a:ext cx="773424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65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s a singl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peech act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perform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ell, reply, subscribe, achieve, monitor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n associated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emantics and protocol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 list of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ttribute/value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65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content, :language, :from, :in-reply-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0" y="1587600"/>
            <a:ext cx="9068040" cy="2298600"/>
            <a:chOff x="0" y="1587600"/>
            <a:chExt cx="9068040" cy="2298600"/>
          </a:xfrm>
        </p:grpSpPr>
        <p:sp>
          <p:nvSpPr>
            <p:cNvPr id="1142" name=""/>
            <p:cNvSpPr txBox="1"/>
            <p:nvPr/>
          </p:nvSpPr>
          <p:spPr>
            <a:xfrm>
              <a:off x="2873520" y="1587600"/>
              <a:ext cx="6194520" cy="229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70000"/>
                </a:lnSpc>
                <a:spcBef>
                  <a:spcPts val="720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ell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sender          bhkAg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70000"/>
                </a:lnSpc>
                <a:spcBef>
                  <a:spcPts val="720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receiver       fininBo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70000"/>
                </a:lnSpc>
                <a:spcBef>
                  <a:spcPts val="720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in-reply-to   id7.24.97.453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70000"/>
                </a:lnSpc>
                <a:spcBef>
                  <a:spcPts val="720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ontolog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ecbk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70000"/>
                </a:lnSpc>
                <a:spcBef>
                  <a:spcPts val="720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nguage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l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70000"/>
                </a:lnSpc>
                <a:spcBef>
                  <a:spcPts val="720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content   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“price(ISBN3429459,24.95)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1905120" y="1778040"/>
              <a:ext cx="1143000" cy="355680"/>
            </a:xfrm>
            <a:prstGeom prst="line">
              <a:avLst/>
            </a:prstGeom>
            <a:ln w="381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752480" y="2743200"/>
              <a:ext cx="1981440" cy="76320"/>
            </a:xfrm>
            <a:prstGeom prst="line">
              <a:avLst/>
            </a:prstGeom>
            <a:ln w="381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 txBox="1"/>
            <p:nvPr/>
          </p:nvSpPr>
          <p:spPr>
            <a:xfrm>
              <a:off x="0" y="19699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b2b2b2"/>
                  </a:solidFill>
                  <a:latin typeface="Book Antiqua"/>
                  <a:ea typeface="Book Antiqua"/>
                </a:rPr>
                <a:t>performati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 txBox="1"/>
            <p:nvPr/>
          </p:nvSpPr>
          <p:spPr>
            <a:xfrm>
              <a:off x="228600" y="2554200"/>
              <a:ext cx="1859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b2b2b2"/>
                  </a:solidFill>
                  <a:latin typeface="Book Antiqua"/>
                  <a:ea typeface="Book Antiqua"/>
                </a:rPr>
                <a:t>parame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 txBox="1"/>
            <p:nvPr/>
          </p:nvSpPr>
          <p:spPr>
            <a:xfrm>
              <a:off x="685800" y="306072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b2b2b2"/>
                  </a:solidFill>
                  <a:latin typeface="Book Antiqua"/>
                  <a:ea typeface="Book Antiqua"/>
                </a:rPr>
                <a:t>val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600200" y="3276720"/>
              <a:ext cx="3429000" cy="228600"/>
            </a:xfrm>
            <a:prstGeom prst="line">
              <a:avLst/>
            </a:prstGeom>
            <a:ln w="381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739800" y="349200"/>
            <a:ext cx="796932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ome KQML Perform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1066680" y="1054080"/>
            <a:ext cx="701028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0040" indent="-23004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SzPct val="150000"/>
              <a:buFont typeface="Monotype Sorts"/>
              <a:buChar char=""/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Basic query performa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3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, ask-if, ask-in, ask-one, ask-all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Multi-response query performa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3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am-in, stream-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SzPct val="150000"/>
              <a:buFont typeface="Monotype Sorts"/>
              <a:buChar char=""/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Response performa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3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y, sorry,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Generic informational performa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3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, achieve, cancel, untell, unach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SzPct val="150000"/>
              <a:buFont typeface="Monotype Sorts"/>
              <a:buChar char=""/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Generator performa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3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by, ready, next, rest, discard, gen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SzPct val="150000"/>
              <a:buFont typeface="Monotype Sorts"/>
              <a:buChar char=""/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Capability-definition performa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3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ertise, subscribe, monitor, import, export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SzPct val="150000"/>
              <a:buFont typeface="Monotype Sorts"/>
              <a:buChar char=""/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Networking performa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3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, unregister, forward, broadcast, route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808200" y="411120"/>
            <a:ext cx="75279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imple Query Perform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357120" y="2954160"/>
            <a:ext cx="8431200" cy="3370320"/>
            <a:chOff x="357120" y="2954160"/>
            <a:chExt cx="8431200" cy="3370320"/>
          </a:xfrm>
        </p:grpSpPr>
        <p:grpSp>
          <p:nvGrpSpPr>
            <p:cNvPr id="1163" name=""/>
            <p:cNvGrpSpPr/>
            <p:nvPr/>
          </p:nvGrpSpPr>
          <p:grpSpPr>
            <a:xfrm>
              <a:off x="1600200" y="2954160"/>
              <a:ext cx="5943600" cy="932040"/>
              <a:chOff x="1600200" y="2954160"/>
              <a:chExt cx="5943600" cy="932040"/>
            </a:xfrm>
          </p:grpSpPr>
          <p:grpSp>
            <p:nvGrpSpPr>
              <p:cNvPr id="1164" name=""/>
              <p:cNvGrpSpPr/>
              <p:nvPr/>
            </p:nvGrpSpPr>
            <p:grpSpPr>
              <a:xfrm>
                <a:off x="1600200" y="2954160"/>
                <a:ext cx="1143000" cy="914400"/>
                <a:chOff x="1600200" y="2954160"/>
                <a:chExt cx="1143000" cy="914400"/>
              </a:xfrm>
            </p:grpSpPr>
            <p:sp>
              <p:nvSpPr>
                <p:cNvPr id="1165" name=""/>
                <p:cNvSpPr/>
                <p:nvPr/>
              </p:nvSpPr>
              <p:spPr>
                <a:xfrm>
                  <a:off x="1600200" y="3048120"/>
                  <a:ext cx="1143000" cy="762120"/>
                </a:xfrm>
                <a:prstGeom prst="round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 txBox="1"/>
                <p:nvPr/>
              </p:nvSpPr>
              <p:spPr>
                <a:xfrm>
                  <a:off x="1817640" y="2954160"/>
                  <a:ext cx="67932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5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7" name=""/>
              <p:cNvGrpSpPr/>
              <p:nvPr/>
            </p:nvGrpSpPr>
            <p:grpSpPr>
              <a:xfrm>
                <a:off x="6400800" y="2971800"/>
                <a:ext cx="1143000" cy="914400"/>
                <a:chOff x="6400800" y="2971800"/>
                <a:chExt cx="1143000" cy="91440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6400800" y="3048120"/>
                  <a:ext cx="1143000" cy="762120"/>
                </a:xfrm>
                <a:prstGeom prst="roundRect">
                  <a:avLst/>
                </a:prstGeom>
                <a:solidFill>
                  <a:srgbClr val="fc0128"/>
                </a:solidFill>
                <a:ln w="25560">
                  <a:solidFill>
                    <a:srgbClr val="fc0128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 txBox="1"/>
                <p:nvPr/>
              </p:nvSpPr>
              <p:spPr>
                <a:xfrm>
                  <a:off x="6613560" y="2971800"/>
                  <a:ext cx="64152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5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0" name=""/>
            <p:cNvSpPr txBox="1"/>
            <p:nvPr/>
          </p:nvSpPr>
          <p:spPr>
            <a:xfrm>
              <a:off x="357120" y="5257800"/>
              <a:ext cx="843120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k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k-one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k-al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k-i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k-abou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erformatives provide a simple query mechanism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2579760" y="1390680"/>
            <a:ext cx="3821400" cy="1733760"/>
            <a:chOff x="2579760" y="1390680"/>
            <a:chExt cx="3821400" cy="1733760"/>
          </a:xfrm>
        </p:grpSpPr>
        <p:grpSp>
          <p:nvGrpSpPr>
            <p:cNvPr id="1172" name=""/>
            <p:cNvGrpSpPr/>
            <p:nvPr/>
          </p:nvGrpSpPr>
          <p:grpSpPr>
            <a:xfrm>
              <a:off x="2743200" y="1712880"/>
              <a:ext cx="3657960" cy="1411560"/>
              <a:chOff x="2743200" y="1712880"/>
              <a:chExt cx="3657960" cy="1411560"/>
            </a:xfrm>
          </p:grpSpPr>
          <p:sp>
            <p:nvSpPr>
              <p:cNvPr id="1173" name=""/>
              <p:cNvSpPr/>
              <p:nvPr/>
            </p:nvSpPr>
            <p:spPr>
              <a:xfrm>
                <a:off x="4597560" y="1712880"/>
                <a:ext cx="1803600" cy="1411560"/>
              </a:xfrm>
              <a:custGeom>
                <a:avLst/>
                <a:gdLst/>
                <a:ahLst/>
                <a:rect l="0" t="0" r="r" b="b"/>
                <a:pathLst>
                  <a:path fill="none" w="5010" h="3921">
                    <a:moveTo>
                      <a:pt x="5010" y="3921"/>
                    </a:moveTo>
                    <a:lnTo>
                      <a:pt x="5010" y="3921"/>
                    </a:lnTo>
                    <a:lnTo>
                      <a:pt x="5010" y="3921"/>
                    </a:lnTo>
                    <a:cubicBezTo>
                      <a:pt x="5010" y="3233"/>
                      <a:pt x="4779" y="2557"/>
                      <a:pt x="4339" y="1960"/>
                    </a:cubicBezTo>
                    <a:cubicBezTo>
                      <a:pt x="3899" y="1364"/>
                      <a:pt x="3267" y="869"/>
                      <a:pt x="2505" y="525"/>
                    </a:cubicBezTo>
                    <a:cubicBezTo>
                      <a:pt x="1743" y="181"/>
                      <a:pt x="879" y="0"/>
                      <a:pt x="0" y="0"/>
                    </a:cubicBezTo>
                  </a:path>
                </a:pathLst>
              </a:custGeom>
              <a:ln w="25560">
                <a:solidFill>
                  <a:srgbClr val="000000"/>
                </a:solidFill>
                <a:round/>
                <a:head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2743200" y="1712880"/>
                <a:ext cx="1854720" cy="1411560"/>
              </a:xfrm>
              <a:custGeom>
                <a:avLst/>
                <a:gdLst/>
                <a:ahLst/>
                <a:rect l="0" t="0" r="r" b="b"/>
                <a:pathLst>
                  <a:path fill="none" w="5152" h="3921">
                    <a:moveTo>
                      <a:pt x="5152" y="0"/>
                    </a:moveTo>
                    <a:lnTo>
                      <a:pt x="5152" y="0"/>
                    </a:lnTo>
                    <a:cubicBezTo>
                      <a:pt x="4248" y="0"/>
                      <a:pt x="3359" y="181"/>
                      <a:pt x="2576" y="525"/>
                    </a:cubicBezTo>
                    <a:cubicBezTo>
                      <a:pt x="1793" y="869"/>
                      <a:pt x="1142" y="1364"/>
                      <a:pt x="690" y="1961"/>
                    </a:cubicBezTo>
                    <a:cubicBezTo>
                      <a:pt x="238" y="2557"/>
                      <a:pt x="0" y="3233"/>
                      <a:pt x="0" y="3921"/>
                    </a:cubicBezTo>
                  </a:path>
                </a:pathLst>
              </a:custGeom>
              <a:ln w="25560">
                <a:solidFill>
                  <a:srgbClr val="000000"/>
                </a:solidFill>
                <a:round/>
                <a:head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5" name=""/>
            <p:cNvSpPr txBox="1"/>
            <p:nvPr/>
          </p:nvSpPr>
          <p:spPr>
            <a:xfrm>
              <a:off x="2579760" y="1390680"/>
              <a:ext cx="1573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k-one(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2743200" y="1638360"/>
            <a:ext cx="3657960" cy="1791000"/>
            <a:chOff x="2743200" y="1638360"/>
            <a:chExt cx="3657960" cy="1791000"/>
          </a:xfrm>
        </p:grpSpPr>
        <p:grpSp>
          <p:nvGrpSpPr>
            <p:cNvPr id="1177" name=""/>
            <p:cNvGrpSpPr/>
            <p:nvPr/>
          </p:nvGrpSpPr>
          <p:grpSpPr>
            <a:xfrm>
              <a:off x="2743200" y="2176560"/>
              <a:ext cx="3657960" cy="1252800"/>
              <a:chOff x="2743200" y="2176560"/>
              <a:chExt cx="3657960" cy="1252800"/>
            </a:xfrm>
          </p:grpSpPr>
          <p:sp>
            <p:nvSpPr>
              <p:cNvPr id="1178" name=""/>
              <p:cNvSpPr/>
              <p:nvPr/>
            </p:nvSpPr>
            <p:spPr>
              <a:xfrm>
                <a:off x="4597560" y="2176560"/>
                <a:ext cx="1803600" cy="1252800"/>
              </a:xfrm>
              <a:custGeom>
                <a:avLst/>
                <a:gdLst/>
                <a:ahLst/>
                <a:rect l="0" t="0" r="r" b="b"/>
                <a:pathLst>
                  <a:path fill="none" w="5010" h="3480">
                    <a:moveTo>
                      <a:pt x="5010" y="3480"/>
                    </a:moveTo>
                    <a:lnTo>
                      <a:pt x="5010" y="3480"/>
                    </a:lnTo>
                    <a:lnTo>
                      <a:pt x="5010" y="3480"/>
                    </a:lnTo>
                    <a:cubicBezTo>
                      <a:pt x="5010" y="2869"/>
                      <a:pt x="4779" y="2269"/>
                      <a:pt x="4339" y="1740"/>
                    </a:cubicBezTo>
                    <a:cubicBezTo>
                      <a:pt x="3899" y="1211"/>
                      <a:pt x="3267" y="772"/>
                      <a:pt x="2505" y="466"/>
                    </a:cubicBezTo>
                    <a:cubicBezTo>
                      <a:pt x="1743" y="161"/>
                      <a:pt x="879" y="0"/>
                      <a:pt x="0" y="0"/>
                    </a:cubicBezTo>
                  </a:path>
                </a:pathLst>
              </a:custGeom>
              <a:ln w="25560">
                <a:solidFill>
                  <a:srgbClr val="fc0128"/>
                </a:solidFill>
                <a:round/>
                <a:tail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743200" y="2176560"/>
                <a:ext cx="1854720" cy="1252800"/>
              </a:xfrm>
              <a:custGeom>
                <a:avLst/>
                <a:gdLst/>
                <a:ahLst/>
                <a:rect l="0" t="0" r="r" b="b"/>
                <a:pathLst>
                  <a:path fill="none" w="5152" h="3480">
                    <a:moveTo>
                      <a:pt x="5152" y="0"/>
                    </a:moveTo>
                    <a:lnTo>
                      <a:pt x="5152" y="0"/>
                    </a:lnTo>
                    <a:cubicBezTo>
                      <a:pt x="4248" y="0"/>
                      <a:pt x="3359" y="161"/>
                      <a:pt x="2576" y="466"/>
                    </a:cubicBezTo>
                    <a:cubicBezTo>
                      <a:pt x="1793" y="772"/>
                      <a:pt x="1142" y="1211"/>
                      <a:pt x="690" y="1740"/>
                    </a:cubicBezTo>
                    <a:cubicBezTo>
                      <a:pt x="238" y="2269"/>
                      <a:pt x="0" y="2869"/>
                      <a:pt x="0" y="3480"/>
                    </a:cubicBezTo>
                  </a:path>
                </a:pathLst>
              </a:custGeom>
              <a:ln w="25560">
                <a:solidFill>
                  <a:srgbClr val="fc0128"/>
                </a:solidFill>
                <a:round/>
                <a:tail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0" name=""/>
            <p:cNvSpPr txBox="1"/>
            <p:nvPr/>
          </p:nvSpPr>
          <p:spPr>
            <a:xfrm>
              <a:off x="4888080" y="1638360"/>
              <a:ext cx="979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tell(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2828880" y="3673440"/>
            <a:ext cx="3657960" cy="432000"/>
            <a:chOff x="2828880" y="3673440"/>
            <a:chExt cx="3657960" cy="432000"/>
          </a:xfrm>
        </p:grpSpPr>
        <p:sp>
          <p:nvSpPr>
            <p:cNvPr id="1182" name=""/>
            <p:cNvSpPr/>
            <p:nvPr/>
          </p:nvSpPr>
          <p:spPr>
            <a:xfrm>
              <a:off x="4683240" y="3673440"/>
              <a:ext cx="1803600" cy="432000"/>
            </a:xfrm>
            <a:custGeom>
              <a:avLst/>
              <a:gdLst/>
              <a:ahLst/>
              <a:rect l="0" t="0" r="r" b="b"/>
              <a:pathLst>
                <a:path fill="none" w="5010" h="1200">
                  <a:moveTo>
                    <a:pt x="0" y="1200"/>
                  </a:moveTo>
                  <a:lnTo>
                    <a:pt x="0" y="1200"/>
                  </a:lnTo>
                  <a:cubicBezTo>
                    <a:pt x="879" y="1200"/>
                    <a:pt x="1743" y="1145"/>
                    <a:pt x="2505" y="1039"/>
                  </a:cubicBezTo>
                  <a:cubicBezTo>
                    <a:pt x="3267" y="934"/>
                    <a:pt x="3899" y="782"/>
                    <a:pt x="4339" y="600"/>
                  </a:cubicBezTo>
                  <a:cubicBezTo>
                    <a:pt x="4779" y="418"/>
                    <a:pt x="5010" y="211"/>
                    <a:pt x="5010" y="0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828880" y="3673440"/>
              <a:ext cx="1854720" cy="432000"/>
            </a:xfrm>
            <a:custGeom>
              <a:avLst/>
              <a:gdLst/>
              <a:ahLst/>
              <a:rect l="0" t="0" r="r" b="b"/>
              <a:pathLst>
                <a:path fill="none" w="5152" h="1200">
                  <a:moveTo>
                    <a:pt x="0" y="0"/>
                  </a:moveTo>
                  <a:lnTo>
                    <a:pt x="0" y="0"/>
                  </a:lnTo>
                  <a:cubicBezTo>
                    <a:pt x="0" y="211"/>
                    <a:pt x="238" y="418"/>
                    <a:pt x="690" y="600"/>
                  </a:cubicBezTo>
                  <a:cubicBezTo>
                    <a:pt x="1142" y="782"/>
                    <a:pt x="1793" y="934"/>
                    <a:pt x="2576" y="1039"/>
                  </a:cubicBezTo>
                  <a:cubicBezTo>
                    <a:pt x="3359" y="1145"/>
                    <a:pt x="4248" y="1200"/>
                    <a:pt x="5152" y="1200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4" name=""/>
          <p:cNvSpPr txBox="1"/>
          <p:nvPr/>
        </p:nvSpPr>
        <p:spPr>
          <a:xfrm>
            <a:off x="3803760" y="288936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-all(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2895480" y="3886200"/>
            <a:ext cx="3657960" cy="686160"/>
            <a:chOff x="2895480" y="3886200"/>
            <a:chExt cx="3657960" cy="686160"/>
          </a:xfrm>
        </p:grpSpPr>
        <p:sp>
          <p:nvSpPr>
            <p:cNvPr id="1186" name=""/>
            <p:cNvSpPr/>
            <p:nvPr/>
          </p:nvSpPr>
          <p:spPr>
            <a:xfrm>
              <a:off x="4749840" y="3886200"/>
              <a:ext cx="1803600" cy="686160"/>
            </a:xfrm>
            <a:custGeom>
              <a:avLst/>
              <a:gdLst/>
              <a:ahLst/>
              <a:rect l="0" t="0" r="r" b="b"/>
              <a:pathLst>
                <a:path fill="none" w="5010" h="1906">
                  <a:moveTo>
                    <a:pt x="0" y="1906"/>
                  </a:moveTo>
                  <a:lnTo>
                    <a:pt x="0" y="1906"/>
                  </a:lnTo>
                  <a:cubicBezTo>
                    <a:pt x="879" y="1906"/>
                    <a:pt x="1743" y="1818"/>
                    <a:pt x="2505" y="1651"/>
                  </a:cubicBezTo>
                  <a:cubicBezTo>
                    <a:pt x="3267" y="1483"/>
                    <a:pt x="3899" y="1243"/>
                    <a:pt x="4339" y="953"/>
                  </a:cubicBezTo>
                  <a:cubicBezTo>
                    <a:pt x="4779" y="663"/>
                    <a:pt x="5010" y="335"/>
                    <a:pt x="5010" y="0"/>
                  </a:cubicBezTo>
                </a:path>
              </a:pathLst>
            </a:custGeom>
            <a:ln w="25560">
              <a:solidFill>
                <a:srgbClr val="fc0128"/>
              </a:solidFill>
              <a:round/>
              <a:head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895480" y="3886200"/>
              <a:ext cx="1854720" cy="686160"/>
            </a:xfrm>
            <a:custGeom>
              <a:avLst/>
              <a:gdLst/>
              <a:ahLst/>
              <a:rect l="0" t="0" r="r" b="b"/>
              <a:pathLst>
                <a:path fill="none" w="5152" h="1906">
                  <a:moveTo>
                    <a:pt x="0" y="0"/>
                  </a:moveTo>
                  <a:lnTo>
                    <a:pt x="0" y="0"/>
                  </a:lnTo>
                  <a:cubicBezTo>
                    <a:pt x="0" y="335"/>
                    <a:pt x="238" y="663"/>
                    <a:pt x="690" y="953"/>
                  </a:cubicBezTo>
                  <a:cubicBezTo>
                    <a:pt x="1142" y="1243"/>
                    <a:pt x="1793" y="1483"/>
                    <a:pt x="2576" y="1651"/>
                  </a:cubicBezTo>
                  <a:cubicBezTo>
                    <a:pt x="3359" y="1818"/>
                    <a:pt x="4248" y="1906"/>
                    <a:pt x="5152" y="1906"/>
                  </a:cubicBezTo>
                </a:path>
              </a:pathLst>
            </a:custGeom>
            <a:ln w="25560">
              <a:solidFill>
                <a:srgbClr val="fc0128"/>
              </a:solidFill>
              <a:round/>
              <a:head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"/>
          <p:cNvSpPr txBox="1"/>
          <p:nvPr/>
        </p:nvSpPr>
        <p:spPr>
          <a:xfrm>
            <a:off x="3552840" y="3262320"/>
            <a:ext cx="2343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ell((p1 p2 p3...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2819520" y="3200400"/>
            <a:ext cx="35049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2819520" y="3581280"/>
            <a:ext cx="3504960" cy="0"/>
          </a:xfrm>
          <a:prstGeom prst="line">
            <a:avLst/>
          </a:prstGeom>
          <a:ln w="12600">
            <a:solidFill>
              <a:srgbClr val="ff0033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2819520" y="3962520"/>
            <a:ext cx="3657600" cy="914760"/>
            <a:chOff x="2819520" y="3962520"/>
            <a:chExt cx="3657600" cy="914760"/>
          </a:xfrm>
        </p:grpSpPr>
        <p:sp>
          <p:nvSpPr>
            <p:cNvPr id="1192" name=""/>
            <p:cNvSpPr/>
            <p:nvPr/>
          </p:nvSpPr>
          <p:spPr>
            <a:xfrm>
              <a:off x="4673520" y="3962520"/>
              <a:ext cx="1803600" cy="914760"/>
            </a:xfrm>
            <a:custGeom>
              <a:avLst/>
              <a:gdLst/>
              <a:ahLst/>
              <a:rect l="0" t="0" r="r" b="b"/>
              <a:pathLst>
                <a:path fill="none" w="5010" h="2541">
                  <a:moveTo>
                    <a:pt x="0" y="2541"/>
                  </a:moveTo>
                  <a:lnTo>
                    <a:pt x="0" y="2541"/>
                  </a:lnTo>
                  <a:cubicBezTo>
                    <a:pt x="879" y="2541"/>
                    <a:pt x="1743" y="2424"/>
                    <a:pt x="2505" y="2201"/>
                  </a:cubicBezTo>
                  <a:cubicBezTo>
                    <a:pt x="3267" y="1978"/>
                    <a:pt x="3899" y="1657"/>
                    <a:pt x="4339" y="1270"/>
                  </a:cubicBezTo>
                  <a:cubicBezTo>
                    <a:pt x="4779" y="884"/>
                    <a:pt x="5010" y="446"/>
                    <a:pt x="5010" y="0"/>
                  </a:cubicBezTo>
                </a:path>
              </a:pathLst>
            </a:custGeom>
            <a:ln w="25560">
              <a:solidFill>
                <a:srgbClr val="fc0128"/>
              </a:solidFill>
              <a:round/>
              <a:head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819520" y="3962520"/>
              <a:ext cx="1854720" cy="914760"/>
            </a:xfrm>
            <a:custGeom>
              <a:avLst/>
              <a:gdLst/>
              <a:ahLst/>
              <a:rect l="0" t="0" r="r" b="b"/>
              <a:pathLst>
                <a:path fill="none" w="5152" h="2541">
                  <a:moveTo>
                    <a:pt x="0" y="0"/>
                  </a:moveTo>
                  <a:lnTo>
                    <a:pt x="0" y="0"/>
                  </a:lnTo>
                  <a:cubicBezTo>
                    <a:pt x="0" y="446"/>
                    <a:pt x="238" y="884"/>
                    <a:pt x="690" y="1271"/>
                  </a:cubicBezTo>
                  <a:cubicBezTo>
                    <a:pt x="1142" y="1657"/>
                    <a:pt x="1793" y="1978"/>
                    <a:pt x="2576" y="2201"/>
                  </a:cubicBezTo>
                  <a:cubicBezTo>
                    <a:pt x="3359" y="2424"/>
                    <a:pt x="4248" y="2541"/>
                    <a:pt x="5152" y="2541"/>
                  </a:cubicBezTo>
                </a:path>
              </a:pathLst>
            </a:custGeom>
            <a:ln w="25560">
              <a:solidFill>
                <a:srgbClr val="fc0128"/>
              </a:solidFill>
              <a:round/>
              <a:head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2819520" y="4114800"/>
            <a:ext cx="3657600" cy="991080"/>
            <a:chOff x="2819520" y="4114800"/>
            <a:chExt cx="3657600" cy="991080"/>
          </a:xfrm>
        </p:grpSpPr>
        <p:sp>
          <p:nvSpPr>
            <p:cNvPr id="1195" name=""/>
            <p:cNvSpPr/>
            <p:nvPr/>
          </p:nvSpPr>
          <p:spPr>
            <a:xfrm>
              <a:off x="4673520" y="4114800"/>
              <a:ext cx="1803600" cy="991080"/>
            </a:xfrm>
            <a:custGeom>
              <a:avLst/>
              <a:gdLst/>
              <a:ahLst/>
              <a:rect l="0" t="0" r="r" b="b"/>
              <a:pathLst>
                <a:path fill="none" w="5010" h="2753">
                  <a:moveTo>
                    <a:pt x="0" y="2753"/>
                  </a:moveTo>
                  <a:lnTo>
                    <a:pt x="0" y="2753"/>
                  </a:lnTo>
                  <a:cubicBezTo>
                    <a:pt x="879" y="2753"/>
                    <a:pt x="1743" y="2626"/>
                    <a:pt x="2505" y="2384"/>
                  </a:cubicBezTo>
                  <a:cubicBezTo>
                    <a:pt x="3267" y="2143"/>
                    <a:pt x="3899" y="1795"/>
                    <a:pt x="4339" y="1376"/>
                  </a:cubicBezTo>
                  <a:cubicBezTo>
                    <a:pt x="4779" y="958"/>
                    <a:pt x="5010" y="483"/>
                    <a:pt x="5010" y="0"/>
                  </a:cubicBezTo>
                </a:path>
              </a:pathLst>
            </a:custGeom>
            <a:ln w="25560">
              <a:solidFill>
                <a:srgbClr val="fc0128"/>
              </a:solidFill>
              <a:round/>
              <a:head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819520" y="4114800"/>
              <a:ext cx="1854720" cy="991080"/>
            </a:xfrm>
            <a:custGeom>
              <a:avLst/>
              <a:gdLst/>
              <a:ahLst/>
              <a:rect l="0" t="0" r="r" b="b"/>
              <a:pathLst>
                <a:path fill="none" w="5152" h="2753">
                  <a:moveTo>
                    <a:pt x="0" y="0"/>
                  </a:moveTo>
                  <a:lnTo>
                    <a:pt x="0" y="0"/>
                  </a:lnTo>
                  <a:cubicBezTo>
                    <a:pt x="0" y="483"/>
                    <a:pt x="238" y="958"/>
                    <a:pt x="690" y="1377"/>
                  </a:cubicBezTo>
                  <a:cubicBezTo>
                    <a:pt x="1142" y="1795"/>
                    <a:pt x="1793" y="2143"/>
                    <a:pt x="2576" y="2384"/>
                  </a:cubicBezTo>
                  <a:cubicBezTo>
                    <a:pt x="3359" y="2626"/>
                    <a:pt x="4248" y="2753"/>
                    <a:pt x="5152" y="2753"/>
                  </a:cubicBezTo>
                </a:path>
              </a:pathLst>
            </a:custGeom>
            <a:ln w="25560">
              <a:solidFill>
                <a:srgbClr val="fc0128"/>
              </a:solidFill>
              <a:round/>
              <a:head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7" name=""/>
          <p:cNvSpPr txBox="1"/>
          <p:nvPr/>
        </p:nvSpPr>
        <p:spPr>
          <a:xfrm>
            <a:off x="3552840" y="4176720"/>
            <a:ext cx="111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ell(p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4390920" y="4481640"/>
            <a:ext cx="111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ell(p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5000760" y="4786200"/>
            <a:ext cx="111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ell(p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3879720" y="365112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-all(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KQML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604800" y="1717560"/>
            <a:ext cx="3513240" cy="1603440"/>
            <a:chOff x="604800" y="1717560"/>
            <a:chExt cx="3513240" cy="1603440"/>
          </a:xfrm>
        </p:grpSpPr>
        <p:sp>
          <p:nvSpPr>
            <p:cNvPr id="1207" name=""/>
            <p:cNvSpPr/>
            <p:nvPr/>
          </p:nvSpPr>
          <p:spPr>
            <a:xfrm>
              <a:off x="3481560" y="2185920"/>
              <a:ext cx="636480" cy="433440"/>
            </a:xfrm>
            <a:prstGeom prst="roundRect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085200" y="2011320"/>
              <a:ext cx="416880" cy="174960"/>
            </a:xfrm>
            <a:custGeom>
              <a:avLst/>
              <a:gdLst/>
              <a:ahLst/>
              <a:rect l="0" t="0" r="r" b="b"/>
              <a:pathLst>
                <a:path fill="none" w="1158" h="486">
                  <a:moveTo>
                    <a:pt x="1158" y="486"/>
                  </a:moveTo>
                  <a:lnTo>
                    <a:pt x="1158" y="486"/>
                  </a:lnTo>
                  <a:lnTo>
                    <a:pt x="1158" y="486"/>
                  </a:lnTo>
                  <a:cubicBezTo>
                    <a:pt x="1158" y="401"/>
                    <a:pt x="1104" y="317"/>
                    <a:pt x="1003" y="243"/>
                  </a:cubicBezTo>
                  <a:cubicBezTo>
                    <a:pt x="901" y="169"/>
                    <a:pt x="755" y="108"/>
                    <a:pt x="579" y="65"/>
                  </a:cubicBezTo>
                  <a:cubicBezTo>
                    <a:pt x="403" y="22"/>
                    <a:pt x="203" y="0"/>
                    <a:pt x="0" y="0"/>
                  </a:cubicBezTo>
                </a:path>
              </a:pathLst>
            </a:custGeom>
            <a:ln w="12600">
              <a:solidFill>
                <a:srgbClr val="fc012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657520" y="2011320"/>
              <a:ext cx="429840" cy="174240"/>
            </a:xfrm>
            <a:custGeom>
              <a:avLst/>
              <a:gdLst/>
              <a:ahLst/>
              <a:rect l="0" t="0" r="r" b="b"/>
              <a:pathLst>
                <a:path fill="none" w="1194" h="484">
                  <a:moveTo>
                    <a:pt x="1194" y="0"/>
                  </a:moveTo>
                  <a:lnTo>
                    <a:pt x="1194" y="0"/>
                  </a:lnTo>
                  <a:cubicBezTo>
                    <a:pt x="984" y="0"/>
                    <a:pt x="779" y="22"/>
                    <a:pt x="597" y="65"/>
                  </a:cubicBezTo>
                  <a:cubicBezTo>
                    <a:pt x="415" y="107"/>
                    <a:pt x="265" y="168"/>
                    <a:pt x="160" y="242"/>
                  </a:cubicBezTo>
                  <a:cubicBezTo>
                    <a:pt x="55" y="316"/>
                    <a:pt x="0" y="399"/>
                    <a:pt x="0" y="484"/>
                  </a:cubicBezTo>
                </a:path>
              </a:pathLst>
            </a:custGeom>
            <a:ln w="12600">
              <a:solidFill>
                <a:srgbClr val="fc0128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043000" y="2163600"/>
              <a:ext cx="628560" cy="419040"/>
            </a:xfrm>
            <a:prstGeom prst="round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220760" y="2025720"/>
              <a:ext cx="417960" cy="202680"/>
            </a:xfrm>
            <a:custGeom>
              <a:avLst/>
              <a:gdLst/>
              <a:ahLst/>
              <a:rect l="0" t="0" r="r" b="b"/>
              <a:pathLst>
                <a:path fill="none" w="1161" h="563">
                  <a:moveTo>
                    <a:pt x="1161" y="0"/>
                  </a:moveTo>
                  <a:lnTo>
                    <a:pt x="1161" y="0"/>
                  </a:lnTo>
                  <a:cubicBezTo>
                    <a:pt x="957" y="0"/>
                    <a:pt x="757" y="26"/>
                    <a:pt x="580" y="75"/>
                  </a:cubicBezTo>
                  <a:cubicBezTo>
                    <a:pt x="404" y="125"/>
                    <a:pt x="257" y="196"/>
                    <a:pt x="156" y="282"/>
                  </a:cubicBezTo>
                  <a:cubicBezTo>
                    <a:pt x="54" y="367"/>
                    <a:pt x="0" y="464"/>
                    <a:pt x="0" y="563"/>
                  </a:cubicBezTo>
                </a:path>
              </a:pathLst>
            </a:custGeom>
            <a:ln w="12600">
              <a:solidFill>
                <a:srgbClr val="438e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635840" y="2023920"/>
              <a:ext cx="429840" cy="201960"/>
            </a:xfrm>
            <a:custGeom>
              <a:avLst/>
              <a:gdLst/>
              <a:ahLst/>
              <a:rect l="0" t="0" r="r" b="b"/>
              <a:pathLst>
                <a:path fill="none" w="1194" h="561">
                  <a:moveTo>
                    <a:pt x="1194" y="561"/>
                  </a:moveTo>
                  <a:lnTo>
                    <a:pt x="1194" y="561"/>
                  </a:lnTo>
                  <a:lnTo>
                    <a:pt x="1194" y="561"/>
                  </a:lnTo>
                  <a:cubicBezTo>
                    <a:pt x="1194" y="463"/>
                    <a:pt x="1139" y="366"/>
                    <a:pt x="1034" y="280"/>
                  </a:cubicBezTo>
                  <a:cubicBezTo>
                    <a:pt x="929" y="195"/>
                    <a:pt x="779" y="124"/>
                    <a:pt x="597" y="75"/>
                  </a:cubicBezTo>
                  <a:cubicBezTo>
                    <a:pt x="415" y="26"/>
                    <a:pt x="210" y="0"/>
                    <a:pt x="0" y="0"/>
                  </a:cubicBezTo>
                </a:path>
              </a:pathLst>
            </a:custGeom>
            <a:ln w="12600">
              <a:solidFill>
                <a:srgbClr val="438e00"/>
              </a:solidFill>
              <a:round/>
              <a:head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 txBox="1"/>
            <p:nvPr/>
          </p:nvSpPr>
          <p:spPr>
            <a:xfrm>
              <a:off x="3654360" y="2122560"/>
              <a:ext cx="357120" cy="50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 txBox="1"/>
            <p:nvPr/>
          </p:nvSpPr>
          <p:spPr>
            <a:xfrm>
              <a:off x="1108080" y="1725480"/>
              <a:ext cx="1147680" cy="24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438e00"/>
                  </a:solidFill>
                  <a:latin typeface="Times New Roman"/>
                  <a:ea typeface="Times New Roman"/>
                </a:rPr>
                <a:t>broker(ask(P)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 txBox="1"/>
            <p:nvPr/>
          </p:nvSpPr>
          <p:spPr>
            <a:xfrm>
              <a:off x="2178000" y="2124000"/>
              <a:ext cx="357120" cy="50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 txBox="1"/>
            <p:nvPr/>
          </p:nvSpPr>
          <p:spPr>
            <a:xfrm>
              <a:off x="2671920" y="1717560"/>
              <a:ext cx="1303200" cy="24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advertise(ask(P)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262160" y="2624040"/>
              <a:ext cx="416880" cy="201960"/>
            </a:xfrm>
            <a:custGeom>
              <a:avLst/>
              <a:gdLst/>
              <a:ahLst/>
              <a:rect l="0" t="0" r="r" b="b"/>
              <a:pathLst>
                <a:path fill="none" w="1158" h="561">
                  <a:moveTo>
                    <a:pt x="0" y="0"/>
                  </a:moveTo>
                  <a:lnTo>
                    <a:pt x="0" y="0"/>
                  </a:lnTo>
                  <a:cubicBezTo>
                    <a:pt x="0" y="98"/>
                    <a:pt x="54" y="195"/>
                    <a:pt x="155" y="281"/>
                  </a:cubicBezTo>
                  <a:cubicBezTo>
                    <a:pt x="257" y="366"/>
                    <a:pt x="403" y="437"/>
                    <a:pt x="579" y="486"/>
                  </a:cubicBezTo>
                  <a:cubicBezTo>
                    <a:pt x="755" y="535"/>
                    <a:pt x="955" y="561"/>
                    <a:pt x="1158" y="561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  <a:head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678680" y="2624040"/>
              <a:ext cx="428040" cy="201960"/>
            </a:xfrm>
            <a:custGeom>
              <a:avLst/>
              <a:gdLst/>
              <a:ahLst/>
              <a:rect l="0" t="0" r="r" b="b"/>
              <a:pathLst>
                <a:path fill="none" w="1189" h="561">
                  <a:moveTo>
                    <a:pt x="0" y="561"/>
                  </a:moveTo>
                  <a:lnTo>
                    <a:pt x="0" y="561"/>
                  </a:lnTo>
                  <a:cubicBezTo>
                    <a:pt x="209" y="561"/>
                    <a:pt x="414" y="535"/>
                    <a:pt x="595" y="486"/>
                  </a:cubicBezTo>
                  <a:cubicBezTo>
                    <a:pt x="775" y="437"/>
                    <a:pt x="925" y="366"/>
                    <a:pt x="1030" y="280"/>
                  </a:cubicBezTo>
                  <a:cubicBezTo>
                    <a:pt x="1134" y="195"/>
                    <a:pt x="1189" y="98"/>
                    <a:pt x="1189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098880" y="2625840"/>
              <a:ext cx="417960" cy="152640"/>
            </a:xfrm>
            <a:custGeom>
              <a:avLst/>
              <a:gdLst/>
              <a:ahLst/>
              <a:rect l="0" t="0" r="r" b="b"/>
              <a:pathLst>
                <a:path fill="none" w="1161" h="424">
                  <a:moveTo>
                    <a:pt x="0" y="424"/>
                  </a:moveTo>
                  <a:lnTo>
                    <a:pt x="0" y="424"/>
                  </a:lnTo>
                  <a:cubicBezTo>
                    <a:pt x="204" y="424"/>
                    <a:pt x="404" y="404"/>
                    <a:pt x="581" y="367"/>
                  </a:cubicBezTo>
                  <a:cubicBezTo>
                    <a:pt x="757" y="330"/>
                    <a:pt x="904" y="276"/>
                    <a:pt x="1005" y="212"/>
                  </a:cubicBezTo>
                  <a:cubicBezTo>
                    <a:pt x="1107" y="148"/>
                    <a:pt x="1161" y="74"/>
                    <a:pt x="1161" y="0"/>
                  </a:cubicBezTo>
                </a:path>
              </a:pathLst>
            </a:custGeom>
            <a:ln w="12600">
              <a:solidFill>
                <a:srgbClr val="00cc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670120" y="2625840"/>
              <a:ext cx="428040" cy="152640"/>
            </a:xfrm>
            <a:custGeom>
              <a:avLst/>
              <a:gdLst/>
              <a:ahLst/>
              <a:rect l="0" t="0" r="r" b="b"/>
              <a:pathLst>
                <a:path fill="none" w="1189" h="424">
                  <a:moveTo>
                    <a:pt x="0" y="0"/>
                  </a:moveTo>
                  <a:lnTo>
                    <a:pt x="0" y="0"/>
                  </a:lnTo>
                  <a:cubicBezTo>
                    <a:pt x="0" y="74"/>
                    <a:pt x="55" y="148"/>
                    <a:pt x="159" y="212"/>
                  </a:cubicBezTo>
                  <a:cubicBezTo>
                    <a:pt x="264" y="276"/>
                    <a:pt x="414" y="330"/>
                    <a:pt x="595" y="367"/>
                  </a:cubicBezTo>
                  <a:cubicBezTo>
                    <a:pt x="775" y="404"/>
                    <a:pt x="980" y="424"/>
                    <a:pt x="1189" y="424"/>
                  </a:cubicBezTo>
                </a:path>
              </a:pathLst>
            </a:custGeom>
            <a:ln w="12600">
              <a:solidFill>
                <a:srgbClr val="00cc99"/>
              </a:solidFill>
              <a:round/>
              <a:head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695680" y="2401920"/>
              <a:ext cx="755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 txBox="1"/>
            <p:nvPr/>
          </p:nvSpPr>
          <p:spPr>
            <a:xfrm>
              <a:off x="2811600" y="2386080"/>
              <a:ext cx="550800" cy="24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k(P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 txBox="1"/>
            <p:nvPr/>
          </p:nvSpPr>
          <p:spPr>
            <a:xfrm>
              <a:off x="2854440" y="3029040"/>
              <a:ext cx="531720" cy="24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tell(P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 txBox="1"/>
            <p:nvPr/>
          </p:nvSpPr>
          <p:spPr>
            <a:xfrm>
              <a:off x="1414440" y="3071880"/>
              <a:ext cx="531720" cy="24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ll(P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04800" y="2197080"/>
              <a:ext cx="636480" cy="465120"/>
            </a:xfrm>
            <a:prstGeom prst="roundRect">
              <a:avLst/>
            </a:prstGeom>
            <a:solidFill>
              <a:srgbClr val="438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 txBox="1"/>
            <p:nvPr/>
          </p:nvSpPr>
          <p:spPr>
            <a:xfrm>
              <a:off x="757080" y="2244600"/>
              <a:ext cx="376200" cy="50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604800" y="4138560"/>
            <a:ext cx="3513240" cy="1520640"/>
            <a:chOff x="604800" y="4138560"/>
            <a:chExt cx="3513240" cy="1520640"/>
          </a:xfrm>
        </p:grpSpPr>
        <p:sp>
          <p:nvSpPr>
            <p:cNvPr id="1228" name=""/>
            <p:cNvSpPr/>
            <p:nvPr/>
          </p:nvSpPr>
          <p:spPr>
            <a:xfrm>
              <a:off x="3481560" y="4608360"/>
              <a:ext cx="636480" cy="434880"/>
            </a:xfrm>
            <a:prstGeom prst="roundRect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085200" y="4432320"/>
              <a:ext cx="416880" cy="176400"/>
            </a:xfrm>
            <a:custGeom>
              <a:avLst/>
              <a:gdLst/>
              <a:ahLst/>
              <a:rect l="0" t="0" r="r" b="b"/>
              <a:pathLst>
                <a:path fill="none" w="1158" h="490">
                  <a:moveTo>
                    <a:pt x="1158" y="490"/>
                  </a:moveTo>
                  <a:lnTo>
                    <a:pt x="1158" y="490"/>
                  </a:lnTo>
                  <a:lnTo>
                    <a:pt x="1158" y="490"/>
                  </a:lnTo>
                  <a:cubicBezTo>
                    <a:pt x="1158" y="404"/>
                    <a:pt x="1104" y="319"/>
                    <a:pt x="1003" y="245"/>
                  </a:cubicBezTo>
                  <a:cubicBezTo>
                    <a:pt x="901" y="171"/>
                    <a:pt x="755" y="109"/>
                    <a:pt x="579" y="66"/>
                  </a:cubicBezTo>
                  <a:cubicBezTo>
                    <a:pt x="403" y="23"/>
                    <a:pt x="203" y="0"/>
                    <a:pt x="0" y="0"/>
                  </a:cubicBezTo>
                </a:path>
              </a:pathLst>
            </a:custGeom>
            <a:ln w="12600">
              <a:solidFill>
                <a:srgbClr val="fc012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657520" y="4432320"/>
              <a:ext cx="429840" cy="175680"/>
            </a:xfrm>
            <a:custGeom>
              <a:avLst/>
              <a:gdLst/>
              <a:ahLst/>
              <a:rect l="0" t="0" r="r" b="b"/>
              <a:pathLst>
                <a:path fill="none" w="1194" h="488">
                  <a:moveTo>
                    <a:pt x="1194" y="0"/>
                  </a:moveTo>
                  <a:lnTo>
                    <a:pt x="1194" y="0"/>
                  </a:lnTo>
                  <a:cubicBezTo>
                    <a:pt x="984" y="0"/>
                    <a:pt x="779" y="23"/>
                    <a:pt x="597" y="65"/>
                  </a:cubicBezTo>
                  <a:cubicBezTo>
                    <a:pt x="415" y="108"/>
                    <a:pt x="265" y="170"/>
                    <a:pt x="160" y="244"/>
                  </a:cubicBezTo>
                  <a:cubicBezTo>
                    <a:pt x="55" y="318"/>
                    <a:pt x="0" y="402"/>
                    <a:pt x="0" y="488"/>
                  </a:cubicBezTo>
                </a:path>
              </a:pathLst>
            </a:custGeom>
            <a:ln w="12600">
              <a:solidFill>
                <a:srgbClr val="fc0128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043000" y="4586400"/>
              <a:ext cx="628560" cy="420840"/>
            </a:xfrm>
            <a:prstGeom prst="round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220760" y="4446720"/>
              <a:ext cx="417960" cy="204480"/>
            </a:xfrm>
            <a:custGeom>
              <a:avLst/>
              <a:gdLst/>
              <a:ahLst/>
              <a:rect l="0" t="0" r="r" b="b"/>
              <a:pathLst>
                <a:path fill="none" w="1161" h="568">
                  <a:moveTo>
                    <a:pt x="1161" y="0"/>
                  </a:moveTo>
                  <a:lnTo>
                    <a:pt x="1161" y="0"/>
                  </a:lnTo>
                  <a:cubicBezTo>
                    <a:pt x="957" y="0"/>
                    <a:pt x="757" y="26"/>
                    <a:pt x="580" y="76"/>
                  </a:cubicBezTo>
                  <a:cubicBezTo>
                    <a:pt x="404" y="126"/>
                    <a:pt x="257" y="198"/>
                    <a:pt x="156" y="284"/>
                  </a:cubicBezTo>
                  <a:cubicBezTo>
                    <a:pt x="54" y="370"/>
                    <a:pt x="0" y="468"/>
                    <a:pt x="0" y="568"/>
                  </a:cubicBezTo>
                </a:path>
              </a:pathLst>
            </a:custGeom>
            <a:ln w="12600">
              <a:solidFill>
                <a:srgbClr val="438e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635840" y="4446720"/>
              <a:ext cx="429840" cy="203400"/>
            </a:xfrm>
            <a:custGeom>
              <a:avLst/>
              <a:gdLst/>
              <a:ahLst/>
              <a:rect l="0" t="0" r="r" b="b"/>
              <a:pathLst>
                <a:path fill="none" w="1194" h="565">
                  <a:moveTo>
                    <a:pt x="1194" y="565"/>
                  </a:moveTo>
                  <a:lnTo>
                    <a:pt x="1194" y="565"/>
                  </a:lnTo>
                  <a:lnTo>
                    <a:pt x="1194" y="565"/>
                  </a:lnTo>
                  <a:cubicBezTo>
                    <a:pt x="1194" y="466"/>
                    <a:pt x="1139" y="368"/>
                    <a:pt x="1034" y="282"/>
                  </a:cubicBezTo>
                  <a:cubicBezTo>
                    <a:pt x="929" y="197"/>
                    <a:pt x="779" y="125"/>
                    <a:pt x="597" y="76"/>
                  </a:cubicBezTo>
                  <a:cubicBezTo>
                    <a:pt x="415" y="26"/>
                    <a:pt x="210" y="0"/>
                    <a:pt x="0" y="0"/>
                  </a:cubicBezTo>
                </a:path>
              </a:pathLst>
            </a:custGeom>
            <a:ln w="12600">
              <a:solidFill>
                <a:srgbClr val="438e00"/>
              </a:solidFill>
              <a:round/>
              <a:head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 txBox="1"/>
            <p:nvPr/>
          </p:nvSpPr>
          <p:spPr>
            <a:xfrm>
              <a:off x="3654360" y="4545000"/>
              <a:ext cx="357120" cy="50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 txBox="1"/>
            <p:nvPr/>
          </p:nvSpPr>
          <p:spPr>
            <a:xfrm>
              <a:off x="1108080" y="4146480"/>
              <a:ext cx="1146240" cy="24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438e00"/>
                  </a:solidFill>
                  <a:latin typeface="Times New Roman"/>
                  <a:ea typeface="Times New Roman"/>
                </a:rPr>
                <a:t>recruit(ask(P)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 txBox="1"/>
            <p:nvPr/>
          </p:nvSpPr>
          <p:spPr>
            <a:xfrm>
              <a:off x="2178000" y="4545000"/>
              <a:ext cx="357120" cy="50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 txBox="1"/>
            <p:nvPr/>
          </p:nvSpPr>
          <p:spPr>
            <a:xfrm>
              <a:off x="2595600" y="4138560"/>
              <a:ext cx="1303200" cy="24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advertise(ask(P)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415240" y="5103720"/>
              <a:ext cx="1099800" cy="378360"/>
            </a:xfrm>
            <a:custGeom>
              <a:avLst/>
              <a:gdLst/>
              <a:ahLst/>
              <a:rect l="0" t="0" r="r" b="b"/>
              <a:pathLst>
                <a:path fill="none" w="3055" h="1051">
                  <a:moveTo>
                    <a:pt x="0" y="1051"/>
                  </a:moveTo>
                  <a:lnTo>
                    <a:pt x="0" y="1051"/>
                  </a:lnTo>
                  <a:cubicBezTo>
                    <a:pt x="536" y="1051"/>
                    <a:pt x="1063" y="1002"/>
                    <a:pt x="1528" y="910"/>
                  </a:cubicBezTo>
                  <a:cubicBezTo>
                    <a:pt x="1992" y="818"/>
                    <a:pt x="2378" y="685"/>
                    <a:pt x="2646" y="525"/>
                  </a:cubicBezTo>
                  <a:cubicBezTo>
                    <a:pt x="2914" y="366"/>
                    <a:pt x="3055" y="184"/>
                    <a:pt x="3055" y="0"/>
                  </a:cubicBezTo>
                </a:path>
              </a:pathLst>
            </a:custGeom>
            <a:ln w="12600">
              <a:solidFill>
                <a:srgbClr val="00cc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290600" y="5103720"/>
              <a:ext cx="1130760" cy="378360"/>
            </a:xfrm>
            <a:custGeom>
              <a:avLst/>
              <a:gdLst/>
              <a:ahLst/>
              <a:rect l="0" t="0" r="r" b="b"/>
              <a:pathLst>
                <a:path fill="none" w="3141" h="1051">
                  <a:moveTo>
                    <a:pt x="0" y="0"/>
                  </a:moveTo>
                  <a:lnTo>
                    <a:pt x="0" y="0"/>
                  </a:lnTo>
                  <a:cubicBezTo>
                    <a:pt x="0" y="184"/>
                    <a:pt x="145" y="366"/>
                    <a:pt x="421" y="526"/>
                  </a:cubicBezTo>
                  <a:cubicBezTo>
                    <a:pt x="696" y="685"/>
                    <a:pt x="1093" y="818"/>
                    <a:pt x="1571" y="910"/>
                  </a:cubicBezTo>
                  <a:cubicBezTo>
                    <a:pt x="2048" y="1002"/>
                    <a:pt x="2590" y="1051"/>
                    <a:pt x="3141" y="1051"/>
                  </a:cubicBezTo>
                </a:path>
              </a:pathLst>
            </a:custGeom>
            <a:ln w="12600">
              <a:solidFill>
                <a:srgbClr val="00cc99"/>
              </a:solidFill>
              <a:round/>
              <a:head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695680" y="4824360"/>
              <a:ext cx="753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 txBox="1"/>
            <p:nvPr/>
          </p:nvSpPr>
          <p:spPr>
            <a:xfrm>
              <a:off x="2811600" y="4808520"/>
              <a:ext cx="550800" cy="24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k(P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 txBox="1"/>
            <p:nvPr/>
          </p:nvSpPr>
          <p:spPr>
            <a:xfrm>
              <a:off x="2136600" y="5410080"/>
              <a:ext cx="531720" cy="24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tell(P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4800" y="4619520"/>
              <a:ext cx="636480" cy="466560"/>
            </a:xfrm>
            <a:prstGeom prst="roundRect">
              <a:avLst/>
            </a:prstGeom>
            <a:solidFill>
              <a:srgbClr val="438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 txBox="1"/>
            <p:nvPr/>
          </p:nvSpPr>
          <p:spPr>
            <a:xfrm>
              <a:off x="758880" y="4665600"/>
              <a:ext cx="376200" cy="50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5105520" y="1465200"/>
            <a:ext cx="3517920" cy="1965240"/>
            <a:chOff x="5105520" y="1465200"/>
            <a:chExt cx="3517920" cy="1965240"/>
          </a:xfrm>
        </p:grpSpPr>
        <p:sp>
          <p:nvSpPr>
            <p:cNvPr id="1246" name=""/>
            <p:cNvSpPr/>
            <p:nvPr/>
          </p:nvSpPr>
          <p:spPr>
            <a:xfrm>
              <a:off x="7981920" y="1932120"/>
              <a:ext cx="636480" cy="434880"/>
            </a:xfrm>
            <a:prstGeom prst="roundRect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588080" y="1757520"/>
              <a:ext cx="416160" cy="174960"/>
            </a:xfrm>
            <a:custGeom>
              <a:avLst/>
              <a:gdLst/>
              <a:ahLst/>
              <a:rect l="0" t="0" r="r" b="b"/>
              <a:pathLst>
                <a:path fill="none" w="1156" h="486">
                  <a:moveTo>
                    <a:pt x="1156" y="486"/>
                  </a:moveTo>
                  <a:lnTo>
                    <a:pt x="1156" y="486"/>
                  </a:lnTo>
                  <a:lnTo>
                    <a:pt x="1156" y="486"/>
                  </a:lnTo>
                  <a:cubicBezTo>
                    <a:pt x="1156" y="401"/>
                    <a:pt x="1103" y="317"/>
                    <a:pt x="1001" y="243"/>
                  </a:cubicBezTo>
                  <a:cubicBezTo>
                    <a:pt x="900" y="169"/>
                    <a:pt x="754" y="108"/>
                    <a:pt x="578" y="65"/>
                  </a:cubicBezTo>
                  <a:cubicBezTo>
                    <a:pt x="402" y="22"/>
                    <a:pt x="203" y="0"/>
                    <a:pt x="0" y="0"/>
                  </a:cubicBezTo>
                </a:path>
              </a:pathLst>
            </a:custGeom>
            <a:ln w="12600">
              <a:solidFill>
                <a:srgbClr val="fc012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159680" y="1757520"/>
              <a:ext cx="427320" cy="175680"/>
            </a:xfrm>
            <a:custGeom>
              <a:avLst/>
              <a:gdLst/>
              <a:ahLst/>
              <a:rect l="0" t="0" r="r" b="b"/>
              <a:pathLst>
                <a:path fill="none" w="1187" h="488">
                  <a:moveTo>
                    <a:pt x="1187" y="0"/>
                  </a:moveTo>
                  <a:lnTo>
                    <a:pt x="1187" y="0"/>
                  </a:lnTo>
                  <a:cubicBezTo>
                    <a:pt x="979" y="0"/>
                    <a:pt x="774" y="23"/>
                    <a:pt x="593" y="65"/>
                  </a:cubicBezTo>
                  <a:cubicBezTo>
                    <a:pt x="413" y="108"/>
                    <a:pt x="263" y="170"/>
                    <a:pt x="159" y="244"/>
                  </a:cubicBezTo>
                  <a:cubicBezTo>
                    <a:pt x="55" y="318"/>
                    <a:pt x="0" y="402"/>
                    <a:pt x="0" y="488"/>
                  </a:cubicBezTo>
                </a:path>
              </a:pathLst>
            </a:custGeom>
            <a:ln w="12600">
              <a:solidFill>
                <a:srgbClr val="fc0128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543720" y="1911240"/>
              <a:ext cx="628560" cy="419040"/>
            </a:xfrm>
            <a:prstGeom prst="round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21480" y="1771560"/>
              <a:ext cx="417960" cy="202680"/>
            </a:xfrm>
            <a:custGeom>
              <a:avLst/>
              <a:gdLst/>
              <a:ahLst/>
              <a:rect l="0" t="0" r="r" b="b"/>
              <a:pathLst>
                <a:path fill="none" w="1161" h="563">
                  <a:moveTo>
                    <a:pt x="1161" y="0"/>
                  </a:moveTo>
                  <a:lnTo>
                    <a:pt x="1161" y="0"/>
                  </a:lnTo>
                  <a:cubicBezTo>
                    <a:pt x="957" y="0"/>
                    <a:pt x="757" y="26"/>
                    <a:pt x="580" y="75"/>
                  </a:cubicBezTo>
                  <a:cubicBezTo>
                    <a:pt x="404" y="125"/>
                    <a:pt x="257" y="196"/>
                    <a:pt x="156" y="282"/>
                  </a:cubicBezTo>
                  <a:cubicBezTo>
                    <a:pt x="54" y="367"/>
                    <a:pt x="0" y="464"/>
                    <a:pt x="0" y="563"/>
                  </a:cubicBezTo>
                </a:path>
              </a:pathLst>
            </a:custGeom>
            <a:ln w="12600">
              <a:solidFill>
                <a:srgbClr val="438e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138720" y="1771560"/>
              <a:ext cx="429120" cy="203400"/>
            </a:xfrm>
            <a:custGeom>
              <a:avLst/>
              <a:gdLst/>
              <a:ahLst/>
              <a:rect l="0" t="0" r="r" b="b"/>
              <a:pathLst>
                <a:path fill="none" w="1192" h="565">
                  <a:moveTo>
                    <a:pt x="1192" y="565"/>
                  </a:moveTo>
                  <a:lnTo>
                    <a:pt x="1192" y="565"/>
                  </a:lnTo>
                  <a:lnTo>
                    <a:pt x="1192" y="565"/>
                  </a:lnTo>
                  <a:cubicBezTo>
                    <a:pt x="1192" y="466"/>
                    <a:pt x="1137" y="368"/>
                    <a:pt x="1032" y="282"/>
                  </a:cubicBezTo>
                  <a:cubicBezTo>
                    <a:pt x="928" y="197"/>
                    <a:pt x="777" y="125"/>
                    <a:pt x="596" y="76"/>
                  </a:cubicBezTo>
                  <a:cubicBezTo>
                    <a:pt x="415" y="26"/>
                    <a:pt x="209" y="0"/>
                    <a:pt x="0" y="0"/>
                  </a:cubicBezTo>
                </a:path>
              </a:pathLst>
            </a:custGeom>
            <a:ln w="12600">
              <a:solidFill>
                <a:srgbClr val="438e00"/>
              </a:solidFill>
              <a:round/>
              <a:head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 txBox="1"/>
            <p:nvPr/>
          </p:nvSpPr>
          <p:spPr>
            <a:xfrm>
              <a:off x="8155080" y="1870200"/>
              <a:ext cx="358920" cy="50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 txBox="1"/>
            <p:nvPr/>
          </p:nvSpPr>
          <p:spPr>
            <a:xfrm>
              <a:off x="5257800" y="1473120"/>
              <a:ext cx="1495440" cy="24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438e00"/>
                  </a:solidFill>
                  <a:latin typeface="Times New Roman"/>
                  <a:ea typeface="Times New Roman"/>
                </a:rPr>
                <a:t>recommend(ask(P)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 txBox="1"/>
            <p:nvPr/>
          </p:nvSpPr>
          <p:spPr>
            <a:xfrm>
              <a:off x="6678720" y="1870200"/>
              <a:ext cx="358920" cy="50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 txBox="1"/>
            <p:nvPr/>
          </p:nvSpPr>
          <p:spPr>
            <a:xfrm>
              <a:off x="7170840" y="1465200"/>
              <a:ext cx="917640" cy="24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adv(ask(P)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521320" y="2428920"/>
              <a:ext cx="1489320" cy="466920"/>
            </a:xfrm>
            <a:custGeom>
              <a:avLst/>
              <a:gdLst/>
              <a:ahLst/>
              <a:rect l="0" t="0" r="r" b="b"/>
              <a:pathLst>
                <a:path fill="none" w="4137" h="1297">
                  <a:moveTo>
                    <a:pt x="0" y="0"/>
                  </a:moveTo>
                  <a:lnTo>
                    <a:pt x="0" y="0"/>
                  </a:lnTo>
                  <a:cubicBezTo>
                    <a:pt x="0" y="228"/>
                    <a:pt x="191" y="451"/>
                    <a:pt x="554" y="649"/>
                  </a:cubicBezTo>
                  <a:cubicBezTo>
                    <a:pt x="917" y="846"/>
                    <a:pt x="1440" y="1009"/>
                    <a:pt x="2069" y="1123"/>
                  </a:cubicBezTo>
                  <a:cubicBezTo>
                    <a:pt x="2697" y="1237"/>
                    <a:pt x="3411" y="1297"/>
                    <a:pt x="4137" y="1297"/>
                  </a:cubicBezTo>
                </a:path>
              </a:pathLst>
            </a:custGeom>
            <a:ln w="12600">
              <a:solidFill>
                <a:srgbClr val="438e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934320" y="2428920"/>
              <a:ext cx="1352880" cy="466920"/>
            </a:xfrm>
            <a:custGeom>
              <a:avLst/>
              <a:gdLst/>
              <a:ahLst/>
              <a:rect l="0" t="0" r="r" b="b"/>
              <a:pathLst>
                <a:path fill="none" w="3758" h="1297">
                  <a:moveTo>
                    <a:pt x="0" y="1297"/>
                  </a:moveTo>
                  <a:lnTo>
                    <a:pt x="0" y="1297"/>
                  </a:lnTo>
                  <a:cubicBezTo>
                    <a:pt x="660" y="1297"/>
                    <a:pt x="1308" y="1237"/>
                    <a:pt x="1879" y="1123"/>
                  </a:cubicBezTo>
                  <a:cubicBezTo>
                    <a:pt x="2450" y="1009"/>
                    <a:pt x="2925" y="846"/>
                    <a:pt x="3255" y="648"/>
                  </a:cubicBezTo>
                  <a:cubicBezTo>
                    <a:pt x="3584" y="451"/>
                    <a:pt x="3758" y="228"/>
                    <a:pt x="3758" y="0"/>
                  </a:cubicBezTo>
                </a:path>
              </a:pathLst>
            </a:custGeom>
            <a:ln w="12600">
              <a:solidFill>
                <a:srgbClr val="438e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925320" y="2428920"/>
              <a:ext cx="1698120" cy="670320"/>
            </a:xfrm>
            <a:custGeom>
              <a:avLst/>
              <a:gdLst/>
              <a:ahLst/>
              <a:rect l="0" t="0" r="r" b="b"/>
              <a:pathLst>
                <a:path fill="none" w="4717" h="1862">
                  <a:moveTo>
                    <a:pt x="0" y="1862"/>
                  </a:moveTo>
                  <a:lnTo>
                    <a:pt x="0" y="1862"/>
                  </a:lnTo>
                  <a:cubicBezTo>
                    <a:pt x="828" y="1862"/>
                    <a:pt x="1641" y="1776"/>
                    <a:pt x="2359" y="1613"/>
                  </a:cubicBezTo>
                  <a:cubicBezTo>
                    <a:pt x="3076" y="1449"/>
                    <a:pt x="3671" y="1214"/>
                    <a:pt x="4085" y="931"/>
                  </a:cubicBezTo>
                  <a:cubicBezTo>
                    <a:pt x="4499" y="648"/>
                    <a:pt x="4717" y="327"/>
                    <a:pt x="4717" y="0"/>
                  </a:cubicBezTo>
                </a:path>
              </a:pathLst>
            </a:custGeom>
            <a:ln w="12600">
              <a:solidFill>
                <a:srgbClr val="00cc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84720" y="2428920"/>
              <a:ext cx="1744200" cy="670320"/>
            </a:xfrm>
            <a:custGeom>
              <a:avLst/>
              <a:gdLst/>
              <a:ahLst/>
              <a:rect l="0" t="0" r="r" b="b"/>
              <a:pathLst>
                <a:path fill="none" w="4845" h="1862">
                  <a:moveTo>
                    <a:pt x="0" y="0"/>
                  </a:moveTo>
                  <a:lnTo>
                    <a:pt x="0" y="0"/>
                  </a:lnTo>
                  <a:cubicBezTo>
                    <a:pt x="0" y="327"/>
                    <a:pt x="224" y="648"/>
                    <a:pt x="649" y="931"/>
                  </a:cubicBezTo>
                  <a:cubicBezTo>
                    <a:pt x="1074" y="1214"/>
                    <a:pt x="1686" y="1449"/>
                    <a:pt x="2423" y="1613"/>
                  </a:cubicBezTo>
                  <a:cubicBezTo>
                    <a:pt x="3159" y="1776"/>
                    <a:pt x="3995" y="1862"/>
                    <a:pt x="4845" y="1862"/>
                  </a:cubicBezTo>
                </a:path>
              </a:pathLst>
            </a:custGeom>
            <a:ln w="12600">
              <a:solidFill>
                <a:srgbClr val="00cc99"/>
              </a:solidFill>
              <a:round/>
              <a:head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 txBox="1"/>
            <p:nvPr/>
          </p:nvSpPr>
          <p:spPr>
            <a:xfrm>
              <a:off x="6635880" y="3181320"/>
              <a:ext cx="531720" cy="24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tell(P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 txBox="1"/>
            <p:nvPr/>
          </p:nvSpPr>
          <p:spPr>
            <a:xfrm>
              <a:off x="7402680" y="2612880"/>
              <a:ext cx="550800" cy="24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438e00"/>
                  </a:solidFill>
                  <a:latin typeface="Times New Roman"/>
                  <a:ea typeface="Times New Roman"/>
                </a:rPr>
                <a:t>ask(P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62520" y="2327400"/>
              <a:ext cx="416880" cy="201960"/>
            </a:xfrm>
            <a:custGeom>
              <a:avLst/>
              <a:gdLst/>
              <a:ahLst/>
              <a:rect l="0" t="0" r="r" b="b"/>
              <a:pathLst>
                <a:path fill="none" w="1158" h="561">
                  <a:moveTo>
                    <a:pt x="0" y="0"/>
                  </a:moveTo>
                  <a:lnTo>
                    <a:pt x="0" y="0"/>
                  </a:lnTo>
                  <a:cubicBezTo>
                    <a:pt x="0" y="98"/>
                    <a:pt x="54" y="195"/>
                    <a:pt x="155" y="281"/>
                  </a:cubicBezTo>
                  <a:cubicBezTo>
                    <a:pt x="257" y="366"/>
                    <a:pt x="403" y="437"/>
                    <a:pt x="579" y="486"/>
                  </a:cubicBezTo>
                  <a:cubicBezTo>
                    <a:pt x="755" y="535"/>
                    <a:pt x="955" y="561"/>
                    <a:pt x="1158" y="561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  <a:head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179400" y="2327400"/>
              <a:ext cx="428040" cy="201960"/>
            </a:xfrm>
            <a:custGeom>
              <a:avLst/>
              <a:gdLst/>
              <a:ahLst/>
              <a:rect l="0" t="0" r="r" b="b"/>
              <a:pathLst>
                <a:path fill="none" w="1189" h="561">
                  <a:moveTo>
                    <a:pt x="0" y="561"/>
                  </a:moveTo>
                  <a:lnTo>
                    <a:pt x="0" y="561"/>
                  </a:lnTo>
                  <a:cubicBezTo>
                    <a:pt x="209" y="561"/>
                    <a:pt x="414" y="535"/>
                    <a:pt x="595" y="486"/>
                  </a:cubicBezTo>
                  <a:cubicBezTo>
                    <a:pt x="775" y="437"/>
                    <a:pt x="925" y="366"/>
                    <a:pt x="1030" y="280"/>
                  </a:cubicBezTo>
                  <a:cubicBezTo>
                    <a:pt x="1134" y="195"/>
                    <a:pt x="1189" y="98"/>
                    <a:pt x="1189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 txBox="1"/>
            <p:nvPr/>
          </p:nvSpPr>
          <p:spPr>
            <a:xfrm>
              <a:off x="6072120" y="2479680"/>
              <a:ext cx="1293840" cy="24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wd(adv(ask(P))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105520" y="1943280"/>
              <a:ext cx="638280" cy="466560"/>
            </a:xfrm>
            <a:prstGeom prst="roundRect">
              <a:avLst/>
            </a:prstGeom>
            <a:solidFill>
              <a:srgbClr val="438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 txBox="1"/>
            <p:nvPr/>
          </p:nvSpPr>
          <p:spPr>
            <a:xfrm>
              <a:off x="5257800" y="1916280"/>
              <a:ext cx="376200" cy="50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4924440" y="3814920"/>
            <a:ext cx="3759480" cy="2134800"/>
            <a:chOff x="4924440" y="3814920"/>
            <a:chExt cx="3759480" cy="2134800"/>
          </a:xfrm>
        </p:grpSpPr>
        <p:sp>
          <p:nvSpPr>
            <p:cNvPr id="1268" name=""/>
            <p:cNvSpPr txBox="1"/>
            <p:nvPr/>
          </p:nvSpPr>
          <p:spPr>
            <a:xfrm>
              <a:off x="5305320" y="5700600"/>
              <a:ext cx="1677960" cy="24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438e00"/>
                  </a:solidFill>
                  <a:latin typeface="Times New Roman"/>
                  <a:ea typeface="Times New Roman"/>
                </a:rPr>
                <a:t>ask-one(register(B,...)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 txBox="1"/>
            <p:nvPr/>
          </p:nvSpPr>
          <p:spPr>
            <a:xfrm>
              <a:off x="5319720" y="5380200"/>
              <a:ext cx="376200" cy="50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959600" y="5010120"/>
              <a:ext cx="638280" cy="434880"/>
            </a:xfrm>
            <a:prstGeom prst="roundRect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576200" y="5429160"/>
              <a:ext cx="406080" cy="160560"/>
            </a:xfrm>
            <a:custGeom>
              <a:avLst/>
              <a:gdLst/>
              <a:ahLst/>
              <a:rect l="0" t="0" r="r" b="b"/>
              <a:pathLst>
                <a:path fill="none" w="1128" h="446">
                  <a:moveTo>
                    <a:pt x="0" y="446"/>
                  </a:moveTo>
                  <a:lnTo>
                    <a:pt x="0" y="446"/>
                  </a:lnTo>
                  <a:cubicBezTo>
                    <a:pt x="198" y="446"/>
                    <a:pt x="393" y="425"/>
                    <a:pt x="564" y="386"/>
                  </a:cubicBezTo>
                  <a:cubicBezTo>
                    <a:pt x="735" y="347"/>
                    <a:pt x="878" y="291"/>
                    <a:pt x="977" y="223"/>
                  </a:cubicBezTo>
                  <a:cubicBezTo>
                    <a:pt x="1076" y="155"/>
                    <a:pt x="1128" y="78"/>
                    <a:pt x="1128" y="0"/>
                  </a:cubicBezTo>
                </a:path>
              </a:pathLst>
            </a:custGeom>
            <a:ln w="12600">
              <a:solidFill>
                <a:srgbClr val="fc012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156440" y="5429160"/>
              <a:ext cx="418680" cy="160560"/>
            </a:xfrm>
            <a:custGeom>
              <a:avLst/>
              <a:gdLst/>
              <a:ahLst/>
              <a:rect l="0" t="0" r="r" b="b"/>
              <a:pathLst>
                <a:path fill="none" w="1163" h="446">
                  <a:moveTo>
                    <a:pt x="0" y="0"/>
                  </a:moveTo>
                  <a:lnTo>
                    <a:pt x="0" y="0"/>
                  </a:lnTo>
                  <a:cubicBezTo>
                    <a:pt x="0" y="78"/>
                    <a:pt x="54" y="155"/>
                    <a:pt x="156" y="223"/>
                  </a:cubicBezTo>
                  <a:cubicBezTo>
                    <a:pt x="258" y="291"/>
                    <a:pt x="405" y="347"/>
                    <a:pt x="582" y="386"/>
                  </a:cubicBezTo>
                  <a:cubicBezTo>
                    <a:pt x="758" y="425"/>
                    <a:pt x="959" y="446"/>
                    <a:pt x="1163" y="446"/>
                  </a:cubicBezTo>
                </a:path>
              </a:pathLst>
            </a:custGeom>
            <a:ln w="12600">
              <a:solidFill>
                <a:srgbClr val="fc0128"/>
              </a:solidFill>
              <a:round/>
              <a:head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 txBox="1"/>
            <p:nvPr/>
          </p:nvSpPr>
          <p:spPr>
            <a:xfrm>
              <a:off x="8080200" y="4967280"/>
              <a:ext cx="358920" cy="50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523200" y="4987800"/>
              <a:ext cx="628560" cy="419040"/>
            </a:xfrm>
            <a:prstGeom prst="round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 txBox="1"/>
            <p:nvPr/>
          </p:nvSpPr>
          <p:spPr>
            <a:xfrm>
              <a:off x="6535800" y="5089680"/>
              <a:ext cx="577800" cy="27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S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083200" y="5019840"/>
              <a:ext cx="638280" cy="466560"/>
            </a:xfrm>
            <a:prstGeom prst="roundRect">
              <a:avLst/>
            </a:prstGeom>
            <a:solidFill>
              <a:srgbClr val="438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697360" y="5438880"/>
              <a:ext cx="407520" cy="233640"/>
            </a:xfrm>
            <a:custGeom>
              <a:avLst/>
              <a:gdLst/>
              <a:ahLst/>
              <a:rect l="0" t="0" r="r" b="b"/>
              <a:pathLst>
                <a:path fill="none" w="1132" h="649">
                  <a:moveTo>
                    <a:pt x="0" y="0"/>
                  </a:moveTo>
                  <a:lnTo>
                    <a:pt x="0" y="0"/>
                  </a:lnTo>
                  <a:cubicBezTo>
                    <a:pt x="0" y="114"/>
                    <a:pt x="52" y="226"/>
                    <a:pt x="152" y="325"/>
                  </a:cubicBezTo>
                  <a:cubicBezTo>
                    <a:pt x="251" y="423"/>
                    <a:pt x="394" y="505"/>
                    <a:pt x="566" y="562"/>
                  </a:cubicBezTo>
                  <a:cubicBezTo>
                    <a:pt x="738" y="619"/>
                    <a:pt x="933" y="649"/>
                    <a:pt x="1132" y="649"/>
                  </a:cubicBezTo>
                </a:path>
              </a:pathLst>
            </a:custGeom>
            <a:ln w="12600">
              <a:solidFill>
                <a:srgbClr val="438e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104880" y="5438880"/>
              <a:ext cx="418680" cy="233640"/>
            </a:xfrm>
            <a:custGeom>
              <a:avLst/>
              <a:gdLst/>
              <a:ahLst/>
              <a:rect l="0" t="0" r="r" b="b"/>
              <a:pathLst>
                <a:path fill="none" w="1163" h="649">
                  <a:moveTo>
                    <a:pt x="0" y="649"/>
                  </a:moveTo>
                  <a:lnTo>
                    <a:pt x="0" y="649"/>
                  </a:lnTo>
                  <a:cubicBezTo>
                    <a:pt x="204" y="649"/>
                    <a:pt x="405" y="619"/>
                    <a:pt x="582" y="562"/>
                  </a:cubicBezTo>
                  <a:cubicBezTo>
                    <a:pt x="758" y="505"/>
                    <a:pt x="905" y="423"/>
                    <a:pt x="1007" y="324"/>
                  </a:cubicBezTo>
                  <a:cubicBezTo>
                    <a:pt x="1109" y="226"/>
                    <a:pt x="1163" y="114"/>
                    <a:pt x="1163" y="0"/>
                  </a:cubicBezTo>
                </a:path>
              </a:pathLst>
            </a:custGeom>
            <a:ln w="12600">
              <a:solidFill>
                <a:srgbClr val="438e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00600" y="4842000"/>
              <a:ext cx="416880" cy="210600"/>
            </a:xfrm>
            <a:custGeom>
              <a:avLst/>
              <a:gdLst/>
              <a:ahLst/>
              <a:rect l="0" t="0" r="r" b="b"/>
              <a:pathLst>
                <a:path fill="none" w="1158" h="585">
                  <a:moveTo>
                    <a:pt x="1158" y="0"/>
                  </a:moveTo>
                  <a:lnTo>
                    <a:pt x="1158" y="0"/>
                  </a:lnTo>
                  <a:cubicBezTo>
                    <a:pt x="955" y="0"/>
                    <a:pt x="755" y="27"/>
                    <a:pt x="579" y="78"/>
                  </a:cubicBezTo>
                  <a:cubicBezTo>
                    <a:pt x="403" y="130"/>
                    <a:pt x="257" y="204"/>
                    <a:pt x="155" y="293"/>
                  </a:cubicBezTo>
                  <a:cubicBezTo>
                    <a:pt x="54" y="381"/>
                    <a:pt x="0" y="482"/>
                    <a:pt x="0" y="585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116760" y="4842000"/>
              <a:ext cx="429120" cy="209880"/>
            </a:xfrm>
            <a:custGeom>
              <a:avLst/>
              <a:gdLst/>
              <a:ahLst/>
              <a:rect l="0" t="0" r="r" b="b"/>
              <a:pathLst>
                <a:path fill="none" w="1192" h="583">
                  <a:moveTo>
                    <a:pt x="1192" y="583"/>
                  </a:moveTo>
                  <a:lnTo>
                    <a:pt x="1192" y="583"/>
                  </a:lnTo>
                  <a:lnTo>
                    <a:pt x="1192" y="583"/>
                  </a:lnTo>
                  <a:cubicBezTo>
                    <a:pt x="1192" y="481"/>
                    <a:pt x="1137" y="380"/>
                    <a:pt x="1032" y="291"/>
                  </a:cubicBezTo>
                  <a:cubicBezTo>
                    <a:pt x="928" y="203"/>
                    <a:pt x="777" y="129"/>
                    <a:pt x="596" y="78"/>
                  </a:cubicBezTo>
                  <a:cubicBezTo>
                    <a:pt x="415" y="27"/>
                    <a:pt x="209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 txBox="1"/>
            <p:nvPr/>
          </p:nvSpPr>
          <p:spPr>
            <a:xfrm>
              <a:off x="5241960" y="4973760"/>
              <a:ext cx="357120" cy="50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 txBox="1"/>
            <p:nvPr/>
          </p:nvSpPr>
          <p:spPr>
            <a:xfrm>
              <a:off x="7521480" y="5629320"/>
              <a:ext cx="1027080" cy="24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register(B,...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 txBox="1"/>
            <p:nvPr/>
          </p:nvSpPr>
          <p:spPr>
            <a:xfrm>
              <a:off x="4924440" y="4668840"/>
              <a:ext cx="1398600" cy="24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ll(register(B,,...)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523200" y="3814920"/>
              <a:ext cx="628560" cy="419040"/>
            </a:xfrm>
            <a:prstGeom prst="roundRect">
              <a:avLst/>
            </a:prstGeom>
            <a:solidFill>
              <a:srgbClr val="7b00e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 txBox="1"/>
            <p:nvPr/>
          </p:nvSpPr>
          <p:spPr>
            <a:xfrm>
              <a:off x="6541920" y="3916440"/>
              <a:ext cx="577800" cy="27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S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669000" y="4273560"/>
              <a:ext cx="0" cy="671400"/>
            </a:xfrm>
            <a:prstGeom prst="line">
              <a:avLst/>
            </a:prstGeom>
            <a:ln w="12600">
              <a:solidFill>
                <a:srgbClr val="7b00e4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962760" y="4273560"/>
              <a:ext cx="0" cy="671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 txBox="1"/>
            <p:nvPr/>
          </p:nvSpPr>
          <p:spPr>
            <a:xfrm>
              <a:off x="6996240" y="4510080"/>
              <a:ext cx="1687680" cy="24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k-one(register(D,...)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 txBox="1"/>
            <p:nvPr/>
          </p:nvSpPr>
          <p:spPr>
            <a:xfrm>
              <a:off x="5291280" y="4297320"/>
              <a:ext cx="1407960" cy="24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7b00e4"/>
                  </a:solidFill>
                  <a:latin typeface="Times New Roman"/>
                  <a:ea typeface="Times New Roman"/>
                </a:rPr>
                <a:t>tell(register(D,,...)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0" name=""/>
          <p:cNvSpPr txBox="1"/>
          <p:nvPr/>
        </p:nvSpPr>
        <p:spPr>
          <a:xfrm>
            <a:off x="60480" y="2911320"/>
            <a:ext cx="1270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136440" y="5883120"/>
            <a:ext cx="1328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4572000" y="2913120"/>
            <a:ext cx="2079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4572000" y="6035760"/>
            <a:ext cx="1447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2286000"/>
            <a:ext cx="7772400" cy="270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gent </a:t>
            </a:r>
            <a:br>
              <a:rPr sz="9600"/>
            </a:br>
            <a:r>
              <a:rPr b="1" lang="en-US" sz="9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rchitectur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871560" y="403200"/>
            <a:ext cx="75279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KQML Semanti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873000" y="2031840"/>
            <a:ext cx="709308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antics currently defined 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onditions and postconditions on sending and receiving agents in term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icates describing the virtual knowledge base (“mental states”) of agent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mmars describing  constraints on coherent discou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(Labrou 1996) and (Labrou and Finin, 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204840" y="187200"/>
            <a:ext cx="84297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KQML APIs and </a:t>
            </a:r>
            <a:br>
              <a:rPr sz="4000"/>
            </a:br>
            <a:r>
              <a:rPr b="1" lang="en-US" sz="4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ystem 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291960" y="1492200"/>
            <a:ext cx="8255160" cy="51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7840" indent="-177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QML AP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216000">
              <a:lnSpc>
                <a:spcPct val="100000"/>
              </a:lnSpc>
              <a:spcBef>
                <a:spcPts val="28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TS (Loral/UM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216000">
              <a:lnSpc>
                <a:spcPct val="100000"/>
              </a:lnSpc>
              <a:spcBef>
                <a:spcPts val="28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PI (Lockheed/EIT/Stanfor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216000">
              <a:lnSpc>
                <a:spcPct val="100000"/>
              </a:lnSpc>
              <a:spcBef>
                <a:spcPts val="28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ENTA (Stanf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216000">
              <a:lnSpc>
                <a:spcPct val="100000"/>
              </a:lnSpc>
              <a:spcBef>
                <a:spcPts val="28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sleuth (MC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216000">
              <a:lnSpc>
                <a:spcPct val="100000"/>
              </a:lnSpc>
              <a:spcBef>
                <a:spcPts val="28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Ware (Cryzal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216000">
              <a:lnSpc>
                <a:spcPct val="100000"/>
              </a:lnSpc>
              <a:spcBef>
                <a:spcPts val="28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ronto - Lisp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216000">
              <a:lnSpc>
                <a:spcPct val="100000"/>
              </a:lnSpc>
              <a:spcBef>
                <a:spcPts val="28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AgentTemplate (Stanford), Jackal (UMBC) --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216000">
              <a:lnSpc>
                <a:spcPct val="100000"/>
              </a:lnSpc>
              <a:spcBef>
                <a:spcPts val="28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QML (UMBC) -- Tck/T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216000">
              <a:lnSpc>
                <a:spcPct val="100000"/>
              </a:lnSpc>
              <a:spcBef>
                <a:spcPts val="28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: Lisp, C, C++, Perl, Prolog, Tcl, CLIPS, Scheme, Java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216000">
              <a:lnSpc>
                <a:spcPct val="100000"/>
              </a:lnSpc>
              <a:spcBef>
                <a:spcPts val="28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 languages: LOOM, KRSL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216000">
              <a:lnSpc>
                <a:spcPct val="100000"/>
              </a:lnSpc>
              <a:spcBef>
                <a:spcPts val="28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s: DBMSs, SIMS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 txBox="1"/>
          <p:nvPr/>
        </p:nvSpPr>
        <p:spPr>
          <a:xfrm>
            <a:off x="304920" y="380880"/>
            <a:ext cx="853452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Lockheed/UMBC KQML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Software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3716280" y="1600200"/>
            <a:ext cx="5351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1360" indent="-17136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860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 independent message rou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860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er agent - handles sending and  asynchronous receiving of mess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860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Representation Interface Libr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860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s incoming KQML messages to application hand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agent facilitate building MAS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860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name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860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ger, Controller, Visualizer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860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r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860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y agent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860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tor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"/>
          <p:cNvGrpSpPr/>
          <p:nvPr/>
        </p:nvGrpSpPr>
        <p:grpSpPr>
          <a:xfrm>
            <a:off x="223920" y="2016000"/>
            <a:ext cx="3581280" cy="3878280"/>
            <a:chOff x="223920" y="2016000"/>
            <a:chExt cx="3581280" cy="3878280"/>
          </a:xfrm>
        </p:grpSpPr>
        <p:sp>
          <p:nvSpPr>
            <p:cNvPr id="1319" name=""/>
            <p:cNvSpPr txBox="1"/>
            <p:nvPr/>
          </p:nvSpPr>
          <p:spPr>
            <a:xfrm>
              <a:off x="223920" y="5614920"/>
              <a:ext cx="852480" cy="27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twor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0" name=""/>
            <p:cNvGrpSpPr/>
            <p:nvPr/>
          </p:nvGrpSpPr>
          <p:grpSpPr>
            <a:xfrm>
              <a:off x="2570040" y="2927520"/>
              <a:ext cx="1235160" cy="1418040"/>
              <a:chOff x="2570040" y="2927520"/>
              <a:chExt cx="1235160" cy="1418040"/>
            </a:xfrm>
          </p:grpSpPr>
          <p:sp>
            <p:nvSpPr>
              <p:cNvPr id="1321" name=""/>
              <p:cNvSpPr/>
              <p:nvPr/>
            </p:nvSpPr>
            <p:spPr>
              <a:xfrm>
                <a:off x="2570040" y="2927520"/>
                <a:ext cx="1140120" cy="1418040"/>
              </a:xfrm>
              <a:custGeom>
                <a:avLst/>
                <a:gdLst/>
                <a:ahLst/>
                <a:rect l="0" t="0" r="r" b="b"/>
                <a:pathLst>
                  <a:path w="3167" h="3939">
                    <a:moveTo>
                      <a:pt x="3167" y="3939"/>
                    </a:moveTo>
                    <a:lnTo>
                      <a:pt x="633" y="3939"/>
                    </a:lnTo>
                    <a:lnTo>
                      <a:pt x="0" y="3152"/>
                    </a:lnTo>
                    <a:lnTo>
                      <a:pt x="0" y="0"/>
                    </a:lnTo>
                    <a:lnTo>
                      <a:pt x="633" y="787"/>
                    </a:lnTo>
                    <a:lnTo>
                      <a:pt x="633" y="3939"/>
                    </a:lnTo>
                    <a:lnTo>
                      <a:pt x="633" y="787"/>
                    </a:lnTo>
                    <a:lnTo>
                      <a:pt x="3167" y="787"/>
                    </a:lnTo>
                    <a:lnTo>
                      <a:pt x="2533" y="0"/>
                    </a:lnTo>
                    <a:lnTo>
                      <a:pt x="0" y="0"/>
                    </a:lnTo>
                    <a:lnTo>
                      <a:pt x="2533" y="0"/>
                    </a:lnTo>
                    <a:lnTo>
                      <a:pt x="3167" y="787"/>
                    </a:lnTo>
                    <a:lnTo>
                      <a:pt x="3167" y="3939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 txBox="1"/>
              <p:nvPr/>
            </p:nvSpPr>
            <p:spPr>
              <a:xfrm>
                <a:off x="2916360" y="3571920"/>
                <a:ext cx="8888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gent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398520" y="2506680"/>
              <a:ext cx="425520" cy="3110040"/>
              <a:chOff x="398520" y="2506680"/>
              <a:chExt cx="425520" cy="3110040"/>
            </a:xfrm>
          </p:grpSpPr>
          <p:sp>
            <p:nvSpPr>
              <p:cNvPr id="1324" name=""/>
              <p:cNvSpPr/>
              <p:nvPr/>
            </p:nvSpPr>
            <p:spPr>
              <a:xfrm>
                <a:off x="398520" y="2506680"/>
                <a:ext cx="425520" cy="31100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824040" y="2506680"/>
                <a:ext cx="0" cy="311004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398520" y="2506680"/>
                <a:ext cx="0" cy="311004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77800" y="2506680"/>
                <a:ext cx="0" cy="311004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38280" y="2506680"/>
                <a:ext cx="0" cy="311004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9" name=""/>
            <p:cNvSpPr/>
            <p:nvPr/>
          </p:nvSpPr>
          <p:spPr>
            <a:xfrm>
              <a:off x="1841400" y="3228840"/>
              <a:ext cx="254520" cy="808560"/>
            </a:xfrm>
            <a:custGeom>
              <a:avLst/>
              <a:gdLst/>
              <a:ahLst/>
              <a:rect l="0" t="0" r="r" b="b"/>
              <a:pathLst>
                <a:path w="707" h="2246">
                  <a:moveTo>
                    <a:pt x="707" y="2246"/>
                  </a:moveTo>
                  <a:lnTo>
                    <a:pt x="141" y="2246"/>
                  </a:lnTo>
                  <a:lnTo>
                    <a:pt x="0" y="1797"/>
                  </a:lnTo>
                  <a:lnTo>
                    <a:pt x="0" y="0"/>
                  </a:lnTo>
                  <a:lnTo>
                    <a:pt x="141" y="448"/>
                  </a:lnTo>
                  <a:lnTo>
                    <a:pt x="141" y="2246"/>
                  </a:lnTo>
                  <a:lnTo>
                    <a:pt x="141" y="448"/>
                  </a:lnTo>
                  <a:lnTo>
                    <a:pt x="707" y="448"/>
                  </a:lnTo>
                  <a:lnTo>
                    <a:pt x="566" y="0"/>
                  </a:lnTo>
                  <a:lnTo>
                    <a:pt x="0" y="0"/>
                  </a:lnTo>
                  <a:lnTo>
                    <a:pt x="566" y="0"/>
                  </a:lnTo>
                  <a:lnTo>
                    <a:pt x="707" y="448"/>
                  </a:lnTo>
                  <a:lnTo>
                    <a:pt x="707" y="224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 txBox="1"/>
            <p:nvPr/>
          </p:nvSpPr>
          <p:spPr>
            <a:xfrm>
              <a:off x="998640" y="4079880"/>
              <a:ext cx="8668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oute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 txBox="1"/>
            <p:nvPr/>
          </p:nvSpPr>
          <p:spPr>
            <a:xfrm>
              <a:off x="1809720" y="4405320"/>
              <a:ext cx="7603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RI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 txBox="1"/>
            <p:nvPr/>
          </p:nvSpPr>
          <p:spPr>
            <a:xfrm>
              <a:off x="938160" y="2549520"/>
              <a:ext cx="7491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QM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in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62120" y="3657600"/>
              <a:ext cx="114300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1523880" y="3886200"/>
              <a:ext cx="30492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 txBox="1"/>
            <p:nvPr/>
          </p:nvSpPr>
          <p:spPr>
            <a:xfrm>
              <a:off x="1547640" y="2092320"/>
              <a:ext cx="7603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QM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219320" y="3048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981080" y="2590920"/>
              <a:ext cx="304920" cy="9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43200" y="3429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666880" y="3581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743200" y="3657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38098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66880" y="39625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494080" y="3228840"/>
              <a:ext cx="259200" cy="808560"/>
            </a:xfrm>
            <a:custGeom>
              <a:avLst/>
              <a:gdLst/>
              <a:ahLst/>
              <a:rect l="0" t="0" r="r" b="b"/>
              <a:pathLst>
                <a:path w="720" h="2246">
                  <a:moveTo>
                    <a:pt x="720" y="2246"/>
                  </a:moveTo>
                  <a:lnTo>
                    <a:pt x="143" y="2246"/>
                  </a:lnTo>
                  <a:lnTo>
                    <a:pt x="0" y="1797"/>
                  </a:lnTo>
                  <a:lnTo>
                    <a:pt x="0" y="0"/>
                  </a:lnTo>
                  <a:lnTo>
                    <a:pt x="143" y="448"/>
                  </a:lnTo>
                  <a:lnTo>
                    <a:pt x="143" y="2246"/>
                  </a:lnTo>
                  <a:lnTo>
                    <a:pt x="143" y="448"/>
                  </a:lnTo>
                  <a:lnTo>
                    <a:pt x="720" y="448"/>
                  </a:lnTo>
                  <a:lnTo>
                    <a:pt x="577" y="0"/>
                  </a:lnTo>
                  <a:lnTo>
                    <a:pt x="0" y="0"/>
                  </a:lnTo>
                  <a:lnTo>
                    <a:pt x="577" y="0"/>
                  </a:lnTo>
                  <a:lnTo>
                    <a:pt x="720" y="448"/>
                  </a:lnTo>
                  <a:lnTo>
                    <a:pt x="720" y="224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92320" y="3664080"/>
              <a:ext cx="47952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2209680" y="3886200"/>
              <a:ext cx="381240" cy="533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 txBox="1"/>
            <p:nvPr/>
          </p:nvSpPr>
          <p:spPr>
            <a:xfrm>
              <a:off x="2538360" y="2016000"/>
              <a:ext cx="85104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3200" y="2590920"/>
              <a:ext cx="76320" cy="9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304920" y="165240"/>
            <a:ext cx="853452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KQML Utility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330120" y="1295280"/>
            <a:ext cx="84837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47680" indent="-247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4324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have developed a number of KQML speaking utility agents based on standard ont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0952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Font typeface="Monotype Sorts"/>
              <a:buChar char=""/>
              <a:tabLst>
                <a:tab algn="l" pos="4000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Name Ser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0952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Font typeface="Monotype Sorts"/>
              <a:buChar char=""/>
              <a:tabLst>
                <a:tab algn="l" pos="4000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Ro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0952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Font typeface="Monotype Sorts"/>
              <a:buChar char=""/>
              <a:tabLst>
                <a:tab algn="l" pos="4000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Visual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0952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Font typeface="Monotype Sorts"/>
              <a:buChar char=""/>
              <a:tabLst>
                <a:tab algn="l" pos="4000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xy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4740120" y="4003560"/>
            <a:ext cx="4067280" cy="2776680"/>
            <a:chOff x="4740120" y="4003560"/>
            <a:chExt cx="4067280" cy="2776680"/>
          </a:xfrm>
        </p:grpSpPr>
        <p:grpSp>
          <p:nvGrpSpPr>
            <p:cNvPr id="1357" name=""/>
            <p:cNvGrpSpPr/>
            <p:nvPr/>
          </p:nvGrpSpPr>
          <p:grpSpPr>
            <a:xfrm>
              <a:off x="6026040" y="4003560"/>
              <a:ext cx="2781360" cy="2776680"/>
              <a:chOff x="6026040" y="4003560"/>
              <a:chExt cx="2781360" cy="2776680"/>
            </a:xfrm>
          </p:grpSpPr>
          <p:sp>
            <p:nvSpPr>
              <p:cNvPr id="1358" name=""/>
              <p:cNvSpPr/>
              <p:nvPr/>
            </p:nvSpPr>
            <p:spPr>
              <a:xfrm>
                <a:off x="6311880" y="4003560"/>
                <a:ext cx="252360" cy="27766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564240" y="4003560"/>
                <a:ext cx="0" cy="240984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284880" y="4003560"/>
                <a:ext cx="0" cy="240984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405480" y="4003560"/>
                <a:ext cx="9720" cy="2729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446880" y="4003560"/>
                <a:ext cx="0" cy="240984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 txBox="1"/>
              <p:nvPr/>
            </p:nvSpPr>
            <p:spPr>
              <a:xfrm>
                <a:off x="6026040" y="6289560"/>
                <a:ext cx="623880" cy="204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etwor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4" name=""/>
              <p:cNvGrpSpPr/>
              <p:nvPr/>
            </p:nvGrpSpPr>
            <p:grpSpPr>
              <a:xfrm>
                <a:off x="6585120" y="6102360"/>
                <a:ext cx="1873440" cy="660240"/>
                <a:chOff x="6585120" y="6102360"/>
                <a:chExt cx="1873440" cy="660240"/>
              </a:xfrm>
            </p:grpSpPr>
            <p:sp>
              <p:nvSpPr>
                <p:cNvPr id="1365" name=""/>
                <p:cNvSpPr/>
                <p:nvPr/>
              </p:nvSpPr>
              <p:spPr>
                <a:xfrm>
                  <a:off x="7304040" y="6102360"/>
                  <a:ext cx="545040" cy="605160"/>
                </a:xfrm>
                <a:custGeom>
                  <a:avLst/>
                  <a:gdLst/>
                  <a:ahLst/>
                  <a:rect l="0" t="0" r="r" b="b"/>
                  <a:pathLst>
                    <a:path w="1514" h="1681">
                      <a:moveTo>
                        <a:pt x="1514" y="1681"/>
                      </a:moveTo>
                      <a:lnTo>
                        <a:pt x="302" y="1681"/>
                      </a:lnTo>
                      <a:lnTo>
                        <a:pt x="0" y="1345"/>
                      </a:lnTo>
                      <a:lnTo>
                        <a:pt x="0" y="0"/>
                      </a:lnTo>
                      <a:lnTo>
                        <a:pt x="302" y="336"/>
                      </a:lnTo>
                      <a:lnTo>
                        <a:pt x="302" y="1681"/>
                      </a:lnTo>
                      <a:lnTo>
                        <a:pt x="302" y="336"/>
                      </a:lnTo>
                      <a:lnTo>
                        <a:pt x="1514" y="336"/>
                      </a:lnTo>
                      <a:lnTo>
                        <a:pt x="1212" y="0"/>
                      </a:lnTo>
                      <a:lnTo>
                        <a:pt x="0" y="0"/>
                      </a:lnTo>
                      <a:lnTo>
                        <a:pt x="1212" y="0"/>
                      </a:lnTo>
                      <a:lnTo>
                        <a:pt x="1514" y="336"/>
                      </a:lnTo>
                      <a:lnTo>
                        <a:pt x="1514" y="1681"/>
                      </a:lnTo>
                      <a:close/>
                    </a:path>
                  </a:pathLst>
                </a:custGeom>
                <a:solidFill>
                  <a:srgbClr val="618ffd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 txBox="1"/>
                <p:nvPr/>
              </p:nvSpPr>
              <p:spPr>
                <a:xfrm>
                  <a:off x="7442280" y="6373800"/>
                  <a:ext cx="538200" cy="24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ogger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"/>
                <p:cNvSpPr txBox="1"/>
                <p:nvPr/>
              </p:nvSpPr>
              <p:spPr>
                <a:xfrm>
                  <a:off x="7648560" y="6559560"/>
                  <a:ext cx="190440" cy="20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7246800" y="6175440"/>
                  <a:ext cx="168480" cy="470160"/>
                </a:xfrm>
                <a:custGeom>
                  <a:avLst/>
                  <a:gdLst/>
                  <a:ahLst/>
                  <a:rect l="0" t="0" r="r" b="b"/>
                  <a:pathLst>
                    <a:path w="468" h="1306">
                      <a:moveTo>
                        <a:pt x="468" y="1306"/>
                      </a:moveTo>
                      <a:lnTo>
                        <a:pt x="93" y="1306"/>
                      </a:lnTo>
                      <a:lnTo>
                        <a:pt x="0" y="1045"/>
                      </a:lnTo>
                      <a:lnTo>
                        <a:pt x="0" y="0"/>
                      </a:lnTo>
                      <a:lnTo>
                        <a:pt x="93" y="261"/>
                      </a:lnTo>
                      <a:lnTo>
                        <a:pt x="93" y="1306"/>
                      </a:lnTo>
                      <a:lnTo>
                        <a:pt x="93" y="261"/>
                      </a:lnTo>
                      <a:lnTo>
                        <a:pt x="468" y="261"/>
                      </a:lnTo>
                      <a:lnTo>
                        <a:pt x="374" y="0"/>
                      </a:lnTo>
                      <a:lnTo>
                        <a:pt x="0" y="0"/>
                      </a:lnTo>
                      <a:lnTo>
                        <a:pt x="374" y="0"/>
                      </a:lnTo>
                      <a:lnTo>
                        <a:pt x="468" y="261"/>
                      </a:lnTo>
                      <a:lnTo>
                        <a:pt x="468" y="130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6585120" y="6419880"/>
                  <a:ext cx="698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8150400" y="6346800"/>
                  <a:ext cx="308160" cy="268560"/>
                </a:xfrm>
                <a:custGeom>
                  <a:avLst/>
                  <a:gdLst/>
                  <a:ahLst/>
                  <a:rect l="0" t="0" r="r" b="b"/>
                  <a:pathLst>
                    <a:path w="856" h="746">
                      <a:moveTo>
                        <a:pt x="0" y="746"/>
                      </a:moveTo>
                      <a:lnTo>
                        <a:pt x="256" y="0"/>
                      </a:lnTo>
                      <a:lnTo>
                        <a:pt x="599" y="0"/>
                      </a:lnTo>
                      <a:lnTo>
                        <a:pt x="856" y="746"/>
                      </a:lnTo>
                      <a:lnTo>
                        <a:pt x="0" y="746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7843680" y="64371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2" name=""/>
              <p:cNvSpPr/>
              <p:nvPr/>
            </p:nvSpPr>
            <p:spPr>
              <a:xfrm flipV="1">
                <a:off x="7994520" y="5778360"/>
                <a:ext cx="0" cy="64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 txBox="1"/>
              <p:nvPr/>
            </p:nvSpPr>
            <p:spPr>
              <a:xfrm>
                <a:off x="7835760" y="5978520"/>
                <a:ext cx="971640" cy="34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60000"/>
                  </a:lnSpc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og stream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8021520" y="4732200"/>
                <a:ext cx="460440" cy="18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246800" y="5264280"/>
                <a:ext cx="168480" cy="478080"/>
              </a:xfrm>
              <a:custGeom>
                <a:avLst/>
                <a:gdLst/>
                <a:ahLst/>
                <a:rect l="0" t="0" r="r" b="b"/>
                <a:pathLst>
                  <a:path w="468" h="1328">
                    <a:moveTo>
                      <a:pt x="468" y="1328"/>
                    </a:moveTo>
                    <a:lnTo>
                      <a:pt x="93" y="1328"/>
                    </a:lnTo>
                    <a:lnTo>
                      <a:pt x="0" y="1062"/>
                    </a:lnTo>
                    <a:lnTo>
                      <a:pt x="0" y="0"/>
                    </a:lnTo>
                    <a:lnTo>
                      <a:pt x="93" y="265"/>
                    </a:lnTo>
                    <a:lnTo>
                      <a:pt x="93" y="1328"/>
                    </a:lnTo>
                    <a:lnTo>
                      <a:pt x="93" y="265"/>
                    </a:lnTo>
                    <a:lnTo>
                      <a:pt x="468" y="265"/>
                    </a:lnTo>
                    <a:lnTo>
                      <a:pt x="374" y="0"/>
                    </a:lnTo>
                    <a:lnTo>
                      <a:pt x="0" y="0"/>
                    </a:lnTo>
                    <a:lnTo>
                      <a:pt x="374" y="0"/>
                    </a:lnTo>
                    <a:lnTo>
                      <a:pt x="468" y="265"/>
                    </a:lnTo>
                    <a:lnTo>
                      <a:pt x="468" y="1328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585120" y="5465880"/>
                <a:ext cx="69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734240" y="5141880"/>
                <a:ext cx="465480" cy="684720"/>
              </a:xfrm>
              <a:custGeom>
                <a:avLst/>
                <a:gdLst/>
                <a:ahLst/>
                <a:rect l="0" t="0" r="r" b="b"/>
                <a:pathLst>
                  <a:path w="1293" h="1902">
                    <a:moveTo>
                      <a:pt x="1293" y="1902"/>
                    </a:moveTo>
                    <a:lnTo>
                      <a:pt x="258" y="1902"/>
                    </a:lnTo>
                    <a:lnTo>
                      <a:pt x="0" y="1522"/>
                    </a:lnTo>
                    <a:lnTo>
                      <a:pt x="0" y="0"/>
                    </a:lnTo>
                    <a:lnTo>
                      <a:pt x="258" y="380"/>
                    </a:lnTo>
                    <a:lnTo>
                      <a:pt x="258" y="1902"/>
                    </a:lnTo>
                    <a:lnTo>
                      <a:pt x="258" y="380"/>
                    </a:lnTo>
                    <a:lnTo>
                      <a:pt x="1293" y="380"/>
                    </a:lnTo>
                    <a:lnTo>
                      <a:pt x="1034" y="0"/>
                    </a:lnTo>
                    <a:lnTo>
                      <a:pt x="0" y="0"/>
                    </a:lnTo>
                    <a:lnTo>
                      <a:pt x="1034" y="0"/>
                    </a:lnTo>
                    <a:lnTo>
                      <a:pt x="1293" y="380"/>
                    </a:lnTo>
                    <a:lnTo>
                      <a:pt x="1293" y="1902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 txBox="1"/>
              <p:nvPr/>
            </p:nvSpPr>
            <p:spPr>
              <a:xfrm>
                <a:off x="7878600" y="5634000"/>
                <a:ext cx="909720" cy="282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isualiz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683480" y="5208480"/>
                <a:ext cx="168480" cy="478080"/>
              </a:xfrm>
              <a:custGeom>
                <a:avLst/>
                <a:gdLst/>
                <a:ahLst/>
                <a:rect l="0" t="0" r="r" b="b"/>
                <a:pathLst>
                  <a:path w="468" h="1328">
                    <a:moveTo>
                      <a:pt x="468" y="1328"/>
                    </a:moveTo>
                    <a:lnTo>
                      <a:pt x="93" y="1328"/>
                    </a:lnTo>
                    <a:lnTo>
                      <a:pt x="0" y="1062"/>
                    </a:lnTo>
                    <a:lnTo>
                      <a:pt x="0" y="0"/>
                    </a:lnTo>
                    <a:lnTo>
                      <a:pt x="93" y="265"/>
                    </a:lnTo>
                    <a:lnTo>
                      <a:pt x="93" y="1328"/>
                    </a:lnTo>
                    <a:lnTo>
                      <a:pt x="93" y="265"/>
                    </a:lnTo>
                    <a:lnTo>
                      <a:pt x="468" y="265"/>
                    </a:lnTo>
                    <a:lnTo>
                      <a:pt x="374" y="0"/>
                    </a:lnTo>
                    <a:lnTo>
                      <a:pt x="0" y="0"/>
                    </a:lnTo>
                    <a:lnTo>
                      <a:pt x="374" y="0"/>
                    </a:lnTo>
                    <a:lnTo>
                      <a:pt x="468" y="265"/>
                    </a:lnTo>
                    <a:lnTo>
                      <a:pt x="468" y="1328"/>
                    </a:lnTo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415280" y="5465880"/>
                <a:ext cx="3189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8160" rIns="128160" tIns="-83160" bIns="-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7281720" y="4456080"/>
                <a:ext cx="0" cy="9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 txBox="1"/>
              <p:nvPr/>
            </p:nvSpPr>
            <p:spPr>
              <a:xfrm>
                <a:off x="6754680" y="4692600"/>
                <a:ext cx="1081080" cy="298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egistration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 txBox="1"/>
              <p:nvPr/>
            </p:nvSpPr>
            <p:spPr>
              <a:xfrm>
                <a:off x="8288280" y="6356520"/>
                <a:ext cx="457200" cy="298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og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304040" y="4051440"/>
                <a:ext cx="545040" cy="606960"/>
              </a:xfrm>
              <a:custGeom>
                <a:avLst/>
                <a:gdLst/>
                <a:ahLst/>
                <a:rect l="0" t="0" r="r" b="b"/>
                <a:pathLst>
                  <a:path w="1514" h="1686">
                    <a:moveTo>
                      <a:pt x="1514" y="1686"/>
                    </a:moveTo>
                    <a:lnTo>
                      <a:pt x="302" y="1686"/>
                    </a:lnTo>
                    <a:lnTo>
                      <a:pt x="0" y="1349"/>
                    </a:lnTo>
                    <a:lnTo>
                      <a:pt x="0" y="0"/>
                    </a:lnTo>
                    <a:lnTo>
                      <a:pt x="302" y="336"/>
                    </a:lnTo>
                    <a:lnTo>
                      <a:pt x="302" y="1686"/>
                    </a:lnTo>
                    <a:lnTo>
                      <a:pt x="302" y="336"/>
                    </a:lnTo>
                    <a:lnTo>
                      <a:pt x="1514" y="336"/>
                    </a:lnTo>
                    <a:lnTo>
                      <a:pt x="1212" y="0"/>
                    </a:lnTo>
                    <a:lnTo>
                      <a:pt x="0" y="0"/>
                    </a:lnTo>
                    <a:lnTo>
                      <a:pt x="1212" y="0"/>
                    </a:lnTo>
                    <a:lnTo>
                      <a:pt x="1514" y="336"/>
                    </a:lnTo>
                    <a:lnTo>
                      <a:pt x="1514" y="1686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 txBox="1"/>
              <p:nvPr/>
            </p:nvSpPr>
            <p:spPr>
              <a:xfrm>
                <a:off x="7442280" y="4317840"/>
                <a:ext cx="428760" cy="24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N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 txBox="1"/>
              <p:nvPr/>
            </p:nvSpPr>
            <p:spPr>
              <a:xfrm>
                <a:off x="7648560" y="4516560"/>
                <a:ext cx="190440" cy="203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246800" y="4125960"/>
                <a:ext cx="168480" cy="478080"/>
              </a:xfrm>
              <a:custGeom>
                <a:avLst/>
                <a:gdLst/>
                <a:ahLst/>
                <a:rect l="0" t="0" r="r" b="b"/>
                <a:pathLst>
                  <a:path w="468" h="1328">
                    <a:moveTo>
                      <a:pt x="468" y="1328"/>
                    </a:moveTo>
                    <a:lnTo>
                      <a:pt x="93" y="1328"/>
                    </a:lnTo>
                    <a:lnTo>
                      <a:pt x="0" y="1062"/>
                    </a:lnTo>
                    <a:lnTo>
                      <a:pt x="0" y="0"/>
                    </a:lnTo>
                    <a:lnTo>
                      <a:pt x="93" y="265"/>
                    </a:lnTo>
                    <a:lnTo>
                      <a:pt x="93" y="1328"/>
                    </a:lnTo>
                    <a:lnTo>
                      <a:pt x="93" y="265"/>
                    </a:lnTo>
                    <a:lnTo>
                      <a:pt x="468" y="265"/>
                    </a:lnTo>
                    <a:lnTo>
                      <a:pt x="374" y="0"/>
                    </a:lnTo>
                    <a:lnTo>
                      <a:pt x="0" y="0"/>
                    </a:lnTo>
                    <a:lnTo>
                      <a:pt x="374" y="0"/>
                    </a:lnTo>
                    <a:lnTo>
                      <a:pt x="468" y="265"/>
                    </a:lnTo>
                    <a:lnTo>
                      <a:pt x="468" y="1328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585120" y="4370400"/>
                <a:ext cx="69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"/>
            <p:cNvGrpSpPr/>
            <p:nvPr/>
          </p:nvGrpSpPr>
          <p:grpSpPr>
            <a:xfrm>
              <a:off x="4740120" y="5099040"/>
              <a:ext cx="1605240" cy="661680"/>
              <a:chOff x="4740120" y="5099040"/>
              <a:chExt cx="1605240" cy="661680"/>
            </a:xfrm>
          </p:grpSpPr>
          <p:sp>
            <p:nvSpPr>
              <p:cNvPr id="1390" name=""/>
              <p:cNvSpPr/>
              <p:nvPr/>
            </p:nvSpPr>
            <p:spPr>
              <a:xfrm>
                <a:off x="5081760" y="5099040"/>
                <a:ext cx="546480" cy="605160"/>
              </a:xfrm>
              <a:custGeom>
                <a:avLst/>
                <a:gdLst/>
                <a:ahLst/>
                <a:rect l="0" t="0" r="r" b="b"/>
                <a:pathLst>
                  <a:path w="1518" h="1681">
                    <a:moveTo>
                      <a:pt x="0" y="1681"/>
                    </a:moveTo>
                    <a:lnTo>
                      <a:pt x="1215" y="1681"/>
                    </a:lnTo>
                    <a:lnTo>
                      <a:pt x="1518" y="1345"/>
                    </a:lnTo>
                    <a:lnTo>
                      <a:pt x="1518" y="0"/>
                    </a:lnTo>
                    <a:lnTo>
                      <a:pt x="1215" y="336"/>
                    </a:lnTo>
                    <a:lnTo>
                      <a:pt x="1215" y="1681"/>
                    </a:lnTo>
                    <a:lnTo>
                      <a:pt x="1215" y="336"/>
                    </a:lnTo>
                    <a:lnTo>
                      <a:pt x="0" y="336"/>
                    </a:lnTo>
                    <a:lnTo>
                      <a:pt x="303" y="0"/>
                    </a:lnTo>
                    <a:lnTo>
                      <a:pt x="1518" y="0"/>
                    </a:lnTo>
                    <a:lnTo>
                      <a:pt x="303" y="0"/>
                    </a:lnTo>
                    <a:lnTo>
                      <a:pt x="0" y="336"/>
                    </a:lnTo>
                    <a:lnTo>
                      <a:pt x="0" y="1681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 txBox="1"/>
              <p:nvPr/>
            </p:nvSpPr>
            <p:spPr>
              <a:xfrm>
                <a:off x="4740120" y="5364000"/>
                <a:ext cx="841320" cy="24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rolle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 txBox="1"/>
              <p:nvPr/>
            </p:nvSpPr>
            <p:spPr>
              <a:xfrm>
                <a:off x="5126040" y="5557680"/>
                <a:ext cx="190440" cy="203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516640" y="5172120"/>
                <a:ext cx="168480" cy="471960"/>
              </a:xfrm>
              <a:custGeom>
                <a:avLst/>
                <a:gdLst/>
                <a:ahLst/>
                <a:rect l="0" t="0" r="r" b="b"/>
                <a:pathLst>
                  <a:path w="468" h="1311">
                    <a:moveTo>
                      <a:pt x="0" y="1311"/>
                    </a:moveTo>
                    <a:lnTo>
                      <a:pt x="374" y="1311"/>
                    </a:lnTo>
                    <a:lnTo>
                      <a:pt x="468" y="1049"/>
                    </a:lnTo>
                    <a:lnTo>
                      <a:pt x="468" y="0"/>
                    </a:lnTo>
                    <a:lnTo>
                      <a:pt x="374" y="261"/>
                    </a:lnTo>
                    <a:lnTo>
                      <a:pt x="374" y="1311"/>
                    </a:lnTo>
                    <a:lnTo>
                      <a:pt x="374" y="261"/>
                    </a:lnTo>
                    <a:lnTo>
                      <a:pt x="0" y="261"/>
                    </a:lnTo>
                    <a:lnTo>
                      <a:pt x="93" y="0"/>
                    </a:lnTo>
                    <a:lnTo>
                      <a:pt x="468" y="0"/>
                    </a:lnTo>
                    <a:lnTo>
                      <a:pt x="93" y="0"/>
                    </a:lnTo>
                    <a:lnTo>
                      <a:pt x="0" y="261"/>
                    </a:lnTo>
                    <a:lnTo>
                      <a:pt x="0" y="1311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H="1">
                <a:off x="5648400" y="5416560"/>
                <a:ext cx="69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5" name=""/>
            <p:cNvSpPr/>
            <p:nvPr/>
          </p:nvSpPr>
          <p:spPr>
            <a:xfrm>
              <a:off x="5662440" y="5954760"/>
              <a:ext cx="136800" cy="379800"/>
            </a:xfrm>
            <a:custGeom>
              <a:avLst/>
              <a:gdLst/>
              <a:ahLst/>
              <a:rect l="0" t="0" r="r" b="b"/>
              <a:pathLst>
                <a:path w="380" h="1055">
                  <a:moveTo>
                    <a:pt x="0" y="1055"/>
                  </a:moveTo>
                  <a:lnTo>
                    <a:pt x="304" y="1055"/>
                  </a:lnTo>
                  <a:lnTo>
                    <a:pt x="380" y="845"/>
                  </a:lnTo>
                  <a:lnTo>
                    <a:pt x="380" y="0"/>
                  </a:lnTo>
                  <a:lnTo>
                    <a:pt x="304" y="210"/>
                  </a:lnTo>
                  <a:lnTo>
                    <a:pt x="304" y="1055"/>
                  </a:lnTo>
                  <a:lnTo>
                    <a:pt x="304" y="210"/>
                  </a:lnTo>
                  <a:lnTo>
                    <a:pt x="0" y="210"/>
                  </a:lnTo>
                  <a:lnTo>
                    <a:pt x="75" y="0"/>
                  </a:lnTo>
                  <a:lnTo>
                    <a:pt x="380" y="0"/>
                  </a:lnTo>
                  <a:lnTo>
                    <a:pt x="75" y="0"/>
                  </a:lnTo>
                  <a:lnTo>
                    <a:pt x="0" y="210"/>
                  </a:lnTo>
                  <a:lnTo>
                    <a:pt x="0" y="105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5757840" y="61135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832280" y="5821200"/>
              <a:ext cx="619560" cy="560880"/>
            </a:xfrm>
            <a:custGeom>
              <a:avLst/>
              <a:gdLst/>
              <a:ahLst/>
              <a:rect l="0" t="0" r="r" b="b"/>
              <a:pathLst>
                <a:path w="1721" h="1558">
                  <a:moveTo>
                    <a:pt x="0" y="1558"/>
                  </a:moveTo>
                  <a:lnTo>
                    <a:pt x="1377" y="1558"/>
                  </a:lnTo>
                  <a:lnTo>
                    <a:pt x="1721" y="1247"/>
                  </a:lnTo>
                  <a:lnTo>
                    <a:pt x="1721" y="0"/>
                  </a:lnTo>
                  <a:lnTo>
                    <a:pt x="1377" y="311"/>
                  </a:lnTo>
                  <a:lnTo>
                    <a:pt x="1377" y="1558"/>
                  </a:lnTo>
                  <a:lnTo>
                    <a:pt x="1377" y="311"/>
                  </a:lnTo>
                  <a:lnTo>
                    <a:pt x="0" y="311"/>
                  </a:lnTo>
                  <a:lnTo>
                    <a:pt x="343" y="0"/>
                  </a:lnTo>
                  <a:lnTo>
                    <a:pt x="1721" y="0"/>
                  </a:lnTo>
                  <a:lnTo>
                    <a:pt x="343" y="0"/>
                  </a:lnTo>
                  <a:lnTo>
                    <a:pt x="0" y="311"/>
                  </a:lnTo>
                  <a:lnTo>
                    <a:pt x="0" y="1558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 txBox="1"/>
            <p:nvPr/>
          </p:nvSpPr>
          <p:spPr>
            <a:xfrm>
              <a:off x="4867200" y="6102360"/>
              <a:ext cx="42228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315040" y="5911920"/>
              <a:ext cx="136800" cy="379800"/>
            </a:xfrm>
            <a:custGeom>
              <a:avLst/>
              <a:gdLst/>
              <a:ahLst/>
              <a:rect l="0" t="0" r="r" b="b"/>
              <a:pathLst>
                <a:path w="380" h="1055">
                  <a:moveTo>
                    <a:pt x="0" y="1055"/>
                  </a:moveTo>
                  <a:lnTo>
                    <a:pt x="304" y="1055"/>
                  </a:lnTo>
                  <a:lnTo>
                    <a:pt x="380" y="845"/>
                  </a:lnTo>
                  <a:lnTo>
                    <a:pt x="380" y="0"/>
                  </a:lnTo>
                  <a:lnTo>
                    <a:pt x="304" y="210"/>
                  </a:lnTo>
                  <a:lnTo>
                    <a:pt x="304" y="1055"/>
                  </a:lnTo>
                  <a:lnTo>
                    <a:pt x="304" y="210"/>
                  </a:lnTo>
                  <a:lnTo>
                    <a:pt x="0" y="210"/>
                  </a:lnTo>
                  <a:lnTo>
                    <a:pt x="75" y="0"/>
                  </a:lnTo>
                  <a:lnTo>
                    <a:pt x="380" y="0"/>
                  </a:lnTo>
                  <a:lnTo>
                    <a:pt x="75" y="0"/>
                  </a:lnTo>
                  <a:lnTo>
                    <a:pt x="0" y="210"/>
                  </a:lnTo>
                  <a:lnTo>
                    <a:pt x="0" y="105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5405400" y="6119640"/>
              <a:ext cx="257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 flipV="1">
              <a:off x="5597640" y="5592600"/>
              <a:ext cx="172800" cy="355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662440" y="4437000"/>
              <a:ext cx="136800" cy="386280"/>
            </a:xfrm>
            <a:custGeom>
              <a:avLst/>
              <a:gdLst/>
              <a:ahLst/>
              <a:rect l="0" t="0" r="r" b="b"/>
              <a:pathLst>
                <a:path w="380" h="1073">
                  <a:moveTo>
                    <a:pt x="0" y="1073"/>
                  </a:moveTo>
                  <a:lnTo>
                    <a:pt x="304" y="1073"/>
                  </a:lnTo>
                  <a:lnTo>
                    <a:pt x="380" y="859"/>
                  </a:lnTo>
                  <a:lnTo>
                    <a:pt x="380" y="0"/>
                  </a:lnTo>
                  <a:lnTo>
                    <a:pt x="304" y="214"/>
                  </a:lnTo>
                  <a:lnTo>
                    <a:pt x="304" y="1073"/>
                  </a:lnTo>
                  <a:lnTo>
                    <a:pt x="304" y="214"/>
                  </a:lnTo>
                  <a:lnTo>
                    <a:pt x="0" y="214"/>
                  </a:lnTo>
                  <a:lnTo>
                    <a:pt x="75" y="0"/>
                  </a:lnTo>
                  <a:lnTo>
                    <a:pt x="380" y="0"/>
                  </a:lnTo>
                  <a:lnTo>
                    <a:pt x="75" y="0"/>
                  </a:lnTo>
                  <a:lnTo>
                    <a:pt x="0" y="214"/>
                  </a:lnTo>
                  <a:lnTo>
                    <a:pt x="0" y="107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5770440" y="4603680"/>
              <a:ext cx="55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832280" y="4303800"/>
              <a:ext cx="619560" cy="551160"/>
            </a:xfrm>
            <a:custGeom>
              <a:avLst/>
              <a:gdLst/>
              <a:ahLst/>
              <a:rect l="0" t="0" r="r" b="b"/>
              <a:pathLst>
                <a:path w="1721" h="1531">
                  <a:moveTo>
                    <a:pt x="0" y="1531"/>
                  </a:moveTo>
                  <a:lnTo>
                    <a:pt x="1377" y="1531"/>
                  </a:lnTo>
                  <a:lnTo>
                    <a:pt x="1721" y="1225"/>
                  </a:lnTo>
                  <a:lnTo>
                    <a:pt x="1721" y="0"/>
                  </a:lnTo>
                  <a:lnTo>
                    <a:pt x="1377" y="306"/>
                  </a:lnTo>
                  <a:lnTo>
                    <a:pt x="1377" y="1531"/>
                  </a:lnTo>
                  <a:lnTo>
                    <a:pt x="1377" y="306"/>
                  </a:lnTo>
                  <a:lnTo>
                    <a:pt x="0" y="306"/>
                  </a:lnTo>
                  <a:lnTo>
                    <a:pt x="343" y="0"/>
                  </a:lnTo>
                  <a:lnTo>
                    <a:pt x="1721" y="0"/>
                  </a:lnTo>
                  <a:lnTo>
                    <a:pt x="343" y="0"/>
                  </a:lnTo>
                  <a:lnTo>
                    <a:pt x="0" y="306"/>
                  </a:lnTo>
                  <a:lnTo>
                    <a:pt x="0" y="1531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 txBox="1"/>
            <p:nvPr/>
          </p:nvSpPr>
          <p:spPr>
            <a:xfrm>
              <a:off x="4886280" y="4599000"/>
              <a:ext cx="46836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319720" y="4402080"/>
              <a:ext cx="132120" cy="378360"/>
            </a:xfrm>
            <a:custGeom>
              <a:avLst/>
              <a:gdLst/>
              <a:ahLst/>
              <a:rect l="0" t="0" r="r" b="b"/>
              <a:pathLst>
                <a:path w="367" h="1051">
                  <a:moveTo>
                    <a:pt x="0" y="1051"/>
                  </a:moveTo>
                  <a:lnTo>
                    <a:pt x="293" y="1051"/>
                  </a:lnTo>
                  <a:lnTo>
                    <a:pt x="367" y="841"/>
                  </a:lnTo>
                  <a:lnTo>
                    <a:pt x="367" y="0"/>
                  </a:lnTo>
                  <a:lnTo>
                    <a:pt x="293" y="209"/>
                  </a:lnTo>
                  <a:lnTo>
                    <a:pt x="293" y="1051"/>
                  </a:lnTo>
                  <a:lnTo>
                    <a:pt x="293" y="209"/>
                  </a:lnTo>
                  <a:lnTo>
                    <a:pt x="0" y="209"/>
                  </a:lnTo>
                  <a:lnTo>
                    <a:pt x="73" y="0"/>
                  </a:lnTo>
                  <a:lnTo>
                    <a:pt x="367" y="0"/>
                  </a:lnTo>
                  <a:lnTo>
                    <a:pt x="73" y="0"/>
                  </a:lnTo>
                  <a:lnTo>
                    <a:pt x="0" y="209"/>
                  </a:lnTo>
                  <a:lnTo>
                    <a:pt x="0" y="105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>
              <a:off x="5410080" y="4610160"/>
              <a:ext cx="252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V="1">
              <a:off x="5649840" y="4780080"/>
              <a:ext cx="120600" cy="40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9" name=""/>
          <p:cNvSpPr txBox="1"/>
          <p:nvPr/>
        </p:nvSpPr>
        <p:spPr>
          <a:xfrm>
            <a:off x="227160" y="4191120"/>
            <a:ext cx="404028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0040" indent="-1731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facilitate the development of agent-based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gent Technology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n programming languages support build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ity is a new feature, how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is of central importance and, in particul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mon agent communication 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mon ontolog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pplication dom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mon agent protoc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gent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600" y="3276720"/>
            <a:ext cx="38862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yond client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ted archite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agents vs Multi-agent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ts and swa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138560" y="2649600"/>
            <a:ext cx="5003640" cy="3746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219320" y="1461960"/>
            <a:ext cx="670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are using several architec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gent-based information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Beyond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289548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4800" indent="-33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of your role in human society.  Are you a client or a ser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e agents go beyond C/S by enabling clients to distribute computations to servers and vice-ver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ng agents generalize the C/S model since sometimes an agent acts as a client and sometimes as a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69960" y="1584360"/>
            <a:ext cx="7788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 generalize the client-server architecture which has dominated the Internet since its begin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gents vs. 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0948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research focuses on developing sophisticated individual agents with advanced cap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research is focused o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multi-agent system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 research is particularly focus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peration and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m and coalition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sharing among the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beliefs, goals and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Mediated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ederhold introduced the notion of a “mediated architecture” for information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46080" y="3459240"/>
            <a:ext cx="2354040" cy="2845080"/>
            <a:chOff x="946080" y="3459240"/>
            <a:chExt cx="2354040" cy="2845080"/>
          </a:xfrm>
        </p:grpSpPr>
        <p:sp>
          <p:nvSpPr>
            <p:cNvPr id="89" name=""/>
            <p:cNvSpPr txBox="1"/>
            <p:nvPr/>
          </p:nvSpPr>
          <p:spPr>
            <a:xfrm>
              <a:off x="2666880" y="3662280"/>
              <a:ext cx="633240" cy="57168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2666880" y="4322880"/>
              <a:ext cx="633240" cy="57168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1847880" y="3740040"/>
              <a:ext cx="647640" cy="106380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946080" y="3646440"/>
              <a:ext cx="317520" cy="3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946080" y="4103640"/>
              <a:ext cx="317520" cy="3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946080" y="4560840"/>
              <a:ext cx="317520" cy="3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4"/>
            <a:stretch/>
          </p:blipFill>
          <p:spPr>
            <a:xfrm>
              <a:off x="946080" y="5056200"/>
              <a:ext cx="317520" cy="3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5"/>
            <a:stretch/>
          </p:blipFill>
          <p:spPr>
            <a:xfrm>
              <a:off x="946080" y="5513400"/>
              <a:ext cx="317520" cy="3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6"/>
            <a:stretch/>
          </p:blipFill>
          <p:spPr>
            <a:xfrm>
              <a:off x="946080" y="5970600"/>
              <a:ext cx="317520" cy="3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257480" y="377676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57480" y="423396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57480" y="469728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51000" y="51926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51000" y="56498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57480" y="610704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84440" y="394164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59000" y="3662280"/>
              <a:ext cx="291960" cy="3031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59000" y="4121280"/>
              <a:ext cx="291960" cy="3031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59000" y="4578480"/>
              <a:ext cx="291960" cy="3031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59000" y="5072040"/>
              <a:ext cx="291960" cy="3031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59000" y="5530680"/>
              <a:ext cx="291960" cy="3031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59000" y="5987880"/>
              <a:ext cx="291960" cy="30312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59000" y="4729320"/>
              <a:ext cx="291960" cy="15228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59000" y="5224320"/>
              <a:ext cx="291960" cy="15228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57440" y="3827520"/>
              <a:ext cx="108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71560" y="3827520"/>
              <a:ext cx="0" cy="2330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57440" y="4278240"/>
              <a:ext cx="92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57440" y="4735440"/>
              <a:ext cx="108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57440" y="5224320"/>
              <a:ext cx="108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57440" y="5688000"/>
              <a:ext cx="91440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57440" y="6157800"/>
              <a:ext cx="108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59000" y="4272120"/>
              <a:ext cx="291960" cy="15228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59000" y="5681520"/>
              <a:ext cx="291960" cy="15228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84440" y="394164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84440" y="461484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357200" y="3683160"/>
              <a:ext cx="314280" cy="295200"/>
              <a:chOff x="1357200" y="3683160"/>
              <a:chExt cx="314280" cy="295200"/>
            </a:xfrm>
          </p:grpSpPr>
          <p:sp>
            <p:nvSpPr>
              <p:cNvPr id="125" name=""/>
              <p:cNvSpPr/>
              <p:nvPr/>
            </p:nvSpPr>
            <p:spPr>
              <a:xfrm>
                <a:off x="1403280" y="3693960"/>
                <a:ext cx="209520" cy="235080"/>
              </a:xfrm>
              <a:prstGeom prst="round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1357200" y="3683160"/>
                <a:ext cx="314280" cy="29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357200" y="4140360"/>
              <a:ext cx="314280" cy="295200"/>
              <a:chOff x="1357200" y="4140360"/>
              <a:chExt cx="314280" cy="295200"/>
            </a:xfrm>
          </p:grpSpPr>
          <p:sp>
            <p:nvSpPr>
              <p:cNvPr id="128" name=""/>
              <p:cNvSpPr/>
              <p:nvPr/>
            </p:nvSpPr>
            <p:spPr>
              <a:xfrm>
                <a:off x="1403280" y="4151160"/>
                <a:ext cx="209520" cy="235080"/>
              </a:xfrm>
              <a:prstGeom prst="round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>
                <a:off x="1357200" y="4140360"/>
                <a:ext cx="314280" cy="29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1357200" y="4597560"/>
              <a:ext cx="314280" cy="295200"/>
              <a:chOff x="1357200" y="4597560"/>
              <a:chExt cx="314280" cy="295200"/>
            </a:xfrm>
          </p:grpSpPr>
          <p:sp>
            <p:nvSpPr>
              <p:cNvPr id="131" name=""/>
              <p:cNvSpPr/>
              <p:nvPr/>
            </p:nvSpPr>
            <p:spPr>
              <a:xfrm>
                <a:off x="1403280" y="4608360"/>
                <a:ext cx="209520" cy="235080"/>
              </a:xfrm>
              <a:prstGeom prst="round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 txBox="1"/>
              <p:nvPr/>
            </p:nvSpPr>
            <p:spPr>
              <a:xfrm>
                <a:off x="1357200" y="4597560"/>
                <a:ext cx="314280" cy="29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1357200" y="5092560"/>
              <a:ext cx="314280" cy="295200"/>
              <a:chOff x="1357200" y="5092560"/>
              <a:chExt cx="314280" cy="295200"/>
            </a:xfrm>
          </p:grpSpPr>
          <p:sp>
            <p:nvSpPr>
              <p:cNvPr id="134" name=""/>
              <p:cNvSpPr/>
              <p:nvPr/>
            </p:nvSpPr>
            <p:spPr>
              <a:xfrm>
                <a:off x="1403280" y="5103720"/>
                <a:ext cx="209520" cy="235080"/>
              </a:xfrm>
              <a:prstGeom prst="round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>
                <a:off x="1357200" y="5092560"/>
                <a:ext cx="314280" cy="29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1359000" y="5549760"/>
              <a:ext cx="314280" cy="295200"/>
              <a:chOff x="1359000" y="5549760"/>
              <a:chExt cx="314280" cy="295200"/>
            </a:xfrm>
          </p:grpSpPr>
          <p:sp>
            <p:nvSpPr>
              <p:cNvPr id="137" name=""/>
              <p:cNvSpPr/>
              <p:nvPr/>
            </p:nvSpPr>
            <p:spPr>
              <a:xfrm>
                <a:off x="1403280" y="5560920"/>
                <a:ext cx="209520" cy="235080"/>
              </a:xfrm>
              <a:prstGeom prst="round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 txBox="1"/>
              <p:nvPr/>
            </p:nvSpPr>
            <p:spPr>
              <a:xfrm>
                <a:off x="1359000" y="5549760"/>
                <a:ext cx="314280" cy="29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1359000" y="6006960"/>
              <a:ext cx="314280" cy="295200"/>
              <a:chOff x="1359000" y="6006960"/>
              <a:chExt cx="314280" cy="295200"/>
            </a:xfrm>
          </p:grpSpPr>
          <p:sp>
            <p:nvSpPr>
              <p:cNvPr id="140" name=""/>
              <p:cNvSpPr/>
              <p:nvPr/>
            </p:nvSpPr>
            <p:spPr>
              <a:xfrm>
                <a:off x="1403280" y="6018120"/>
                <a:ext cx="209520" cy="235080"/>
              </a:xfrm>
              <a:prstGeom prst="round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1359000" y="6006960"/>
                <a:ext cx="314280" cy="29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 txBox="1"/>
            <p:nvPr/>
          </p:nvSpPr>
          <p:spPr>
            <a:xfrm>
              <a:off x="1892160" y="3941640"/>
              <a:ext cx="565200" cy="38088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  <a:ea typeface="Arial"/>
                </a:rPr>
                <a:t>Softwa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  <a:ea typeface="Arial"/>
                </a:rPr>
                <a:t>Ob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1892160" y="4367160"/>
              <a:ext cx="565200" cy="38088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  <a:ea typeface="Arial"/>
                </a:rPr>
                <a:t>Softwa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  <a:ea typeface="Arial"/>
                </a:rPr>
                <a:t>Ob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2705040" y="3814920"/>
              <a:ext cx="565200" cy="38088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  <a:ea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  <a:ea typeface="Arial"/>
                </a:rPr>
                <a:t>Ob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2705040" y="4475160"/>
              <a:ext cx="565200" cy="38088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  <a:ea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  <a:ea typeface="Arial"/>
                </a:rPr>
                <a:t>Ob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2666880" y="5072040"/>
              <a:ext cx="633240" cy="57168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ff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rv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2666880" y="5732640"/>
              <a:ext cx="633240" cy="57168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ff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rv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1847880" y="5149800"/>
              <a:ext cx="647640" cy="106380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ff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rv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84440" y="53514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84440" y="535140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84440" y="60246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1892160" y="5351400"/>
              <a:ext cx="565200" cy="380880"/>
            </a:xfrm>
            <a:prstGeom prst="rect">
              <a:avLst/>
            </a:prstGeom>
            <a:solidFill>
              <a:srgbClr val="dbffb8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  <a:ea typeface="Arial"/>
                </a:rPr>
                <a:t>Softwa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  <a:ea typeface="Arial"/>
                </a:rPr>
                <a:t>Ob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1892160" y="5776920"/>
              <a:ext cx="565200" cy="380880"/>
            </a:xfrm>
            <a:prstGeom prst="rect">
              <a:avLst/>
            </a:prstGeom>
            <a:solidFill>
              <a:srgbClr val="dbffb8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  <a:ea typeface="Arial"/>
                </a:rPr>
                <a:t>Softwa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  <a:ea typeface="Arial"/>
                </a:rPr>
                <a:t>Ob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2705040" y="5224320"/>
              <a:ext cx="565200" cy="380880"/>
            </a:xfrm>
            <a:prstGeom prst="rect">
              <a:avLst/>
            </a:prstGeom>
            <a:solidFill>
              <a:srgbClr val="dbffb8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  <a:ea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  <a:ea typeface="Arial"/>
                </a:rPr>
                <a:t>Ob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2705040" y="5884920"/>
              <a:ext cx="565200" cy="380880"/>
            </a:xfrm>
            <a:prstGeom prst="rect">
              <a:avLst/>
            </a:prstGeom>
            <a:solidFill>
              <a:srgbClr val="dbffb8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  <a:ea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  <a:ea typeface="Arial"/>
                </a:rPr>
                <a:t>Ob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1225440" y="3459240"/>
              <a:ext cx="573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81d58"/>
                  </a:solidFill>
                  <a:latin typeface="Arial"/>
                  <a:ea typeface="Arial"/>
                </a:rPr>
                <a:t>Cli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384880" y="3505320"/>
            <a:ext cx="2811240" cy="2846520"/>
            <a:chOff x="5384880" y="3505320"/>
            <a:chExt cx="2811240" cy="2846520"/>
          </a:xfrm>
        </p:grpSpPr>
        <p:sp>
          <p:nvSpPr>
            <p:cNvPr id="158" name=""/>
            <p:cNvSpPr/>
            <p:nvPr/>
          </p:nvSpPr>
          <p:spPr>
            <a:xfrm>
              <a:off x="6943680" y="3692520"/>
              <a:ext cx="800640" cy="281520"/>
            </a:xfrm>
            <a:custGeom>
              <a:avLst/>
              <a:gdLst/>
              <a:ahLst/>
              <a:rect l="0" t="0" r="r" b="b"/>
              <a:pathLst>
                <a:path fill="none" w="2224" h="782">
                  <a:moveTo>
                    <a:pt x="2224" y="0"/>
                  </a:moveTo>
                  <a:lnTo>
                    <a:pt x="2224" y="0"/>
                  </a:lnTo>
                  <a:cubicBezTo>
                    <a:pt x="1834" y="0"/>
                    <a:pt x="1450" y="36"/>
                    <a:pt x="1112" y="105"/>
                  </a:cubicBezTo>
                  <a:cubicBezTo>
                    <a:pt x="774" y="173"/>
                    <a:pt x="493" y="272"/>
                    <a:pt x="298" y="391"/>
                  </a:cubicBezTo>
                  <a:cubicBezTo>
                    <a:pt x="103" y="510"/>
                    <a:pt x="0" y="645"/>
                    <a:pt x="0" y="782"/>
                  </a:cubicBezTo>
                </a:path>
              </a:pathLst>
            </a:custGeom>
            <a:ln w="38160">
              <a:solidFill>
                <a:srgbClr val="777777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05600" y="4592520"/>
              <a:ext cx="800640" cy="281520"/>
            </a:xfrm>
            <a:custGeom>
              <a:avLst/>
              <a:gdLst/>
              <a:ahLst/>
              <a:rect l="0" t="0" r="r" b="b"/>
              <a:pathLst>
                <a:path fill="none" w="2224" h="782">
                  <a:moveTo>
                    <a:pt x="2224" y="0"/>
                  </a:moveTo>
                  <a:lnTo>
                    <a:pt x="2224" y="0"/>
                  </a:lnTo>
                  <a:cubicBezTo>
                    <a:pt x="1834" y="0"/>
                    <a:pt x="1450" y="36"/>
                    <a:pt x="1112" y="105"/>
                  </a:cubicBezTo>
                  <a:cubicBezTo>
                    <a:pt x="774" y="173"/>
                    <a:pt x="493" y="272"/>
                    <a:pt x="298" y="391"/>
                  </a:cubicBezTo>
                  <a:cubicBezTo>
                    <a:pt x="103" y="510"/>
                    <a:pt x="0" y="645"/>
                    <a:pt x="0" y="782"/>
                  </a:cubicBezTo>
                </a:path>
              </a:pathLst>
            </a:custGeom>
            <a:ln w="38160">
              <a:solidFill>
                <a:srgbClr val="777777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67520" y="5302080"/>
              <a:ext cx="800640" cy="281520"/>
            </a:xfrm>
            <a:custGeom>
              <a:avLst/>
              <a:gdLst/>
              <a:ahLst/>
              <a:rect l="0" t="0" r="r" b="b"/>
              <a:pathLst>
                <a:path fill="none" w="2224" h="782">
                  <a:moveTo>
                    <a:pt x="2224" y="0"/>
                  </a:moveTo>
                  <a:lnTo>
                    <a:pt x="2224" y="0"/>
                  </a:lnTo>
                  <a:cubicBezTo>
                    <a:pt x="1834" y="0"/>
                    <a:pt x="1450" y="36"/>
                    <a:pt x="1112" y="105"/>
                  </a:cubicBezTo>
                  <a:cubicBezTo>
                    <a:pt x="774" y="173"/>
                    <a:pt x="493" y="272"/>
                    <a:pt x="298" y="391"/>
                  </a:cubicBezTo>
                  <a:cubicBezTo>
                    <a:pt x="103" y="510"/>
                    <a:pt x="0" y="645"/>
                    <a:pt x="0" y="782"/>
                  </a:cubicBezTo>
                </a:path>
              </a:pathLst>
            </a:custGeom>
            <a:ln w="38160">
              <a:solidFill>
                <a:srgbClr val="777777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38880" y="5907240"/>
              <a:ext cx="481320" cy="238320"/>
            </a:xfrm>
            <a:custGeom>
              <a:avLst/>
              <a:gdLst/>
              <a:ahLst/>
              <a:rect l="0" t="0" r="r" b="b"/>
              <a:pathLst>
                <a:path fill="none" w="1337" h="662">
                  <a:moveTo>
                    <a:pt x="0" y="0"/>
                  </a:moveTo>
                  <a:lnTo>
                    <a:pt x="0" y="0"/>
                  </a:lnTo>
                  <a:cubicBezTo>
                    <a:pt x="0" y="116"/>
                    <a:pt x="62" y="230"/>
                    <a:pt x="179" y="331"/>
                  </a:cubicBezTo>
                  <a:cubicBezTo>
                    <a:pt x="296" y="432"/>
                    <a:pt x="465" y="515"/>
                    <a:pt x="669" y="573"/>
                  </a:cubicBezTo>
                  <a:cubicBezTo>
                    <a:pt x="872" y="631"/>
                    <a:pt x="1102" y="662"/>
                    <a:pt x="1337" y="662"/>
                  </a:cubicBezTo>
                </a:path>
              </a:pathLst>
            </a:custGeom>
            <a:ln w="38160">
              <a:solidFill>
                <a:srgbClr val="777777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14920" y="4792680"/>
              <a:ext cx="648000" cy="243360"/>
            </a:xfrm>
            <a:custGeom>
              <a:avLst/>
              <a:gdLst/>
              <a:ahLst/>
              <a:rect l="0" t="0" r="r" b="b"/>
              <a:pathLst>
                <a:path fill="none" w="1800" h="676">
                  <a:moveTo>
                    <a:pt x="1800" y="676"/>
                  </a:moveTo>
                  <a:lnTo>
                    <a:pt x="1800" y="676"/>
                  </a:lnTo>
                  <a:lnTo>
                    <a:pt x="1800" y="676"/>
                  </a:lnTo>
                  <a:cubicBezTo>
                    <a:pt x="1800" y="557"/>
                    <a:pt x="1717" y="441"/>
                    <a:pt x="1559" y="338"/>
                  </a:cubicBezTo>
                  <a:cubicBezTo>
                    <a:pt x="1401" y="235"/>
                    <a:pt x="1174" y="150"/>
                    <a:pt x="900" y="91"/>
                  </a:cubicBezTo>
                  <a:cubicBezTo>
                    <a:pt x="626" y="31"/>
                    <a:pt x="316" y="0"/>
                    <a:pt x="0" y="0"/>
                  </a:cubicBezTo>
                </a:path>
              </a:pathLst>
            </a:custGeom>
            <a:ln w="38160">
              <a:solidFill>
                <a:srgbClr val="777777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70720" y="5254560"/>
              <a:ext cx="730440" cy="171720"/>
            </a:xfrm>
            <a:custGeom>
              <a:avLst/>
              <a:gdLst/>
              <a:ahLst/>
              <a:rect l="0" t="0" r="r" b="b"/>
              <a:pathLst>
                <a:path fill="none" w="2029" h="477">
                  <a:moveTo>
                    <a:pt x="2029" y="477"/>
                  </a:moveTo>
                  <a:lnTo>
                    <a:pt x="2029" y="477"/>
                  </a:lnTo>
                  <a:lnTo>
                    <a:pt x="2029" y="477"/>
                  </a:lnTo>
                  <a:cubicBezTo>
                    <a:pt x="2029" y="393"/>
                    <a:pt x="1935" y="311"/>
                    <a:pt x="1757" y="238"/>
                  </a:cubicBezTo>
                  <a:cubicBezTo>
                    <a:pt x="1579" y="166"/>
                    <a:pt x="1323" y="106"/>
                    <a:pt x="1014" y="64"/>
                  </a:cubicBezTo>
                  <a:cubicBezTo>
                    <a:pt x="706" y="22"/>
                    <a:pt x="356" y="0"/>
                    <a:pt x="0" y="0"/>
                  </a:cubicBezTo>
                </a:path>
              </a:pathLst>
            </a:custGeom>
            <a:ln w="38160">
              <a:solidFill>
                <a:srgbClr val="777777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67480" y="5613480"/>
              <a:ext cx="733680" cy="90720"/>
            </a:xfrm>
            <a:custGeom>
              <a:avLst/>
              <a:gdLst/>
              <a:ahLst/>
              <a:rect l="0" t="0" r="r" b="b"/>
              <a:pathLst>
                <a:path fill="none" w="2038" h="252">
                  <a:moveTo>
                    <a:pt x="2038" y="252"/>
                  </a:moveTo>
                  <a:lnTo>
                    <a:pt x="2038" y="252"/>
                  </a:lnTo>
                  <a:lnTo>
                    <a:pt x="2038" y="252"/>
                  </a:lnTo>
                  <a:cubicBezTo>
                    <a:pt x="2038" y="208"/>
                    <a:pt x="1944" y="164"/>
                    <a:pt x="1765" y="126"/>
                  </a:cubicBezTo>
                  <a:cubicBezTo>
                    <a:pt x="1586" y="88"/>
                    <a:pt x="1329" y="56"/>
                    <a:pt x="1019" y="34"/>
                  </a:cubicBezTo>
                  <a:cubicBezTo>
                    <a:pt x="709" y="12"/>
                    <a:pt x="358" y="0"/>
                    <a:pt x="0" y="0"/>
                  </a:cubicBezTo>
                </a:path>
              </a:pathLst>
            </a:custGeom>
            <a:ln w="38160">
              <a:solidFill>
                <a:srgbClr val="777777"/>
              </a:solidFill>
              <a:round/>
            </a:ln>
          </p:spPr>
          <p:txBody>
            <a:bodyPr lIns="109080" rIns="10908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16440" y="6070680"/>
              <a:ext cx="849600" cy="57600"/>
            </a:xfrm>
            <a:custGeom>
              <a:avLst/>
              <a:gdLst/>
              <a:ahLst/>
              <a:rect l="0" t="0" r="r" b="b"/>
              <a:pathLst>
                <a:path fill="none" w="2360" h="160">
                  <a:moveTo>
                    <a:pt x="2360" y="160"/>
                  </a:moveTo>
                  <a:lnTo>
                    <a:pt x="2360" y="160"/>
                  </a:lnTo>
                  <a:lnTo>
                    <a:pt x="2360" y="160"/>
                  </a:lnTo>
                  <a:cubicBezTo>
                    <a:pt x="2360" y="132"/>
                    <a:pt x="2251" y="104"/>
                    <a:pt x="2044" y="80"/>
                  </a:cubicBezTo>
                  <a:cubicBezTo>
                    <a:pt x="1837" y="56"/>
                    <a:pt x="1539" y="35"/>
                    <a:pt x="1180" y="21"/>
                  </a:cubicBezTo>
                  <a:cubicBezTo>
                    <a:pt x="821" y="7"/>
                    <a:pt x="414" y="0"/>
                    <a:pt x="0" y="0"/>
                  </a:cubicBezTo>
                </a:path>
              </a:pathLst>
            </a:custGeom>
            <a:ln w="38160">
              <a:solidFill>
                <a:srgbClr val="777777"/>
              </a:solidFill>
              <a:round/>
            </a:ln>
          </p:spPr>
          <p:txBody>
            <a:bodyPr lIns="109080" rIns="10908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91160" y="3997440"/>
              <a:ext cx="743400" cy="157680"/>
            </a:xfrm>
            <a:custGeom>
              <a:avLst/>
              <a:gdLst/>
              <a:ahLst/>
              <a:rect l="0" t="0" r="r" b="b"/>
              <a:pathLst>
                <a:path fill="none" w="2065" h="438">
                  <a:moveTo>
                    <a:pt x="2065" y="438"/>
                  </a:moveTo>
                  <a:lnTo>
                    <a:pt x="2065" y="438"/>
                  </a:lnTo>
                  <a:lnTo>
                    <a:pt x="2065" y="438"/>
                  </a:lnTo>
                  <a:cubicBezTo>
                    <a:pt x="2065" y="361"/>
                    <a:pt x="1970" y="286"/>
                    <a:pt x="1788" y="219"/>
                  </a:cubicBezTo>
                  <a:cubicBezTo>
                    <a:pt x="1607" y="152"/>
                    <a:pt x="1346" y="97"/>
                    <a:pt x="1032" y="59"/>
                  </a:cubicBezTo>
                  <a:cubicBezTo>
                    <a:pt x="719" y="20"/>
                    <a:pt x="362" y="0"/>
                    <a:pt x="0" y="0"/>
                  </a:cubicBezTo>
                </a:path>
              </a:pathLst>
            </a:custGeom>
            <a:ln w="38160">
              <a:solidFill>
                <a:srgbClr val="777777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19680" y="4421160"/>
              <a:ext cx="648000" cy="243360"/>
            </a:xfrm>
            <a:custGeom>
              <a:avLst/>
              <a:gdLst/>
              <a:ahLst/>
              <a:rect l="0" t="0" r="r" b="b"/>
              <a:pathLst>
                <a:path fill="none" w="1800" h="676">
                  <a:moveTo>
                    <a:pt x="1800" y="676"/>
                  </a:moveTo>
                  <a:lnTo>
                    <a:pt x="1800" y="676"/>
                  </a:lnTo>
                  <a:lnTo>
                    <a:pt x="1800" y="676"/>
                  </a:lnTo>
                  <a:cubicBezTo>
                    <a:pt x="1800" y="557"/>
                    <a:pt x="1717" y="441"/>
                    <a:pt x="1559" y="338"/>
                  </a:cubicBezTo>
                  <a:cubicBezTo>
                    <a:pt x="1401" y="235"/>
                    <a:pt x="1174" y="150"/>
                    <a:pt x="900" y="91"/>
                  </a:cubicBezTo>
                  <a:cubicBezTo>
                    <a:pt x="626" y="31"/>
                    <a:pt x="316" y="0"/>
                    <a:pt x="0" y="0"/>
                  </a:cubicBezTo>
                </a:path>
              </a:pathLst>
            </a:custGeom>
            <a:ln w="38160">
              <a:solidFill>
                <a:srgbClr val="777777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34000" y="3606840"/>
              <a:ext cx="743400" cy="157680"/>
            </a:xfrm>
            <a:custGeom>
              <a:avLst/>
              <a:gdLst/>
              <a:ahLst/>
              <a:rect l="0" t="0" r="r" b="b"/>
              <a:pathLst>
                <a:path fill="none" w="2065" h="438">
                  <a:moveTo>
                    <a:pt x="2065" y="438"/>
                  </a:moveTo>
                  <a:lnTo>
                    <a:pt x="2065" y="438"/>
                  </a:lnTo>
                  <a:lnTo>
                    <a:pt x="2065" y="438"/>
                  </a:lnTo>
                  <a:cubicBezTo>
                    <a:pt x="2065" y="361"/>
                    <a:pt x="1970" y="286"/>
                    <a:pt x="1788" y="219"/>
                  </a:cubicBezTo>
                  <a:cubicBezTo>
                    <a:pt x="1607" y="152"/>
                    <a:pt x="1346" y="97"/>
                    <a:pt x="1032" y="59"/>
                  </a:cubicBezTo>
                  <a:cubicBezTo>
                    <a:pt x="719" y="20"/>
                    <a:pt x="362" y="0"/>
                    <a:pt x="0" y="0"/>
                  </a:cubicBezTo>
                </a:path>
              </a:pathLst>
            </a:custGeom>
            <a:ln w="38160">
              <a:solidFill>
                <a:srgbClr val="777777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7"/>
            <a:stretch/>
          </p:blipFill>
          <p:spPr>
            <a:xfrm>
              <a:off x="5438880" y="3505320"/>
              <a:ext cx="34308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8"/>
            <a:stretch/>
          </p:blipFill>
          <p:spPr>
            <a:xfrm>
              <a:off x="5460840" y="3897360"/>
              <a:ext cx="34308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9"/>
            <a:stretch/>
          </p:blipFill>
          <p:spPr>
            <a:xfrm>
              <a:off x="5454720" y="4700520"/>
              <a:ext cx="34308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10"/>
            <a:stretch/>
          </p:blipFill>
          <p:spPr>
            <a:xfrm>
              <a:off x="5462640" y="5500800"/>
              <a:ext cx="343080" cy="3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6168960" y="3852720"/>
              <a:ext cx="79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51680" y="3537000"/>
              <a:ext cx="1213200" cy="2814840"/>
            </a:xfrm>
            <a:custGeom>
              <a:avLst/>
              <a:gdLst/>
              <a:ahLst/>
              <a:rect l="0" t="0" r="r" b="b"/>
              <a:pathLst>
                <a:path w="3370" h="7819">
                  <a:moveTo>
                    <a:pt x="520" y="202"/>
                  </a:moveTo>
                  <a:lnTo>
                    <a:pt x="321" y="321"/>
                  </a:lnTo>
                  <a:lnTo>
                    <a:pt x="202" y="361"/>
                  </a:lnTo>
                  <a:lnTo>
                    <a:pt x="119" y="440"/>
                  </a:lnTo>
                  <a:lnTo>
                    <a:pt x="39" y="564"/>
                  </a:lnTo>
                  <a:lnTo>
                    <a:pt x="0" y="683"/>
                  </a:lnTo>
                  <a:lnTo>
                    <a:pt x="0" y="802"/>
                  </a:lnTo>
                  <a:lnTo>
                    <a:pt x="0" y="921"/>
                  </a:lnTo>
                  <a:lnTo>
                    <a:pt x="0" y="1005"/>
                  </a:lnTo>
                  <a:lnTo>
                    <a:pt x="0" y="1124"/>
                  </a:lnTo>
                  <a:lnTo>
                    <a:pt x="0" y="1243"/>
                  </a:lnTo>
                  <a:lnTo>
                    <a:pt x="0" y="1362"/>
                  </a:lnTo>
                  <a:lnTo>
                    <a:pt x="39" y="1486"/>
                  </a:lnTo>
                  <a:lnTo>
                    <a:pt x="119" y="1605"/>
                  </a:lnTo>
                  <a:lnTo>
                    <a:pt x="158" y="1724"/>
                  </a:lnTo>
                  <a:lnTo>
                    <a:pt x="242" y="1803"/>
                  </a:lnTo>
                  <a:lnTo>
                    <a:pt x="242" y="1927"/>
                  </a:lnTo>
                  <a:lnTo>
                    <a:pt x="282" y="2046"/>
                  </a:lnTo>
                  <a:lnTo>
                    <a:pt x="282" y="2165"/>
                  </a:lnTo>
                  <a:lnTo>
                    <a:pt x="321" y="2284"/>
                  </a:lnTo>
                  <a:lnTo>
                    <a:pt x="321" y="2368"/>
                  </a:lnTo>
                  <a:lnTo>
                    <a:pt x="321" y="2487"/>
                  </a:lnTo>
                  <a:lnTo>
                    <a:pt x="321" y="2606"/>
                  </a:lnTo>
                  <a:lnTo>
                    <a:pt x="321" y="2725"/>
                  </a:lnTo>
                  <a:lnTo>
                    <a:pt x="321" y="2848"/>
                  </a:lnTo>
                  <a:lnTo>
                    <a:pt x="321" y="2967"/>
                  </a:lnTo>
                  <a:lnTo>
                    <a:pt x="282" y="3086"/>
                  </a:lnTo>
                  <a:lnTo>
                    <a:pt x="202" y="3205"/>
                  </a:lnTo>
                  <a:lnTo>
                    <a:pt x="202" y="3289"/>
                  </a:lnTo>
                  <a:lnTo>
                    <a:pt x="158" y="3408"/>
                  </a:lnTo>
                  <a:lnTo>
                    <a:pt x="119" y="3527"/>
                  </a:lnTo>
                  <a:lnTo>
                    <a:pt x="79" y="3686"/>
                  </a:lnTo>
                  <a:lnTo>
                    <a:pt x="79" y="3770"/>
                  </a:lnTo>
                  <a:lnTo>
                    <a:pt x="39" y="3889"/>
                  </a:lnTo>
                  <a:lnTo>
                    <a:pt x="39" y="4009"/>
                  </a:lnTo>
                  <a:lnTo>
                    <a:pt x="39" y="4128"/>
                  </a:lnTo>
                  <a:lnTo>
                    <a:pt x="39" y="4212"/>
                  </a:lnTo>
                  <a:lnTo>
                    <a:pt x="39" y="4331"/>
                  </a:lnTo>
                  <a:lnTo>
                    <a:pt x="79" y="4450"/>
                  </a:lnTo>
                  <a:lnTo>
                    <a:pt x="119" y="4851"/>
                  </a:lnTo>
                  <a:lnTo>
                    <a:pt x="158" y="4851"/>
                  </a:lnTo>
                  <a:lnTo>
                    <a:pt x="202" y="4851"/>
                  </a:lnTo>
                  <a:lnTo>
                    <a:pt x="242" y="4851"/>
                  </a:lnTo>
                  <a:lnTo>
                    <a:pt x="282" y="4851"/>
                  </a:lnTo>
                  <a:lnTo>
                    <a:pt x="321" y="4851"/>
                  </a:lnTo>
                  <a:lnTo>
                    <a:pt x="361" y="4851"/>
                  </a:lnTo>
                  <a:lnTo>
                    <a:pt x="480" y="4851"/>
                  </a:lnTo>
                  <a:lnTo>
                    <a:pt x="599" y="4851"/>
                  </a:lnTo>
                  <a:lnTo>
                    <a:pt x="683" y="4851"/>
                  </a:lnTo>
                  <a:lnTo>
                    <a:pt x="723" y="4851"/>
                  </a:lnTo>
                  <a:lnTo>
                    <a:pt x="762" y="4851"/>
                  </a:lnTo>
                  <a:lnTo>
                    <a:pt x="802" y="4851"/>
                  </a:lnTo>
                  <a:lnTo>
                    <a:pt x="842" y="4851"/>
                  </a:lnTo>
                  <a:lnTo>
                    <a:pt x="842" y="5173"/>
                  </a:lnTo>
                  <a:lnTo>
                    <a:pt x="802" y="5292"/>
                  </a:lnTo>
                  <a:lnTo>
                    <a:pt x="683" y="5411"/>
                  </a:lnTo>
                  <a:lnTo>
                    <a:pt x="599" y="5491"/>
                  </a:lnTo>
                  <a:lnTo>
                    <a:pt x="520" y="5574"/>
                  </a:lnTo>
                  <a:lnTo>
                    <a:pt x="440" y="5693"/>
                  </a:lnTo>
                  <a:lnTo>
                    <a:pt x="361" y="5813"/>
                  </a:lnTo>
                  <a:lnTo>
                    <a:pt x="282" y="5932"/>
                  </a:lnTo>
                  <a:lnTo>
                    <a:pt x="282" y="6015"/>
                  </a:lnTo>
                  <a:lnTo>
                    <a:pt x="202" y="6134"/>
                  </a:lnTo>
                  <a:lnTo>
                    <a:pt x="202" y="6253"/>
                  </a:lnTo>
                  <a:lnTo>
                    <a:pt x="202" y="6373"/>
                  </a:lnTo>
                  <a:lnTo>
                    <a:pt x="202" y="6456"/>
                  </a:lnTo>
                  <a:lnTo>
                    <a:pt x="242" y="6575"/>
                  </a:lnTo>
                  <a:lnTo>
                    <a:pt x="361" y="6655"/>
                  </a:lnTo>
                  <a:lnTo>
                    <a:pt x="440" y="6774"/>
                  </a:lnTo>
                  <a:lnTo>
                    <a:pt x="440" y="6897"/>
                  </a:lnTo>
                  <a:lnTo>
                    <a:pt x="440" y="7016"/>
                  </a:lnTo>
                  <a:lnTo>
                    <a:pt x="401" y="7135"/>
                  </a:lnTo>
                  <a:lnTo>
                    <a:pt x="401" y="7254"/>
                  </a:lnTo>
                  <a:lnTo>
                    <a:pt x="401" y="7378"/>
                  </a:lnTo>
                  <a:lnTo>
                    <a:pt x="401" y="7497"/>
                  </a:lnTo>
                  <a:lnTo>
                    <a:pt x="520" y="7576"/>
                  </a:lnTo>
                  <a:lnTo>
                    <a:pt x="643" y="7695"/>
                  </a:lnTo>
                  <a:lnTo>
                    <a:pt x="762" y="7735"/>
                  </a:lnTo>
                  <a:lnTo>
                    <a:pt x="881" y="7775"/>
                  </a:lnTo>
                  <a:lnTo>
                    <a:pt x="1001" y="7819"/>
                  </a:lnTo>
                  <a:lnTo>
                    <a:pt x="1084" y="7819"/>
                  </a:lnTo>
                  <a:lnTo>
                    <a:pt x="1203" y="7819"/>
                  </a:lnTo>
                  <a:lnTo>
                    <a:pt x="1362" y="7819"/>
                  </a:lnTo>
                  <a:lnTo>
                    <a:pt x="1525" y="7819"/>
                  </a:lnTo>
                  <a:lnTo>
                    <a:pt x="1684" y="7819"/>
                  </a:lnTo>
                  <a:lnTo>
                    <a:pt x="1844" y="7819"/>
                  </a:lnTo>
                  <a:lnTo>
                    <a:pt x="1967" y="7819"/>
                  </a:lnTo>
                  <a:lnTo>
                    <a:pt x="2086" y="7775"/>
                  </a:lnTo>
                  <a:lnTo>
                    <a:pt x="2205" y="7735"/>
                  </a:lnTo>
                  <a:lnTo>
                    <a:pt x="2324" y="7695"/>
                  </a:lnTo>
                  <a:lnTo>
                    <a:pt x="2408" y="7616"/>
                  </a:lnTo>
                  <a:lnTo>
                    <a:pt x="2488" y="7497"/>
                  </a:lnTo>
                  <a:lnTo>
                    <a:pt x="2527" y="7378"/>
                  </a:lnTo>
                  <a:lnTo>
                    <a:pt x="2567" y="7294"/>
                  </a:lnTo>
                  <a:lnTo>
                    <a:pt x="2567" y="7175"/>
                  </a:lnTo>
                  <a:lnTo>
                    <a:pt x="2607" y="7056"/>
                  </a:lnTo>
                  <a:lnTo>
                    <a:pt x="2686" y="6937"/>
                  </a:lnTo>
                  <a:lnTo>
                    <a:pt x="2805" y="6853"/>
                  </a:lnTo>
                  <a:lnTo>
                    <a:pt x="2929" y="6814"/>
                  </a:lnTo>
                  <a:lnTo>
                    <a:pt x="3048" y="6774"/>
                  </a:lnTo>
                  <a:lnTo>
                    <a:pt x="3167" y="6655"/>
                  </a:lnTo>
                  <a:lnTo>
                    <a:pt x="3246" y="6536"/>
                  </a:lnTo>
                  <a:lnTo>
                    <a:pt x="3286" y="6373"/>
                  </a:lnTo>
                  <a:lnTo>
                    <a:pt x="3330" y="6214"/>
                  </a:lnTo>
                  <a:lnTo>
                    <a:pt x="3330" y="6095"/>
                  </a:lnTo>
                  <a:lnTo>
                    <a:pt x="3370" y="5971"/>
                  </a:lnTo>
                  <a:lnTo>
                    <a:pt x="3370" y="5852"/>
                  </a:lnTo>
                  <a:lnTo>
                    <a:pt x="3370" y="5733"/>
                  </a:lnTo>
                  <a:lnTo>
                    <a:pt x="3370" y="5574"/>
                  </a:lnTo>
                  <a:lnTo>
                    <a:pt x="3370" y="5491"/>
                  </a:lnTo>
                  <a:lnTo>
                    <a:pt x="3370" y="5372"/>
                  </a:lnTo>
                  <a:lnTo>
                    <a:pt x="3370" y="5213"/>
                  </a:lnTo>
                  <a:lnTo>
                    <a:pt x="3370" y="4851"/>
                  </a:lnTo>
                  <a:lnTo>
                    <a:pt x="3330" y="4851"/>
                  </a:lnTo>
                  <a:lnTo>
                    <a:pt x="3286" y="4851"/>
                  </a:lnTo>
                  <a:lnTo>
                    <a:pt x="3286" y="4529"/>
                  </a:lnTo>
                  <a:lnTo>
                    <a:pt x="3286" y="4410"/>
                  </a:lnTo>
                  <a:lnTo>
                    <a:pt x="3286" y="4291"/>
                  </a:lnTo>
                  <a:lnTo>
                    <a:pt x="3286" y="4128"/>
                  </a:lnTo>
                  <a:lnTo>
                    <a:pt x="3286" y="4009"/>
                  </a:lnTo>
                  <a:lnTo>
                    <a:pt x="3246" y="3889"/>
                  </a:lnTo>
                  <a:lnTo>
                    <a:pt x="3206" y="3770"/>
                  </a:lnTo>
                  <a:lnTo>
                    <a:pt x="3167" y="3686"/>
                  </a:lnTo>
                  <a:lnTo>
                    <a:pt x="3048" y="3567"/>
                  </a:lnTo>
                  <a:lnTo>
                    <a:pt x="3008" y="3408"/>
                  </a:lnTo>
                  <a:lnTo>
                    <a:pt x="2968" y="3289"/>
                  </a:lnTo>
                  <a:lnTo>
                    <a:pt x="2929" y="3205"/>
                  </a:lnTo>
                  <a:lnTo>
                    <a:pt x="2929" y="3086"/>
                  </a:lnTo>
                  <a:lnTo>
                    <a:pt x="2929" y="2967"/>
                  </a:lnTo>
                  <a:lnTo>
                    <a:pt x="2968" y="2848"/>
                  </a:lnTo>
                  <a:lnTo>
                    <a:pt x="3008" y="2764"/>
                  </a:lnTo>
                  <a:lnTo>
                    <a:pt x="3048" y="2645"/>
                  </a:lnTo>
                  <a:lnTo>
                    <a:pt x="3087" y="2526"/>
                  </a:lnTo>
                  <a:lnTo>
                    <a:pt x="3127" y="2407"/>
                  </a:lnTo>
                  <a:lnTo>
                    <a:pt x="3167" y="2323"/>
                  </a:lnTo>
                  <a:lnTo>
                    <a:pt x="3206" y="2204"/>
                  </a:lnTo>
                  <a:lnTo>
                    <a:pt x="3246" y="2085"/>
                  </a:lnTo>
                  <a:lnTo>
                    <a:pt x="3286" y="1966"/>
                  </a:lnTo>
                  <a:lnTo>
                    <a:pt x="3286" y="1882"/>
                  </a:lnTo>
                  <a:lnTo>
                    <a:pt x="3286" y="1763"/>
                  </a:lnTo>
                  <a:lnTo>
                    <a:pt x="3286" y="1644"/>
                  </a:lnTo>
                  <a:lnTo>
                    <a:pt x="3286" y="1525"/>
                  </a:lnTo>
                  <a:lnTo>
                    <a:pt x="3286" y="1441"/>
                  </a:lnTo>
                  <a:lnTo>
                    <a:pt x="3206" y="1322"/>
                  </a:lnTo>
                  <a:lnTo>
                    <a:pt x="3048" y="1243"/>
                  </a:lnTo>
                  <a:lnTo>
                    <a:pt x="2889" y="1164"/>
                  </a:lnTo>
                  <a:lnTo>
                    <a:pt x="2805" y="1124"/>
                  </a:lnTo>
                  <a:lnTo>
                    <a:pt x="2686" y="1005"/>
                  </a:lnTo>
                  <a:lnTo>
                    <a:pt x="2607" y="921"/>
                  </a:lnTo>
                  <a:lnTo>
                    <a:pt x="2488" y="802"/>
                  </a:lnTo>
                  <a:lnTo>
                    <a:pt x="2408" y="683"/>
                  </a:lnTo>
                  <a:lnTo>
                    <a:pt x="2364" y="564"/>
                  </a:lnTo>
                  <a:lnTo>
                    <a:pt x="2324" y="480"/>
                  </a:lnTo>
                  <a:lnTo>
                    <a:pt x="2166" y="361"/>
                  </a:lnTo>
                  <a:lnTo>
                    <a:pt x="2047" y="282"/>
                  </a:lnTo>
                  <a:lnTo>
                    <a:pt x="1923" y="202"/>
                  </a:lnTo>
                  <a:lnTo>
                    <a:pt x="1804" y="123"/>
                  </a:lnTo>
                  <a:lnTo>
                    <a:pt x="1684" y="79"/>
                  </a:lnTo>
                  <a:lnTo>
                    <a:pt x="1525" y="39"/>
                  </a:lnTo>
                  <a:lnTo>
                    <a:pt x="1441" y="39"/>
                  </a:lnTo>
                  <a:lnTo>
                    <a:pt x="1322" y="0"/>
                  </a:lnTo>
                  <a:lnTo>
                    <a:pt x="1203" y="0"/>
                  </a:lnTo>
                  <a:lnTo>
                    <a:pt x="1084" y="0"/>
                  </a:lnTo>
                  <a:lnTo>
                    <a:pt x="1001" y="0"/>
                  </a:lnTo>
                  <a:lnTo>
                    <a:pt x="881" y="0"/>
                  </a:lnTo>
                  <a:lnTo>
                    <a:pt x="762" y="39"/>
                  </a:lnTo>
                  <a:lnTo>
                    <a:pt x="520" y="202"/>
                  </a:lnTo>
                  <a:close/>
                </a:path>
              </a:pathLst>
            </a:custGeom>
            <a:blipFill rotWithShape="0">
              <a:blip r:embed="rId11"/>
              <a:tile tx="0" ty="0" sx="133018" sy="133018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6369120" y="3878280"/>
              <a:ext cx="312840" cy="304920"/>
              <a:chOff x="6369120" y="3878280"/>
              <a:chExt cx="312840" cy="304920"/>
            </a:xfrm>
          </p:grpSpPr>
          <p:sp>
            <p:nvSpPr>
              <p:cNvPr id="176" name=""/>
              <p:cNvSpPr/>
              <p:nvPr/>
            </p:nvSpPr>
            <p:spPr>
              <a:xfrm>
                <a:off x="6408720" y="3917880"/>
                <a:ext cx="220680" cy="22068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 txBox="1"/>
              <p:nvPr/>
            </p:nvSpPr>
            <p:spPr>
              <a:xfrm>
                <a:off x="6369120" y="3878280"/>
                <a:ext cx="3128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6794640" y="4175280"/>
              <a:ext cx="312840" cy="304920"/>
              <a:chOff x="6794640" y="4175280"/>
              <a:chExt cx="312840" cy="304920"/>
            </a:xfrm>
          </p:grpSpPr>
          <p:sp>
            <p:nvSpPr>
              <p:cNvPr id="179" name=""/>
              <p:cNvSpPr/>
              <p:nvPr/>
            </p:nvSpPr>
            <p:spPr>
              <a:xfrm>
                <a:off x="6834240" y="4214880"/>
                <a:ext cx="220680" cy="22068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>
                <a:off x="6794640" y="4175280"/>
                <a:ext cx="3128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6662880" y="4759200"/>
              <a:ext cx="312840" cy="304920"/>
              <a:chOff x="6662880" y="4759200"/>
              <a:chExt cx="312840" cy="304920"/>
            </a:xfrm>
          </p:grpSpPr>
          <p:sp>
            <p:nvSpPr>
              <p:cNvPr id="182" name=""/>
              <p:cNvSpPr/>
              <p:nvPr/>
            </p:nvSpPr>
            <p:spPr>
              <a:xfrm>
                <a:off x="6703920" y="4800600"/>
                <a:ext cx="228600" cy="22860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6662880" y="4759200"/>
                <a:ext cx="3128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6656400" y="5283360"/>
              <a:ext cx="312840" cy="304920"/>
              <a:chOff x="6656400" y="5283360"/>
              <a:chExt cx="312840" cy="304920"/>
            </a:xfrm>
          </p:grpSpPr>
          <p:sp>
            <p:nvSpPr>
              <p:cNvPr id="185" name=""/>
              <p:cNvSpPr/>
              <p:nvPr/>
            </p:nvSpPr>
            <p:spPr>
              <a:xfrm>
                <a:off x="6697800" y="5324400"/>
                <a:ext cx="228600" cy="22860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6656400" y="5283360"/>
                <a:ext cx="3128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6232680" y="4834080"/>
              <a:ext cx="312840" cy="304920"/>
              <a:chOff x="6232680" y="4834080"/>
              <a:chExt cx="312840" cy="304920"/>
            </a:xfrm>
          </p:grpSpPr>
          <p:sp>
            <p:nvSpPr>
              <p:cNvPr id="188" name=""/>
              <p:cNvSpPr/>
              <p:nvPr/>
            </p:nvSpPr>
            <p:spPr>
              <a:xfrm>
                <a:off x="6273720" y="4875120"/>
                <a:ext cx="228600" cy="22860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 txBox="1"/>
              <p:nvPr/>
            </p:nvSpPr>
            <p:spPr>
              <a:xfrm>
                <a:off x="6232680" y="4834080"/>
                <a:ext cx="3128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6297480" y="5635800"/>
              <a:ext cx="312840" cy="304920"/>
              <a:chOff x="6297480" y="5635800"/>
              <a:chExt cx="312840" cy="304920"/>
            </a:xfrm>
          </p:grpSpPr>
          <p:sp>
            <p:nvSpPr>
              <p:cNvPr id="191" name=""/>
              <p:cNvSpPr/>
              <p:nvPr/>
            </p:nvSpPr>
            <p:spPr>
              <a:xfrm>
                <a:off x="6338880" y="5676840"/>
                <a:ext cx="228600" cy="22860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 txBox="1"/>
              <p:nvPr/>
            </p:nvSpPr>
            <p:spPr>
              <a:xfrm>
                <a:off x="6297480" y="5635800"/>
                <a:ext cx="3128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6321600" y="5989680"/>
              <a:ext cx="312840" cy="304920"/>
              <a:chOff x="6321600" y="5989680"/>
              <a:chExt cx="312840" cy="304920"/>
            </a:xfrm>
          </p:grpSpPr>
          <p:sp>
            <p:nvSpPr>
              <p:cNvPr id="194" name=""/>
              <p:cNvSpPr/>
              <p:nvPr/>
            </p:nvSpPr>
            <p:spPr>
              <a:xfrm>
                <a:off x="6362640" y="6031080"/>
                <a:ext cx="228600" cy="22860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 txBox="1"/>
              <p:nvPr/>
            </p:nvSpPr>
            <p:spPr>
              <a:xfrm>
                <a:off x="6321600" y="5989680"/>
                <a:ext cx="3128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6434280" y="4565520"/>
              <a:ext cx="241200" cy="237960"/>
              <a:chOff x="6434280" y="4565520"/>
              <a:chExt cx="241200" cy="237960"/>
            </a:xfrm>
          </p:grpSpPr>
          <p:sp>
            <p:nvSpPr>
              <p:cNvPr id="197" name=""/>
              <p:cNvSpPr/>
              <p:nvPr/>
            </p:nvSpPr>
            <p:spPr>
              <a:xfrm>
                <a:off x="6464160" y="4597560"/>
                <a:ext cx="171360" cy="171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>
                <a:off x="6434280" y="4565520"/>
                <a:ext cx="241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6724800" y="4011480"/>
              <a:ext cx="241200" cy="237960"/>
              <a:chOff x="6724800" y="4011480"/>
              <a:chExt cx="241200" cy="237960"/>
            </a:xfrm>
          </p:grpSpPr>
          <p:sp>
            <p:nvSpPr>
              <p:cNvPr id="200" name=""/>
              <p:cNvSpPr/>
              <p:nvPr/>
            </p:nvSpPr>
            <p:spPr>
              <a:xfrm>
                <a:off x="6754680" y="4041720"/>
                <a:ext cx="165240" cy="16524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>
                <a:off x="6724800" y="4011480"/>
                <a:ext cx="241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7178760" y="4276800"/>
              <a:ext cx="241200" cy="237960"/>
              <a:chOff x="7178760" y="4276800"/>
              <a:chExt cx="241200" cy="237960"/>
            </a:xfrm>
          </p:grpSpPr>
          <p:sp>
            <p:nvSpPr>
              <p:cNvPr id="203" name=""/>
              <p:cNvSpPr/>
              <p:nvPr/>
            </p:nvSpPr>
            <p:spPr>
              <a:xfrm>
                <a:off x="7209000" y="4308480"/>
                <a:ext cx="171360" cy="171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 txBox="1"/>
              <p:nvPr/>
            </p:nvSpPr>
            <p:spPr>
              <a:xfrm>
                <a:off x="7178760" y="4276800"/>
                <a:ext cx="241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6999120" y="4084560"/>
              <a:ext cx="241200" cy="237960"/>
              <a:chOff x="6999120" y="4084560"/>
              <a:chExt cx="241200" cy="237960"/>
            </a:xfrm>
          </p:grpSpPr>
          <p:sp>
            <p:nvSpPr>
              <p:cNvPr id="206" name=""/>
              <p:cNvSpPr/>
              <p:nvPr/>
            </p:nvSpPr>
            <p:spPr>
              <a:xfrm>
                <a:off x="7029360" y="4114800"/>
                <a:ext cx="165240" cy="16524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 txBox="1"/>
              <p:nvPr/>
            </p:nvSpPr>
            <p:spPr>
              <a:xfrm>
                <a:off x="6999120" y="4084560"/>
                <a:ext cx="241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7007400" y="5205240"/>
              <a:ext cx="155520" cy="154080"/>
              <a:chOff x="7007400" y="5205240"/>
              <a:chExt cx="155520" cy="154080"/>
            </a:xfrm>
          </p:grpSpPr>
          <p:sp>
            <p:nvSpPr>
              <p:cNvPr id="209" name=""/>
              <p:cNvSpPr/>
              <p:nvPr/>
            </p:nvSpPr>
            <p:spPr>
              <a:xfrm>
                <a:off x="7027920" y="5226120"/>
                <a:ext cx="114480" cy="114480"/>
              </a:xfrm>
              <a:prstGeom prst="ellipse">
                <a:avLst/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7007400" y="5205240"/>
                <a:ext cx="155520" cy="154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7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6669000" y="5877000"/>
              <a:ext cx="155520" cy="154080"/>
              <a:chOff x="6669000" y="5877000"/>
              <a:chExt cx="155520" cy="154080"/>
            </a:xfrm>
          </p:grpSpPr>
          <p:sp>
            <p:nvSpPr>
              <p:cNvPr id="212" name=""/>
              <p:cNvSpPr/>
              <p:nvPr/>
            </p:nvSpPr>
            <p:spPr>
              <a:xfrm>
                <a:off x="6689880" y="5897520"/>
                <a:ext cx="114480" cy="11448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6669000" y="5877000"/>
                <a:ext cx="155520" cy="154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7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6966000" y="5711760"/>
              <a:ext cx="155520" cy="154080"/>
              <a:chOff x="6966000" y="5711760"/>
              <a:chExt cx="155520" cy="154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986520" y="5732640"/>
                <a:ext cx="114480" cy="11448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 txBox="1"/>
              <p:nvPr/>
            </p:nvSpPr>
            <p:spPr>
              <a:xfrm>
                <a:off x="6966000" y="5711760"/>
                <a:ext cx="155520" cy="154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7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6800760" y="5877000"/>
              <a:ext cx="312840" cy="304920"/>
              <a:chOff x="6800760" y="5877000"/>
              <a:chExt cx="312840" cy="304920"/>
            </a:xfrm>
          </p:grpSpPr>
          <p:sp>
            <p:nvSpPr>
              <p:cNvPr id="218" name=""/>
              <p:cNvSpPr/>
              <p:nvPr/>
            </p:nvSpPr>
            <p:spPr>
              <a:xfrm>
                <a:off x="6842160" y="5918040"/>
                <a:ext cx="228600" cy="22860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6800760" y="5877000"/>
                <a:ext cx="3128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068960" y="5497560"/>
              <a:ext cx="312840" cy="304920"/>
              <a:chOff x="7068960" y="5497560"/>
              <a:chExt cx="312840" cy="304920"/>
            </a:xfrm>
          </p:grpSpPr>
          <p:sp>
            <p:nvSpPr>
              <p:cNvPr id="221" name=""/>
              <p:cNvSpPr/>
              <p:nvPr/>
            </p:nvSpPr>
            <p:spPr>
              <a:xfrm>
                <a:off x="7110360" y="5538960"/>
                <a:ext cx="228600" cy="22860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7068960" y="5497560"/>
                <a:ext cx="3128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6505560" y="3662280"/>
              <a:ext cx="312840" cy="304920"/>
              <a:chOff x="6505560" y="3662280"/>
              <a:chExt cx="312840" cy="304920"/>
            </a:xfrm>
          </p:grpSpPr>
          <p:sp>
            <p:nvSpPr>
              <p:cNvPr id="224" name=""/>
              <p:cNvSpPr/>
              <p:nvPr/>
            </p:nvSpPr>
            <p:spPr>
              <a:xfrm>
                <a:off x="6519960" y="3662280"/>
                <a:ext cx="285840" cy="279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6505560" y="3662280"/>
                <a:ext cx="3128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6369120" y="4254480"/>
              <a:ext cx="320760" cy="312480"/>
              <a:chOff x="6369120" y="4254480"/>
              <a:chExt cx="320760" cy="312480"/>
            </a:xfrm>
          </p:grpSpPr>
          <p:sp>
            <p:nvSpPr>
              <p:cNvPr id="227" name=""/>
              <p:cNvSpPr/>
              <p:nvPr/>
            </p:nvSpPr>
            <p:spPr>
              <a:xfrm>
                <a:off x="6418440" y="4302000"/>
                <a:ext cx="271440" cy="2649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 txBox="1"/>
              <p:nvPr/>
            </p:nvSpPr>
            <p:spPr>
              <a:xfrm>
                <a:off x="6369120" y="4254480"/>
                <a:ext cx="3128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599160" y="5994360"/>
              <a:ext cx="341280" cy="330120"/>
              <a:chOff x="6599160" y="5994360"/>
              <a:chExt cx="341280" cy="330120"/>
            </a:xfrm>
          </p:grpSpPr>
          <p:sp>
            <p:nvSpPr>
              <p:cNvPr id="230" name=""/>
              <p:cNvSpPr/>
              <p:nvPr/>
            </p:nvSpPr>
            <p:spPr>
              <a:xfrm>
                <a:off x="6645240" y="6040440"/>
                <a:ext cx="249120" cy="2509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 txBox="1"/>
              <p:nvPr/>
            </p:nvSpPr>
            <p:spPr>
              <a:xfrm>
                <a:off x="6599160" y="5994360"/>
                <a:ext cx="341280" cy="33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6953400" y="5049720"/>
              <a:ext cx="341280" cy="330120"/>
              <a:chOff x="6953400" y="5049720"/>
              <a:chExt cx="341280" cy="330120"/>
            </a:xfrm>
          </p:grpSpPr>
          <p:sp>
            <p:nvSpPr>
              <p:cNvPr id="233" name=""/>
              <p:cNvSpPr/>
              <p:nvPr/>
            </p:nvSpPr>
            <p:spPr>
              <a:xfrm>
                <a:off x="6999120" y="5095800"/>
                <a:ext cx="249120" cy="2509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 txBox="1"/>
              <p:nvPr/>
            </p:nvSpPr>
            <p:spPr>
              <a:xfrm>
                <a:off x="6953400" y="5049720"/>
                <a:ext cx="341280" cy="33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6470640" y="5011560"/>
              <a:ext cx="341280" cy="330120"/>
              <a:chOff x="6470640" y="5011560"/>
              <a:chExt cx="341280" cy="330120"/>
            </a:xfrm>
          </p:grpSpPr>
          <p:sp>
            <p:nvSpPr>
              <p:cNvPr id="236" name=""/>
              <p:cNvSpPr/>
              <p:nvPr/>
            </p:nvSpPr>
            <p:spPr>
              <a:xfrm>
                <a:off x="6516720" y="5057640"/>
                <a:ext cx="249120" cy="25092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>
                <a:off x="6470640" y="5011560"/>
                <a:ext cx="341280" cy="33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537240" y="5541840"/>
              <a:ext cx="312840" cy="304920"/>
              <a:chOff x="6537240" y="5541840"/>
              <a:chExt cx="312840" cy="304920"/>
            </a:xfrm>
          </p:grpSpPr>
          <p:sp>
            <p:nvSpPr>
              <p:cNvPr id="239" name=""/>
              <p:cNvSpPr/>
              <p:nvPr/>
            </p:nvSpPr>
            <p:spPr>
              <a:xfrm>
                <a:off x="6578640" y="5583240"/>
                <a:ext cx="228600" cy="22860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6537240" y="5541840"/>
                <a:ext cx="3128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7223040" y="4816440"/>
              <a:ext cx="241200" cy="237960"/>
              <a:chOff x="7223040" y="4816440"/>
              <a:chExt cx="241200" cy="237960"/>
            </a:xfrm>
          </p:grpSpPr>
          <p:sp>
            <p:nvSpPr>
              <p:cNvPr id="242" name=""/>
              <p:cNvSpPr/>
              <p:nvPr/>
            </p:nvSpPr>
            <p:spPr>
              <a:xfrm>
                <a:off x="7253280" y="4848120"/>
                <a:ext cx="171360" cy="171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 txBox="1"/>
              <p:nvPr/>
            </p:nvSpPr>
            <p:spPr>
              <a:xfrm>
                <a:off x="7223040" y="4816440"/>
                <a:ext cx="241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7202520" y="5237280"/>
              <a:ext cx="241200" cy="237960"/>
              <a:chOff x="7202520" y="5237280"/>
              <a:chExt cx="241200" cy="237960"/>
            </a:xfrm>
          </p:grpSpPr>
          <p:sp>
            <p:nvSpPr>
              <p:cNvPr id="245" name=""/>
              <p:cNvSpPr/>
              <p:nvPr/>
            </p:nvSpPr>
            <p:spPr>
              <a:xfrm>
                <a:off x="7232760" y="5268960"/>
                <a:ext cx="171360" cy="171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>
                <a:off x="7202520" y="5237280"/>
                <a:ext cx="241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153200" y="5824440"/>
              <a:ext cx="241200" cy="237960"/>
              <a:chOff x="7153200" y="5824440"/>
              <a:chExt cx="241200" cy="237960"/>
            </a:xfrm>
          </p:grpSpPr>
          <p:sp>
            <p:nvSpPr>
              <p:cNvPr id="248" name=""/>
              <p:cNvSpPr/>
              <p:nvPr/>
            </p:nvSpPr>
            <p:spPr>
              <a:xfrm>
                <a:off x="7183440" y="5856120"/>
                <a:ext cx="171360" cy="171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 txBox="1"/>
              <p:nvPr/>
            </p:nvSpPr>
            <p:spPr>
              <a:xfrm>
                <a:off x="7153200" y="5824440"/>
                <a:ext cx="241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7086600" y="4576680"/>
              <a:ext cx="241200" cy="237960"/>
              <a:chOff x="7086600" y="4576680"/>
              <a:chExt cx="241200" cy="237960"/>
            </a:xfrm>
          </p:grpSpPr>
          <p:sp>
            <p:nvSpPr>
              <p:cNvPr id="251" name=""/>
              <p:cNvSpPr/>
              <p:nvPr/>
            </p:nvSpPr>
            <p:spPr>
              <a:xfrm>
                <a:off x="7116840" y="4608360"/>
                <a:ext cx="171360" cy="171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 txBox="1"/>
              <p:nvPr/>
            </p:nvSpPr>
            <p:spPr>
              <a:xfrm>
                <a:off x="7086600" y="4576680"/>
                <a:ext cx="241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3" name="" descr=""/>
            <p:cNvPicPr/>
            <p:nvPr/>
          </p:nvPicPr>
          <p:blipFill>
            <a:blip r:embed="rId12"/>
            <a:stretch/>
          </p:blipFill>
          <p:spPr>
            <a:xfrm>
              <a:off x="5384880" y="5919840"/>
              <a:ext cx="709560" cy="33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4" name=""/>
            <p:cNvGrpSpPr/>
            <p:nvPr/>
          </p:nvGrpSpPr>
          <p:grpSpPr>
            <a:xfrm>
              <a:off x="5397480" y="5189400"/>
              <a:ext cx="535680" cy="212760"/>
              <a:chOff x="5397480" y="5189400"/>
              <a:chExt cx="535680" cy="212760"/>
            </a:xfrm>
          </p:grpSpPr>
          <p:sp>
            <p:nvSpPr>
              <p:cNvPr id="255" name=""/>
              <p:cNvSpPr/>
              <p:nvPr/>
            </p:nvSpPr>
            <p:spPr>
              <a:xfrm>
                <a:off x="5400720" y="5189400"/>
                <a:ext cx="359280" cy="155880"/>
              </a:xfrm>
              <a:custGeom>
                <a:avLst/>
                <a:gdLst/>
                <a:ahLst/>
                <a:rect l="0" t="0" r="r" b="b"/>
                <a:pathLst>
                  <a:path w="998" h="433">
                    <a:moveTo>
                      <a:pt x="516" y="0"/>
                    </a:moveTo>
                    <a:lnTo>
                      <a:pt x="945" y="0"/>
                    </a:lnTo>
                    <a:lnTo>
                      <a:pt x="950" y="4"/>
                    </a:lnTo>
                    <a:lnTo>
                      <a:pt x="954" y="4"/>
                    </a:lnTo>
                    <a:lnTo>
                      <a:pt x="958" y="4"/>
                    </a:lnTo>
                    <a:lnTo>
                      <a:pt x="963" y="8"/>
                    </a:lnTo>
                    <a:lnTo>
                      <a:pt x="967" y="13"/>
                    </a:lnTo>
                    <a:lnTo>
                      <a:pt x="967" y="17"/>
                    </a:lnTo>
                    <a:lnTo>
                      <a:pt x="972" y="22"/>
                    </a:lnTo>
                    <a:lnTo>
                      <a:pt x="985" y="136"/>
                    </a:lnTo>
                    <a:lnTo>
                      <a:pt x="998" y="158"/>
                    </a:lnTo>
                    <a:lnTo>
                      <a:pt x="998" y="211"/>
                    </a:lnTo>
                    <a:lnTo>
                      <a:pt x="985" y="211"/>
                    </a:lnTo>
                    <a:lnTo>
                      <a:pt x="985" y="433"/>
                    </a:lnTo>
                    <a:lnTo>
                      <a:pt x="512" y="433"/>
                    </a:lnTo>
                    <a:lnTo>
                      <a:pt x="494" y="433"/>
                    </a:lnTo>
                    <a:lnTo>
                      <a:pt x="481" y="433"/>
                    </a:lnTo>
                    <a:lnTo>
                      <a:pt x="468" y="428"/>
                    </a:lnTo>
                    <a:lnTo>
                      <a:pt x="450" y="424"/>
                    </a:lnTo>
                    <a:lnTo>
                      <a:pt x="437" y="419"/>
                    </a:lnTo>
                    <a:lnTo>
                      <a:pt x="424" y="415"/>
                    </a:lnTo>
                    <a:lnTo>
                      <a:pt x="415" y="406"/>
                    </a:lnTo>
                    <a:lnTo>
                      <a:pt x="411" y="393"/>
                    </a:lnTo>
                    <a:lnTo>
                      <a:pt x="406" y="384"/>
                    </a:lnTo>
                    <a:lnTo>
                      <a:pt x="402" y="375"/>
                    </a:lnTo>
                    <a:lnTo>
                      <a:pt x="367" y="305"/>
                    </a:lnTo>
                    <a:lnTo>
                      <a:pt x="367" y="300"/>
                    </a:lnTo>
                    <a:lnTo>
                      <a:pt x="433" y="300"/>
                    </a:lnTo>
                    <a:lnTo>
                      <a:pt x="450" y="349"/>
                    </a:lnTo>
                    <a:lnTo>
                      <a:pt x="450" y="353"/>
                    </a:lnTo>
                    <a:lnTo>
                      <a:pt x="455" y="358"/>
                    </a:lnTo>
                    <a:lnTo>
                      <a:pt x="459" y="358"/>
                    </a:lnTo>
                    <a:lnTo>
                      <a:pt x="464" y="362"/>
                    </a:lnTo>
                    <a:lnTo>
                      <a:pt x="468" y="367"/>
                    </a:lnTo>
                    <a:lnTo>
                      <a:pt x="472" y="371"/>
                    </a:lnTo>
                    <a:lnTo>
                      <a:pt x="477" y="371"/>
                    </a:lnTo>
                    <a:lnTo>
                      <a:pt x="481" y="371"/>
                    </a:lnTo>
                    <a:lnTo>
                      <a:pt x="613" y="371"/>
                    </a:lnTo>
                    <a:lnTo>
                      <a:pt x="627" y="384"/>
                    </a:lnTo>
                    <a:lnTo>
                      <a:pt x="760" y="384"/>
                    </a:lnTo>
                    <a:lnTo>
                      <a:pt x="773" y="371"/>
                    </a:lnTo>
                    <a:lnTo>
                      <a:pt x="941" y="371"/>
                    </a:lnTo>
                    <a:lnTo>
                      <a:pt x="950" y="371"/>
                    </a:lnTo>
                    <a:lnTo>
                      <a:pt x="954" y="362"/>
                    </a:lnTo>
                    <a:lnTo>
                      <a:pt x="958" y="358"/>
                    </a:lnTo>
                    <a:lnTo>
                      <a:pt x="958" y="349"/>
                    </a:lnTo>
                    <a:lnTo>
                      <a:pt x="958" y="336"/>
                    </a:lnTo>
                    <a:lnTo>
                      <a:pt x="967" y="336"/>
                    </a:lnTo>
                    <a:lnTo>
                      <a:pt x="967" y="318"/>
                    </a:lnTo>
                    <a:lnTo>
                      <a:pt x="958" y="318"/>
                    </a:lnTo>
                    <a:lnTo>
                      <a:pt x="958" y="221"/>
                    </a:lnTo>
                    <a:lnTo>
                      <a:pt x="967" y="221"/>
                    </a:lnTo>
                    <a:lnTo>
                      <a:pt x="967" y="202"/>
                    </a:lnTo>
                    <a:lnTo>
                      <a:pt x="958" y="202"/>
                    </a:lnTo>
                    <a:lnTo>
                      <a:pt x="958" y="189"/>
                    </a:lnTo>
                    <a:lnTo>
                      <a:pt x="941" y="52"/>
                    </a:lnTo>
                    <a:lnTo>
                      <a:pt x="941" y="44"/>
                    </a:lnTo>
                    <a:lnTo>
                      <a:pt x="936" y="35"/>
                    </a:lnTo>
                    <a:lnTo>
                      <a:pt x="932" y="30"/>
                    </a:lnTo>
                    <a:lnTo>
                      <a:pt x="923" y="30"/>
                    </a:lnTo>
                    <a:lnTo>
                      <a:pt x="719" y="30"/>
                    </a:lnTo>
                    <a:lnTo>
                      <a:pt x="653" y="30"/>
                    </a:lnTo>
                    <a:lnTo>
                      <a:pt x="459" y="30"/>
                    </a:lnTo>
                    <a:lnTo>
                      <a:pt x="450" y="30"/>
                    </a:lnTo>
                    <a:lnTo>
                      <a:pt x="446" y="39"/>
                    </a:lnTo>
                    <a:lnTo>
                      <a:pt x="441" y="44"/>
                    </a:lnTo>
                    <a:lnTo>
                      <a:pt x="441" y="52"/>
                    </a:lnTo>
                    <a:lnTo>
                      <a:pt x="393" y="189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4" y="163"/>
                    </a:lnTo>
                    <a:lnTo>
                      <a:pt x="4" y="158"/>
                    </a:lnTo>
                    <a:lnTo>
                      <a:pt x="4" y="154"/>
                    </a:lnTo>
                    <a:lnTo>
                      <a:pt x="13" y="145"/>
                    </a:lnTo>
                    <a:lnTo>
                      <a:pt x="13" y="141"/>
                    </a:lnTo>
                    <a:lnTo>
                      <a:pt x="22" y="136"/>
                    </a:lnTo>
                    <a:lnTo>
                      <a:pt x="30" y="136"/>
                    </a:lnTo>
                    <a:lnTo>
                      <a:pt x="57" y="127"/>
                    </a:lnTo>
                    <a:lnTo>
                      <a:pt x="83" y="119"/>
                    </a:lnTo>
                    <a:lnTo>
                      <a:pt x="105" y="110"/>
                    </a:lnTo>
                    <a:lnTo>
                      <a:pt x="127" y="97"/>
                    </a:lnTo>
                    <a:lnTo>
                      <a:pt x="158" y="88"/>
                    </a:lnTo>
                    <a:lnTo>
                      <a:pt x="180" y="83"/>
                    </a:lnTo>
                    <a:lnTo>
                      <a:pt x="207" y="74"/>
                    </a:lnTo>
                    <a:lnTo>
                      <a:pt x="229" y="61"/>
                    </a:lnTo>
                    <a:lnTo>
                      <a:pt x="261" y="57"/>
                    </a:lnTo>
                    <a:lnTo>
                      <a:pt x="283" y="48"/>
                    </a:lnTo>
                    <a:lnTo>
                      <a:pt x="309" y="39"/>
                    </a:lnTo>
                    <a:lnTo>
                      <a:pt x="331" y="30"/>
                    </a:lnTo>
                    <a:lnTo>
                      <a:pt x="353" y="22"/>
                    </a:lnTo>
                    <a:lnTo>
                      <a:pt x="384" y="17"/>
                    </a:lnTo>
                    <a:lnTo>
                      <a:pt x="411" y="13"/>
                    </a:lnTo>
                    <a:lnTo>
                      <a:pt x="433" y="4"/>
                    </a:lnTo>
                    <a:lnTo>
                      <a:pt x="516" y="0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400720" y="5256360"/>
                <a:ext cx="157680" cy="52920"/>
              </a:xfrm>
              <a:custGeom>
                <a:avLst/>
                <a:gdLst/>
                <a:ahLst/>
                <a:rect l="0" t="0" r="r" b="b"/>
                <a:pathLst>
                  <a:path w="438" h="147">
                    <a:moveTo>
                      <a:pt x="0" y="4"/>
                    </a:moveTo>
                    <a:lnTo>
                      <a:pt x="398" y="0"/>
                    </a:lnTo>
                    <a:lnTo>
                      <a:pt x="438" y="112"/>
                    </a:lnTo>
                    <a:lnTo>
                      <a:pt x="372" y="112"/>
                    </a:lnTo>
                    <a:lnTo>
                      <a:pt x="368" y="102"/>
                    </a:lnTo>
                    <a:lnTo>
                      <a:pt x="363" y="102"/>
                    </a:lnTo>
                    <a:lnTo>
                      <a:pt x="359" y="93"/>
                    </a:lnTo>
                    <a:lnTo>
                      <a:pt x="354" y="84"/>
                    </a:lnTo>
                    <a:lnTo>
                      <a:pt x="350" y="84"/>
                    </a:lnTo>
                    <a:lnTo>
                      <a:pt x="345" y="84"/>
                    </a:lnTo>
                    <a:lnTo>
                      <a:pt x="345" y="80"/>
                    </a:lnTo>
                    <a:lnTo>
                      <a:pt x="341" y="80"/>
                    </a:lnTo>
                    <a:lnTo>
                      <a:pt x="327" y="71"/>
                    </a:lnTo>
                    <a:lnTo>
                      <a:pt x="314" y="67"/>
                    </a:lnTo>
                    <a:lnTo>
                      <a:pt x="305" y="62"/>
                    </a:lnTo>
                    <a:lnTo>
                      <a:pt x="287" y="62"/>
                    </a:lnTo>
                    <a:lnTo>
                      <a:pt x="274" y="62"/>
                    </a:lnTo>
                    <a:lnTo>
                      <a:pt x="265" y="62"/>
                    </a:lnTo>
                    <a:lnTo>
                      <a:pt x="252" y="62"/>
                    </a:lnTo>
                    <a:lnTo>
                      <a:pt x="239" y="62"/>
                    </a:lnTo>
                    <a:lnTo>
                      <a:pt x="221" y="62"/>
                    </a:lnTo>
                    <a:lnTo>
                      <a:pt x="212" y="62"/>
                    </a:lnTo>
                    <a:lnTo>
                      <a:pt x="195" y="62"/>
                    </a:lnTo>
                    <a:lnTo>
                      <a:pt x="181" y="62"/>
                    </a:lnTo>
                    <a:lnTo>
                      <a:pt x="172" y="62"/>
                    </a:lnTo>
                    <a:lnTo>
                      <a:pt x="155" y="67"/>
                    </a:lnTo>
                    <a:lnTo>
                      <a:pt x="146" y="71"/>
                    </a:lnTo>
                    <a:lnTo>
                      <a:pt x="128" y="75"/>
                    </a:lnTo>
                    <a:lnTo>
                      <a:pt x="83" y="147"/>
                    </a:lnTo>
                    <a:lnTo>
                      <a:pt x="0" y="147"/>
                    </a:lnTo>
                    <a:lnTo>
                      <a:pt x="0" y="3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649840" y="5200560"/>
                <a:ext cx="97200" cy="120960"/>
              </a:xfrm>
              <a:custGeom>
                <a:avLst/>
                <a:gdLst/>
                <a:ahLst/>
                <a:rect l="0" t="0" r="r" b="b"/>
                <a:pathLst>
                  <a:path w="270" h="336">
                    <a:moveTo>
                      <a:pt x="80" y="336"/>
                    </a:moveTo>
                    <a:lnTo>
                      <a:pt x="22" y="336"/>
                    </a:lnTo>
                    <a:lnTo>
                      <a:pt x="13" y="336"/>
                    </a:lnTo>
                    <a:lnTo>
                      <a:pt x="8" y="327"/>
                    </a:lnTo>
                    <a:lnTo>
                      <a:pt x="4" y="322"/>
                    </a:lnTo>
                    <a:lnTo>
                      <a:pt x="0" y="318"/>
                    </a:lnTo>
                    <a:lnTo>
                      <a:pt x="0" y="17"/>
                    </a:lnTo>
                    <a:lnTo>
                      <a:pt x="4" y="13"/>
                    </a:lnTo>
                    <a:lnTo>
                      <a:pt x="8" y="8"/>
                    </a:lnTo>
                    <a:lnTo>
                      <a:pt x="13" y="0"/>
                    </a:lnTo>
                    <a:lnTo>
                      <a:pt x="22" y="0"/>
                    </a:lnTo>
                    <a:lnTo>
                      <a:pt x="231" y="0"/>
                    </a:lnTo>
                    <a:lnTo>
                      <a:pt x="244" y="0"/>
                    </a:lnTo>
                    <a:lnTo>
                      <a:pt x="248" y="4"/>
                    </a:lnTo>
                    <a:lnTo>
                      <a:pt x="248" y="13"/>
                    </a:lnTo>
                    <a:lnTo>
                      <a:pt x="248" y="17"/>
                    </a:lnTo>
                    <a:lnTo>
                      <a:pt x="270" y="154"/>
                    </a:lnTo>
                    <a:lnTo>
                      <a:pt x="270" y="172"/>
                    </a:lnTo>
                    <a:lnTo>
                      <a:pt x="257" y="172"/>
                    </a:lnTo>
                    <a:lnTo>
                      <a:pt x="244" y="181"/>
                    </a:lnTo>
                    <a:lnTo>
                      <a:pt x="257" y="186"/>
                    </a:lnTo>
                    <a:lnTo>
                      <a:pt x="270" y="186"/>
                    </a:lnTo>
                    <a:lnTo>
                      <a:pt x="270" y="287"/>
                    </a:lnTo>
                    <a:lnTo>
                      <a:pt x="257" y="287"/>
                    </a:lnTo>
                    <a:lnTo>
                      <a:pt x="244" y="296"/>
                    </a:lnTo>
                    <a:lnTo>
                      <a:pt x="257" y="300"/>
                    </a:lnTo>
                    <a:lnTo>
                      <a:pt x="270" y="300"/>
                    </a:lnTo>
                    <a:lnTo>
                      <a:pt x="270" y="318"/>
                    </a:lnTo>
                    <a:lnTo>
                      <a:pt x="270" y="322"/>
                    </a:lnTo>
                    <a:lnTo>
                      <a:pt x="266" y="327"/>
                    </a:lnTo>
                    <a:lnTo>
                      <a:pt x="257" y="336"/>
                    </a:lnTo>
                    <a:lnTo>
                      <a:pt x="248" y="336"/>
                    </a:lnTo>
                    <a:lnTo>
                      <a:pt x="80" y="336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637240" y="5200560"/>
                <a:ext cx="25920" cy="120960"/>
              </a:xfrm>
              <a:custGeom>
                <a:avLst/>
                <a:gdLst/>
                <a:ahLst/>
                <a:rect l="0" t="0" r="r" b="b"/>
                <a:pathLst>
                  <a:path w="72" h="336">
                    <a:moveTo>
                      <a:pt x="72" y="336"/>
                    </a:moveTo>
                    <a:lnTo>
                      <a:pt x="0" y="336"/>
                    </a:lnTo>
                    <a:lnTo>
                      <a:pt x="8" y="336"/>
                    </a:lnTo>
                    <a:lnTo>
                      <a:pt x="13" y="327"/>
                    </a:lnTo>
                    <a:lnTo>
                      <a:pt x="17" y="322"/>
                    </a:lnTo>
                    <a:lnTo>
                      <a:pt x="17" y="318"/>
                    </a:lnTo>
                    <a:lnTo>
                      <a:pt x="17" y="300"/>
                    </a:lnTo>
                    <a:lnTo>
                      <a:pt x="23" y="300"/>
                    </a:lnTo>
                    <a:lnTo>
                      <a:pt x="23" y="287"/>
                    </a:lnTo>
                    <a:lnTo>
                      <a:pt x="17" y="287"/>
                    </a:lnTo>
                    <a:lnTo>
                      <a:pt x="17" y="186"/>
                    </a:lnTo>
                    <a:lnTo>
                      <a:pt x="23" y="186"/>
                    </a:lnTo>
                    <a:lnTo>
                      <a:pt x="23" y="172"/>
                    </a:lnTo>
                    <a:lnTo>
                      <a:pt x="17" y="172"/>
                    </a:lnTo>
                    <a:lnTo>
                      <a:pt x="17" y="17"/>
                    </a:lnTo>
                    <a:lnTo>
                      <a:pt x="17" y="13"/>
                    </a:lnTo>
                    <a:lnTo>
                      <a:pt x="13" y="4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59" y="0"/>
                    </a:lnTo>
                    <a:lnTo>
                      <a:pt x="53" y="8"/>
                    </a:lnTo>
                    <a:lnTo>
                      <a:pt x="49" y="13"/>
                    </a:lnTo>
                    <a:lnTo>
                      <a:pt x="45" y="17"/>
                    </a:lnTo>
                    <a:lnTo>
                      <a:pt x="45" y="318"/>
                    </a:lnTo>
                    <a:lnTo>
                      <a:pt x="49" y="322"/>
                    </a:lnTo>
                    <a:lnTo>
                      <a:pt x="53" y="327"/>
                    </a:lnTo>
                    <a:lnTo>
                      <a:pt x="59" y="336"/>
                    </a:lnTo>
                    <a:lnTo>
                      <a:pt x="72" y="336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543640" y="5200560"/>
                <a:ext cx="100440" cy="120960"/>
              </a:xfrm>
              <a:custGeom>
                <a:avLst/>
                <a:gdLst/>
                <a:ahLst/>
                <a:rect l="0" t="0" r="r" b="b"/>
                <a:pathLst>
                  <a:path w="279" h="336">
                    <a:moveTo>
                      <a:pt x="262" y="336"/>
                    </a:moveTo>
                    <a:lnTo>
                      <a:pt x="89" y="336"/>
                    </a:lnTo>
                    <a:lnTo>
                      <a:pt x="80" y="336"/>
                    </a:lnTo>
                    <a:lnTo>
                      <a:pt x="75" y="336"/>
                    </a:lnTo>
                    <a:lnTo>
                      <a:pt x="75" y="331"/>
                    </a:lnTo>
                    <a:lnTo>
                      <a:pt x="71" y="327"/>
                    </a:lnTo>
                    <a:lnTo>
                      <a:pt x="66" y="322"/>
                    </a:lnTo>
                    <a:lnTo>
                      <a:pt x="61" y="322"/>
                    </a:lnTo>
                    <a:lnTo>
                      <a:pt x="57" y="318"/>
                    </a:lnTo>
                    <a:lnTo>
                      <a:pt x="39" y="265"/>
                    </a:lnTo>
                    <a:lnTo>
                      <a:pt x="0" y="154"/>
                    </a:lnTo>
                    <a:lnTo>
                      <a:pt x="44" y="17"/>
                    </a:lnTo>
                    <a:lnTo>
                      <a:pt x="44" y="13"/>
                    </a:lnTo>
                    <a:lnTo>
                      <a:pt x="48" y="8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262" y="0"/>
                    </a:lnTo>
                    <a:lnTo>
                      <a:pt x="270" y="0"/>
                    </a:lnTo>
                    <a:lnTo>
                      <a:pt x="275" y="4"/>
                    </a:lnTo>
                    <a:lnTo>
                      <a:pt x="279" y="13"/>
                    </a:lnTo>
                    <a:lnTo>
                      <a:pt x="279" y="17"/>
                    </a:lnTo>
                    <a:lnTo>
                      <a:pt x="279" y="172"/>
                    </a:lnTo>
                    <a:lnTo>
                      <a:pt x="262" y="172"/>
                    </a:lnTo>
                    <a:lnTo>
                      <a:pt x="253" y="181"/>
                    </a:lnTo>
                    <a:lnTo>
                      <a:pt x="262" y="186"/>
                    </a:lnTo>
                    <a:lnTo>
                      <a:pt x="279" y="186"/>
                    </a:lnTo>
                    <a:lnTo>
                      <a:pt x="279" y="287"/>
                    </a:lnTo>
                    <a:lnTo>
                      <a:pt x="262" y="287"/>
                    </a:lnTo>
                    <a:lnTo>
                      <a:pt x="253" y="296"/>
                    </a:lnTo>
                    <a:lnTo>
                      <a:pt x="262" y="300"/>
                    </a:lnTo>
                    <a:lnTo>
                      <a:pt x="279" y="300"/>
                    </a:lnTo>
                    <a:lnTo>
                      <a:pt x="279" y="318"/>
                    </a:lnTo>
                    <a:lnTo>
                      <a:pt x="279" y="322"/>
                    </a:lnTo>
                    <a:lnTo>
                      <a:pt x="275" y="327"/>
                    </a:lnTo>
                    <a:lnTo>
                      <a:pt x="266" y="336"/>
                    </a:lnTo>
                    <a:lnTo>
                      <a:pt x="262" y="336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429160" y="5278320"/>
                <a:ext cx="117720" cy="47880"/>
              </a:xfrm>
              <a:custGeom>
                <a:avLst/>
                <a:gdLst/>
                <a:ahLst/>
                <a:rect l="0" t="0" r="r" b="b"/>
                <a:pathLst>
                  <a:path w="327" h="133">
                    <a:moveTo>
                      <a:pt x="327" y="133"/>
                    </a:moveTo>
                    <a:lnTo>
                      <a:pt x="296" y="133"/>
                    </a:lnTo>
                    <a:lnTo>
                      <a:pt x="292" y="124"/>
                    </a:lnTo>
                    <a:lnTo>
                      <a:pt x="274" y="93"/>
                    </a:lnTo>
                    <a:lnTo>
                      <a:pt x="261" y="80"/>
                    </a:lnTo>
                    <a:lnTo>
                      <a:pt x="247" y="71"/>
                    </a:lnTo>
                    <a:lnTo>
                      <a:pt x="234" y="57"/>
                    </a:lnTo>
                    <a:lnTo>
                      <a:pt x="212" y="44"/>
                    </a:lnTo>
                    <a:lnTo>
                      <a:pt x="186" y="39"/>
                    </a:lnTo>
                    <a:lnTo>
                      <a:pt x="158" y="35"/>
                    </a:lnTo>
                    <a:lnTo>
                      <a:pt x="132" y="39"/>
                    </a:lnTo>
                    <a:lnTo>
                      <a:pt x="101" y="44"/>
                    </a:lnTo>
                    <a:lnTo>
                      <a:pt x="74" y="57"/>
                    </a:lnTo>
                    <a:lnTo>
                      <a:pt x="57" y="80"/>
                    </a:lnTo>
                    <a:lnTo>
                      <a:pt x="26" y="80"/>
                    </a:lnTo>
                    <a:lnTo>
                      <a:pt x="0" y="84"/>
                    </a:lnTo>
                    <a:lnTo>
                      <a:pt x="44" y="13"/>
                    </a:lnTo>
                    <a:lnTo>
                      <a:pt x="61" y="13"/>
                    </a:lnTo>
                    <a:lnTo>
                      <a:pt x="74" y="4"/>
                    </a:lnTo>
                    <a:lnTo>
                      <a:pt x="88" y="4"/>
                    </a:lnTo>
                    <a:lnTo>
                      <a:pt x="101" y="4"/>
                    </a:lnTo>
                    <a:lnTo>
                      <a:pt x="110" y="0"/>
                    </a:lnTo>
                    <a:lnTo>
                      <a:pt x="127" y="0"/>
                    </a:lnTo>
                    <a:lnTo>
                      <a:pt x="141" y="0"/>
                    </a:lnTo>
                    <a:lnTo>
                      <a:pt x="154" y="0"/>
                    </a:lnTo>
                    <a:lnTo>
                      <a:pt x="168" y="0"/>
                    </a:lnTo>
                    <a:lnTo>
                      <a:pt x="181" y="0"/>
                    </a:lnTo>
                    <a:lnTo>
                      <a:pt x="195" y="0"/>
                    </a:lnTo>
                    <a:lnTo>
                      <a:pt x="203" y="4"/>
                    </a:lnTo>
                    <a:lnTo>
                      <a:pt x="221" y="4"/>
                    </a:lnTo>
                    <a:lnTo>
                      <a:pt x="234" y="4"/>
                    </a:lnTo>
                    <a:lnTo>
                      <a:pt x="243" y="13"/>
                    </a:lnTo>
                    <a:lnTo>
                      <a:pt x="256" y="17"/>
                    </a:lnTo>
                    <a:lnTo>
                      <a:pt x="261" y="17"/>
                    </a:lnTo>
                    <a:lnTo>
                      <a:pt x="265" y="22"/>
                    </a:lnTo>
                    <a:lnTo>
                      <a:pt x="274" y="26"/>
                    </a:lnTo>
                    <a:lnTo>
                      <a:pt x="274" y="30"/>
                    </a:lnTo>
                    <a:lnTo>
                      <a:pt x="278" y="39"/>
                    </a:lnTo>
                    <a:lnTo>
                      <a:pt x="283" y="39"/>
                    </a:lnTo>
                    <a:lnTo>
                      <a:pt x="287" y="48"/>
                    </a:lnTo>
                    <a:lnTo>
                      <a:pt x="287" y="52"/>
                    </a:lnTo>
                    <a:lnTo>
                      <a:pt x="322" y="124"/>
                    </a:lnTo>
                    <a:lnTo>
                      <a:pt x="327" y="133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864400" y="5268960"/>
                <a:ext cx="41760" cy="32040"/>
              </a:xfrm>
              <a:custGeom>
                <a:avLst/>
                <a:gdLst/>
                <a:ahLst/>
                <a:rect l="0" t="0" r="r" b="b"/>
                <a:pathLst>
                  <a:path w="116" h="89">
                    <a:moveTo>
                      <a:pt x="107" y="39"/>
                    </a:moveTo>
                    <a:lnTo>
                      <a:pt x="107" y="75"/>
                    </a:lnTo>
                    <a:lnTo>
                      <a:pt x="116" y="89"/>
                    </a:lnTo>
                    <a:lnTo>
                      <a:pt x="103" y="89"/>
                    </a:lnTo>
                    <a:lnTo>
                      <a:pt x="75" y="89"/>
                    </a:lnTo>
                    <a:lnTo>
                      <a:pt x="62" y="53"/>
                    </a:lnTo>
                    <a:lnTo>
                      <a:pt x="58" y="49"/>
                    </a:lnTo>
                    <a:lnTo>
                      <a:pt x="49" y="49"/>
                    </a:lnTo>
                    <a:lnTo>
                      <a:pt x="45" y="49"/>
                    </a:lnTo>
                    <a:lnTo>
                      <a:pt x="36" y="39"/>
                    </a:lnTo>
                    <a:lnTo>
                      <a:pt x="26" y="39"/>
                    </a:lnTo>
                    <a:lnTo>
                      <a:pt x="17" y="30"/>
                    </a:lnTo>
                    <a:lnTo>
                      <a:pt x="13" y="30"/>
                    </a:lnTo>
                    <a:lnTo>
                      <a:pt x="0" y="0"/>
                    </a:lnTo>
                    <a:lnTo>
                      <a:pt x="84" y="13"/>
                    </a:lnTo>
                    <a:lnTo>
                      <a:pt x="94" y="17"/>
                    </a:lnTo>
                    <a:lnTo>
                      <a:pt x="99" y="26"/>
                    </a:lnTo>
                    <a:lnTo>
                      <a:pt x="107" y="39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59280" y="5246640"/>
                <a:ext cx="109800" cy="43200"/>
              </a:xfrm>
              <a:custGeom>
                <a:avLst/>
                <a:gdLst/>
                <a:ahLst/>
                <a:rect l="0" t="0" r="r" b="b"/>
                <a:pathLst>
                  <a:path w="305" h="120">
                    <a:moveTo>
                      <a:pt x="0" y="0"/>
                    </a:moveTo>
                    <a:lnTo>
                      <a:pt x="8" y="0"/>
                    </a:lnTo>
                    <a:lnTo>
                      <a:pt x="17" y="0"/>
                    </a:lnTo>
                    <a:lnTo>
                      <a:pt x="22" y="4"/>
                    </a:lnTo>
                    <a:lnTo>
                      <a:pt x="30" y="4"/>
                    </a:lnTo>
                    <a:lnTo>
                      <a:pt x="39" y="4"/>
                    </a:lnTo>
                    <a:lnTo>
                      <a:pt x="48" y="4"/>
                    </a:lnTo>
                    <a:lnTo>
                      <a:pt x="52" y="4"/>
                    </a:lnTo>
                    <a:lnTo>
                      <a:pt x="61" y="4"/>
                    </a:lnTo>
                    <a:lnTo>
                      <a:pt x="66" y="4"/>
                    </a:lnTo>
                    <a:lnTo>
                      <a:pt x="74" y="4"/>
                    </a:lnTo>
                    <a:lnTo>
                      <a:pt x="83" y="4"/>
                    </a:lnTo>
                    <a:lnTo>
                      <a:pt x="92" y="4"/>
                    </a:lnTo>
                    <a:lnTo>
                      <a:pt x="92" y="8"/>
                    </a:lnTo>
                    <a:lnTo>
                      <a:pt x="101" y="8"/>
                    </a:lnTo>
                    <a:lnTo>
                      <a:pt x="110" y="8"/>
                    </a:lnTo>
                    <a:lnTo>
                      <a:pt x="114" y="8"/>
                    </a:lnTo>
                    <a:lnTo>
                      <a:pt x="123" y="30"/>
                    </a:lnTo>
                    <a:lnTo>
                      <a:pt x="132" y="44"/>
                    </a:lnTo>
                    <a:lnTo>
                      <a:pt x="145" y="48"/>
                    </a:lnTo>
                    <a:lnTo>
                      <a:pt x="292" y="62"/>
                    </a:lnTo>
                    <a:lnTo>
                      <a:pt x="305" y="93"/>
                    </a:lnTo>
                    <a:lnTo>
                      <a:pt x="292" y="89"/>
                    </a:lnTo>
                    <a:lnTo>
                      <a:pt x="283" y="89"/>
                    </a:lnTo>
                    <a:lnTo>
                      <a:pt x="269" y="89"/>
                    </a:lnTo>
                    <a:lnTo>
                      <a:pt x="261" y="89"/>
                    </a:lnTo>
                    <a:lnTo>
                      <a:pt x="247" y="89"/>
                    </a:lnTo>
                    <a:lnTo>
                      <a:pt x="221" y="89"/>
                    </a:lnTo>
                    <a:lnTo>
                      <a:pt x="203" y="89"/>
                    </a:lnTo>
                    <a:lnTo>
                      <a:pt x="190" y="89"/>
                    </a:lnTo>
                    <a:lnTo>
                      <a:pt x="181" y="89"/>
                    </a:lnTo>
                    <a:lnTo>
                      <a:pt x="168" y="93"/>
                    </a:lnTo>
                    <a:lnTo>
                      <a:pt x="155" y="98"/>
                    </a:lnTo>
                    <a:lnTo>
                      <a:pt x="149" y="102"/>
                    </a:lnTo>
                    <a:lnTo>
                      <a:pt x="141" y="106"/>
                    </a:lnTo>
                    <a:lnTo>
                      <a:pt x="132" y="111"/>
                    </a:lnTo>
                    <a:lnTo>
                      <a:pt x="127" y="115"/>
                    </a:lnTo>
                    <a:lnTo>
                      <a:pt x="123" y="120"/>
                    </a:lnTo>
                    <a:lnTo>
                      <a:pt x="97" y="120"/>
                    </a:lnTo>
                    <a:lnTo>
                      <a:pt x="83" y="111"/>
                    </a:lnTo>
                    <a:lnTo>
                      <a:pt x="92" y="102"/>
                    </a:lnTo>
                    <a:lnTo>
                      <a:pt x="105" y="98"/>
                    </a:lnTo>
                    <a:lnTo>
                      <a:pt x="127" y="75"/>
                    </a:lnTo>
                    <a:lnTo>
                      <a:pt x="132" y="67"/>
                    </a:lnTo>
                    <a:lnTo>
                      <a:pt x="127" y="62"/>
                    </a:lnTo>
                    <a:lnTo>
                      <a:pt x="123" y="48"/>
                    </a:lnTo>
                    <a:lnTo>
                      <a:pt x="110" y="44"/>
                    </a:lnTo>
                    <a:lnTo>
                      <a:pt x="101" y="52"/>
                    </a:lnTo>
                    <a:lnTo>
                      <a:pt x="79" y="71"/>
                    </a:lnTo>
                    <a:lnTo>
                      <a:pt x="74" y="89"/>
                    </a:lnTo>
                    <a:lnTo>
                      <a:pt x="66" y="98"/>
                    </a:lnTo>
                    <a:lnTo>
                      <a:pt x="0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91320" y="5294160"/>
                <a:ext cx="105120" cy="103680"/>
              </a:xfrm>
              <a:custGeom>
                <a:avLst/>
                <a:gdLst/>
                <a:ahLst/>
                <a:rect l="0" t="0" r="r" b="b"/>
                <a:pathLst>
                  <a:path w="292" h="288">
                    <a:moveTo>
                      <a:pt x="26" y="222"/>
                    </a:moveTo>
                    <a:lnTo>
                      <a:pt x="13" y="199"/>
                    </a:lnTo>
                    <a:lnTo>
                      <a:pt x="22" y="195"/>
                    </a:lnTo>
                    <a:lnTo>
                      <a:pt x="13" y="199"/>
                    </a:lnTo>
                    <a:lnTo>
                      <a:pt x="4" y="168"/>
                    </a:lnTo>
                    <a:lnTo>
                      <a:pt x="0" y="146"/>
                    </a:lnTo>
                    <a:lnTo>
                      <a:pt x="4" y="120"/>
                    </a:lnTo>
                    <a:lnTo>
                      <a:pt x="4" y="111"/>
                    </a:lnTo>
                    <a:lnTo>
                      <a:pt x="13" y="89"/>
                    </a:lnTo>
                    <a:lnTo>
                      <a:pt x="26" y="61"/>
                    </a:lnTo>
                    <a:lnTo>
                      <a:pt x="35" y="52"/>
                    </a:lnTo>
                    <a:lnTo>
                      <a:pt x="44" y="39"/>
                    </a:lnTo>
                    <a:lnTo>
                      <a:pt x="52" y="48"/>
                    </a:lnTo>
                    <a:lnTo>
                      <a:pt x="44" y="39"/>
                    </a:lnTo>
                    <a:lnTo>
                      <a:pt x="61" y="22"/>
                    </a:lnTo>
                    <a:lnTo>
                      <a:pt x="88" y="13"/>
                    </a:lnTo>
                    <a:lnTo>
                      <a:pt x="119" y="0"/>
                    </a:lnTo>
                    <a:lnTo>
                      <a:pt x="145" y="0"/>
                    </a:lnTo>
                    <a:lnTo>
                      <a:pt x="172" y="0"/>
                    </a:lnTo>
                    <a:lnTo>
                      <a:pt x="203" y="13"/>
                    </a:lnTo>
                    <a:lnTo>
                      <a:pt x="225" y="22"/>
                    </a:lnTo>
                    <a:lnTo>
                      <a:pt x="239" y="30"/>
                    </a:lnTo>
                    <a:lnTo>
                      <a:pt x="247" y="39"/>
                    </a:lnTo>
                    <a:lnTo>
                      <a:pt x="239" y="48"/>
                    </a:lnTo>
                    <a:lnTo>
                      <a:pt x="247" y="39"/>
                    </a:lnTo>
                    <a:lnTo>
                      <a:pt x="265" y="61"/>
                    </a:lnTo>
                    <a:lnTo>
                      <a:pt x="278" y="89"/>
                    </a:lnTo>
                    <a:lnTo>
                      <a:pt x="287" y="111"/>
                    </a:lnTo>
                    <a:lnTo>
                      <a:pt x="292" y="146"/>
                    </a:lnTo>
                    <a:lnTo>
                      <a:pt x="287" y="168"/>
                    </a:lnTo>
                    <a:lnTo>
                      <a:pt x="278" y="199"/>
                    </a:lnTo>
                    <a:lnTo>
                      <a:pt x="269" y="195"/>
                    </a:lnTo>
                    <a:lnTo>
                      <a:pt x="278" y="199"/>
                    </a:lnTo>
                    <a:lnTo>
                      <a:pt x="265" y="222"/>
                    </a:lnTo>
                    <a:lnTo>
                      <a:pt x="256" y="218"/>
                    </a:lnTo>
                    <a:lnTo>
                      <a:pt x="265" y="222"/>
                    </a:lnTo>
                    <a:lnTo>
                      <a:pt x="247" y="248"/>
                    </a:lnTo>
                    <a:lnTo>
                      <a:pt x="225" y="262"/>
                    </a:lnTo>
                    <a:lnTo>
                      <a:pt x="203" y="275"/>
                    </a:lnTo>
                    <a:lnTo>
                      <a:pt x="172" y="284"/>
                    </a:lnTo>
                    <a:lnTo>
                      <a:pt x="145" y="288"/>
                    </a:lnTo>
                    <a:lnTo>
                      <a:pt x="119" y="284"/>
                    </a:lnTo>
                    <a:lnTo>
                      <a:pt x="88" y="275"/>
                    </a:lnTo>
                    <a:lnTo>
                      <a:pt x="61" y="262"/>
                    </a:lnTo>
                    <a:lnTo>
                      <a:pt x="44" y="248"/>
                    </a:lnTo>
                    <a:lnTo>
                      <a:pt x="26" y="222"/>
                    </a:lnTo>
                    <a:close/>
                  </a:path>
                </a:pathLst>
              </a:custGeom>
              <a:solidFill>
                <a:srgbClr val="f0f0f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435640" y="5289480"/>
                <a:ext cx="103680" cy="105120"/>
              </a:xfrm>
              <a:custGeom>
                <a:avLst/>
                <a:gdLst/>
                <a:ahLst/>
                <a:rect l="0" t="0" r="r" b="b"/>
                <a:pathLst>
                  <a:path w="288" h="292">
                    <a:moveTo>
                      <a:pt x="244" y="44"/>
                    </a:moveTo>
                    <a:lnTo>
                      <a:pt x="262" y="61"/>
                    </a:lnTo>
                    <a:lnTo>
                      <a:pt x="275" y="92"/>
                    </a:lnTo>
                    <a:lnTo>
                      <a:pt x="279" y="101"/>
                    </a:lnTo>
                    <a:lnTo>
                      <a:pt x="284" y="119"/>
                    </a:lnTo>
                    <a:lnTo>
                      <a:pt x="288" y="145"/>
                    </a:lnTo>
                    <a:lnTo>
                      <a:pt x="284" y="177"/>
                    </a:lnTo>
                    <a:lnTo>
                      <a:pt x="275" y="199"/>
                    </a:lnTo>
                    <a:lnTo>
                      <a:pt x="262" y="199"/>
                    </a:lnTo>
                    <a:lnTo>
                      <a:pt x="275" y="199"/>
                    </a:lnTo>
                    <a:lnTo>
                      <a:pt x="262" y="230"/>
                    </a:lnTo>
                    <a:lnTo>
                      <a:pt x="253" y="221"/>
                    </a:lnTo>
                    <a:lnTo>
                      <a:pt x="262" y="230"/>
                    </a:lnTo>
                    <a:lnTo>
                      <a:pt x="244" y="247"/>
                    </a:lnTo>
                    <a:lnTo>
                      <a:pt x="222" y="269"/>
                    </a:lnTo>
                    <a:lnTo>
                      <a:pt x="199" y="278"/>
                    </a:lnTo>
                    <a:lnTo>
                      <a:pt x="172" y="287"/>
                    </a:lnTo>
                    <a:lnTo>
                      <a:pt x="146" y="292"/>
                    </a:lnTo>
                    <a:lnTo>
                      <a:pt x="115" y="287"/>
                    </a:lnTo>
                    <a:lnTo>
                      <a:pt x="84" y="278"/>
                    </a:lnTo>
                    <a:lnTo>
                      <a:pt x="61" y="269"/>
                    </a:lnTo>
                    <a:lnTo>
                      <a:pt x="44" y="247"/>
                    </a:lnTo>
                    <a:lnTo>
                      <a:pt x="26" y="230"/>
                    </a:lnTo>
                    <a:lnTo>
                      <a:pt x="35" y="221"/>
                    </a:lnTo>
                    <a:lnTo>
                      <a:pt x="26" y="230"/>
                    </a:lnTo>
                    <a:lnTo>
                      <a:pt x="13" y="199"/>
                    </a:lnTo>
                    <a:lnTo>
                      <a:pt x="4" y="177"/>
                    </a:lnTo>
                    <a:lnTo>
                      <a:pt x="0" y="145"/>
                    </a:lnTo>
                    <a:lnTo>
                      <a:pt x="4" y="119"/>
                    </a:lnTo>
                    <a:lnTo>
                      <a:pt x="13" y="97"/>
                    </a:lnTo>
                    <a:lnTo>
                      <a:pt x="17" y="97"/>
                    </a:lnTo>
                    <a:lnTo>
                      <a:pt x="13" y="97"/>
                    </a:lnTo>
                    <a:lnTo>
                      <a:pt x="13" y="92"/>
                    </a:lnTo>
                    <a:lnTo>
                      <a:pt x="26" y="61"/>
                    </a:lnTo>
                    <a:lnTo>
                      <a:pt x="30" y="57"/>
                    </a:lnTo>
                    <a:lnTo>
                      <a:pt x="44" y="44"/>
                    </a:lnTo>
                    <a:lnTo>
                      <a:pt x="48" y="52"/>
                    </a:lnTo>
                    <a:lnTo>
                      <a:pt x="44" y="44"/>
                    </a:lnTo>
                    <a:lnTo>
                      <a:pt x="61" y="26"/>
                    </a:lnTo>
                    <a:lnTo>
                      <a:pt x="84" y="13"/>
                    </a:lnTo>
                    <a:lnTo>
                      <a:pt x="115" y="4"/>
                    </a:lnTo>
                    <a:lnTo>
                      <a:pt x="146" y="0"/>
                    </a:lnTo>
                    <a:lnTo>
                      <a:pt x="172" y="4"/>
                    </a:lnTo>
                    <a:lnTo>
                      <a:pt x="199" y="13"/>
                    </a:lnTo>
                    <a:lnTo>
                      <a:pt x="222" y="26"/>
                    </a:lnTo>
                    <a:lnTo>
                      <a:pt x="231" y="35"/>
                    </a:lnTo>
                    <a:lnTo>
                      <a:pt x="244" y="44"/>
                    </a:lnTo>
                    <a:close/>
                  </a:path>
                </a:pathLst>
              </a:custGeom>
              <a:solidFill>
                <a:srgbClr val="f0f0f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802480" y="5249880"/>
                <a:ext cx="100440" cy="33840"/>
              </a:xfrm>
              <a:custGeom>
                <a:avLst/>
                <a:gdLst/>
                <a:ahLst/>
                <a:rect l="0" t="0" r="r" b="b"/>
                <a:pathLst>
                  <a:path w="279" h="94">
                    <a:moveTo>
                      <a:pt x="0" y="0"/>
                    </a:moveTo>
                    <a:lnTo>
                      <a:pt x="17" y="4"/>
                    </a:lnTo>
                    <a:lnTo>
                      <a:pt x="35" y="8"/>
                    </a:lnTo>
                    <a:lnTo>
                      <a:pt x="48" y="8"/>
                    </a:lnTo>
                    <a:lnTo>
                      <a:pt x="66" y="13"/>
                    </a:lnTo>
                    <a:lnTo>
                      <a:pt x="80" y="13"/>
                    </a:lnTo>
                    <a:lnTo>
                      <a:pt x="102" y="17"/>
                    </a:lnTo>
                    <a:lnTo>
                      <a:pt x="115" y="22"/>
                    </a:lnTo>
                    <a:lnTo>
                      <a:pt x="133" y="27"/>
                    </a:lnTo>
                    <a:lnTo>
                      <a:pt x="146" y="31"/>
                    </a:lnTo>
                    <a:lnTo>
                      <a:pt x="164" y="36"/>
                    </a:lnTo>
                    <a:lnTo>
                      <a:pt x="177" y="36"/>
                    </a:lnTo>
                    <a:lnTo>
                      <a:pt x="195" y="45"/>
                    </a:lnTo>
                    <a:lnTo>
                      <a:pt x="208" y="49"/>
                    </a:lnTo>
                    <a:lnTo>
                      <a:pt x="226" y="49"/>
                    </a:lnTo>
                    <a:lnTo>
                      <a:pt x="244" y="53"/>
                    </a:lnTo>
                    <a:lnTo>
                      <a:pt x="262" y="58"/>
                    </a:lnTo>
                    <a:lnTo>
                      <a:pt x="270" y="67"/>
                    </a:lnTo>
                    <a:lnTo>
                      <a:pt x="279" y="76"/>
                    </a:lnTo>
                    <a:lnTo>
                      <a:pt x="279" y="94"/>
                    </a:lnTo>
                    <a:lnTo>
                      <a:pt x="270" y="81"/>
                    </a:lnTo>
                    <a:lnTo>
                      <a:pt x="266" y="72"/>
                    </a:lnTo>
                    <a:lnTo>
                      <a:pt x="257" y="67"/>
                    </a:lnTo>
                    <a:lnTo>
                      <a:pt x="172" y="53"/>
                    </a:lnTo>
                    <a:lnTo>
                      <a:pt x="26" y="40"/>
                    </a:lnTo>
                    <a:lnTo>
                      <a:pt x="17" y="36"/>
                    </a:lnTo>
                    <a:lnTo>
                      <a:pt x="8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46800" y="5303880"/>
                <a:ext cx="79560" cy="79560"/>
              </a:xfrm>
              <a:custGeom>
                <a:avLst/>
                <a:gdLst/>
                <a:ahLst/>
                <a:rect l="0" t="0" r="r" b="b"/>
                <a:pathLst>
                  <a:path w="221" h="221">
                    <a:moveTo>
                      <a:pt x="115" y="0"/>
                    </a:moveTo>
                    <a:lnTo>
                      <a:pt x="133" y="0"/>
                    </a:lnTo>
                    <a:lnTo>
                      <a:pt x="155" y="8"/>
                    </a:lnTo>
                    <a:lnTo>
                      <a:pt x="177" y="17"/>
                    </a:lnTo>
                    <a:lnTo>
                      <a:pt x="190" y="30"/>
                    </a:lnTo>
                    <a:lnTo>
                      <a:pt x="203" y="44"/>
                    </a:lnTo>
                    <a:lnTo>
                      <a:pt x="217" y="66"/>
                    </a:lnTo>
                    <a:lnTo>
                      <a:pt x="217" y="83"/>
                    </a:lnTo>
                    <a:lnTo>
                      <a:pt x="221" y="111"/>
                    </a:lnTo>
                    <a:lnTo>
                      <a:pt x="217" y="133"/>
                    </a:lnTo>
                    <a:lnTo>
                      <a:pt x="217" y="150"/>
                    </a:lnTo>
                    <a:lnTo>
                      <a:pt x="203" y="172"/>
                    </a:lnTo>
                    <a:lnTo>
                      <a:pt x="190" y="186"/>
                    </a:lnTo>
                    <a:lnTo>
                      <a:pt x="177" y="203"/>
                    </a:lnTo>
                    <a:lnTo>
                      <a:pt x="155" y="208"/>
                    </a:lnTo>
                    <a:lnTo>
                      <a:pt x="133" y="217"/>
                    </a:lnTo>
                    <a:lnTo>
                      <a:pt x="115" y="221"/>
                    </a:lnTo>
                    <a:lnTo>
                      <a:pt x="92" y="217"/>
                    </a:lnTo>
                    <a:lnTo>
                      <a:pt x="70" y="208"/>
                    </a:lnTo>
                    <a:lnTo>
                      <a:pt x="52" y="203"/>
                    </a:lnTo>
                    <a:lnTo>
                      <a:pt x="35" y="186"/>
                    </a:lnTo>
                    <a:lnTo>
                      <a:pt x="22" y="172"/>
                    </a:lnTo>
                    <a:lnTo>
                      <a:pt x="13" y="150"/>
                    </a:lnTo>
                    <a:lnTo>
                      <a:pt x="4" y="133"/>
                    </a:lnTo>
                    <a:lnTo>
                      <a:pt x="0" y="111"/>
                    </a:lnTo>
                    <a:lnTo>
                      <a:pt x="4" y="83"/>
                    </a:lnTo>
                    <a:lnTo>
                      <a:pt x="13" y="66"/>
                    </a:lnTo>
                    <a:lnTo>
                      <a:pt x="22" y="44"/>
                    </a:lnTo>
                    <a:lnTo>
                      <a:pt x="35" y="30"/>
                    </a:lnTo>
                    <a:lnTo>
                      <a:pt x="52" y="17"/>
                    </a:lnTo>
                    <a:lnTo>
                      <a:pt x="70" y="8"/>
                    </a:lnTo>
                    <a:lnTo>
                      <a:pt x="92" y="0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e1e1e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805360" y="5307120"/>
                <a:ext cx="78120" cy="78120"/>
              </a:xfrm>
              <a:custGeom>
                <a:avLst/>
                <a:gdLst/>
                <a:ahLst/>
                <a:rect l="0" t="0" r="r" b="b"/>
                <a:pathLst>
                  <a:path w="217" h="217">
                    <a:moveTo>
                      <a:pt x="105" y="0"/>
                    </a:moveTo>
                    <a:lnTo>
                      <a:pt x="133" y="0"/>
                    </a:lnTo>
                    <a:lnTo>
                      <a:pt x="150" y="4"/>
                    </a:lnTo>
                    <a:lnTo>
                      <a:pt x="168" y="13"/>
                    </a:lnTo>
                    <a:lnTo>
                      <a:pt x="186" y="30"/>
                    </a:lnTo>
                    <a:lnTo>
                      <a:pt x="199" y="44"/>
                    </a:lnTo>
                    <a:lnTo>
                      <a:pt x="208" y="66"/>
                    </a:lnTo>
                    <a:lnTo>
                      <a:pt x="217" y="83"/>
                    </a:lnTo>
                    <a:lnTo>
                      <a:pt x="217" y="111"/>
                    </a:lnTo>
                    <a:lnTo>
                      <a:pt x="217" y="133"/>
                    </a:lnTo>
                    <a:lnTo>
                      <a:pt x="208" y="150"/>
                    </a:lnTo>
                    <a:lnTo>
                      <a:pt x="199" y="172"/>
                    </a:lnTo>
                    <a:lnTo>
                      <a:pt x="186" y="186"/>
                    </a:lnTo>
                    <a:lnTo>
                      <a:pt x="168" y="199"/>
                    </a:lnTo>
                    <a:lnTo>
                      <a:pt x="150" y="212"/>
                    </a:lnTo>
                    <a:lnTo>
                      <a:pt x="133" y="212"/>
                    </a:lnTo>
                    <a:lnTo>
                      <a:pt x="105" y="217"/>
                    </a:lnTo>
                    <a:lnTo>
                      <a:pt x="88" y="212"/>
                    </a:lnTo>
                    <a:lnTo>
                      <a:pt x="66" y="212"/>
                    </a:lnTo>
                    <a:lnTo>
                      <a:pt x="44" y="199"/>
                    </a:lnTo>
                    <a:lnTo>
                      <a:pt x="30" y="186"/>
                    </a:lnTo>
                    <a:lnTo>
                      <a:pt x="17" y="172"/>
                    </a:lnTo>
                    <a:lnTo>
                      <a:pt x="8" y="150"/>
                    </a:lnTo>
                    <a:lnTo>
                      <a:pt x="4" y="133"/>
                    </a:lnTo>
                    <a:lnTo>
                      <a:pt x="0" y="111"/>
                    </a:lnTo>
                    <a:lnTo>
                      <a:pt x="4" y="83"/>
                    </a:lnTo>
                    <a:lnTo>
                      <a:pt x="8" y="66"/>
                    </a:lnTo>
                    <a:lnTo>
                      <a:pt x="17" y="44"/>
                    </a:lnTo>
                    <a:lnTo>
                      <a:pt x="30" y="30"/>
                    </a:lnTo>
                    <a:lnTo>
                      <a:pt x="44" y="13"/>
                    </a:lnTo>
                    <a:lnTo>
                      <a:pt x="66" y="4"/>
                    </a:lnTo>
                    <a:lnTo>
                      <a:pt x="88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e1e1e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754600" y="5265720"/>
                <a:ext cx="51120" cy="79560"/>
              </a:xfrm>
              <a:custGeom>
                <a:avLst/>
                <a:gdLst/>
                <a:ahLst/>
                <a:rect l="0" t="0" r="r" b="b"/>
                <a:pathLst>
                  <a:path w="142" h="221">
                    <a:moveTo>
                      <a:pt x="142" y="70"/>
                    </a:moveTo>
                    <a:lnTo>
                      <a:pt x="111" y="142"/>
                    </a:lnTo>
                    <a:lnTo>
                      <a:pt x="75" y="203"/>
                    </a:lnTo>
                    <a:lnTo>
                      <a:pt x="66" y="221"/>
                    </a:lnTo>
                    <a:lnTo>
                      <a:pt x="0" y="221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80" y="48"/>
                    </a:lnTo>
                    <a:lnTo>
                      <a:pt x="80" y="52"/>
                    </a:lnTo>
                    <a:lnTo>
                      <a:pt x="93" y="57"/>
                    </a:lnTo>
                    <a:lnTo>
                      <a:pt x="98" y="61"/>
                    </a:lnTo>
                    <a:lnTo>
                      <a:pt x="111" y="70"/>
                    </a:lnTo>
                    <a:lnTo>
                      <a:pt x="142" y="70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662440" y="5210280"/>
                <a:ext cx="74880" cy="41760"/>
              </a:xfrm>
              <a:custGeom>
                <a:avLst/>
                <a:gdLst/>
                <a:ahLst/>
                <a:rect l="0" t="0" r="r" b="b"/>
                <a:pathLst>
                  <a:path w="208" h="116">
                    <a:moveTo>
                      <a:pt x="4" y="8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3" y="4"/>
                    </a:lnTo>
                    <a:lnTo>
                      <a:pt x="13" y="0"/>
                    </a:lnTo>
                    <a:lnTo>
                      <a:pt x="181" y="0"/>
                    </a:lnTo>
                    <a:lnTo>
                      <a:pt x="186" y="4"/>
                    </a:lnTo>
                    <a:lnTo>
                      <a:pt x="190" y="4"/>
                    </a:lnTo>
                    <a:lnTo>
                      <a:pt x="195" y="8"/>
                    </a:lnTo>
                    <a:lnTo>
                      <a:pt x="195" y="13"/>
                    </a:lnTo>
                    <a:lnTo>
                      <a:pt x="199" y="13"/>
                    </a:lnTo>
                    <a:lnTo>
                      <a:pt x="208" y="103"/>
                    </a:lnTo>
                    <a:lnTo>
                      <a:pt x="208" y="107"/>
                    </a:lnTo>
                    <a:lnTo>
                      <a:pt x="203" y="112"/>
                    </a:lnTo>
                    <a:lnTo>
                      <a:pt x="199" y="116"/>
                    </a:lnTo>
                    <a:lnTo>
                      <a:pt x="190" y="116"/>
                    </a:lnTo>
                    <a:lnTo>
                      <a:pt x="13" y="116"/>
                    </a:lnTo>
                    <a:lnTo>
                      <a:pt x="8" y="116"/>
                    </a:lnTo>
                    <a:lnTo>
                      <a:pt x="4" y="112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3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667480" y="5213520"/>
                <a:ext cx="66960" cy="35280"/>
              </a:xfrm>
              <a:custGeom>
                <a:avLst/>
                <a:gdLst/>
                <a:ahLst/>
                <a:rect l="0" t="0" r="r" b="b"/>
                <a:pathLst>
                  <a:path w="186" h="98">
                    <a:moveTo>
                      <a:pt x="172" y="98"/>
                    </a:moveTo>
                    <a:lnTo>
                      <a:pt x="13" y="98"/>
                    </a:lnTo>
                    <a:lnTo>
                      <a:pt x="4" y="98"/>
                    </a:lnTo>
                    <a:lnTo>
                      <a:pt x="4" y="93"/>
                    </a:lnTo>
                    <a:lnTo>
                      <a:pt x="0" y="93"/>
                    </a:lnTo>
                    <a:lnTo>
                      <a:pt x="0" y="84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13" y="0"/>
                    </a:lnTo>
                    <a:lnTo>
                      <a:pt x="168" y="0"/>
                    </a:lnTo>
                    <a:lnTo>
                      <a:pt x="168" y="4"/>
                    </a:lnTo>
                    <a:lnTo>
                      <a:pt x="172" y="4"/>
                    </a:lnTo>
                    <a:lnTo>
                      <a:pt x="177" y="4"/>
                    </a:lnTo>
                    <a:lnTo>
                      <a:pt x="177" y="13"/>
                    </a:lnTo>
                    <a:lnTo>
                      <a:pt x="186" y="84"/>
                    </a:lnTo>
                    <a:lnTo>
                      <a:pt x="186" y="93"/>
                    </a:lnTo>
                    <a:lnTo>
                      <a:pt x="181" y="93"/>
                    </a:lnTo>
                    <a:lnTo>
                      <a:pt x="177" y="98"/>
                    </a:lnTo>
                    <a:lnTo>
                      <a:pt x="172" y="9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64240" y="5207040"/>
                <a:ext cx="68760" cy="25920"/>
              </a:xfrm>
              <a:custGeom>
                <a:avLst/>
                <a:gdLst/>
                <a:ahLst/>
                <a:rect l="0" t="0" r="r" b="b"/>
                <a:pathLst>
                  <a:path w="191" h="72">
                    <a:moveTo>
                      <a:pt x="0" y="72"/>
                    </a:moveTo>
                    <a:lnTo>
                      <a:pt x="13" y="0"/>
                    </a:lnTo>
                    <a:lnTo>
                      <a:pt x="178" y="0"/>
                    </a:lnTo>
                    <a:lnTo>
                      <a:pt x="191" y="72"/>
                    </a:lnTo>
                    <a:lnTo>
                      <a:pt x="187" y="53"/>
                    </a:lnTo>
                    <a:lnTo>
                      <a:pt x="182" y="53"/>
                    </a:lnTo>
                    <a:lnTo>
                      <a:pt x="178" y="36"/>
                    </a:lnTo>
                    <a:lnTo>
                      <a:pt x="13" y="36"/>
                    </a:lnTo>
                    <a:lnTo>
                      <a:pt x="8" y="53"/>
                    </a:lnTo>
                    <a:lnTo>
                      <a:pt x="4" y="53"/>
                    </a:lnTo>
                    <a:lnTo>
                      <a:pt x="0" y="53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568840" y="5210280"/>
                <a:ext cx="65520" cy="41760"/>
              </a:xfrm>
              <a:custGeom>
                <a:avLst/>
                <a:gdLst/>
                <a:ahLst/>
                <a:rect l="0" t="0" r="r" b="b"/>
                <a:pathLst>
                  <a:path w="182" h="116">
                    <a:moveTo>
                      <a:pt x="4" y="8"/>
                    </a:moveTo>
                    <a:lnTo>
                      <a:pt x="8" y="4"/>
                    </a:lnTo>
                    <a:lnTo>
                      <a:pt x="13" y="4"/>
                    </a:lnTo>
                    <a:lnTo>
                      <a:pt x="13" y="0"/>
                    </a:lnTo>
                    <a:lnTo>
                      <a:pt x="169" y="0"/>
                    </a:lnTo>
                    <a:lnTo>
                      <a:pt x="169" y="4"/>
                    </a:lnTo>
                    <a:lnTo>
                      <a:pt x="178" y="4"/>
                    </a:lnTo>
                    <a:lnTo>
                      <a:pt x="178" y="13"/>
                    </a:lnTo>
                    <a:lnTo>
                      <a:pt x="182" y="103"/>
                    </a:lnTo>
                    <a:lnTo>
                      <a:pt x="182" y="107"/>
                    </a:lnTo>
                    <a:lnTo>
                      <a:pt x="182" y="112"/>
                    </a:lnTo>
                    <a:lnTo>
                      <a:pt x="178" y="116"/>
                    </a:lnTo>
                    <a:lnTo>
                      <a:pt x="169" y="116"/>
                    </a:lnTo>
                    <a:lnTo>
                      <a:pt x="13" y="116"/>
                    </a:lnTo>
                    <a:lnTo>
                      <a:pt x="8" y="116"/>
                    </a:lnTo>
                    <a:lnTo>
                      <a:pt x="4" y="112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3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454720" y="5311800"/>
                <a:ext cx="63720" cy="63720"/>
              </a:xfrm>
              <a:custGeom>
                <a:avLst/>
                <a:gdLst/>
                <a:ahLst/>
                <a:rect l="0" t="0" r="r" b="b"/>
                <a:pathLst>
                  <a:path w="177" h="177">
                    <a:moveTo>
                      <a:pt x="93" y="0"/>
                    </a:moveTo>
                    <a:lnTo>
                      <a:pt x="106" y="0"/>
                    </a:lnTo>
                    <a:lnTo>
                      <a:pt x="124" y="8"/>
                    </a:lnTo>
                    <a:lnTo>
                      <a:pt x="137" y="17"/>
                    </a:lnTo>
                    <a:lnTo>
                      <a:pt x="155" y="22"/>
                    </a:lnTo>
                    <a:lnTo>
                      <a:pt x="164" y="39"/>
                    </a:lnTo>
                    <a:lnTo>
                      <a:pt x="168" y="48"/>
                    </a:lnTo>
                    <a:lnTo>
                      <a:pt x="172" y="70"/>
                    </a:lnTo>
                    <a:lnTo>
                      <a:pt x="177" y="89"/>
                    </a:lnTo>
                    <a:lnTo>
                      <a:pt x="172" y="106"/>
                    </a:lnTo>
                    <a:lnTo>
                      <a:pt x="168" y="120"/>
                    </a:lnTo>
                    <a:lnTo>
                      <a:pt x="164" y="137"/>
                    </a:lnTo>
                    <a:lnTo>
                      <a:pt x="155" y="150"/>
                    </a:lnTo>
                    <a:lnTo>
                      <a:pt x="137" y="159"/>
                    </a:lnTo>
                    <a:lnTo>
                      <a:pt x="124" y="168"/>
                    </a:lnTo>
                    <a:lnTo>
                      <a:pt x="106" y="172"/>
                    </a:lnTo>
                    <a:lnTo>
                      <a:pt x="93" y="177"/>
                    </a:lnTo>
                    <a:lnTo>
                      <a:pt x="70" y="172"/>
                    </a:lnTo>
                    <a:lnTo>
                      <a:pt x="57" y="168"/>
                    </a:lnTo>
                    <a:lnTo>
                      <a:pt x="39" y="159"/>
                    </a:lnTo>
                    <a:lnTo>
                      <a:pt x="26" y="150"/>
                    </a:lnTo>
                    <a:lnTo>
                      <a:pt x="17" y="137"/>
                    </a:lnTo>
                    <a:lnTo>
                      <a:pt x="8" y="120"/>
                    </a:lnTo>
                    <a:lnTo>
                      <a:pt x="4" y="106"/>
                    </a:lnTo>
                    <a:lnTo>
                      <a:pt x="0" y="89"/>
                    </a:lnTo>
                    <a:lnTo>
                      <a:pt x="4" y="70"/>
                    </a:lnTo>
                    <a:lnTo>
                      <a:pt x="8" y="48"/>
                    </a:lnTo>
                    <a:lnTo>
                      <a:pt x="17" y="39"/>
                    </a:lnTo>
                    <a:lnTo>
                      <a:pt x="26" y="22"/>
                    </a:lnTo>
                    <a:lnTo>
                      <a:pt x="39" y="17"/>
                    </a:lnTo>
                    <a:lnTo>
                      <a:pt x="57" y="8"/>
                    </a:lnTo>
                    <a:lnTo>
                      <a:pt x="70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e1e1e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568840" y="52070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72"/>
                    </a:moveTo>
                    <a:lnTo>
                      <a:pt x="13" y="0"/>
                    </a:lnTo>
                    <a:lnTo>
                      <a:pt x="168" y="0"/>
                    </a:lnTo>
                    <a:lnTo>
                      <a:pt x="177" y="53"/>
                    </a:lnTo>
                    <a:lnTo>
                      <a:pt x="172" y="53"/>
                    </a:lnTo>
                    <a:lnTo>
                      <a:pt x="168" y="36"/>
                    </a:lnTo>
                    <a:lnTo>
                      <a:pt x="8" y="36"/>
                    </a:lnTo>
                    <a:lnTo>
                      <a:pt x="8" y="53"/>
                    </a:lnTo>
                    <a:lnTo>
                      <a:pt x="4" y="53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572080" y="5213520"/>
                <a:ext cx="60840" cy="35280"/>
              </a:xfrm>
              <a:custGeom>
                <a:avLst/>
                <a:gdLst/>
                <a:ahLst/>
                <a:rect l="0" t="0" r="r" b="b"/>
                <a:pathLst>
                  <a:path w="169" h="98">
                    <a:moveTo>
                      <a:pt x="156" y="98"/>
                    </a:moveTo>
                    <a:lnTo>
                      <a:pt x="13" y="98"/>
                    </a:lnTo>
                    <a:lnTo>
                      <a:pt x="4" y="98"/>
                    </a:lnTo>
                    <a:lnTo>
                      <a:pt x="4" y="93"/>
                    </a:lnTo>
                    <a:lnTo>
                      <a:pt x="0" y="93"/>
                    </a:lnTo>
                    <a:lnTo>
                      <a:pt x="0" y="84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13" y="0"/>
                    </a:lnTo>
                    <a:lnTo>
                      <a:pt x="156" y="0"/>
                    </a:lnTo>
                    <a:lnTo>
                      <a:pt x="156" y="4"/>
                    </a:lnTo>
                    <a:lnTo>
                      <a:pt x="160" y="4"/>
                    </a:lnTo>
                    <a:lnTo>
                      <a:pt x="165" y="13"/>
                    </a:lnTo>
                    <a:lnTo>
                      <a:pt x="169" y="84"/>
                    </a:lnTo>
                    <a:lnTo>
                      <a:pt x="169" y="93"/>
                    </a:lnTo>
                    <a:lnTo>
                      <a:pt x="165" y="93"/>
                    </a:lnTo>
                    <a:lnTo>
                      <a:pt x="160" y="98"/>
                    </a:lnTo>
                    <a:lnTo>
                      <a:pt x="156" y="9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621400" y="5321160"/>
                <a:ext cx="57600" cy="25920"/>
              </a:xfrm>
              <a:custGeom>
                <a:avLst/>
                <a:gdLst/>
                <a:ahLst/>
                <a:rect l="0" t="0" r="r" b="b"/>
                <a:pathLst>
                  <a:path w="160" h="72">
                    <a:moveTo>
                      <a:pt x="160" y="0"/>
                    </a:moveTo>
                    <a:lnTo>
                      <a:pt x="147" y="72"/>
                    </a:lnTo>
                    <a:lnTo>
                      <a:pt x="13" y="72"/>
                    </a:lnTo>
                    <a:lnTo>
                      <a:pt x="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397480" y="5307120"/>
                <a:ext cx="54360" cy="25920"/>
              </a:xfrm>
              <a:custGeom>
                <a:avLst/>
                <a:gdLst/>
                <a:ahLst/>
                <a:rect l="0" t="0" r="r" b="b"/>
                <a:pathLst>
                  <a:path w="151" h="72">
                    <a:moveTo>
                      <a:pt x="93" y="4"/>
                    </a:moveTo>
                    <a:lnTo>
                      <a:pt x="121" y="4"/>
                    </a:lnTo>
                    <a:lnTo>
                      <a:pt x="151" y="0"/>
                    </a:lnTo>
                    <a:lnTo>
                      <a:pt x="138" y="8"/>
                    </a:lnTo>
                    <a:lnTo>
                      <a:pt x="138" y="23"/>
                    </a:lnTo>
                    <a:lnTo>
                      <a:pt x="121" y="63"/>
                    </a:lnTo>
                    <a:lnTo>
                      <a:pt x="121" y="72"/>
                    </a:lnTo>
                    <a:lnTo>
                      <a:pt x="30" y="72"/>
                    </a:lnTo>
                    <a:lnTo>
                      <a:pt x="8" y="59"/>
                    </a:lnTo>
                    <a:lnTo>
                      <a:pt x="0" y="45"/>
                    </a:lnTo>
                    <a:lnTo>
                      <a:pt x="0" y="23"/>
                    </a:lnTo>
                    <a:lnTo>
                      <a:pt x="8" y="4"/>
                    </a:lnTo>
                    <a:lnTo>
                      <a:pt x="93" y="4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465880" y="5321160"/>
                <a:ext cx="41760" cy="43200"/>
              </a:xfrm>
              <a:custGeom>
                <a:avLst/>
                <a:gdLst/>
                <a:ahLst/>
                <a:rect l="0" t="0" r="r" b="b"/>
                <a:pathLst>
                  <a:path w="116" h="120">
                    <a:moveTo>
                      <a:pt x="62" y="0"/>
                    </a:moveTo>
                    <a:lnTo>
                      <a:pt x="80" y="4"/>
                    </a:lnTo>
                    <a:lnTo>
                      <a:pt x="103" y="17"/>
                    </a:lnTo>
                    <a:lnTo>
                      <a:pt x="112" y="30"/>
                    </a:lnTo>
                    <a:lnTo>
                      <a:pt x="116" y="57"/>
                    </a:lnTo>
                    <a:lnTo>
                      <a:pt x="112" y="80"/>
                    </a:lnTo>
                    <a:lnTo>
                      <a:pt x="103" y="102"/>
                    </a:lnTo>
                    <a:lnTo>
                      <a:pt x="80" y="115"/>
                    </a:lnTo>
                    <a:lnTo>
                      <a:pt x="62" y="120"/>
                    </a:lnTo>
                    <a:lnTo>
                      <a:pt x="36" y="115"/>
                    </a:lnTo>
                    <a:lnTo>
                      <a:pt x="17" y="102"/>
                    </a:lnTo>
                    <a:lnTo>
                      <a:pt x="4" y="80"/>
                    </a:lnTo>
                    <a:lnTo>
                      <a:pt x="0" y="57"/>
                    </a:lnTo>
                    <a:lnTo>
                      <a:pt x="4" y="30"/>
                    </a:lnTo>
                    <a:lnTo>
                      <a:pt x="17" y="17"/>
                    </a:lnTo>
                    <a:lnTo>
                      <a:pt x="36" y="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907240" y="5307120"/>
                <a:ext cx="25920" cy="30600"/>
              </a:xfrm>
              <a:custGeom>
                <a:avLst/>
                <a:gdLst/>
                <a:ahLst/>
                <a:rect l="0" t="0" r="r" b="b"/>
                <a:pathLst>
                  <a:path w="72" h="85">
                    <a:moveTo>
                      <a:pt x="8" y="76"/>
                    </a:moveTo>
                    <a:lnTo>
                      <a:pt x="36" y="72"/>
                    </a:lnTo>
                    <a:lnTo>
                      <a:pt x="36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76"/>
                    </a:lnTo>
                    <a:lnTo>
                      <a:pt x="53" y="85"/>
                    </a:lnTo>
                    <a:lnTo>
                      <a:pt x="17" y="85"/>
                    </a:lnTo>
                    <a:lnTo>
                      <a:pt x="8" y="76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18080" y="52657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45" y="0"/>
                    </a:moveTo>
                    <a:lnTo>
                      <a:pt x="8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0" y="23"/>
                    </a:lnTo>
                    <a:lnTo>
                      <a:pt x="0" y="36"/>
                    </a:lnTo>
                    <a:lnTo>
                      <a:pt x="4" y="36"/>
                    </a:lnTo>
                    <a:lnTo>
                      <a:pt x="27" y="59"/>
                    </a:lnTo>
                    <a:lnTo>
                      <a:pt x="31" y="63"/>
                    </a:lnTo>
                    <a:lnTo>
                      <a:pt x="40" y="72"/>
                    </a:lnTo>
                    <a:lnTo>
                      <a:pt x="68" y="72"/>
                    </a:lnTo>
                    <a:lnTo>
                      <a:pt x="72" y="63"/>
                    </a:lnTo>
                    <a:lnTo>
                      <a:pt x="72" y="59"/>
                    </a:lnTo>
                    <a:lnTo>
                      <a:pt x="63" y="8"/>
                    </a:lnTo>
                    <a:lnTo>
                      <a:pt x="59" y="4"/>
                    </a:lnTo>
                    <a:lnTo>
                      <a:pt x="53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83400" y="531180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w="72" h="76">
                    <a:moveTo>
                      <a:pt x="36" y="8"/>
                    </a:moveTo>
                    <a:lnTo>
                      <a:pt x="72" y="0"/>
                    </a:lnTo>
                    <a:lnTo>
                      <a:pt x="59" y="8"/>
                    </a:lnTo>
                    <a:lnTo>
                      <a:pt x="45" y="40"/>
                    </a:lnTo>
                    <a:lnTo>
                      <a:pt x="36" y="68"/>
                    </a:lnTo>
                    <a:lnTo>
                      <a:pt x="36" y="72"/>
                    </a:lnTo>
                    <a:lnTo>
                      <a:pt x="0" y="76"/>
                    </a:lnTo>
                    <a:lnTo>
                      <a:pt x="36" y="8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784840" y="52624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17" y="72"/>
                    </a:moveTo>
                    <a:lnTo>
                      <a:pt x="13" y="63"/>
                    </a:lnTo>
                    <a:lnTo>
                      <a:pt x="23" y="53"/>
                    </a:lnTo>
                    <a:lnTo>
                      <a:pt x="27" y="53"/>
                    </a:lnTo>
                    <a:lnTo>
                      <a:pt x="40" y="45"/>
                    </a:lnTo>
                    <a:lnTo>
                      <a:pt x="53" y="27"/>
                    </a:lnTo>
                    <a:lnTo>
                      <a:pt x="59" y="23"/>
                    </a:lnTo>
                    <a:lnTo>
                      <a:pt x="59" y="17"/>
                    </a:lnTo>
                    <a:lnTo>
                      <a:pt x="49" y="17"/>
                    </a:lnTo>
                    <a:lnTo>
                      <a:pt x="45" y="17"/>
                    </a:lnTo>
                    <a:lnTo>
                      <a:pt x="40" y="17"/>
                    </a:lnTo>
                    <a:lnTo>
                      <a:pt x="23" y="31"/>
                    </a:lnTo>
                    <a:lnTo>
                      <a:pt x="13" y="36"/>
                    </a:lnTo>
                    <a:lnTo>
                      <a:pt x="13" y="45"/>
                    </a:lnTo>
                    <a:lnTo>
                      <a:pt x="0" y="59"/>
                    </a:lnTo>
                    <a:lnTo>
                      <a:pt x="0" y="53"/>
                    </a:lnTo>
                    <a:lnTo>
                      <a:pt x="8" y="45"/>
                    </a:lnTo>
                    <a:lnTo>
                      <a:pt x="13" y="27"/>
                    </a:lnTo>
                    <a:lnTo>
                      <a:pt x="40" y="8"/>
                    </a:lnTo>
                    <a:lnTo>
                      <a:pt x="45" y="0"/>
                    </a:lnTo>
                    <a:lnTo>
                      <a:pt x="59" y="4"/>
                    </a:lnTo>
                    <a:lnTo>
                      <a:pt x="63" y="17"/>
                    </a:lnTo>
                    <a:lnTo>
                      <a:pt x="72" y="23"/>
                    </a:lnTo>
                    <a:lnTo>
                      <a:pt x="63" y="31"/>
                    </a:lnTo>
                    <a:lnTo>
                      <a:pt x="40" y="53"/>
                    </a:lnTo>
                    <a:lnTo>
                      <a:pt x="23" y="59"/>
                    </a:lnTo>
                    <a:lnTo>
                      <a:pt x="17" y="72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416560" y="52657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13" y="0"/>
                    </a:moveTo>
                    <a:lnTo>
                      <a:pt x="59" y="0"/>
                    </a:lnTo>
                    <a:lnTo>
                      <a:pt x="63" y="0"/>
                    </a:lnTo>
                    <a:lnTo>
                      <a:pt x="72" y="8"/>
                    </a:lnTo>
                    <a:lnTo>
                      <a:pt x="72" y="17"/>
                    </a:lnTo>
                    <a:lnTo>
                      <a:pt x="72" y="31"/>
                    </a:lnTo>
                    <a:lnTo>
                      <a:pt x="63" y="36"/>
                    </a:lnTo>
                    <a:lnTo>
                      <a:pt x="49" y="59"/>
                    </a:lnTo>
                    <a:lnTo>
                      <a:pt x="49" y="63"/>
                    </a:lnTo>
                    <a:lnTo>
                      <a:pt x="40" y="72"/>
                    </a:lnTo>
                    <a:lnTo>
                      <a:pt x="4" y="72"/>
                    </a:lnTo>
                    <a:lnTo>
                      <a:pt x="0" y="63"/>
                    </a:lnTo>
                    <a:lnTo>
                      <a:pt x="0" y="59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8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97520" y="53244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59"/>
                    </a:lnTo>
                    <a:lnTo>
                      <a:pt x="40" y="72"/>
                    </a:lnTo>
                    <a:lnTo>
                      <a:pt x="27" y="72"/>
                    </a:lnTo>
                    <a:lnTo>
                      <a:pt x="4" y="59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478480" y="53341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36" y="0"/>
                    </a:moveTo>
                    <a:lnTo>
                      <a:pt x="49" y="4"/>
                    </a:lnTo>
                    <a:lnTo>
                      <a:pt x="53" y="8"/>
                    </a:lnTo>
                    <a:lnTo>
                      <a:pt x="63" y="23"/>
                    </a:lnTo>
                    <a:lnTo>
                      <a:pt x="72" y="36"/>
                    </a:lnTo>
                    <a:lnTo>
                      <a:pt x="63" y="49"/>
                    </a:lnTo>
                    <a:lnTo>
                      <a:pt x="53" y="59"/>
                    </a:lnTo>
                    <a:lnTo>
                      <a:pt x="49" y="72"/>
                    </a:lnTo>
                    <a:lnTo>
                      <a:pt x="36" y="72"/>
                    </a:lnTo>
                    <a:lnTo>
                      <a:pt x="17" y="72"/>
                    </a:lnTo>
                    <a:lnTo>
                      <a:pt x="4" y="59"/>
                    </a:lnTo>
                    <a:lnTo>
                      <a:pt x="0" y="49"/>
                    </a:lnTo>
                    <a:lnTo>
                      <a:pt x="0" y="36"/>
                    </a:lnTo>
                    <a:lnTo>
                      <a:pt x="0" y="23"/>
                    </a:lnTo>
                    <a:lnTo>
                      <a:pt x="4" y="8"/>
                    </a:lnTo>
                    <a:lnTo>
                      <a:pt x="17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410080" y="52974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0" y="0"/>
                    </a:ln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f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899320" y="53085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891040" y="53085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53" y="72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784840" y="52754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27" y="72"/>
                    </a:moveTo>
                    <a:lnTo>
                      <a:pt x="0" y="49"/>
                    </a:lnTo>
                    <a:lnTo>
                      <a:pt x="27" y="27"/>
                    </a:lnTo>
                    <a:lnTo>
                      <a:pt x="27" y="8"/>
                    </a:lnTo>
                    <a:lnTo>
                      <a:pt x="49" y="0"/>
                    </a:lnTo>
                    <a:lnTo>
                      <a:pt x="49" y="8"/>
                    </a:lnTo>
                    <a:lnTo>
                      <a:pt x="49" y="27"/>
                    </a:lnTo>
                    <a:lnTo>
                      <a:pt x="59" y="27"/>
                    </a:lnTo>
                    <a:lnTo>
                      <a:pt x="72" y="17"/>
                    </a:lnTo>
                    <a:lnTo>
                      <a:pt x="59" y="49"/>
                    </a:lnTo>
                    <a:lnTo>
                      <a:pt x="49" y="49"/>
                    </a:lnTo>
                    <a:lnTo>
                      <a:pt x="27" y="72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18240" y="52354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72"/>
                    </a:moveTo>
                    <a:lnTo>
                      <a:pt x="59" y="72"/>
                    </a:lnTo>
                    <a:lnTo>
                      <a:pt x="59" y="27"/>
                    </a:lnTo>
                    <a:lnTo>
                      <a:pt x="17" y="72"/>
                    </a:lnTo>
                    <a:lnTo>
                      <a:pt x="0" y="72"/>
                    </a:lnTo>
                    <a:lnTo>
                      <a:pt x="59" y="0"/>
                    </a:lnTo>
                    <a:lnTo>
                      <a:pt x="72" y="0"/>
                    </a:lnTo>
                    <a:lnTo>
                      <a:pt x="72" y="8"/>
                    </a:lnTo>
                    <a:lnTo>
                      <a:pt x="72" y="17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f0f0f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737320" y="53038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53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27" y="72"/>
                    </a:lnTo>
                    <a:lnTo>
                      <a:pt x="0" y="45"/>
                    </a:lnTo>
                    <a:lnTo>
                      <a:pt x="27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632560" y="53038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63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27" y="72"/>
                    </a:lnTo>
                    <a:lnTo>
                      <a:pt x="0" y="45"/>
                    </a:lnTo>
                    <a:lnTo>
                      <a:pt x="27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37320" y="52624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53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27" y="72"/>
                    </a:lnTo>
                    <a:lnTo>
                      <a:pt x="0" y="36"/>
                    </a:lnTo>
                    <a:lnTo>
                      <a:pt x="27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632560" y="52624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63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27" y="72"/>
                    </a:lnTo>
                    <a:lnTo>
                      <a:pt x="0" y="36"/>
                    </a:lnTo>
                    <a:lnTo>
                      <a:pt x="27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905440" y="53118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72"/>
                    </a:move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791320" y="52689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36"/>
                    </a:moveTo>
                    <a:lnTo>
                      <a:pt x="36" y="0"/>
                    </a:lnTo>
                    <a:lnTo>
                      <a:pt x="45" y="0"/>
                    </a:lnTo>
                    <a:lnTo>
                      <a:pt x="53" y="0"/>
                    </a:lnTo>
                    <a:lnTo>
                      <a:pt x="72" y="8"/>
                    </a:lnTo>
                    <a:lnTo>
                      <a:pt x="72" y="23"/>
                    </a:lnTo>
                    <a:lnTo>
                      <a:pt x="63" y="23"/>
                    </a:lnTo>
                    <a:lnTo>
                      <a:pt x="27" y="59"/>
                    </a:lnTo>
                    <a:lnTo>
                      <a:pt x="8" y="72"/>
                    </a:lnTo>
                    <a:lnTo>
                      <a:pt x="0" y="4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397480" y="52578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59"/>
                    </a:lnTo>
                    <a:lnTo>
                      <a:pt x="0" y="8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00e2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904000" y="53085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72"/>
                    </a:moveTo>
                    <a:lnTo>
                      <a:pt x="8" y="72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559480" y="52783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0" y="0"/>
                    </a:ln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659560" y="52783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0" y="0"/>
                    </a:ln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889600" y="52783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40" y="0"/>
                    </a:moveTo>
                    <a:lnTo>
                      <a:pt x="53" y="0"/>
                    </a:lnTo>
                    <a:lnTo>
                      <a:pt x="72" y="13"/>
                    </a:lnTo>
                    <a:lnTo>
                      <a:pt x="53" y="53"/>
                    </a:lnTo>
                    <a:lnTo>
                      <a:pt x="40" y="72"/>
                    </a:lnTo>
                    <a:lnTo>
                      <a:pt x="13" y="53"/>
                    </a:lnTo>
                    <a:lnTo>
                      <a:pt x="0" y="13"/>
                    </a:lnTo>
                    <a:lnTo>
                      <a:pt x="13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899320" y="53071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478480" y="53514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36" y="72"/>
                    </a:moveTo>
                    <a:lnTo>
                      <a:pt x="17" y="72"/>
                    </a:lnTo>
                    <a:lnTo>
                      <a:pt x="0" y="45"/>
                    </a:lnTo>
                    <a:lnTo>
                      <a:pt x="17" y="0"/>
                    </a:lnTo>
                    <a:lnTo>
                      <a:pt x="36" y="0"/>
                    </a:lnTo>
                    <a:lnTo>
                      <a:pt x="53" y="0"/>
                    </a:lnTo>
                    <a:lnTo>
                      <a:pt x="72" y="45"/>
                    </a:lnTo>
                    <a:lnTo>
                      <a:pt x="53" y="72"/>
                    </a:lnTo>
                    <a:lnTo>
                      <a:pt x="36" y="72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492880" y="53640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45" y="72"/>
                    </a:moveTo>
                    <a:lnTo>
                      <a:pt x="23" y="53"/>
                    </a:lnTo>
                    <a:lnTo>
                      <a:pt x="0" y="36"/>
                    </a:lnTo>
                    <a:lnTo>
                      <a:pt x="23" y="17"/>
                    </a:lnTo>
                    <a:lnTo>
                      <a:pt x="45" y="0"/>
                    </a:lnTo>
                    <a:lnTo>
                      <a:pt x="72" y="17"/>
                    </a:lnTo>
                    <a:lnTo>
                      <a:pt x="72" y="36"/>
                    </a:lnTo>
                    <a:lnTo>
                      <a:pt x="72" y="53"/>
                    </a:lnTo>
                    <a:lnTo>
                      <a:pt x="45" y="72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459400" y="53499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36" y="72"/>
                    </a:moveTo>
                    <a:lnTo>
                      <a:pt x="17" y="72"/>
                    </a:lnTo>
                    <a:lnTo>
                      <a:pt x="0" y="36"/>
                    </a:lnTo>
                    <a:lnTo>
                      <a:pt x="17" y="17"/>
                    </a:lnTo>
                    <a:lnTo>
                      <a:pt x="36" y="0"/>
                    </a:lnTo>
                    <a:lnTo>
                      <a:pt x="53" y="17"/>
                    </a:lnTo>
                    <a:lnTo>
                      <a:pt x="72" y="36"/>
                    </a:lnTo>
                    <a:lnTo>
                      <a:pt x="53" y="72"/>
                    </a:lnTo>
                    <a:lnTo>
                      <a:pt x="36" y="72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475240" y="53640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23" y="72"/>
                    </a:moveTo>
                    <a:lnTo>
                      <a:pt x="23" y="53"/>
                    </a:lnTo>
                    <a:lnTo>
                      <a:pt x="0" y="36"/>
                    </a:lnTo>
                    <a:lnTo>
                      <a:pt x="23" y="17"/>
                    </a:lnTo>
                    <a:lnTo>
                      <a:pt x="23" y="0"/>
                    </a:lnTo>
                    <a:lnTo>
                      <a:pt x="45" y="17"/>
                    </a:lnTo>
                    <a:lnTo>
                      <a:pt x="72" y="36"/>
                    </a:lnTo>
                    <a:lnTo>
                      <a:pt x="45" y="53"/>
                    </a:lnTo>
                    <a:lnTo>
                      <a:pt x="23" y="72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506920" y="53499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23" y="72"/>
                    </a:moveTo>
                    <a:lnTo>
                      <a:pt x="0" y="72"/>
                    </a:lnTo>
                    <a:lnTo>
                      <a:pt x="0" y="36"/>
                    </a:lnTo>
                    <a:lnTo>
                      <a:pt x="0" y="17"/>
                    </a:lnTo>
                    <a:lnTo>
                      <a:pt x="23" y="0"/>
                    </a:lnTo>
                    <a:lnTo>
                      <a:pt x="72" y="17"/>
                    </a:lnTo>
                    <a:lnTo>
                      <a:pt x="72" y="36"/>
                    </a:lnTo>
                    <a:lnTo>
                      <a:pt x="72" y="72"/>
                    </a:lnTo>
                    <a:lnTo>
                      <a:pt x="23" y="72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491080" y="53514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45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45"/>
                    </a:lnTo>
                    <a:lnTo>
                      <a:pt x="72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94320" y="5345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36" y="72"/>
                    </a:moveTo>
                    <a:lnTo>
                      <a:pt x="17" y="72"/>
                    </a:lnTo>
                    <a:lnTo>
                      <a:pt x="0" y="45"/>
                    </a:lnTo>
                    <a:lnTo>
                      <a:pt x="17" y="0"/>
                    </a:lnTo>
                    <a:lnTo>
                      <a:pt x="36" y="0"/>
                    </a:lnTo>
                    <a:lnTo>
                      <a:pt x="72" y="0"/>
                    </a:lnTo>
                    <a:lnTo>
                      <a:pt x="72" y="45"/>
                    </a:lnTo>
                    <a:lnTo>
                      <a:pt x="72" y="72"/>
                    </a:lnTo>
                    <a:lnTo>
                      <a:pt x="36" y="72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473800" y="5345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36" y="72"/>
                    </a:moveTo>
                    <a:lnTo>
                      <a:pt x="0" y="53"/>
                    </a:lnTo>
                    <a:lnTo>
                      <a:pt x="0" y="36"/>
                    </a:lnTo>
                    <a:lnTo>
                      <a:pt x="0" y="17"/>
                    </a:lnTo>
                    <a:lnTo>
                      <a:pt x="36" y="0"/>
                    </a:lnTo>
                    <a:lnTo>
                      <a:pt x="72" y="17"/>
                    </a:lnTo>
                    <a:lnTo>
                      <a:pt x="72" y="36"/>
                    </a:lnTo>
                    <a:lnTo>
                      <a:pt x="72" y="53"/>
                    </a:lnTo>
                    <a:lnTo>
                      <a:pt x="36" y="72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472000" y="53370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45" y="0"/>
                    </a:moveTo>
                    <a:lnTo>
                      <a:pt x="72" y="72"/>
                    </a:lnTo>
                    <a:lnTo>
                      <a:pt x="45" y="72"/>
                    </a:lnTo>
                    <a:lnTo>
                      <a:pt x="23" y="72"/>
                    </a:lnTo>
                    <a:lnTo>
                      <a:pt x="0" y="72"/>
                    </a:lnTo>
                    <a:lnTo>
                      <a:pt x="23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492880" y="5318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45" y="0"/>
                    </a:moveTo>
                    <a:lnTo>
                      <a:pt x="72" y="0"/>
                    </a:lnTo>
                    <a:lnTo>
                      <a:pt x="72" y="36"/>
                    </a:lnTo>
                    <a:lnTo>
                      <a:pt x="72" y="72"/>
                    </a:lnTo>
                    <a:lnTo>
                      <a:pt x="45" y="72"/>
                    </a:lnTo>
                    <a:lnTo>
                      <a:pt x="0" y="7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478480" y="53290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36" y="0"/>
                    </a:moveTo>
                    <a:lnTo>
                      <a:pt x="53" y="0"/>
                    </a:lnTo>
                    <a:lnTo>
                      <a:pt x="72" y="45"/>
                    </a:lnTo>
                    <a:lnTo>
                      <a:pt x="53" y="72"/>
                    </a:lnTo>
                    <a:lnTo>
                      <a:pt x="36" y="72"/>
                    </a:lnTo>
                    <a:lnTo>
                      <a:pt x="17" y="72"/>
                    </a:lnTo>
                    <a:lnTo>
                      <a:pt x="0" y="45"/>
                    </a:lnTo>
                    <a:lnTo>
                      <a:pt x="17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75240" y="5318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36" y="0"/>
                    </a:moveTo>
                    <a:lnTo>
                      <a:pt x="72" y="0"/>
                    </a:lnTo>
                    <a:lnTo>
                      <a:pt x="72" y="36"/>
                    </a:lnTo>
                    <a:lnTo>
                      <a:pt x="72" y="72"/>
                    </a:lnTo>
                    <a:lnTo>
                      <a:pt x="36" y="72"/>
                    </a:lnTo>
                    <a:lnTo>
                      <a:pt x="0" y="7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459400" y="53308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36" y="0"/>
                    </a:moveTo>
                    <a:lnTo>
                      <a:pt x="53" y="17"/>
                    </a:lnTo>
                    <a:lnTo>
                      <a:pt x="72" y="36"/>
                    </a:lnTo>
                    <a:lnTo>
                      <a:pt x="53" y="53"/>
                    </a:lnTo>
                    <a:lnTo>
                      <a:pt x="36" y="72"/>
                    </a:lnTo>
                    <a:lnTo>
                      <a:pt x="17" y="53"/>
                    </a:lnTo>
                    <a:lnTo>
                      <a:pt x="0" y="36"/>
                    </a:lnTo>
                    <a:lnTo>
                      <a:pt x="17" y="17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89640" y="53290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36" y="0"/>
                    </a:moveTo>
                    <a:lnTo>
                      <a:pt x="72" y="0"/>
                    </a:lnTo>
                    <a:lnTo>
                      <a:pt x="72" y="23"/>
                    </a:lnTo>
                    <a:lnTo>
                      <a:pt x="72" y="72"/>
                    </a:lnTo>
                    <a:lnTo>
                      <a:pt x="36" y="72"/>
                    </a:lnTo>
                    <a:lnTo>
                      <a:pt x="0" y="2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06920" y="53308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23" y="0"/>
                    </a:moveTo>
                    <a:lnTo>
                      <a:pt x="72" y="17"/>
                    </a:lnTo>
                    <a:lnTo>
                      <a:pt x="72" y="36"/>
                    </a:lnTo>
                    <a:lnTo>
                      <a:pt x="72" y="53"/>
                    </a:lnTo>
                    <a:lnTo>
                      <a:pt x="23" y="72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0" y="1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495760" y="53370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23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23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877000" y="53038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72"/>
                    </a:moveTo>
                    <a:lnTo>
                      <a:pt x="40" y="72"/>
                    </a:lnTo>
                    <a:lnTo>
                      <a:pt x="31" y="36"/>
                    </a:lnTo>
                    <a:lnTo>
                      <a:pt x="8" y="13"/>
                    </a:lnTo>
                    <a:lnTo>
                      <a:pt x="0" y="0"/>
                    </a:lnTo>
                    <a:lnTo>
                      <a:pt x="40" y="13"/>
                    </a:lnTo>
                    <a:lnTo>
                      <a:pt x="40" y="36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811840" y="5311800"/>
                <a:ext cx="63720" cy="66960"/>
              </a:xfrm>
              <a:custGeom>
                <a:avLst/>
                <a:gdLst/>
                <a:ahLst/>
                <a:rect l="0" t="0" r="r" b="b"/>
                <a:pathLst>
                  <a:path w="177" h="186">
                    <a:moveTo>
                      <a:pt x="89" y="0"/>
                    </a:moveTo>
                    <a:lnTo>
                      <a:pt x="106" y="4"/>
                    </a:lnTo>
                    <a:lnTo>
                      <a:pt x="124" y="8"/>
                    </a:lnTo>
                    <a:lnTo>
                      <a:pt x="137" y="17"/>
                    </a:lnTo>
                    <a:lnTo>
                      <a:pt x="150" y="26"/>
                    </a:lnTo>
                    <a:lnTo>
                      <a:pt x="159" y="39"/>
                    </a:lnTo>
                    <a:lnTo>
                      <a:pt x="172" y="57"/>
                    </a:lnTo>
                    <a:lnTo>
                      <a:pt x="177" y="74"/>
                    </a:lnTo>
                    <a:lnTo>
                      <a:pt x="177" y="92"/>
                    </a:lnTo>
                    <a:lnTo>
                      <a:pt x="177" y="111"/>
                    </a:lnTo>
                    <a:lnTo>
                      <a:pt x="172" y="128"/>
                    </a:lnTo>
                    <a:lnTo>
                      <a:pt x="159" y="142"/>
                    </a:lnTo>
                    <a:lnTo>
                      <a:pt x="150" y="159"/>
                    </a:lnTo>
                    <a:lnTo>
                      <a:pt x="137" y="168"/>
                    </a:lnTo>
                    <a:lnTo>
                      <a:pt x="124" y="177"/>
                    </a:lnTo>
                    <a:lnTo>
                      <a:pt x="106" y="181"/>
                    </a:lnTo>
                    <a:lnTo>
                      <a:pt x="89" y="186"/>
                    </a:lnTo>
                    <a:lnTo>
                      <a:pt x="74" y="181"/>
                    </a:lnTo>
                    <a:lnTo>
                      <a:pt x="52" y="177"/>
                    </a:lnTo>
                    <a:lnTo>
                      <a:pt x="44" y="168"/>
                    </a:lnTo>
                    <a:lnTo>
                      <a:pt x="26" y="159"/>
                    </a:lnTo>
                    <a:lnTo>
                      <a:pt x="22" y="142"/>
                    </a:lnTo>
                    <a:lnTo>
                      <a:pt x="8" y="128"/>
                    </a:lnTo>
                    <a:lnTo>
                      <a:pt x="4" y="111"/>
                    </a:lnTo>
                    <a:lnTo>
                      <a:pt x="0" y="92"/>
                    </a:lnTo>
                    <a:lnTo>
                      <a:pt x="4" y="74"/>
                    </a:lnTo>
                    <a:lnTo>
                      <a:pt x="8" y="57"/>
                    </a:lnTo>
                    <a:lnTo>
                      <a:pt x="22" y="39"/>
                    </a:lnTo>
                    <a:lnTo>
                      <a:pt x="26" y="26"/>
                    </a:lnTo>
                    <a:lnTo>
                      <a:pt x="44" y="17"/>
                    </a:lnTo>
                    <a:lnTo>
                      <a:pt x="52" y="8"/>
                    </a:lnTo>
                    <a:lnTo>
                      <a:pt x="74" y="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e1e1e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824440" y="5324400"/>
                <a:ext cx="39960" cy="43200"/>
              </a:xfrm>
              <a:custGeom>
                <a:avLst/>
                <a:gdLst/>
                <a:ahLst/>
                <a:rect l="0" t="0" r="r" b="b"/>
                <a:pathLst>
                  <a:path w="111" h="120">
                    <a:moveTo>
                      <a:pt x="52" y="0"/>
                    </a:moveTo>
                    <a:lnTo>
                      <a:pt x="80" y="4"/>
                    </a:lnTo>
                    <a:lnTo>
                      <a:pt x="93" y="13"/>
                    </a:lnTo>
                    <a:lnTo>
                      <a:pt x="102" y="35"/>
                    </a:lnTo>
                    <a:lnTo>
                      <a:pt x="111" y="62"/>
                    </a:lnTo>
                    <a:lnTo>
                      <a:pt x="102" y="84"/>
                    </a:lnTo>
                    <a:lnTo>
                      <a:pt x="93" y="98"/>
                    </a:lnTo>
                    <a:lnTo>
                      <a:pt x="80" y="115"/>
                    </a:lnTo>
                    <a:lnTo>
                      <a:pt x="52" y="120"/>
                    </a:lnTo>
                    <a:lnTo>
                      <a:pt x="30" y="115"/>
                    </a:lnTo>
                    <a:lnTo>
                      <a:pt x="17" y="98"/>
                    </a:lnTo>
                    <a:lnTo>
                      <a:pt x="8" y="84"/>
                    </a:lnTo>
                    <a:lnTo>
                      <a:pt x="0" y="62"/>
                    </a:lnTo>
                    <a:lnTo>
                      <a:pt x="8" y="35"/>
                    </a:lnTo>
                    <a:lnTo>
                      <a:pt x="17" y="13"/>
                    </a:lnTo>
                    <a:lnTo>
                      <a:pt x="30" y="4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835600" y="53388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31" y="0"/>
                    </a:moveTo>
                    <a:lnTo>
                      <a:pt x="45" y="0"/>
                    </a:lnTo>
                    <a:lnTo>
                      <a:pt x="59" y="13"/>
                    </a:lnTo>
                    <a:lnTo>
                      <a:pt x="63" y="27"/>
                    </a:lnTo>
                    <a:lnTo>
                      <a:pt x="72" y="36"/>
                    </a:lnTo>
                    <a:lnTo>
                      <a:pt x="63" y="40"/>
                    </a:lnTo>
                    <a:lnTo>
                      <a:pt x="59" y="53"/>
                    </a:lnTo>
                    <a:lnTo>
                      <a:pt x="45" y="63"/>
                    </a:lnTo>
                    <a:lnTo>
                      <a:pt x="31" y="72"/>
                    </a:lnTo>
                    <a:lnTo>
                      <a:pt x="23" y="63"/>
                    </a:lnTo>
                    <a:lnTo>
                      <a:pt x="8" y="53"/>
                    </a:lnTo>
                    <a:lnTo>
                      <a:pt x="4" y="40"/>
                    </a:lnTo>
                    <a:lnTo>
                      <a:pt x="0" y="36"/>
                    </a:lnTo>
                    <a:lnTo>
                      <a:pt x="4" y="27"/>
                    </a:lnTo>
                    <a:lnTo>
                      <a:pt x="8" y="13"/>
                    </a:lnTo>
                    <a:lnTo>
                      <a:pt x="23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851440" y="5367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36" y="72"/>
                    </a:moveTo>
                    <a:lnTo>
                      <a:pt x="17" y="53"/>
                    </a:lnTo>
                    <a:lnTo>
                      <a:pt x="0" y="36"/>
                    </a:lnTo>
                    <a:lnTo>
                      <a:pt x="17" y="17"/>
                    </a:lnTo>
                    <a:lnTo>
                      <a:pt x="36" y="0"/>
                    </a:lnTo>
                    <a:lnTo>
                      <a:pt x="53" y="17"/>
                    </a:lnTo>
                    <a:lnTo>
                      <a:pt x="72" y="36"/>
                    </a:lnTo>
                    <a:lnTo>
                      <a:pt x="53" y="53"/>
                    </a:lnTo>
                    <a:lnTo>
                      <a:pt x="36" y="72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837400" y="53560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23" y="72"/>
                    </a:moveTo>
                    <a:lnTo>
                      <a:pt x="0" y="7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72" y="0"/>
                    </a:lnTo>
                    <a:lnTo>
                      <a:pt x="72" y="36"/>
                    </a:lnTo>
                    <a:lnTo>
                      <a:pt x="72" y="72"/>
                    </a:lnTo>
                    <a:lnTo>
                      <a:pt x="23" y="72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864400" y="53514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45" y="72"/>
                    </a:moveTo>
                    <a:lnTo>
                      <a:pt x="23" y="53"/>
                    </a:lnTo>
                    <a:lnTo>
                      <a:pt x="0" y="36"/>
                    </a:lnTo>
                    <a:lnTo>
                      <a:pt x="23" y="17"/>
                    </a:lnTo>
                    <a:lnTo>
                      <a:pt x="45" y="0"/>
                    </a:lnTo>
                    <a:lnTo>
                      <a:pt x="72" y="17"/>
                    </a:lnTo>
                    <a:lnTo>
                      <a:pt x="72" y="36"/>
                    </a:lnTo>
                    <a:lnTo>
                      <a:pt x="72" y="53"/>
                    </a:lnTo>
                    <a:lnTo>
                      <a:pt x="45" y="72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830920" y="5367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36" y="72"/>
                    </a:moveTo>
                    <a:lnTo>
                      <a:pt x="17" y="53"/>
                    </a:lnTo>
                    <a:lnTo>
                      <a:pt x="0" y="36"/>
                    </a:lnTo>
                    <a:lnTo>
                      <a:pt x="17" y="17"/>
                    </a:lnTo>
                    <a:lnTo>
                      <a:pt x="36" y="0"/>
                    </a:lnTo>
                    <a:lnTo>
                      <a:pt x="53" y="17"/>
                    </a:lnTo>
                    <a:lnTo>
                      <a:pt x="72" y="36"/>
                    </a:lnTo>
                    <a:lnTo>
                      <a:pt x="53" y="53"/>
                    </a:lnTo>
                    <a:lnTo>
                      <a:pt x="36" y="72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854680" y="5348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45" y="72"/>
                    </a:moveTo>
                    <a:lnTo>
                      <a:pt x="0" y="7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5" y="0"/>
                    </a:lnTo>
                    <a:lnTo>
                      <a:pt x="72" y="0"/>
                    </a:lnTo>
                    <a:lnTo>
                      <a:pt x="72" y="36"/>
                    </a:lnTo>
                    <a:lnTo>
                      <a:pt x="72" y="72"/>
                    </a:lnTo>
                    <a:lnTo>
                      <a:pt x="45" y="72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829480" y="5348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45" y="72"/>
                    </a:moveTo>
                    <a:lnTo>
                      <a:pt x="0" y="7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5" y="0"/>
                    </a:lnTo>
                    <a:lnTo>
                      <a:pt x="72" y="0"/>
                    </a:lnTo>
                    <a:lnTo>
                      <a:pt x="72" y="36"/>
                    </a:lnTo>
                    <a:lnTo>
                      <a:pt x="72" y="72"/>
                    </a:lnTo>
                    <a:lnTo>
                      <a:pt x="45" y="72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846760" y="53560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45" y="72"/>
                    </a:moveTo>
                    <a:lnTo>
                      <a:pt x="0" y="7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5" y="0"/>
                    </a:lnTo>
                    <a:lnTo>
                      <a:pt x="72" y="0"/>
                    </a:lnTo>
                    <a:lnTo>
                      <a:pt x="72" y="36"/>
                    </a:lnTo>
                    <a:lnTo>
                      <a:pt x="72" y="72"/>
                    </a:lnTo>
                    <a:lnTo>
                      <a:pt x="45" y="72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818320" y="53514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36" y="72"/>
                    </a:moveTo>
                    <a:lnTo>
                      <a:pt x="17" y="53"/>
                    </a:lnTo>
                    <a:lnTo>
                      <a:pt x="0" y="36"/>
                    </a:lnTo>
                    <a:lnTo>
                      <a:pt x="17" y="17"/>
                    </a:lnTo>
                    <a:lnTo>
                      <a:pt x="36" y="0"/>
                    </a:lnTo>
                    <a:lnTo>
                      <a:pt x="53" y="17"/>
                    </a:lnTo>
                    <a:lnTo>
                      <a:pt x="72" y="36"/>
                    </a:lnTo>
                    <a:lnTo>
                      <a:pt x="53" y="53"/>
                    </a:lnTo>
                    <a:lnTo>
                      <a:pt x="36" y="72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818320" y="53341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36" y="0"/>
                    </a:moveTo>
                    <a:lnTo>
                      <a:pt x="53" y="23"/>
                    </a:lnTo>
                    <a:lnTo>
                      <a:pt x="72" y="45"/>
                    </a:lnTo>
                    <a:lnTo>
                      <a:pt x="53" y="45"/>
                    </a:lnTo>
                    <a:lnTo>
                      <a:pt x="36" y="72"/>
                    </a:lnTo>
                    <a:lnTo>
                      <a:pt x="17" y="45"/>
                    </a:lnTo>
                    <a:lnTo>
                      <a:pt x="0" y="45"/>
                    </a:lnTo>
                    <a:lnTo>
                      <a:pt x="17" y="2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846760" y="53308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45" y="0"/>
                    </a:moveTo>
                    <a:lnTo>
                      <a:pt x="72" y="17"/>
                    </a:lnTo>
                    <a:lnTo>
                      <a:pt x="72" y="36"/>
                    </a:lnTo>
                    <a:lnTo>
                      <a:pt x="72" y="53"/>
                    </a:lnTo>
                    <a:lnTo>
                      <a:pt x="45" y="72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0" y="1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864400" y="53341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45" y="0"/>
                    </a:moveTo>
                    <a:lnTo>
                      <a:pt x="72" y="23"/>
                    </a:lnTo>
                    <a:lnTo>
                      <a:pt x="72" y="45"/>
                    </a:lnTo>
                    <a:lnTo>
                      <a:pt x="45" y="72"/>
                    </a:lnTo>
                    <a:lnTo>
                      <a:pt x="23" y="45"/>
                    </a:lnTo>
                    <a:lnTo>
                      <a:pt x="0" y="45"/>
                    </a:lnTo>
                    <a:lnTo>
                      <a:pt x="23" y="23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851440" y="53197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36" y="0"/>
                    </a:moveTo>
                    <a:lnTo>
                      <a:pt x="53" y="23"/>
                    </a:lnTo>
                    <a:lnTo>
                      <a:pt x="72" y="45"/>
                    </a:lnTo>
                    <a:lnTo>
                      <a:pt x="53" y="45"/>
                    </a:lnTo>
                    <a:lnTo>
                      <a:pt x="36" y="72"/>
                    </a:lnTo>
                    <a:lnTo>
                      <a:pt x="17" y="45"/>
                    </a:lnTo>
                    <a:lnTo>
                      <a:pt x="0" y="45"/>
                    </a:lnTo>
                    <a:lnTo>
                      <a:pt x="17" y="2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829480" y="53388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23" y="0"/>
                    </a:moveTo>
                    <a:lnTo>
                      <a:pt x="72" y="23"/>
                    </a:lnTo>
                    <a:lnTo>
                      <a:pt x="72" y="45"/>
                    </a:lnTo>
                    <a:lnTo>
                      <a:pt x="23" y="72"/>
                    </a:lnTo>
                    <a:lnTo>
                      <a:pt x="0" y="45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837400" y="53308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23" y="0"/>
                    </a:moveTo>
                    <a:lnTo>
                      <a:pt x="72" y="17"/>
                    </a:lnTo>
                    <a:lnTo>
                      <a:pt x="72" y="36"/>
                    </a:lnTo>
                    <a:lnTo>
                      <a:pt x="72" y="53"/>
                    </a:lnTo>
                    <a:lnTo>
                      <a:pt x="23" y="72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0" y="1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830920" y="53197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36" y="0"/>
                    </a:moveTo>
                    <a:lnTo>
                      <a:pt x="53" y="23"/>
                    </a:lnTo>
                    <a:lnTo>
                      <a:pt x="72" y="45"/>
                    </a:lnTo>
                    <a:lnTo>
                      <a:pt x="53" y="45"/>
                    </a:lnTo>
                    <a:lnTo>
                      <a:pt x="36" y="72"/>
                    </a:lnTo>
                    <a:lnTo>
                      <a:pt x="17" y="45"/>
                    </a:lnTo>
                    <a:lnTo>
                      <a:pt x="0" y="45"/>
                    </a:lnTo>
                    <a:lnTo>
                      <a:pt x="17" y="23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54680" y="53388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45" y="0"/>
                    </a:moveTo>
                    <a:lnTo>
                      <a:pt x="72" y="23"/>
                    </a:lnTo>
                    <a:lnTo>
                      <a:pt x="72" y="45"/>
                    </a:lnTo>
                    <a:lnTo>
                      <a:pt x="45" y="72"/>
                    </a:lnTo>
                    <a:lnTo>
                      <a:pt x="0" y="45"/>
                    </a:lnTo>
                    <a:lnTo>
                      <a:pt x="0" y="23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92760" y="5278320"/>
                <a:ext cx="113040" cy="36720"/>
              </a:xfrm>
              <a:custGeom>
                <a:avLst/>
                <a:gdLst/>
                <a:ahLst/>
                <a:rect l="0" t="0" r="r" b="b"/>
                <a:pathLst>
                  <a:path w="314" h="102">
                    <a:moveTo>
                      <a:pt x="314" y="58"/>
                    </a:moveTo>
                    <a:lnTo>
                      <a:pt x="300" y="62"/>
                    </a:lnTo>
                    <a:lnTo>
                      <a:pt x="296" y="84"/>
                    </a:lnTo>
                    <a:lnTo>
                      <a:pt x="269" y="84"/>
                    </a:lnTo>
                    <a:lnTo>
                      <a:pt x="234" y="71"/>
                    </a:lnTo>
                    <a:lnTo>
                      <a:pt x="221" y="62"/>
                    </a:lnTo>
                    <a:lnTo>
                      <a:pt x="199" y="53"/>
                    </a:lnTo>
                    <a:lnTo>
                      <a:pt x="168" y="39"/>
                    </a:lnTo>
                    <a:lnTo>
                      <a:pt x="141" y="39"/>
                    </a:lnTo>
                    <a:lnTo>
                      <a:pt x="114" y="39"/>
                    </a:lnTo>
                    <a:lnTo>
                      <a:pt x="83" y="53"/>
                    </a:lnTo>
                    <a:lnTo>
                      <a:pt x="61" y="62"/>
                    </a:lnTo>
                    <a:lnTo>
                      <a:pt x="39" y="84"/>
                    </a:lnTo>
                    <a:lnTo>
                      <a:pt x="30" y="93"/>
                    </a:lnTo>
                    <a:lnTo>
                      <a:pt x="0" y="102"/>
                    </a:lnTo>
                    <a:lnTo>
                      <a:pt x="30" y="30"/>
                    </a:lnTo>
                    <a:lnTo>
                      <a:pt x="35" y="30"/>
                    </a:lnTo>
                    <a:lnTo>
                      <a:pt x="39" y="22"/>
                    </a:lnTo>
                    <a:lnTo>
                      <a:pt x="48" y="17"/>
                    </a:lnTo>
                    <a:lnTo>
                      <a:pt x="52" y="13"/>
                    </a:lnTo>
                    <a:lnTo>
                      <a:pt x="61" y="8"/>
                    </a:lnTo>
                    <a:lnTo>
                      <a:pt x="74" y="4"/>
                    </a:lnTo>
                    <a:lnTo>
                      <a:pt x="83" y="4"/>
                    </a:lnTo>
                    <a:lnTo>
                      <a:pt x="97" y="4"/>
                    </a:lnTo>
                    <a:lnTo>
                      <a:pt x="110" y="0"/>
                    </a:lnTo>
                    <a:lnTo>
                      <a:pt x="123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7" y="0"/>
                    </a:lnTo>
                    <a:lnTo>
                      <a:pt x="190" y="4"/>
                    </a:lnTo>
                    <a:lnTo>
                      <a:pt x="199" y="4"/>
                    </a:lnTo>
                    <a:lnTo>
                      <a:pt x="212" y="4"/>
                    </a:lnTo>
                    <a:lnTo>
                      <a:pt x="217" y="4"/>
                    </a:lnTo>
                    <a:lnTo>
                      <a:pt x="221" y="8"/>
                    </a:lnTo>
                    <a:lnTo>
                      <a:pt x="230" y="8"/>
                    </a:lnTo>
                    <a:lnTo>
                      <a:pt x="234" y="13"/>
                    </a:lnTo>
                    <a:lnTo>
                      <a:pt x="243" y="17"/>
                    </a:lnTo>
                    <a:lnTo>
                      <a:pt x="247" y="22"/>
                    </a:lnTo>
                    <a:lnTo>
                      <a:pt x="252" y="22"/>
                    </a:lnTo>
                    <a:lnTo>
                      <a:pt x="261" y="26"/>
                    </a:lnTo>
                    <a:lnTo>
                      <a:pt x="274" y="58"/>
                    </a:lnTo>
                    <a:lnTo>
                      <a:pt x="314" y="58"/>
                    </a:lnTo>
                    <a:close/>
                  </a:path>
                </a:pathLst>
              </a:custGeom>
              <a:solidFill>
                <a:srgbClr val="bd855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5846760" y="537840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5846760" y="537840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5487840" y="52754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5487840" y="52754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5492880" y="52754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5492880" y="52754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5491080" y="537696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5491080" y="537696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5491080" y="52754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5491080" y="52754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843520" y="527832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5843520" y="527832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5846760" y="527832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5846760" y="527832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5837400" y="5297400"/>
                <a:ext cx="25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5837400" y="5297400"/>
                <a:ext cx="25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5497560" y="52754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5497560" y="52754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438880" y="53434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438880" y="53434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492880" y="5392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492880" y="5392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891040" y="5348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891040" y="5348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789520" y="53514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789520" y="53514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5780160" y="534816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5780160" y="534816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5880240" y="535140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5880240" y="535140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433840" y="53499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433840" y="53499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5522760" y="534348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5522760" y="534348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5878440" y="535788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5878440" y="535788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5483160" y="52754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5483160" y="52754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5830920" y="5394240"/>
                <a:ext cx="237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5830920" y="5394240"/>
                <a:ext cx="237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5518080" y="535608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5518080" y="535608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791320" y="53578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791320" y="53578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851440" y="537840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5851440" y="537840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5484960" y="537516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5484960" y="537516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5856120" y="527832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5856120" y="527832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5856120" y="537840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5856120" y="537840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5842080" y="527832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5842080" y="527832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5518080" y="534996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5518080" y="534996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5842080" y="537840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5842080" y="537840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889600" y="534024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889600" y="534024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435640" y="535608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435640" y="535608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5522760" y="533700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5522760" y="533700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5487840" y="537516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5487840" y="537516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5492880" y="537516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5492880" y="537516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791320" y="53611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791320" y="53611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5859360" y="528156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5859360" y="528156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834160" y="5297400"/>
                <a:ext cx="14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834160" y="5297400"/>
                <a:ext cx="14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5878440" y="535608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5878440" y="535608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435640" y="535932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435640" y="535932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5780160" y="534528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5780160" y="534528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5780160" y="533880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5780160" y="533880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5425920" y="534996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5425920" y="534996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530680" y="53434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530680" y="53434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5423040" y="534348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5423040" y="534348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535720" y="53499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535720" y="53499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891040" y="53452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891040" y="53452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789520" y="53560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789520" y="53560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5780160" y="534024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5780160" y="534024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438880" y="53370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438880" y="53370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5878440" y="536112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5878440" y="536112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5479920" y="527832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5479920" y="527832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5518080" y="535932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5518080" y="535932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5500800" y="527832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5500800" y="527832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5424480" y="533700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5424480" y="533700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 flipV="1">
                <a:off x="5823000" y="5376960"/>
                <a:ext cx="2376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 flipV="1">
                <a:off x="5823000" y="5376960"/>
                <a:ext cx="2376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530680" y="53370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30680" y="53370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5861160" y="537696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5861160" y="537696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854680" y="53942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54680" y="53942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442120" y="5324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442120" y="5324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5518080" y="536256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5518080" y="536256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889600" y="533880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889600" y="533880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442120" y="5329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442120" y="5329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797440" y="533232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797440" y="533232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37080" y="53625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37080" y="53625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92760" y="5365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792760" y="5365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500800" y="5389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500800" y="5389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472000" y="52959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472000" y="52959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5477040" y="537372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5477040" y="537372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5489640" y="5295960"/>
                <a:ext cx="25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5489640" y="5295960"/>
                <a:ext cx="25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5500800" y="537516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5500800" y="537516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5823000" y="5394240"/>
                <a:ext cx="25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5823000" y="5394240"/>
                <a:ext cx="25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 flipV="1">
                <a:off x="5468760" y="5375160"/>
                <a:ext cx="2412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 flipV="1">
                <a:off x="5468760" y="5375160"/>
                <a:ext cx="2412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5834160" y="528156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5834160" y="528156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888160" y="5335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888160" y="5335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 flipV="1">
                <a:off x="5850000" y="5281560"/>
                <a:ext cx="2376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 flipV="1">
                <a:off x="5850000" y="5281560"/>
                <a:ext cx="2376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5877000" y="5365800"/>
                <a:ext cx="25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5877000" y="5365800"/>
                <a:ext cx="25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521320" y="532908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5521320" y="532908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5864400" y="537516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5864400" y="537516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 flipV="1">
                <a:off x="5818320" y="5375160"/>
                <a:ext cx="2376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 flipV="1">
                <a:off x="5818320" y="5375160"/>
                <a:ext cx="2376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5492880" y="529740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5492880" y="529740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68760" y="52974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468760" y="52974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886360" y="5330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886360" y="5330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527800" y="532908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527800" y="532908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438880" y="5365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438880" y="5365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5459400" y="5389560"/>
                <a:ext cx="23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5459400" y="5389560"/>
                <a:ext cx="23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5829480" y="528336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5829480" y="528336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02240" y="53895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502240" y="53895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5456160" y="538956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5456160" y="538956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506920" y="53895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506920" y="53895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5783400" y="533088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5783400" y="533088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 flipV="1">
                <a:off x="5853240" y="5283360"/>
                <a:ext cx="2376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 flipV="1">
                <a:off x="5853240" y="5283360"/>
                <a:ext cx="2376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864400" y="5389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864400" y="5389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 flipV="1">
                <a:off x="5856120" y="5283360"/>
                <a:ext cx="2412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>
                <a:off x="5856120" y="5283360"/>
                <a:ext cx="2412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5826240" y="528336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5826240" y="528336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5815080" y="5389560"/>
                <a:ext cx="23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5815080" y="5389560"/>
                <a:ext cx="23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67320" y="53006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467320" y="53006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5497560" y="5300640"/>
                <a:ext cx="23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5497560" y="5300640"/>
                <a:ext cx="23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5856120" y="5302080"/>
                <a:ext cx="25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5856120" y="5302080"/>
                <a:ext cx="25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42120" y="5321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42120" y="5321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21200" y="530208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821200" y="530208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64080" y="53006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64080" y="53006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510160" y="53006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510160" y="53006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5451480" y="538632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5451480" y="538632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889600" y="536904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889600" y="536904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5430960" y="5365800"/>
                <a:ext cx="25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5430960" y="5365800"/>
                <a:ext cx="25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508720" y="5386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508720" y="5386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 flipV="1">
                <a:off x="5516640" y="5349960"/>
                <a:ext cx="2700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 flipV="1">
                <a:off x="5516640" y="5349960"/>
                <a:ext cx="2700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5886360" y="535788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5886360" y="535788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867280" y="53895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867280" y="53895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5811840" y="5389560"/>
                <a:ext cx="23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5811840" y="5389560"/>
                <a:ext cx="23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5877000" y="5324400"/>
                <a:ext cx="28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5877000" y="5324400"/>
                <a:ext cx="28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5518080" y="532116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5518080" y="532116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5788080" y="5369040"/>
                <a:ext cx="28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5788080" y="5369040"/>
                <a:ext cx="28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800680" y="532440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800680" y="5324400"/>
                <a:ext cx="3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 flipV="1">
                <a:off x="5781600" y="5357880"/>
                <a:ext cx="2556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 flipV="1">
                <a:off x="5781600" y="5357880"/>
                <a:ext cx="2556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530680" y="536580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530680" y="536580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5789520" y="5372280"/>
                <a:ext cx="28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5789520" y="5372280"/>
                <a:ext cx="28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888160" y="53722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88160" y="53722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5518080" y="5318280"/>
                <a:ext cx="23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5518080" y="5318280"/>
                <a:ext cx="23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45000" y="53182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445000" y="53182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5875200" y="531972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5875200" y="531972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527800" y="53690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527800" y="53690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5448240" y="5386320"/>
                <a:ext cx="25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5448240" y="5386320"/>
                <a:ext cx="25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5432400" y="536904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5432400" y="536904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870520" y="5388120"/>
                <a:ext cx="18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8240" bIns="-48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870520" y="5388120"/>
                <a:ext cx="18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8240" bIns="-48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511960" y="5386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511960" y="5386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02480" y="5319720"/>
                <a:ext cx="2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802480" y="5319720"/>
                <a:ext cx="2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5808600" y="5388120"/>
                <a:ext cx="255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8240" bIns="-48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5808600" y="5388120"/>
                <a:ext cx="255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8240" bIns="-48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5502240" y="5302080"/>
                <a:ext cx="23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5502240" y="5302080"/>
                <a:ext cx="23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459400" y="5302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459400" y="5302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5859360" y="530388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5859360" y="530388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819760" y="53038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819760" y="53038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5430960" y="531972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30960" y="5319720"/>
                <a:ext cx="2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5873760" y="5318280"/>
                <a:ext cx="28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5873760" y="5318280"/>
                <a:ext cx="28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524560" y="531972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524560" y="531972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803920" y="531828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803920" y="5318280"/>
                <a:ext cx="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872320" y="5315040"/>
                <a:ext cx="25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872320" y="5315040"/>
                <a:ext cx="25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803920" y="538632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803920" y="538632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5877000" y="53690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5877000" y="53690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5437080" y="537516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5437080" y="537516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5794200" y="5378400"/>
                <a:ext cx="25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5794200" y="5378400"/>
                <a:ext cx="25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22760" y="53150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522760" y="53150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526000" y="53751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526000" y="53751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56160" y="53038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456160" y="53038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5504040" y="5303880"/>
                <a:ext cx="26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5504040" y="5303880"/>
                <a:ext cx="26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16640" y="5383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16640" y="5383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450040" y="5311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450040" y="5311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805360" y="53150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805360" y="53150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883120" y="53784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883120" y="53784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5446800" y="5383080"/>
                <a:ext cx="23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5446800" y="5383080"/>
                <a:ext cx="23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816520" y="53071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816520" y="53071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5446800" y="535932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5446800" y="535932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5862600" y="530712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5862600" y="530712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 flipV="1">
                <a:off x="5786280" y="5365800"/>
                <a:ext cx="2700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 flipV="1">
                <a:off x="5786280" y="5365800"/>
                <a:ext cx="2700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5443560" y="5381640"/>
                <a:ext cx="25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5443560" y="5381640"/>
                <a:ext cx="25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810400" y="5310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810400" y="5310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518080" y="53816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518080" y="53816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>
                <a:off x="5873760" y="537372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5873760" y="537372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452920" y="53085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452920" y="53085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5867280" y="531036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5867280" y="531036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516640" y="5310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516640" y="5310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 flipV="1">
                <a:off x="5514840" y="5359320"/>
                <a:ext cx="2412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 flipV="1">
                <a:off x="5514840" y="5359320"/>
                <a:ext cx="2412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5508720" y="5307120"/>
                <a:ext cx="23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5508720" y="5307120"/>
                <a:ext cx="23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454720" y="53071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454720" y="53071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5800680" y="538308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5800680" y="5383080"/>
                <a:ext cx="27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>
                <a:off x="5513400" y="531036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5513400" y="531036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875200" y="538308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875200" y="538308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808600" y="531180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08600" y="531180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450040" y="5310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450040" y="5310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>
                <a:off x="5869080" y="531180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5869080" y="531180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5865840" y="5308560"/>
                <a:ext cx="23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5865840" y="5308560"/>
                <a:ext cx="23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813280" y="53085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813280" y="53085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5440320" y="5378400"/>
                <a:ext cx="25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5440320" y="5378400"/>
                <a:ext cx="25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5797440" y="5378400"/>
                <a:ext cx="25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5797440" y="5378400"/>
                <a:ext cx="255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521320" y="5378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521320" y="5378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5442120" y="5378400"/>
                <a:ext cx="25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5442120" y="5378400"/>
                <a:ext cx="25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5799240" y="538164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5799240" y="538164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878440" y="53816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878440" y="53816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881680" y="5378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881680" y="5378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524560" y="5378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524560" y="5378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6027840" y="4759200"/>
              <a:ext cx="241200" cy="237960"/>
              <a:chOff x="6027840" y="4759200"/>
              <a:chExt cx="241200" cy="237960"/>
            </a:xfrm>
          </p:grpSpPr>
          <p:sp>
            <p:nvSpPr>
              <p:cNvPr id="701" name=""/>
              <p:cNvSpPr/>
              <p:nvPr/>
            </p:nvSpPr>
            <p:spPr>
              <a:xfrm>
                <a:off x="6059520" y="4791240"/>
                <a:ext cx="174600" cy="171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 txBox="1"/>
              <p:nvPr/>
            </p:nvSpPr>
            <p:spPr>
              <a:xfrm>
                <a:off x="6027840" y="4759200"/>
                <a:ext cx="241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6678720" y="4417920"/>
              <a:ext cx="241200" cy="237960"/>
              <a:chOff x="6678720" y="4417920"/>
              <a:chExt cx="241200" cy="237960"/>
            </a:xfrm>
          </p:grpSpPr>
          <p:sp>
            <p:nvSpPr>
              <p:cNvPr id="704" name=""/>
              <p:cNvSpPr/>
              <p:nvPr/>
            </p:nvSpPr>
            <p:spPr>
              <a:xfrm>
                <a:off x="6708600" y="4449600"/>
                <a:ext cx="171360" cy="171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 txBox="1"/>
              <p:nvPr/>
            </p:nvSpPr>
            <p:spPr>
              <a:xfrm>
                <a:off x="6678720" y="4417920"/>
                <a:ext cx="241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6145200" y="3579840"/>
              <a:ext cx="241200" cy="237960"/>
              <a:chOff x="6145200" y="3579840"/>
              <a:chExt cx="241200" cy="237960"/>
            </a:xfrm>
          </p:grpSpPr>
          <p:sp>
            <p:nvSpPr>
              <p:cNvPr id="707" name=""/>
              <p:cNvSpPr/>
              <p:nvPr/>
            </p:nvSpPr>
            <p:spPr>
              <a:xfrm>
                <a:off x="6175440" y="3610080"/>
                <a:ext cx="165240" cy="16524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 txBox="1"/>
              <p:nvPr/>
            </p:nvSpPr>
            <p:spPr>
              <a:xfrm>
                <a:off x="6145200" y="3579840"/>
                <a:ext cx="241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6080040" y="3973680"/>
              <a:ext cx="241200" cy="237960"/>
              <a:chOff x="6080040" y="3973680"/>
              <a:chExt cx="241200" cy="237960"/>
            </a:xfrm>
          </p:grpSpPr>
          <p:sp>
            <p:nvSpPr>
              <p:cNvPr id="710" name=""/>
              <p:cNvSpPr/>
              <p:nvPr/>
            </p:nvSpPr>
            <p:spPr>
              <a:xfrm>
                <a:off x="6110280" y="4003560"/>
                <a:ext cx="165240" cy="16524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 txBox="1"/>
              <p:nvPr/>
            </p:nvSpPr>
            <p:spPr>
              <a:xfrm>
                <a:off x="6080040" y="3973680"/>
                <a:ext cx="241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6157800" y="4460760"/>
              <a:ext cx="241200" cy="237960"/>
              <a:chOff x="6157800" y="4460760"/>
              <a:chExt cx="241200" cy="237960"/>
            </a:xfrm>
          </p:grpSpPr>
          <p:sp>
            <p:nvSpPr>
              <p:cNvPr id="713" name=""/>
              <p:cNvSpPr/>
              <p:nvPr/>
            </p:nvSpPr>
            <p:spPr>
              <a:xfrm>
                <a:off x="6188040" y="4492800"/>
                <a:ext cx="171360" cy="171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 txBox="1"/>
              <p:nvPr/>
            </p:nvSpPr>
            <p:spPr>
              <a:xfrm>
                <a:off x="6157800" y="4460760"/>
                <a:ext cx="241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6157800" y="5511960"/>
              <a:ext cx="241200" cy="237960"/>
              <a:chOff x="6157800" y="5511960"/>
              <a:chExt cx="241200" cy="237960"/>
            </a:xfrm>
          </p:grpSpPr>
          <p:sp>
            <p:nvSpPr>
              <p:cNvPr id="716" name=""/>
              <p:cNvSpPr/>
              <p:nvPr/>
            </p:nvSpPr>
            <p:spPr>
              <a:xfrm>
                <a:off x="6188040" y="5543640"/>
                <a:ext cx="171360" cy="171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 txBox="1"/>
              <p:nvPr/>
            </p:nvSpPr>
            <p:spPr>
              <a:xfrm>
                <a:off x="6157800" y="5511960"/>
                <a:ext cx="241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6165720" y="5830920"/>
              <a:ext cx="241200" cy="237960"/>
              <a:chOff x="6165720" y="5830920"/>
              <a:chExt cx="241200" cy="237960"/>
            </a:xfrm>
          </p:grpSpPr>
          <p:sp>
            <p:nvSpPr>
              <p:cNvPr id="719" name=""/>
              <p:cNvSpPr/>
              <p:nvPr/>
            </p:nvSpPr>
            <p:spPr>
              <a:xfrm>
                <a:off x="6195960" y="5862600"/>
                <a:ext cx="171360" cy="171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 txBox="1"/>
              <p:nvPr/>
            </p:nvSpPr>
            <p:spPr>
              <a:xfrm>
                <a:off x="6165720" y="5830920"/>
                <a:ext cx="241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6993000" y="4867200"/>
              <a:ext cx="155520" cy="154080"/>
              <a:chOff x="6993000" y="4867200"/>
              <a:chExt cx="155520" cy="154080"/>
            </a:xfrm>
          </p:grpSpPr>
          <p:sp>
            <p:nvSpPr>
              <p:cNvPr id="722" name=""/>
              <p:cNvSpPr/>
              <p:nvPr/>
            </p:nvSpPr>
            <p:spPr>
              <a:xfrm>
                <a:off x="7013520" y="4888080"/>
                <a:ext cx="114480" cy="11448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 txBox="1"/>
              <p:nvPr/>
            </p:nvSpPr>
            <p:spPr>
              <a:xfrm>
                <a:off x="6993000" y="4867200"/>
                <a:ext cx="155520" cy="154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7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6821640" y="5100480"/>
              <a:ext cx="155520" cy="154080"/>
              <a:chOff x="6821640" y="5100480"/>
              <a:chExt cx="155520" cy="154080"/>
            </a:xfrm>
          </p:grpSpPr>
          <p:sp>
            <p:nvSpPr>
              <p:cNvPr id="725" name=""/>
              <p:cNvSpPr/>
              <p:nvPr/>
            </p:nvSpPr>
            <p:spPr>
              <a:xfrm>
                <a:off x="6842160" y="5121360"/>
                <a:ext cx="114480" cy="11448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 txBox="1"/>
              <p:nvPr/>
            </p:nvSpPr>
            <p:spPr>
              <a:xfrm>
                <a:off x="6821640" y="5100480"/>
                <a:ext cx="155520" cy="154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7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6916680" y="5533920"/>
              <a:ext cx="155520" cy="154080"/>
              <a:chOff x="6916680" y="5533920"/>
              <a:chExt cx="155520" cy="154080"/>
            </a:xfrm>
          </p:grpSpPr>
          <p:sp>
            <p:nvSpPr>
              <p:cNvPr id="728" name=""/>
              <p:cNvSpPr/>
              <p:nvPr/>
            </p:nvSpPr>
            <p:spPr>
              <a:xfrm>
                <a:off x="6937200" y="5554800"/>
                <a:ext cx="114480" cy="11448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 txBox="1"/>
              <p:nvPr/>
            </p:nvSpPr>
            <p:spPr>
              <a:xfrm>
                <a:off x="6916680" y="5533920"/>
                <a:ext cx="155520" cy="154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7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7031160" y="4395960"/>
              <a:ext cx="155520" cy="154080"/>
              <a:chOff x="7031160" y="4395960"/>
              <a:chExt cx="155520" cy="154080"/>
            </a:xfrm>
          </p:grpSpPr>
          <p:sp>
            <p:nvSpPr>
              <p:cNvPr id="731" name=""/>
              <p:cNvSpPr/>
              <p:nvPr/>
            </p:nvSpPr>
            <p:spPr>
              <a:xfrm>
                <a:off x="7051680" y="4416480"/>
                <a:ext cx="114480" cy="11448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 txBox="1"/>
              <p:nvPr/>
            </p:nvSpPr>
            <p:spPr>
              <a:xfrm>
                <a:off x="7031160" y="4395960"/>
                <a:ext cx="155520" cy="154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7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6669000" y="4643280"/>
              <a:ext cx="155520" cy="154080"/>
              <a:chOff x="6669000" y="4643280"/>
              <a:chExt cx="155520" cy="154080"/>
            </a:xfrm>
          </p:grpSpPr>
          <p:sp>
            <p:nvSpPr>
              <p:cNvPr id="734" name=""/>
              <p:cNvSpPr/>
              <p:nvPr/>
            </p:nvSpPr>
            <p:spPr>
              <a:xfrm>
                <a:off x="6689880" y="4664160"/>
                <a:ext cx="114480" cy="11448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 txBox="1"/>
              <p:nvPr/>
            </p:nvSpPr>
            <p:spPr>
              <a:xfrm>
                <a:off x="6669000" y="4643280"/>
                <a:ext cx="155520" cy="154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7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6483240" y="5381640"/>
              <a:ext cx="155520" cy="154080"/>
              <a:chOff x="6483240" y="5381640"/>
              <a:chExt cx="155520" cy="154080"/>
            </a:xfrm>
          </p:grpSpPr>
          <p:sp>
            <p:nvSpPr>
              <p:cNvPr id="737" name=""/>
              <p:cNvSpPr/>
              <p:nvPr/>
            </p:nvSpPr>
            <p:spPr>
              <a:xfrm>
                <a:off x="6504120" y="5402160"/>
                <a:ext cx="114480" cy="11448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 txBox="1"/>
              <p:nvPr/>
            </p:nvSpPr>
            <p:spPr>
              <a:xfrm>
                <a:off x="6483240" y="5381640"/>
                <a:ext cx="155520" cy="154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7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6516720" y="4809960"/>
              <a:ext cx="155520" cy="154080"/>
              <a:chOff x="6516720" y="4809960"/>
              <a:chExt cx="155520" cy="154080"/>
            </a:xfrm>
          </p:grpSpPr>
          <p:sp>
            <p:nvSpPr>
              <p:cNvPr id="740" name=""/>
              <p:cNvSpPr/>
              <p:nvPr/>
            </p:nvSpPr>
            <p:spPr>
              <a:xfrm>
                <a:off x="6537240" y="4830840"/>
                <a:ext cx="114480" cy="11448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 txBox="1"/>
              <p:nvPr/>
            </p:nvSpPr>
            <p:spPr>
              <a:xfrm>
                <a:off x="6516720" y="4809960"/>
                <a:ext cx="155520" cy="154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7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6616800" y="4224240"/>
              <a:ext cx="155520" cy="154080"/>
              <a:chOff x="6616800" y="4224240"/>
              <a:chExt cx="155520" cy="154080"/>
            </a:xfrm>
          </p:grpSpPr>
          <p:sp>
            <p:nvSpPr>
              <p:cNvPr id="743" name=""/>
              <p:cNvSpPr/>
              <p:nvPr/>
            </p:nvSpPr>
            <p:spPr>
              <a:xfrm>
                <a:off x="6637320" y="4245120"/>
                <a:ext cx="109440" cy="10944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 txBox="1"/>
              <p:nvPr/>
            </p:nvSpPr>
            <p:spPr>
              <a:xfrm>
                <a:off x="6616800" y="4224240"/>
                <a:ext cx="155520" cy="154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7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"/>
            <p:cNvSpPr txBox="1"/>
            <p:nvPr/>
          </p:nvSpPr>
          <p:spPr>
            <a:xfrm>
              <a:off x="7562880" y="3535200"/>
              <a:ext cx="633240" cy="57168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>
              <a:off x="7562880" y="4272120"/>
              <a:ext cx="633240" cy="57168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 txBox="1"/>
            <p:nvPr/>
          </p:nvSpPr>
          <p:spPr>
            <a:xfrm>
              <a:off x="7601040" y="3687840"/>
              <a:ext cx="565200" cy="38088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  <a:ea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  <a:ea typeface="Arial"/>
                </a:rPr>
                <a:t>Serv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 txBox="1"/>
            <p:nvPr/>
          </p:nvSpPr>
          <p:spPr>
            <a:xfrm>
              <a:off x="7601040" y="4424400"/>
              <a:ext cx="565200" cy="38088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  <a:ea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81d58"/>
                  </a:solidFill>
                  <a:latin typeface="Arial"/>
                  <a:ea typeface="Arial"/>
                </a:rPr>
                <a:t>Serv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 txBox="1"/>
            <p:nvPr/>
          </p:nvSpPr>
          <p:spPr>
            <a:xfrm>
              <a:off x="7562880" y="5021280"/>
              <a:ext cx="633240" cy="57168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ff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rv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 txBox="1"/>
            <p:nvPr/>
          </p:nvSpPr>
          <p:spPr>
            <a:xfrm>
              <a:off x="7562880" y="5719680"/>
              <a:ext cx="633240" cy="571680"/>
            </a:xfrm>
            <a:prstGeom prst="rect">
              <a:avLst/>
            </a:prstGeom>
            <a:solidFill>
              <a:srgbClr val="005400"/>
            </a:solidFill>
            <a:ln w="12600">
              <a:solidFill>
                <a:srgbClr val="00ff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rv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 txBox="1"/>
            <p:nvPr/>
          </p:nvSpPr>
          <p:spPr>
            <a:xfrm>
              <a:off x="7601040" y="5173560"/>
              <a:ext cx="565200" cy="380880"/>
            </a:xfrm>
            <a:prstGeom prst="rect">
              <a:avLst/>
            </a:prstGeom>
            <a:solidFill>
              <a:srgbClr val="dbffb8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  <a:ea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  <a:ea typeface="Arial"/>
                </a:rPr>
                <a:t>Serv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 txBox="1"/>
            <p:nvPr/>
          </p:nvSpPr>
          <p:spPr>
            <a:xfrm>
              <a:off x="7601040" y="5872320"/>
              <a:ext cx="565200" cy="380880"/>
            </a:xfrm>
            <a:prstGeom prst="rect">
              <a:avLst/>
            </a:prstGeom>
            <a:solidFill>
              <a:srgbClr val="dbffb8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  <a:ea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3e00"/>
                  </a:solidFill>
                  <a:latin typeface="Arial"/>
                  <a:ea typeface="Arial"/>
                </a:rPr>
                <a:t>Serv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3" name="" descr=""/>
            <p:cNvPicPr/>
            <p:nvPr/>
          </p:nvPicPr>
          <p:blipFill>
            <a:blip r:embed="rId13"/>
            <a:stretch/>
          </p:blipFill>
          <p:spPr>
            <a:xfrm>
              <a:off x="5470560" y="4265640"/>
              <a:ext cx="434880" cy="3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 txBox="1"/>
            <p:nvPr/>
          </p:nvSpPr>
          <p:spPr>
            <a:xfrm>
              <a:off x="6991200" y="3754440"/>
              <a:ext cx="165240" cy="172800"/>
            </a:xfrm>
            <a:prstGeom prst="rect">
              <a:avLst/>
            </a:prstGeom>
            <a:solidFill>
              <a:srgbClr val="7bf5fd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969696"/>
                  </a:solidFill>
                  <a:latin typeface="Book Antiqua"/>
                  <a:ea typeface="Book Antiqu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6308640" y="5275440"/>
              <a:ext cx="241200" cy="237960"/>
              <a:chOff x="6308640" y="5275440"/>
              <a:chExt cx="241200" cy="237960"/>
            </a:xfrm>
          </p:grpSpPr>
          <p:sp>
            <p:nvSpPr>
              <p:cNvPr id="756" name=""/>
              <p:cNvSpPr/>
              <p:nvPr/>
            </p:nvSpPr>
            <p:spPr>
              <a:xfrm>
                <a:off x="6338880" y="5307120"/>
                <a:ext cx="171360" cy="171360"/>
              </a:xfrm>
              <a:prstGeom prst="ellipse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 txBox="1"/>
              <p:nvPr/>
            </p:nvSpPr>
            <p:spPr>
              <a:xfrm>
                <a:off x="6308640" y="5275440"/>
                <a:ext cx="241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gent markets and swa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t another architectural view is as an decentralized market or sw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idea -- the parallel, autonomous actions of a large collection of individual agents results in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emergent behavior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coll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market view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assumes rational agents whereas th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warm 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sociated with artificial life, does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685800" y="38088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gent Programming System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te Redding</dc:creator>
  <dc:description/>
  <dc:language>en-US</dc:language>
  <cp:lastModifiedBy>Tate Redding</cp:lastModifiedBy>
  <cp:revision>0</cp:revision>
  <dc:subject/>
  <dc:title>Agent Technology</dc:title>
</cp:coreProperties>
</file>