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BBCE5EF-7A24-47A4-B9AB-46C40E81BB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KIP EARLIER ONES IF SHORT ON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7796160" y="55440"/>
            <a:ext cx="1085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969696"/>
                </a:solidFill>
                <a:latin typeface="Times New Roman"/>
                <a:ea typeface="Times New Roman"/>
              </a:rPr>
              <a:t>Exam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12760" y="6470640"/>
            <a:ext cx="68112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ly 199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 txBox="1"/>
          <p:nvPr/>
        </p:nvSpPr>
        <p:spPr>
          <a:xfrm>
            <a:off x="3489480" y="6470640"/>
            <a:ext cx="198288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ent-Based Information Retriev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685800" y="228600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What Do Agents Have To Do With Information Retrieva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685800" y="60948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How Does Collaborative Filtering Work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35080" indent="-235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 a large vector space, in which eac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.g.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vie represents one dimens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present each user as a (sparse) vector of movie rating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(U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likes M</a:t>
            </a:r>
            <a:r>
              <a:rPr b="0" lang="en-US" sz="2800" spc="-1" strike="noStrike" baseline="-16000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P(U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likes M</a:t>
            </a:r>
            <a:r>
              <a:rPr b="0" lang="en-US" sz="2800" spc="-1" strike="noStrike" baseline="-16000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for k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earest neighbors(i) who have rated M</a:t>
            </a:r>
            <a:r>
              <a:rPr b="0" lang="en-US" sz="2800" spc="-1" strike="noStrike" baseline="-16000">
                <a:solidFill>
                  <a:srgbClr val="000000"/>
                </a:solidFill>
                <a:latin typeface="Times New Roman"/>
                <a:ea typeface="Times New Roman"/>
              </a:rPr>
              <a:t>j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Example: Firef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35080" indent="-235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s been applied to music, movies, web pag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s several neighbor sets to improve precis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ll recommend people who rate a given page highly, and pages that a giver person rates highly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.g.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y Yahoo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s cookies incessant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Proactive ABIR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85800" y="198108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35080" indent="-235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New York"/>
                <a:ea typeface="New York"/>
              </a:rPr>
              <a:t>Remembrance Ag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New York"/>
                <a:ea typeface="New York"/>
              </a:rPr>
              <a:t>Letiz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sh model ABIR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217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imb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217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kwe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217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intc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217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rity </a:t>
            </a:r>
            <a:r>
              <a:rPr b="0" lang="en-US" sz="2400" spc="-1" strike="noStrike">
                <a:solidFill>
                  <a:srgbClr val="000000"/>
                </a:solidFill>
                <a:latin typeface="New York"/>
                <a:ea typeface="New York"/>
              </a:rPr>
              <a:t>TopicAG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217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FT (routing of Usenet news articl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Example: Remembrance Ag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35080" indent="-235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dexes personal files and e-mai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edded in Emac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n you perform a task, it automatically suggests relevant docume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s continuous associative recal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Example: Letiz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35080" indent="-235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ent browses as you brow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ople typically browse depth-first; Letizia browses breadth-fir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s a variety of heuristics to identify interesting pag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n an interesting page is identified, it is displayed in a separate browser window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Example: TopicAG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35080" indent="-235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s an agent view of information retrieval tasks to the us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sks include filtering, categorization, and rout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variety of delivery modes are available, including web page, database entry, e-mail, fax, pag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685800" y="60948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Agents for Information Retriev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35080" indent="-235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formation retrieval naturally fits the agent mol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ple sources improve IR; agents facilitate multiple sour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R improves with specialization; mediated architectures facilitate access to specialis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R scalability demands distribution; agents facilitate distribu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685800" y="60948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Information Retrieval and Agent Characterist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523880" y="1905120"/>
            <a:ext cx="6095880" cy="46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685800" y="60948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Agent-Based Information Retrieval (ABIR) Mind 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876240" y="1854360"/>
            <a:ext cx="7378560" cy="43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Knowbot ABIR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35080" indent="-235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‘knowbot’ is an ABIR system that provides a single query language to access a variety of information 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knowbot serves as a representative for the user (which demands program autonomy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 of knowbots: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MetaCrawl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SavvySearc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Shopbo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BargainFind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Fid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Example: MetaCrawl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35080" indent="-235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eries a variety of search engines in paralle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s a uniform user interfa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rges results from different engin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wnloads and scans pages if necessa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sses ads throug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Example: SavvySear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35080" indent="-235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ies to maximize the likelihood of finding good links while holding resource consumption to a minimu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sons about resource requireme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nks the available search engines for how well they respond to the terms in the que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patches query only to top-ranked search engin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60948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Collaborative Filtration ABIR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685800" y="1752480"/>
            <a:ext cx="7772400" cy="429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35080" indent="-235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collaborative filtration ABIR system makes recommendations to a person based on the preferences of similar us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ommending People: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Yent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eferralWe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ommending Products: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Firefl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Similarities Engin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Tun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music),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EachMovi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Mor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A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MovieCritic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movies &amp; video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ommending Readings: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Wisewi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Firefl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Fa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Phoak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09480" y="609480"/>
            <a:ext cx="792468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Content-based vs. Collaborative Recommend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685800" y="396252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35080" indent="-235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-based recommendation retrieves other documents similar to those the user liked earli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llaborative recommendation retrieves documents liked by other people similar to the us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744480" y="2209680"/>
            <a:ext cx="7664400" cy="1644840"/>
            <a:chOff x="744480" y="2209680"/>
            <a:chExt cx="7664400" cy="1644840"/>
          </a:xfrm>
        </p:grpSpPr>
        <p:grpSp>
          <p:nvGrpSpPr>
            <p:cNvPr id="116" name=""/>
            <p:cNvGrpSpPr/>
            <p:nvPr/>
          </p:nvGrpSpPr>
          <p:grpSpPr>
            <a:xfrm>
              <a:off x="2573280" y="2270160"/>
              <a:ext cx="4758120" cy="1584360"/>
              <a:chOff x="2573280" y="2270160"/>
              <a:chExt cx="4758120" cy="1584360"/>
            </a:xfrm>
          </p:grpSpPr>
          <p:sp>
            <p:nvSpPr>
              <p:cNvPr id="117" name=""/>
              <p:cNvSpPr txBox="1"/>
              <p:nvPr/>
            </p:nvSpPr>
            <p:spPr>
              <a:xfrm>
                <a:off x="2921040" y="2271600"/>
                <a:ext cx="76032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User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 txBox="1"/>
              <p:nvPr/>
            </p:nvSpPr>
            <p:spPr>
              <a:xfrm>
                <a:off x="5316480" y="2270160"/>
                <a:ext cx="76032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User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 txBox="1"/>
              <p:nvPr/>
            </p:nvSpPr>
            <p:spPr>
              <a:xfrm>
                <a:off x="2573280" y="3033720"/>
                <a:ext cx="145404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Document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 txBox="1"/>
              <p:nvPr/>
            </p:nvSpPr>
            <p:spPr>
              <a:xfrm>
                <a:off x="5318280" y="3032280"/>
                <a:ext cx="2013120" cy="8222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Recommended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Document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1" name=""/>
            <p:cNvSpPr/>
            <p:nvPr/>
          </p:nvSpPr>
          <p:spPr>
            <a:xfrm>
              <a:off x="3657600" y="2514600"/>
              <a:ext cx="16002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038480" y="3276720"/>
              <a:ext cx="12193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276720" y="266688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715000" y="266688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 txBox="1"/>
            <p:nvPr/>
          </p:nvSpPr>
          <p:spPr>
            <a:xfrm>
              <a:off x="2725560" y="2666880"/>
              <a:ext cx="56844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00cc99"/>
                  </a:solidFill>
                  <a:latin typeface="Times New Roman"/>
                  <a:ea typeface="Times New Roman"/>
                </a:rPr>
                <a:t>lik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 txBox="1"/>
            <p:nvPr/>
          </p:nvSpPr>
          <p:spPr>
            <a:xfrm>
              <a:off x="5773680" y="2665440"/>
              <a:ext cx="56844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00cc99"/>
                  </a:solidFill>
                  <a:latin typeface="Times New Roman"/>
                  <a:ea typeface="Times New Roman"/>
                </a:rPr>
                <a:t>lik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 txBox="1"/>
            <p:nvPr/>
          </p:nvSpPr>
          <p:spPr>
            <a:xfrm>
              <a:off x="3868560" y="2209680"/>
              <a:ext cx="95724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00cc99"/>
                  </a:solidFill>
                  <a:latin typeface="Times New Roman"/>
                  <a:ea typeface="Times New Roman"/>
                </a:rPr>
                <a:t>similar t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 txBox="1"/>
            <p:nvPr/>
          </p:nvSpPr>
          <p:spPr>
            <a:xfrm>
              <a:off x="4098960" y="3274920"/>
              <a:ext cx="95724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00cc99"/>
                  </a:solidFill>
                  <a:latin typeface="Times New Roman"/>
                  <a:ea typeface="Times New Roman"/>
                </a:rPr>
                <a:t>similar t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429000" y="2209680"/>
              <a:ext cx="3124080" cy="0"/>
            </a:xfrm>
            <a:prstGeom prst="line">
              <a:avLst/>
            </a:prstGeom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553080" y="2209680"/>
              <a:ext cx="0" cy="838440"/>
            </a:xfrm>
            <a:prstGeom prst="line">
              <a:avLst/>
            </a:prstGeom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438280" y="3733920"/>
              <a:ext cx="2819520" cy="0"/>
            </a:xfrm>
            <a:prstGeom prst="line">
              <a:avLst/>
            </a:prstGeom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438280" y="2590920"/>
              <a:ext cx="0" cy="1143000"/>
            </a:xfrm>
            <a:prstGeom prst="line">
              <a:avLst/>
            </a:prstGeom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 txBox="1"/>
            <p:nvPr/>
          </p:nvSpPr>
          <p:spPr>
            <a:xfrm>
              <a:off x="744480" y="2720880"/>
              <a:ext cx="1720800" cy="641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content-bas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recommend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 txBox="1"/>
            <p:nvPr/>
          </p:nvSpPr>
          <p:spPr>
            <a:xfrm>
              <a:off x="6688080" y="2262240"/>
              <a:ext cx="1720800" cy="641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collaborati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recommend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im Mayfield</dc:creator>
  <dc:description/>
  <dc:language>en-US</dc:language>
  <cp:lastModifiedBy>Jim Mayfield</cp:lastModifiedBy>
  <cp:revision>0</cp:revision>
  <dc:subject>Examples 1</dc:subject>
  <dc:title>What Do Agents Have To Do With Information Retrieval?</dc:title>
</cp:coreProperties>
</file>