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EC0C3F-D2FA-440F-A8DB-80FF58DB9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nowledge/structured information in languages such as S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xample: user says car; system retrieves automob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done with thesaurus expansion or vector space transformation (L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Fast and easy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796160" y="55440"/>
            <a:ext cx="1314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12760" y="6470640"/>
            <a:ext cx="681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3489480" y="6470640"/>
            <a:ext cx="1982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Based Information Retrie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oftware Agents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or Information Retri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327672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othy F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Maryland Baltimore Cou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n@cs.umbc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Nich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Maryland Baltimore Cou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olas@cs.umbc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es May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ohns Hopkins University Applied Physics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es.Mayfield@jhuapl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verview of the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05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n ag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Representation for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7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gents for information retriev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Agent-Based Information Retriev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utorial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away, if possible, some of the current agent h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a variety of uses for agent technologies in information routing, filtering, and quer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 snapshot of the state of the art in agent-based information retrie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examples in enough detail to allow you to investigate the use of these technologies your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hy Study Ag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 Croft presented an IR top-ten wish list (D-Lib magazine, November 1995), in an attempt to capture his view of the most significant problems facing current I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technologies are potentially applicable to most of these ten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d multi-year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roft’s Top Ten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Relevanc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Multimedia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Effective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Routing and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roft’s Top Ten Lis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nterfaces and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“Magic” (term expa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fficient, Flexible Indexing and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ntegrate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number two IR problem i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he Number Two I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istributed Information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Mayfield</dc:creator>
  <dc:description/>
  <dc:language>en-US</dc:language>
  <cp:lastModifiedBy>Jim Mayfield</cp:lastModifiedBy>
  <cp:revision>0</cp:revision>
  <dc:subject>Introduction</dc:subject>
  <dc:title>Software Agents for Information Retrieval</dc:title>
</cp:coreProperties>
</file>