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CA2-7599-4125-B792-EA0B20C063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62B-A64E-4EC2-82FE-F88ACDC2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11D-24B1-4817-A14E-72E3092F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574-EEC8-4E7A-9AE5-32D578C5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308-7A11-419F-950C-7908A281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A9A-14D0-48D5-B46C-E399C301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259-038B-4920-85FE-BBED54C3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FD6-75D6-4F40-BA24-8A3B7165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CC9-2ED2-44B1-B4A9-7C0A0BEE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B06-A673-4A5D-AEA6-33994486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7F9-BB03-4737-B502-6B891038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1CB-2913-479F-AF47-BDDC65D0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671-5F08-42F6-8EA8-A861CFC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F82C-F3EC-4B54-9506-001CEF671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33"/>
                </a:solidFill>
                <a:latin typeface="Times New Roman"/>
              </a:rPr>
              <a:t>Agent Communication</a:t>
            </a:r>
            <a:endParaRPr b="1" lang="en-US" sz="8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m Fin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f M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ltimore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n@umbc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umbc.edu/~fi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4600" y="709200"/>
            <a:ext cx="776916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Ontology Library and Editing Tools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569040" y="2319480"/>
            <a:ext cx="5571360" cy="4049640"/>
            <a:chOff x="3569040" y="2319480"/>
            <a:chExt cx="5571360" cy="4049640"/>
          </a:xfrm>
        </p:grpSpPr>
        <p:sp>
          <p:nvSpPr>
            <p:cNvPr id="193" name=""/>
            <p:cNvSpPr/>
            <p:nvPr/>
          </p:nvSpPr>
          <p:spPr>
            <a:xfrm>
              <a:off x="5708520" y="3062160"/>
              <a:ext cx="67644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p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6143760" y="5424480"/>
            <a:ext cx="1066680" cy="94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43760" y="5424480"/>
                      <a:ext cx="1066680" cy="9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6" name=""/>
            <p:cNvGrpSpPr/>
            <p:nvPr/>
          </p:nvGrpSpPr>
          <p:grpSpPr>
            <a:xfrm>
              <a:off x="6432480" y="5046840"/>
              <a:ext cx="647640" cy="306360"/>
              <a:chOff x="6432480" y="5046840"/>
              <a:chExt cx="647640" cy="306360"/>
            </a:xfrm>
          </p:grpSpPr>
          <p:sp>
            <p:nvSpPr>
              <p:cNvPr id="197" name=""/>
              <p:cNvSpPr/>
              <p:nvPr/>
            </p:nvSpPr>
            <p:spPr>
              <a:xfrm>
                <a:off x="6783480" y="5046840"/>
                <a:ext cx="296640" cy="295200"/>
              </a:xfrm>
              <a:prstGeom prst="upArrow">
                <a:avLst>
                  <a:gd name="adj1" fmla="val 50000"/>
                  <a:gd name="adj2" fmla="val 52028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32480" y="5056200"/>
                <a:ext cx="298440" cy="297000"/>
              </a:xfrm>
              <a:prstGeom prst="down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437364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Brow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7000" y="4241880"/>
              <a:ext cx="8877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a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0072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ompo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61200" y="4241880"/>
              <a:ext cx="887400" cy="73800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Ext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26360" y="4241880"/>
              <a:ext cx="885960" cy="73800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 anchorCtr="1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Che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13040" y="4468680"/>
              <a:ext cx="1904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08520" y="4473720"/>
              <a:ext cx="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07080" y="4468680"/>
              <a:ext cx="1792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890960" y="4603680"/>
              <a:ext cx="10008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97520" y="4608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503240" y="460836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8080" y="461340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37160" y="461808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97440" y="4743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792680" y="4749840"/>
              <a:ext cx="1000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68920" y="4440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68920" y="4575240"/>
              <a:ext cx="6804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84600" y="457524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54680" y="4575240"/>
              <a:ext cx="666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878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8308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3960" y="4714920"/>
              <a:ext cx="68400" cy="57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8792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45040" y="4714920"/>
              <a:ext cx="66600" cy="572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64240" y="4849920"/>
              <a:ext cx="6804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4960" y="4849920"/>
              <a:ext cx="666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892840" y="4452840"/>
              <a:ext cx="272880" cy="331920"/>
              <a:chOff x="5892840" y="4452840"/>
              <a:chExt cx="272880" cy="33192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5913000" y="4486320"/>
                <a:ext cx="1047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2928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4836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94360" y="4452840"/>
                <a:ext cx="684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9760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92840" y="459252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97680" y="4592520"/>
                <a:ext cx="6804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27840" y="462132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937120" y="462744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94360" y="4592520"/>
                <a:ext cx="6840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10120" y="4727520"/>
                <a:ext cx="6696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75360" y="4727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657400" y="4489560"/>
              <a:ext cx="223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1500" spc="-1" strike="noStrike">
                  <a:solidFill>
                    <a:srgbClr val="969696"/>
                  </a:solidFill>
                  <a:latin typeface="Arial"/>
                </a:rPr>
                <a:t>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5408640" y="4452840"/>
              <a:ext cx="271440" cy="196920"/>
              <a:chOff x="5408640" y="4452840"/>
              <a:chExt cx="271440" cy="19692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5425920" y="4486320"/>
                <a:ext cx="1065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364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6272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10160" y="445284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1340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0864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13480" y="459252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481800" y="4454640"/>
              <a:ext cx="495360" cy="333360"/>
              <a:chOff x="6481800" y="4454640"/>
              <a:chExt cx="495360" cy="333360"/>
            </a:xfrm>
          </p:grpSpPr>
          <p:sp>
            <p:nvSpPr>
              <p:cNvPr id="248" name=""/>
              <p:cNvSpPr/>
              <p:nvPr/>
            </p:nvSpPr>
            <p:spPr>
              <a:xfrm flipH="1">
                <a:off x="6630480" y="4487760"/>
                <a:ext cx="9396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309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341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00680" y="4594320"/>
                <a:ext cx="6696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944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310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75180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21560" y="4729320"/>
                <a:ext cx="6804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770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5120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7356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960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818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1056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800760" y="4594320"/>
                <a:ext cx="6660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73880" y="4454640"/>
              <a:ext cx="598680" cy="473040"/>
              <a:chOff x="7373880" y="4454640"/>
              <a:chExt cx="598680" cy="473040"/>
            </a:xfrm>
          </p:grpSpPr>
          <p:sp>
            <p:nvSpPr>
              <p:cNvPr id="264" name=""/>
              <p:cNvSpPr/>
              <p:nvPr/>
            </p:nvSpPr>
            <p:spPr>
              <a:xfrm flipH="1">
                <a:off x="7626240" y="4487760"/>
                <a:ext cx="936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263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295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9464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8988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264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7746480" y="4629240"/>
                <a:ext cx="860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696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7248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75074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310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9140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7720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905600" y="4594320"/>
                <a:ext cx="6696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94720" y="4594320"/>
                <a:ext cx="6804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39584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0888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9400" y="463860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475400" y="4594320"/>
                <a:ext cx="6696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738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7872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05640" y="4764240"/>
                <a:ext cx="8424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426440" y="476892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396200" y="4870440"/>
                <a:ext cx="684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5172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786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344080" y="4454640"/>
              <a:ext cx="598320" cy="473040"/>
              <a:chOff x="8344080" y="4454640"/>
              <a:chExt cx="598320" cy="473040"/>
            </a:xfrm>
          </p:grpSpPr>
          <p:sp>
            <p:nvSpPr>
              <p:cNvPr id="291" name=""/>
              <p:cNvSpPr/>
              <p:nvPr/>
            </p:nvSpPr>
            <p:spPr>
              <a:xfrm flipH="1">
                <a:off x="8597520" y="4487760"/>
                <a:ext cx="954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69616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70120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66628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559720" y="4594320"/>
                <a:ext cx="684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79624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871704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686800" y="4729320"/>
                <a:ext cx="684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842320" y="4729320"/>
                <a:ext cx="66600" cy="586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847728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701200" y="4483080"/>
                <a:ext cx="2142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61240" y="4454640"/>
                <a:ext cx="68400" cy="5688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447040" y="4594320"/>
                <a:ext cx="66600" cy="568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875800" y="4594320"/>
                <a:ext cx="66600" cy="5688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766000" y="4594320"/>
                <a:ext cx="66960" cy="568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836568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7872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499600" y="4638600"/>
                <a:ext cx="838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445600" y="4594320"/>
                <a:ext cx="66600" cy="5688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4408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548560" y="4735440"/>
                <a:ext cx="6696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77280" y="476424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8396280" y="476892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367840" y="4870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21560" y="4863960"/>
                <a:ext cx="68400" cy="59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448840" y="4735440"/>
                <a:ext cx="66600" cy="57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735400" y="44132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940240" y="4564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29080" y="469908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35320" y="4843440"/>
              <a:ext cx="1468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37c03"/>
                  </a:solidFill>
                  <a:latin typeface="Chicago"/>
                </a:rPr>
                <a:t>_x0012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3720" y="4370400"/>
              <a:ext cx="7916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Edi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69040" y="2898720"/>
              <a:ext cx="7945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</a:rPr>
                <a:t>Libra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432480" y="3873600"/>
              <a:ext cx="647640" cy="303120"/>
              <a:chOff x="6432480" y="3873600"/>
              <a:chExt cx="647640" cy="303120"/>
            </a:xfrm>
          </p:grpSpPr>
          <p:sp>
            <p:nvSpPr>
              <p:cNvPr id="324" name=""/>
              <p:cNvSpPr/>
              <p:nvPr/>
            </p:nvSpPr>
            <p:spPr>
              <a:xfrm>
                <a:off x="6783480" y="3873600"/>
                <a:ext cx="296640" cy="293760"/>
              </a:xfrm>
              <a:prstGeom prst="upArrow">
                <a:avLst>
                  <a:gd name="adj1" fmla="val 50000"/>
                  <a:gd name="adj2" fmla="val 52028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32480" y="3882960"/>
                <a:ext cx="298440" cy="293760"/>
              </a:xfrm>
              <a:prstGeom prst="downArrow">
                <a:avLst>
                  <a:gd name="adj1" fmla="val 50000"/>
                  <a:gd name="adj2" fmla="val 52037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4338720" y="2664000"/>
              <a:ext cx="136692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WordN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Penman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</a:rPr>
                <a:t>CYC Upper Ontolog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08520" y="2652840"/>
              <a:ext cx="67644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Model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9756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hysi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Objec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9756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c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ausal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66080" y="2320920"/>
              <a:ext cx="12564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Lexicons &amp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Skeleton Ontolog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3640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Comm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78680" y="3062160"/>
              <a:ext cx="677880" cy="4176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Geograph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Terra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78680" y="2652840"/>
              <a:ext cx="677880" cy="41724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&amp; Contex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61000" y="2770200"/>
              <a:ext cx="5205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145120" y="2878200"/>
              <a:ext cx="271440" cy="196920"/>
              <a:chOff x="5145120" y="2878200"/>
              <a:chExt cx="271440" cy="1969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5167080" y="291132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81560" y="2914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00640" y="291924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48440" y="2878200"/>
                <a:ext cx="6660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4988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14512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49960" y="301788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flipH="1">
              <a:off x="4576320" y="2776680"/>
              <a:ext cx="19044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72160" y="2782800"/>
              <a:ext cx="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70360" y="2778120"/>
              <a:ext cx="1796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854600" y="2911320"/>
              <a:ext cx="1000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60800" y="2917800"/>
              <a:ext cx="860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466880" y="291780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81360" y="2921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00440" y="292572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32200" y="2749680"/>
              <a:ext cx="68400" cy="5688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32200" y="2884320"/>
              <a:ext cx="6840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48240" y="2884320"/>
              <a:ext cx="66600" cy="572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17960" y="2884320"/>
              <a:ext cx="66960" cy="572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496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4492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27600" y="3024360"/>
              <a:ext cx="68400" cy="5688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4976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08680" y="3024360"/>
              <a:ext cx="66600" cy="5688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5245200" y="3017880"/>
              <a:ext cx="271440" cy="331920"/>
              <a:chOff x="5245200" y="3017880"/>
              <a:chExt cx="271440" cy="3319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267160" y="3051000"/>
                <a:ext cx="1051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81640" y="305424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00720" y="3059280"/>
                <a:ext cx="8424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48160" y="3017880"/>
                <a:ext cx="66960" cy="572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4996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45200" y="3157560"/>
                <a:ext cx="666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50040" y="3157560"/>
                <a:ext cx="66600" cy="572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81640" y="3186000"/>
                <a:ext cx="8568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5291280" y="31910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48160" y="3157560"/>
                <a:ext cx="66960" cy="57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62480" y="3292560"/>
                <a:ext cx="6840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427720" y="3292560"/>
                <a:ext cx="68040" cy="572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7758000" y="2664000"/>
              <a:ext cx="1368360" cy="811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Ope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Logis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Sensor Manag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Battlefield Situ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</a:rPr>
                <a:t>Command and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69880" y="2319480"/>
              <a:ext cx="1370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Domain-Specif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24320" y="3494160"/>
              <a:ext cx="4811760" cy="287280"/>
            </a:xfrm>
            <a:prstGeom prst="rect">
              <a:avLst/>
            </a:prstGeom>
            <a:solidFill>
              <a:srgbClr val="003530"/>
            </a:solidFill>
            <a:ln w="12600">
              <a:solidFill>
                <a:srgbClr val="c1c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566640"/>
                  <a:tab algn="l" pos="1133640"/>
                  <a:tab algn="l" pos="1700280"/>
                  <a:tab algn="l" pos="2266920"/>
                  <a:tab algn="l" pos="2833560"/>
                  <a:tab algn="l" pos="3400560"/>
                  <a:tab algn="l" pos="3967200"/>
                  <a:tab algn="l" pos="4533840"/>
                  <a:tab algn="l" pos="5100480"/>
                  <a:tab algn="l" pos="5667480"/>
                  <a:tab algn="l" pos="6234120"/>
                  <a:tab algn="l" pos="6800760"/>
                  <a:tab algn="l" pos="7367760"/>
                  <a:tab algn="l" pos="7934400"/>
                  <a:tab algn="l" pos="8501040"/>
                  <a:tab algn="l" pos="9067680"/>
                  <a:tab algn="l" pos="9634680"/>
                  <a:tab algn="l" pos="10201320"/>
                  <a:tab algn="l" pos="1076796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asic Representation Concepts:  Sets, Sequences, Arrays, Quantities, Probabiliti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0" y="2664000"/>
            <a:ext cx="36576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eb interface to a browser/editor at 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</a:rPr>
              <a:t>http://ontolingua.stanford.edu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mirror s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representation is KIF augmented with a frame language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58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OO structuring of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ogies can be translated into other content languages, including KIF, LOOM, Prolog, CLIP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user with fully cross-referenced HTML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1800" y="1386000"/>
            <a:ext cx="3827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Ontolingu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language for building, publishing, and sharing ontolo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514080" y="2082600"/>
            <a:ext cx="8172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a high-level, message-oriented, communication language and protocol for information exchange independent of content syntax and ont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s independ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port mechanism (e.g., tcp/ip, email,  corba objects, IIO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content language (e.g., KIF, SQL, STEP, Prolog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the ontology assumed by the cont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includes primitive message types of particular interest to building interesting agent architectures (e.g., for mediators, facilitators, sharing of inten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928800" y="352440"/>
            <a:ext cx="77436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KQML </a:t>
            </a:r>
            <a:br>
              <a:rPr sz="5400"/>
            </a:b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nowledge Query and Manipulation Language 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8240" y="542880"/>
            <a:ext cx="76075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 KQML Messag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4266720"/>
            <a:ext cx="77342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a singl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speech ac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perform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ask, tell, reply, subscribe, achieve, monitor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n associated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semantics and protocol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list of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attribute/value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:content, :language, :from, :in-reply-to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0" y="1587600"/>
            <a:ext cx="9067680" cy="2298600"/>
            <a:chOff x="0" y="1587600"/>
            <a:chExt cx="9067680" cy="2298600"/>
          </a:xfrm>
        </p:grpSpPr>
        <p:sp>
          <p:nvSpPr>
            <p:cNvPr id="386" name=""/>
            <p:cNvSpPr/>
            <p:nvPr/>
          </p:nvSpPr>
          <p:spPr>
            <a:xfrm>
              <a:off x="2873520" y="1587600"/>
              <a:ext cx="6194160" cy="22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ell 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sender          bhk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receiver       fininB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in-reply-to   id7.24.97.4539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ontolog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ecbk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content   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“price(ISBN3429459,24.95)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905120" y="1778040"/>
              <a:ext cx="1143000" cy="35568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743200"/>
              <a:ext cx="1981440" cy="7632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1969920"/>
              <a:ext cx="213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perform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8600" y="2554200"/>
              <a:ext cx="185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parame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5800" y="3060720"/>
              <a:ext cx="114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00200" y="3276720"/>
              <a:ext cx="3429000" cy="22860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emantics for </a:t>
            </a:r>
            <a:r>
              <a:rPr b="1" i="1" lang="en-US" sz="4000" spc="-1" strike="noStrike">
                <a:solidFill>
                  <a:srgbClr val="ff0033"/>
                </a:solidFill>
                <a:latin typeface="Times New Roman"/>
              </a:rPr>
              <a:t>tell(A,B,X)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05920" y="1956960"/>
            <a:ext cx="6743880" cy="40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“A states to B that A believes X to be true (for A)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A):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 AND know(A,want(B,know(B,S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ay b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(bel(A,X)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B)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end(B,know(B,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A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A,know(B,bel(A,X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B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nt: The completion conditio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conditions hold unless a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orr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err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s B’s inability to properly acknowled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943440" y="3774960"/>
            <a:ext cx="4835880" cy="2389320"/>
            <a:chOff x="3943440" y="3774960"/>
            <a:chExt cx="4835880" cy="2389320"/>
          </a:xfrm>
        </p:grpSpPr>
        <p:sp>
          <p:nvSpPr>
            <p:cNvPr id="404" name=""/>
            <p:cNvSpPr/>
            <p:nvPr/>
          </p:nvSpPr>
          <p:spPr>
            <a:xfrm flipV="1">
              <a:off x="5517360" y="4026600"/>
              <a:ext cx="654480" cy="15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6560" y="3933720"/>
              <a:ext cx="595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eam-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05600" y="412200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60400" y="412200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12720" y="482508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03000" y="5387760"/>
              <a:ext cx="330480" cy="343080"/>
            </a:xfrm>
            <a:prstGeom prst="ellipse">
              <a:avLst/>
            </a:prstGeom>
            <a:solidFill>
              <a:srgbClr val="618ffd"/>
            </a:solidFill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55640" y="412848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78320" y="3842280"/>
              <a:ext cx="33660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78320" y="4427640"/>
              <a:ext cx="33660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89760" y="484380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93000" y="540036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32160" y="5400360"/>
              <a:ext cx="336960" cy="34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49040" y="4294080"/>
              <a:ext cx="150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10880" y="4408560"/>
              <a:ext cx="6548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86480" y="4223880"/>
              <a:ext cx="68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6480" y="4383000"/>
              <a:ext cx="67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45800" y="5034960"/>
              <a:ext cx="13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49040" y="5578560"/>
              <a:ext cx="47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81720" y="5572080"/>
              <a:ext cx="521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34360" y="4014000"/>
              <a:ext cx="1621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515280" y="4478400"/>
              <a:ext cx="164664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0520" y="3836880"/>
              <a:ext cx="3852000" cy="57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41600" y="4097160"/>
              <a:ext cx="400428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6640" y="4186800"/>
              <a:ext cx="825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81400" y="4933800"/>
              <a:ext cx="7365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00480" y="5480640"/>
              <a:ext cx="7236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90000" y="4181040"/>
              <a:ext cx="459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k-a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46520" y="4406760"/>
              <a:ext cx="501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k-i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74600" y="377496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25920" y="3952800"/>
              <a:ext cx="309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97360" y="411732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95560" y="426996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5240" y="444960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14640" y="458964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38760" y="4276440"/>
              <a:ext cx="34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20880" y="4929120"/>
              <a:ext cx="34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68400" y="5472000"/>
              <a:ext cx="34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19480" y="5003640"/>
              <a:ext cx="339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78200" y="545940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54800" y="545292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72920" y="41284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09280" y="390024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13960" y="447048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85880" y="417960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78040" y="4163760"/>
              <a:ext cx="319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49520" y="488592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25680" y="488916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09920" y="5437080"/>
              <a:ext cx="346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10920" y="5451120"/>
              <a:ext cx="41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S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66640" y="5430600"/>
              <a:ext cx="41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R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55760" y="41410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14720" y="4863960"/>
              <a:ext cx="276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05000" y="5425920"/>
              <a:ext cx="346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95280" y="4870080"/>
              <a:ext cx="29232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43440" y="5041800"/>
              <a:ext cx="30006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29560" y="4763520"/>
              <a:ext cx="386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30600" y="5132520"/>
              <a:ext cx="395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or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19560" y="5731200"/>
              <a:ext cx="413640" cy="433080"/>
            </a:xfrm>
            <a:custGeom>
              <a:avLst/>
              <a:gdLst/>
              <a:ahLst/>
              <a:rect l="l" t="t" r="r" b="b"/>
              <a:pathLst>
                <a:path w="521" h="545">
                  <a:moveTo>
                    <a:pt x="88" y="0"/>
                  </a:moveTo>
                  <a:lnTo>
                    <a:pt x="72" y="16"/>
                  </a:lnTo>
                  <a:lnTo>
                    <a:pt x="64" y="32"/>
                  </a:lnTo>
                  <a:lnTo>
                    <a:pt x="56" y="48"/>
                  </a:lnTo>
                  <a:lnTo>
                    <a:pt x="48" y="64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12"/>
                  </a:lnTo>
                  <a:lnTo>
                    <a:pt x="32" y="128"/>
                  </a:lnTo>
                  <a:lnTo>
                    <a:pt x="24" y="144"/>
                  </a:lnTo>
                  <a:lnTo>
                    <a:pt x="16" y="160"/>
                  </a:lnTo>
                  <a:lnTo>
                    <a:pt x="16" y="176"/>
                  </a:lnTo>
                  <a:lnTo>
                    <a:pt x="0" y="208"/>
                  </a:lnTo>
                  <a:lnTo>
                    <a:pt x="0" y="224"/>
                  </a:lnTo>
                  <a:lnTo>
                    <a:pt x="0" y="256"/>
                  </a:lnTo>
                  <a:lnTo>
                    <a:pt x="0" y="272"/>
                  </a:lnTo>
                  <a:lnTo>
                    <a:pt x="0" y="304"/>
                  </a:lnTo>
                  <a:lnTo>
                    <a:pt x="0" y="336"/>
                  </a:lnTo>
                  <a:lnTo>
                    <a:pt x="8" y="352"/>
                  </a:lnTo>
                  <a:lnTo>
                    <a:pt x="8" y="368"/>
                  </a:lnTo>
                  <a:lnTo>
                    <a:pt x="16" y="384"/>
                  </a:lnTo>
                  <a:lnTo>
                    <a:pt x="32" y="416"/>
                  </a:lnTo>
                  <a:lnTo>
                    <a:pt x="64" y="448"/>
                  </a:lnTo>
                  <a:lnTo>
                    <a:pt x="88" y="488"/>
                  </a:lnTo>
                  <a:lnTo>
                    <a:pt x="128" y="512"/>
                  </a:lnTo>
                  <a:lnTo>
                    <a:pt x="144" y="528"/>
                  </a:lnTo>
                  <a:lnTo>
                    <a:pt x="160" y="536"/>
                  </a:lnTo>
                  <a:lnTo>
                    <a:pt x="176" y="536"/>
                  </a:lnTo>
                  <a:lnTo>
                    <a:pt x="192" y="544"/>
                  </a:lnTo>
                  <a:lnTo>
                    <a:pt x="208" y="544"/>
                  </a:lnTo>
                  <a:lnTo>
                    <a:pt x="224" y="544"/>
                  </a:lnTo>
                  <a:lnTo>
                    <a:pt x="248" y="544"/>
                  </a:lnTo>
                  <a:lnTo>
                    <a:pt x="264" y="544"/>
                  </a:lnTo>
                  <a:lnTo>
                    <a:pt x="304" y="544"/>
                  </a:lnTo>
                  <a:lnTo>
                    <a:pt x="336" y="528"/>
                  </a:lnTo>
                  <a:lnTo>
                    <a:pt x="368" y="528"/>
                  </a:lnTo>
                  <a:lnTo>
                    <a:pt x="400" y="496"/>
                  </a:lnTo>
                  <a:lnTo>
                    <a:pt x="416" y="488"/>
                  </a:lnTo>
                  <a:lnTo>
                    <a:pt x="440" y="472"/>
                  </a:lnTo>
                  <a:lnTo>
                    <a:pt x="456" y="464"/>
                  </a:lnTo>
                  <a:lnTo>
                    <a:pt x="472" y="448"/>
                  </a:lnTo>
                  <a:lnTo>
                    <a:pt x="488" y="440"/>
                  </a:lnTo>
                  <a:lnTo>
                    <a:pt x="496" y="424"/>
                  </a:lnTo>
                  <a:lnTo>
                    <a:pt x="504" y="408"/>
                  </a:lnTo>
                  <a:lnTo>
                    <a:pt x="512" y="392"/>
                  </a:lnTo>
                  <a:lnTo>
                    <a:pt x="512" y="376"/>
                  </a:lnTo>
                  <a:lnTo>
                    <a:pt x="512" y="360"/>
                  </a:lnTo>
                  <a:lnTo>
                    <a:pt x="520" y="344"/>
                  </a:lnTo>
                  <a:lnTo>
                    <a:pt x="520" y="328"/>
                  </a:lnTo>
                  <a:lnTo>
                    <a:pt x="520" y="312"/>
                  </a:lnTo>
                  <a:lnTo>
                    <a:pt x="520" y="296"/>
                  </a:lnTo>
                  <a:lnTo>
                    <a:pt x="504" y="256"/>
                  </a:lnTo>
                  <a:lnTo>
                    <a:pt x="504" y="240"/>
                  </a:lnTo>
                  <a:lnTo>
                    <a:pt x="496" y="224"/>
                  </a:lnTo>
                  <a:lnTo>
                    <a:pt x="488" y="208"/>
                  </a:lnTo>
                  <a:lnTo>
                    <a:pt x="480" y="192"/>
                  </a:lnTo>
                  <a:lnTo>
                    <a:pt x="480" y="176"/>
                  </a:lnTo>
                  <a:lnTo>
                    <a:pt x="464" y="160"/>
                  </a:lnTo>
                  <a:lnTo>
                    <a:pt x="456" y="144"/>
                  </a:lnTo>
                  <a:lnTo>
                    <a:pt x="448" y="128"/>
                  </a:lnTo>
                  <a:lnTo>
                    <a:pt x="440" y="112"/>
                  </a:lnTo>
                  <a:lnTo>
                    <a:pt x="432" y="96"/>
                  </a:lnTo>
                  <a:lnTo>
                    <a:pt x="416" y="80"/>
                  </a:lnTo>
                  <a:lnTo>
                    <a:pt x="408" y="64"/>
                  </a:lnTo>
                  <a:lnTo>
                    <a:pt x="392" y="56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14960" y="5937120"/>
              <a:ext cx="317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8396280" y="6164280"/>
            <a:ext cx="595440" cy="541440"/>
          </a:xfrm>
          <a:custGeom>
            <a:avLst/>
            <a:gdLst>
              <a:gd name="textAreaLeft" fmla="*/ 34920 w 595440"/>
              <a:gd name="textAreaRight" fmla="*/ 560520 w 5954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3794"/>
                </a:moveTo>
                <a:lnTo>
                  <a:pt x="18883" y="10800"/>
                </a:lnTo>
                <a:lnTo>
                  <a:pt x="4870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33"/>
                </a:solidFill>
                <a:latin typeface="Times New Roman"/>
              </a:rPr>
              <a:t>Agent Communication</a:t>
            </a:r>
            <a:r>
              <a:rPr b="1" lang="en-US" sz="9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0033"/>
                </a:solidFill>
                <a:latin typeface="Times New Roman"/>
              </a:rPr>
              <a:t>Issues</a:t>
            </a:r>
            <a:endParaRPr b="1" lang="en-US" sz="96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munication Issu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for agent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bout communicating mobile ag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otivate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s good in theory, 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o beli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learning and language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standard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7468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interoperability is a defining characteristic of agents, this is importa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ight be standardiz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communic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interaction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gent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ponent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computational environment and infrastructure in which our agents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communic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level language agents used among agents to communicate information and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interaction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agents follow in agent-agent inter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representation and reasoning languages, libraries of sharable ontologies and domain models used by ag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1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languages designed for or well suited to implementing agents (stationary or mobi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83059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mmunicating mobile agents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ate no serious integration of the mobile agents and (rich) communicating agents paradig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integration is underway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integration of TKQML and Agent-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actical issues need to be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tandard protocols for finding agents and/or forwarding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per issues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ing the trade-offs inherent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go ther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call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a standard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ction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a standard language for communicating and sharing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declarative procedural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Motivating the need for rich ACL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: What will these agents talk ab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The web, stup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7760" y="165240"/>
            <a:ext cx="82486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What’s an agent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71480" y="5778360"/>
            <a:ext cx="6370560" cy="829440"/>
            <a:chOff x="1671480" y="5778360"/>
            <a:chExt cx="6370560" cy="829440"/>
          </a:xfrm>
        </p:grpSpPr>
        <p:grpSp>
          <p:nvGrpSpPr>
            <p:cNvPr id="52" name=""/>
            <p:cNvGrpSpPr/>
            <p:nvPr/>
          </p:nvGrpSpPr>
          <p:grpSpPr>
            <a:xfrm>
              <a:off x="3754080" y="5827320"/>
              <a:ext cx="1581120" cy="778680"/>
              <a:chOff x="3754080" y="5827320"/>
              <a:chExt cx="1581120" cy="778680"/>
            </a:xfrm>
          </p:grpSpPr>
          <p:sp>
            <p:nvSpPr>
              <p:cNvPr id="53" name=""/>
              <p:cNvSpPr/>
              <p:nvPr/>
            </p:nvSpPr>
            <p:spPr>
              <a:xfrm>
                <a:off x="3808080" y="5827320"/>
                <a:ext cx="147312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bje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98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54080" y="6251400"/>
                <a:ext cx="1581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671480" y="5778360"/>
              <a:ext cx="1498320" cy="829440"/>
              <a:chOff x="1671480" y="5778360"/>
              <a:chExt cx="1498320" cy="829440"/>
            </a:xfrm>
          </p:grpSpPr>
          <p:sp>
            <p:nvSpPr>
              <p:cNvPr id="56" name=""/>
              <p:cNvSpPr/>
              <p:nvPr/>
            </p:nvSpPr>
            <p:spPr>
              <a:xfrm>
                <a:off x="1671480" y="5778360"/>
                <a:ext cx="1473120" cy="82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g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99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6680" y="6260760"/>
                <a:ext cx="1473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171760" y="5905080"/>
              <a:ext cx="2870280" cy="696960"/>
              <a:chOff x="5171760" y="5905080"/>
              <a:chExt cx="2870280" cy="696960"/>
            </a:xfrm>
          </p:grpSpPr>
          <p:sp>
            <p:nvSpPr>
              <p:cNvPr id="59" name=""/>
              <p:cNvSpPr/>
              <p:nvPr/>
            </p:nvSpPr>
            <p:spPr>
              <a:xfrm>
                <a:off x="5171760" y="5905080"/>
                <a:ext cx="287028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2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tructur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2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97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97240" y="6300360"/>
                <a:ext cx="1212840" cy="11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33520" y="5883120"/>
              <a:ext cx="422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8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13240" y="5957640"/>
              <a:ext cx="422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8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515240" y="2625840"/>
            <a:ext cx="5664240" cy="2933640"/>
            <a:chOff x="1515240" y="2625840"/>
            <a:chExt cx="5664240" cy="2933640"/>
          </a:xfrm>
        </p:grpSpPr>
        <p:sp>
          <p:nvSpPr>
            <p:cNvPr id="64" name=""/>
            <p:cNvSpPr/>
            <p:nvPr/>
          </p:nvSpPr>
          <p:spPr>
            <a:xfrm>
              <a:off x="1670400" y="5108040"/>
              <a:ext cx="1428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760000">
              <a:off x="3782520" y="4397040"/>
              <a:ext cx="190440" cy="514080"/>
            </a:xfrm>
            <a:prstGeom prst="upArrow">
              <a:avLst>
                <a:gd name="adj1" fmla="val 50000"/>
                <a:gd name="adj2" fmla="val 134959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760000">
              <a:off x="4838760" y="3351960"/>
              <a:ext cx="190080" cy="514080"/>
            </a:xfrm>
            <a:prstGeom prst="downArrow">
              <a:avLst>
                <a:gd name="adj1" fmla="val 50000"/>
                <a:gd name="adj2" fmla="val 135240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760000">
              <a:off x="3618000" y="3555720"/>
              <a:ext cx="514440" cy="190440"/>
            </a:xfrm>
            <a:prstGeom prst="rightArrow">
              <a:avLst>
                <a:gd name="adj1" fmla="val 50000"/>
                <a:gd name="adj2" fmla="val 135079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760000">
              <a:off x="4637520" y="4611240"/>
              <a:ext cx="514440" cy="190080"/>
            </a:xfrm>
            <a:prstGeom prst="leftArrow">
              <a:avLst>
                <a:gd name="adj1" fmla="val 50000"/>
                <a:gd name="adj2" fmla="val 135309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760000">
              <a:off x="3981240" y="3755160"/>
              <a:ext cx="781200" cy="819000"/>
            </a:xfrm>
            <a:custGeom>
              <a:avLst/>
              <a:gdLst>
                <a:gd name="textAreaLeft" fmla="*/ 178200 w 781200"/>
                <a:gd name="textAreaRight" fmla="*/ 603000 w 781200"/>
                <a:gd name="textAreaTop" fmla="*/ 186840 h 819000"/>
                <a:gd name="textAreaBottom" fmla="*/ 6321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72560" y="3034440"/>
              <a:ext cx="1175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Sys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1640" y="4748400"/>
              <a:ext cx="15886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Database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Knowledge 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22520" y="2992320"/>
              <a:ext cx="1245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Retrie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53200" y="4690080"/>
              <a:ext cx="986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Lea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25520" y="400968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g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08840" y="3946680"/>
              <a:ext cx="1070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Cogni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Sci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5640" y="4041000"/>
              <a:ext cx="590400" cy="247680"/>
            </a:xfrm>
            <a:prstGeom prst="leftArrow">
              <a:avLst>
                <a:gd name="adj1" fmla="val 50000"/>
                <a:gd name="adj2" fmla="val 119175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05440" y="4041000"/>
              <a:ext cx="590400" cy="247680"/>
            </a:xfrm>
            <a:prstGeom prst="rightArrow">
              <a:avLst>
                <a:gd name="adj1" fmla="val 50000"/>
                <a:gd name="adj2" fmla="val 119197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45000" y="4033440"/>
              <a:ext cx="6865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I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15240" y="4005360"/>
              <a:ext cx="1692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obile code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Prog. Languag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5433000">
              <a:off x="4175280" y="3269160"/>
              <a:ext cx="514440" cy="190080"/>
            </a:xfrm>
            <a:prstGeom prst="rightArrow">
              <a:avLst>
                <a:gd name="adj1" fmla="val 50000"/>
                <a:gd name="adj2" fmla="val 135334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119600">
              <a:off x="4175280" y="4869360"/>
              <a:ext cx="514440" cy="190080"/>
            </a:xfrm>
            <a:prstGeom prst="rightArrow">
              <a:avLst>
                <a:gd name="adj1" fmla="val 50000"/>
                <a:gd name="adj2" fmla="val 135334"/>
              </a:avLst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35520" y="2625840"/>
              <a:ext cx="88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Sys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36760" y="5284440"/>
              <a:ext cx="567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65000" y="1352520"/>
            <a:ext cx="32068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ent is a powerful and ubiquitous abstraction in computer scien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54800" y="1319040"/>
            <a:ext cx="2850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n emerging system building paradigm (with hyp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Semantic web markup with SHOE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ple HTML Ontology Extens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ed by UMCP PLUS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ological mark-up tags allow the web page author to add semantic knowledge of the page’s co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and sub-regions are the ground object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for classes, relations, attributes, axioms, etc. are also defined on web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URL agent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URL agents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sponsible for, and understand small groups of related web pages and communicate with other agents with similar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RL has an agent which can think, speak, and act fo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614520" y="212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736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43120" y="2355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16280" y="3733920"/>
            <a:ext cx="14349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22560" y="3384720"/>
            <a:ext cx="147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RL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073400" y="1611360"/>
            <a:ext cx="4988160" cy="4997520"/>
          </a:xfrm>
          <a:custGeom>
            <a:avLst/>
            <a:gdLst/>
            <a:ahLst/>
            <a:rect l="l" t="t" r="r" b="b"/>
            <a:pathLst>
              <a:path w="3142" h="3148">
                <a:moveTo>
                  <a:pt x="941" y="133"/>
                </a:moveTo>
                <a:lnTo>
                  <a:pt x="869" y="159"/>
                </a:lnTo>
                <a:lnTo>
                  <a:pt x="832" y="208"/>
                </a:lnTo>
                <a:lnTo>
                  <a:pt x="796" y="245"/>
                </a:lnTo>
                <a:lnTo>
                  <a:pt x="796" y="282"/>
                </a:lnTo>
                <a:lnTo>
                  <a:pt x="783" y="343"/>
                </a:lnTo>
                <a:lnTo>
                  <a:pt x="783" y="404"/>
                </a:lnTo>
                <a:lnTo>
                  <a:pt x="783" y="466"/>
                </a:lnTo>
                <a:lnTo>
                  <a:pt x="783" y="527"/>
                </a:lnTo>
                <a:lnTo>
                  <a:pt x="783" y="588"/>
                </a:lnTo>
                <a:lnTo>
                  <a:pt x="734" y="637"/>
                </a:lnTo>
                <a:lnTo>
                  <a:pt x="673" y="649"/>
                </a:lnTo>
                <a:lnTo>
                  <a:pt x="612" y="674"/>
                </a:lnTo>
                <a:lnTo>
                  <a:pt x="551" y="674"/>
                </a:lnTo>
                <a:lnTo>
                  <a:pt x="489" y="710"/>
                </a:lnTo>
                <a:lnTo>
                  <a:pt x="428" y="735"/>
                </a:lnTo>
                <a:lnTo>
                  <a:pt x="367" y="759"/>
                </a:lnTo>
                <a:lnTo>
                  <a:pt x="306" y="796"/>
                </a:lnTo>
                <a:lnTo>
                  <a:pt x="245" y="796"/>
                </a:lnTo>
                <a:lnTo>
                  <a:pt x="183" y="833"/>
                </a:lnTo>
                <a:lnTo>
                  <a:pt x="122" y="845"/>
                </a:lnTo>
                <a:lnTo>
                  <a:pt x="61" y="882"/>
                </a:lnTo>
                <a:lnTo>
                  <a:pt x="12" y="919"/>
                </a:lnTo>
                <a:lnTo>
                  <a:pt x="0" y="980"/>
                </a:lnTo>
                <a:lnTo>
                  <a:pt x="0" y="1017"/>
                </a:lnTo>
                <a:lnTo>
                  <a:pt x="0" y="1078"/>
                </a:lnTo>
                <a:lnTo>
                  <a:pt x="0" y="1139"/>
                </a:lnTo>
                <a:lnTo>
                  <a:pt x="24" y="1200"/>
                </a:lnTo>
                <a:lnTo>
                  <a:pt x="49" y="1249"/>
                </a:lnTo>
                <a:lnTo>
                  <a:pt x="98" y="1310"/>
                </a:lnTo>
                <a:lnTo>
                  <a:pt x="147" y="1347"/>
                </a:lnTo>
                <a:lnTo>
                  <a:pt x="159" y="1408"/>
                </a:lnTo>
                <a:lnTo>
                  <a:pt x="171" y="1445"/>
                </a:lnTo>
                <a:lnTo>
                  <a:pt x="171" y="1506"/>
                </a:lnTo>
                <a:lnTo>
                  <a:pt x="171" y="1568"/>
                </a:lnTo>
                <a:lnTo>
                  <a:pt x="171" y="1629"/>
                </a:lnTo>
                <a:lnTo>
                  <a:pt x="208" y="1678"/>
                </a:lnTo>
                <a:lnTo>
                  <a:pt x="281" y="1715"/>
                </a:lnTo>
                <a:lnTo>
                  <a:pt x="330" y="1739"/>
                </a:lnTo>
                <a:lnTo>
                  <a:pt x="391" y="1715"/>
                </a:lnTo>
                <a:lnTo>
                  <a:pt x="416" y="1678"/>
                </a:lnTo>
                <a:lnTo>
                  <a:pt x="453" y="1653"/>
                </a:lnTo>
                <a:lnTo>
                  <a:pt x="538" y="1678"/>
                </a:lnTo>
                <a:lnTo>
                  <a:pt x="575" y="1690"/>
                </a:lnTo>
                <a:lnTo>
                  <a:pt x="600" y="1739"/>
                </a:lnTo>
                <a:lnTo>
                  <a:pt x="636" y="1800"/>
                </a:lnTo>
                <a:lnTo>
                  <a:pt x="649" y="1861"/>
                </a:lnTo>
                <a:lnTo>
                  <a:pt x="649" y="1935"/>
                </a:lnTo>
                <a:lnTo>
                  <a:pt x="624" y="1984"/>
                </a:lnTo>
                <a:lnTo>
                  <a:pt x="587" y="2057"/>
                </a:lnTo>
                <a:lnTo>
                  <a:pt x="526" y="2131"/>
                </a:lnTo>
                <a:lnTo>
                  <a:pt x="489" y="2131"/>
                </a:lnTo>
                <a:lnTo>
                  <a:pt x="440" y="2168"/>
                </a:lnTo>
                <a:lnTo>
                  <a:pt x="367" y="2180"/>
                </a:lnTo>
                <a:lnTo>
                  <a:pt x="318" y="2180"/>
                </a:lnTo>
                <a:lnTo>
                  <a:pt x="245" y="2229"/>
                </a:lnTo>
                <a:lnTo>
                  <a:pt x="220" y="2290"/>
                </a:lnTo>
                <a:lnTo>
                  <a:pt x="196" y="2351"/>
                </a:lnTo>
                <a:lnTo>
                  <a:pt x="208" y="2413"/>
                </a:lnTo>
                <a:lnTo>
                  <a:pt x="232" y="2498"/>
                </a:lnTo>
                <a:lnTo>
                  <a:pt x="269" y="2510"/>
                </a:lnTo>
                <a:lnTo>
                  <a:pt x="281" y="2547"/>
                </a:lnTo>
                <a:lnTo>
                  <a:pt x="330" y="2572"/>
                </a:lnTo>
                <a:lnTo>
                  <a:pt x="404" y="2596"/>
                </a:lnTo>
                <a:lnTo>
                  <a:pt x="465" y="2608"/>
                </a:lnTo>
                <a:lnTo>
                  <a:pt x="538" y="2670"/>
                </a:lnTo>
                <a:lnTo>
                  <a:pt x="575" y="2731"/>
                </a:lnTo>
                <a:lnTo>
                  <a:pt x="661" y="2743"/>
                </a:lnTo>
                <a:lnTo>
                  <a:pt x="722" y="2743"/>
                </a:lnTo>
                <a:lnTo>
                  <a:pt x="771" y="2743"/>
                </a:lnTo>
                <a:lnTo>
                  <a:pt x="845" y="2755"/>
                </a:lnTo>
                <a:lnTo>
                  <a:pt x="942" y="2804"/>
                </a:lnTo>
                <a:lnTo>
                  <a:pt x="1004" y="2817"/>
                </a:lnTo>
                <a:lnTo>
                  <a:pt x="1065" y="2841"/>
                </a:lnTo>
                <a:lnTo>
                  <a:pt x="1126" y="2841"/>
                </a:lnTo>
                <a:lnTo>
                  <a:pt x="1187" y="2841"/>
                </a:lnTo>
                <a:lnTo>
                  <a:pt x="1249" y="2841"/>
                </a:lnTo>
                <a:lnTo>
                  <a:pt x="1322" y="2841"/>
                </a:lnTo>
                <a:lnTo>
                  <a:pt x="1383" y="2853"/>
                </a:lnTo>
                <a:lnTo>
                  <a:pt x="1445" y="2902"/>
                </a:lnTo>
                <a:lnTo>
                  <a:pt x="1506" y="2902"/>
                </a:lnTo>
                <a:lnTo>
                  <a:pt x="1530" y="2976"/>
                </a:lnTo>
                <a:lnTo>
                  <a:pt x="1567" y="3000"/>
                </a:lnTo>
                <a:lnTo>
                  <a:pt x="1579" y="3037"/>
                </a:lnTo>
                <a:lnTo>
                  <a:pt x="1616" y="3061"/>
                </a:lnTo>
                <a:lnTo>
                  <a:pt x="1677" y="3110"/>
                </a:lnTo>
                <a:lnTo>
                  <a:pt x="1738" y="3123"/>
                </a:lnTo>
                <a:lnTo>
                  <a:pt x="1812" y="3147"/>
                </a:lnTo>
                <a:lnTo>
                  <a:pt x="1861" y="3147"/>
                </a:lnTo>
                <a:lnTo>
                  <a:pt x="1922" y="3147"/>
                </a:lnTo>
                <a:lnTo>
                  <a:pt x="1996" y="3147"/>
                </a:lnTo>
                <a:lnTo>
                  <a:pt x="2057" y="3135"/>
                </a:lnTo>
                <a:lnTo>
                  <a:pt x="2118" y="3110"/>
                </a:lnTo>
                <a:lnTo>
                  <a:pt x="2167" y="3086"/>
                </a:lnTo>
                <a:lnTo>
                  <a:pt x="2228" y="3074"/>
                </a:lnTo>
                <a:lnTo>
                  <a:pt x="2289" y="3061"/>
                </a:lnTo>
                <a:lnTo>
                  <a:pt x="2351" y="3061"/>
                </a:lnTo>
                <a:lnTo>
                  <a:pt x="2424" y="3061"/>
                </a:lnTo>
                <a:lnTo>
                  <a:pt x="2485" y="3061"/>
                </a:lnTo>
                <a:lnTo>
                  <a:pt x="2534" y="3061"/>
                </a:lnTo>
                <a:lnTo>
                  <a:pt x="2596" y="3049"/>
                </a:lnTo>
                <a:lnTo>
                  <a:pt x="2657" y="3025"/>
                </a:lnTo>
                <a:lnTo>
                  <a:pt x="2730" y="3049"/>
                </a:lnTo>
                <a:lnTo>
                  <a:pt x="2791" y="3061"/>
                </a:lnTo>
                <a:lnTo>
                  <a:pt x="2853" y="3061"/>
                </a:lnTo>
                <a:lnTo>
                  <a:pt x="2914" y="3061"/>
                </a:lnTo>
                <a:lnTo>
                  <a:pt x="2963" y="3061"/>
                </a:lnTo>
                <a:lnTo>
                  <a:pt x="3036" y="3061"/>
                </a:lnTo>
                <a:lnTo>
                  <a:pt x="3098" y="3061"/>
                </a:lnTo>
                <a:lnTo>
                  <a:pt x="3141" y="3061"/>
                </a:lnTo>
                <a:lnTo>
                  <a:pt x="3141" y="3013"/>
                </a:lnTo>
                <a:lnTo>
                  <a:pt x="3101" y="3061"/>
                </a:lnTo>
                <a:lnTo>
                  <a:pt x="3141" y="3061"/>
                </a:lnTo>
                <a:lnTo>
                  <a:pt x="3053" y="3061"/>
                </a:lnTo>
                <a:lnTo>
                  <a:pt x="3122" y="3061"/>
                </a:lnTo>
                <a:lnTo>
                  <a:pt x="3141" y="3000"/>
                </a:lnTo>
                <a:lnTo>
                  <a:pt x="3101" y="2965"/>
                </a:lnTo>
                <a:lnTo>
                  <a:pt x="3141" y="2951"/>
                </a:lnTo>
                <a:lnTo>
                  <a:pt x="3141" y="2890"/>
                </a:lnTo>
                <a:lnTo>
                  <a:pt x="3141" y="2829"/>
                </a:lnTo>
                <a:lnTo>
                  <a:pt x="3141" y="2768"/>
                </a:lnTo>
                <a:lnTo>
                  <a:pt x="3141" y="2706"/>
                </a:lnTo>
                <a:lnTo>
                  <a:pt x="3141" y="2657"/>
                </a:lnTo>
                <a:lnTo>
                  <a:pt x="3141" y="2596"/>
                </a:lnTo>
                <a:lnTo>
                  <a:pt x="3141" y="2535"/>
                </a:lnTo>
                <a:lnTo>
                  <a:pt x="3141" y="2474"/>
                </a:lnTo>
                <a:lnTo>
                  <a:pt x="3141" y="2437"/>
                </a:lnTo>
                <a:lnTo>
                  <a:pt x="3141" y="2388"/>
                </a:lnTo>
                <a:lnTo>
                  <a:pt x="3141" y="2339"/>
                </a:lnTo>
                <a:lnTo>
                  <a:pt x="3141" y="2278"/>
                </a:lnTo>
                <a:lnTo>
                  <a:pt x="3141" y="2229"/>
                </a:lnTo>
                <a:lnTo>
                  <a:pt x="3141" y="2168"/>
                </a:lnTo>
                <a:lnTo>
                  <a:pt x="3141" y="2106"/>
                </a:lnTo>
                <a:lnTo>
                  <a:pt x="3141" y="2045"/>
                </a:lnTo>
                <a:lnTo>
                  <a:pt x="3141" y="1984"/>
                </a:lnTo>
                <a:lnTo>
                  <a:pt x="3141" y="1910"/>
                </a:lnTo>
                <a:lnTo>
                  <a:pt x="3141" y="1861"/>
                </a:lnTo>
                <a:lnTo>
                  <a:pt x="3141" y="1800"/>
                </a:lnTo>
                <a:lnTo>
                  <a:pt x="3141" y="1739"/>
                </a:lnTo>
                <a:lnTo>
                  <a:pt x="3141" y="1666"/>
                </a:lnTo>
                <a:lnTo>
                  <a:pt x="3141" y="1617"/>
                </a:lnTo>
                <a:lnTo>
                  <a:pt x="3141" y="1580"/>
                </a:lnTo>
                <a:lnTo>
                  <a:pt x="3141" y="1531"/>
                </a:lnTo>
                <a:lnTo>
                  <a:pt x="3141" y="1482"/>
                </a:lnTo>
                <a:lnTo>
                  <a:pt x="3141" y="1433"/>
                </a:lnTo>
                <a:lnTo>
                  <a:pt x="3141" y="1372"/>
                </a:lnTo>
                <a:lnTo>
                  <a:pt x="3141" y="1335"/>
                </a:lnTo>
                <a:lnTo>
                  <a:pt x="3141" y="1286"/>
                </a:lnTo>
                <a:lnTo>
                  <a:pt x="3141" y="1237"/>
                </a:lnTo>
                <a:lnTo>
                  <a:pt x="3141" y="1164"/>
                </a:lnTo>
                <a:lnTo>
                  <a:pt x="3141" y="1115"/>
                </a:lnTo>
                <a:lnTo>
                  <a:pt x="3141" y="1053"/>
                </a:lnTo>
                <a:lnTo>
                  <a:pt x="3141" y="1004"/>
                </a:lnTo>
                <a:lnTo>
                  <a:pt x="3141" y="943"/>
                </a:lnTo>
                <a:lnTo>
                  <a:pt x="3141" y="870"/>
                </a:lnTo>
                <a:lnTo>
                  <a:pt x="3141" y="821"/>
                </a:lnTo>
                <a:lnTo>
                  <a:pt x="3141" y="784"/>
                </a:lnTo>
                <a:lnTo>
                  <a:pt x="3141" y="735"/>
                </a:lnTo>
                <a:lnTo>
                  <a:pt x="3141" y="686"/>
                </a:lnTo>
                <a:lnTo>
                  <a:pt x="3141" y="625"/>
                </a:lnTo>
                <a:lnTo>
                  <a:pt x="3141" y="564"/>
                </a:lnTo>
                <a:lnTo>
                  <a:pt x="3141" y="515"/>
                </a:lnTo>
                <a:lnTo>
                  <a:pt x="3141" y="441"/>
                </a:lnTo>
                <a:lnTo>
                  <a:pt x="3141" y="380"/>
                </a:lnTo>
                <a:lnTo>
                  <a:pt x="3141" y="331"/>
                </a:lnTo>
                <a:lnTo>
                  <a:pt x="3141" y="257"/>
                </a:lnTo>
                <a:lnTo>
                  <a:pt x="3141" y="196"/>
                </a:lnTo>
                <a:lnTo>
                  <a:pt x="3141" y="135"/>
                </a:lnTo>
                <a:lnTo>
                  <a:pt x="3141" y="74"/>
                </a:lnTo>
                <a:lnTo>
                  <a:pt x="3141" y="13"/>
                </a:lnTo>
                <a:lnTo>
                  <a:pt x="3098" y="0"/>
                </a:lnTo>
                <a:lnTo>
                  <a:pt x="3061" y="0"/>
                </a:lnTo>
                <a:lnTo>
                  <a:pt x="3000" y="0"/>
                </a:lnTo>
                <a:lnTo>
                  <a:pt x="2938" y="37"/>
                </a:lnTo>
                <a:lnTo>
                  <a:pt x="2877" y="61"/>
                </a:lnTo>
                <a:lnTo>
                  <a:pt x="2853" y="98"/>
                </a:lnTo>
                <a:lnTo>
                  <a:pt x="2816" y="123"/>
                </a:lnTo>
                <a:lnTo>
                  <a:pt x="2755" y="147"/>
                </a:lnTo>
                <a:lnTo>
                  <a:pt x="2693" y="147"/>
                </a:lnTo>
                <a:lnTo>
                  <a:pt x="2632" y="110"/>
                </a:lnTo>
                <a:lnTo>
                  <a:pt x="2571" y="74"/>
                </a:lnTo>
                <a:lnTo>
                  <a:pt x="2510" y="61"/>
                </a:lnTo>
                <a:lnTo>
                  <a:pt x="2473" y="61"/>
                </a:lnTo>
                <a:lnTo>
                  <a:pt x="2436" y="49"/>
                </a:lnTo>
                <a:lnTo>
                  <a:pt x="2375" y="25"/>
                </a:lnTo>
                <a:lnTo>
                  <a:pt x="2302" y="25"/>
                </a:lnTo>
                <a:lnTo>
                  <a:pt x="2265" y="13"/>
                </a:lnTo>
                <a:lnTo>
                  <a:pt x="2204" y="13"/>
                </a:lnTo>
                <a:lnTo>
                  <a:pt x="2142" y="13"/>
                </a:lnTo>
                <a:lnTo>
                  <a:pt x="2081" y="13"/>
                </a:lnTo>
                <a:lnTo>
                  <a:pt x="2008" y="37"/>
                </a:lnTo>
                <a:lnTo>
                  <a:pt x="1947" y="61"/>
                </a:lnTo>
                <a:lnTo>
                  <a:pt x="1885" y="86"/>
                </a:lnTo>
                <a:lnTo>
                  <a:pt x="1824" y="98"/>
                </a:lnTo>
                <a:lnTo>
                  <a:pt x="1763" y="98"/>
                </a:lnTo>
                <a:lnTo>
                  <a:pt x="1702" y="74"/>
                </a:lnTo>
                <a:lnTo>
                  <a:pt x="1653" y="61"/>
                </a:lnTo>
                <a:lnTo>
                  <a:pt x="1579" y="25"/>
                </a:lnTo>
                <a:lnTo>
                  <a:pt x="1518" y="13"/>
                </a:lnTo>
                <a:lnTo>
                  <a:pt x="1457" y="13"/>
                </a:lnTo>
                <a:lnTo>
                  <a:pt x="1396" y="13"/>
                </a:lnTo>
                <a:lnTo>
                  <a:pt x="1347" y="37"/>
                </a:lnTo>
                <a:lnTo>
                  <a:pt x="1285" y="61"/>
                </a:lnTo>
                <a:lnTo>
                  <a:pt x="1224" y="86"/>
                </a:lnTo>
                <a:lnTo>
                  <a:pt x="1163" y="86"/>
                </a:lnTo>
                <a:lnTo>
                  <a:pt x="1102" y="86"/>
                </a:lnTo>
                <a:lnTo>
                  <a:pt x="1040" y="98"/>
                </a:lnTo>
                <a:lnTo>
                  <a:pt x="979" y="110"/>
                </a:lnTo>
                <a:lnTo>
                  <a:pt x="918" y="147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835400" y="19591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40360" y="320040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45280" y="464832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88080" y="533412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6680" y="495288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94240" y="2766960"/>
            <a:ext cx="114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96040" y="4976640"/>
            <a:ext cx="132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68960" y="38098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49840" y="42670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06840" y="37339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02280" y="30481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92640" y="42670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68960" y="26668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97560" y="19810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59680" y="1752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107040" y="457200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02480" y="23623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35640" y="228600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26360" y="1752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69160" y="1981080"/>
            <a:ext cx="291960" cy="292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83360" y="27432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97760" y="25146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92840" y="28954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35640" y="35053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83560" y="24382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697960" y="1752480"/>
            <a:ext cx="291960" cy="292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402680" y="2895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45480" y="34290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54960" y="33526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88480" y="27432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26360" y="38862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54760" y="38098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88280" y="39625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69160" y="45720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469360" y="52578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97560" y="563868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357720" y="3422520"/>
            <a:ext cx="16761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3357360" y="4336560"/>
            <a:ext cx="1981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3204720" y="4336920"/>
            <a:ext cx="16765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357720" y="4336560"/>
            <a:ext cx="17524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31080" y="57150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92840" y="617220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11960" y="487692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59480" y="28954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402680" y="59436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554960" y="44956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240760" y="3505320"/>
            <a:ext cx="29196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07240" y="51814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64440" y="5867280"/>
            <a:ext cx="29232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88280" y="5638680"/>
            <a:ext cx="291960" cy="2923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164440" y="41911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21640" y="2590920"/>
            <a:ext cx="29232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45480" y="5257800"/>
            <a:ext cx="291960" cy="2919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8280" y="2889000"/>
            <a:ext cx="5028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3600" y="374760"/>
            <a:ext cx="18284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7520" y="1822320"/>
            <a:ext cx="5105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98760" y="1946160"/>
            <a:ext cx="647676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621640" y="4876920"/>
            <a:ext cx="29232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40760" y="4952880"/>
            <a:ext cx="291960" cy="292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621640" y="3962520"/>
            <a:ext cx="29232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13600" y="4648320"/>
            <a:ext cx="292320" cy="2919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57520" y="1974960"/>
            <a:ext cx="685800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7520" y="1974960"/>
            <a:ext cx="624816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57520" y="1822320"/>
            <a:ext cx="65530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757520" y="1822320"/>
            <a:ext cx="693396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28880" y="3975120"/>
            <a:ext cx="216000" cy="2919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28880" y="3898800"/>
            <a:ext cx="216000" cy="1396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79560" y="4029120"/>
            <a:ext cx="60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6080" y="1600200"/>
            <a:ext cx="1434960" cy="5968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1280" y="1289160"/>
            <a:ext cx="147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RL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6840" y="1892160"/>
            <a:ext cx="215640" cy="2923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6840" y="1816200"/>
            <a:ext cx="215640" cy="1396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7520" y="1946160"/>
            <a:ext cx="60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96120" y="1266840"/>
            <a:ext cx="114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URL Agents speak for one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or more related web page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Exampl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30400" y="2174760"/>
            <a:ext cx="49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uisite: CMSC 2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Prereq”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=“http:// ....#CMSC-202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ll :to urla4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from spider387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ntent “(prereq CS-341 CS-202)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:ontology “http://…/courseontology.html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:language K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9160" y="1523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WW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64560" y="17175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hoe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1120" y="5619600"/>
            <a:ext cx="25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QML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nt to UR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93800" y="1752480"/>
            <a:ext cx="882720" cy="42228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800240" y="2174760"/>
            <a:ext cx="2149560" cy="110196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376280" y="4648320"/>
            <a:ext cx="986040" cy="97920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Course Ontology</a:t>
            </a:r>
            <a:endParaRPr b="1" lang="en-US" sz="5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205740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OLOGY ”course-ontology" VERSION=”2.5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OLOGY-EXTENDS ”meeting-ontology"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="2.1" PREFIX=”mtg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="http://onto.org/mtg/2.1/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CATEGORY=”course" ISA=”mtg.periodic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RELATION=”frequency" ARGS=”course timeinterval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RELATION=”hasPrereq" ARGS=”course course"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DEF INFER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NTIF RELATION=“hasPrereq” 1=“a” 2=“b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&lt;ONTIF RELATION=“chainPrereq” 1=“b” 2=“c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&lt;ONTTHEN RELATION=“chainPrereq” 1=“a” 2=“c”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NTDE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NTOLOGY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701880" y="2800440"/>
            <a:ext cx="1740240" cy="520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351160" y="3882960"/>
            <a:ext cx="5103720" cy="743040"/>
            <a:chOff x="2351160" y="3882960"/>
            <a:chExt cx="5103720" cy="743040"/>
          </a:xfrm>
        </p:grpSpPr>
        <p:grpSp>
          <p:nvGrpSpPr>
            <p:cNvPr id="576" name=""/>
            <p:cNvGrpSpPr/>
            <p:nvPr/>
          </p:nvGrpSpPr>
          <p:grpSpPr>
            <a:xfrm>
              <a:off x="2351160" y="3882960"/>
              <a:ext cx="571320" cy="743040"/>
              <a:chOff x="2351160" y="3882960"/>
              <a:chExt cx="571320" cy="743040"/>
            </a:xfrm>
          </p:grpSpPr>
          <p:sp>
            <p:nvSpPr>
              <p:cNvPr id="577" name=""/>
              <p:cNvSpPr/>
              <p:nvPr/>
            </p:nvSpPr>
            <p:spPr>
              <a:xfrm>
                <a:off x="235116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36700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3494160" y="3882960"/>
              <a:ext cx="571320" cy="743040"/>
              <a:chOff x="3494160" y="3882960"/>
              <a:chExt cx="571320" cy="743040"/>
            </a:xfrm>
          </p:grpSpPr>
          <p:sp>
            <p:nvSpPr>
              <p:cNvPr id="580" name=""/>
              <p:cNvSpPr/>
              <p:nvPr/>
            </p:nvSpPr>
            <p:spPr>
              <a:xfrm>
                <a:off x="349416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1000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425840" y="3882960"/>
              <a:ext cx="571680" cy="743040"/>
              <a:chOff x="4425840" y="3882960"/>
              <a:chExt cx="571680" cy="743040"/>
            </a:xfrm>
          </p:grpSpPr>
          <p:sp>
            <p:nvSpPr>
              <p:cNvPr id="583" name=""/>
              <p:cNvSpPr/>
              <p:nvPr/>
            </p:nvSpPr>
            <p:spPr>
              <a:xfrm>
                <a:off x="4425840" y="3882960"/>
                <a:ext cx="57168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4204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5683320" y="3882960"/>
              <a:ext cx="571320" cy="743040"/>
              <a:chOff x="5683320" y="3882960"/>
              <a:chExt cx="571320" cy="743040"/>
            </a:xfrm>
          </p:grpSpPr>
          <p:sp>
            <p:nvSpPr>
              <p:cNvPr id="586" name=""/>
              <p:cNvSpPr/>
              <p:nvPr/>
            </p:nvSpPr>
            <p:spPr>
              <a:xfrm>
                <a:off x="568332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69916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883560" y="3882960"/>
              <a:ext cx="571320" cy="743040"/>
              <a:chOff x="6883560" y="3882960"/>
              <a:chExt cx="571320" cy="743040"/>
            </a:xfrm>
          </p:grpSpPr>
          <p:sp>
            <p:nvSpPr>
              <p:cNvPr id="589" name=""/>
              <p:cNvSpPr/>
              <p:nvPr/>
            </p:nvSpPr>
            <p:spPr>
              <a:xfrm>
                <a:off x="6883560" y="3882960"/>
                <a:ext cx="571320" cy="743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99400" y="3935520"/>
                <a:ext cx="483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CMSC 20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Now is the time for al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good men to come t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aid of the country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The quick brown fo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jumped over the laz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og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foo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axiom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foo bar mumbl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200" spc="-1" strike="noStrike">
                    <a:solidFill>
                      <a:srgbClr val="ff3300"/>
                    </a:solidFill>
                    <a:latin typeface="Times New Roman"/>
                  </a:rPr>
                  <a:t>&lt;relation meettime ba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1" name=""/>
          <p:cNvGrpSpPr/>
          <p:nvPr/>
        </p:nvGrpSpPr>
        <p:grpSpPr>
          <a:xfrm>
            <a:off x="6959520" y="5788080"/>
            <a:ext cx="571680" cy="743040"/>
            <a:chOff x="6959520" y="5788080"/>
            <a:chExt cx="571680" cy="743040"/>
          </a:xfrm>
        </p:grpSpPr>
        <p:sp>
          <p:nvSpPr>
            <p:cNvPr id="592" name=""/>
            <p:cNvSpPr/>
            <p:nvPr/>
          </p:nvSpPr>
          <p:spPr>
            <a:xfrm>
              <a:off x="6959520" y="5788080"/>
              <a:ext cx="57168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72480" y="5840280"/>
              <a:ext cx="483480" cy="5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CMSC 2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quick brown fo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jumped over the laz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dog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69240" y="3887640"/>
            <a:ext cx="1626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page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mantic mark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427120" y="5788080"/>
            <a:ext cx="571680" cy="743040"/>
            <a:chOff x="2427120" y="5788080"/>
            <a:chExt cx="571680" cy="743040"/>
          </a:xfrm>
        </p:grpSpPr>
        <p:sp>
          <p:nvSpPr>
            <p:cNvPr id="596" name=""/>
            <p:cNvSpPr/>
            <p:nvPr/>
          </p:nvSpPr>
          <p:spPr>
            <a:xfrm>
              <a:off x="2427120" y="5788080"/>
              <a:ext cx="57168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41880" y="5840280"/>
              <a:ext cx="48348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CMSC 2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quick brown fo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jumped over the laz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dog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V="1">
            <a:off x="2666880" y="4800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49400" y="6019920"/>
            <a:ext cx="137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w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438280" y="5181480"/>
            <a:ext cx="457200" cy="381240"/>
          </a:xfrm>
          <a:prstGeom prst="roundRect">
            <a:avLst>
              <a:gd name="adj" fmla="val 12495"/>
            </a:avLst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48680" y="5106960"/>
            <a:ext cx="13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kup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315200" y="4800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448400" y="5030640"/>
            <a:ext cx="1378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kup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679160" y="6095880"/>
            <a:ext cx="137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w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666880" y="3276360"/>
            <a:ext cx="11430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809880" y="327636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4571640" y="3277800"/>
            <a:ext cx="22860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5105520" y="327636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5409720" y="3200040"/>
            <a:ext cx="17528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95560" y="2895480"/>
            <a:ext cx="1352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rob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61440" y="1222200"/>
            <a:ext cx="2610360" cy="822600"/>
            <a:chOff x="361440" y="1222200"/>
            <a:chExt cx="2610360" cy="822600"/>
          </a:xfrm>
        </p:grpSpPr>
        <p:sp>
          <p:nvSpPr>
            <p:cNvPr id="612" name=""/>
            <p:cNvSpPr/>
            <p:nvPr/>
          </p:nvSpPr>
          <p:spPr>
            <a:xfrm>
              <a:off x="2286000" y="16002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86000" y="18288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1440" y="1222200"/>
              <a:ext cx="1963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ueries and reques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rom other ag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 KQ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473280" y="1225440"/>
            <a:ext cx="2197440" cy="1282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63800" y="1663560"/>
            <a:ext cx="16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54240" y="1225440"/>
            <a:ext cx="368280" cy="1282680"/>
          </a:xfrm>
          <a:prstGeom prst="rect">
            <a:avLst/>
          </a:prstGeom>
          <a:solidFill>
            <a:srgbClr val="0000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6200000">
            <a:off x="2661840" y="1673280"/>
            <a:ext cx="1225800" cy="33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QML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36320" y="22082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95800" y="2800440"/>
            <a:ext cx="368280" cy="520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20920" y="2900520"/>
            <a:ext cx="54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KQ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666880" y="304812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666880" y="236196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66880" y="23623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1640" y="2443320"/>
            <a:ext cx="23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mantic information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ocal web pages in KQ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683320" y="5788080"/>
            <a:ext cx="571320" cy="743040"/>
            <a:chOff x="5683320" y="5788080"/>
            <a:chExt cx="571320" cy="743040"/>
          </a:xfrm>
        </p:grpSpPr>
        <p:sp>
          <p:nvSpPr>
            <p:cNvPr id="627" name=""/>
            <p:cNvSpPr/>
            <p:nvPr/>
          </p:nvSpPr>
          <p:spPr>
            <a:xfrm>
              <a:off x="5683320" y="5788080"/>
              <a:ext cx="57132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97720" y="5840280"/>
              <a:ext cx="48348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CMSC 2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quick brown fo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jumped over the laz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dog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 flipV="1">
            <a:off x="5923080" y="4800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05240" y="6019920"/>
            <a:ext cx="137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w web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94480" y="5181480"/>
            <a:ext cx="457200" cy="3812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203720" y="5030640"/>
            <a:ext cx="1467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kup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ia SH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abled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062840" y="855720"/>
            <a:ext cx="571320" cy="748800"/>
            <a:chOff x="7062840" y="855720"/>
            <a:chExt cx="571320" cy="748800"/>
          </a:xfrm>
        </p:grpSpPr>
        <p:sp>
          <p:nvSpPr>
            <p:cNvPr id="635" name=""/>
            <p:cNvSpPr/>
            <p:nvPr/>
          </p:nvSpPr>
          <p:spPr>
            <a:xfrm>
              <a:off x="7062840" y="855720"/>
              <a:ext cx="57132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75080" y="908280"/>
              <a:ext cx="51840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107120" y="2048040"/>
            <a:ext cx="571320" cy="748800"/>
            <a:chOff x="7107120" y="2048040"/>
            <a:chExt cx="571320" cy="748800"/>
          </a:xfrm>
        </p:grpSpPr>
        <p:sp>
          <p:nvSpPr>
            <p:cNvPr id="638" name=""/>
            <p:cNvSpPr/>
            <p:nvPr/>
          </p:nvSpPr>
          <p:spPr>
            <a:xfrm>
              <a:off x="7107120" y="2048040"/>
              <a:ext cx="571320" cy="743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19360" y="2100600"/>
              <a:ext cx="51840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Now is the time for al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good men to come to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the aid of the country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foo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axiom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foo bar mumble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200" spc="-1" strike="noStrike">
                  <a:solidFill>
                    <a:srgbClr val="ff3300"/>
                  </a:solidFill>
                  <a:latin typeface="Times New Roman"/>
                </a:rPr>
                <a:t>&lt;relation meettime bar&gt;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 flipH="1">
            <a:off x="5491080" y="1397160"/>
            <a:ext cx="1392480" cy="156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491080" y="2443320"/>
            <a:ext cx="1571760" cy="604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714080" y="1663560"/>
            <a:ext cx="13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erenc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0"/>
            <a:ext cx="77724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urlAgent Prototyp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unds good in theory, but...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, so there are there any good examples of this stuff outside the 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“too much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theoretical, too academic, too hard to marke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build on emerging “acceptable” standar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s CORBA, XML, ActiveX, MCF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Microsoft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Who to believ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ll of these agents telling each other things, how does an individual agent decide how to update its own belief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7400" indent="-327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ediate pragmatic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and privacy rel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ion of certificates and related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7400" indent="-327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-term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may need to develop a “web of trust” at the epistemolog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Language learning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nd evolution</a:t>
            </a:r>
            <a:br>
              <a:rPr sz="4400"/>
            </a:b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lots of hard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agents track changing AC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achieve consensus on ont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agents resolve ontological differ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agents track evolving ont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knowledge spread through communities of 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roughly solved in communities of human agents, although sometimes by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0" y="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33"/>
                </a:solidFill>
                <a:latin typeface="Times New Roman"/>
              </a:rPr>
              <a:t>Conclusion</a:t>
            </a:r>
            <a:endParaRPr b="1" lang="en-US" sz="117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What’s a software agent? 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3840" y="1912680"/>
            <a:ext cx="4014720" cy="448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sensus yet, but several key concepts are important to this emerging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ftware ag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autonomous, goal-directe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ituated in, is aware of, and reacts to it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es with other agents (software or human) to accomplish its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138560" y="2286000"/>
            <a:ext cx="472284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Some key ideas</a:t>
            </a:r>
            <a:endParaRPr b="1" lang="en-US" sz="4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agents offer a new paradigm for very large scale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</a:rPr>
              <a:t>distributed heterogeneous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digm focuses on the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</a:rPr>
              <a:t>inter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utonomous, cooperating processes which can adapt to humans and other ag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ommunic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f central importance, espec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agent communication 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ontolo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pplication 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agent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digm i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till fo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Referenc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 Scott Cost, T. Finin, J. Lakhani, E. Miller, C. K. Nicholas and I. Soboroff, 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</a:rPr>
              <a:t>Developing communicating software agents in T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4th International Workshop on Agent Theories, Architectures, and Languages, Providence, July, 19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. Labrou and T. Finin, "Semantics and Conversations for an Agent Communication Language", in "Readings in Agents", M. Huhns and M. Singh (eds), Morgan Kaufmann, 1997. (also in Proc. IJCAI-97). &lt;http://kqml.org/papers/ijcai97.p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 Finin, Y. Labrou, and J. Mayfield, "KQML as an agent communication language", invited chapter in J. Bradshaw (Ed.), ``Software Agents'', MIT Press, Cambridge, (1997). &lt;http://www.cs.umbc.edu/lait/papers/kqml-acl.p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. Luke, L. Spector, D. Rager, and J. Hendler, Ontology-based Web Agents,  Proc. 1st Int. Conference on Autonomous Agents, 1997. &lt;http://www.cs.umd.edu/projects/plus/SHOE/aa-paper.p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F page: http://www.cs.umbc.edu/kif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QML page: http://www.cs.umbc.edu/kif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ingua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ttp://ontolingua.stanford.edu/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33"/>
                </a:solidFill>
                <a:latin typeface="Times New Roman"/>
              </a:rPr>
              <a:t>Backup</a:t>
            </a:r>
            <a:endParaRPr b="1" lang="en-US" sz="11700" spc="-1" strike="noStrike">
              <a:solidFill>
                <a:srgbClr val="ff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0000" y="547560"/>
            <a:ext cx="865836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KIF Syntax and Semantic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69600" y="1896840"/>
            <a:ext cx="7816680" cy="36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ersion of first order predicate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list-based linear ASCII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(forall ?x (=&gt; (P ?x) (Q ?x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theoretic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omatic specification of large function and relation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vocabulary for numbers, sets, an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1" action="ppaction://hlinksldjump"/>
          </p:cNvPr>
          <p:cNvSpPr/>
          <p:nvPr/>
        </p:nvSpPr>
        <p:spPr>
          <a:xfrm>
            <a:off x="0" y="6095880"/>
            <a:ext cx="900000" cy="76212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506" h="21600">
                <a:moveTo>
                  <a:pt x="0" y="0"/>
                </a:moveTo>
                <a:lnTo>
                  <a:pt x="25506" y="0"/>
                </a:lnTo>
                <a:lnTo>
                  <a:pt x="25506" y="21600"/>
                </a:lnTo>
                <a:lnTo>
                  <a:pt x="0" y="21600"/>
                </a:lnTo>
                <a:close/>
              </a:path>
              <a:path fill="lightenLess" w="25506" h="21600">
                <a:moveTo>
                  <a:pt x="0" y="0"/>
                </a:moveTo>
                <a:lnTo>
                  <a:pt x="25506" y="0"/>
                </a:lnTo>
                <a:lnTo>
                  <a:pt x="24106" y="1400"/>
                </a:lnTo>
                <a:lnTo>
                  <a:pt x="1400" y="1400"/>
                </a:lnTo>
                <a:close/>
              </a:path>
              <a:path fill="darken" w="25506" h="21600">
                <a:moveTo>
                  <a:pt x="25506" y="0"/>
                </a:moveTo>
                <a:lnTo>
                  <a:pt x="25506" y="21600"/>
                </a:lnTo>
                <a:lnTo>
                  <a:pt x="24106" y="20200"/>
                </a:lnTo>
                <a:lnTo>
                  <a:pt x="24106" y="1400"/>
                </a:lnTo>
                <a:close/>
              </a:path>
              <a:path fill="darkenLess" w="25506" h="21600">
                <a:moveTo>
                  <a:pt x="25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06" y="20200"/>
                </a:lnTo>
                <a:close/>
              </a:path>
              <a:path fill="lighten" w="25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06" h="21600">
                <a:moveTo>
                  <a:pt x="5746" y="10800"/>
                </a:moveTo>
                <a:lnTo>
                  <a:pt x="19759" y="3794"/>
                </a:lnTo>
                <a:lnTo>
                  <a:pt x="19759" y="17806"/>
                </a:lnTo>
                <a:close/>
              </a:path>
            </a:pathLst>
          </a:cu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560" y="247320"/>
            <a:ext cx="892476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KSE Methodology</a:t>
            </a:r>
            <a:br>
              <a:rPr sz="48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for developing agent-based systems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20880" y="1854360"/>
            <a:ext cx="76136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/construct necessary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tandard,  published ontologies if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(and publish) new components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mon tools, e.g.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Ontolingu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GF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ose common representation language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QL or KBMS with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</a:rPr>
              <a:t>K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a recommended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n ACL like 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KQM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s communic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 with new performatives and protocols 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fc0128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and define new higher-level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for negotiation, purchasing, catalog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architectur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SRI’s OO and KQML’s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specify  agents and protocols which provide standar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200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servers, brokers, authenticators, certification, logging, visualizatio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self configuring and 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work over a wide range of scales (10s to 1000s of ag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support interoperability among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200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different implementation languages, representation languages, reasoning algorithms, platform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encourage “online plug-and-play of agents &amp; peop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200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human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have lightweight implementations and work in a variety of environ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200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 PCs, Workstations, PD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640" indent="-197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distributed, network-centric and multi-thre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communication languag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: KQML, ARCOL, SATP,  AgentTalk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lingua franc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support modeling of human interactions and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for the HCI  (e.g., “logical form” meaning repres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semantically well-fo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consistent with the underlying communication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work with a varie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compatible with current programming languages an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interaction protocol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3600" y="2031480"/>
            <a:ext cx="774684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ad hoc techniques based on rules or FSA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published protocols for agent-agent and agent-human inte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the specification for good agent “citizenship” in the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have a sound theoretical basis, consistent with the agent communica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support compilation into executable specific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knowledge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23600" y="2006640"/>
            <a:ext cx="7746840" cy="28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information and knowledge will require common representation languages and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can be facilitated by the use of common KR languages or via 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nterlingu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, KI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ontologies and reference domain models are 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rId1" action="ppaction://hlinksldjump"/>
          </p:cNvPr>
          <p:cNvSpPr/>
          <p:nvPr/>
        </p:nvSpPr>
        <p:spPr>
          <a:xfrm>
            <a:off x="0" y="6172200"/>
            <a:ext cx="723960" cy="685800"/>
          </a:xfrm>
          <a:custGeom>
            <a:avLst/>
            <a:gdLst>
              <a:gd name="textAreaLeft" fmla="*/ 44280 w 723960"/>
              <a:gd name="textAreaRight" fmla="*/ 679680 w 723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801" h="21600">
                <a:moveTo>
                  <a:pt x="0" y="0"/>
                </a:moveTo>
                <a:lnTo>
                  <a:pt x="22801" y="0"/>
                </a:lnTo>
                <a:lnTo>
                  <a:pt x="22801" y="21600"/>
                </a:lnTo>
                <a:lnTo>
                  <a:pt x="0" y="21600"/>
                </a:lnTo>
                <a:close/>
              </a:path>
              <a:path fill="lightenLess" w="22801" h="21600">
                <a:moveTo>
                  <a:pt x="0" y="0"/>
                </a:moveTo>
                <a:lnTo>
                  <a:pt x="22801" y="0"/>
                </a:lnTo>
                <a:lnTo>
                  <a:pt x="21401" y="1400"/>
                </a:lnTo>
                <a:lnTo>
                  <a:pt x="1400" y="1400"/>
                </a:lnTo>
                <a:close/>
              </a:path>
              <a:path fill="darken" w="22801" h="21600">
                <a:moveTo>
                  <a:pt x="22801" y="0"/>
                </a:moveTo>
                <a:lnTo>
                  <a:pt x="22801" y="21600"/>
                </a:lnTo>
                <a:lnTo>
                  <a:pt x="21401" y="20200"/>
                </a:lnTo>
                <a:lnTo>
                  <a:pt x="21401" y="1400"/>
                </a:lnTo>
                <a:close/>
              </a:path>
              <a:path fill="darkenLess" w="22801" h="21600">
                <a:moveTo>
                  <a:pt x="22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01" y="20200"/>
                </a:lnTo>
                <a:close/>
              </a:path>
              <a:path fill="lighten" w="22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01" h="21600">
                <a:moveTo>
                  <a:pt x="4394" y="10800"/>
                </a:moveTo>
                <a:lnTo>
                  <a:pt x="18407" y="3794"/>
                </a:lnTo>
                <a:lnTo>
                  <a:pt x="18407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Do we really need semantics for an ACL?</a:t>
            </a:r>
            <a:endParaRPr b="1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2055960"/>
            <a:ext cx="7925040" cy="35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no complete semantic accounts for ACLs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QML has been criticized for its lack of seman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L Semantics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with the process of standardization and agreement between implemen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framework for defining new primi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 inferencing based on the message ex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Agent Communication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Cooper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in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ent-agent communication is the key to realizing the potential of the agent paradigm, just as the development of human language was a key to the development of human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ssume that agents use 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Agent Communication Languag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ACL to communication information and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sereth (CACM, 92) defined a software agent as any system which uses an ACL to exchang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So, what do we mean by “semantics”?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semantics is the process of ascribing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lai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cribing the state of an agent before sending a 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and after receiving it is a useful basis for ascribing meaning to the communication primi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wo-step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gents’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a  language to describe agents’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39200" y="456840"/>
            <a:ext cx="7915320" cy="11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What constitutes the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emantic  Description?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84240" y="2943000"/>
            <a:ext cx="7370640" cy="29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Languag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Description of the NL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re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ostcond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Completio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9360" y="2224080"/>
            <a:ext cx="816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emantic description is the sum of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82440" y="37908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describing agents’ states?</a:t>
            </a:r>
            <a:endParaRPr b="1" lang="en-US" sz="4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28880" y="1873080"/>
            <a:ext cx="708660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 state  descriptions  refer to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tal at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, belief, intention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1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have happened or will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How to describe agents’ states?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14080" y="1560600"/>
            <a:ext cx="750564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bel(A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is an expression in A’s Knowledge Base or Virtual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know(A,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knowled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hat a mental state description (or action)  holds (or has occur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ant(A,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des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an action (or state) S to occur (to become tr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intend(A,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nten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, i.e., A has the intention of doing S and thus is committed towards achieving 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proc(A,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s to the action of A processing message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sendMSG(A,B,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ion of A sending the message M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5927760"/>
            <a:ext cx="4359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arguments of the attitudes  are e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propositions (P),  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state descriptions 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01280" y="75996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mental attitudes (I)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75880" y="2131920"/>
            <a:ext cx="7658280" cy="419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25360" indent="-22536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bel(A,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1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ition P exists in the KB or can be proven true (some “turnsti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know(A,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132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gent can know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that (not what) it believes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a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pro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132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know a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132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that has been communicated to it (a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e occurrence of a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1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now(A,bel(A,P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fine but not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now(A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01280" y="75996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mental attitudes (II)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557080"/>
            <a:ext cx="7539120" cy="31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ant(A,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gent ca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me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gent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m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intend(A,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gent ca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me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gent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some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f which it is the agent)  to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emantics for  </a:t>
            </a:r>
            <a:r>
              <a:rPr b="1" lang="en-US" sz="4400" spc="-1" strike="noStrike">
                <a:solidFill>
                  <a:srgbClr val="3333cc"/>
                </a:solidFill>
                <a:latin typeface="Arial Narrow"/>
              </a:rPr>
              <a:t>TELL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18680" y="1841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LL(A,B,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ates to B that A believes X to be true (for 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A):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 AND know(A,want(B,know(B,S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ay b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B,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T(bel(B,X)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B)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end(B,know(B,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A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A,know(B,bel(A,X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B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letion condition and postconditions hold unles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SORRY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R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B’s inability to properly acknowledge th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Semantics for  the </a:t>
            </a:r>
            <a:r>
              <a:rPr b="1" lang="en-US" sz="4000" spc="-1" strike="noStrike">
                <a:solidFill>
                  <a:srgbClr val="3333cc"/>
                </a:solidFill>
                <a:latin typeface="Arial Narrow"/>
              </a:rPr>
              <a:t>proactive-TELL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8680" y="2146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active-TELL(A,B,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tates to B that A believes the content to b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A):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el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(B)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A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A,know(B,bel(A,X))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(B)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: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stconditions and completion condition hold unless a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SORRY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R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s B’s inability to properly acknowledge the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The case of  KD45 semantics for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L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ELL(A,B,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ELL(A,B,P implies 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 A decide that 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BEL(B,Q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 B decide that 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BEL(A,Q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,  maybe not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8240" y="771480"/>
            <a:ext cx="76075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onversation Policie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intuitive)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performatives “fit” in exchanges of KQML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formal)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nimum possible set of permissible KQML conversations, consistent with the semantic de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a formal specification, independent of implementation, but we’ve defined them as DCGs and as ATNs to provide “executable specifications” used to filter out inchoherent mess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ome ACLs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RBA an AC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shar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QML+KIF+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k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GI’s Open Agent Architectur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239560" y="2394000"/>
            <a:ext cx="6598440" cy="3863520"/>
            <a:chOff x="2239560" y="2394000"/>
            <a:chExt cx="6598440" cy="3863520"/>
          </a:xfrm>
        </p:grpSpPr>
        <p:sp>
          <p:nvSpPr>
            <p:cNvPr id="94" name=""/>
            <p:cNvSpPr/>
            <p:nvPr/>
          </p:nvSpPr>
          <p:spPr>
            <a:xfrm>
              <a:off x="2695680" y="5877000"/>
              <a:ext cx="1428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24480" y="5877000"/>
              <a:ext cx="2171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09840" y="5591160"/>
              <a:ext cx="914400" cy="57168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19360" y="4619520"/>
              <a:ext cx="1096920" cy="68580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94400" y="3540240"/>
              <a:ext cx="1261800" cy="78876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43760" y="2394000"/>
              <a:ext cx="1450800" cy="90792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9380000">
              <a:off x="3204720" y="5239800"/>
              <a:ext cx="486000" cy="279720"/>
            </a:xfrm>
            <a:prstGeom prst="rightArrow">
              <a:avLst>
                <a:gd name="adj1" fmla="val 50000"/>
                <a:gd name="adj2" fmla="val 86881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380000">
              <a:off x="4395600" y="4354560"/>
              <a:ext cx="576000" cy="280800"/>
            </a:xfrm>
            <a:prstGeom prst="rightArrow">
              <a:avLst>
                <a:gd name="adj1" fmla="val 50000"/>
                <a:gd name="adj2" fmla="val 102573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380000">
              <a:off x="5767560" y="3287520"/>
              <a:ext cx="691920" cy="314280"/>
            </a:xfrm>
            <a:prstGeom prst="rightArrow">
              <a:avLst>
                <a:gd name="adj1" fmla="val 50000"/>
                <a:gd name="adj2" fmla="val 110090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5760" y="5730840"/>
              <a:ext cx="25131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 objects, procedure cal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d data struc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39760" y="4756320"/>
              <a:ext cx="256212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 facts, rules, constraints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rocedures and knowled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54480" y="3727440"/>
              <a:ext cx="22708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 beliefs, plans, goal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d inten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53600" y="2471760"/>
              <a:ext cx="118440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experien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d strateg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39560" y="4946760"/>
              <a:ext cx="7819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.g.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95080" y="4260960"/>
              <a:ext cx="252396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.g., KQML, FIPA, KIF, Agl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34720" y="3289320"/>
              <a:ext cx="13003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.g., AgentTa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5960" y="4811760"/>
              <a:ext cx="8110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08960" y="3762360"/>
              <a:ext cx="8611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n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93960" y="2660760"/>
              <a:ext cx="10854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ri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78320" y="5724360"/>
              <a:ext cx="615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Other ACLs and semantic approaches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9080" y="2270160"/>
            <a:ext cx="7539120" cy="36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hen &amp; Lesve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primitiv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ily grounded on an agen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moving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PA version of an 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n underlying  agent 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 is the source of its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KQML Semantics Conclusion</a:t>
            </a:r>
            <a:endParaRPr b="1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7696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eveloped a framework for providing the semantics of primitives for KQML-like languag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ried to dissociate the ACL’s semantic description from the agent theory of the conversing ag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provided semantics for the full set of KQML performatives (all 30-something of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>
            <a:hlinkClick r:id="rId1" action="ppaction://hlinksldjump"/>
          </p:cNvPr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560" y="802800"/>
            <a:ext cx="761688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Knowledge Sharing Effort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71200"/>
            <a:ext cx="8134560" cy="40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SE is a distributed research project involving over a dozen research groups aimed at developing techniques, methodologies and software tools f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knowledge sh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knowledge 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quires a common language (syntax, semantics, pragma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xisting components that can be used independently or 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 -- knowledge interchange format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(synt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ingua - a language for defining sharable ontologie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(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QML - a high-level interaction language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(pragma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6320" y="301320"/>
            <a:ext cx="77313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Knowledge Interchange Format</a:t>
            </a:r>
            <a:endParaRPr b="1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1320" y="3505320"/>
            <a:ext cx="84200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169920" indent="-16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F ~ First order logic with se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lingua for encode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7320" indent="-172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translation among n systems from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language for reusable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7320" indent="-172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independent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7320" indent="-172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expressive -- can represent knowledge in typical application K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7320" indent="-172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able -- into and out of typical application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of an ANSI standardiza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437680" y="6248520"/>
            <a:ext cx="554040" cy="457200"/>
          </a:xfrm>
          <a:custGeom>
            <a:avLst/>
            <a:gdLst>
              <a:gd name="textAreaLeft" fmla="*/ 29520 w 554040"/>
              <a:gd name="textAreaRight" fmla="*/ 524520 w 554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6172" h="21600">
                <a:moveTo>
                  <a:pt x="0" y="0"/>
                </a:moveTo>
                <a:lnTo>
                  <a:pt x="26172" y="0"/>
                </a:lnTo>
                <a:lnTo>
                  <a:pt x="26172" y="21600"/>
                </a:lnTo>
                <a:lnTo>
                  <a:pt x="0" y="21600"/>
                </a:lnTo>
                <a:close/>
              </a:path>
              <a:path fill="lightenLess" w="26172" h="21600">
                <a:moveTo>
                  <a:pt x="0" y="0"/>
                </a:moveTo>
                <a:lnTo>
                  <a:pt x="26172" y="0"/>
                </a:lnTo>
                <a:lnTo>
                  <a:pt x="24772" y="1400"/>
                </a:lnTo>
                <a:lnTo>
                  <a:pt x="1400" y="1400"/>
                </a:lnTo>
                <a:close/>
              </a:path>
              <a:path fill="darken" w="26172" h="21600">
                <a:moveTo>
                  <a:pt x="26172" y="0"/>
                </a:moveTo>
                <a:lnTo>
                  <a:pt x="26172" y="21600"/>
                </a:lnTo>
                <a:lnTo>
                  <a:pt x="24772" y="20200"/>
                </a:lnTo>
                <a:lnTo>
                  <a:pt x="24772" y="1400"/>
                </a:lnTo>
                <a:close/>
              </a:path>
              <a:path fill="darkenLess" w="26172" h="21600">
                <a:moveTo>
                  <a:pt x="26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72" y="20200"/>
                </a:lnTo>
                <a:close/>
              </a:path>
              <a:path fill="lighten" w="26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72" h="21600">
                <a:moveTo>
                  <a:pt x="6079" y="3794"/>
                </a:moveTo>
                <a:lnTo>
                  <a:pt x="20092" y="10800"/>
                </a:lnTo>
                <a:lnTo>
                  <a:pt x="6079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57360" y="1009800"/>
            <a:ext cx="4541760" cy="2462040"/>
            <a:chOff x="2457360" y="1009800"/>
            <a:chExt cx="4541760" cy="2462040"/>
          </a:xfrm>
        </p:grpSpPr>
        <p:grpSp>
          <p:nvGrpSpPr>
            <p:cNvPr id="122" name=""/>
            <p:cNvGrpSpPr/>
            <p:nvPr/>
          </p:nvGrpSpPr>
          <p:grpSpPr>
            <a:xfrm>
              <a:off x="2459160" y="2478240"/>
              <a:ext cx="1720800" cy="966240"/>
              <a:chOff x="2459160" y="2478240"/>
              <a:chExt cx="1720800" cy="9662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59160" y="2478240"/>
                <a:ext cx="172080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459160" y="2784600"/>
                <a:ext cx="1720800" cy="6598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2508120" y="2840040"/>
              <a:ext cx="998640" cy="541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682360" y="2895480"/>
              <a:ext cx="7884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now. B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863080" y="3032280"/>
              <a:ext cx="252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702160" y="3156120"/>
              <a:ext cx="4928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ang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457720" y="2513160"/>
              <a:ext cx="15854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IF &lt;-&gt; Lang1 Transl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535920" y="3081240"/>
              <a:ext cx="648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s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240160" y="2478240"/>
              <a:ext cx="1758960" cy="993600"/>
              <a:chOff x="5240160" y="2478240"/>
              <a:chExt cx="1758960" cy="9936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5240160" y="2478240"/>
                <a:ext cx="1721880" cy="966240"/>
                <a:chOff x="5240160" y="2478240"/>
                <a:chExt cx="1721880" cy="9662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240160" y="2478240"/>
                  <a:ext cx="1721880" cy="30492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0160" y="2784600"/>
                  <a:ext cx="1721880" cy="65988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5294160" y="2838960"/>
                <a:ext cx="989280" cy="54252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61120" y="2900160"/>
                <a:ext cx="7884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now. B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57040" y="3031920"/>
                <a:ext cx="2520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30680" y="3162600"/>
                <a:ext cx="49284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Lang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61760" y="2519640"/>
                <a:ext cx="158544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IF &lt;-&gt; Lang2 Transla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50760" y="3124440"/>
                <a:ext cx="64836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ys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221440" y="1009800"/>
              <a:ext cx="1736280" cy="1008000"/>
              <a:chOff x="5221440" y="1009800"/>
              <a:chExt cx="1736280" cy="1008000"/>
            </a:xfrm>
          </p:grpSpPr>
          <p:sp>
            <p:nvSpPr>
              <p:cNvPr id="142" name=""/>
              <p:cNvSpPr/>
              <p:nvPr/>
            </p:nvSpPr>
            <p:spPr>
              <a:xfrm>
                <a:off x="5237640" y="1676520"/>
                <a:ext cx="1720080" cy="30564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21440" y="1676520"/>
                <a:ext cx="145440" cy="2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37640" y="1009800"/>
                <a:ext cx="1720080" cy="66060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97040" y="1051200"/>
                <a:ext cx="1501200" cy="5428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19240" y="1103400"/>
                <a:ext cx="91800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now. B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 K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658840" y="1670400"/>
                <a:ext cx="9226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ibra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457360" y="1030320"/>
              <a:ext cx="1726920" cy="964800"/>
              <a:chOff x="2457360" y="1030320"/>
              <a:chExt cx="1726920" cy="964800"/>
            </a:xfrm>
          </p:grpSpPr>
          <p:sp>
            <p:nvSpPr>
              <p:cNvPr id="149" name=""/>
              <p:cNvSpPr/>
              <p:nvPr/>
            </p:nvSpPr>
            <p:spPr>
              <a:xfrm>
                <a:off x="2462400" y="1030320"/>
                <a:ext cx="1721880" cy="6595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14360" y="1045080"/>
                <a:ext cx="999000" cy="54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93920" y="1108440"/>
                <a:ext cx="7884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now. Ba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86600" y="1241640"/>
                <a:ext cx="2520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60960" y="1370880"/>
                <a:ext cx="49284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Lang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07760" y="1046520"/>
                <a:ext cx="64836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ys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2457360" y="1689840"/>
                <a:ext cx="1721880" cy="305280"/>
                <a:chOff x="2457360" y="1689840"/>
                <a:chExt cx="1721880" cy="305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457360" y="1689840"/>
                  <a:ext cx="1721880" cy="30528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57720" y="1767960"/>
                  <a:ext cx="158544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KIF &lt;-&gt; Lang3 Transla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 rot="2620200">
              <a:off x="4055760" y="1573200"/>
              <a:ext cx="1322280" cy="1322280"/>
            </a:xfrm>
            <a:custGeom>
              <a:avLst/>
              <a:gdLst>
                <a:gd name="textAreaLeft" fmla="*/ 330480 w 1322280"/>
                <a:gd name="textAreaRight" fmla="*/ 991800 w 1322280"/>
                <a:gd name="textAreaTop" fmla="*/ 330480 h 1322280"/>
                <a:gd name="textAreaBottom" fmla="*/ 99180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04600" y="209556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560" y="239760"/>
            <a:ext cx="7616880" cy="12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ommon Semantics </a:t>
            </a:r>
            <a:br>
              <a:rPr sz="3600"/>
            </a:b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Shared Ontologies and Ontolingua</a:t>
            </a:r>
            <a:endParaRPr b="1" lang="en-US" sz="36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331480" cy="16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33"/>
                </a:solidFill>
                <a:latin typeface="Times New Roman"/>
              </a:rPr>
              <a:t>Ontology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common vocabulary and agreed upon meanings to describe a subject dom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809880"/>
            <a:ext cx="7619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On*tol"o*gy (?), n. [Gr. the things which exist (pl.neut. of , , being, p.pr. of to be) + -logy: cf.F. ontologie.]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department of the science of metaphysics which investigates and explai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nature and essential properties and relations of all be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s such, or the principles and causes of being. 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Webster's Revised Unabridged Dictionary (G &amp; C. Merriam Co., 1913, edited by Noah Por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0200" y="85680"/>
            <a:ext cx="77436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Conceptual Schemas</a:t>
            </a:r>
            <a:endParaRPr b="1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334120"/>
            <a:ext cx="35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ble: pri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*stockNo: integer;  cost: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523880" y="3429000"/>
            <a:ext cx="1155600" cy="1464120"/>
            <a:chOff x="1523880" y="3429000"/>
            <a:chExt cx="1155600" cy="1464120"/>
          </a:xfrm>
        </p:grpSpPr>
        <p:sp>
          <p:nvSpPr>
            <p:cNvPr id="170" name=""/>
            <p:cNvSpPr/>
            <p:nvPr/>
          </p:nvSpPr>
          <p:spPr>
            <a:xfrm>
              <a:off x="1523880" y="3429000"/>
              <a:ext cx="115560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9  74.5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0  77.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34680" y="3481200"/>
              <a:ext cx="110520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34680" y="3735360"/>
              <a:ext cx="110520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34680" y="3989160"/>
              <a:ext cx="110520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34680" y="3481200"/>
              <a:ext cx="49536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34680" y="3735360"/>
              <a:ext cx="49536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34680" y="3989160"/>
              <a:ext cx="495360" cy="24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95280" y="4572000"/>
            <a:ext cx="163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617220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Base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715000"/>
            <a:ext cx="293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ual 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86000"/>
            <a:ext cx="5270760" cy="3311280"/>
            <a:chOff x="3581280" y="2286000"/>
            <a:chExt cx="5270760" cy="3311280"/>
          </a:xfrm>
        </p:grpSpPr>
        <p:sp>
          <p:nvSpPr>
            <p:cNvPr id="181" name=""/>
            <p:cNvSpPr/>
            <p:nvPr/>
          </p:nvSpPr>
          <p:spPr>
            <a:xfrm>
              <a:off x="3581280" y="2941560"/>
              <a:ext cx="5270760" cy="161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ice(x, y) =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x’, y’) [</a:t>
              </a:r>
              <a:r>
                <a:rPr b="1" lang="en-US" sz="2000" spc="-1" strike="noStrike">
                  <a:solidFill>
                    <a:srgbClr val="ff0033"/>
                  </a:solidFill>
                  <a:latin typeface="Times New Roman"/>
                </a:rPr>
                <a:t>auto_part(x’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Times New Roman"/>
                </a:rPr>
                <a:t>                    </a:t>
              </a:r>
              <a:r>
                <a:rPr b="1" lang="en-US" sz="2000" spc="-1" strike="noStrike">
                  <a:solidFill>
                    <a:srgbClr val="ff0033"/>
                  </a:solidFill>
                  <a:latin typeface="Times New Roman"/>
                </a:rPr>
                <a:t>&amp; stock_no(x’) = x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etail_price(x’, y’, Value-In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magnitude(y’, US_dollars)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= y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5638320" y="4594320"/>
              <a:ext cx="536760" cy="41904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31960" y="2286000"/>
              <a:ext cx="108720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Times New Roman"/>
                </a:rPr>
                <a:t>A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Times New Roman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Times New Roman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451560" y="2965320"/>
              <a:ext cx="776160" cy="5889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151760" y="3489480"/>
              <a:ext cx="583920" cy="4442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16240" y="3286080"/>
              <a:ext cx="108720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14320" y="4929120"/>
              <a:ext cx="112536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Units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Meas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not a profoundly new ide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bulary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schema (for a data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-subclass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5960" indent="-231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7T01:27:56Z</dcterms:created>
  <dc:creator>Tim Finin</dc:creator>
  <dc:description/>
  <dc:language>en-US</dc:language>
  <cp:lastModifiedBy>tim finin</cp:lastModifiedBy>
  <cp:lastPrinted>1997-09-19T03:17:16Z</cp:lastPrinted>
  <dcterms:modified xsi:type="dcterms:W3CDTF">1997-10-06T01:28:15Z</dcterms:modified>
  <cp:revision>29</cp:revision>
  <dc:subject>Rich ACLs</dc:subject>
  <dc:title>Agent Commun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umbc.edu/~finin</vt:lpwstr>
  </property>
  <property fmtid="{D5CDD505-2E9C-101B-9397-08002B2CF9AE}" pid="9" name="LinkColor">
    <vt:r8>16711782</vt:r8>
  </property>
  <property fmtid="{D5CDD505-2E9C-101B-9397-08002B2CF9AE}" pid="10" name="MailAddress">
    <vt:lpwstr>finin@umb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finin\talks\dartmouth97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