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E2BF-9CAA-43DC-84C9-F1B25951D8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CCB-B739-416F-AA4C-C501B3C9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E45-DE44-49B6-B2ED-10B9BEFC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599-D197-4C3F-A367-89AB348D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92A-ECB7-4553-A935-8375DC02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B2C-F827-4F36-8051-A4598CD4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3E6-1FDE-49D7-BED0-F125360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DB0-9277-4A1F-8000-938CBD7F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E92-D3B5-49D2-A07D-B71BE441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637-2C08-4FE9-BA33-6E472084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5AA-01D4-4333-B48D-686A017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2CE-83D5-419F-A56C-7E0B010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E01-793D-435A-BCB8-1BE9A6D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BF98-C785-48C8-BC30-8B7509503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image" Target="../media/image7.png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wmf"/><Relationship Id="rId25" Type="http://schemas.openxmlformats.org/officeDocument/2006/relationships/slideLayout" Target="../slideLayouts/slideLayout3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33"/>
                </a:solidFill>
                <a:latin typeface="Times New Roman"/>
              </a:rPr>
              <a:t>Software Agents</a:t>
            </a:r>
            <a:br>
              <a:rPr sz="6600"/>
            </a:b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Knowledge Sharing</a:t>
            </a:r>
            <a:br>
              <a:rPr sz="40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KQML, KIF and Ontologies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m Fin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f M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ltimore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n@umbc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umbc.edu/~fi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33"/>
                </a:solidFill>
                <a:latin typeface="Times New Roman"/>
              </a:rPr>
              <a:t>Agent theory,</a:t>
            </a:r>
            <a:br>
              <a:rPr sz="7200"/>
            </a:br>
            <a:r>
              <a:rPr b="1" lang="en-US" sz="7200" spc="-1" strike="noStrike">
                <a:solidFill>
                  <a:srgbClr val="ff0033"/>
                </a:solidFill>
                <a:latin typeface="Times New Roman"/>
              </a:rPr>
              <a:t>architectures</a:t>
            </a:r>
            <a:br>
              <a:rPr sz="7200"/>
            </a:br>
            <a:r>
              <a:rPr b="1" lang="en-US" sz="7200" spc="-1" strike="noStrike">
                <a:solidFill>
                  <a:srgbClr val="ff0033"/>
                </a:solidFill>
                <a:latin typeface="Times New Roman"/>
              </a:rPr>
              <a:t>and Programming</a:t>
            </a:r>
            <a:br>
              <a:rPr sz="7200"/>
            </a:br>
            <a:r>
              <a:rPr b="1" lang="en-US" sz="7200" spc="-1" strike="noStrike">
                <a:solidFill>
                  <a:srgbClr val="ff0033"/>
                </a:solidFill>
                <a:latin typeface="Times New Roman"/>
              </a:rPr>
              <a:t>Technology</a:t>
            </a:r>
            <a:endParaRPr b="1" lang="en-US" sz="72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Theory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I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etr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660680"/>
            <a:ext cx="7543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ody of theory underlying  agent-based syste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Architectur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327672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yond client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ed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agents vs Multi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and sw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38560" y="2649600"/>
            <a:ext cx="5004000" cy="374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1461960"/>
            <a:ext cx="6705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are using several archite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gent-based information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Beyond client-server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your role in human society.  Are you a client or a ser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agents go beyond C/S by enabling clients to distribute computations to servers and vice-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ng agents generalize the C/S model since sometimes an agent acts as a client and sometimes as a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9960" y="1584360"/>
            <a:ext cx="778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generalize the client-server architecture which has dominated the Internet since its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s vs. MA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search focuses on developing sophisticated individual agents with advanced capabilities and other 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ulti-agent syst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 research is particularly focuse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on and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and coalition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haring among th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beliefs, goals and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Mediated Architectur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ederhold introduced the notion of a “mediated architecture” for information sys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46080" y="3460680"/>
            <a:ext cx="2347920" cy="2844720"/>
            <a:chOff x="946080" y="3460680"/>
            <a:chExt cx="2347920" cy="2844720"/>
          </a:xfrm>
        </p:grpSpPr>
        <p:sp>
          <p:nvSpPr>
            <p:cNvPr id="124" name=""/>
            <p:cNvSpPr/>
            <p:nvPr/>
          </p:nvSpPr>
          <p:spPr>
            <a:xfrm>
              <a:off x="2673360" y="3668760"/>
              <a:ext cx="620640" cy="5587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73360" y="4329000"/>
              <a:ext cx="620640" cy="55908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54360" y="3746520"/>
              <a:ext cx="634680" cy="105084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946080" y="3646440"/>
            <a:ext cx="317520" cy="32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46080" y="364644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946080" y="4103640"/>
            <a:ext cx="317520" cy="32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6080" y="410364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946080" y="4560840"/>
            <a:ext cx="317520" cy="320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46080" y="456084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946080" y="5056200"/>
            <a:ext cx="317520" cy="32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46080" y="505620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946080" y="5513400"/>
            <a:ext cx="317520" cy="320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46080" y="551340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946080" y="5970600"/>
            <a:ext cx="317520" cy="320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46080" y="5970600"/>
                      <a:ext cx="3175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257480" y="377676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7480" y="423396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7480" y="46972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1000" y="51926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6498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7480" y="61070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84440" y="39416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65120" y="366876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65120" y="412740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65120" y="458460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65120" y="507852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65120" y="5537160"/>
              <a:ext cx="279360" cy="290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65120" y="5994360"/>
              <a:ext cx="279360" cy="2905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65120" y="4735440"/>
              <a:ext cx="279360" cy="139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65120" y="5230800"/>
              <a:ext cx="279360" cy="139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7440" y="382752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71560" y="3827520"/>
              <a:ext cx="0" cy="23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7440" y="4278240"/>
              <a:ext cx="92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57440" y="473544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57440" y="522432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57440" y="5688000"/>
              <a:ext cx="9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57440" y="615780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65120" y="4278240"/>
              <a:ext cx="279360" cy="139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5120" y="5688000"/>
              <a:ext cx="279360" cy="139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4440" y="39416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84440" y="46148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356120" y="3684600"/>
              <a:ext cx="316440" cy="296640"/>
              <a:chOff x="1356120" y="3684600"/>
              <a:chExt cx="316440" cy="296640"/>
            </a:xfrm>
          </p:grpSpPr>
          <p:sp>
            <p:nvSpPr>
              <p:cNvPr id="166" name=""/>
              <p:cNvSpPr/>
              <p:nvPr/>
            </p:nvSpPr>
            <p:spPr>
              <a:xfrm>
                <a:off x="1409760" y="370044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56120" y="3684600"/>
                <a:ext cx="316440" cy="29664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356120" y="4141800"/>
              <a:ext cx="316440" cy="296640"/>
              <a:chOff x="1356120" y="4141800"/>
              <a:chExt cx="316440" cy="296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409760" y="415764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56120" y="4141800"/>
                <a:ext cx="316440" cy="29664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356120" y="4599000"/>
              <a:ext cx="316440" cy="296640"/>
              <a:chOff x="1356120" y="4599000"/>
              <a:chExt cx="316440" cy="296640"/>
            </a:xfrm>
          </p:grpSpPr>
          <p:sp>
            <p:nvSpPr>
              <p:cNvPr id="172" name=""/>
              <p:cNvSpPr/>
              <p:nvPr/>
            </p:nvSpPr>
            <p:spPr>
              <a:xfrm>
                <a:off x="1409760" y="461484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56120" y="4599000"/>
                <a:ext cx="316440" cy="29664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356120" y="5094360"/>
              <a:ext cx="316440" cy="296640"/>
              <a:chOff x="1356120" y="5094360"/>
              <a:chExt cx="316440" cy="296640"/>
            </a:xfrm>
          </p:grpSpPr>
          <p:sp>
            <p:nvSpPr>
              <p:cNvPr id="175" name=""/>
              <p:cNvSpPr/>
              <p:nvPr/>
            </p:nvSpPr>
            <p:spPr>
              <a:xfrm>
                <a:off x="1409760" y="511020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56120" y="5094360"/>
                <a:ext cx="316440" cy="29664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357920" y="5551560"/>
              <a:ext cx="316440" cy="296640"/>
              <a:chOff x="1357920" y="5551560"/>
              <a:chExt cx="316440" cy="296640"/>
            </a:xfrm>
          </p:grpSpPr>
          <p:sp>
            <p:nvSpPr>
              <p:cNvPr id="178" name=""/>
              <p:cNvSpPr/>
              <p:nvPr/>
            </p:nvSpPr>
            <p:spPr>
              <a:xfrm>
                <a:off x="1409760" y="556740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57920" y="5551560"/>
                <a:ext cx="316440" cy="29664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357920" y="6008760"/>
              <a:ext cx="316440" cy="296640"/>
              <a:chOff x="1357920" y="6008760"/>
              <a:chExt cx="316440" cy="296640"/>
            </a:xfrm>
          </p:grpSpPr>
          <p:sp>
            <p:nvSpPr>
              <p:cNvPr id="181" name=""/>
              <p:cNvSpPr/>
              <p:nvPr/>
            </p:nvSpPr>
            <p:spPr>
              <a:xfrm>
                <a:off x="1409760" y="6024600"/>
                <a:ext cx="196920" cy="222120"/>
              </a:xfrm>
              <a:custGeom>
                <a:avLst/>
                <a:gdLst>
                  <a:gd name="textAreaLeft" fmla="*/ 7200 w 196920"/>
                  <a:gd name="textAreaRight" fmla="*/ 189720 w 196920"/>
                  <a:gd name="textAreaTop" fmla="*/ 7200 h 222120"/>
                  <a:gd name="textAreaBottom" fmla="*/ 214920 h 222120"/>
                </a:gdLst>
                <a:ahLst/>
                <a:rect l="textAreaLeft" t="textAreaTop" r="textAreaRight" b="textAreaBottom"/>
                <a:pathLst>
                  <a:path w="21600" h="24359">
                    <a:moveTo>
                      <a:pt x="2699" y="0"/>
                    </a:moveTo>
                    <a:arcTo wR="2699" hR="2699" stAng="16200000" swAng="-5400000"/>
                    <a:lnTo>
                      <a:pt x="0" y="21660"/>
                    </a:lnTo>
                    <a:arcTo wR="2699" hR="2699" stAng="10800000" swAng="-5400000"/>
                    <a:lnTo>
                      <a:pt x="18901" y="2435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57920" y="6008760"/>
                <a:ext cx="316440" cy="296640"/>
              </a:xfrm>
              <a:prstGeom prst="roundRect">
                <a:avLst>
                  <a:gd name="adj" fmla="val 1249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898640" y="394812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98640" y="437364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11520" y="3821040"/>
              <a:ext cx="55224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11520" y="4481640"/>
              <a:ext cx="55224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73360" y="5078520"/>
              <a:ext cx="620640" cy="5587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73360" y="5738760"/>
              <a:ext cx="620640" cy="5587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54360" y="5156280"/>
              <a:ext cx="634680" cy="105084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84440" y="5351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84440" y="53514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84440" y="6024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8640" y="535788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98640" y="578340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11520" y="5230800"/>
              <a:ext cx="55224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1520" y="5891040"/>
              <a:ext cx="552240" cy="36864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26520" y="346068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81d58"/>
                  </a:solidFill>
                  <a:latin typeface="Arial"/>
                </a:rPr>
                <a:t>Cli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48480" y="3505320"/>
            <a:ext cx="3820680" cy="2847960"/>
            <a:chOff x="4848480" y="3505320"/>
            <a:chExt cx="3820680" cy="2847960"/>
          </a:xfrm>
        </p:grpSpPr>
        <p:sp>
          <p:nvSpPr>
            <p:cNvPr id="199" name=""/>
            <p:cNvSpPr/>
            <p:nvPr/>
          </p:nvSpPr>
          <p:spPr>
            <a:xfrm>
              <a:off x="6945480" y="3693960"/>
              <a:ext cx="159948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17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179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07400" y="4594320"/>
              <a:ext cx="1599480" cy="56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17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179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8960" y="5303880"/>
              <a:ext cx="1600200" cy="56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17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179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40680" y="5669280"/>
              <a:ext cx="96156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67640" y="4794120"/>
              <a:ext cx="1294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1000" y="5256360"/>
              <a:ext cx="14594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4520" y="5614920"/>
              <a:ext cx="1465920" cy="1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67200" y="6072120"/>
              <a:ext cx="1698480" cy="1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8480" y="3998880"/>
              <a:ext cx="148572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72400" y="4422600"/>
              <a:ext cx="1294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91320" y="3608280"/>
              <a:ext cx="148572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5438880" y="3505320"/>
            <a:ext cx="342720" cy="34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38880" y="3505320"/>
                      <a:ext cx="3427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5460840" y="3897360"/>
            <a:ext cx="34308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60840" y="3897360"/>
                      <a:ext cx="3430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5454720" y="4700520"/>
            <a:ext cx="342720" cy="346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54720" y="4700520"/>
                      <a:ext cx="34272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5462640" y="5500800"/>
            <a:ext cx="342720" cy="34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462640" y="5500800"/>
                      <a:ext cx="3427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"/>
            <p:cNvSpPr/>
            <p:nvPr/>
          </p:nvSpPr>
          <p:spPr>
            <a:xfrm>
              <a:off x="6168960" y="3852720"/>
              <a:ext cx="7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51680" y="3537000"/>
              <a:ext cx="1214280" cy="2816280"/>
            </a:xfrm>
            <a:custGeom>
              <a:avLst/>
              <a:gdLst/>
              <a:ahLst/>
              <a:rect l="l" t="t" r="r" b="b"/>
              <a:pathLst>
                <a:path w="765" h="1774">
                  <a:moveTo>
                    <a:pt x="118" y="46"/>
                  </a:moveTo>
                  <a:lnTo>
                    <a:pt x="73" y="73"/>
                  </a:lnTo>
                  <a:lnTo>
                    <a:pt x="46" y="82"/>
                  </a:lnTo>
                  <a:lnTo>
                    <a:pt x="27" y="100"/>
                  </a:lnTo>
                  <a:lnTo>
                    <a:pt x="9" y="128"/>
                  </a:lnTo>
                  <a:lnTo>
                    <a:pt x="0" y="155"/>
                  </a:lnTo>
                  <a:lnTo>
                    <a:pt x="0" y="182"/>
                  </a:lnTo>
                  <a:lnTo>
                    <a:pt x="0" y="209"/>
                  </a:lnTo>
                  <a:lnTo>
                    <a:pt x="0" y="228"/>
                  </a:lnTo>
                  <a:lnTo>
                    <a:pt x="0" y="255"/>
                  </a:lnTo>
                  <a:lnTo>
                    <a:pt x="0" y="282"/>
                  </a:lnTo>
                  <a:lnTo>
                    <a:pt x="0" y="309"/>
                  </a:lnTo>
                  <a:lnTo>
                    <a:pt x="9" y="337"/>
                  </a:lnTo>
                  <a:lnTo>
                    <a:pt x="27" y="364"/>
                  </a:lnTo>
                  <a:lnTo>
                    <a:pt x="36" y="391"/>
                  </a:lnTo>
                  <a:lnTo>
                    <a:pt x="55" y="409"/>
                  </a:lnTo>
                  <a:lnTo>
                    <a:pt x="55" y="437"/>
                  </a:lnTo>
                  <a:lnTo>
                    <a:pt x="64" y="464"/>
                  </a:lnTo>
                  <a:lnTo>
                    <a:pt x="64" y="491"/>
                  </a:lnTo>
                  <a:lnTo>
                    <a:pt x="73" y="518"/>
                  </a:lnTo>
                  <a:lnTo>
                    <a:pt x="73" y="537"/>
                  </a:lnTo>
                  <a:lnTo>
                    <a:pt x="73" y="564"/>
                  </a:lnTo>
                  <a:lnTo>
                    <a:pt x="73" y="591"/>
                  </a:lnTo>
                  <a:lnTo>
                    <a:pt x="73" y="618"/>
                  </a:lnTo>
                  <a:lnTo>
                    <a:pt x="73" y="646"/>
                  </a:lnTo>
                  <a:lnTo>
                    <a:pt x="73" y="673"/>
                  </a:lnTo>
                  <a:lnTo>
                    <a:pt x="64" y="700"/>
                  </a:lnTo>
                  <a:lnTo>
                    <a:pt x="46" y="727"/>
                  </a:lnTo>
                  <a:lnTo>
                    <a:pt x="46" y="746"/>
                  </a:lnTo>
                  <a:lnTo>
                    <a:pt x="36" y="773"/>
                  </a:lnTo>
                  <a:lnTo>
                    <a:pt x="27" y="800"/>
                  </a:lnTo>
                  <a:lnTo>
                    <a:pt x="18" y="836"/>
                  </a:lnTo>
                  <a:lnTo>
                    <a:pt x="18" y="855"/>
                  </a:lnTo>
                  <a:lnTo>
                    <a:pt x="9" y="882"/>
                  </a:lnTo>
                  <a:lnTo>
                    <a:pt x="9" y="909"/>
                  </a:lnTo>
                  <a:lnTo>
                    <a:pt x="9" y="936"/>
                  </a:lnTo>
                  <a:lnTo>
                    <a:pt x="9" y="955"/>
                  </a:lnTo>
                  <a:lnTo>
                    <a:pt x="9" y="982"/>
                  </a:lnTo>
                  <a:lnTo>
                    <a:pt x="18" y="1009"/>
                  </a:lnTo>
                  <a:lnTo>
                    <a:pt x="27" y="1100"/>
                  </a:lnTo>
                  <a:lnTo>
                    <a:pt x="36" y="1100"/>
                  </a:lnTo>
                  <a:lnTo>
                    <a:pt x="46" y="1100"/>
                  </a:lnTo>
                  <a:lnTo>
                    <a:pt x="55" y="1100"/>
                  </a:lnTo>
                  <a:lnTo>
                    <a:pt x="64" y="1100"/>
                  </a:lnTo>
                  <a:lnTo>
                    <a:pt x="73" y="1100"/>
                  </a:lnTo>
                  <a:lnTo>
                    <a:pt x="82" y="1100"/>
                  </a:lnTo>
                  <a:lnTo>
                    <a:pt x="109" y="1100"/>
                  </a:lnTo>
                  <a:lnTo>
                    <a:pt x="136" y="1100"/>
                  </a:lnTo>
                  <a:lnTo>
                    <a:pt x="155" y="1100"/>
                  </a:lnTo>
                  <a:lnTo>
                    <a:pt x="164" y="1100"/>
                  </a:lnTo>
                  <a:lnTo>
                    <a:pt x="173" y="1100"/>
                  </a:lnTo>
                  <a:lnTo>
                    <a:pt x="182" y="1100"/>
                  </a:lnTo>
                  <a:lnTo>
                    <a:pt x="191" y="1100"/>
                  </a:lnTo>
                  <a:lnTo>
                    <a:pt x="191" y="1173"/>
                  </a:lnTo>
                  <a:lnTo>
                    <a:pt x="182" y="1200"/>
                  </a:lnTo>
                  <a:lnTo>
                    <a:pt x="155" y="1227"/>
                  </a:lnTo>
                  <a:lnTo>
                    <a:pt x="136" y="1245"/>
                  </a:lnTo>
                  <a:lnTo>
                    <a:pt x="118" y="1264"/>
                  </a:lnTo>
                  <a:lnTo>
                    <a:pt x="100" y="1291"/>
                  </a:lnTo>
                  <a:lnTo>
                    <a:pt x="82" y="1318"/>
                  </a:lnTo>
                  <a:lnTo>
                    <a:pt x="64" y="1345"/>
                  </a:lnTo>
                  <a:lnTo>
                    <a:pt x="64" y="1364"/>
                  </a:lnTo>
                  <a:lnTo>
                    <a:pt x="46" y="1391"/>
                  </a:lnTo>
                  <a:lnTo>
                    <a:pt x="46" y="1418"/>
                  </a:lnTo>
                  <a:lnTo>
                    <a:pt x="46" y="1445"/>
                  </a:lnTo>
                  <a:lnTo>
                    <a:pt x="46" y="1464"/>
                  </a:lnTo>
                  <a:lnTo>
                    <a:pt x="55" y="1491"/>
                  </a:lnTo>
                  <a:lnTo>
                    <a:pt x="82" y="1509"/>
                  </a:lnTo>
                  <a:lnTo>
                    <a:pt x="100" y="1536"/>
                  </a:lnTo>
                  <a:lnTo>
                    <a:pt x="100" y="1564"/>
                  </a:lnTo>
                  <a:lnTo>
                    <a:pt x="100" y="1591"/>
                  </a:lnTo>
                  <a:lnTo>
                    <a:pt x="91" y="1618"/>
                  </a:lnTo>
                  <a:lnTo>
                    <a:pt x="91" y="1645"/>
                  </a:lnTo>
                  <a:lnTo>
                    <a:pt x="91" y="1673"/>
                  </a:lnTo>
                  <a:lnTo>
                    <a:pt x="91" y="1700"/>
                  </a:lnTo>
                  <a:lnTo>
                    <a:pt x="118" y="1718"/>
                  </a:lnTo>
                  <a:lnTo>
                    <a:pt x="146" y="1745"/>
                  </a:lnTo>
                  <a:lnTo>
                    <a:pt x="173" y="1754"/>
                  </a:lnTo>
                  <a:lnTo>
                    <a:pt x="200" y="1763"/>
                  </a:lnTo>
                  <a:lnTo>
                    <a:pt x="227" y="1773"/>
                  </a:lnTo>
                  <a:lnTo>
                    <a:pt x="246" y="1773"/>
                  </a:lnTo>
                  <a:lnTo>
                    <a:pt x="273" y="1773"/>
                  </a:lnTo>
                  <a:lnTo>
                    <a:pt x="309" y="1773"/>
                  </a:lnTo>
                  <a:lnTo>
                    <a:pt x="346" y="1773"/>
                  </a:lnTo>
                  <a:lnTo>
                    <a:pt x="382" y="1773"/>
                  </a:lnTo>
                  <a:lnTo>
                    <a:pt x="418" y="1773"/>
                  </a:lnTo>
                  <a:lnTo>
                    <a:pt x="446" y="1773"/>
                  </a:lnTo>
                  <a:lnTo>
                    <a:pt x="473" y="1763"/>
                  </a:lnTo>
                  <a:lnTo>
                    <a:pt x="500" y="1754"/>
                  </a:lnTo>
                  <a:lnTo>
                    <a:pt x="527" y="1745"/>
                  </a:lnTo>
                  <a:lnTo>
                    <a:pt x="546" y="1727"/>
                  </a:lnTo>
                  <a:lnTo>
                    <a:pt x="564" y="1700"/>
                  </a:lnTo>
                  <a:lnTo>
                    <a:pt x="573" y="1673"/>
                  </a:lnTo>
                  <a:lnTo>
                    <a:pt x="582" y="1654"/>
                  </a:lnTo>
                  <a:lnTo>
                    <a:pt x="582" y="1627"/>
                  </a:lnTo>
                  <a:lnTo>
                    <a:pt x="591" y="1600"/>
                  </a:lnTo>
                  <a:lnTo>
                    <a:pt x="609" y="1573"/>
                  </a:lnTo>
                  <a:lnTo>
                    <a:pt x="636" y="1554"/>
                  </a:lnTo>
                  <a:lnTo>
                    <a:pt x="664" y="1545"/>
                  </a:lnTo>
                  <a:lnTo>
                    <a:pt x="691" y="1536"/>
                  </a:lnTo>
                  <a:lnTo>
                    <a:pt x="718" y="1509"/>
                  </a:lnTo>
                  <a:lnTo>
                    <a:pt x="736" y="1482"/>
                  </a:lnTo>
                  <a:lnTo>
                    <a:pt x="745" y="1445"/>
                  </a:lnTo>
                  <a:lnTo>
                    <a:pt x="755" y="1409"/>
                  </a:lnTo>
                  <a:lnTo>
                    <a:pt x="755" y="1382"/>
                  </a:lnTo>
                  <a:lnTo>
                    <a:pt x="764" y="1354"/>
                  </a:lnTo>
                  <a:lnTo>
                    <a:pt x="764" y="1327"/>
                  </a:lnTo>
                  <a:lnTo>
                    <a:pt x="764" y="1300"/>
                  </a:lnTo>
                  <a:lnTo>
                    <a:pt x="764" y="1264"/>
                  </a:lnTo>
                  <a:lnTo>
                    <a:pt x="764" y="1245"/>
                  </a:lnTo>
                  <a:lnTo>
                    <a:pt x="764" y="1218"/>
                  </a:lnTo>
                  <a:lnTo>
                    <a:pt x="764" y="1182"/>
                  </a:lnTo>
                  <a:lnTo>
                    <a:pt x="764" y="1100"/>
                  </a:lnTo>
                  <a:lnTo>
                    <a:pt x="755" y="1100"/>
                  </a:lnTo>
                  <a:lnTo>
                    <a:pt x="745" y="1100"/>
                  </a:lnTo>
                  <a:lnTo>
                    <a:pt x="745" y="1027"/>
                  </a:lnTo>
                  <a:lnTo>
                    <a:pt x="745" y="1000"/>
                  </a:lnTo>
                  <a:lnTo>
                    <a:pt x="745" y="973"/>
                  </a:lnTo>
                  <a:lnTo>
                    <a:pt x="745" y="936"/>
                  </a:lnTo>
                  <a:lnTo>
                    <a:pt x="745" y="909"/>
                  </a:lnTo>
                  <a:lnTo>
                    <a:pt x="736" y="882"/>
                  </a:lnTo>
                  <a:lnTo>
                    <a:pt x="727" y="855"/>
                  </a:lnTo>
                  <a:lnTo>
                    <a:pt x="718" y="836"/>
                  </a:lnTo>
                  <a:lnTo>
                    <a:pt x="691" y="809"/>
                  </a:lnTo>
                  <a:lnTo>
                    <a:pt x="682" y="773"/>
                  </a:lnTo>
                  <a:lnTo>
                    <a:pt x="673" y="746"/>
                  </a:lnTo>
                  <a:lnTo>
                    <a:pt x="664" y="727"/>
                  </a:lnTo>
                  <a:lnTo>
                    <a:pt x="664" y="700"/>
                  </a:lnTo>
                  <a:lnTo>
                    <a:pt x="664" y="673"/>
                  </a:lnTo>
                  <a:lnTo>
                    <a:pt x="673" y="646"/>
                  </a:lnTo>
                  <a:lnTo>
                    <a:pt x="682" y="627"/>
                  </a:lnTo>
                  <a:lnTo>
                    <a:pt x="691" y="600"/>
                  </a:lnTo>
                  <a:lnTo>
                    <a:pt x="700" y="573"/>
                  </a:lnTo>
                  <a:lnTo>
                    <a:pt x="709" y="546"/>
                  </a:lnTo>
                  <a:lnTo>
                    <a:pt x="718" y="527"/>
                  </a:lnTo>
                  <a:lnTo>
                    <a:pt x="727" y="500"/>
                  </a:lnTo>
                  <a:lnTo>
                    <a:pt x="736" y="473"/>
                  </a:lnTo>
                  <a:lnTo>
                    <a:pt x="745" y="446"/>
                  </a:lnTo>
                  <a:lnTo>
                    <a:pt x="745" y="427"/>
                  </a:lnTo>
                  <a:lnTo>
                    <a:pt x="745" y="400"/>
                  </a:lnTo>
                  <a:lnTo>
                    <a:pt x="745" y="373"/>
                  </a:lnTo>
                  <a:lnTo>
                    <a:pt x="745" y="346"/>
                  </a:lnTo>
                  <a:lnTo>
                    <a:pt x="745" y="327"/>
                  </a:lnTo>
                  <a:lnTo>
                    <a:pt x="727" y="300"/>
                  </a:lnTo>
                  <a:lnTo>
                    <a:pt x="691" y="282"/>
                  </a:lnTo>
                  <a:lnTo>
                    <a:pt x="655" y="264"/>
                  </a:lnTo>
                  <a:lnTo>
                    <a:pt x="636" y="255"/>
                  </a:lnTo>
                  <a:lnTo>
                    <a:pt x="609" y="228"/>
                  </a:lnTo>
                  <a:lnTo>
                    <a:pt x="591" y="209"/>
                  </a:lnTo>
                  <a:lnTo>
                    <a:pt x="564" y="182"/>
                  </a:lnTo>
                  <a:lnTo>
                    <a:pt x="546" y="155"/>
                  </a:lnTo>
                  <a:lnTo>
                    <a:pt x="536" y="128"/>
                  </a:lnTo>
                  <a:lnTo>
                    <a:pt x="527" y="109"/>
                  </a:lnTo>
                  <a:lnTo>
                    <a:pt x="491" y="82"/>
                  </a:lnTo>
                  <a:lnTo>
                    <a:pt x="464" y="64"/>
                  </a:lnTo>
                  <a:lnTo>
                    <a:pt x="436" y="46"/>
                  </a:lnTo>
                  <a:lnTo>
                    <a:pt x="409" y="28"/>
                  </a:lnTo>
                  <a:lnTo>
                    <a:pt x="382" y="18"/>
                  </a:lnTo>
                  <a:lnTo>
                    <a:pt x="346" y="9"/>
                  </a:lnTo>
                  <a:lnTo>
                    <a:pt x="327" y="9"/>
                  </a:lnTo>
                  <a:lnTo>
                    <a:pt x="300" y="0"/>
                  </a:lnTo>
                  <a:lnTo>
                    <a:pt x="273" y="0"/>
                  </a:lnTo>
                  <a:lnTo>
                    <a:pt x="246" y="0"/>
                  </a:lnTo>
                  <a:lnTo>
                    <a:pt x="227" y="0"/>
                  </a:lnTo>
                  <a:lnTo>
                    <a:pt x="200" y="0"/>
                  </a:lnTo>
                  <a:lnTo>
                    <a:pt x="173" y="9"/>
                  </a:lnTo>
                  <a:lnTo>
                    <a:pt x="118" y="46"/>
                  </a:lnTo>
                  <a:lnTo>
                    <a:pt x="118" y="46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369120" y="3878280"/>
              <a:ext cx="313200" cy="305640"/>
              <a:chOff x="6369120" y="3878280"/>
              <a:chExt cx="313200" cy="305640"/>
            </a:xfrm>
          </p:grpSpPr>
          <p:sp>
            <p:nvSpPr>
              <p:cNvPr id="221" name=""/>
              <p:cNvSpPr/>
              <p:nvPr/>
            </p:nvSpPr>
            <p:spPr>
              <a:xfrm>
                <a:off x="6408720" y="3917880"/>
                <a:ext cx="220680" cy="2206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9120" y="38782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794280" y="4175280"/>
              <a:ext cx="313200" cy="305640"/>
              <a:chOff x="6794280" y="4175280"/>
              <a:chExt cx="313200" cy="305640"/>
            </a:xfrm>
          </p:grpSpPr>
          <p:sp>
            <p:nvSpPr>
              <p:cNvPr id="224" name=""/>
              <p:cNvSpPr/>
              <p:nvPr/>
            </p:nvSpPr>
            <p:spPr>
              <a:xfrm>
                <a:off x="6834240" y="4214880"/>
                <a:ext cx="220680" cy="2206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94280" y="41752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662520" y="4759200"/>
              <a:ext cx="313200" cy="305640"/>
              <a:chOff x="6662520" y="4759200"/>
              <a:chExt cx="313200" cy="305640"/>
            </a:xfrm>
          </p:grpSpPr>
          <p:sp>
            <p:nvSpPr>
              <p:cNvPr id="227" name=""/>
              <p:cNvSpPr/>
              <p:nvPr/>
            </p:nvSpPr>
            <p:spPr>
              <a:xfrm>
                <a:off x="6703920" y="480060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62520" y="47592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656400" y="5283360"/>
              <a:ext cx="313200" cy="305640"/>
              <a:chOff x="6656400" y="5283360"/>
              <a:chExt cx="313200" cy="305640"/>
            </a:xfrm>
          </p:grpSpPr>
          <p:sp>
            <p:nvSpPr>
              <p:cNvPr id="230" name=""/>
              <p:cNvSpPr/>
              <p:nvPr/>
            </p:nvSpPr>
            <p:spPr>
              <a:xfrm>
                <a:off x="6697800" y="532440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56400" y="52833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232320" y="4834080"/>
              <a:ext cx="313200" cy="305640"/>
              <a:chOff x="6232320" y="4834080"/>
              <a:chExt cx="313200" cy="305640"/>
            </a:xfrm>
          </p:grpSpPr>
          <p:sp>
            <p:nvSpPr>
              <p:cNvPr id="233" name=""/>
              <p:cNvSpPr/>
              <p:nvPr/>
            </p:nvSpPr>
            <p:spPr>
              <a:xfrm>
                <a:off x="6273720" y="487512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232320" y="48340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297480" y="5635800"/>
              <a:ext cx="313200" cy="305640"/>
              <a:chOff x="6297480" y="5635800"/>
              <a:chExt cx="313200" cy="305640"/>
            </a:xfrm>
          </p:grpSpPr>
          <p:sp>
            <p:nvSpPr>
              <p:cNvPr id="236" name=""/>
              <p:cNvSpPr/>
              <p:nvPr/>
            </p:nvSpPr>
            <p:spPr>
              <a:xfrm>
                <a:off x="6338880" y="56768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97480" y="56358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321240" y="5989680"/>
              <a:ext cx="313200" cy="305640"/>
              <a:chOff x="6321240" y="5989680"/>
              <a:chExt cx="313200" cy="305640"/>
            </a:xfrm>
          </p:grpSpPr>
          <p:sp>
            <p:nvSpPr>
              <p:cNvPr id="239" name=""/>
              <p:cNvSpPr/>
              <p:nvPr/>
            </p:nvSpPr>
            <p:spPr>
              <a:xfrm>
                <a:off x="6362640" y="603108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21240" y="59896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434280" y="4565520"/>
              <a:ext cx="240840" cy="237600"/>
              <a:chOff x="6434280" y="4565520"/>
              <a:chExt cx="240840" cy="237600"/>
            </a:xfrm>
          </p:grpSpPr>
          <p:sp>
            <p:nvSpPr>
              <p:cNvPr id="242" name=""/>
              <p:cNvSpPr/>
              <p:nvPr/>
            </p:nvSpPr>
            <p:spPr>
              <a:xfrm>
                <a:off x="6464160" y="4597560"/>
                <a:ext cx="17172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34280" y="456552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724800" y="4011480"/>
              <a:ext cx="240840" cy="237600"/>
              <a:chOff x="6724800" y="4011480"/>
              <a:chExt cx="240840" cy="237600"/>
            </a:xfrm>
          </p:grpSpPr>
          <p:sp>
            <p:nvSpPr>
              <p:cNvPr id="245" name=""/>
              <p:cNvSpPr/>
              <p:nvPr/>
            </p:nvSpPr>
            <p:spPr>
              <a:xfrm>
                <a:off x="6754680" y="404172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24800" y="401148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178760" y="4276800"/>
              <a:ext cx="240840" cy="237600"/>
              <a:chOff x="7178760" y="4276800"/>
              <a:chExt cx="240840" cy="237600"/>
            </a:xfrm>
          </p:grpSpPr>
          <p:sp>
            <p:nvSpPr>
              <p:cNvPr id="248" name=""/>
              <p:cNvSpPr/>
              <p:nvPr/>
            </p:nvSpPr>
            <p:spPr>
              <a:xfrm>
                <a:off x="7209000" y="430848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78760" y="427680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999480" y="4084560"/>
              <a:ext cx="240840" cy="237600"/>
              <a:chOff x="6999480" y="4084560"/>
              <a:chExt cx="240840" cy="23760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9360" y="411480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99480" y="408456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7006680" y="5205240"/>
              <a:ext cx="156960" cy="154440"/>
              <a:chOff x="7006680" y="5205240"/>
              <a:chExt cx="156960" cy="154440"/>
            </a:xfrm>
          </p:grpSpPr>
          <p:sp>
            <p:nvSpPr>
              <p:cNvPr id="254" name=""/>
              <p:cNvSpPr/>
              <p:nvPr/>
            </p:nvSpPr>
            <p:spPr>
              <a:xfrm>
                <a:off x="7034040" y="5232240"/>
                <a:ext cx="101880" cy="101880"/>
              </a:xfrm>
              <a:prstGeom prst="ellipse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06680" y="520524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668280" y="5877000"/>
              <a:ext cx="156960" cy="154440"/>
              <a:chOff x="6668280" y="5877000"/>
              <a:chExt cx="156960" cy="1544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9880" y="5897520"/>
                <a:ext cx="11412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68280" y="587700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965280" y="5711760"/>
              <a:ext cx="156960" cy="154440"/>
              <a:chOff x="6965280" y="5711760"/>
              <a:chExt cx="156960" cy="154440"/>
            </a:xfrm>
          </p:grpSpPr>
          <p:sp>
            <p:nvSpPr>
              <p:cNvPr id="260" name=""/>
              <p:cNvSpPr/>
              <p:nvPr/>
            </p:nvSpPr>
            <p:spPr>
              <a:xfrm>
                <a:off x="6986520" y="5732640"/>
                <a:ext cx="11448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65280" y="571176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800760" y="5877000"/>
              <a:ext cx="313200" cy="305640"/>
              <a:chOff x="6800760" y="5877000"/>
              <a:chExt cx="313200" cy="305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842160" y="59180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00760" y="587700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68960" y="5497560"/>
              <a:ext cx="313200" cy="305640"/>
              <a:chOff x="7068960" y="5497560"/>
              <a:chExt cx="313200" cy="305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110360" y="553896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68960" y="549756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505560" y="3662280"/>
              <a:ext cx="313200" cy="305640"/>
              <a:chOff x="6505560" y="3662280"/>
              <a:chExt cx="313200" cy="305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519960" y="3662280"/>
                <a:ext cx="285480" cy="279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05560" y="36622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369120" y="4254480"/>
              <a:ext cx="320760" cy="312840"/>
              <a:chOff x="6369120" y="4254480"/>
              <a:chExt cx="320760" cy="312840"/>
            </a:xfrm>
          </p:grpSpPr>
          <p:sp>
            <p:nvSpPr>
              <p:cNvPr id="272" name=""/>
              <p:cNvSpPr/>
              <p:nvPr/>
            </p:nvSpPr>
            <p:spPr>
              <a:xfrm>
                <a:off x="6418440" y="4302000"/>
                <a:ext cx="271440" cy="2653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69120" y="425448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599160" y="5994360"/>
              <a:ext cx="340920" cy="330120"/>
              <a:chOff x="6599160" y="5994360"/>
              <a:chExt cx="340920" cy="330120"/>
            </a:xfrm>
          </p:grpSpPr>
          <p:sp>
            <p:nvSpPr>
              <p:cNvPr id="275" name=""/>
              <p:cNvSpPr/>
              <p:nvPr/>
            </p:nvSpPr>
            <p:spPr>
              <a:xfrm>
                <a:off x="6645240" y="6040440"/>
                <a:ext cx="24912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99160" y="5994360"/>
                <a:ext cx="340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tabLst>
                    <a:tab algn="l" pos="0"/>
                    <a:tab algn="l" pos="11066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15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953400" y="5049720"/>
              <a:ext cx="340920" cy="330120"/>
              <a:chOff x="6953400" y="5049720"/>
              <a:chExt cx="340920" cy="330120"/>
            </a:xfrm>
          </p:grpSpPr>
          <p:sp>
            <p:nvSpPr>
              <p:cNvPr id="278" name=""/>
              <p:cNvSpPr/>
              <p:nvPr/>
            </p:nvSpPr>
            <p:spPr>
              <a:xfrm>
                <a:off x="6999120" y="5095800"/>
                <a:ext cx="24948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53400" y="5049720"/>
                <a:ext cx="340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tabLst>
                    <a:tab algn="l" pos="0"/>
                    <a:tab algn="l" pos="11066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15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470640" y="5011560"/>
              <a:ext cx="340920" cy="330120"/>
              <a:chOff x="6470640" y="5011560"/>
              <a:chExt cx="340920" cy="33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6516720" y="5057640"/>
                <a:ext cx="24912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0640" y="5011560"/>
                <a:ext cx="340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>
                  <a:tabLst>
                    <a:tab algn="l" pos="0"/>
                    <a:tab algn="l" pos="1106640"/>
                    <a:tab algn="l" pos="2212920"/>
                    <a:tab algn="l" pos="3319560"/>
                    <a:tab algn="l" pos="4425840"/>
                    <a:tab algn="l" pos="5532480"/>
                    <a:tab algn="l" pos="6638760"/>
                    <a:tab algn="l" pos="7745400"/>
                    <a:tab algn="l" pos="8852040"/>
                    <a:tab algn="l" pos="9958320"/>
                  </a:tabLst>
                </a:pPr>
                <a:r>
                  <a:rPr b="1" lang="en-US" sz="15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537240" y="5541840"/>
              <a:ext cx="313200" cy="305640"/>
              <a:chOff x="6537240" y="5541840"/>
              <a:chExt cx="313200" cy="305640"/>
            </a:xfrm>
          </p:grpSpPr>
          <p:sp>
            <p:nvSpPr>
              <p:cNvPr id="284" name=""/>
              <p:cNvSpPr/>
              <p:nvPr/>
            </p:nvSpPr>
            <p:spPr>
              <a:xfrm>
                <a:off x="6578640" y="55832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37240" y="5541840"/>
                <a:ext cx="313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7223400" y="4816440"/>
              <a:ext cx="240840" cy="237600"/>
              <a:chOff x="7223400" y="4816440"/>
              <a:chExt cx="240840" cy="237600"/>
            </a:xfrm>
          </p:grpSpPr>
          <p:sp>
            <p:nvSpPr>
              <p:cNvPr id="287" name=""/>
              <p:cNvSpPr/>
              <p:nvPr/>
            </p:nvSpPr>
            <p:spPr>
              <a:xfrm>
                <a:off x="7253280" y="4848120"/>
                <a:ext cx="171360" cy="1717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23400" y="481644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7202520" y="5237280"/>
              <a:ext cx="240840" cy="237600"/>
              <a:chOff x="7202520" y="5237280"/>
              <a:chExt cx="240840" cy="237600"/>
            </a:xfrm>
          </p:grpSpPr>
          <p:sp>
            <p:nvSpPr>
              <p:cNvPr id="290" name=""/>
              <p:cNvSpPr/>
              <p:nvPr/>
            </p:nvSpPr>
            <p:spPr>
              <a:xfrm>
                <a:off x="7232760" y="526896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202520" y="523728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153200" y="5824440"/>
              <a:ext cx="240840" cy="237600"/>
              <a:chOff x="7153200" y="5824440"/>
              <a:chExt cx="240840" cy="237600"/>
            </a:xfrm>
          </p:grpSpPr>
          <p:sp>
            <p:nvSpPr>
              <p:cNvPr id="293" name=""/>
              <p:cNvSpPr/>
              <p:nvPr/>
            </p:nvSpPr>
            <p:spPr>
              <a:xfrm>
                <a:off x="7183440" y="5856120"/>
                <a:ext cx="171360" cy="1717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53200" y="582444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086600" y="4576680"/>
              <a:ext cx="240840" cy="237600"/>
              <a:chOff x="7086600" y="4576680"/>
              <a:chExt cx="240840" cy="237600"/>
            </a:xfrm>
          </p:grpSpPr>
          <p:sp>
            <p:nvSpPr>
              <p:cNvPr id="296" name=""/>
              <p:cNvSpPr/>
              <p:nvPr/>
            </p:nvSpPr>
            <p:spPr>
              <a:xfrm>
                <a:off x="7116840" y="4608360"/>
                <a:ext cx="171360" cy="1717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086600" y="457668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8" name="" descr=""/>
            <p:cNvPicPr/>
            <p:nvPr/>
          </p:nvPicPr>
          <p:blipFill>
            <a:blip r:embed="rId22"/>
            <a:stretch/>
          </p:blipFill>
          <p:spPr>
            <a:xfrm>
              <a:off x="5384880" y="5919840"/>
              <a:ext cx="709560" cy="3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9" name=""/>
            <p:cNvGrpSpPr/>
            <p:nvPr/>
          </p:nvGrpSpPr>
          <p:grpSpPr>
            <a:xfrm>
              <a:off x="5397480" y="5189400"/>
              <a:ext cx="536760" cy="212760"/>
              <a:chOff x="5397480" y="5189400"/>
              <a:chExt cx="536760" cy="212760"/>
            </a:xfrm>
          </p:grpSpPr>
          <p:sp>
            <p:nvSpPr>
              <p:cNvPr id="300" name=""/>
              <p:cNvSpPr/>
              <p:nvPr/>
            </p:nvSpPr>
            <p:spPr>
              <a:xfrm>
                <a:off x="5400720" y="5189400"/>
                <a:ext cx="360360" cy="157320"/>
              </a:xfrm>
              <a:custGeom>
                <a:avLst/>
                <a:gdLst/>
                <a:ahLst/>
                <a:rect l="l" t="t" r="r" b="b"/>
                <a:pathLst>
                  <a:path w="227" h="99">
                    <a:moveTo>
                      <a:pt x="117" y="0"/>
                    </a:moveTo>
                    <a:lnTo>
                      <a:pt x="214" y="0"/>
                    </a:lnTo>
                    <a:lnTo>
                      <a:pt x="215" y="1"/>
                    </a:lnTo>
                    <a:lnTo>
                      <a:pt x="216" y="1"/>
                    </a:lnTo>
                    <a:lnTo>
                      <a:pt x="217" y="1"/>
                    </a:lnTo>
                    <a:lnTo>
                      <a:pt x="218" y="2"/>
                    </a:lnTo>
                    <a:lnTo>
                      <a:pt x="219" y="3"/>
                    </a:lnTo>
                    <a:lnTo>
                      <a:pt x="219" y="4"/>
                    </a:lnTo>
                    <a:lnTo>
                      <a:pt x="220" y="5"/>
                    </a:lnTo>
                    <a:lnTo>
                      <a:pt x="223" y="31"/>
                    </a:lnTo>
                    <a:lnTo>
                      <a:pt x="226" y="36"/>
                    </a:lnTo>
                    <a:lnTo>
                      <a:pt x="226" y="48"/>
                    </a:lnTo>
                    <a:lnTo>
                      <a:pt x="223" y="48"/>
                    </a:lnTo>
                    <a:lnTo>
                      <a:pt x="223" y="98"/>
                    </a:lnTo>
                    <a:lnTo>
                      <a:pt x="116" y="98"/>
                    </a:lnTo>
                    <a:lnTo>
                      <a:pt x="112" y="98"/>
                    </a:lnTo>
                    <a:lnTo>
                      <a:pt x="109" y="98"/>
                    </a:lnTo>
                    <a:lnTo>
                      <a:pt x="106" y="97"/>
                    </a:lnTo>
                    <a:lnTo>
                      <a:pt x="102" y="96"/>
                    </a:lnTo>
                    <a:lnTo>
                      <a:pt x="99" y="95"/>
                    </a:lnTo>
                    <a:lnTo>
                      <a:pt x="96" y="94"/>
                    </a:lnTo>
                    <a:lnTo>
                      <a:pt x="94" y="92"/>
                    </a:lnTo>
                    <a:lnTo>
                      <a:pt x="93" y="89"/>
                    </a:lnTo>
                    <a:lnTo>
                      <a:pt x="92" y="87"/>
                    </a:lnTo>
                    <a:lnTo>
                      <a:pt x="91" y="85"/>
                    </a:lnTo>
                    <a:lnTo>
                      <a:pt x="83" y="69"/>
                    </a:lnTo>
                    <a:lnTo>
                      <a:pt x="83" y="68"/>
                    </a:lnTo>
                    <a:lnTo>
                      <a:pt x="98" y="68"/>
                    </a:lnTo>
                    <a:lnTo>
                      <a:pt x="102" y="79"/>
                    </a:lnTo>
                    <a:lnTo>
                      <a:pt x="102" y="80"/>
                    </a:lnTo>
                    <a:lnTo>
                      <a:pt x="103" y="81"/>
                    </a:lnTo>
                    <a:lnTo>
                      <a:pt x="104" y="81"/>
                    </a:lnTo>
                    <a:lnTo>
                      <a:pt x="105" y="82"/>
                    </a:lnTo>
                    <a:lnTo>
                      <a:pt x="106" y="83"/>
                    </a:lnTo>
                    <a:lnTo>
                      <a:pt x="107" y="84"/>
                    </a:lnTo>
                    <a:lnTo>
                      <a:pt x="108" y="84"/>
                    </a:lnTo>
                    <a:lnTo>
                      <a:pt x="109" y="84"/>
                    </a:lnTo>
                    <a:lnTo>
                      <a:pt x="139" y="84"/>
                    </a:lnTo>
                    <a:lnTo>
                      <a:pt x="142" y="87"/>
                    </a:lnTo>
                    <a:lnTo>
                      <a:pt x="172" y="87"/>
                    </a:lnTo>
                    <a:lnTo>
                      <a:pt x="175" y="84"/>
                    </a:lnTo>
                    <a:lnTo>
                      <a:pt x="213" y="84"/>
                    </a:lnTo>
                    <a:lnTo>
                      <a:pt x="215" y="84"/>
                    </a:lnTo>
                    <a:lnTo>
                      <a:pt x="216" y="82"/>
                    </a:lnTo>
                    <a:lnTo>
                      <a:pt x="217" y="81"/>
                    </a:lnTo>
                    <a:lnTo>
                      <a:pt x="217" y="79"/>
                    </a:lnTo>
                    <a:lnTo>
                      <a:pt x="217" y="76"/>
                    </a:lnTo>
                    <a:lnTo>
                      <a:pt x="219" y="76"/>
                    </a:lnTo>
                    <a:lnTo>
                      <a:pt x="219" y="72"/>
                    </a:lnTo>
                    <a:lnTo>
                      <a:pt x="217" y="72"/>
                    </a:lnTo>
                    <a:lnTo>
                      <a:pt x="217" y="50"/>
                    </a:lnTo>
                    <a:lnTo>
                      <a:pt x="219" y="50"/>
                    </a:lnTo>
                    <a:lnTo>
                      <a:pt x="219" y="46"/>
                    </a:lnTo>
                    <a:lnTo>
                      <a:pt x="217" y="46"/>
                    </a:lnTo>
                    <a:lnTo>
                      <a:pt x="217" y="43"/>
                    </a:lnTo>
                    <a:lnTo>
                      <a:pt x="213" y="12"/>
                    </a:lnTo>
                    <a:lnTo>
                      <a:pt x="213" y="10"/>
                    </a:lnTo>
                    <a:lnTo>
                      <a:pt x="212" y="8"/>
                    </a:lnTo>
                    <a:lnTo>
                      <a:pt x="211" y="7"/>
                    </a:lnTo>
                    <a:lnTo>
                      <a:pt x="209" y="7"/>
                    </a:lnTo>
                    <a:lnTo>
                      <a:pt x="163" y="7"/>
                    </a:lnTo>
                    <a:lnTo>
                      <a:pt x="148" y="7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101" y="9"/>
                    </a:lnTo>
                    <a:lnTo>
                      <a:pt x="100" y="10"/>
                    </a:lnTo>
                    <a:lnTo>
                      <a:pt x="100" y="12"/>
                    </a:lnTo>
                    <a:lnTo>
                      <a:pt x="89" y="43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3" y="29"/>
                    </a:lnTo>
                    <a:lnTo>
                      <a:pt x="19" y="27"/>
                    </a:lnTo>
                    <a:lnTo>
                      <a:pt x="24" y="25"/>
                    </a:lnTo>
                    <a:lnTo>
                      <a:pt x="29" y="22"/>
                    </a:lnTo>
                    <a:lnTo>
                      <a:pt x="36" y="20"/>
                    </a:lnTo>
                    <a:lnTo>
                      <a:pt x="41" y="19"/>
                    </a:lnTo>
                    <a:lnTo>
                      <a:pt x="47" y="17"/>
                    </a:lnTo>
                    <a:lnTo>
                      <a:pt x="52" y="14"/>
                    </a:lnTo>
                    <a:lnTo>
                      <a:pt x="59" y="13"/>
                    </a:lnTo>
                    <a:lnTo>
                      <a:pt x="64" y="11"/>
                    </a:lnTo>
                    <a:lnTo>
                      <a:pt x="70" y="9"/>
                    </a:lnTo>
                    <a:lnTo>
                      <a:pt x="75" y="7"/>
                    </a:lnTo>
                    <a:lnTo>
                      <a:pt x="80" y="5"/>
                    </a:lnTo>
                    <a:lnTo>
                      <a:pt x="87" y="4"/>
                    </a:lnTo>
                    <a:lnTo>
                      <a:pt x="93" y="3"/>
                    </a:lnTo>
                    <a:lnTo>
                      <a:pt x="98" y="1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00720" y="5256360"/>
                <a:ext cx="158760" cy="5400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0" y="1"/>
                    </a:moveTo>
                    <a:lnTo>
                      <a:pt x="90" y="0"/>
                    </a:lnTo>
                    <a:lnTo>
                      <a:pt x="99" y="25"/>
                    </a:lnTo>
                    <a:lnTo>
                      <a:pt x="84" y="25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1" y="21"/>
                    </a:lnTo>
                    <a:lnTo>
                      <a:pt x="80" y="19"/>
                    </a:lnTo>
                    <a:lnTo>
                      <a:pt x="79" y="19"/>
                    </a:lnTo>
                    <a:lnTo>
                      <a:pt x="78" y="19"/>
                    </a:lnTo>
                    <a:lnTo>
                      <a:pt x="78" y="18"/>
                    </a:lnTo>
                    <a:lnTo>
                      <a:pt x="77" y="18"/>
                    </a:lnTo>
                    <a:lnTo>
                      <a:pt x="74" y="16"/>
                    </a:lnTo>
                    <a:lnTo>
                      <a:pt x="71" y="15"/>
                    </a:lnTo>
                    <a:lnTo>
                      <a:pt x="69" y="14"/>
                    </a:lnTo>
                    <a:lnTo>
                      <a:pt x="65" y="14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57" y="14"/>
                    </a:lnTo>
                    <a:lnTo>
                      <a:pt x="54" y="14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4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5" y="15"/>
                    </a:lnTo>
                    <a:lnTo>
                      <a:pt x="33" y="16"/>
                    </a:lnTo>
                    <a:lnTo>
                      <a:pt x="29" y="17"/>
                    </a:lnTo>
                    <a:lnTo>
                      <a:pt x="19" y="33"/>
                    </a:lnTo>
                    <a:lnTo>
                      <a:pt x="0" y="33"/>
                    </a:lnTo>
                    <a:lnTo>
                      <a:pt x="0" y="7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49840" y="520056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62" h="77">
                    <a:moveTo>
                      <a:pt x="18" y="76"/>
                    </a:moveTo>
                    <a:lnTo>
                      <a:pt x="5" y="76"/>
                    </a:lnTo>
                    <a:lnTo>
                      <a:pt x="3" y="76"/>
                    </a:lnTo>
                    <a:lnTo>
                      <a:pt x="2" y="74"/>
                    </a:lnTo>
                    <a:lnTo>
                      <a:pt x="1" y="73"/>
                    </a:lnTo>
                    <a:lnTo>
                      <a:pt x="0" y="7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6" y="1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61" y="35"/>
                    </a:lnTo>
                    <a:lnTo>
                      <a:pt x="61" y="39"/>
                    </a:lnTo>
                    <a:lnTo>
                      <a:pt x="58" y="39"/>
                    </a:lnTo>
                    <a:lnTo>
                      <a:pt x="55" y="41"/>
                    </a:lnTo>
                    <a:lnTo>
                      <a:pt x="58" y="42"/>
                    </a:lnTo>
                    <a:lnTo>
                      <a:pt x="61" y="42"/>
                    </a:lnTo>
                    <a:lnTo>
                      <a:pt x="61" y="65"/>
                    </a:lnTo>
                    <a:lnTo>
                      <a:pt x="58" y="65"/>
                    </a:lnTo>
                    <a:lnTo>
                      <a:pt x="55" y="67"/>
                    </a:lnTo>
                    <a:lnTo>
                      <a:pt x="58" y="68"/>
                    </a:lnTo>
                    <a:lnTo>
                      <a:pt x="61" y="68"/>
                    </a:lnTo>
                    <a:lnTo>
                      <a:pt x="61" y="72"/>
                    </a:lnTo>
                    <a:lnTo>
                      <a:pt x="61" y="73"/>
                    </a:lnTo>
                    <a:lnTo>
                      <a:pt x="60" y="74"/>
                    </a:lnTo>
                    <a:lnTo>
                      <a:pt x="58" y="76"/>
                    </a:lnTo>
                    <a:lnTo>
                      <a:pt x="56" y="76"/>
                    </a:lnTo>
                    <a:lnTo>
                      <a:pt x="18" y="7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37240" y="5200560"/>
                <a:ext cx="27000" cy="12240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76"/>
                    </a:moveTo>
                    <a:lnTo>
                      <a:pt x="0" y="76"/>
                    </a:lnTo>
                    <a:lnTo>
                      <a:pt x="2" y="76"/>
                    </a:lnTo>
                    <a:lnTo>
                      <a:pt x="3" y="74"/>
                    </a:lnTo>
                    <a:lnTo>
                      <a:pt x="4" y="73"/>
                    </a:lnTo>
                    <a:lnTo>
                      <a:pt x="4" y="72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72"/>
                    </a:lnTo>
                    <a:lnTo>
                      <a:pt x="11" y="73"/>
                    </a:lnTo>
                    <a:lnTo>
                      <a:pt x="12" y="74"/>
                    </a:lnTo>
                    <a:lnTo>
                      <a:pt x="13" y="76"/>
                    </a:lnTo>
                    <a:lnTo>
                      <a:pt x="16" y="7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3640" y="5200560"/>
                <a:ext cx="101520" cy="122400"/>
              </a:xfrm>
              <a:custGeom>
                <a:avLst/>
                <a:gdLst/>
                <a:ahLst/>
                <a:rect l="l" t="t" r="r" b="b"/>
                <a:pathLst>
                  <a:path w="64" h="77">
                    <a:moveTo>
                      <a:pt x="59" y="76"/>
                    </a:moveTo>
                    <a:lnTo>
                      <a:pt x="20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6" y="74"/>
                    </a:lnTo>
                    <a:lnTo>
                      <a:pt x="15" y="73"/>
                    </a:lnTo>
                    <a:lnTo>
                      <a:pt x="14" y="73"/>
                    </a:lnTo>
                    <a:lnTo>
                      <a:pt x="13" y="72"/>
                    </a:lnTo>
                    <a:lnTo>
                      <a:pt x="9" y="60"/>
                    </a:lnTo>
                    <a:lnTo>
                      <a:pt x="0" y="3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2" y="1"/>
                    </a:lnTo>
                    <a:lnTo>
                      <a:pt x="63" y="3"/>
                    </a:lnTo>
                    <a:lnTo>
                      <a:pt x="63" y="4"/>
                    </a:lnTo>
                    <a:lnTo>
                      <a:pt x="63" y="39"/>
                    </a:lnTo>
                    <a:lnTo>
                      <a:pt x="59" y="39"/>
                    </a:lnTo>
                    <a:lnTo>
                      <a:pt x="57" y="41"/>
                    </a:lnTo>
                    <a:lnTo>
                      <a:pt x="59" y="42"/>
                    </a:lnTo>
                    <a:lnTo>
                      <a:pt x="63" y="42"/>
                    </a:lnTo>
                    <a:lnTo>
                      <a:pt x="63" y="65"/>
                    </a:lnTo>
                    <a:lnTo>
                      <a:pt x="59" y="65"/>
                    </a:lnTo>
                    <a:lnTo>
                      <a:pt x="57" y="67"/>
                    </a:lnTo>
                    <a:lnTo>
                      <a:pt x="59" y="68"/>
                    </a:lnTo>
                    <a:lnTo>
                      <a:pt x="63" y="68"/>
                    </a:lnTo>
                    <a:lnTo>
                      <a:pt x="63" y="72"/>
                    </a:lnTo>
                    <a:lnTo>
                      <a:pt x="63" y="73"/>
                    </a:lnTo>
                    <a:lnTo>
                      <a:pt x="62" y="74"/>
                    </a:lnTo>
                    <a:lnTo>
                      <a:pt x="60" y="76"/>
                    </a:lnTo>
                    <a:lnTo>
                      <a:pt x="59" y="7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29160" y="5278320"/>
                <a:ext cx="119160" cy="4932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74" y="30"/>
                    </a:moveTo>
                    <a:lnTo>
                      <a:pt x="67" y="30"/>
                    </a:lnTo>
                    <a:lnTo>
                      <a:pt x="66" y="28"/>
                    </a:lnTo>
                    <a:lnTo>
                      <a:pt x="62" y="21"/>
                    </a:lnTo>
                    <a:lnTo>
                      <a:pt x="59" y="18"/>
                    </a:lnTo>
                    <a:lnTo>
                      <a:pt x="56" y="16"/>
                    </a:lnTo>
                    <a:lnTo>
                      <a:pt x="53" y="13"/>
                    </a:lnTo>
                    <a:lnTo>
                      <a:pt x="48" y="10"/>
                    </a:lnTo>
                    <a:lnTo>
                      <a:pt x="42" y="9"/>
                    </a:lnTo>
                    <a:lnTo>
                      <a:pt x="36" y="8"/>
                    </a:lnTo>
                    <a:lnTo>
                      <a:pt x="30" y="9"/>
                    </a:lnTo>
                    <a:lnTo>
                      <a:pt x="23" y="10"/>
                    </a:lnTo>
                    <a:lnTo>
                      <a:pt x="17" y="13"/>
                    </a:lnTo>
                    <a:lnTo>
                      <a:pt x="13" y="18"/>
                    </a:lnTo>
                    <a:lnTo>
                      <a:pt x="6" y="18"/>
                    </a:lnTo>
                    <a:lnTo>
                      <a:pt x="0" y="19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59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5" y="11"/>
                    </a:lnTo>
                    <a:lnTo>
                      <a:pt x="65" y="12"/>
                    </a:lnTo>
                    <a:lnTo>
                      <a:pt x="73" y="28"/>
                    </a:lnTo>
                    <a:lnTo>
                      <a:pt x="74" y="3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64400" y="526896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4" y="9"/>
                    </a:moveTo>
                    <a:lnTo>
                      <a:pt x="24" y="17"/>
                    </a:lnTo>
                    <a:lnTo>
                      <a:pt x="26" y="20"/>
                    </a:lnTo>
                    <a:lnTo>
                      <a:pt x="23" y="20"/>
                    </a:lnTo>
                    <a:lnTo>
                      <a:pt x="17" y="20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2" y="6"/>
                    </a:lnTo>
                    <a:lnTo>
                      <a:pt x="24" y="9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59280" y="5246640"/>
                <a:ext cx="111240" cy="4464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66" y="14"/>
                    </a:lnTo>
                    <a:lnTo>
                      <a:pt x="69" y="21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1" y="20"/>
                    </a:lnTo>
                    <a:lnTo>
                      <a:pt x="59" y="20"/>
                    </a:lnTo>
                    <a:lnTo>
                      <a:pt x="56" y="20"/>
                    </a:lnTo>
                    <a:lnTo>
                      <a:pt x="50" y="20"/>
                    </a:lnTo>
                    <a:lnTo>
                      <a:pt x="46" y="20"/>
                    </a:lnTo>
                    <a:lnTo>
                      <a:pt x="43" y="20"/>
                    </a:lnTo>
                    <a:lnTo>
                      <a:pt x="41" y="20"/>
                    </a:lnTo>
                    <a:lnTo>
                      <a:pt x="38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2" y="24"/>
                    </a:lnTo>
                    <a:lnTo>
                      <a:pt x="30" y="25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2" y="27"/>
                    </a:lnTo>
                    <a:lnTo>
                      <a:pt x="19" y="25"/>
                    </a:lnTo>
                    <a:lnTo>
                      <a:pt x="21" y="23"/>
                    </a:lnTo>
                    <a:lnTo>
                      <a:pt x="24" y="22"/>
                    </a:lnTo>
                    <a:lnTo>
                      <a:pt x="29" y="17"/>
                    </a:lnTo>
                    <a:lnTo>
                      <a:pt x="30" y="15"/>
                    </a:lnTo>
                    <a:lnTo>
                      <a:pt x="29" y="14"/>
                    </a:lnTo>
                    <a:lnTo>
                      <a:pt x="28" y="11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18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91320" y="529416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" y="50"/>
                    </a:moveTo>
                    <a:lnTo>
                      <a:pt x="3" y="45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3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3" y="20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0" y="9"/>
                    </a:lnTo>
                    <a:lnTo>
                      <a:pt x="12" y="11"/>
                    </a:lnTo>
                    <a:lnTo>
                      <a:pt x="10" y="9"/>
                    </a:lnTo>
                    <a:lnTo>
                      <a:pt x="14" y="5"/>
                    </a:lnTo>
                    <a:lnTo>
                      <a:pt x="20" y="3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6" y="3"/>
                    </a:lnTo>
                    <a:lnTo>
                      <a:pt x="51" y="5"/>
                    </a:lnTo>
                    <a:lnTo>
                      <a:pt x="54" y="7"/>
                    </a:lnTo>
                    <a:lnTo>
                      <a:pt x="56" y="9"/>
                    </a:lnTo>
                    <a:lnTo>
                      <a:pt x="54" y="11"/>
                    </a:lnTo>
                    <a:lnTo>
                      <a:pt x="56" y="9"/>
                    </a:lnTo>
                    <a:lnTo>
                      <a:pt x="60" y="14"/>
                    </a:lnTo>
                    <a:lnTo>
                      <a:pt x="63" y="20"/>
                    </a:lnTo>
                    <a:lnTo>
                      <a:pt x="65" y="25"/>
                    </a:lnTo>
                    <a:lnTo>
                      <a:pt x="66" y="33"/>
                    </a:lnTo>
                    <a:lnTo>
                      <a:pt x="65" y="38"/>
                    </a:lnTo>
                    <a:lnTo>
                      <a:pt x="63" y="45"/>
                    </a:lnTo>
                    <a:lnTo>
                      <a:pt x="61" y="44"/>
                    </a:lnTo>
                    <a:lnTo>
                      <a:pt x="63" y="45"/>
                    </a:lnTo>
                    <a:lnTo>
                      <a:pt x="60" y="50"/>
                    </a:lnTo>
                    <a:lnTo>
                      <a:pt x="58" y="49"/>
                    </a:lnTo>
                    <a:lnTo>
                      <a:pt x="60" y="50"/>
                    </a:lnTo>
                    <a:lnTo>
                      <a:pt x="56" y="56"/>
                    </a:lnTo>
                    <a:lnTo>
                      <a:pt x="51" y="59"/>
                    </a:lnTo>
                    <a:lnTo>
                      <a:pt x="46" y="62"/>
                    </a:lnTo>
                    <a:lnTo>
                      <a:pt x="39" y="64"/>
                    </a:lnTo>
                    <a:lnTo>
                      <a:pt x="33" y="65"/>
                    </a:lnTo>
                    <a:lnTo>
                      <a:pt x="27" y="64"/>
                    </a:lnTo>
                    <a:lnTo>
                      <a:pt x="20" y="62"/>
                    </a:lnTo>
                    <a:lnTo>
                      <a:pt x="14" y="59"/>
                    </a:lnTo>
                    <a:lnTo>
                      <a:pt x="10" y="56"/>
                    </a:lnTo>
                    <a:lnTo>
                      <a:pt x="6" y="50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35640" y="5289480"/>
                <a:ext cx="104760" cy="106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55" y="10"/>
                    </a:moveTo>
                    <a:lnTo>
                      <a:pt x="59" y="14"/>
                    </a:lnTo>
                    <a:lnTo>
                      <a:pt x="62" y="21"/>
                    </a:lnTo>
                    <a:lnTo>
                      <a:pt x="63" y="23"/>
                    </a:lnTo>
                    <a:lnTo>
                      <a:pt x="64" y="27"/>
                    </a:lnTo>
                    <a:lnTo>
                      <a:pt x="65" y="33"/>
                    </a:lnTo>
                    <a:lnTo>
                      <a:pt x="64" y="40"/>
                    </a:lnTo>
                    <a:lnTo>
                      <a:pt x="62" y="45"/>
                    </a:lnTo>
                    <a:lnTo>
                      <a:pt x="59" y="45"/>
                    </a:lnTo>
                    <a:lnTo>
                      <a:pt x="62" y="45"/>
                    </a:lnTo>
                    <a:lnTo>
                      <a:pt x="59" y="52"/>
                    </a:lnTo>
                    <a:lnTo>
                      <a:pt x="57" y="50"/>
                    </a:lnTo>
                    <a:lnTo>
                      <a:pt x="59" y="52"/>
                    </a:lnTo>
                    <a:lnTo>
                      <a:pt x="55" y="56"/>
                    </a:lnTo>
                    <a:lnTo>
                      <a:pt x="50" y="61"/>
                    </a:lnTo>
                    <a:lnTo>
                      <a:pt x="45" y="63"/>
                    </a:lnTo>
                    <a:lnTo>
                      <a:pt x="39" y="65"/>
                    </a:lnTo>
                    <a:lnTo>
                      <a:pt x="33" y="66"/>
                    </a:lnTo>
                    <a:lnTo>
                      <a:pt x="26" y="65"/>
                    </a:lnTo>
                    <a:lnTo>
                      <a:pt x="19" y="63"/>
                    </a:lnTo>
                    <a:lnTo>
                      <a:pt x="14" y="61"/>
                    </a:lnTo>
                    <a:lnTo>
                      <a:pt x="10" y="56"/>
                    </a:lnTo>
                    <a:lnTo>
                      <a:pt x="6" y="52"/>
                    </a:lnTo>
                    <a:lnTo>
                      <a:pt x="8" y="50"/>
                    </a:lnTo>
                    <a:lnTo>
                      <a:pt x="6" y="52"/>
                    </a:lnTo>
                    <a:lnTo>
                      <a:pt x="3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1" y="27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10" y="10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9" y="3"/>
                    </a:lnTo>
                    <a:lnTo>
                      <a:pt x="26" y="1"/>
                    </a:lnTo>
                    <a:lnTo>
                      <a:pt x="33" y="0"/>
                    </a:lnTo>
                    <a:lnTo>
                      <a:pt x="39" y="1"/>
                    </a:lnTo>
                    <a:lnTo>
                      <a:pt x="45" y="3"/>
                    </a:lnTo>
                    <a:lnTo>
                      <a:pt x="50" y="6"/>
                    </a:lnTo>
                    <a:lnTo>
                      <a:pt x="52" y="8"/>
                    </a:lnTo>
                    <a:lnTo>
                      <a:pt x="55" y="10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02480" y="524988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64" h="22">
                    <a:moveTo>
                      <a:pt x="0" y="0"/>
                    </a:moveTo>
                    <a:lnTo>
                      <a:pt x="4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3" y="4"/>
                    </a:lnTo>
                    <a:lnTo>
                      <a:pt x="26" y="5"/>
                    </a:lnTo>
                    <a:lnTo>
                      <a:pt x="30" y="6"/>
                    </a:lnTo>
                    <a:lnTo>
                      <a:pt x="33" y="7"/>
                    </a:lnTo>
                    <a:lnTo>
                      <a:pt x="37" y="8"/>
                    </a:lnTo>
                    <a:lnTo>
                      <a:pt x="40" y="8"/>
                    </a:lnTo>
                    <a:lnTo>
                      <a:pt x="44" y="10"/>
                    </a:lnTo>
                    <a:lnTo>
                      <a:pt x="47" y="11"/>
                    </a:lnTo>
                    <a:lnTo>
                      <a:pt x="51" y="11"/>
                    </a:lnTo>
                    <a:lnTo>
                      <a:pt x="55" y="12"/>
                    </a:lnTo>
                    <a:lnTo>
                      <a:pt x="59" y="13"/>
                    </a:lnTo>
                    <a:lnTo>
                      <a:pt x="61" y="15"/>
                    </a:lnTo>
                    <a:lnTo>
                      <a:pt x="63" y="17"/>
                    </a:lnTo>
                    <a:lnTo>
                      <a:pt x="63" y="21"/>
                    </a:lnTo>
                    <a:lnTo>
                      <a:pt x="61" y="18"/>
                    </a:lnTo>
                    <a:lnTo>
                      <a:pt x="60" y="16"/>
                    </a:lnTo>
                    <a:lnTo>
                      <a:pt x="58" y="15"/>
                    </a:lnTo>
                    <a:lnTo>
                      <a:pt x="39" y="12"/>
                    </a:lnTo>
                    <a:lnTo>
                      <a:pt x="6" y="9"/>
                    </a:lnTo>
                    <a:lnTo>
                      <a:pt x="4" y="8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46800" y="530388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26" y="0"/>
                    </a:moveTo>
                    <a:lnTo>
                      <a:pt x="30" y="0"/>
                    </a:lnTo>
                    <a:lnTo>
                      <a:pt x="35" y="2"/>
                    </a:lnTo>
                    <a:lnTo>
                      <a:pt x="40" y="4"/>
                    </a:lnTo>
                    <a:lnTo>
                      <a:pt x="43" y="7"/>
                    </a:lnTo>
                    <a:lnTo>
                      <a:pt x="46" y="10"/>
                    </a:lnTo>
                    <a:lnTo>
                      <a:pt x="49" y="15"/>
                    </a:lnTo>
                    <a:lnTo>
                      <a:pt x="49" y="19"/>
                    </a:lnTo>
                    <a:lnTo>
                      <a:pt x="50" y="25"/>
                    </a:lnTo>
                    <a:lnTo>
                      <a:pt x="49" y="30"/>
                    </a:lnTo>
                    <a:lnTo>
                      <a:pt x="49" y="34"/>
                    </a:lnTo>
                    <a:lnTo>
                      <a:pt x="46" y="39"/>
                    </a:lnTo>
                    <a:lnTo>
                      <a:pt x="43" y="42"/>
                    </a:lnTo>
                    <a:lnTo>
                      <a:pt x="40" y="46"/>
                    </a:lnTo>
                    <a:lnTo>
                      <a:pt x="35" y="47"/>
                    </a:lnTo>
                    <a:lnTo>
                      <a:pt x="30" y="49"/>
                    </a:lnTo>
                    <a:lnTo>
                      <a:pt x="26" y="50"/>
                    </a:lnTo>
                    <a:lnTo>
                      <a:pt x="21" y="49"/>
                    </a:lnTo>
                    <a:lnTo>
                      <a:pt x="16" y="47"/>
                    </a:lnTo>
                    <a:lnTo>
                      <a:pt x="12" y="46"/>
                    </a:lnTo>
                    <a:lnTo>
                      <a:pt x="8" y="42"/>
                    </a:lnTo>
                    <a:lnTo>
                      <a:pt x="5" y="39"/>
                    </a:lnTo>
                    <a:lnTo>
                      <a:pt x="3" y="34"/>
                    </a:lnTo>
                    <a:lnTo>
                      <a:pt x="1" y="30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3" y="15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1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05360" y="53071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4" y="0"/>
                    </a:moveTo>
                    <a:lnTo>
                      <a:pt x="30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5" y="10"/>
                    </a:lnTo>
                    <a:lnTo>
                      <a:pt x="47" y="15"/>
                    </a:lnTo>
                    <a:lnTo>
                      <a:pt x="49" y="19"/>
                    </a:lnTo>
                    <a:lnTo>
                      <a:pt x="49" y="25"/>
                    </a:lnTo>
                    <a:lnTo>
                      <a:pt x="49" y="30"/>
                    </a:lnTo>
                    <a:lnTo>
                      <a:pt x="47" y="34"/>
                    </a:lnTo>
                    <a:lnTo>
                      <a:pt x="45" y="39"/>
                    </a:lnTo>
                    <a:lnTo>
                      <a:pt x="42" y="42"/>
                    </a:lnTo>
                    <a:lnTo>
                      <a:pt x="38" y="45"/>
                    </a:lnTo>
                    <a:lnTo>
                      <a:pt x="34" y="48"/>
                    </a:lnTo>
                    <a:lnTo>
                      <a:pt x="30" y="48"/>
                    </a:lnTo>
                    <a:lnTo>
                      <a:pt x="24" y="49"/>
                    </a:lnTo>
                    <a:lnTo>
                      <a:pt x="20" y="48"/>
                    </a:lnTo>
                    <a:lnTo>
                      <a:pt x="15" y="48"/>
                    </a:lnTo>
                    <a:lnTo>
                      <a:pt x="10" y="45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1" y="30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54600" y="526572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32" y="16"/>
                    </a:moveTo>
                    <a:lnTo>
                      <a:pt x="25" y="32"/>
                    </a:lnTo>
                    <a:lnTo>
                      <a:pt x="17" y="46"/>
                    </a:lnTo>
                    <a:lnTo>
                      <a:pt x="15" y="5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2" y="14"/>
                    </a:lnTo>
                    <a:lnTo>
                      <a:pt x="25" y="16"/>
                    </a:lnTo>
                    <a:lnTo>
                      <a:pt x="32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62440" y="521028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1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7" y="23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67480" y="521352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39" y="22"/>
                    </a:moveTo>
                    <a:lnTo>
                      <a:pt x="3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2" y="19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0" y="22"/>
                    </a:lnTo>
                    <a:lnTo>
                      <a:pt x="39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4240" y="520704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16"/>
                    </a:moveTo>
                    <a:lnTo>
                      <a:pt x="3" y="0"/>
                    </a:lnTo>
                    <a:lnTo>
                      <a:pt x="40" y="0"/>
                    </a:lnTo>
                    <a:lnTo>
                      <a:pt x="43" y="16"/>
                    </a:lnTo>
                    <a:lnTo>
                      <a:pt x="42" y="12"/>
                    </a:lnTo>
                    <a:lnTo>
                      <a:pt x="41" y="12"/>
                    </a:lnTo>
                    <a:lnTo>
                      <a:pt x="40" y="8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68840" y="5210280"/>
                <a:ext cx="66960" cy="4284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1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1" y="23"/>
                    </a:lnTo>
                    <a:lnTo>
                      <a:pt x="41" y="24"/>
                    </a:lnTo>
                    <a:lnTo>
                      <a:pt x="41" y="25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54720" y="53118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24" y="0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5" y="5"/>
                    </a:lnTo>
                    <a:lnTo>
                      <a:pt x="37" y="9"/>
                    </a:lnTo>
                    <a:lnTo>
                      <a:pt x="38" y="11"/>
                    </a:lnTo>
                    <a:lnTo>
                      <a:pt x="39" y="16"/>
                    </a:lnTo>
                    <a:lnTo>
                      <a:pt x="40" y="20"/>
                    </a:lnTo>
                    <a:lnTo>
                      <a:pt x="39" y="24"/>
                    </a:lnTo>
                    <a:lnTo>
                      <a:pt x="38" y="27"/>
                    </a:lnTo>
                    <a:lnTo>
                      <a:pt x="37" y="31"/>
                    </a:lnTo>
                    <a:lnTo>
                      <a:pt x="35" y="34"/>
                    </a:lnTo>
                    <a:lnTo>
                      <a:pt x="31" y="36"/>
                    </a:lnTo>
                    <a:lnTo>
                      <a:pt x="28" y="38"/>
                    </a:lnTo>
                    <a:lnTo>
                      <a:pt x="24" y="39"/>
                    </a:lnTo>
                    <a:lnTo>
                      <a:pt x="21" y="40"/>
                    </a:lnTo>
                    <a:lnTo>
                      <a:pt x="16" y="39"/>
                    </a:lnTo>
                    <a:lnTo>
                      <a:pt x="13" y="38"/>
                    </a:lnTo>
                    <a:lnTo>
                      <a:pt x="9" y="36"/>
                    </a:lnTo>
                    <a:lnTo>
                      <a:pt x="6" y="34"/>
                    </a:lnTo>
                    <a:lnTo>
                      <a:pt x="4" y="31"/>
                    </a:lnTo>
                    <a:lnTo>
                      <a:pt x="2" y="27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68840" y="52070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16"/>
                    </a:moveTo>
                    <a:lnTo>
                      <a:pt x="3" y="0"/>
                    </a:lnTo>
                    <a:lnTo>
                      <a:pt x="38" y="0"/>
                    </a:lnTo>
                    <a:lnTo>
                      <a:pt x="40" y="12"/>
                    </a:lnTo>
                    <a:lnTo>
                      <a:pt x="39" y="12"/>
                    </a:lnTo>
                    <a:lnTo>
                      <a:pt x="38" y="8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72080" y="5213520"/>
                <a:ext cx="61920" cy="363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35" y="22"/>
                    </a:moveTo>
                    <a:lnTo>
                      <a:pt x="3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3"/>
                    </a:lnTo>
                    <a:lnTo>
                      <a:pt x="38" y="19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6" y="22"/>
                    </a:lnTo>
                    <a:lnTo>
                      <a:pt x="35" y="2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621400" y="532116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6" y="0"/>
                    </a:moveTo>
                    <a:lnTo>
                      <a:pt x="33" y="16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97480" y="530712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21" y="1"/>
                    </a:moveTo>
                    <a:lnTo>
                      <a:pt x="27" y="1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31" y="5"/>
                    </a:lnTo>
                    <a:lnTo>
                      <a:pt x="27" y="14"/>
                    </a:lnTo>
                    <a:lnTo>
                      <a:pt x="27" y="16"/>
                    </a:lnTo>
                    <a:lnTo>
                      <a:pt x="7" y="16"/>
                    </a:lnTo>
                    <a:lnTo>
                      <a:pt x="2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1"/>
                    </a:lnTo>
                    <a:lnTo>
                      <a:pt x="21" y="1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65880" y="532116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0"/>
                    </a:moveTo>
                    <a:lnTo>
                      <a:pt x="18" y="1"/>
                    </a:lnTo>
                    <a:lnTo>
                      <a:pt x="23" y="4"/>
                    </a:lnTo>
                    <a:lnTo>
                      <a:pt x="25" y="7"/>
                    </a:lnTo>
                    <a:lnTo>
                      <a:pt x="26" y="13"/>
                    </a:lnTo>
                    <a:lnTo>
                      <a:pt x="25" y="18"/>
                    </a:lnTo>
                    <a:lnTo>
                      <a:pt x="23" y="23"/>
                    </a:lnTo>
                    <a:lnTo>
                      <a:pt x="18" y="26"/>
                    </a:lnTo>
                    <a:lnTo>
                      <a:pt x="14" y="27"/>
                    </a:lnTo>
                    <a:lnTo>
                      <a:pt x="8" y="26"/>
                    </a:lnTo>
                    <a:lnTo>
                      <a:pt x="4" y="23"/>
                    </a:lnTo>
                    <a:lnTo>
                      <a:pt x="1" y="18"/>
                    </a:ln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07240" y="53071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17"/>
                    </a:moveTo>
                    <a:lnTo>
                      <a:pt x="8" y="16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7"/>
                    </a:lnTo>
                    <a:lnTo>
                      <a:pt x="12" y="19"/>
                    </a:lnTo>
                    <a:lnTo>
                      <a:pt x="4" y="19"/>
                    </a:lnTo>
                    <a:lnTo>
                      <a:pt x="2" y="17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18080" y="526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5" y="16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83400" y="5311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8" y="2"/>
                    </a:moveTo>
                    <a:lnTo>
                      <a:pt x="16" y="0"/>
                    </a:lnTo>
                    <a:lnTo>
                      <a:pt x="13" y="2"/>
                    </a:lnTo>
                    <a:lnTo>
                      <a:pt x="10" y="9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0" y="17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84840" y="5262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16"/>
                    </a:moveTo>
                    <a:lnTo>
                      <a:pt x="3" y="14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3" y="6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9" y="12"/>
                    </a:lnTo>
                    <a:lnTo>
                      <a:pt x="5" y="13"/>
                    </a:lnTo>
                    <a:lnTo>
                      <a:pt x="4" y="16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16560" y="526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97520" y="5324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3"/>
                    </a:lnTo>
                    <a:lnTo>
                      <a:pt x="9" y="16"/>
                    </a:lnTo>
                    <a:lnTo>
                      <a:pt x="6" y="16"/>
                    </a:lnTo>
                    <a:lnTo>
                      <a:pt x="1" y="13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78480" y="533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1" y="1"/>
                    </a:lnTo>
                    <a:lnTo>
                      <a:pt x="12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2" y="13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4" y="16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5297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99320" y="53085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91040" y="530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12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84840" y="52754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6"/>
                    </a:moveTo>
                    <a:lnTo>
                      <a:pt x="0" y="11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18240" y="5235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3" y="16"/>
                    </a:lnTo>
                    <a:lnTo>
                      <a:pt x="13" y="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37320" y="530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6" y="16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32560" y="530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6" y="16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37320" y="5262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6" y="16"/>
                    </a:lnTo>
                    <a:lnTo>
                      <a:pt x="0" y="8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32560" y="5262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6" y="16"/>
                    </a:lnTo>
                    <a:lnTo>
                      <a:pt x="0" y="8"/>
                    </a:lnTo>
                    <a:lnTo>
                      <a:pt x="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05440" y="5311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91320" y="526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6" y="13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97480" y="5257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13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0e2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904000" y="530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59480" y="5278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659560" y="5278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89600" y="5278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12" y="0"/>
                    </a:lnTo>
                    <a:lnTo>
                      <a:pt x="16" y="3"/>
                    </a:lnTo>
                    <a:lnTo>
                      <a:pt x="12" y="12"/>
                    </a:lnTo>
                    <a:lnTo>
                      <a:pt x="9" y="16"/>
                    </a:lnTo>
                    <a:lnTo>
                      <a:pt x="3" y="12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99320" y="53071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78480" y="535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6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10"/>
                    </a:lnTo>
                    <a:lnTo>
                      <a:pt x="12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92880" y="5364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59400" y="534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6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12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75240" y="5364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10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06920" y="534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91080" y="535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94320" y="5345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6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73800" y="5345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72000" y="5337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16"/>
                    </a:lnTo>
                    <a:lnTo>
                      <a:pt x="10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92880" y="531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78480" y="5329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0"/>
                    </a:lnTo>
                    <a:lnTo>
                      <a:pt x="16" y="10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475240" y="5318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59400" y="5330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489640" y="5329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6" y="0"/>
                    </a:lnTo>
                    <a:lnTo>
                      <a:pt x="16" y="5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0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06920" y="5330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5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95760" y="5337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77000" y="530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9" y="16"/>
                    </a:lnTo>
                    <a:lnTo>
                      <a:pt x="7" y="8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9" y="8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11840" y="531180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20" y="0"/>
                    </a:moveTo>
                    <a:lnTo>
                      <a:pt x="24" y="1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4" y="6"/>
                    </a:lnTo>
                    <a:lnTo>
                      <a:pt x="36" y="9"/>
                    </a:lnTo>
                    <a:lnTo>
                      <a:pt x="39" y="13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0" y="25"/>
                    </a:lnTo>
                    <a:lnTo>
                      <a:pt x="39" y="29"/>
                    </a:lnTo>
                    <a:lnTo>
                      <a:pt x="36" y="32"/>
                    </a:lnTo>
                    <a:lnTo>
                      <a:pt x="34" y="36"/>
                    </a:lnTo>
                    <a:lnTo>
                      <a:pt x="31" y="38"/>
                    </a:lnTo>
                    <a:lnTo>
                      <a:pt x="28" y="40"/>
                    </a:lnTo>
                    <a:lnTo>
                      <a:pt x="24" y="41"/>
                    </a:lnTo>
                    <a:lnTo>
                      <a:pt x="20" y="42"/>
                    </a:lnTo>
                    <a:lnTo>
                      <a:pt x="17" y="41"/>
                    </a:lnTo>
                    <a:lnTo>
                      <a:pt x="12" y="40"/>
                    </a:lnTo>
                    <a:lnTo>
                      <a:pt x="10" y="38"/>
                    </a:lnTo>
                    <a:lnTo>
                      <a:pt x="6" y="36"/>
                    </a:lnTo>
                    <a:lnTo>
                      <a:pt x="5" y="32"/>
                    </a:lnTo>
                    <a:lnTo>
                      <a:pt x="2" y="29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2" y="13"/>
                    </a:lnTo>
                    <a:lnTo>
                      <a:pt x="5" y="9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7" y="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24440" y="5324400"/>
                <a:ext cx="41400" cy="4464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12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3" y="8"/>
                    </a:lnTo>
                    <a:lnTo>
                      <a:pt x="25" y="14"/>
                    </a:lnTo>
                    <a:lnTo>
                      <a:pt x="23" y="19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4" y="22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5600" y="5338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10" y="0"/>
                    </a:lnTo>
                    <a:lnTo>
                      <a:pt x="13" y="3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4" y="9"/>
                    </a:lnTo>
                    <a:lnTo>
                      <a:pt x="13" y="12"/>
                    </a:lnTo>
                    <a:lnTo>
                      <a:pt x="10" y="14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51440" y="536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37400" y="535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64400" y="53514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30920" y="5367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54680" y="5348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29480" y="5348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46760" y="5356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18320" y="535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818320" y="533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5"/>
                    </a:lnTo>
                    <a:lnTo>
                      <a:pt x="16" y="10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46760" y="5330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64400" y="53341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51440" y="5319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5"/>
                    </a:lnTo>
                    <a:lnTo>
                      <a:pt x="16" y="10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9480" y="53388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5"/>
                    </a:lnTo>
                    <a:lnTo>
                      <a:pt x="16" y="10"/>
                    </a:lnTo>
                    <a:lnTo>
                      <a:pt x="5" y="1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37400" y="5330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0"/>
                    </a:move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5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30920" y="5319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12" y="5"/>
                    </a:lnTo>
                    <a:lnTo>
                      <a:pt x="16" y="10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54680" y="5338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0"/>
                    </a:moveTo>
                    <a:lnTo>
                      <a:pt x="16" y="5"/>
                    </a:lnTo>
                    <a:lnTo>
                      <a:pt x="16" y="10"/>
                    </a:lnTo>
                    <a:lnTo>
                      <a:pt x="10" y="1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792760" y="5278320"/>
                <a:ext cx="11448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71" y="13"/>
                    </a:moveTo>
                    <a:lnTo>
                      <a:pt x="68" y="14"/>
                    </a:lnTo>
                    <a:lnTo>
                      <a:pt x="67" y="19"/>
                    </a:lnTo>
                    <a:lnTo>
                      <a:pt x="61" y="19"/>
                    </a:lnTo>
                    <a:lnTo>
                      <a:pt x="53" y="16"/>
                    </a:lnTo>
                    <a:lnTo>
                      <a:pt x="50" y="14"/>
                    </a:lnTo>
                    <a:lnTo>
                      <a:pt x="45" y="12"/>
                    </a:lnTo>
                    <a:lnTo>
                      <a:pt x="38" y="9"/>
                    </a:lnTo>
                    <a:lnTo>
                      <a:pt x="32" y="9"/>
                    </a:lnTo>
                    <a:lnTo>
                      <a:pt x="26" y="9"/>
                    </a:lnTo>
                    <a:lnTo>
                      <a:pt x="19" y="12"/>
                    </a:lnTo>
                    <a:lnTo>
                      <a:pt x="14" y="14"/>
                    </a:lnTo>
                    <a:lnTo>
                      <a:pt x="9" y="19"/>
                    </a:lnTo>
                    <a:lnTo>
                      <a:pt x="7" y="21"/>
                    </a:lnTo>
                    <a:lnTo>
                      <a:pt x="0" y="23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49" y="1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3" y="3"/>
                    </a:lnTo>
                    <a:lnTo>
                      <a:pt x="55" y="4"/>
                    </a:lnTo>
                    <a:lnTo>
                      <a:pt x="56" y="5"/>
                    </a:lnTo>
                    <a:lnTo>
                      <a:pt x="57" y="5"/>
                    </a:lnTo>
                    <a:lnTo>
                      <a:pt x="59" y="6"/>
                    </a:lnTo>
                    <a:lnTo>
                      <a:pt x="62" y="13"/>
                    </a:lnTo>
                    <a:lnTo>
                      <a:pt x="71" y="13"/>
                    </a:lnTo>
                  </a:path>
                </a:pathLst>
              </a:custGeom>
              <a:solidFill>
                <a:srgbClr val="bd855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84676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584676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48784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48784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49288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49288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5491080" y="53769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5491080" y="53769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549108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549108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5843520" y="52779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5843520" y="52779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846760" y="52779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5846760" y="52779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5837400" y="529740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5837400" y="529740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549756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549756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38880" y="534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38880" y="534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92880" y="539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92880" y="539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91040" y="5348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91040" y="5348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89520" y="5351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89520" y="5351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780160" y="53481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5780160" y="53481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880240" y="53514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880240" y="53514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33840" y="5349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433840" y="5349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522400" y="53434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522400" y="53434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878080" y="535788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5878080" y="535788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48316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548316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830920" y="5394240"/>
                <a:ext cx="23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5830920" y="5394240"/>
                <a:ext cx="23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517720" y="53560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517720" y="53560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91320" y="535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91320" y="535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85144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585144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5484960" y="537480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484960" y="537480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5856120" y="52779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856120" y="52779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85612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85612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842080" y="52779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5842080" y="52779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517720" y="53499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5517720" y="53499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84208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84208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89600" y="53402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89600" y="53402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35640" y="5356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35640" y="5356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5522400" y="533700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5522400" y="533700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5487840" y="53748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487840" y="53748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5492880" y="53748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5492880" y="53748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91320" y="5361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91320" y="5361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5859360" y="52815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5859360" y="52815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34160" y="52974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34160" y="52974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78080" y="53560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878080" y="53560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435640" y="53593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435640" y="53593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5780160" y="534528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5780160" y="534528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780160" y="53388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780160" y="53388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5425560" y="534996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5425560" y="534996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530680" y="53434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30680" y="53434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5423040" y="534348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423040" y="534348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35720" y="534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535720" y="534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91040" y="5345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91040" y="5345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89520" y="5356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9520" y="5356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780160" y="534024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780160" y="534024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3888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3888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5878080" y="53611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5878080" y="53611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479920" y="52779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479920" y="52779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517720" y="535932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517720" y="535932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5500800" y="52779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5500800" y="52779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424120" y="53370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424120" y="53370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5823000" y="5376960"/>
                <a:ext cx="237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5823000" y="5376960"/>
                <a:ext cx="237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30680" y="5337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30680" y="5337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861160" y="53769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5861160" y="53769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54680" y="5394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54680" y="5394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42120" y="5324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42120" y="5324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5517720" y="536256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5517720" y="536256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89600" y="53388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89600" y="53388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42120" y="532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42120" y="532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97440" y="533232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797440" y="533232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37080" y="5362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437080" y="5362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9276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9276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008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008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472000" y="5295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72000" y="5295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477040" y="537372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477040" y="537372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489640" y="529596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5489640" y="529596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500800" y="537480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500800" y="537480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5823000" y="539424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5823000" y="539424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5468400" y="5374800"/>
                <a:ext cx="241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5468400" y="5374800"/>
                <a:ext cx="241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834160" y="52815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834160" y="52815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88160" y="5335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88160" y="5335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>
                <a:off x="5850000" y="5281560"/>
                <a:ext cx="237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5850000" y="5281560"/>
                <a:ext cx="237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877000" y="536580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877000" y="536580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520960" y="53290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5520960" y="53290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864400" y="537480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5864400" y="537480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5818320" y="5374800"/>
                <a:ext cx="2376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5818320" y="5374800"/>
                <a:ext cx="2376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492520" y="529740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5492520" y="529740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68760" y="529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68760" y="529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86360" y="533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86360" y="533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527800" y="53290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527800" y="53290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3888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3888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545940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45940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5829480" y="52833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5829480" y="52833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50224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0224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455800" y="53895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455800" y="53895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50692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50692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783400" y="533088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783400" y="533088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5853240" y="5283360"/>
                <a:ext cx="237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5853240" y="5283360"/>
                <a:ext cx="237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44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644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5855760" y="5283360"/>
                <a:ext cx="2412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5855760" y="5283360"/>
                <a:ext cx="2412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826240" y="52833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826240" y="52833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81508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81508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67320" y="5300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67320" y="5300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497560" y="530064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5497560" y="530064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5855760" y="530208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5855760" y="530208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42120" y="5321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42120" y="5321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21200" y="5302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21200" y="5302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64080" y="5300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64080" y="5300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10160" y="5300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10160" y="5300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5451120" y="538632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451120" y="538632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89600" y="53690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89600" y="53690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430960" y="536580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30960" y="536580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0872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0872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>
                <a:off x="5516280" y="5349960"/>
                <a:ext cx="27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5516280" y="5349960"/>
                <a:ext cx="27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886360" y="5357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886360" y="5357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6728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6728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81184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81184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876640" y="5324400"/>
                <a:ext cx="28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876640" y="5324400"/>
                <a:ext cx="28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17720" y="532116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517720" y="532116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787720" y="5369040"/>
                <a:ext cx="2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787720" y="5369040"/>
                <a:ext cx="2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00680" y="53244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00680" y="53244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5781240" y="5357880"/>
                <a:ext cx="255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5781240" y="5357880"/>
                <a:ext cx="255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30680" y="5365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30680" y="5365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789520" y="5372280"/>
                <a:ext cx="28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789520" y="5372280"/>
                <a:ext cx="28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88160" y="5372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888160" y="5372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518080" y="531828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518080" y="531828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45000" y="5318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45000" y="5318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874840" y="53197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874840" y="53197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27800" y="5369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27800" y="5369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447880" y="538632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447880" y="538632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432040" y="536904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432040" y="536904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70520" y="53881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70520" y="53881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51196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51196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02480" y="531972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02480" y="531972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5808240" y="5388120"/>
                <a:ext cx="255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5808240" y="5388120"/>
                <a:ext cx="255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5502240" y="530208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5502240" y="530208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59400" y="5302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459400" y="5302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5859000" y="530388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5859000" y="530388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19760" y="5303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19760" y="5303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430960" y="531972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430960" y="531972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5873400" y="5318280"/>
                <a:ext cx="2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5873400" y="5318280"/>
                <a:ext cx="2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24560" y="5319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524560" y="5319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03920" y="531828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03920" y="531828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5872320" y="531504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5872320" y="531504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5803560" y="538632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5803560" y="538632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877000" y="5369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877000" y="5369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5436720" y="537516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5436720" y="537516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579384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579384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227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227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26000" y="53751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26000" y="53751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56160" y="5303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56160" y="5303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504040" y="5303880"/>
                <a:ext cx="26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504040" y="5303880"/>
                <a:ext cx="26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16640" y="538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16640" y="538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450040" y="5311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50040" y="5311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053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053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83120" y="5378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83120" y="5378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46800" y="538308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5446800" y="538308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16520" y="5307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16520" y="5307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446800" y="53589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5446800" y="53589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62240" y="53071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5862240" y="53071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5785920" y="5365800"/>
                <a:ext cx="27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5785920" y="5365800"/>
                <a:ext cx="27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443560" y="538164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443560" y="538164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1040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1040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1808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1808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5873400" y="53737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5873400" y="53737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5292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5292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5866920" y="53103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5866920" y="53103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166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5166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5514480" y="5358960"/>
                <a:ext cx="241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5514480" y="5358960"/>
                <a:ext cx="241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5508720" y="530712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5508720" y="530712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454720" y="5307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54720" y="5307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5800320" y="53830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5800320" y="53830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5513040" y="53103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5513040" y="53103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75200" y="5383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75200" y="5383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08600" y="5311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08600" y="5311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4500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500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5868720" y="531180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5868720" y="531180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5865840" y="530856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5865840" y="530856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1328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1328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543996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543996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579708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579708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2132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2132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5442120" y="537840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5442120" y="537840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5798880" y="538164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5798880" y="538164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7844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7844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8168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8168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52456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2456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6027840" y="4759200"/>
              <a:ext cx="240840" cy="237600"/>
              <a:chOff x="6027840" y="4759200"/>
              <a:chExt cx="240840" cy="237600"/>
            </a:xfrm>
          </p:grpSpPr>
          <p:sp>
            <p:nvSpPr>
              <p:cNvPr id="746" name=""/>
              <p:cNvSpPr/>
              <p:nvPr/>
            </p:nvSpPr>
            <p:spPr>
              <a:xfrm>
                <a:off x="6059520" y="4791240"/>
                <a:ext cx="17460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027840" y="475920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6678720" y="4417920"/>
              <a:ext cx="240840" cy="237600"/>
              <a:chOff x="6678720" y="4417920"/>
              <a:chExt cx="240840" cy="237600"/>
            </a:xfrm>
          </p:grpSpPr>
          <p:sp>
            <p:nvSpPr>
              <p:cNvPr id="749" name=""/>
              <p:cNvSpPr/>
              <p:nvPr/>
            </p:nvSpPr>
            <p:spPr>
              <a:xfrm>
                <a:off x="6708600" y="4449600"/>
                <a:ext cx="171720" cy="1717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678720" y="441792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6145200" y="3579840"/>
              <a:ext cx="240840" cy="237600"/>
              <a:chOff x="6145200" y="3579840"/>
              <a:chExt cx="240840" cy="23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175440" y="3610080"/>
                <a:ext cx="164880" cy="1648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45200" y="357984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6080400" y="3973680"/>
              <a:ext cx="240840" cy="237600"/>
              <a:chOff x="6080400" y="3973680"/>
              <a:chExt cx="240840" cy="237600"/>
            </a:xfrm>
          </p:grpSpPr>
          <p:sp>
            <p:nvSpPr>
              <p:cNvPr id="755" name=""/>
              <p:cNvSpPr/>
              <p:nvPr/>
            </p:nvSpPr>
            <p:spPr>
              <a:xfrm>
                <a:off x="6110280" y="400356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80400" y="397368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6158160" y="4460760"/>
              <a:ext cx="240840" cy="237600"/>
              <a:chOff x="6158160" y="4460760"/>
              <a:chExt cx="240840" cy="237600"/>
            </a:xfrm>
          </p:grpSpPr>
          <p:sp>
            <p:nvSpPr>
              <p:cNvPr id="758" name=""/>
              <p:cNvSpPr/>
              <p:nvPr/>
            </p:nvSpPr>
            <p:spPr>
              <a:xfrm>
                <a:off x="6188040" y="449280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158160" y="446076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158160" y="5511960"/>
              <a:ext cx="240840" cy="237600"/>
              <a:chOff x="6158160" y="5511960"/>
              <a:chExt cx="240840" cy="237600"/>
            </a:xfrm>
          </p:grpSpPr>
          <p:sp>
            <p:nvSpPr>
              <p:cNvPr id="761" name=""/>
              <p:cNvSpPr/>
              <p:nvPr/>
            </p:nvSpPr>
            <p:spPr>
              <a:xfrm>
                <a:off x="6188040" y="554364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158160" y="551196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166080" y="5830920"/>
              <a:ext cx="240840" cy="237600"/>
              <a:chOff x="6166080" y="5830920"/>
              <a:chExt cx="240840" cy="237600"/>
            </a:xfrm>
          </p:grpSpPr>
          <p:sp>
            <p:nvSpPr>
              <p:cNvPr id="764" name=""/>
              <p:cNvSpPr/>
              <p:nvPr/>
            </p:nvSpPr>
            <p:spPr>
              <a:xfrm>
                <a:off x="6195960" y="586260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166080" y="583092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992280" y="4867200"/>
              <a:ext cx="156960" cy="154440"/>
              <a:chOff x="6992280" y="4867200"/>
              <a:chExt cx="156960" cy="154440"/>
            </a:xfrm>
          </p:grpSpPr>
          <p:sp>
            <p:nvSpPr>
              <p:cNvPr id="767" name=""/>
              <p:cNvSpPr/>
              <p:nvPr/>
            </p:nvSpPr>
            <p:spPr>
              <a:xfrm>
                <a:off x="7013520" y="4888080"/>
                <a:ext cx="11448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2280" y="486720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820920" y="5100480"/>
              <a:ext cx="156960" cy="154440"/>
              <a:chOff x="6820920" y="5100480"/>
              <a:chExt cx="156960" cy="154440"/>
            </a:xfrm>
          </p:grpSpPr>
          <p:sp>
            <p:nvSpPr>
              <p:cNvPr id="770" name=""/>
              <p:cNvSpPr/>
              <p:nvPr/>
            </p:nvSpPr>
            <p:spPr>
              <a:xfrm>
                <a:off x="6842160" y="5121360"/>
                <a:ext cx="11412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820920" y="510048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915960" y="5533920"/>
              <a:ext cx="156960" cy="154440"/>
              <a:chOff x="6915960" y="5533920"/>
              <a:chExt cx="156960" cy="154440"/>
            </a:xfrm>
          </p:grpSpPr>
          <p:sp>
            <p:nvSpPr>
              <p:cNvPr id="773" name=""/>
              <p:cNvSpPr/>
              <p:nvPr/>
            </p:nvSpPr>
            <p:spPr>
              <a:xfrm>
                <a:off x="6937200" y="5554800"/>
                <a:ext cx="11448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15960" y="553392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7030440" y="4395960"/>
              <a:ext cx="156960" cy="154440"/>
              <a:chOff x="7030440" y="4395960"/>
              <a:chExt cx="156960" cy="154440"/>
            </a:xfrm>
          </p:grpSpPr>
          <p:sp>
            <p:nvSpPr>
              <p:cNvPr id="776" name=""/>
              <p:cNvSpPr/>
              <p:nvPr/>
            </p:nvSpPr>
            <p:spPr>
              <a:xfrm>
                <a:off x="7051680" y="4416480"/>
                <a:ext cx="11412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030440" y="439596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6668280" y="4643280"/>
              <a:ext cx="156960" cy="154440"/>
              <a:chOff x="6668280" y="4643280"/>
              <a:chExt cx="156960" cy="154440"/>
            </a:xfrm>
          </p:grpSpPr>
          <p:sp>
            <p:nvSpPr>
              <p:cNvPr id="779" name=""/>
              <p:cNvSpPr/>
              <p:nvPr/>
            </p:nvSpPr>
            <p:spPr>
              <a:xfrm>
                <a:off x="6689880" y="4664160"/>
                <a:ext cx="11412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68280" y="464328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6482520" y="5381640"/>
              <a:ext cx="156960" cy="154440"/>
              <a:chOff x="6482520" y="5381640"/>
              <a:chExt cx="156960" cy="154440"/>
            </a:xfrm>
          </p:grpSpPr>
          <p:sp>
            <p:nvSpPr>
              <p:cNvPr id="782" name=""/>
              <p:cNvSpPr/>
              <p:nvPr/>
            </p:nvSpPr>
            <p:spPr>
              <a:xfrm>
                <a:off x="6504120" y="5402160"/>
                <a:ext cx="11412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482520" y="538164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516000" y="4809960"/>
              <a:ext cx="156960" cy="154440"/>
              <a:chOff x="6516000" y="4809960"/>
              <a:chExt cx="156960" cy="154440"/>
            </a:xfrm>
          </p:grpSpPr>
          <p:sp>
            <p:nvSpPr>
              <p:cNvPr id="785" name=""/>
              <p:cNvSpPr/>
              <p:nvPr/>
            </p:nvSpPr>
            <p:spPr>
              <a:xfrm>
                <a:off x="6537240" y="4830840"/>
                <a:ext cx="114480" cy="1141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16000" y="480996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6616080" y="4224240"/>
              <a:ext cx="156960" cy="154440"/>
              <a:chOff x="6616080" y="4224240"/>
              <a:chExt cx="156960" cy="154440"/>
            </a:xfrm>
          </p:grpSpPr>
          <p:sp>
            <p:nvSpPr>
              <p:cNvPr id="788" name=""/>
              <p:cNvSpPr/>
              <p:nvPr/>
            </p:nvSpPr>
            <p:spPr>
              <a:xfrm>
                <a:off x="6637320" y="4245120"/>
                <a:ext cx="109440" cy="1094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16080" y="4224240"/>
                <a:ext cx="1569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7569360" y="3541680"/>
              <a:ext cx="620640" cy="5587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69360" y="4278240"/>
              <a:ext cx="620640" cy="5587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607160" y="369396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607160" y="443088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69360" y="5027760"/>
              <a:ext cx="620640" cy="5587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69360" y="5726160"/>
              <a:ext cx="620640" cy="5587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07160" y="518004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7160" y="5878440"/>
              <a:ext cx="552600" cy="36828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8" name=""/>
            <p:cNvGraphicFramePr/>
            <p:nvPr/>
          </p:nvGraphicFramePr>
          <p:xfrm>
            <a:off x="5470560" y="4265640"/>
            <a:ext cx="434880" cy="369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9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470560" y="4265640"/>
                      <a:ext cx="43488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0" name=""/>
            <p:cNvSpPr/>
            <p:nvPr/>
          </p:nvSpPr>
          <p:spPr>
            <a:xfrm>
              <a:off x="6991200" y="3754440"/>
              <a:ext cx="165240" cy="165240"/>
            </a:xfrm>
            <a:prstGeom prst="ellipse">
              <a:avLst/>
            </a:prstGeom>
            <a:solidFill>
              <a:srgbClr val="7bf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69696"/>
                  </a:solidFill>
                  <a:latin typeface="Book Antiqu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6309000" y="5275440"/>
              <a:ext cx="240840" cy="237600"/>
              <a:chOff x="6309000" y="5275440"/>
              <a:chExt cx="240840" cy="237600"/>
            </a:xfrm>
          </p:grpSpPr>
          <p:sp>
            <p:nvSpPr>
              <p:cNvPr id="802" name=""/>
              <p:cNvSpPr/>
              <p:nvPr/>
            </p:nvSpPr>
            <p:spPr>
              <a:xfrm>
                <a:off x="6338880" y="530712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309000" y="5275440"/>
                <a:ext cx="2408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programming  languages 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thre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communicat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security (communication &amp; exec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maintaining DBs and/or K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GUI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interoperability features to support mediated architectures and component-bas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69960" y="2041560"/>
            <a:ext cx="7635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many languages can be used for writing software agents, there are usefu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Communication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Agent cooper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in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ent-agent communication is the key to realizing the potential of the agent paradigm, just as the development of human language was a key to the development of human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ssume that agents use an 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Agent Communication Languag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ACL to communication information and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sereth (CACM, 92) defined a software agent as any system which uses an ACL to exchang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me ACL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RBA an AC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shar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QML, KIF,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k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GI’s Open Agent Architectur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239560" y="2394000"/>
            <a:ext cx="6598440" cy="3863520"/>
            <a:chOff x="2239560" y="2394000"/>
            <a:chExt cx="6598440" cy="3863520"/>
          </a:xfrm>
        </p:grpSpPr>
        <p:sp>
          <p:nvSpPr>
            <p:cNvPr id="812" name=""/>
            <p:cNvSpPr/>
            <p:nvPr/>
          </p:nvSpPr>
          <p:spPr>
            <a:xfrm>
              <a:off x="2695680" y="5877000"/>
              <a:ext cx="1428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24480" y="5877000"/>
              <a:ext cx="2171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09840" y="5591160"/>
              <a:ext cx="914400" cy="571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19360" y="4619520"/>
              <a:ext cx="1096920" cy="68580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694400" y="3540240"/>
              <a:ext cx="1261800" cy="78876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43760" y="2394000"/>
              <a:ext cx="1450800" cy="90792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9380000">
              <a:off x="3204720" y="5239800"/>
              <a:ext cx="486000" cy="279720"/>
            </a:xfrm>
            <a:prstGeom prst="rightArrow">
              <a:avLst>
                <a:gd name="adj1" fmla="val 50000"/>
                <a:gd name="adj2" fmla="val 86881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9380000">
              <a:off x="4395600" y="4354560"/>
              <a:ext cx="576000" cy="280800"/>
            </a:xfrm>
            <a:prstGeom prst="rightArrow">
              <a:avLst>
                <a:gd name="adj1" fmla="val 50000"/>
                <a:gd name="adj2" fmla="val 102573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9380000">
              <a:off x="5767560" y="3287520"/>
              <a:ext cx="691920" cy="314280"/>
            </a:xfrm>
            <a:prstGeom prst="rightArrow">
              <a:avLst>
                <a:gd name="adj1" fmla="val 50000"/>
                <a:gd name="adj2" fmla="val 11009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25760" y="5730840"/>
              <a:ext cx="25131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objects, procedure cal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data struc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39760" y="4756320"/>
              <a:ext cx="256212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facts, rules, constraints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rocedures and knowled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54480" y="3727440"/>
              <a:ext cx="22708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beliefs, plans, goal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inten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53600" y="2471760"/>
              <a:ext cx="11844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experien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strateg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39560" y="4946760"/>
              <a:ext cx="7819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95080" y="4260960"/>
              <a:ext cx="252396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 KQML, FIPA, KIF, Agl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34720" y="3289320"/>
              <a:ext cx="13003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 AgentTa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75960" y="4811760"/>
              <a:ext cx="8110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08960" y="3762360"/>
              <a:ext cx="8611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n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93960" y="2660760"/>
              <a:ext cx="10854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ri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78320" y="5724360"/>
              <a:ext cx="615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63560" y="802800"/>
            <a:ext cx="761688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Knowledge Sharing Effort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4720" y="1771200"/>
            <a:ext cx="8134560" cy="40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SE is a distributed research project involving over a dozen research groups aimed at developing techniques, methodologies and software tools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knowledge sh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knowledge 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quires a common language (syntax, semantics, pragma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isting components that can be used independently or 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 -- knowledge interchange format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synt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ingua - a language for defining sharable ontologie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QML - a high-level interaction language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pragma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Overview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an ag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25780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758"/>
                </a:solidFill>
                <a:latin typeface="Times New Roman"/>
              </a:rPr>
              <a:t>Only when sage warriors use intelligent agents will they certainly have success.</a:t>
            </a:r>
            <a:br>
              <a:rPr sz="2000"/>
            </a:br>
            <a:r>
              <a:rPr b="0" i="1" lang="en-US" sz="2000" spc="-1" strike="noStrike">
                <a:solidFill>
                  <a:srgbClr val="050758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50758"/>
                </a:solidFill>
                <a:latin typeface="Times New Roman"/>
              </a:rPr>
              <a:t>-- Sun T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</a:rPr>
              <a:t>Conclusion</a:t>
            </a:r>
            <a:endParaRPr b="1" lang="en-US" sz="117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Some key ideas</a:t>
            </a:r>
            <a:endParaRPr b="1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agents offer a new paradigm for very large scale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</a:rPr>
              <a:t>distributed heterogeneous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cusing on the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</a:rPr>
              <a:t>inter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utonomous, cooperating processes which can adapt to humans and other ag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ways a desirable characteristic but is not strictly required by the paradig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wealth of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rior the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several disciplines but you needn’t to be an expert to to apply or us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me key idea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support building agents with threads a real plus and mobility an interesting o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ommun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f central importance and, in particu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agent communication 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ontolo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pplication 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agent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digm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till fo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What is an agent?</a:t>
            </a:r>
            <a:br>
              <a:rPr sz="4400"/>
            </a:b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A brief tour of agent-space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7960" y="3184560"/>
            <a:ext cx="7050240" cy="33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emons (e.g., ftp ag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 clients (e.g., mail ag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agents (e.g., robo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able agents (e.g., VR and graph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880" y="2052720"/>
            <a:ext cx="86965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An agent is a powerful and ubiqui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abstraction in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What is a software agent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64240" indent="-264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-facing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00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t human-computer interfac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00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user modeling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(expert) assis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00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personal retrieva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software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4240" indent="-264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perating softwar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00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discovery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00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s and facilit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00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00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6200" y="1671480"/>
            <a:ext cx="86965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We can identify some sub-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7760" y="165240"/>
            <a:ext cx="82486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an emerging system-building paradigm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62960" y="898560"/>
            <a:ext cx="20732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19191"/>
                </a:solidFill>
                <a:latin typeface="Times New Roman"/>
              </a:rPr>
              <a:t>(with h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572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1520" y="1752480"/>
            <a:ext cx="7392600" cy="3255480"/>
            <a:chOff x="911520" y="1752480"/>
            <a:chExt cx="7392600" cy="3255480"/>
          </a:xfrm>
        </p:grpSpPr>
        <p:sp>
          <p:nvSpPr>
            <p:cNvPr id="63" name=""/>
            <p:cNvSpPr/>
            <p:nvPr/>
          </p:nvSpPr>
          <p:spPr>
            <a:xfrm rot="2760000">
              <a:off x="3728880" y="3624480"/>
              <a:ext cx="254160" cy="685800"/>
            </a:xfrm>
            <a:prstGeom prst="upArrow">
              <a:avLst>
                <a:gd name="adj1" fmla="val 50000"/>
                <a:gd name="adj2" fmla="val 134903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760000">
              <a:off x="5136840" y="2231640"/>
              <a:ext cx="253800" cy="685800"/>
            </a:xfrm>
            <a:prstGeom prst="downArrow">
              <a:avLst>
                <a:gd name="adj1" fmla="val 50000"/>
                <a:gd name="adj2" fmla="val 13511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760000">
              <a:off x="3509640" y="2503440"/>
              <a:ext cx="685800" cy="253800"/>
            </a:xfrm>
            <a:prstGeom prst="rightArrow">
              <a:avLst>
                <a:gd name="adj1" fmla="val 50000"/>
                <a:gd name="adj2" fmla="val 13511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760000">
              <a:off x="4869000" y="3909600"/>
              <a:ext cx="685800" cy="254160"/>
            </a:xfrm>
            <a:prstGeom prst="leftArrow">
              <a:avLst>
                <a:gd name="adj1" fmla="val 50000"/>
                <a:gd name="adj2" fmla="val 134903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60000">
              <a:off x="3994200" y="2768400"/>
              <a:ext cx="1041480" cy="1092240"/>
            </a:xfrm>
            <a:custGeom>
              <a:avLst/>
              <a:gdLst>
                <a:gd name="textAreaLeft" fmla="*/ 237600 w 1041480"/>
                <a:gd name="textAreaRight" fmla="*/ 803880 w 1041480"/>
                <a:gd name="textAreaTop" fmla="*/ 249120 h 1092240"/>
                <a:gd name="textAreaBottom" fmla="*/ 84312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62800" y="1806480"/>
              <a:ext cx="1676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1880" y="4092480"/>
              <a:ext cx="22942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Database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Knowledge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90080" y="1752480"/>
              <a:ext cx="1779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etrie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87360" y="4014720"/>
              <a:ext cx="1387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50720" y="3110040"/>
              <a:ext cx="1015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8520" y="3024360"/>
              <a:ext cx="1515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ognit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92560" y="3149640"/>
              <a:ext cx="787680" cy="330120"/>
            </a:xfrm>
            <a:prstGeom prst="leftArrow">
              <a:avLst>
                <a:gd name="adj1" fmla="val 50000"/>
                <a:gd name="adj2" fmla="val 119291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59200" y="3149640"/>
              <a:ext cx="787320" cy="330120"/>
            </a:xfrm>
            <a:prstGeom prst="rightArrow">
              <a:avLst>
                <a:gd name="adj1" fmla="val 50000"/>
                <a:gd name="adj2" fmla="val 11925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22000" y="3141720"/>
              <a:ext cx="96372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I &amp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11520" y="3102120"/>
              <a:ext cx="184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obile co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552680" y="5450040"/>
            <a:ext cx="6370560" cy="951120"/>
            <a:chOff x="1552680" y="5450040"/>
            <a:chExt cx="6370560" cy="951120"/>
          </a:xfrm>
        </p:grpSpPr>
        <p:grpSp>
          <p:nvGrpSpPr>
            <p:cNvPr id="79" name=""/>
            <p:cNvGrpSpPr/>
            <p:nvPr/>
          </p:nvGrpSpPr>
          <p:grpSpPr>
            <a:xfrm>
              <a:off x="3635280" y="5499000"/>
              <a:ext cx="1581120" cy="900360"/>
              <a:chOff x="3635280" y="5499000"/>
              <a:chExt cx="1581120" cy="900360"/>
            </a:xfrm>
          </p:grpSpPr>
          <p:sp>
            <p:nvSpPr>
              <p:cNvPr id="80" name=""/>
              <p:cNvSpPr/>
              <p:nvPr/>
            </p:nvSpPr>
            <p:spPr>
              <a:xfrm>
                <a:off x="3689280" y="5499000"/>
                <a:ext cx="147312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bjec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8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35280" y="5923080"/>
                <a:ext cx="1581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552680" y="5450040"/>
              <a:ext cx="1498320" cy="951120"/>
              <a:chOff x="1552680" y="5450040"/>
              <a:chExt cx="1498320" cy="951120"/>
            </a:xfrm>
          </p:grpSpPr>
          <p:sp>
            <p:nvSpPr>
              <p:cNvPr id="83" name=""/>
              <p:cNvSpPr/>
              <p:nvPr/>
            </p:nvSpPr>
            <p:spPr>
              <a:xfrm>
                <a:off x="1552680" y="5450040"/>
                <a:ext cx="1473120" cy="9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9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77880" y="5932440"/>
                <a:ext cx="1473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052960" y="5576760"/>
              <a:ext cx="2870280" cy="782280"/>
              <a:chOff x="5052960" y="5576760"/>
              <a:chExt cx="2870280" cy="782280"/>
            </a:xfrm>
          </p:grpSpPr>
          <p:sp>
            <p:nvSpPr>
              <p:cNvPr id="86" name=""/>
              <p:cNvSpPr/>
              <p:nvPr/>
            </p:nvSpPr>
            <p:spPr>
              <a:xfrm>
                <a:off x="5052960" y="5576760"/>
                <a:ext cx="2870280" cy="78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2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ructur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78440" y="5972040"/>
                <a:ext cx="1212840" cy="1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114360" y="5554800"/>
              <a:ext cx="451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8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94080" y="5629320"/>
              <a:ext cx="451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8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Why another paradigm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080" y="1193760"/>
            <a:ext cx="807732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Because it addresses curren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y distributed and heterogen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inherent 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active as well as re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12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generalize client-ser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ble and evol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interoperability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for us to model and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aking an “intentional stanc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s over many orders of magn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12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gents, not turtles, all the way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, what’s a software agent? 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560" y="1676520"/>
            <a:ext cx="6019560" cy="33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192960" indent="-19296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nsensus yet, but several key concepts are important to this emerging paradi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lnSpc>
                <a:spcPct val="89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ftware ag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26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autonomous, goal-directed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26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ituated in, is aware of, and reacts to it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26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s with other agents (software or human) to accomplish its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02040" y="4114800"/>
            <a:ext cx="2419200" cy="2515320"/>
            <a:chOff x="302040" y="4114800"/>
            <a:chExt cx="2419200" cy="2515320"/>
          </a:xfrm>
        </p:grpSpPr>
        <p:grpSp>
          <p:nvGrpSpPr>
            <p:cNvPr id="95" name=""/>
            <p:cNvGrpSpPr/>
            <p:nvPr/>
          </p:nvGrpSpPr>
          <p:grpSpPr>
            <a:xfrm>
              <a:off x="1013760" y="4114800"/>
              <a:ext cx="1142640" cy="1427040"/>
              <a:chOff x="1013760" y="4114800"/>
              <a:chExt cx="1142640" cy="1427040"/>
            </a:xfrm>
          </p:grpSpPr>
          <p:sp>
            <p:nvSpPr>
              <p:cNvPr id="96" name=""/>
              <p:cNvSpPr/>
              <p:nvPr/>
            </p:nvSpPr>
            <p:spPr>
              <a:xfrm>
                <a:off x="1077480" y="4464000"/>
                <a:ext cx="1078920" cy="1077840"/>
              </a:xfrm>
              <a:prstGeom prst="ellipse">
                <a:avLst/>
              </a:prstGeom>
              <a:noFill/>
              <a:ln w="57240">
                <a:solidFill>
                  <a:srgbClr val="fc0128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13760" y="4114800"/>
                <a:ext cx="1139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ope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84000" y="5105520"/>
              <a:ext cx="1079280" cy="10778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2040" y="6324480"/>
              <a:ext cx="98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utono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1320" y="5073480"/>
              <a:ext cx="1079280" cy="107820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2200" y="6324480"/>
              <a:ext cx="104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Agent Characteristic:  Mobility?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3280" indent="-323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-- this definition implies some agent attributes, e.g. autonomy, persistence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3280" indent="-323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agents off some very interesting advantages as well as some disadvan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3280" indent="-323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 important technology for distributed systems and is largely orthogonal to other “agent”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0840" y="1660680"/>
            <a:ext cx="7102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bile agent is an executing program that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migr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machine to machine in a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heterogeneous network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its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</a:rPr>
              <a:t>own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s vs. Intelligent Agent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The size of the price t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erious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200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digm covers agents of varying degrees of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3200" indent="-200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t agents will te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and apply more sophisticated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gnizing underlying goals and inten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 to unexpected situations in a robust m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of what we will be saying applies to agents of little or no intellig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5280" y="1768320"/>
            <a:ext cx="651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kes an agent an “intelligent agent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7T01:27:56Z</dcterms:created>
  <dc:creator>Tate Redding</dc:creator>
  <dc:description/>
  <dc:language>en-US</dc:language>
  <cp:lastModifiedBy>tim finin</cp:lastModifiedBy>
  <dcterms:modified xsi:type="dcterms:W3CDTF">1997-09-24T03:12:26Z</dcterms:modified>
  <cp:revision>17</cp:revision>
  <dc:subject/>
  <dc:title>What's an  agent?</dc:title>
</cp:coreProperties>
</file>