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E4F7-E434-476B-B98C-37C01CB94D2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stream in stuff. This takes (I think) a KQML expression as a content f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81" name=""/>
          <p:cNvSpPr/>
          <p:nvPr/>
        </p:nvSpPr>
        <p:spPr>
          <a:xfrm>
            <a:off x="611280" y="3201840"/>
            <a:ext cx="1523160" cy="380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2838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2838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05160" y="5029200"/>
            <a:ext cx="329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vertise” is used to build routing and information servic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ion: Developed initially to support ARP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o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t preexisting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it is just an application like any other. E.g.. it has its own rou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78" name=""/>
          <p:cNvSpPr/>
          <p:nvPr/>
        </p:nvSpPr>
        <p:spPr>
          <a:xfrm>
            <a:off x="528480" y="4357800"/>
            <a:ext cx="959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25560" bIns="25560" anchor="t">
            <a:spAutoFit/>
          </a:bodyPr>
          <a:p>
            <a:pPr marL="223920" indent="-223920">
              <a:lnSpc>
                <a:spcPct val="107000"/>
              </a:lnSpc>
              <a:spcBef>
                <a:spcPts val="938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min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DFC0-D3AE-4453-9B26-6344A3906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BFA1-700E-472E-8894-EB04C772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1354-C84E-4AF8-A026-61B45162F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0C76-6821-4B19-8549-B700A635B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64A4-36D0-4434-8AB3-6020C29E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D547-7FFC-4880-A42E-D0EB7FAD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FF6E-124F-456D-8B26-20A32BF2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E557-8212-4988-B955-7D99A03C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646C-9A8B-4169-B4C6-5E788AD3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A6CA-40FE-4E4A-B5FB-8548EDA2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C47A-8A8B-4498-AE0A-33FA3CBE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21C6-86CB-41F4-ACF4-851A26FC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3E9C-EE43-44B3-9EAE-6DFE0B577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Agent Communication and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Knowledge Sharing Technolog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743200" y="1589040"/>
            <a:ext cx="3352680" cy="3415680"/>
            <a:chOff x="2743200" y="1589040"/>
            <a:chExt cx="3352680" cy="3415680"/>
          </a:xfrm>
        </p:grpSpPr>
        <p:sp>
          <p:nvSpPr>
            <p:cNvPr id="50" name=""/>
            <p:cNvSpPr/>
            <p:nvPr/>
          </p:nvSpPr>
          <p:spPr>
            <a:xfrm>
              <a:off x="2743200" y="1760400"/>
              <a:ext cx="3352680" cy="3238560"/>
            </a:xfrm>
            <a:prstGeom prst="ellipse">
              <a:avLst/>
            </a:prstGeom>
            <a:solidFill>
              <a:srgbClr val="a2c1fe"/>
            </a:solidFill>
            <a:ln w="76320">
              <a:solidFill>
                <a:srgbClr val="cecece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2400" y="1758600"/>
              <a:ext cx="2653920" cy="2630520"/>
            </a:xfrm>
            <a:prstGeom prst="triangle">
              <a:avLst>
                <a:gd name="adj" fmla="val 49995"/>
              </a:avLst>
            </a:prstGeom>
            <a:solidFill>
              <a:srgbClr val="dadada"/>
            </a:solidFill>
            <a:ln w="507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578040" y="3214440"/>
              <a:ext cx="1652760" cy="17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9" y="21600"/>
                  </a:moveTo>
                  <a:arcTo wR="10800" hR="10800" stAng="5406605" swAng="53933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9" y="21600"/>
                  </a:moveTo>
                  <a:arcTo wR="10800" hR="10800" stAng="5406605" swAng="5393395"/>
                </a:path>
              </a:pathLst>
            </a:custGeom>
            <a:noFill/>
            <a:ln cap="rnd" w="7632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93880" y="3379680"/>
              <a:ext cx="1634040" cy="146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331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3318"/>
                </a:path>
              </a:pathLst>
            </a:custGeom>
            <a:noFill/>
            <a:ln cap="rnd" w="7632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95600" y="1589040"/>
              <a:ext cx="1650240" cy="17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660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6605"/>
                </a:path>
              </a:pathLst>
            </a:custGeom>
            <a:noFill/>
            <a:ln cap="rnd" w="7632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97760" y="1752480"/>
              <a:ext cx="1633680" cy="146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9" y="0"/>
                  </a:moveTo>
                  <a:arcTo wR="10800" hR="10800" stAng="-5406682" swAng="54066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9" y="0"/>
                  </a:moveTo>
                  <a:arcTo wR="10800" hR="10800" stAng="-5406682" swAng="5406682"/>
                </a:path>
              </a:pathLst>
            </a:custGeom>
            <a:noFill/>
            <a:ln cap="rnd" w="7632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24520" y="3939840"/>
              <a:ext cx="239256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</a:rPr>
                <a:t>ONTOLINGU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3960000">
              <a:off x="4431960" y="3091320"/>
              <a:ext cx="90828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Times New Roman"/>
                </a:rPr>
                <a:t>KI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7820000">
              <a:off x="3416760" y="2824200"/>
              <a:ext cx="1400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840" bIns="69840" anchor="t">
              <a:spAutoFit/>
            </a:bodyPr>
            <a:p>
              <a:pPr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Times New Roman"/>
                </a:rPr>
                <a:t>KQM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03920" y="5241960"/>
            <a:ext cx="43837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m Fin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versity of Maryl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ltimore Coun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58360" y="587160"/>
            <a:ext cx="7721640" cy="58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ation Requires Vocabular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41160" y="1596960"/>
            <a:ext cx="8202600" cy="366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ain experts use domain-specific 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KR languages are domain-independent (E.g, FOPC, frames, schemas) and don’t provide a domain-specific 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B construction therefore involves two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ing vocabulary to be used to represent the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resenting the knowledge using the defined vocabul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imes New Roman"/>
              </a:rPr>
              <a:t>Ont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1680" y="323640"/>
            <a:ext cx="8055000" cy="74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tologi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3200" y="1447920"/>
            <a:ext cx="7797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 ontology contains specification of concepts to be used for expressing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18240" indent="0">
              <a:lnSpc>
                <a:spcPct val="7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- Types of entiti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- Relations and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18240" indent="0">
              <a:lnSpc>
                <a:spcPct val="7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- Attributes and properti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- Constr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tologies are distinguished from KBs not by their form, but by the role they play in representing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18240" indent="-2127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ensus models for 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18240" indent="-2127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phasis on properties that hold in all sit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18240" indent="-2127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phasis on classes rather than inst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18240" indent="-2127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nded to support multiple tasks and metho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18240" indent="-2127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n’t change during problem solving and are suited for “compiling” into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18240" indent="-2127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ed to satisfy a community of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33600" indent="-2102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phasis on collaborative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33600" indent="-2102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phasis on translation to multiple logical formalis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18240" indent="-2127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ful for edu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imes New Roman"/>
              </a:rPr>
              <a:t>Ont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00200" y="85680"/>
            <a:ext cx="774360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ceptual Schema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30520" y="4111560"/>
            <a:ext cx="5270760" cy="161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(x, y) =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x’, y’) [</a:t>
            </a:r>
            <a:r>
              <a:rPr b="1" lang="en-US" sz="2000" spc="-1" strike="noStrike">
                <a:solidFill>
                  <a:srgbClr val="ff0033"/>
                </a:solidFill>
                <a:latin typeface="Times New Roman"/>
              </a:rPr>
              <a:t>auto_part(x’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Times New Roman"/>
              </a:rPr>
              <a:t>                    </a:t>
            </a:r>
            <a:r>
              <a:rPr b="1" lang="en-US" sz="2000" spc="-1" strike="noStrike">
                <a:solidFill>
                  <a:srgbClr val="ff0033"/>
                </a:solidFill>
                <a:latin typeface="Times New Roman"/>
              </a:rPr>
              <a:t>&amp; stock_no(x’) = 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retail_price(x’, y’, Value-In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magnitude(y’, US_dollars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y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45000" y="2932200"/>
            <a:ext cx="3581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ble: pric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*stockNo: integer;  cost: flo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710160" y="1741320"/>
            <a:ext cx="1155600" cy="1464120"/>
            <a:chOff x="3710160" y="1741320"/>
            <a:chExt cx="1155600" cy="1464120"/>
          </a:xfrm>
        </p:grpSpPr>
        <p:sp>
          <p:nvSpPr>
            <p:cNvPr id="153" name=""/>
            <p:cNvSpPr/>
            <p:nvPr/>
          </p:nvSpPr>
          <p:spPr>
            <a:xfrm>
              <a:off x="3710160" y="1741320"/>
              <a:ext cx="1155600" cy="14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  74.50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0  77.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…   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20960" y="1793880"/>
              <a:ext cx="1105200" cy="24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20960" y="2048040"/>
              <a:ext cx="1105200" cy="24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20960" y="2301840"/>
              <a:ext cx="1105200" cy="24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20960" y="1793880"/>
              <a:ext cx="495360" cy="24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20960" y="2048040"/>
              <a:ext cx="495360" cy="24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20960" y="2301840"/>
              <a:ext cx="495360" cy="24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424160" y="1928880"/>
            <a:ext cx="163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9880" y="2995560"/>
            <a:ext cx="2743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Base Sche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4640" y="4683240"/>
            <a:ext cx="2933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ceptual Sche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81200" y="837720"/>
            <a:ext cx="75816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onceptual schema specifies the intended meaning of concepts used in a dat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5587560" y="5764320"/>
            <a:ext cx="536760" cy="419040"/>
          </a:xfrm>
          <a:prstGeom prst="line">
            <a:avLst/>
          </a:prstGeom>
          <a:ln w="50760">
            <a:solidFill>
              <a:srgbClr val="00cc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81200" y="3456000"/>
            <a:ext cx="108720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Times New Roman"/>
              </a:rPr>
              <a:t>A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Times New Roman"/>
              </a:rPr>
              <a:t>Ont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400800" y="4135320"/>
            <a:ext cx="776160" cy="58896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7101000" y="4659480"/>
            <a:ext cx="583920" cy="44424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65480" y="4456080"/>
            <a:ext cx="108720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Ont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63560" y="6099120"/>
            <a:ext cx="11253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Unit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Ont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imes New Roman"/>
              </a:rPr>
              <a:t>Ont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4600" y="709200"/>
            <a:ext cx="7769160" cy="58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tology Library and Editing Too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569040" y="2319480"/>
            <a:ext cx="5571360" cy="4049640"/>
            <a:chOff x="3569040" y="2319480"/>
            <a:chExt cx="5571360" cy="4049640"/>
          </a:xfrm>
        </p:grpSpPr>
        <p:sp>
          <p:nvSpPr>
            <p:cNvPr id="175" name=""/>
            <p:cNvSpPr/>
            <p:nvPr/>
          </p:nvSpPr>
          <p:spPr>
            <a:xfrm>
              <a:off x="5708520" y="3062160"/>
              <a:ext cx="676440" cy="41760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c1c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Models o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Sp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6" name=""/>
            <p:cNvGraphicFramePr/>
            <p:nvPr/>
          </p:nvGraphicFramePr>
          <p:xfrm>
            <a:off x="6143760" y="5424480"/>
            <a:ext cx="1066680" cy="944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43760" y="5424480"/>
                      <a:ext cx="1066680" cy="94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8" name=""/>
            <p:cNvGrpSpPr/>
            <p:nvPr/>
          </p:nvGrpSpPr>
          <p:grpSpPr>
            <a:xfrm>
              <a:off x="6432480" y="5046840"/>
              <a:ext cx="647640" cy="306360"/>
              <a:chOff x="6432480" y="5046840"/>
              <a:chExt cx="647640" cy="306360"/>
            </a:xfrm>
          </p:grpSpPr>
          <p:sp>
            <p:nvSpPr>
              <p:cNvPr id="179" name=""/>
              <p:cNvSpPr/>
              <p:nvPr/>
            </p:nvSpPr>
            <p:spPr>
              <a:xfrm>
                <a:off x="6783480" y="5046840"/>
                <a:ext cx="296640" cy="295200"/>
              </a:xfrm>
              <a:prstGeom prst="upArrow">
                <a:avLst>
                  <a:gd name="adj1" fmla="val 50000"/>
                  <a:gd name="adj2" fmla="val 52028"/>
                </a:avLst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432480" y="5056200"/>
                <a:ext cx="298440" cy="297000"/>
              </a:xfrm>
              <a:prstGeom prst="downArrow">
                <a:avLst>
                  <a:gd name="adj1" fmla="val 50000"/>
                  <a:gd name="adj2" fmla="val 52037"/>
                </a:avLst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4373640" y="4241880"/>
              <a:ext cx="887400" cy="738000"/>
            </a:xfrm>
            <a:prstGeom prst="rect">
              <a:avLst/>
            </a:prstGeom>
            <a:noFill/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 anchorCtr="1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81d58"/>
                  </a:solidFill>
                  <a:latin typeface="Arial"/>
                </a:rPr>
                <a:t>Brows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37000" y="4241880"/>
              <a:ext cx="887760" cy="738000"/>
            </a:xfrm>
            <a:prstGeom prst="rect">
              <a:avLst/>
            </a:prstGeom>
            <a:noFill/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 anchorCtr="1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81d58"/>
                  </a:solidFill>
                  <a:latin typeface="Arial"/>
                </a:rPr>
                <a:t>Compa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00720" y="4241880"/>
              <a:ext cx="887400" cy="738000"/>
            </a:xfrm>
            <a:prstGeom prst="rect">
              <a:avLst/>
            </a:prstGeom>
            <a:noFill/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 anchorCtr="1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81d58"/>
                  </a:solidFill>
                  <a:latin typeface="Arial"/>
                </a:rPr>
                <a:t>Compos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261200" y="4241880"/>
              <a:ext cx="887400" cy="738000"/>
            </a:xfrm>
            <a:prstGeom prst="rect">
              <a:avLst/>
            </a:prstGeom>
            <a:noFill/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 anchorCtr="1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81d58"/>
                  </a:solidFill>
                  <a:latin typeface="Arial"/>
                </a:rPr>
                <a:t>Exte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26360" y="4241880"/>
              <a:ext cx="885960" cy="738000"/>
            </a:xfrm>
            <a:prstGeom prst="rect">
              <a:avLst/>
            </a:prstGeom>
            <a:noFill/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 anchorCtr="1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81d58"/>
                  </a:solidFill>
                  <a:latin typeface="Arial"/>
                </a:rPr>
                <a:t>Chec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4613040" y="4468680"/>
              <a:ext cx="19044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808520" y="4473720"/>
              <a:ext cx="0" cy="12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07080" y="4468680"/>
              <a:ext cx="17928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4890960" y="4603680"/>
              <a:ext cx="10008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97520" y="4608360"/>
              <a:ext cx="8568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4503240" y="4608360"/>
              <a:ext cx="10476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18080" y="4613400"/>
              <a:ext cx="0" cy="13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37160" y="4618080"/>
              <a:ext cx="8424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97440" y="4743360"/>
              <a:ext cx="8568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4792680" y="4749840"/>
              <a:ext cx="10008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68920" y="4440240"/>
              <a:ext cx="68040" cy="57240"/>
            </a:xfrm>
            <a:prstGeom prst="ellipse">
              <a:avLst/>
            </a:prstGeom>
            <a:solidFill>
              <a:srgbClr val="ad6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68920" y="4575240"/>
              <a:ext cx="68040" cy="57240"/>
            </a:xfrm>
            <a:prstGeom prst="ellipse">
              <a:avLst/>
            </a:prstGeom>
            <a:solidFill>
              <a:srgbClr val="ad6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84600" y="4575240"/>
              <a:ext cx="66600" cy="5724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54680" y="4575240"/>
              <a:ext cx="66600" cy="57240"/>
            </a:xfrm>
            <a:prstGeom prst="ellipse">
              <a:avLst/>
            </a:prstGeom>
            <a:solidFill>
              <a:srgbClr val="ad6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87840" y="4714920"/>
              <a:ext cx="66600" cy="5724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483080" y="4714920"/>
              <a:ext cx="66600" cy="5724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63960" y="4714920"/>
              <a:ext cx="68400" cy="5724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687920" y="4714920"/>
              <a:ext cx="66600" cy="5724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45040" y="4714920"/>
              <a:ext cx="66600" cy="5724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64240" y="4849920"/>
              <a:ext cx="68040" cy="5688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944960" y="4849920"/>
              <a:ext cx="66600" cy="5688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5892840" y="4452840"/>
              <a:ext cx="272880" cy="331920"/>
              <a:chOff x="5892840" y="4452840"/>
              <a:chExt cx="272880" cy="331920"/>
            </a:xfrm>
          </p:grpSpPr>
          <p:sp>
            <p:nvSpPr>
              <p:cNvPr id="208" name=""/>
              <p:cNvSpPr/>
              <p:nvPr/>
            </p:nvSpPr>
            <p:spPr>
              <a:xfrm flipH="1">
                <a:off x="5913000" y="4486320"/>
                <a:ext cx="10476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029280" y="449280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48360" y="4497480"/>
                <a:ext cx="8568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994360" y="4452840"/>
                <a:ext cx="68400" cy="5724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997600" y="4592520"/>
                <a:ext cx="684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892840" y="4592520"/>
                <a:ext cx="684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097680" y="4592520"/>
                <a:ext cx="68040" cy="57240"/>
              </a:xfrm>
              <a:prstGeom prst="ellipse">
                <a:avLst/>
              </a:prstGeom>
              <a:solidFill>
                <a:srgbClr val="ad69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027840" y="4621320"/>
                <a:ext cx="85680" cy="12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5937120" y="4627440"/>
                <a:ext cx="842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994360" y="4592520"/>
                <a:ext cx="68400" cy="572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910120" y="4727520"/>
                <a:ext cx="6696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075360" y="472752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5657400" y="4489560"/>
              <a:ext cx="223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1500" spc="-1" strike="noStrike">
                  <a:solidFill>
                    <a:srgbClr val="969696"/>
                  </a:solidFill>
                  <a:latin typeface="Arial"/>
                </a:rPr>
                <a:t>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5408640" y="4452840"/>
              <a:ext cx="271440" cy="196920"/>
              <a:chOff x="5408640" y="4452840"/>
              <a:chExt cx="271440" cy="196920"/>
            </a:xfrm>
          </p:grpSpPr>
          <p:sp>
            <p:nvSpPr>
              <p:cNvPr id="222" name=""/>
              <p:cNvSpPr/>
              <p:nvPr/>
            </p:nvSpPr>
            <p:spPr>
              <a:xfrm flipH="1">
                <a:off x="5425920" y="4486320"/>
                <a:ext cx="10656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543640" y="449280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562720" y="4497480"/>
                <a:ext cx="8568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510160" y="4452840"/>
                <a:ext cx="66600" cy="5724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513400" y="459252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408640" y="459252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613480" y="459252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481800" y="4454640"/>
              <a:ext cx="495360" cy="333360"/>
              <a:chOff x="6481800" y="4454640"/>
              <a:chExt cx="495360" cy="333360"/>
            </a:xfrm>
          </p:grpSpPr>
          <p:sp>
            <p:nvSpPr>
              <p:cNvPr id="230" name=""/>
              <p:cNvSpPr/>
              <p:nvPr/>
            </p:nvSpPr>
            <p:spPr>
              <a:xfrm flipH="1">
                <a:off x="6630480" y="4487760"/>
                <a:ext cx="9396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730920" y="449424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734160" y="4498920"/>
                <a:ext cx="10008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700680" y="4594320"/>
                <a:ext cx="6696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594480" y="4594320"/>
                <a:ext cx="6840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831000" y="4622760"/>
                <a:ext cx="8424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6751800" y="4629240"/>
                <a:ext cx="8568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721560" y="4729320"/>
                <a:ext cx="68040" cy="586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77080" y="4729320"/>
                <a:ext cx="66600" cy="586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6512040" y="4478400"/>
                <a:ext cx="22536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735600" y="4483080"/>
                <a:ext cx="21456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696000" y="4454640"/>
                <a:ext cx="68400" cy="5688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481800" y="4594320"/>
                <a:ext cx="6660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910560" y="4594320"/>
                <a:ext cx="66600" cy="56880"/>
              </a:xfrm>
              <a:prstGeom prst="ellipse">
                <a:avLst/>
              </a:prstGeom>
              <a:solidFill>
                <a:srgbClr val="ad69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800760" y="4594320"/>
                <a:ext cx="66600" cy="568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373880" y="4454640"/>
              <a:ext cx="598680" cy="473040"/>
              <a:chOff x="7373880" y="4454640"/>
              <a:chExt cx="598680" cy="473040"/>
            </a:xfrm>
          </p:grpSpPr>
          <p:sp>
            <p:nvSpPr>
              <p:cNvPr id="246" name=""/>
              <p:cNvSpPr/>
              <p:nvPr/>
            </p:nvSpPr>
            <p:spPr>
              <a:xfrm flipH="1">
                <a:off x="7626240" y="4487760"/>
                <a:ext cx="9360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726320" y="449424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729560" y="4498920"/>
                <a:ext cx="10008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694640" y="4594320"/>
                <a:ext cx="6840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589880" y="4594320"/>
                <a:ext cx="6840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826400" y="4622760"/>
                <a:ext cx="8424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7746480" y="4629240"/>
                <a:ext cx="860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716960" y="4729320"/>
                <a:ext cx="66600" cy="586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872480" y="4729320"/>
                <a:ext cx="66600" cy="586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7507440" y="4478400"/>
                <a:ext cx="22536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731000" y="4483080"/>
                <a:ext cx="21456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691400" y="4454640"/>
                <a:ext cx="68400" cy="5688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477200" y="4594320"/>
                <a:ext cx="6660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905600" y="4594320"/>
                <a:ext cx="66960" cy="56880"/>
              </a:xfrm>
              <a:prstGeom prst="ellipse">
                <a:avLst/>
              </a:prstGeom>
              <a:solidFill>
                <a:srgbClr val="ad69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794720" y="4594320"/>
                <a:ext cx="68040" cy="568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7395840" y="4629240"/>
                <a:ext cx="10476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08880" y="463392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529400" y="4638600"/>
                <a:ext cx="8424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475400" y="4594320"/>
                <a:ext cx="66960" cy="56880"/>
              </a:xfrm>
              <a:prstGeom prst="ellipse">
                <a:avLst/>
              </a:prstGeom>
              <a:solidFill>
                <a:srgbClr val="fafd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373880" y="4735440"/>
                <a:ext cx="66600" cy="572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578720" y="4735440"/>
                <a:ext cx="66600" cy="572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505640" y="4764240"/>
                <a:ext cx="84240" cy="12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7426440" y="4768920"/>
                <a:ext cx="8568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396200" y="4870440"/>
                <a:ext cx="68400" cy="572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551720" y="4863960"/>
                <a:ext cx="68400" cy="590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78640" y="4735440"/>
                <a:ext cx="66600" cy="572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8344080" y="4454640"/>
              <a:ext cx="598320" cy="473040"/>
              <a:chOff x="8344080" y="4454640"/>
              <a:chExt cx="598320" cy="473040"/>
            </a:xfrm>
          </p:grpSpPr>
          <p:sp>
            <p:nvSpPr>
              <p:cNvPr id="273" name=""/>
              <p:cNvSpPr/>
              <p:nvPr/>
            </p:nvSpPr>
            <p:spPr>
              <a:xfrm flipH="1">
                <a:off x="8597520" y="4487760"/>
                <a:ext cx="9540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696160" y="449424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701200" y="4498920"/>
                <a:ext cx="10008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666280" y="4594320"/>
                <a:ext cx="6660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559720" y="4594320"/>
                <a:ext cx="6840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6240" y="4622760"/>
                <a:ext cx="8424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8717040" y="4629240"/>
                <a:ext cx="8568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686800" y="4729320"/>
                <a:ext cx="68400" cy="586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842320" y="4729320"/>
                <a:ext cx="66600" cy="586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8477280" y="4478400"/>
                <a:ext cx="22536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701200" y="4483080"/>
                <a:ext cx="21420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661240" y="4454640"/>
                <a:ext cx="68400" cy="5688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447040" y="4594320"/>
                <a:ext cx="6660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875800" y="4594320"/>
                <a:ext cx="66600" cy="56880"/>
              </a:xfrm>
              <a:prstGeom prst="ellipse">
                <a:avLst/>
              </a:prstGeom>
              <a:solidFill>
                <a:srgbClr val="ad69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766000" y="4594320"/>
                <a:ext cx="66960" cy="568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8365680" y="4629240"/>
                <a:ext cx="10476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478720" y="463392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499600" y="4638600"/>
                <a:ext cx="8388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445600" y="4594320"/>
                <a:ext cx="66600" cy="56880"/>
              </a:xfrm>
              <a:prstGeom prst="ellipse">
                <a:avLst/>
              </a:prstGeom>
              <a:solidFill>
                <a:srgbClr val="fafd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344080" y="4735440"/>
                <a:ext cx="66600" cy="572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548560" y="4735440"/>
                <a:ext cx="66960" cy="572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477280" y="4764240"/>
                <a:ext cx="85680" cy="12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8396280" y="4768920"/>
                <a:ext cx="842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367840" y="4870440"/>
                <a:ext cx="66600" cy="572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521560" y="4863960"/>
                <a:ext cx="68400" cy="590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448840" y="4735440"/>
                <a:ext cx="66600" cy="572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8735400" y="4413240"/>
              <a:ext cx="1468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37c03"/>
                  </a:solidFill>
                  <a:latin typeface="Chicago"/>
                </a:rPr>
                <a:t>_x0012_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940240" y="4564080"/>
              <a:ext cx="1468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37c03"/>
                  </a:solidFill>
                  <a:latin typeface="Chicago"/>
                </a:rPr>
                <a:t>_x0012_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929080" y="4699080"/>
              <a:ext cx="1468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37c03"/>
                  </a:solidFill>
                  <a:latin typeface="Chicago"/>
                </a:rPr>
                <a:t>_x0012_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635320" y="4843440"/>
              <a:ext cx="1468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37c03"/>
                  </a:solidFill>
                  <a:latin typeface="Chicago"/>
                </a:rPr>
                <a:t>_x0012_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573720" y="4370400"/>
              <a:ext cx="79164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1500" spc="-1" strike="noStrike">
                  <a:solidFill>
                    <a:srgbClr val="969696"/>
                  </a:solidFill>
                  <a:latin typeface="Arial"/>
                </a:rPr>
                <a:t>Edit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1500" spc="-1" strike="noStrike">
                  <a:solidFill>
                    <a:srgbClr val="969696"/>
                  </a:solidFill>
                  <a:latin typeface="Arial"/>
                </a:rPr>
                <a:t>Tool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569040" y="2898720"/>
              <a:ext cx="7945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1500" spc="-1" strike="noStrike">
                  <a:solidFill>
                    <a:srgbClr val="969696"/>
                  </a:solidFill>
                  <a:latin typeface="Arial"/>
                </a:rPr>
                <a:t>Share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1500" spc="-1" strike="noStrike">
                  <a:solidFill>
                    <a:srgbClr val="969696"/>
                  </a:solidFill>
                  <a:latin typeface="Arial"/>
                </a:rPr>
                <a:t>Librar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6432480" y="3873600"/>
              <a:ext cx="647640" cy="303120"/>
              <a:chOff x="6432480" y="3873600"/>
              <a:chExt cx="647640" cy="303120"/>
            </a:xfrm>
          </p:grpSpPr>
          <p:sp>
            <p:nvSpPr>
              <p:cNvPr id="306" name=""/>
              <p:cNvSpPr/>
              <p:nvPr/>
            </p:nvSpPr>
            <p:spPr>
              <a:xfrm>
                <a:off x="6783480" y="3873600"/>
                <a:ext cx="296640" cy="293760"/>
              </a:xfrm>
              <a:prstGeom prst="upArrow">
                <a:avLst>
                  <a:gd name="adj1" fmla="val 50000"/>
                  <a:gd name="adj2" fmla="val 52028"/>
                </a:avLst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432480" y="3882960"/>
                <a:ext cx="298440" cy="293760"/>
              </a:xfrm>
              <a:prstGeom prst="downArrow">
                <a:avLst>
                  <a:gd name="adj1" fmla="val 50000"/>
                  <a:gd name="adj2" fmla="val 52037"/>
                </a:avLst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4338720" y="2664000"/>
              <a:ext cx="1366920" cy="8110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600" spc="-1" strike="noStrike">
                  <a:solidFill>
                    <a:srgbClr val="003530"/>
                  </a:solidFill>
                  <a:latin typeface="Arial"/>
                </a:rPr>
                <a:t>WordN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600" spc="-1" strike="noStrike">
                  <a:solidFill>
                    <a:srgbClr val="003530"/>
                  </a:solidFill>
                  <a:latin typeface="Arial"/>
                </a:rPr>
                <a:t>Penman Ontolog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600" spc="-1" strike="noStrike">
                  <a:solidFill>
                    <a:srgbClr val="003530"/>
                  </a:solidFill>
                  <a:latin typeface="Arial"/>
                </a:rPr>
                <a:t>CYC Upper Ontolog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708520" y="2652840"/>
              <a:ext cx="676440" cy="41724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c1c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Models o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Ti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397560" y="3062160"/>
              <a:ext cx="677880" cy="41760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c1c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Physic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Objec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97560" y="2652840"/>
              <a:ext cx="677880" cy="41724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c1c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Ac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&amp; Causalit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366080" y="2320920"/>
              <a:ext cx="125640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03e00"/>
                  </a:solidFill>
                  <a:latin typeface="Arial"/>
                </a:rPr>
                <a:t>Lexicons &amp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03e00"/>
                  </a:solidFill>
                  <a:latin typeface="Arial"/>
                </a:rPr>
                <a:t>Skeleton Ontologi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936400" y="2319480"/>
              <a:ext cx="13705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03e00"/>
                  </a:solidFill>
                  <a:latin typeface="Arial"/>
                </a:rPr>
                <a:t>Comm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03e00"/>
                  </a:solidFill>
                  <a:latin typeface="Arial"/>
                </a:rPr>
                <a:t>Ontologies &amp; Theori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78680" y="3062160"/>
              <a:ext cx="677880" cy="41760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c1c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Geograph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&amp; Terra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78680" y="2652840"/>
              <a:ext cx="677880" cy="41724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c1c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Situa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&amp; Contex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761000" y="2770200"/>
              <a:ext cx="52056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5145120" y="2878200"/>
              <a:ext cx="271440" cy="196920"/>
              <a:chOff x="5145120" y="2878200"/>
              <a:chExt cx="271440" cy="196920"/>
            </a:xfrm>
          </p:grpSpPr>
          <p:sp>
            <p:nvSpPr>
              <p:cNvPr id="318" name=""/>
              <p:cNvSpPr/>
              <p:nvPr/>
            </p:nvSpPr>
            <p:spPr>
              <a:xfrm flipH="1">
                <a:off x="5167080" y="2911320"/>
                <a:ext cx="10476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281560" y="291456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300640" y="2919240"/>
                <a:ext cx="8424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248440" y="2878200"/>
                <a:ext cx="66600" cy="5724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249880" y="301788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45120" y="301788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349960" y="301788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 flipH="1">
              <a:off x="4576320" y="2776680"/>
              <a:ext cx="190440" cy="13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772160" y="2782800"/>
              <a:ext cx="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770360" y="2778120"/>
              <a:ext cx="17964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4854600" y="2911320"/>
              <a:ext cx="10008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960800" y="2917800"/>
              <a:ext cx="8604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4466880" y="2917800"/>
              <a:ext cx="10476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81360" y="292104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00440" y="2925720"/>
              <a:ext cx="8424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32200" y="2749680"/>
              <a:ext cx="68400" cy="56880"/>
            </a:xfrm>
            <a:prstGeom prst="ellipse">
              <a:avLst/>
            </a:prstGeom>
            <a:solidFill>
              <a:srgbClr val="ad6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32200" y="2884320"/>
              <a:ext cx="68400" cy="57240"/>
            </a:xfrm>
            <a:prstGeom prst="ellipse">
              <a:avLst/>
            </a:prstGeom>
            <a:solidFill>
              <a:srgbClr val="ad6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548240" y="2884320"/>
              <a:ext cx="66600" cy="5724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917960" y="2884320"/>
              <a:ext cx="66960" cy="57240"/>
            </a:xfrm>
            <a:prstGeom prst="ellipse">
              <a:avLst/>
            </a:prstGeom>
            <a:solidFill>
              <a:srgbClr val="ad6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49680" y="3024360"/>
              <a:ext cx="66600" cy="5688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44920" y="3024360"/>
              <a:ext cx="66600" cy="5688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827600" y="3024360"/>
              <a:ext cx="68400" cy="5688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649760" y="3024360"/>
              <a:ext cx="66600" cy="5688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008680" y="3024360"/>
              <a:ext cx="66600" cy="5688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5245200" y="3017880"/>
              <a:ext cx="271440" cy="331920"/>
              <a:chOff x="5245200" y="3017880"/>
              <a:chExt cx="271440" cy="331920"/>
            </a:xfrm>
          </p:grpSpPr>
          <p:sp>
            <p:nvSpPr>
              <p:cNvPr id="343" name=""/>
              <p:cNvSpPr/>
              <p:nvPr/>
            </p:nvSpPr>
            <p:spPr>
              <a:xfrm flipH="1">
                <a:off x="5267160" y="3051000"/>
                <a:ext cx="105120" cy="14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381640" y="305424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400720" y="3059280"/>
                <a:ext cx="84240" cy="13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48160" y="3017880"/>
                <a:ext cx="66960" cy="5724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49960" y="315756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245200" y="315756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450040" y="3157560"/>
                <a:ext cx="66600" cy="57240"/>
              </a:xfrm>
              <a:prstGeom prst="ellipse">
                <a:avLst/>
              </a:prstGeom>
              <a:solidFill>
                <a:srgbClr val="ad69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81640" y="3186000"/>
                <a:ext cx="8568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5291280" y="3191040"/>
                <a:ext cx="8568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348160" y="3157560"/>
                <a:ext cx="66960" cy="572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262480" y="3292560"/>
                <a:ext cx="684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427720" y="3292560"/>
                <a:ext cx="6804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7758000" y="2664000"/>
              <a:ext cx="1368360" cy="8110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003530"/>
                  </a:solidFill>
                  <a:latin typeface="Arial"/>
                </a:rPr>
                <a:t>Opera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003530"/>
                  </a:solidFill>
                  <a:latin typeface="Arial"/>
                </a:rPr>
                <a:t>Logistic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003530"/>
                  </a:solidFill>
                  <a:latin typeface="Arial"/>
                </a:rPr>
                <a:t>Sensor Managem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003530"/>
                  </a:solidFill>
                  <a:latin typeface="Arial"/>
                </a:rPr>
                <a:t>Battlefield Situa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003530"/>
                  </a:solidFill>
                  <a:latin typeface="Arial"/>
                </a:rPr>
                <a:t>Command and Contr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769880" y="2319480"/>
              <a:ext cx="13705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03e00"/>
                  </a:solidFill>
                  <a:latin typeface="Arial"/>
                </a:rPr>
                <a:t>Domain-Specifi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03e00"/>
                  </a:solidFill>
                  <a:latin typeface="Arial"/>
                </a:rPr>
                <a:t>Ontologies &amp; Theori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324320" y="3494160"/>
              <a:ext cx="4811760" cy="287280"/>
            </a:xfrm>
            <a:prstGeom prst="rect">
              <a:avLst/>
            </a:prstGeom>
            <a:solidFill>
              <a:srgbClr val="003530"/>
            </a:solidFill>
            <a:ln w="12600">
              <a:solidFill>
                <a:srgbClr val="c1c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Basic Representation Concepts:  Sets, Sequences, Arrays, Quantities, Probabiliti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0" y="2664000"/>
            <a:ext cx="365760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web interface to a browser/editor at </a:t>
            </a:r>
            <a:r>
              <a:rPr b="0" i="1" lang="en-US" sz="1800" spc="-1" strike="noStrike">
                <a:solidFill>
                  <a:srgbClr val="ff0033"/>
                </a:solidFill>
                <a:latin typeface="Times New Roman"/>
              </a:rPr>
              <a:t>http://ontolingua.stanford.edu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mirror si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l representation is KIF augmented with a frame language ont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5960" indent="-58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s OO structuring of ont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tologies can be translated into other content languages, including KIF, LOOM, Prolog, CLIP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des user with fully cross-referenced HTML doc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1800" y="1386000"/>
            <a:ext cx="38275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Ontolingu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language for building, publishing, and sharing ontolog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imes New Roman"/>
              </a:rPr>
              <a:t>Ont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514080" y="2082600"/>
            <a:ext cx="8172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QML is a high-level, message-oriented, communication language and protocol for information exchange independent of content syntax and ont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QML is independen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ransport mechanism (e.g., tcp/ip, email,  corba objects, IIOP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of content language (e.g., KIF, SQL, STEP, Prolog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of the ontology assumed by the cont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QML includes primitive message types of particular interest to building interesting agent architectures (e.g., for mediators, sharing intention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928800" y="352440"/>
            <a:ext cx="7743600" cy="13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KQML </a:t>
            </a:r>
            <a:br>
              <a:rPr sz="5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ledge Query and Manipulation Language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0" y="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imes New Roman"/>
              </a:rPr>
              <a:t>KQ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68240" y="542880"/>
            <a:ext cx="760752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KQML Messag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28560" y="4266720"/>
            <a:ext cx="773424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s a single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speech act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perform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ask, tell, reply, subscribe, achieve, monitor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an associated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semantics and protocol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a list of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attribute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:content, :language, :from, :in-reply-to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0" y="1587600"/>
            <a:ext cx="9067680" cy="2298600"/>
            <a:chOff x="0" y="1587600"/>
            <a:chExt cx="9067680" cy="2298600"/>
          </a:xfrm>
        </p:grpSpPr>
        <p:sp>
          <p:nvSpPr>
            <p:cNvPr id="370" name=""/>
            <p:cNvSpPr/>
            <p:nvPr/>
          </p:nvSpPr>
          <p:spPr>
            <a:xfrm>
              <a:off x="2873520" y="1587600"/>
              <a:ext cx="6194160" cy="22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285840" indent="-285840">
                <a:lnSpc>
                  <a:spcPct val="7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ell </a:t>
              </a:r>
              <a:r>
                <a:rPr b="0" i="1" lang="en-US" sz="2400" spc="-1" strike="noStrike">
                  <a:solidFill>
                    <a:srgbClr val="fc0128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sender          bhkAg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7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receiver       fininBo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7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in-reply-to   id7.24.97.4539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7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ontology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ecbk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7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nguage</a:t>
              </a:r>
              <a:r>
                <a:rPr b="0" i="1" lang="en-US" sz="2400" spc="-1" strike="noStrike">
                  <a:solidFill>
                    <a:srgbClr val="fc0128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lo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7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content   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“price(ISBN3429459,24.95)”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1905120" y="1778040"/>
              <a:ext cx="1143000" cy="355680"/>
            </a:xfrm>
            <a:prstGeom prst="line">
              <a:avLst/>
            </a:prstGeom>
            <a:ln w="50760">
              <a:solidFill>
                <a:srgbClr val="b2b2b2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752480" y="2743200"/>
              <a:ext cx="1981440" cy="76320"/>
            </a:xfrm>
            <a:prstGeom prst="line">
              <a:avLst/>
            </a:prstGeom>
            <a:ln w="50760">
              <a:solidFill>
                <a:srgbClr val="b2b2b2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0" y="1969920"/>
              <a:ext cx="2133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b2b2b2"/>
                  </a:solidFill>
                  <a:latin typeface="Book Antiqua"/>
                </a:rPr>
                <a:t>performa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8600" y="2554200"/>
              <a:ext cx="1859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b2b2b2"/>
                  </a:solidFill>
                  <a:latin typeface="Book Antiqua"/>
                </a:rPr>
                <a:t>parame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5800" y="3060720"/>
              <a:ext cx="1143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b2b2b2"/>
                  </a:solidFill>
                  <a:latin typeface="Book Antiqua"/>
                </a:rPr>
                <a:t>val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00200" y="3276720"/>
              <a:ext cx="3429000" cy="228600"/>
            </a:xfrm>
            <a:prstGeom prst="line">
              <a:avLst/>
            </a:prstGeom>
            <a:ln w="50760">
              <a:solidFill>
                <a:srgbClr val="b2b2b2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360" y="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imes New Roman"/>
              </a:rPr>
              <a:t>KQ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mantics for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ell(A,B,X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05920" y="1956960"/>
            <a:ext cx="6743880" cy="400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bel(A,X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“A states to B that A believes X to be true (for A)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(A): 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bel(A,X) AND know(A,want(B,know(B,S)))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may be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bel(A,X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NOT(bel(A,X)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(B)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tend(B,know(B,S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(A):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know(A,know(B,bel(A,X)))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(B):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know(B,bel(A,X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letion: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know(B,bel(A,X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ent: The completion condition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tconditions hold unless a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sorry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  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erro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ggests B’s inability to properly acknowled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 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tel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3943440" y="3774960"/>
            <a:ext cx="4835880" cy="2389320"/>
            <a:chOff x="3943440" y="3774960"/>
            <a:chExt cx="4835880" cy="2389320"/>
          </a:xfrm>
        </p:grpSpPr>
        <p:sp>
          <p:nvSpPr>
            <p:cNvPr id="389" name=""/>
            <p:cNvSpPr/>
            <p:nvPr/>
          </p:nvSpPr>
          <p:spPr>
            <a:xfrm flipV="1">
              <a:off x="5517360" y="4026600"/>
              <a:ext cx="654480" cy="158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6560" y="3933720"/>
              <a:ext cx="5950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tream-al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205600" y="4122000"/>
              <a:ext cx="330480" cy="343080"/>
            </a:xfrm>
            <a:prstGeom prst="ellipse">
              <a:avLst/>
            </a:prstGeom>
            <a:solidFill>
              <a:srgbClr val="618ffd"/>
            </a:solidFill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060400" y="4122000"/>
              <a:ext cx="330480" cy="343080"/>
            </a:xfrm>
            <a:prstGeom prst="ellipse">
              <a:avLst/>
            </a:prstGeom>
            <a:solidFill>
              <a:srgbClr val="618ffd"/>
            </a:solidFill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912720" y="4825080"/>
              <a:ext cx="330480" cy="343080"/>
            </a:xfrm>
            <a:prstGeom prst="ellipse">
              <a:avLst/>
            </a:prstGeom>
            <a:solidFill>
              <a:srgbClr val="618ffd"/>
            </a:solidFill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03000" y="5387760"/>
              <a:ext cx="330480" cy="343080"/>
            </a:xfrm>
            <a:prstGeom prst="ellipse">
              <a:avLst/>
            </a:prstGeom>
            <a:solidFill>
              <a:srgbClr val="618ffd"/>
            </a:solidFill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055640" y="4128480"/>
              <a:ext cx="336960" cy="34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78320" y="3842280"/>
              <a:ext cx="336600" cy="34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178320" y="4427640"/>
              <a:ext cx="336600" cy="34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189760" y="4843800"/>
              <a:ext cx="336960" cy="34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93000" y="5400360"/>
              <a:ext cx="336960" cy="34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032160" y="5400360"/>
              <a:ext cx="336960" cy="34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49040" y="4294080"/>
              <a:ext cx="1500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10880" y="4408560"/>
              <a:ext cx="65484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386480" y="4223880"/>
              <a:ext cx="680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386480" y="4383000"/>
              <a:ext cx="67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545800" y="5034960"/>
              <a:ext cx="136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49040" y="5578560"/>
              <a:ext cx="470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381720" y="5572080"/>
              <a:ext cx="521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34360" y="4014000"/>
              <a:ext cx="1621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515280" y="4478400"/>
              <a:ext cx="1646640" cy="18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430520" y="3836880"/>
              <a:ext cx="3852000" cy="57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341600" y="4097160"/>
              <a:ext cx="400428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946640" y="4186800"/>
              <a:ext cx="8251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81400" y="4933800"/>
              <a:ext cx="7365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00480" y="5480640"/>
              <a:ext cx="7236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390000" y="4181040"/>
              <a:ext cx="4593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sk-al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546520" y="4406760"/>
              <a:ext cx="501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sk-i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74600" y="377496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225920" y="3952800"/>
              <a:ext cx="309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497360" y="4117320"/>
              <a:ext cx="3175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el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495560" y="426996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275240" y="4449600"/>
              <a:ext cx="3175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el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14640" y="458964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438760" y="4276440"/>
              <a:ext cx="340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o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220880" y="4929120"/>
              <a:ext cx="340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o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268400" y="5472000"/>
              <a:ext cx="340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o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919480" y="5003640"/>
              <a:ext cx="339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578200" y="5459400"/>
              <a:ext cx="3175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el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54800" y="5452920"/>
              <a:ext cx="3222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72920" y="41284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209280" y="3900240"/>
              <a:ext cx="3193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S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213960" y="4470480"/>
              <a:ext cx="3193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S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085880" y="4179600"/>
              <a:ext cx="3193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S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078040" y="4163760"/>
              <a:ext cx="3193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249520" y="488592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925680" y="4889160"/>
              <a:ext cx="340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209920" y="5437080"/>
              <a:ext cx="346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S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010920" y="5451120"/>
              <a:ext cx="410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SR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866640" y="5430600"/>
              <a:ext cx="410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R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55760" y="41410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914720" y="48639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905000" y="5425920"/>
              <a:ext cx="346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995280" y="4870080"/>
              <a:ext cx="29232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943440" y="5041800"/>
              <a:ext cx="30006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29560" y="4763520"/>
              <a:ext cx="386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en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330600" y="5132520"/>
              <a:ext cx="395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or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19560" y="5731200"/>
              <a:ext cx="413640" cy="433080"/>
            </a:xfrm>
            <a:custGeom>
              <a:avLst/>
              <a:gdLst/>
              <a:ahLst/>
              <a:rect l="l" t="t" r="r" b="b"/>
              <a:pathLst>
                <a:path w="521" h="545">
                  <a:moveTo>
                    <a:pt x="88" y="0"/>
                  </a:moveTo>
                  <a:lnTo>
                    <a:pt x="72" y="16"/>
                  </a:lnTo>
                  <a:lnTo>
                    <a:pt x="64" y="32"/>
                  </a:lnTo>
                  <a:lnTo>
                    <a:pt x="56" y="48"/>
                  </a:lnTo>
                  <a:lnTo>
                    <a:pt x="48" y="64"/>
                  </a:lnTo>
                  <a:lnTo>
                    <a:pt x="48" y="80"/>
                  </a:lnTo>
                  <a:lnTo>
                    <a:pt x="48" y="96"/>
                  </a:lnTo>
                  <a:lnTo>
                    <a:pt x="40" y="112"/>
                  </a:lnTo>
                  <a:lnTo>
                    <a:pt x="32" y="128"/>
                  </a:lnTo>
                  <a:lnTo>
                    <a:pt x="24" y="144"/>
                  </a:lnTo>
                  <a:lnTo>
                    <a:pt x="16" y="160"/>
                  </a:lnTo>
                  <a:lnTo>
                    <a:pt x="16" y="176"/>
                  </a:lnTo>
                  <a:lnTo>
                    <a:pt x="0" y="208"/>
                  </a:lnTo>
                  <a:lnTo>
                    <a:pt x="0" y="224"/>
                  </a:lnTo>
                  <a:lnTo>
                    <a:pt x="0" y="256"/>
                  </a:lnTo>
                  <a:lnTo>
                    <a:pt x="0" y="272"/>
                  </a:lnTo>
                  <a:lnTo>
                    <a:pt x="0" y="304"/>
                  </a:lnTo>
                  <a:lnTo>
                    <a:pt x="0" y="336"/>
                  </a:lnTo>
                  <a:lnTo>
                    <a:pt x="8" y="352"/>
                  </a:lnTo>
                  <a:lnTo>
                    <a:pt x="8" y="368"/>
                  </a:lnTo>
                  <a:lnTo>
                    <a:pt x="16" y="384"/>
                  </a:lnTo>
                  <a:lnTo>
                    <a:pt x="32" y="416"/>
                  </a:lnTo>
                  <a:lnTo>
                    <a:pt x="64" y="448"/>
                  </a:lnTo>
                  <a:lnTo>
                    <a:pt x="88" y="488"/>
                  </a:lnTo>
                  <a:lnTo>
                    <a:pt x="128" y="512"/>
                  </a:lnTo>
                  <a:lnTo>
                    <a:pt x="144" y="528"/>
                  </a:lnTo>
                  <a:lnTo>
                    <a:pt x="160" y="536"/>
                  </a:lnTo>
                  <a:lnTo>
                    <a:pt x="176" y="536"/>
                  </a:lnTo>
                  <a:lnTo>
                    <a:pt x="192" y="544"/>
                  </a:lnTo>
                  <a:lnTo>
                    <a:pt x="208" y="544"/>
                  </a:lnTo>
                  <a:lnTo>
                    <a:pt x="224" y="544"/>
                  </a:lnTo>
                  <a:lnTo>
                    <a:pt x="248" y="544"/>
                  </a:lnTo>
                  <a:lnTo>
                    <a:pt x="264" y="544"/>
                  </a:lnTo>
                  <a:lnTo>
                    <a:pt x="304" y="544"/>
                  </a:lnTo>
                  <a:lnTo>
                    <a:pt x="336" y="528"/>
                  </a:lnTo>
                  <a:lnTo>
                    <a:pt x="368" y="528"/>
                  </a:lnTo>
                  <a:lnTo>
                    <a:pt x="400" y="496"/>
                  </a:lnTo>
                  <a:lnTo>
                    <a:pt x="416" y="488"/>
                  </a:lnTo>
                  <a:lnTo>
                    <a:pt x="440" y="472"/>
                  </a:lnTo>
                  <a:lnTo>
                    <a:pt x="456" y="464"/>
                  </a:lnTo>
                  <a:lnTo>
                    <a:pt x="472" y="448"/>
                  </a:lnTo>
                  <a:lnTo>
                    <a:pt x="488" y="440"/>
                  </a:lnTo>
                  <a:lnTo>
                    <a:pt x="496" y="424"/>
                  </a:lnTo>
                  <a:lnTo>
                    <a:pt x="504" y="408"/>
                  </a:lnTo>
                  <a:lnTo>
                    <a:pt x="512" y="392"/>
                  </a:lnTo>
                  <a:lnTo>
                    <a:pt x="512" y="376"/>
                  </a:lnTo>
                  <a:lnTo>
                    <a:pt x="512" y="360"/>
                  </a:lnTo>
                  <a:lnTo>
                    <a:pt x="520" y="344"/>
                  </a:lnTo>
                  <a:lnTo>
                    <a:pt x="520" y="328"/>
                  </a:lnTo>
                  <a:lnTo>
                    <a:pt x="520" y="312"/>
                  </a:lnTo>
                  <a:lnTo>
                    <a:pt x="520" y="296"/>
                  </a:lnTo>
                  <a:lnTo>
                    <a:pt x="504" y="256"/>
                  </a:lnTo>
                  <a:lnTo>
                    <a:pt x="504" y="240"/>
                  </a:lnTo>
                  <a:lnTo>
                    <a:pt x="496" y="224"/>
                  </a:lnTo>
                  <a:lnTo>
                    <a:pt x="488" y="208"/>
                  </a:lnTo>
                  <a:lnTo>
                    <a:pt x="480" y="192"/>
                  </a:lnTo>
                  <a:lnTo>
                    <a:pt x="480" y="176"/>
                  </a:lnTo>
                  <a:lnTo>
                    <a:pt x="464" y="160"/>
                  </a:lnTo>
                  <a:lnTo>
                    <a:pt x="456" y="144"/>
                  </a:lnTo>
                  <a:lnTo>
                    <a:pt x="448" y="128"/>
                  </a:lnTo>
                  <a:lnTo>
                    <a:pt x="440" y="112"/>
                  </a:lnTo>
                  <a:lnTo>
                    <a:pt x="432" y="96"/>
                  </a:lnTo>
                  <a:lnTo>
                    <a:pt x="416" y="80"/>
                  </a:lnTo>
                  <a:lnTo>
                    <a:pt x="408" y="64"/>
                  </a:lnTo>
                  <a:lnTo>
                    <a:pt x="392" y="56"/>
                  </a:lnTo>
                  <a:lnTo>
                    <a:pt x="384" y="40"/>
                  </a:lnTo>
                  <a:lnTo>
                    <a:pt x="368" y="32"/>
                  </a:lnTo>
                  <a:lnTo>
                    <a:pt x="352" y="1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14960" y="5937120"/>
              <a:ext cx="3175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el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>
            <a:hlinkClick r:id="rId1" action="ppaction://hlinksldjump"/>
          </p:cNvPr>
          <p:cNvSpPr/>
          <p:nvPr/>
        </p:nvSpPr>
        <p:spPr>
          <a:xfrm>
            <a:off x="8396280" y="6164280"/>
            <a:ext cx="595440" cy="541440"/>
          </a:xfrm>
          <a:custGeom>
            <a:avLst/>
            <a:gdLst>
              <a:gd name="textAreaLeft" fmla="*/ 34920 w 595440"/>
              <a:gd name="textAreaRight" fmla="*/ 560520 w 59544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23753" h="21600">
                <a:moveTo>
                  <a:pt x="0" y="0"/>
                </a:moveTo>
                <a:lnTo>
                  <a:pt x="23753" y="0"/>
                </a:lnTo>
                <a:lnTo>
                  <a:pt x="23753" y="21600"/>
                </a:lnTo>
                <a:lnTo>
                  <a:pt x="0" y="21600"/>
                </a:lnTo>
                <a:close/>
              </a:path>
              <a:path fill="lightenLess" w="23753" h="21600">
                <a:moveTo>
                  <a:pt x="0" y="0"/>
                </a:moveTo>
                <a:lnTo>
                  <a:pt x="23753" y="0"/>
                </a:lnTo>
                <a:lnTo>
                  <a:pt x="22353" y="1400"/>
                </a:lnTo>
                <a:lnTo>
                  <a:pt x="1400" y="1400"/>
                </a:lnTo>
                <a:close/>
              </a:path>
              <a:path fill="darken" w="23753" h="21600">
                <a:moveTo>
                  <a:pt x="23753" y="0"/>
                </a:moveTo>
                <a:lnTo>
                  <a:pt x="23753" y="21600"/>
                </a:lnTo>
                <a:lnTo>
                  <a:pt x="22353" y="20200"/>
                </a:lnTo>
                <a:lnTo>
                  <a:pt x="22353" y="1400"/>
                </a:lnTo>
                <a:close/>
              </a:path>
              <a:path fill="darkenLess" w="23753" h="21600">
                <a:moveTo>
                  <a:pt x="237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3" y="20200"/>
                </a:lnTo>
                <a:close/>
              </a:path>
              <a:path fill="lighten" w="237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3" h="21600">
                <a:moveTo>
                  <a:pt x="4870" y="3794"/>
                </a:moveTo>
                <a:lnTo>
                  <a:pt x="18883" y="10800"/>
                </a:lnTo>
                <a:lnTo>
                  <a:pt x="4870" y="17806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60" y="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imes New Roman"/>
              </a:rPr>
              <a:t>KQ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39440" y="349200"/>
            <a:ext cx="79693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 KQML Performativ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010280" cy="47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5080" indent="-23508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query performatives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evaluate, ask-if, ask-in, ask-one, ask-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response query performatives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tream-in, stream-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 performativ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reply, sorry,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ic informational performativ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tell, achieve, cancel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te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unachi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 performativ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standby, ready, next, rest, discard,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bility-definition performativ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advertise, subscribe, monitor, import, 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ing performativ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register, unregister, forward, broadcast, ro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0" y="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imes New Roman"/>
              </a:rPr>
              <a:t>KQ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24080" y="6553080"/>
            <a:ext cx="28958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08200" y="411120"/>
            <a:ext cx="7527600" cy="69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mple Query Performativ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358920" y="2955960"/>
            <a:ext cx="8427960" cy="3367080"/>
            <a:chOff x="358920" y="2955960"/>
            <a:chExt cx="8427960" cy="3367080"/>
          </a:xfrm>
        </p:grpSpPr>
        <p:grpSp>
          <p:nvGrpSpPr>
            <p:cNvPr id="461" name=""/>
            <p:cNvGrpSpPr/>
            <p:nvPr/>
          </p:nvGrpSpPr>
          <p:grpSpPr>
            <a:xfrm>
              <a:off x="1606680" y="2955960"/>
              <a:ext cx="5924520" cy="929160"/>
              <a:chOff x="1606680" y="2955960"/>
              <a:chExt cx="5924520" cy="92916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1606680" y="2955960"/>
                <a:ext cx="1130040" cy="911880"/>
                <a:chOff x="1606680" y="2955960"/>
                <a:chExt cx="1130040" cy="91188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1606680" y="3054240"/>
                  <a:ext cx="1130040" cy="7495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96969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819080" y="2955960"/>
                  <a:ext cx="676800" cy="91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6413400" y="2973240"/>
                <a:ext cx="1117800" cy="911880"/>
                <a:chOff x="6413400" y="2973240"/>
                <a:chExt cx="1117800" cy="91188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6413400" y="3060720"/>
                  <a:ext cx="1117800" cy="736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c0128"/>
                </a:solidFill>
                <a:ln w="25560">
                  <a:solidFill>
                    <a:srgbClr val="fc0128"/>
                  </a:solidFill>
                  <a:miter/>
                </a:ln>
                <a:effectLst>
                  <a:outerShdw dist="107932" dir="2700000" blurRad="0" rotWithShape="0">
                    <a:srgbClr val="96969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615000" y="2973240"/>
                  <a:ext cx="638640" cy="91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ffffff"/>
                      </a:solidFill>
                      <a:latin typeface="Times New Roman"/>
                    </a:rPr>
                    <a:t>B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8" name=""/>
            <p:cNvSpPr/>
            <p:nvPr/>
          </p:nvSpPr>
          <p:spPr>
            <a:xfrm>
              <a:off x="358920" y="5259240"/>
              <a:ext cx="842796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ask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sk-one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sk-al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sk-i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and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sk-abou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performatives provide a simple query mechanism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2580480" y="1392120"/>
            <a:ext cx="3859560" cy="3132000"/>
            <a:chOff x="2580480" y="1392120"/>
            <a:chExt cx="3859560" cy="3132000"/>
          </a:xfrm>
        </p:grpSpPr>
        <p:grpSp>
          <p:nvGrpSpPr>
            <p:cNvPr id="470" name=""/>
            <p:cNvGrpSpPr/>
            <p:nvPr/>
          </p:nvGrpSpPr>
          <p:grpSpPr>
            <a:xfrm>
              <a:off x="2757600" y="1727280"/>
              <a:ext cx="3682440" cy="2796840"/>
              <a:chOff x="2757600" y="1727280"/>
              <a:chExt cx="3682440" cy="2796840"/>
            </a:xfrm>
          </p:grpSpPr>
          <p:sp>
            <p:nvSpPr>
              <p:cNvPr id="471" name=""/>
              <p:cNvSpPr/>
              <p:nvPr/>
            </p:nvSpPr>
            <p:spPr>
              <a:xfrm>
                <a:off x="2807280" y="1727280"/>
                <a:ext cx="3580560" cy="279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757600" y="1727280"/>
                <a:ext cx="3682440" cy="279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70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7036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2580480" y="1392120"/>
              <a:ext cx="1571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sk-one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757600" y="1639800"/>
            <a:ext cx="3682440" cy="3030120"/>
            <a:chOff x="2757600" y="1639800"/>
            <a:chExt cx="3682440" cy="3030120"/>
          </a:xfrm>
        </p:grpSpPr>
        <p:grpSp>
          <p:nvGrpSpPr>
            <p:cNvPr id="475" name=""/>
            <p:cNvGrpSpPr/>
            <p:nvPr/>
          </p:nvGrpSpPr>
          <p:grpSpPr>
            <a:xfrm>
              <a:off x="2757600" y="2190600"/>
              <a:ext cx="3682440" cy="2479320"/>
              <a:chOff x="2757600" y="2190600"/>
              <a:chExt cx="3682440" cy="2479320"/>
            </a:xfrm>
          </p:grpSpPr>
          <p:sp>
            <p:nvSpPr>
              <p:cNvPr id="476" name=""/>
              <p:cNvSpPr/>
              <p:nvPr/>
            </p:nvSpPr>
            <p:spPr>
              <a:xfrm>
                <a:off x="2807280" y="2190600"/>
                <a:ext cx="3580560" cy="247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fc0128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757600" y="2190600"/>
                <a:ext cx="3682440" cy="247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70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7036"/>
                  </a:path>
                </a:pathLst>
              </a:custGeom>
              <a:noFill/>
              <a:ln cap="rnd" w="25560">
                <a:solidFill>
                  <a:srgbClr val="fc0128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>
              <a:off x="4887000" y="1639800"/>
              <a:ext cx="979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</a:rPr>
                <a:t>tell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2843280" y="3254400"/>
            <a:ext cx="3682440" cy="837720"/>
            <a:chOff x="2843280" y="3254400"/>
            <a:chExt cx="3682440" cy="837720"/>
          </a:xfrm>
        </p:grpSpPr>
        <p:sp>
          <p:nvSpPr>
            <p:cNvPr id="480" name=""/>
            <p:cNvSpPr/>
            <p:nvPr/>
          </p:nvSpPr>
          <p:spPr>
            <a:xfrm>
              <a:off x="2892600" y="3254400"/>
              <a:ext cx="3580920" cy="83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843280" y="3254400"/>
              <a:ext cx="3682440" cy="83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3803400" y="2890800"/>
            <a:ext cx="143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k-all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2909880" y="3213360"/>
            <a:ext cx="3682440" cy="1345680"/>
            <a:chOff x="2909880" y="3213360"/>
            <a:chExt cx="3682440" cy="1345680"/>
          </a:xfrm>
        </p:grpSpPr>
        <p:sp>
          <p:nvSpPr>
            <p:cNvPr id="484" name=""/>
            <p:cNvSpPr/>
            <p:nvPr/>
          </p:nvSpPr>
          <p:spPr>
            <a:xfrm>
              <a:off x="2959200" y="3213360"/>
              <a:ext cx="3580920" cy="1345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909880" y="3213360"/>
              <a:ext cx="3682440" cy="1345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3552480" y="3263760"/>
            <a:ext cx="234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tell((p1 p2 p3...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825640" y="3200400"/>
            <a:ext cx="3492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25640" y="3581280"/>
            <a:ext cx="3492720" cy="0"/>
          </a:xfrm>
          <a:prstGeom prst="line">
            <a:avLst/>
          </a:prstGeom>
          <a:ln w="1260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2833560" y="3061080"/>
            <a:ext cx="3683160" cy="1802520"/>
            <a:chOff x="2833560" y="3061080"/>
            <a:chExt cx="3683160" cy="1802520"/>
          </a:xfrm>
        </p:grpSpPr>
        <p:sp>
          <p:nvSpPr>
            <p:cNvPr id="490" name=""/>
            <p:cNvSpPr/>
            <p:nvPr/>
          </p:nvSpPr>
          <p:spPr>
            <a:xfrm>
              <a:off x="2882880" y="3061080"/>
              <a:ext cx="3580920" cy="180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833560" y="3061080"/>
              <a:ext cx="3683160" cy="180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2833560" y="3137040"/>
            <a:ext cx="3683160" cy="1955160"/>
            <a:chOff x="2833560" y="3137040"/>
            <a:chExt cx="3683160" cy="1955160"/>
          </a:xfrm>
        </p:grpSpPr>
        <p:sp>
          <p:nvSpPr>
            <p:cNvPr id="493" name=""/>
            <p:cNvSpPr/>
            <p:nvPr/>
          </p:nvSpPr>
          <p:spPr>
            <a:xfrm>
              <a:off x="2882880" y="3137040"/>
              <a:ext cx="3580920" cy="195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833560" y="3137040"/>
              <a:ext cx="3683160" cy="195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552120" y="4178160"/>
            <a:ext cx="1115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tell(p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390560" y="4483080"/>
            <a:ext cx="1115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tell(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00040" y="4788000"/>
            <a:ext cx="1115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tell(p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79720" y="3652920"/>
            <a:ext cx="143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k-all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60" y="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imes New Roman"/>
              </a:rPr>
              <a:t>KQ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6553080"/>
            <a:ext cx="28958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QML protocol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604800" y="1717560"/>
            <a:ext cx="3506760" cy="1603800"/>
            <a:chOff x="604800" y="1717560"/>
            <a:chExt cx="3506760" cy="1603800"/>
          </a:xfrm>
        </p:grpSpPr>
        <p:sp>
          <p:nvSpPr>
            <p:cNvPr id="506" name=""/>
            <p:cNvSpPr/>
            <p:nvPr/>
          </p:nvSpPr>
          <p:spPr>
            <a:xfrm>
              <a:off x="3487680" y="2192400"/>
              <a:ext cx="623880" cy="420480"/>
            </a:xfrm>
            <a:prstGeom prst="roundRect">
              <a:avLst>
                <a:gd name="adj" fmla="val 12495"/>
              </a:avLst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674800" y="2019240"/>
              <a:ext cx="822240" cy="33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8" y="0"/>
                  </a:moveTo>
                  <a:arcTo wR="10800" hR="10800" stAng="-5413299" swAng="541329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8" y="0"/>
                  </a:moveTo>
                  <a:arcTo wR="10800" hR="10800" stAng="-5413299" swAng="5413299"/>
                </a:path>
              </a:pathLst>
            </a:custGeom>
            <a:noFill/>
            <a:ln cap="rnd"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666880" y="2019240"/>
              <a:ext cx="844200" cy="33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477" swAng="535463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477" swAng="5354638"/>
                </a:path>
              </a:pathLst>
            </a:custGeom>
            <a:noFill/>
            <a:ln cap="rnd" w="12600">
              <a:solidFill>
                <a:srgbClr val="fc01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9480" y="2170080"/>
              <a:ext cx="615960" cy="40644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28680" y="2033640"/>
              <a:ext cx="8218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164" swAng="5358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164" swAng="5358945"/>
                </a:path>
              </a:pathLst>
            </a:custGeom>
            <a:noFill/>
            <a:ln cap="rnd" w="12600">
              <a:solidFill>
                <a:srgbClr val="43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215720" y="2031840"/>
              <a:ext cx="844560" cy="39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9" y="0"/>
                  </a:moveTo>
                  <a:arcTo wR="10800" hR="10800" stAng="-5412900" swAng="54129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9" y="0"/>
                  </a:moveTo>
                  <a:arcTo wR="10800" hR="10800" stAng="-5412900" swAng="5412900"/>
                </a:path>
              </a:pathLst>
            </a:custGeom>
            <a:noFill/>
            <a:ln cap="rnd" w="12600">
              <a:solidFill>
                <a:srgbClr val="438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3656160" y="2122560"/>
              <a:ext cx="357120" cy="5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spAutoFit/>
            </a:bodyPr>
            <a:p>
              <a:pPr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110240" y="1725480"/>
              <a:ext cx="11448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t">
              <a:spAutoFit/>
            </a:bodyPr>
            <a:p>
              <a:pPr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1300" spc="-1" strike="noStrike">
                  <a:solidFill>
                    <a:srgbClr val="438e00"/>
                  </a:solidFill>
                  <a:latin typeface="Times New Roman"/>
                </a:rPr>
                <a:t>broker(ask(P)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78000" y="2124000"/>
              <a:ext cx="357120" cy="5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spAutoFit/>
            </a:bodyPr>
            <a:p>
              <a:pPr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674080" y="1717560"/>
              <a:ext cx="12999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t">
              <a:spAutoFit/>
            </a:bodyPr>
            <a:p>
              <a:pPr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1300" spc="-1" strike="noStrike">
                  <a:solidFill>
                    <a:srgbClr val="fc0128"/>
                  </a:solidFill>
                  <a:latin typeface="Times New Roman"/>
                </a:rPr>
                <a:t>advertise(ask(P)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270080" y="2428560"/>
              <a:ext cx="821880" cy="39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8" y="21600"/>
                  </a:moveTo>
                  <a:arcTo wR="10800" hR="10800" stAng="5413299" swAng="53867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8" y="21600"/>
                  </a:moveTo>
                  <a:arcTo wR="10800" hR="10800" stAng="5413299" swAng="538670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260360" y="2428560"/>
              <a:ext cx="840960" cy="39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129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1294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687760" y="2480040"/>
              <a:ext cx="82188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678040" y="2480040"/>
              <a:ext cx="84420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9" y="21600"/>
                  </a:moveTo>
                  <a:arcTo wR="10800" hR="10800" stAng="5412948" swAng="53870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9" y="21600"/>
                  </a:moveTo>
                  <a:arcTo wR="10800" hR="10800" stAng="5412948" swAng="5387052"/>
                </a:path>
              </a:pathLst>
            </a:custGeom>
            <a:noFill/>
            <a:ln cap="rnd" w="1260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01800" y="2401920"/>
              <a:ext cx="74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812320" y="2386080"/>
              <a:ext cx="5504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t">
              <a:spAutoFit/>
            </a:bodyPr>
            <a:p>
              <a:pPr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ask(P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855880" y="3029040"/>
              <a:ext cx="5320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t">
              <a:spAutoFit/>
            </a:bodyPr>
            <a:p>
              <a:pPr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1300" spc="-1" strike="noStrike">
                  <a:solidFill>
                    <a:srgbClr val="fc0128"/>
                  </a:solidFill>
                  <a:latin typeface="Times New Roman"/>
                </a:rPr>
                <a:t>tell(P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415880" y="3071880"/>
              <a:ext cx="5320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t">
              <a:spAutoFit/>
            </a:bodyPr>
            <a:p>
              <a:pPr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tell(P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4800" y="2197080"/>
              <a:ext cx="636480" cy="465120"/>
            </a:xfrm>
            <a:prstGeom prst="roundRect">
              <a:avLst>
                <a:gd name="adj" fmla="val 12495"/>
              </a:avLst>
            </a:prstGeom>
            <a:solidFill>
              <a:srgbClr val="438e00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56360" y="2244600"/>
              <a:ext cx="378000" cy="5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t">
              <a:spAutoFit/>
            </a:bodyPr>
            <a:p>
              <a:pPr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604800" y="4138560"/>
            <a:ext cx="3506760" cy="1521000"/>
            <a:chOff x="604800" y="4138560"/>
            <a:chExt cx="3506760" cy="1521000"/>
          </a:xfrm>
        </p:grpSpPr>
        <p:sp>
          <p:nvSpPr>
            <p:cNvPr id="527" name=""/>
            <p:cNvSpPr/>
            <p:nvPr/>
          </p:nvSpPr>
          <p:spPr>
            <a:xfrm>
              <a:off x="3487680" y="4614840"/>
              <a:ext cx="623880" cy="422280"/>
            </a:xfrm>
            <a:prstGeom prst="roundRect">
              <a:avLst>
                <a:gd name="adj" fmla="val 12495"/>
              </a:avLst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674800" y="4440240"/>
              <a:ext cx="822240" cy="33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8" y="0"/>
                  </a:moveTo>
                  <a:arcTo wR="10800" hR="10800" stAng="-5413299" swAng="541329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8" y="0"/>
                  </a:moveTo>
                  <a:arcTo wR="10800" hR="10800" stAng="-5413299" swAng="5413299"/>
                </a:path>
              </a:pathLst>
            </a:custGeom>
            <a:noFill/>
            <a:ln cap="rnd"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666880" y="4440240"/>
              <a:ext cx="844200" cy="33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9"/>
                  </a:moveTo>
                  <a:arcTo wR="10800" hR="10800" stAng="-10767782" swAng="53549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9"/>
                  </a:moveTo>
                  <a:arcTo wR="10800" hR="10800" stAng="-10767782" swAng="5354942"/>
                </a:path>
              </a:pathLst>
            </a:custGeom>
            <a:noFill/>
            <a:ln cap="rnd" w="12600">
              <a:solidFill>
                <a:srgbClr val="fc01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049480" y="4592520"/>
              <a:ext cx="615960" cy="40824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28680" y="4454640"/>
              <a:ext cx="821880" cy="39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389" swAng="535916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389" swAng="5359168"/>
                </a:path>
              </a:pathLst>
            </a:custGeom>
            <a:noFill/>
            <a:ln cap="rnd" w="12600">
              <a:solidFill>
                <a:srgbClr val="43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15720" y="4454640"/>
              <a:ext cx="84456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9" y="0"/>
                  </a:moveTo>
                  <a:arcTo wR="10800" hR="10800" stAng="-5412900" swAng="54129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9" y="0"/>
                  </a:moveTo>
                  <a:arcTo wR="10800" hR="10800" stAng="-5412900" swAng="5412900"/>
                </a:path>
              </a:pathLst>
            </a:custGeom>
            <a:noFill/>
            <a:ln cap="rnd" w="12600">
              <a:solidFill>
                <a:srgbClr val="438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3656160" y="4545000"/>
              <a:ext cx="357120" cy="5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spAutoFit/>
            </a:bodyPr>
            <a:p>
              <a:pPr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110240" y="4146480"/>
              <a:ext cx="11448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t">
              <a:spAutoFit/>
            </a:bodyPr>
            <a:p>
              <a:pPr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1300" spc="-1" strike="noStrike">
                  <a:solidFill>
                    <a:srgbClr val="438e00"/>
                  </a:solidFill>
                  <a:latin typeface="Times New Roman"/>
                </a:rPr>
                <a:t>recruit(ask(P)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178000" y="4545000"/>
              <a:ext cx="357120" cy="5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spAutoFit/>
            </a:bodyPr>
            <a:p>
              <a:pPr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598120" y="4138560"/>
              <a:ext cx="12999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t">
              <a:spAutoFit/>
            </a:bodyPr>
            <a:p>
              <a:pPr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1300" spc="-1" strike="noStrike">
                  <a:solidFill>
                    <a:srgbClr val="fc0128"/>
                  </a:solidFill>
                  <a:latin typeface="Times New Roman"/>
                </a:rPr>
                <a:t>advertise(ask(P)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325880" y="4732200"/>
              <a:ext cx="2183760" cy="74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499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4993"/>
                </a:path>
              </a:pathLst>
            </a:custGeom>
            <a:noFill/>
            <a:ln cap="rnd"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298520" y="4732200"/>
              <a:ext cx="2247480" cy="74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01800" y="4824360"/>
              <a:ext cx="74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812320" y="4808520"/>
              <a:ext cx="5504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t">
              <a:spAutoFit/>
            </a:bodyPr>
            <a:p>
              <a:pPr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ask(P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138040" y="5410080"/>
              <a:ext cx="5320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t">
              <a:spAutoFit/>
            </a:bodyPr>
            <a:p>
              <a:pPr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1300" spc="-1" strike="noStrike">
                  <a:solidFill>
                    <a:srgbClr val="fc0128"/>
                  </a:solidFill>
                  <a:latin typeface="Times New Roman"/>
                </a:rPr>
                <a:t>tell(P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4800" y="4619520"/>
              <a:ext cx="636480" cy="466920"/>
            </a:xfrm>
            <a:prstGeom prst="roundRect">
              <a:avLst>
                <a:gd name="adj" fmla="val 12495"/>
              </a:avLst>
            </a:prstGeom>
            <a:solidFill>
              <a:srgbClr val="438e00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8160" y="4665600"/>
              <a:ext cx="378000" cy="5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t">
              <a:spAutoFit/>
            </a:bodyPr>
            <a:p>
              <a:pPr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5105520" y="1465200"/>
            <a:ext cx="3563640" cy="1965600"/>
            <a:chOff x="5105520" y="1465200"/>
            <a:chExt cx="3563640" cy="1965600"/>
          </a:xfrm>
        </p:grpSpPr>
        <p:sp>
          <p:nvSpPr>
            <p:cNvPr id="545" name=""/>
            <p:cNvSpPr/>
            <p:nvPr/>
          </p:nvSpPr>
          <p:spPr>
            <a:xfrm>
              <a:off x="7988400" y="1938240"/>
              <a:ext cx="623880" cy="422280"/>
            </a:xfrm>
            <a:prstGeom prst="roundRect">
              <a:avLst>
                <a:gd name="adj" fmla="val 12495"/>
              </a:avLst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178760" y="1765440"/>
              <a:ext cx="81864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167600" y="1765440"/>
              <a:ext cx="840600" cy="33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9"/>
                  </a:moveTo>
                  <a:arcTo wR="10800" hR="10800" stAng="-10767721" swAng="53548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9"/>
                  </a:moveTo>
                  <a:arcTo wR="10800" hR="10800" stAng="-10767721" swAng="5354810"/>
                </a:path>
              </a:pathLst>
            </a:custGeom>
            <a:noFill/>
            <a:ln cap="rnd" w="12600">
              <a:solidFill>
                <a:srgbClr val="fc01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50200" y="1917720"/>
              <a:ext cx="615600" cy="40644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29400" y="1779480"/>
              <a:ext cx="8218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3"/>
                  </a:moveTo>
                  <a:arcTo wR="10800" hR="10800" stAng="-10772164" swAng="5358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3"/>
                  </a:moveTo>
                  <a:arcTo wR="10800" hR="10800" stAng="-10772164" swAng="5358945"/>
                </a:path>
              </a:pathLst>
            </a:custGeom>
            <a:noFill/>
            <a:ln cap="rnd" w="12600">
              <a:solidFill>
                <a:srgbClr val="43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716800" y="1779480"/>
              <a:ext cx="84384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438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8155080" y="1870200"/>
              <a:ext cx="358560" cy="5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spAutoFit/>
            </a:bodyPr>
            <a:p>
              <a:pPr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261040" y="1473120"/>
              <a:ext cx="14922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t">
              <a:spAutoFit/>
            </a:bodyPr>
            <a:p>
              <a:pPr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1300" spc="-1" strike="noStrike">
                  <a:solidFill>
                    <a:srgbClr val="438e00"/>
                  </a:solidFill>
                  <a:latin typeface="Times New Roman"/>
                </a:rPr>
                <a:t>recommend(ask(P)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78720" y="1870200"/>
              <a:ext cx="358560" cy="5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spAutoFit/>
            </a:bodyPr>
            <a:p>
              <a:pPr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173000" y="1465200"/>
              <a:ext cx="9162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t">
              <a:spAutoFit/>
            </a:bodyPr>
            <a:p>
              <a:pPr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1300" spc="-1" strike="noStrike">
                  <a:solidFill>
                    <a:srgbClr val="fc0128"/>
                  </a:solidFill>
                  <a:latin typeface="Times New Roman"/>
                </a:rPr>
                <a:t>adv(ask(P)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529240" y="1968480"/>
              <a:ext cx="2965320" cy="92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43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588640" y="1968480"/>
              <a:ext cx="2691360" cy="92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438e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237640" y="1765440"/>
              <a:ext cx="3380400" cy="132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22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226"/>
                </a:path>
              </a:pathLst>
            </a:custGeom>
            <a:noFill/>
            <a:ln cap="rnd"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192640" y="1765440"/>
              <a:ext cx="3476520" cy="132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0" y="21600"/>
                  </a:moveTo>
                  <a:arcTo wR="10800" hR="10800" stAng="5403141" swAng="5396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0" y="21600"/>
                  </a:moveTo>
                  <a:arcTo wR="10800" hR="10800" stAng="5403141" swAng="5396859"/>
                </a:path>
              </a:pathLst>
            </a:custGeom>
            <a:noFill/>
            <a:ln cap="rnd" w="1260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37320" y="3181320"/>
              <a:ext cx="5320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t">
              <a:spAutoFit/>
            </a:bodyPr>
            <a:p>
              <a:pPr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1300" spc="-1" strike="noStrike">
                  <a:solidFill>
                    <a:srgbClr val="fc0128"/>
                  </a:solidFill>
                  <a:latin typeface="Times New Roman"/>
                </a:rPr>
                <a:t>tell(P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403400" y="2612880"/>
              <a:ext cx="5504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t">
              <a:spAutoFit/>
            </a:bodyPr>
            <a:p>
              <a:pPr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1300" spc="-1" strike="noStrike">
                  <a:solidFill>
                    <a:srgbClr val="438e00"/>
                  </a:solidFill>
                  <a:latin typeface="Times New Roman"/>
                </a:rPr>
                <a:t>ask(P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770440" y="2132280"/>
              <a:ext cx="821880" cy="38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8" y="21600"/>
                  </a:moveTo>
                  <a:arcTo wR="10800" hR="10800" stAng="5413299" swAng="53867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8" y="21600"/>
                  </a:moveTo>
                  <a:arcTo wR="10800" hR="10800" stAng="5413299" swAng="538670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61080" y="2132280"/>
              <a:ext cx="840960" cy="38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129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1294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075720" y="2479680"/>
              <a:ext cx="12909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t">
              <a:spAutoFit/>
            </a:bodyPr>
            <a:p>
              <a:pPr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fwd(adv(ask(P))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05520" y="1943280"/>
              <a:ext cx="637920" cy="466560"/>
            </a:xfrm>
            <a:prstGeom prst="roundRect">
              <a:avLst>
                <a:gd name="adj" fmla="val 12495"/>
              </a:avLst>
            </a:prstGeom>
            <a:solidFill>
              <a:srgbClr val="438e00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257080" y="1916280"/>
              <a:ext cx="378000" cy="5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t">
              <a:spAutoFit/>
            </a:bodyPr>
            <a:p>
              <a:pPr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4926240" y="3814920"/>
            <a:ext cx="3756600" cy="2135160"/>
            <a:chOff x="4926240" y="3814920"/>
            <a:chExt cx="3756600" cy="2135160"/>
          </a:xfrm>
        </p:grpSpPr>
        <p:sp>
          <p:nvSpPr>
            <p:cNvPr id="567" name=""/>
            <p:cNvSpPr/>
            <p:nvPr/>
          </p:nvSpPr>
          <p:spPr>
            <a:xfrm>
              <a:off x="5307480" y="5700600"/>
              <a:ext cx="16750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t">
              <a:spAutoFit/>
            </a:bodyPr>
            <a:p>
              <a:pPr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1300" spc="-1" strike="noStrike">
                  <a:solidFill>
                    <a:srgbClr val="438e00"/>
                  </a:solidFill>
                  <a:latin typeface="Times New Roman"/>
                </a:rPr>
                <a:t>ask-one(register(B,...)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319000" y="5380200"/>
              <a:ext cx="378000" cy="5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t">
              <a:spAutoFit/>
            </a:bodyPr>
            <a:p>
              <a:pPr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66080" y="5016600"/>
              <a:ext cx="625320" cy="422280"/>
            </a:xfrm>
            <a:prstGeom prst="roundRect">
              <a:avLst>
                <a:gd name="adj" fmla="val 12495"/>
              </a:avLst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176960" y="5275080"/>
              <a:ext cx="79992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1366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13669"/>
                </a:path>
              </a:pathLst>
            </a:custGeom>
            <a:noFill/>
            <a:ln cap="rnd"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164360" y="5275080"/>
              <a:ext cx="82548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8" y="21600"/>
                  </a:moveTo>
                  <a:arcTo wR="10800" hR="10800" stAng="5413248" swAng="53867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8" y="21600"/>
                  </a:moveTo>
                  <a:arcTo wR="10800" hR="10800" stAng="5413248" swAng="5386752"/>
                </a:path>
              </a:pathLst>
            </a:custGeom>
            <a:noFill/>
            <a:ln cap="rnd"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080200" y="4967280"/>
              <a:ext cx="358920" cy="5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spAutoFit/>
            </a:bodyPr>
            <a:p>
              <a:pPr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29320" y="4994280"/>
              <a:ext cx="615960" cy="40644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535800" y="5089680"/>
              <a:ext cx="5792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t">
              <a:spAutoFit/>
            </a:bodyPr>
            <a:p>
              <a:pPr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</a:rPr>
                <a:t>ANS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83200" y="5019840"/>
              <a:ext cx="638280" cy="466560"/>
            </a:xfrm>
            <a:prstGeom prst="roundRect">
              <a:avLst>
                <a:gd name="adj" fmla="val 12495"/>
              </a:avLst>
            </a:prstGeom>
            <a:solidFill>
              <a:srgbClr val="438e00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705640" y="5212080"/>
              <a:ext cx="802440" cy="45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7" y="21600"/>
                  </a:moveTo>
                  <a:arcTo wR="10800" hR="10800" stAng="5413615" swAng="538638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7" y="21600"/>
                  </a:moveTo>
                  <a:arcTo wR="10800" hR="10800" stAng="5413615" swAng="5386385"/>
                </a:path>
              </a:pathLst>
            </a:custGeom>
            <a:noFill/>
            <a:ln cap="rnd" w="12600">
              <a:solidFill>
                <a:srgbClr val="43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696280" y="5212080"/>
              <a:ext cx="821520" cy="45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132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13248"/>
                </a:path>
              </a:pathLst>
            </a:custGeom>
            <a:noFill/>
            <a:ln cap="rnd" w="12600">
              <a:solidFill>
                <a:srgbClr val="438e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710320" y="4849920"/>
              <a:ext cx="818280" cy="40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6"/>
                  </a:moveTo>
                  <a:arcTo wR="10800" hR="10800" stAng="-10773300" swAng="5360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6"/>
                  </a:moveTo>
                  <a:arcTo wR="10800" hR="10800" stAng="-10773300" swAng="5360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694840" y="4849920"/>
              <a:ext cx="843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5242680" y="4973760"/>
              <a:ext cx="357480" cy="5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spAutoFit/>
            </a:bodyPr>
            <a:p>
              <a:pPr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522200" y="5629320"/>
              <a:ext cx="10256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t">
              <a:spAutoFit/>
            </a:bodyPr>
            <a:p>
              <a:pPr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1300" spc="-1" strike="noStrike">
                  <a:solidFill>
                    <a:srgbClr val="fc0128"/>
                  </a:solidFill>
                  <a:latin typeface="Times New Roman"/>
                </a:rPr>
                <a:t>register(B,...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926240" y="4668840"/>
              <a:ext cx="13960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t">
              <a:spAutoFit/>
            </a:bodyPr>
            <a:p>
              <a:pPr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tell(register(B,,...)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523200" y="3814920"/>
              <a:ext cx="628560" cy="419040"/>
            </a:xfrm>
            <a:prstGeom prst="roundRect">
              <a:avLst>
                <a:gd name="adj" fmla="val 12495"/>
              </a:avLst>
            </a:prstGeom>
            <a:solidFill>
              <a:srgbClr val="7b00e4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541920" y="3916440"/>
              <a:ext cx="5792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t">
              <a:spAutoFit/>
            </a:bodyPr>
            <a:p>
              <a:pPr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</a:rPr>
                <a:t>ANS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669000" y="4280040"/>
              <a:ext cx="0" cy="658800"/>
            </a:xfrm>
            <a:prstGeom prst="line">
              <a:avLst/>
            </a:prstGeom>
            <a:ln w="12600">
              <a:solidFill>
                <a:srgbClr val="7b00e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62760" y="4280040"/>
              <a:ext cx="0" cy="65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998760" y="4510080"/>
              <a:ext cx="16840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t">
              <a:spAutoFit/>
            </a:bodyPr>
            <a:p>
              <a:pPr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ask-one(register(D,...)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293080" y="4297320"/>
              <a:ext cx="14054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t">
              <a:spAutoFit/>
            </a:bodyPr>
            <a:p>
              <a:pPr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1300" spc="-1" strike="noStrike">
                  <a:solidFill>
                    <a:srgbClr val="7b00e4"/>
                  </a:solidFill>
                  <a:latin typeface="Times New Roman"/>
                </a:rPr>
                <a:t>tell(register(D,,...)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1920" y="2913120"/>
            <a:ext cx="1265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38600" y="5884920"/>
            <a:ext cx="1324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575240" y="2914560"/>
            <a:ext cx="2074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omm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573440" y="6037200"/>
            <a:ext cx="1443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60" y="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imes New Roman"/>
              </a:rPr>
              <a:t>KQ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05120" y="2057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tolo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QM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imple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124080" y="6553080"/>
            <a:ext cx="28958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22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ckheed/UMBC KQM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Software Architec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715920" y="1600200"/>
            <a:ext cx="5351400" cy="46483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marL="171360" indent="-17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ent independent message rout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per agent - handles sending and  asynchronous receiving of mess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R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ledge Representation Interface Librar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ps incoming KQML messages to application hand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agent facilitate building MA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 name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ger, Controller, Visualizer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kers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xy agents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tors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223920" y="2017800"/>
            <a:ext cx="3581280" cy="3875400"/>
            <a:chOff x="223920" y="2017800"/>
            <a:chExt cx="3581280" cy="3875400"/>
          </a:xfrm>
        </p:grpSpPr>
        <p:sp>
          <p:nvSpPr>
            <p:cNvPr id="603" name=""/>
            <p:cNvSpPr/>
            <p:nvPr/>
          </p:nvSpPr>
          <p:spPr>
            <a:xfrm>
              <a:off x="223920" y="5614920"/>
              <a:ext cx="85212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280" rIns="71280" tIns="36360" bIns="363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531720"/>
                  <a:tab algn="l" pos="1063800"/>
                  <a:tab algn="l" pos="1595520"/>
                  <a:tab algn="l" pos="2127240"/>
                  <a:tab algn="l" pos="2658960"/>
                  <a:tab algn="l" pos="3191040"/>
                  <a:tab algn="l" pos="3722760"/>
                  <a:tab algn="l" pos="4254480"/>
                  <a:tab algn="l" pos="4786200"/>
                  <a:tab algn="l" pos="5318280"/>
                  <a:tab algn="l" pos="5850000"/>
                  <a:tab algn="l" pos="6381720"/>
                  <a:tab algn="l" pos="6913440"/>
                  <a:tab algn="l" pos="7445520"/>
                  <a:tab algn="l" pos="7977240"/>
                  <a:tab algn="l" pos="8508960"/>
                  <a:tab algn="l" pos="9040680"/>
                  <a:tab algn="l" pos="9572760"/>
                  <a:tab algn="l" pos="10104480"/>
                  <a:tab algn="l" pos="106362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2576160" y="2933640"/>
              <a:ext cx="1229040" cy="1405080"/>
              <a:chOff x="2576160" y="2933640"/>
              <a:chExt cx="1229040" cy="1405080"/>
            </a:xfrm>
          </p:grpSpPr>
          <p:sp>
            <p:nvSpPr>
              <p:cNvPr id="605" name=""/>
              <p:cNvSpPr/>
              <p:nvPr/>
            </p:nvSpPr>
            <p:spPr>
              <a:xfrm flipH="1">
                <a:off x="2575800" y="2933640"/>
                <a:ext cx="1127160" cy="1405080"/>
              </a:xfrm>
              <a:prstGeom prst="cube">
                <a:avLst>
                  <a:gd name="adj" fmla="val 24995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916360" y="3571920"/>
                <a:ext cx="888840" cy="33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1280" rIns="71280" tIns="36360" bIns="3636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531720"/>
                    <a:tab algn="l" pos="1063800"/>
                    <a:tab algn="l" pos="1595520"/>
                    <a:tab algn="l" pos="2127240"/>
                    <a:tab algn="l" pos="2658960"/>
                    <a:tab algn="l" pos="3191040"/>
                    <a:tab algn="l" pos="3722760"/>
                    <a:tab algn="l" pos="4254480"/>
                    <a:tab algn="l" pos="4786200"/>
                    <a:tab algn="l" pos="5318280"/>
                    <a:tab algn="l" pos="5850000"/>
                    <a:tab algn="l" pos="6381720"/>
                    <a:tab algn="l" pos="6913440"/>
                    <a:tab algn="l" pos="7445520"/>
                    <a:tab algn="l" pos="7977240"/>
                    <a:tab algn="l" pos="8508960"/>
                    <a:tab algn="l" pos="9040680"/>
                    <a:tab algn="l" pos="9572760"/>
                    <a:tab algn="l" pos="10104480"/>
                    <a:tab algn="l" pos="1063620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Times New Roman"/>
                  </a:rPr>
                  <a:t>Agent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398520" y="2506680"/>
              <a:ext cx="425520" cy="3110040"/>
              <a:chOff x="398520" y="2506680"/>
              <a:chExt cx="425520" cy="3110040"/>
            </a:xfrm>
          </p:grpSpPr>
          <p:sp>
            <p:nvSpPr>
              <p:cNvPr id="608" name=""/>
              <p:cNvSpPr/>
              <p:nvPr/>
            </p:nvSpPr>
            <p:spPr>
              <a:xfrm>
                <a:off x="398520" y="2506680"/>
                <a:ext cx="425520" cy="31100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24040" y="2513160"/>
                <a:ext cx="0" cy="30970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98520" y="2513160"/>
                <a:ext cx="0" cy="30970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77800" y="2513160"/>
                <a:ext cx="0" cy="30970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38280" y="2513160"/>
                <a:ext cx="0" cy="30970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 flipH="1">
              <a:off x="1847880" y="3235320"/>
              <a:ext cx="241200" cy="795240"/>
            </a:xfrm>
            <a:prstGeom prst="cube">
              <a:avLst>
                <a:gd name="adj" fmla="val 49995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99000" y="4079880"/>
              <a:ext cx="8658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280" rIns="71280" tIns="36360" bIns="363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531720"/>
                  <a:tab algn="l" pos="1063800"/>
                  <a:tab algn="l" pos="1595520"/>
                  <a:tab algn="l" pos="2127240"/>
                  <a:tab algn="l" pos="2658960"/>
                  <a:tab algn="l" pos="3191040"/>
                  <a:tab algn="l" pos="3722760"/>
                  <a:tab algn="l" pos="4254480"/>
                  <a:tab algn="l" pos="4786200"/>
                  <a:tab algn="l" pos="5318280"/>
                  <a:tab algn="l" pos="5850000"/>
                  <a:tab algn="l" pos="6381720"/>
                  <a:tab algn="l" pos="6913440"/>
                  <a:tab algn="l" pos="7445520"/>
                  <a:tab algn="l" pos="7977240"/>
                  <a:tab algn="l" pos="8508960"/>
                  <a:tab algn="l" pos="9040680"/>
                  <a:tab algn="l" pos="9572760"/>
                  <a:tab algn="l" pos="10104480"/>
                  <a:tab algn="l" pos="106362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Route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810440" y="4405320"/>
              <a:ext cx="757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280" rIns="71280" tIns="36360" bIns="363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531720"/>
                  <a:tab algn="l" pos="1063800"/>
                  <a:tab algn="l" pos="1595520"/>
                  <a:tab algn="l" pos="2127240"/>
                  <a:tab algn="l" pos="2658960"/>
                  <a:tab algn="l" pos="3191040"/>
                  <a:tab algn="l" pos="3722760"/>
                  <a:tab algn="l" pos="4254480"/>
                  <a:tab algn="l" pos="4786200"/>
                  <a:tab algn="l" pos="5318280"/>
                  <a:tab algn="l" pos="5850000"/>
                  <a:tab algn="l" pos="6381720"/>
                  <a:tab algn="l" pos="6913440"/>
                  <a:tab algn="l" pos="7445520"/>
                  <a:tab algn="l" pos="7977240"/>
                  <a:tab algn="l" pos="8508960"/>
                  <a:tab algn="l" pos="9040680"/>
                  <a:tab algn="l" pos="9572760"/>
                  <a:tab algn="l" pos="10104480"/>
                  <a:tab algn="l" pos="106362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KRI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39600" y="2550960"/>
              <a:ext cx="74520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KQ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tring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00280" y="365760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1530360" y="3879360"/>
              <a:ext cx="29196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550160" y="2093760"/>
              <a:ext cx="75744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KQ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obje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3054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987560" y="2597040"/>
              <a:ext cx="291960" cy="9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749680" y="342900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73360" y="35812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749680" y="365760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749680" y="380988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673360" y="39625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2500200" y="3235320"/>
              <a:ext cx="246240" cy="795240"/>
            </a:xfrm>
            <a:prstGeom prst="cube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30480" y="3664080"/>
              <a:ext cx="403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2216160" y="3879360"/>
              <a:ext cx="36828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540160" y="2017800"/>
              <a:ext cx="84888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749680" y="2597040"/>
              <a:ext cx="63360" cy="90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360" y="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imes New Roman"/>
              </a:rPr>
              <a:t>KQ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6553080"/>
            <a:ext cx="28958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4920" y="164880"/>
            <a:ext cx="8534160" cy="128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QML Utility Age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30120" y="1295280"/>
            <a:ext cx="8483760" cy="27432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 fontScale="96000"/>
          </a:bodyPr>
          <a:p>
            <a:pPr marL="237600" indent="-237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developed a number of KQML speaking utility agents based on standard ontolog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8640" indent="-201240">
              <a:spcBef>
                <a:spcPts val="601"/>
              </a:spcBef>
              <a:buClr>
                <a:srgbClr val="ff0033"/>
              </a:buClr>
              <a:buFont typeface="Times New Roman"/>
              <a:buChar char="•"/>
              <a:tabLst>
                <a:tab algn="l" pos="457200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Ser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8640" indent="-201240">
              <a:spcBef>
                <a:spcPts val="601"/>
              </a:spcBef>
              <a:buClr>
                <a:srgbClr val="ff0033"/>
              </a:buClr>
              <a:buFont typeface="Times New Roman"/>
              <a:buChar char="•"/>
              <a:tabLst>
                <a:tab algn="l" pos="457200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Rou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8640" indent="-201240">
              <a:spcBef>
                <a:spcPts val="601"/>
              </a:spcBef>
              <a:buClr>
                <a:srgbClr val="ff0033"/>
              </a:buClr>
              <a:buFont typeface="Times New Roman"/>
              <a:buChar char="•"/>
              <a:tabLst>
                <a:tab algn="l" pos="457200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k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 Visual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8640" indent="-201240">
              <a:spcBef>
                <a:spcPts val="601"/>
              </a:spcBef>
              <a:buClr>
                <a:srgbClr val="ff0033"/>
              </a:buClr>
              <a:buFont typeface="Times New Roman"/>
              <a:buChar char="•"/>
              <a:tabLst>
                <a:tab algn="l" pos="457200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xy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740840" y="4003560"/>
            <a:ext cx="4066560" cy="2776680"/>
            <a:chOff x="4740840" y="4003560"/>
            <a:chExt cx="4066560" cy="2776680"/>
          </a:xfrm>
        </p:grpSpPr>
        <p:grpSp>
          <p:nvGrpSpPr>
            <p:cNvPr id="642" name=""/>
            <p:cNvGrpSpPr/>
            <p:nvPr/>
          </p:nvGrpSpPr>
          <p:grpSpPr>
            <a:xfrm>
              <a:off x="6233760" y="4003560"/>
              <a:ext cx="2573640" cy="2776680"/>
              <a:chOff x="6233760" y="4003560"/>
              <a:chExt cx="2573640" cy="2776680"/>
            </a:xfrm>
          </p:grpSpPr>
          <p:sp>
            <p:nvSpPr>
              <p:cNvPr id="643" name=""/>
              <p:cNvSpPr/>
              <p:nvPr/>
            </p:nvSpPr>
            <p:spPr>
              <a:xfrm>
                <a:off x="6311880" y="4003560"/>
                <a:ext cx="252360" cy="27766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564240" y="4010040"/>
                <a:ext cx="0" cy="23972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84880" y="4010040"/>
                <a:ext cx="0" cy="23972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405480" y="4010040"/>
                <a:ext cx="9720" cy="27162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446880" y="4010040"/>
                <a:ext cx="0" cy="23972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5400000">
                <a:off x="6022440" y="6288840"/>
                <a:ext cx="627120" cy="20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2560" rIns="52560" tIns="27000" bIns="270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289080"/>
                    <a:tab algn="l" pos="577800"/>
                    <a:tab algn="l" pos="866880"/>
                    <a:tab algn="l" pos="1155600"/>
                    <a:tab algn="l" pos="1444680"/>
                    <a:tab algn="l" pos="1733400"/>
                    <a:tab algn="l" pos="2022480"/>
                    <a:tab algn="l" pos="2311560"/>
                    <a:tab algn="l" pos="2600280"/>
                    <a:tab algn="l" pos="2889360"/>
                    <a:tab algn="l" pos="3178080"/>
                    <a:tab algn="l" pos="3467160"/>
                    <a:tab algn="l" pos="3755880"/>
                    <a:tab algn="l" pos="4044960"/>
                    <a:tab algn="l" pos="4334040"/>
                    <a:tab algn="l" pos="4622760"/>
                    <a:tab algn="l" pos="4911840"/>
                    <a:tab algn="l" pos="5200560"/>
                    <a:tab algn="l" pos="5489640"/>
                    <a:tab algn="l" pos="57783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Network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9" name=""/>
              <p:cNvGrpSpPr/>
              <p:nvPr/>
            </p:nvGrpSpPr>
            <p:grpSpPr>
              <a:xfrm>
                <a:off x="6591240" y="6108840"/>
                <a:ext cx="1860480" cy="654480"/>
                <a:chOff x="6591240" y="6108840"/>
                <a:chExt cx="1860480" cy="654480"/>
              </a:xfrm>
            </p:grpSpPr>
            <p:sp>
              <p:nvSpPr>
                <p:cNvPr id="650" name=""/>
                <p:cNvSpPr/>
                <p:nvPr/>
              </p:nvSpPr>
              <p:spPr>
                <a:xfrm flipH="1">
                  <a:off x="7309800" y="6108840"/>
                  <a:ext cx="531720" cy="591840"/>
                </a:xfrm>
                <a:prstGeom prst="cube">
                  <a:avLst>
                    <a:gd name="adj" fmla="val 24995"/>
                  </a:avLst>
                </a:prstGeom>
                <a:solidFill>
                  <a:srgbClr val="618ff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7442280" y="6373800"/>
                  <a:ext cx="538200" cy="24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9320" rIns="49320" tIns="25560" bIns="25560" anchor="t">
                  <a:spAutoFit/>
                </a:bodyPr>
                <a:p>
                  <a:pPr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logger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7648560" y="6559560"/>
                  <a:ext cx="190800" cy="2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9320" rIns="49320" tIns="25560" bIns="25560" anchor="t">
                  <a:spAutoFit/>
                </a:bodyPr>
                <a:p>
                  <a:pPr algn="ctr"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H="1">
                  <a:off x="7253280" y="6181560"/>
                  <a:ext cx="155520" cy="457200"/>
                </a:xfrm>
                <a:prstGeom prst="cube">
                  <a:avLst>
                    <a:gd name="adj" fmla="val 49995"/>
                  </a:avLst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6591240" y="6419880"/>
                  <a:ext cx="685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flipV="1">
                  <a:off x="8156520" y="6353280"/>
                  <a:ext cx="295200" cy="255600"/>
                </a:xfrm>
                <a:custGeom>
                  <a:avLst/>
                  <a:gdLst>
                    <a:gd name="textAreaLeft" fmla="*/ 64800 w 295200"/>
                    <a:gd name="textAreaRight" fmla="*/ 230400 w 295200"/>
                    <a:gd name="textAreaTop" fmla="*/ 56160 h 255600"/>
                    <a:gd name="textAreaBottom" fmla="*/ 199440 h 255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1" y="21600"/>
                      </a:lnTo>
                      <a:lnTo>
                        <a:pt x="5399" y="2160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96969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7856640" y="6437160"/>
                  <a:ext cx="431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7" name=""/>
              <p:cNvSpPr/>
              <p:nvPr/>
            </p:nvSpPr>
            <p:spPr>
              <a:xfrm flipV="1">
                <a:off x="7994520" y="5771880"/>
                <a:ext cx="0" cy="6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835760" y="5978520"/>
                <a:ext cx="97164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t">
                <a:spAutoFit/>
              </a:bodyPr>
              <a:p>
                <a:pPr>
                  <a:lnSpc>
                    <a:spcPct val="6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Log stream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021520" y="4732200"/>
                <a:ext cx="460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>
                <a:off x="7253280" y="5270400"/>
                <a:ext cx="155520" cy="465120"/>
              </a:xfrm>
              <a:prstGeom prst="cube">
                <a:avLst>
                  <a:gd name="adj" fmla="val 49995"/>
                </a:avLst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591240" y="546588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7740000" y="5148360"/>
                <a:ext cx="452520" cy="671400"/>
              </a:xfrm>
              <a:prstGeom prst="cube">
                <a:avLst>
                  <a:gd name="adj" fmla="val 24995"/>
                </a:avLst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876440" y="5634000"/>
                <a:ext cx="91620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Visualiz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7689960" y="5214960"/>
                <a:ext cx="155520" cy="465120"/>
              </a:xfrm>
              <a:prstGeom prst="cube">
                <a:avLst>
                  <a:gd name="adj" fmla="val 49995"/>
                </a:avLst>
              </a:prstGeom>
              <a:solidFill>
                <a:srgbClr val="fafd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453440" y="5465880"/>
                <a:ext cx="2426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V="1">
                <a:off x="7281720" y="4449240"/>
                <a:ext cx="0" cy="9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751080" y="4692600"/>
                <a:ext cx="10868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registration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287560" y="6356520"/>
                <a:ext cx="45900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Log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>
                <a:off x="7309800" y="4057560"/>
                <a:ext cx="531720" cy="593640"/>
              </a:xfrm>
              <a:prstGeom prst="cube">
                <a:avLst>
                  <a:gd name="adj" fmla="val 24995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442280" y="4317840"/>
                <a:ext cx="428400" cy="24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9320" rIns="49320" tIns="25560" bIns="25560" anchor="t">
                <a:spAutoFit/>
              </a:bodyPr>
              <a:p>
                <a:pPr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A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648560" y="4516560"/>
                <a:ext cx="190800" cy="20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9320" rIns="49320" tIns="25560" bIns="25560" anchor="t">
                <a:spAutoFit/>
              </a:bodyPr>
              <a:p>
                <a:pPr algn="ctr"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7253280" y="4132440"/>
                <a:ext cx="155520" cy="465120"/>
              </a:xfrm>
              <a:prstGeom prst="cube">
                <a:avLst>
                  <a:gd name="adj" fmla="val 49995"/>
                </a:avLst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591240" y="437040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4740840" y="5105520"/>
              <a:ext cx="1610280" cy="655920"/>
              <a:chOff x="4740840" y="5105520"/>
              <a:chExt cx="1610280" cy="655920"/>
            </a:xfrm>
          </p:grpSpPr>
          <p:sp>
            <p:nvSpPr>
              <p:cNvPr id="675" name=""/>
              <p:cNvSpPr/>
              <p:nvPr/>
            </p:nvSpPr>
            <p:spPr>
              <a:xfrm>
                <a:off x="5087880" y="5105520"/>
                <a:ext cx="533520" cy="591840"/>
              </a:xfrm>
              <a:prstGeom prst="cube">
                <a:avLst>
                  <a:gd name="adj" fmla="val 24995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>
                <a:off x="4740480" y="5364000"/>
                <a:ext cx="839880" cy="24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9320" rIns="49320" tIns="25560" bIns="25560" anchor="t">
                <a:spAutoFit/>
              </a:bodyPr>
              <a:p>
                <a:pPr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Controlle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>
                <a:off x="5125680" y="5557680"/>
                <a:ext cx="190800" cy="20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9320" rIns="49320" tIns="25560" bIns="25560" anchor="t">
                <a:spAutoFit/>
              </a:bodyPr>
              <a:p>
                <a:pPr algn="ctr"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522760" y="5178600"/>
                <a:ext cx="155880" cy="458640"/>
              </a:xfrm>
              <a:prstGeom prst="cube">
                <a:avLst>
                  <a:gd name="adj" fmla="val 49995"/>
                </a:avLst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5641560" y="5416560"/>
                <a:ext cx="70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0" name=""/>
            <p:cNvSpPr/>
            <p:nvPr/>
          </p:nvSpPr>
          <p:spPr>
            <a:xfrm>
              <a:off x="5668920" y="5961240"/>
              <a:ext cx="123840" cy="366480"/>
            </a:xfrm>
            <a:prstGeom prst="cube">
              <a:avLst>
                <a:gd name="adj" fmla="val 49995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5751000" y="611352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838760" y="5827680"/>
              <a:ext cx="606240" cy="547560"/>
            </a:xfrm>
            <a:prstGeom prst="cube">
              <a:avLst>
                <a:gd name="adj" fmla="val 24995"/>
              </a:avLst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4866480" y="6102360"/>
              <a:ext cx="42228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321160" y="5918040"/>
              <a:ext cx="123840" cy="366840"/>
            </a:xfrm>
            <a:prstGeom prst="cube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392440" y="6119640"/>
              <a:ext cx="282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 flipV="1">
              <a:off x="5591160" y="5586120"/>
              <a:ext cx="18576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668920" y="4443480"/>
              <a:ext cx="123840" cy="372960"/>
            </a:xfrm>
            <a:prstGeom prst="cube">
              <a:avLst>
                <a:gd name="adj" fmla="val 49995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5763960" y="460368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38760" y="4309920"/>
              <a:ext cx="606240" cy="538200"/>
            </a:xfrm>
            <a:prstGeom prst="cube">
              <a:avLst>
                <a:gd name="adj" fmla="val 24995"/>
              </a:avLst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4887000" y="4599000"/>
              <a:ext cx="46980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326200" y="4408560"/>
              <a:ext cx="118800" cy="365040"/>
            </a:xfrm>
            <a:prstGeom prst="cube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5397480" y="4610160"/>
              <a:ext cx="277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5656320" y="4773240"/>
              <a:ext cx="108000" cy="41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28600" y="4192560"/>
            <a:ext cx="40370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30040" indent="-17280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facilitate the development of agent-based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60" y="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imes New Roman"/>
              </a:rPr>
              <a:t>KQ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04480" y="187200"/>
            <a:ext cx="8429400" cy="11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QML APIs an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ystem Interfa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91600" y="1644120"/>
            <a:ext cx="8255160" cy="518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QML AP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216000">
              <a:spcBef>
                <a:spcPts val="26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ATS (Loral/UM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216000">
              <a:spcBef>
                <a:spcPts val="26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API (Lockheed/EIT/Stanfor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216000">
              <a:spcBef>
                <a:spcPts val="26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ENTA (Stanfo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216000">
              <a:spcBef>
                <a:spcPts val="26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icWare (Cryzaly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216000">
              <a:spcBef>
                <a:spcPts val="26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ronto - Lisp and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216000">
              <a:spcBef>
                <a:spcPts val="26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vaAgentTemplate (Stanford), Jackal (UMBC) -- 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216000">
              <a:spcBef>
                <a:spcPts val="26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KQML (UMBC) -- Tcl/T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216000">
              <a:spcBef>
                <a:spcPts val="26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nguages: Lisp, C, C++, Perl, Prolog, Tcl, CLIPS, Scheme, Java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216000">
              <a:spcBef>
                <a:spcPts val="26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R languages: LOOM, KRSL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216000">
              <a:spcBef>
                <a:spcPts val="26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s: DBMSs, SIMS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60" y="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imes New Roman"/>
              </a:rPr>
              <a:t>KQ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mantic web markup with SHO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01960" indent="-201960">
              <a:spcBef>
                <a:spcPts val="601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Simple HTML Ontology Extens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veloped by UMCP PLUS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1960" indent="-201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tological mark-up tags allow the web page author to add semantic knowledge of the page’s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1960" indent="-201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s and sub-regions are the ground objects in the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1960" indent="-201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s for classes, relations, attributes, axioms, etc. are also defined on web p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1960" indent="-20196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URL agents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responsible for, and understand small groups of related 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7080" indent="-186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URL has an agent which can think, speak, and act for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19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communicate with other agents with similar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080" y="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/>
          </p:nvPr>
        </p:nvSpPr>
        <p:spPr>
          <a:xfrm>
            <a:off x="614520" y="212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87360" y="22860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43120" y="2355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916280" y="3733920"/>
            <a:ext cx="1434960" cy="596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22560" y="3384720"/>
            <a:ext cx="1471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RL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73400" y="1611360"/>
            <a:ext cx="4988160" cy="4997520"/>
          </a:xfrm>
          <a:custGeom>
            <a:avLst/>
            <a:gdLst/>
            <a:ahLst/>
            <a:rect l="l" t="t" r="r" b="b"/>
            <a:pathLst>
              <a:path w="3142" h="3148">
                <a:moveTo>
                  <a:pt x="941" y="133"/>
                </a:moveTo>
                <a:lnTo>
                  <a:pt x="869" y="159"/>
                </a:lnTo>
                <a:lnTo>
                  <a:pt x="832" y="208"/>
                </a:lnTo>
                <a:lnTo>
                  <a:pt x="796" y="245"/>
                </a:lnTo>
                <a:lnTo>
                  <a:pt x="796" y="282"/>
                </a:lnTo>
                <a:lnTo>
                  <a:pt x="783" y="343"/>
                </a:lnTo>
                <a:lnTo>
                  <a:pt x="783" y="404"/>
                </a:lnTo>
                <a:lnTo>
                  <a:pt x="783" y="466"/>
                </a:lnTo>
                <a:lnTo>
                  <a:pt x="783" y="527"/>
                </a:lnTo>
                <a:lnTo>
                  <a:pt x="783" y="588"/>
                </a:lnTo>
                <a:lnTo>
                  <a:pt x="734" y="637"/>
                </a:lnTo>
                <a:lnTo>
                  <a:pt x="673" y="649"/>
                </a:lnTo>
                <a:lnTo>
                  <a:pt x="612" y="674"/>
                </a:lnTo>
                <a:lnTo>
                  <a:pt x="551" y="674"/>
                </a:lnTo>
                <a:lnTo>
                  <a:pt x="489" y="710"/>
                </a:lnTo>
                <a:lnTo>
                  <a:pt x="428" y="735"/>
                </a:lnTo>
                <a:lnTo>
                  <a:pt x="367" y="759"/>
                </a:lnTo>
                <a:lnTo>
                  <a:pt x="306" y="796"/>
                </a:lnTo>
                <a:lnTo>
                  <a:pt x="245" y="796"/>
                </a:lnTo>
                <a:lnTo>
                  <a:pt x="183" y="833"/>
                </a:lnTo>
                <a:lnTo>
                  <a:pt x="122" y="845"/>
                </a:lnTo>
                <a:lnTo>
                  <a:pt x="61" y="882"/>
                </a:lnTo>
                <a:lnTo>
                  <a:pt x="12" y="919"/>
                </a:lnTo>
                <a:lnTo>
                  <a:pt x="0" y="980"/>
                </a:lnTo>
                <a:lnTo>
                  <a:pt x="0" y="1017"/>
                </a:lnTo>
                <a:lnTo>
                  <a:pt x="0" y="1078"/>
                </a:lnTo>
                <a:lnTo>
                  <a:pt x="0" y="1139"/>
                </a:lnTo>
                <a:lnTo>
                  <a:pt x="24" y="1200"/>
                </a:lnTo>
                <a:lnTo>
                  <a:pt x="49" y="1249"/>
                </a:lnTo>
                <a:lnTo>
                  <a:pt x="98" y="1310"/>
                </a:lnTo>
                <a:lnTo>
                  <a:pt x="147" y="1347"/>
                </a:lnTo>
                <a:lnTo>
                  <a:pt x="159" y="1408"/>
                </a:lnTo>
                <a:lnTo>
                  <a:pt x="171" y="1445"/>
                </a:lnTo>
                <a:lnTo>
                  <a:pt x="171" y="1506"/>
                </a:lnTo>
                <a:lnTo>
                  <a:pt x="171" y="1568"/>
                </a:lnTo>
                <a:lnTo>
                  <a:pt x="171" y="1629"/>
                </a:lnTo>
                <a:lnTo>
                  <a:pt x="208" y="1678"/>
                </a:lnTo>
                <a:lnTo>
                  <a:pt x="281" y="1715"/>
                </a:lnTo>
                <a:lnTo>
                  <a:pt x="330" y="1739"/>
                </a:lnTo>
                <a:lnTo>
                  <a:pt x="391" y="1715"/>
                </a:lnTo>
                <a:lnTo>
                  <a:pt x="416" y="1678"/>
                </a:lnTo>
                <a:lnTo>
                  <a:pt x="453" y="1653"/>
                </a:lnTo>
                <a:lnTo>
                  <a:pt x="538" y="1678"/>
                </a:lnTo>
                <a:lnTo>
                  <a:pt x="575" y="1690"/>
                </a:lnTo>
                <a:lnTo>
                  <a:pt x="600" y="1739"/>
                </a:lnTo>
                <a:lnTo>
                  <a:pt x="636" y="1800"/>
                </a:lnTo>
                <a:lnTo>
                  <a:pt x="649" y="1861"/>
                </a:lnTo>
                <a:lnTo>
                  <a:pt x="649" y="1935"/>
                </a:lnTo>
                <a:lnTo>
                  <a:pt x="624" y="1984"/>
                </a:lnTo>
                <a:lnTo>
                  <a:pt x="587" y="2057"/>
                </a:lnTo>
                <a:lnTo>
                  <a:pt x="526" y="2131"/>
                </a:lnTo>
                <a:lnTo>
                  <a:pt x="489" y="2131"/>
                </a:lnTo>
                <a:lnTo>
                  <a:pt x="440" y="2168"/>
                </a:lnTo>
                <a:lnTo>
                  <a:pt x="367" y="2180"/>
                </a:lnTo>
                <a:lnTo>
                  <a:pt x="318" y="2180"/>
                </a:lnTo>
                <a:lnTo>
                  <a:pt x="245" y="2229"/>
                </a:lnTo>
                <a:lnTo>
                  <a:pt x="220" y="2290"/>
                </a:lnTo>
                <a:lnTo>
                  <a:pt x="196" y="2351"/>
                </a:lnTo>
                <a:lnTo>
                  <a:pt x="208" y="2413"/>
                </a:lnTo>
                <a:lnTo>
                  <a:pt x="232" y="2498"/>
                </a:lnTo>
                <a:lnTo>
                  <a:pt x="269" y="2510"/>
                </a:lnTo>
                <a:lnTo>
                  <a:pt x="281" y="2547"/>
                </a:lnTo>
                <a:lnTo>
                  <a:pt x="330" y="2572"/>
                </a:lnTo>
                <a:lnTo>
                  <a:pt x="404" y="2596"/>
                </a:lnTo>
                <a:lnTo>
                  <a:pt x="465" y="2608"/>
                </a:lnTo>
                <a:lnTo>
                  <a:pt x="538" y="2670"/>
                </a:lnTo>
                <a:lnTo>
                  <a:pt x="575" y="2731"/>
                </a:lnTo>
                <a:lnTo>
                  <a:pt x="661" y="2743"/>
                </a:lnTo>
                <a:lnTo>
                  <a:pt x="722" y="2743"/>
                </a:lnTo>
                <a:lnTo>
                  <a:pt x="771" y="2743"/>
                </a:lnTo>
                <a:lnTo>
                  <a:pt x="845" y="2755"/>
                </a:lnTo>
                <a:lnTo>
                  <a:pt x="942" y="2804"/>
                </a:lnTo>
                <a:lnTo>
                  <a:pt x="1004" y="2817"/>
                </a:lnTo>
                <a:lnTo>
                  <a:pt x="1065" y="2841"/>
                </a:lnTo>
                <a:lnTo>
                  <a:pt x="1126" y="2841"/>
                </a:lnTo>
                <a:lnTo>
                  <a:pt x="1187" y="2841"/>
                </a:lnTo>
                <a:lnTo>
                  <a:pt x="1249" y="2841"/>
                </a:lnTo>
                <a:lnTo>
                  <a:pt x="1322" y="2841"/>
                </a:lnTo>
                <a:lnTo>
                  <a:pt x="1383" y="2853"/>
                </a:lnTo>
                <a:lnTo>
                  <a:pt x="1445" y="2902"/>
                </a:lnTo>
                <a:lnTo>
                  <a:pt x="1506" y="2902"/>
                </a:lnTo>
                <a:lnTo>
                  <a:pt x="1530" y="2976"/>
                </a:lnTo>
                <a:lnTo>
                  <a:pt x="1567" y="3000"/>
                </a:lnTo>
                <a:lnTo>
                  <a:pt x="1579" y="3037"/>
                </a:lnTo>
                <a:lnTo>
                  <a:pt x="1616" y="3061"/>
                </a:lnTo>
                <a:lnTo>
                  <a:pt x="1677" y="3110"/>
                </a:lnTo>
                <a:lnTo>
                  <a:pt x="1738" y="3123"/>
                </a:lnTo>
                <a:lnTo>
                  <a:pt x="1812" y="3147"/>
                </a:lnTo>
                <a:lnTo>
                  <a:pt x="1861" y="3147"/>
                </a:lnTo>
                <a:lnTo>
                  <a:pt x="1922" y="3147"/>
                </a:lnTo>
                <a:lnTo>
                  <a:pt x="1996" y="3147"/>
                </a:lnTo>
                <a:lnTo>
                  <a:pt x="2057" y="3135"/>
                </a:lnTo>
                <a:lnTo>
                  <a:pt x="2118" y="3110"/>
                </a:lnTo>
                <a:lnTo>
                  <a:pt x="2167" y="3086"/>
                </a:lnTo>
                <a:lnTo>
                  <a:pt x="2228" y="3074"/>
                </a:lnTo>
                <a:lnTo>
                  <a:pt x="2289" y="3061"/>
                </a:lnTo>
                <a:lnTo>
                  <a:pt x="2351" y="3061"/>
                </a:lnTo>
                <a:lnTo>
                  <a:pt x="2424" y="3061"/>
                </a:lnTo>
                <a:lnTo>
                  <a:pt x="2485" y="3061"/>
                </a:lnTo>
                <a:lnTo>
                  <a:pt x="2534" y="3061"/>
                </a:lnTo>
                <a:lnTo>
                  <a:pt x="2596" y="3049"/>
                </a:lnTo>
                <a:lnTo>
                  <a:pt x="2657" y="3025"/>
                </a:lnTo>
                <a:lnTo>
                  <a:pt x="2730" y="3049"/>
                </a:lnTo>
                <a:lnTo>
                  <a:pt x="2791" y="3061"/>
                </a:lnTo>
                <a:lnTo>
                  <a:pt x="2853" y="3061"/>
                </a:lnTo>
                <a:lnTo>
                  <a:pt x="2914" y="3061"/>
                </a:lnTo>
                <a:lnTo>
                  <a:pt x="2963" y="3061"/>
                </a:lnTo>
                <a:lnTo>
                  <a:pt x="3036" y="3061"/>
                </a:lnTo>
                <a:lnTo>
                  <a:pt x="3098" y="3061"/>
                </a:lnTo>
                <a:lnTo>
                  <a:pt x="3141" y="3061"/>
                </a:lnTo>
                <a:lnTo>
                  <a:pt x="3141" y="3013"/>
                </a:lnTo>
                <a:lnTo>
                  <a:pt x="3101" y="3061"/>
                </a:lnTo>
                <a:lnTo>
                  <a:pt x="3141" y="3061"/>
                </a:lnTo>
                <a:lnTo>
                  <a:pt x="3053" y="3061"/>
                </a:lnTo>
                <a:lnTo>
                  <a:pt x="3122" y="3061"/>
                </a:lnTo>
                <a:lnTo>
                  <a:pt x="3141" y="3000"/>
                </a:lnTo>
                <a:lnTo>
                  <a:pt x="3101" y="2965"/>
                </a:lnTo>
                <a:lnTo>
                  <a:pt x="3141" y="2951"/>
                </a:lnTo>
                <a:lnTo>
                  <a:pt x="3141" y="2890"/>
                </a:lnTo>
                <a:lnTo>
                  <a:pt x="3141" y="2829"/>
                </a:lnTo>
                <a:lnTo>
                  <a:pt x="3141" y="2768"/>
                </a:lnTo>
                <a:lnTo>
                  <a:pt x="3141" y="2706"/>
                </a:lnTo>
                <a:lnTo>
                  <a:pt x="3141" y="2657"/>
                </a:lnTo>
                <a:lnTo>
                  <a:pt x="3141" y="2596"/>
                </a:lnTo>
                <a:lnTo>
                  <a:pt x="3141" y="2535"/>
                </a:lnTo>
                <a:lnTo>
                  <a:pt x="3141" y="2474"/>
                </a:lnTo>
                <a:lnTo>
                  <a:pt x="3141" y="2437"/>
                </a:lnTo>
                <a:lnTo>
                  <a:pt x="3141" y="2388"/>
                </a:lnTo>
                <a:lnTo>
                  <a:pt x="3141" y="2339"/>
                </a:lnTo>
                <a:lnTo>
                  <a:pt x="3141" y="2278"/>
                </a:lnTo>
                <a:lnTo>
                  <a:pt x="3141" y="2229"/>
                </a:lnTo>
                <a:lnTo>
                  <a:pt x="3141" y="2168"/>
                </a:lnTo>
                <a:lnTo>
                  <a:pt x="3141" y="2106"/>
                </a:lnTo>
                <a:lnTo>
                  <a:pt x="3141" y="2045"/>
                </a:lnTo>
                <a:lnTo>
                  <a:pt x="3141" y="1984"/>
                </a:lnTo>
                <a:lnTo>
                  <a:pt x="3141" y="1910"/>
                </a:lnTo>
                <a:lnTo>
                  <a:pt x="3141" y="1861"/>
                </a:lnTo>
                <a:lnTo>
                  <a:pt x="3141" y="1800"/>
                </a:lnTo>
                <a:lnTo>
                  <a:pt x="3141" y="1739"/>
                </a:lnTo>
                <a:lnTo>
                  <a:pt x="3141" y="1666"/>
                </a:lnTo>
                <a:lnTo>
                  <a:pt x="3141" y="1617"/>
                </a:lnTo>
                <a:lnTo>
                  <a:pt x="3141" y="1580"/>
                </a:lnTo>
                <a:lnTo>
                  <a:pt x="3141" y="1531"/>
                </a:lnTo>
                <a:lnTo>
                  <a:pt x="3141" y="1482"/>
                </a:lnTo>
                <a:lnTo>
                  <a:pt x="3141" y="1433"/>
                </a:lnTo>
                <a:lnTo>
                  <a:pt x="3141" y="1372"/>
                </a:lnTo>
                <a:lnTo>
                  <a:pt x="3141" y="1335"/>
                </a:lnTo>
                <a:lnTo>
                  <a:pt x="3141" y="1286"/>
                </a:lnTo>
                <a:lnTo>
                  <a:pt x="3141" y="1237"/>
                </a:lnTo>
                <a:lnTo>
                  <a:pt x="3141" y="1164"/>
                </a:lnTo>
                <a:lnTo>
                  <a:pt x="3141" y="1115"/>
                </a:lnTo>
                <a:lnTo>
                  <a:pt x="3141" y="1053"/>
                </a:lnTo>
                <a:lnTo>
                  <a:pt x="3141" y="1004"/>
                </a:lnTo>
                <a:lnTo>
                  <a:pt x="3141" y="943"/>
                </a:lnTo>
                <a:lnTo>
                  <a:pt x="3141" y="870"/>
                </a:lnTo>
                <a:lnTo>
                  <a:pt x="3141" y="821"/>
                </a:lnTo>
                <a:lnTo>
                  <a:pt x="3141" y="784"/>
                </a:lnTo>
                <a:lnTo>
                  <a:pt x="3141" y="735"/>
                </a:lnTo>
                <a:lnTo>
                  <a:pt x="3141" y="686"/>
                </a:lnTo>
                <a:lnTo>
                  <a:pt x="3141" y="625"/>
                </a:lnTo>
                <a:lnTo>
                  <a:pt x="3141" y="564"/>
                </a:lnTo>
                <a:lnTo>
                  <a:pt x="3141" y="515"/>
                </a:lnTo>
                <a:lnTo>
                  <a:pt x="3141" y="441"/>
                </a:lnTo>
                <a:lnTo>
                  <a:pt x="3141" y="380"/>
                </a:lnTo>
                <a:lnTo>
                  <a:pt x="3141" y="331"/>
                </a:lnTo>
                <a:lnTo>
                  <a:pt x="3141" y="257"/>
                </a:lnTo>
                <a:lnTo>
                  <a:pt x="3141" y="196"/>
                </a:lnTo>
                <a:lnTo>
                  <a:pt x="3141" y="135"/>
                </a:lnTo>
                <a:lnTo>
                  <a:pt x="3141" y="74"/>
                </a:lnTo>
                <a:lnTo>
                  <a:pt x="3141" y="13"/>
                </a:lnTo>
                <a:lnTo>
                  <a:pt x="3098" y="0"/>
                </a:lnTo>
                <a:lnTo>
                  <a:pt x="3061" y="0"/>
                </a:lnTo>
                <a:lnTo>
                  <a:pt x="3000" y="0"/>
                </a:lnTo>
                <a:lnTo>
                  <a:pt x="2938" y="37"/>
                </a:lnTo>
                <a:lnTo>
                  <a:pt x="2877" y="61"/>
                </a:lnTo>
                <a:lnTo>
                  <a:pt x="2853" y="98"/>
                </a:lnTo>
                <a:lnTo>
                  <a:pt x="2816" y="123"/>
                </a:lnTo>
                <a:lnTo>
                  <a:pt x="2755" y="147"/>
                </a:lnTo>
                <a:lnTo>
                  <a:pt x="2693" y="147"/>
                </a:lnTo>
                <a:lnTo>
                  <a:pt x="2632" y="110"/>
                </a:lnTo>
                <a:lnTo>
                  <a:pt x="2571" y="74"/>
                </a:lnTo>
                <a:lnTo>
                  <a:pt x="2510" y="61"/>
                </a:lnTo>
                <a:lnTo>
                  <a:pt x="2473" y="61"/>
                </a:lnTo>
                <a:lnTo>
                  <a:pt x="2436" y="49"/>
                </a:lnTo>
                <a:lnTo>
                  <a:pt x="2375" y="25"/>
                </a:lnTo>
                <a:lnTo>
                  <a:pt x="2302" y="25"/>
                </a:lnTo>
                <a:lnTo>
                  <a:pt x="2265" y="13"/>
                </a:lnTo>
                <a:lnTo>
                  <a:pt x="2204" y="13"/>
                </a:lnTo>
                <a:lnTo>
                  <a:pt x="2142" y="13"/>
                </a:lnTo>
                <a:lnTo>
                  <a:pt x="2081" y="13"/>
                </a:lnTo>
                <a:lnTo>
                  <a:pt x="2008" y="37"/>
                </a:lnTo>
                <a:lnTo>
                  <a:pt x="1947" y="61"/>
                </a:lnTo>
                <a:lnTo>
                  <a:pt x="1885" y="86"/>
                </a:lnTo>
                <a:lnTo>
                  <a:pt x="1824" y="98"/>
                </a:lnTo>
                <a:lnTo>
                  <a:pt x="1763" y="98"/>
                </a:lnTo>
                <a:lnTo>
                  <a:pt x="1702" y="74"/>
                </a:lnTo>
                <a:lnTo>
                  <a:pt x="1653" y="61"/>
                </a:lnTo>
                <a:lnTo>
                  <a:pt x="1579" y="25"/>
                </a:lnTo>
                <a:lnTo>
                  <a:pt x="1518" y="13"/>
                </a:lnTo>
                <a:lnTo>
                  <a:pt x="1457" y="13"/>
                </a:lnTo>
                <a:lnTo>
                  <a:pt x="1396" y="13"/>
                </a:lnTo>
                <a:lnTo>
                  <a:pt x="1347" y="37"/>
                </a:lnTo>
                <a:lnTo>
                  <a:pt x="1285" y="61"/>
                </a:lnTo>
                <a:lnTo>
                  <a:pt x="1224" y="86"/>
                </a:lnTo>
                <a:lnTo>
                  <a:pt x="1163" y="86"/>
                </a:lnTo>
                <a:lnTo>
                  <a:pt x="1102" y="86"/>
                </a:lnTo>
                <a:lnTo>
                  <a:pt x="1040" y="98"/>
                </a:lnTo>
                <a:lnTo>
                  <a:pt x="979" y="110"/>
                </a:lnTo>
                <a:lnTo>
                  <a:pt x="918" y="147"/>
                </a:lnTo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835400" y="195912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040360" y="320040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345280" y="464832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888080" y="533412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116680" y="495288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394240" y="2766960"/>
            <a:ext cx="11498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396040" y="4976640"/>
            <a:ext cx="13251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268960" y="3809880"/>
            <a:ext cx="29196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649840" y="4267080"/>
            <a:ext cx="29232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06840" y="3733920"/>
            <a:ext cx="29232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202280" y="3048120"/>
            <a:ext cx="29196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192640" y="4267080"/>
            <a:ext cx="29232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268960" y="2666880"/>
            <a:ext cx="29196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497560" y="1981080"/>
            <a:ext cx="29196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259680" y="1752480"/>
            <a:ext cx="29196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107040" y="4572000"/>
            <a:ext cx="29232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802480" y="2362320"/>
            <a:ext cx="29196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335640" y="2286000"/>
            <a:ext cx="29232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326360" y="1752480"/>
            <a:ext cx="29196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869160" y="1981080"/>
            <a:ext cx="291960" cy="2923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183360" y="2743200"/>
            <a:ext cx="29196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097760" y="2514600"/>
            <a:ext cx="29196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792840" y="2895480"/>
            <a:ext cx="29232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335640" y="3505320"/>
            <a:ext cx="29232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783560" y="2438280"/>
            <a:ext cx="29196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697960" y="1752480"/>
            <a:ext cx="291960" cy="2923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402680" y="2895480"/>
            <a:ext cx="29196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945480" y="3429000"/>
            <a:ext cx="29196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554960" y="3352680"/>
            <a:ext cx="29196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8088480" y="2743200"/>
            <a:ext cx="29196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326360" y="3886200"/>
            <a:ext cx="29196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954760" y="3809880"/>
            <a:ext cx="29196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488280" y="3962520"/>
            <a:ext cx="29196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869160" y="4572000"/>
            <a:ext cx="29196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8469360" y="5257800"/>
            <a:ext cx="29196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497560" y="563868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3357720" y="3422520"/>
            <a:ext cx="167616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H="1" flipV="1">
            <a:off x="3357360" y="4336560"/>
            <a:ext cx="19810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 flipV="1">
            <a:off x="3204720" y="4336920"/>
            <a:ext cx="16765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 flipV="1">
            <a:off x="3357720" y="4336560"/>
            <a:ext cx="17524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031080" y="5715000"/>
            <a:ext cx="29196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792840" y="6172200"/>
            <a:ext cx="29232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11960" y="4876920"/>
            <a:ext cx="29196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659480" y="2895480"/>
            <a:ext cx="29196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402680" y="5943600"/>
            <a:ext cx="29196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554960" y="4495680"/>
            <a:ext cx="29196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240760" y="3505320"/>
            <a:ext cx="291960" cy="29196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707240" y="5181480"/>
            <a:ext cx="29232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164440" y="5867280"/>
            <a:ext cx="29232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488280" y="5638680"/>
            <a:ext cx="29196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164440" y="4191120"/>
            <a:ext cx="29232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621640" y="2590920"/>
            <a:ext cx="29232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945480" y="5257800"/>
            <a:ext cx="29196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978280" y="2889000"/>
            <a:ext cx="50288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993600" y="374760"/>
            <a:ext cx="182844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757520" y="1822320"/>
            <a:ext cx="510516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598760" y="1946160"/>
            <a:ext cx="647676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8621640" y="4876920"/>
            <a:ext cx="292320" cy="29196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8240760" y="4952880"/>
            <a:ext cx="291960" cy="2923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621640" y="3962520"/>
            <a:ext cx="292320" cy="29196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8013600" y="4648320"/>
            <a:ext cx="292320" cy="29196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757520" y="1974960"/>
            <a:ext cx="6858000" cy="205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757520" y="1974960"/>
            <a:ext cx="6248160" cy="274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7520" y="1822320"/>
            <a:ext cx="655308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757520" y="1822320"/>
            <a:ext cx="693396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928880" y="3975120"/>
            <a:ext cx="216000" cy="29196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928880" y="3898800"/>
            <a:ext cx="216000" cy="1396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879560" y="4029120"/>
            <a:ext cx="60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316080" y="1289160"/>
            <a:ext cx="1766880" cy="907920"/>
            <a:chOff x="316080" y="1289160"/>
            <a:chExt cx="1766880" cy="907920"/>
          </a:xfrm>
        </p:grpSpPr>
        <p:sp>
          <p:nvSpPr>
            <p:cNvPr id="777" name=""/>
            <p:cNvSpPr/>
            <p:nvPr/>
          </p:nvSpPr>
          <p:spPr>
            <a:xfrm>
              <a:off x="316080" y="1600200"/>
              <a:ext cx="1434960" cy="5968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11280" y="1289160"/>
              <a:ext cx="1471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URL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9" name=""/>
            <p:cNvGrpSpPr/>
            <p:nvPr/>
          </p:nvGrpSpPr>
          <p:grpSpPr>
            <a:xfrm>
              <a:off x="317520" y="1816200"/>
              <a:ext cx="608040" cy="375120"/>
              <a:chOff x="317520" y="1816200"/>
              <a:chExt cx="608040" cy="375120"/>
            </a:xfrm>
          </p:grpSpPr>
          <p:sp>
            <p:nvSpPr>
              <p:cNvPr id="780" name=""/>
              <p:cNvSpPr/>
              <p:nvPr/>
            </p:nvSpPr>
            <p:spPr>
              <a:xfrm>
                <a:off x="366840" y="1892520"/>
                <a:ext cx="216000" cy="2919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66840" y="1816200"/>
                <a:ext cx="216000" cy="13968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17520" y="1946520"/>
                <a:ext cx="6080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K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3" name=""/>
          <p:cNvSpPr/>
          <p:nvPr/>
        </p:nvSpPr>
        <p:spPr>
          <a:xfrm>
            <a:off x="6396120" y="1266840"/>
            <a:ext cx="11498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RL Agents speak for on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 more related web pag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080" y="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030400" y="2174760"/>
            <a:ext cx="493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requisite: CMSC 2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E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Prereq”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=“http:// ....#CMSC-202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ell :to urla42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from spider387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content “(prereq CS-341 CS-202)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:ontology “http://…/courseontology.html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:language KI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9160" y="1523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WW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964560" y="171756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hoe 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31120" y="5619600"/>
            <a:ext cx="254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QML mess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nt to URL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693800" y="1752480"/>
            <a:ext cx="882720" cy="422280"/>
          </a:xfrm>
          <a:prstGeom prst="line">
            <a:avLst/>
          </a:prstGeom>
          <a:ln w="2844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4800240" y="2174760"/>
            <a:ext cx="2149560" cy="1101960"/>
          </a:xfrm>
          <a:prstGeom prst="line">
            <a:avLst/>
          </a:prstGeom>
          <a:ln w="2844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1376280" y="4648320"/>
            <a:ext cx="986040" cy="979200"/>
          </a:xfrm>
          <a:prstGeom prst="line">
            <a:avLst/>
          </a:prstGeom>
          <a:ln w="2844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080" y="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ourse Ontology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09480" y="2057400"/>
            <a:ext cx="7848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NTOLOGY ”course-ontology" VERSION=”2.5"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NTOLOGY-EXTENDS ”meeting-ontology"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SION="2.1" PREFIX=”mtg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L="http://onto.org/mtg/2.1/"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NTDEF CATEGORY=”course" ISA=”mtg.periodic"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NTDEF RELATION=”frequency" ARGS=”course timeinterval"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NTDEF RELATION=”hasPrereq" ARGS=”course course"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NTDEF INFER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NTIF RELATION=“hasPrereq” 1=“a” 2=“b”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&lt;ONTIF RELATION=“chainPrereq” 1=“b” 2=“c”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&lt;ONTTHEN RELATION=“chainPrereq” 1=“a” 2=“c”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ONTDEF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ONTOLOGY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080" y="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3701880" y="2800440"/>
            <a:ext cx="1740240" cy="520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2351160" y="3882960"/>
            <a:ext cx="5103720" cy="743040"/>
            <a:chOff x="2351160" y="3882960"/>
            <a:chExt cx="5103720" cy="743040"/>
          </a:xfrm>
        </p:grpSpPr>
        <p:grpSp>
          <p:nvGrpSpPr>
            <p:cNvPr id="800" name=""/>
            <p:cNvGrpSpPr/>
            <p:nvPr/>
          </p:nvGrpSpPr>
          <p:grpSpPr>
            <a:xfrm>
              <a:off x="2351160" y="3882960"/>
              <a:ext cx="571320" cy="743040"/>
              <a:chOff x="2351160" y="3882960"/>
              <a:chExt cx="571320" cy="743040"/>
            </a:xfrm>
          </p:grpSpPr>
          <p:sp>
            <p:nvSpPr>
              <p:cNvPr id="801" name=""/>
              <p:cNvSpPr/>
              <p:nvPr/>
            </p:nvSpPr>
            <p:spPr>
              <a:xfrm>
                <a:off x="2351160" y="3882960"/>
                <a:ext cx="571320" cy="7430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07932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367000" y="3935520"/>
                <a:ext cx="48348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CMSC 201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Now is the time for al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good men to come to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the aid of the country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The quick brown fox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jumped over the laz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dog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relation foo bar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axiom mumble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foo bar mumble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relation meettime bar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3494160" y="3882960"/>
              <a:ext cx="571320" cy="743040"/>
              <a:chOff x="3494160" y="3882960"/>
              <a:chExt cx="571320" cy="743040"/>
            </a:xfrm>
          </p:grpSpPr>
          <p:sp>
            <p:nvSpPr>
              <p:cNvPr id="804" name=""/>
              <p:cNvSpPr/>
              <p:nvPr/>
            </p:nvSpPr>
            <p:spPr>
              <a:xfrm>
                <a:off x="3494160" y="3882960"/>
                <a:ext cx="571320" cy="7430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07932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510000" y="3935520"/>
                <a:ext cx="48348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CMSC 201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Now is the time for al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good men to come to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the aid of the country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The quick brown fox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jumped over the laz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dog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relation foo bar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axiom mumble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foo bar mumble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relation meettime bar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4425840" y="3882960"/>
              <a:ext cx="571680" cy="743040"/>
              <a:chOff x="4425840" y="3882960"/>
              <a:chExt cx="571680" cy="743040"/>
            </a:xfrm>
          </p:grpSpPr>
          <p:sp>
            <p:nvSpPr>
              <p:cNvPr id="807" name=""/>
              <p:cNvSpPr/>
              <p:nvPr/>
            </p:nvSpPr>
            <p:spPr>
              <a:xfrm>
                <a:off x="4425840" y="3882960"/>
                <a:ext cx="571680" cy="7430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07932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442040" y="3935520"/>
                <a:ext cx="48348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CMSC 201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Now is the time for al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good men to come to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the aid of the country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The quick brown fox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jumped over the laz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dog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relation foo bar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axiom mumble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foo bar mumble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relation meettime bar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5683320" y="3882960"/>
              <a:ext cx="571320" cy="743040"/>
              <a:chOff x="5683320" y="3882960"/>
              <a:chExt cx="571320" cy="743040"/>
            </a:xfrm>
          </p:grpSpPr>
          <p:sp>
            <p:nvSpPr>
              <p:cNvPr id="810" name=""/>
              <p:cNvSpPr/>
              <p:nvPr/>
            </p:nvSpPr>
            <p:spPr>
              <a:xfrm>
                <a:off x="5683320" y="3882960"/>
                <a:ext cx="571320" cy="7430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07932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699160" y="3935520"/>
                <a:ext cx="48348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CMSC 201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Now is the time for al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good men to come to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the aid of the country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The quick brown fox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jumped over the laz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dog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relation foo bar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axiom mumble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foo bar mumble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relation meettime bar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6883560" y="3882960"/>
              <a:ext cx="571320" cy="743040"/>
              <a:chOff x="6883560" y="3882960"/>
              <a:chExt cx="571320" cy="743040"/>
            </a:xfrm>
          </p:grpSpPr>
          <p:sp>
            <p:nvSpPr>
              <p:cNvPr id="813" name=""/>
              <p:cNvSpPr/>
              <p:nvPr/>
            </p:nvSpPr>
            <p:spPr>
              <a:xfrm>
                <a:off x="6883560" y="3882960"/>
                <a:ext cx="571320" cy="7430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07932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899400" y="3935520"/>
                <a:ext cx="48348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CMSC 201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Now is the time for al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good men to come to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the aid of the country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The quick brown fox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jumped over the laz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dog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relation foo bar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axiom mumble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foo bar mumble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relation meettime bar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5" name=""/>
          <p:cNvGrpSpPr/>
          <p:nvPr/>
        </p:nvGrpSpPr>
        <p:grpSpPr>
          <a:xfrm>
            <a:off x="6959520" y="5788080"/>
            <a:ext cx="571680" cy="743040"/>
            <a:chOff x="6959520" y="5788080"/>
            <a:chExt cx="571680" cy="743040"/>
          </a:xfrm>
        </p:grpSpPr>
        <p:sp>
          <p:nvSpPr>
            <p:cNvPr id="816" name=""/>
            <p:cNvSpPr/>
            <p:nvPr/>
          </p:nvSpPr>
          <p:spPr>
            <a:xfrm>
              <a:off x="6959520" y="5788080"/>
              <a:ext cx="571680" cy="7430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972480" y="5840280"/>
              <a:ext cx="483480" cy="51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Times New Roman"/>
                </a:rPr>
                <a:t>CMSC 20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Now is the time for al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good men to come to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the aid of the country.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The quick brown fo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jumped over the laz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dog.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669240" y="3887640"/>
            <a:ext cx="1626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 pages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mantic marku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2427120" y="5788080"/>
            <a:ext cx="571680" cy="743040"/>
            <a:chOff x="2427120" y="5788080"/>
            <a:chExt cx="571680" cy="743040"/>
          </a:xfrm>
        </p:grpSpPr>
        <p:sp>
          <p:nvSpPr>
            <p:cNvPr id="820" name=""/>
            <p:cNvSpPr/>
            <p:nvPr/>
          </p:nvSpPr>
          <p:spPr>
            <a:xfrm>
              <a:off x="2427120" y="5788080"/>
              <a:ext cx="571680" cy="7430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441880" y="5840280"/>
              <a:ext cx="483480" cy="5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Times New Roman"/>
                </a:rPr>
                <a:t>CMSC 20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Now is the time for al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good men to come to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the aid of the country.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The quick brown fo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jumped over the laz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dog.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2" name=""/>
          <p:cNvSpPr/>
          <p:nvPr/>
        </p:nvSpPr>
        <p:spPr>
          <a:xfrm flipV="1">
            <a:off x="2666880" y="480060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049400" y="6019920"/>
            <a:ext cx="1379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w web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438280" y="5181480"/>
            <a:ext cx="457200" cy="381240"/>
          </a:xfrm>
          <a:prstGeom prst="roundRect">
            <a:avLst>
              <a:gd name="adj" fmla="val 12495"/>
            </a:avLst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048680" y="5106960"/>
            <a:ext cx="1309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ust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rkup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7315200" y="480060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448400" y="5030640"/>
            <a:ext cx="1378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rkup ad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y h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679160" y="6095880"/>
            <a:ext cx="1379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w web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2666880" y="3276360"/>
            <a:ext cx="114300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3809880" y="327636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4571640" y="3277800"/>
            <a:ext cx="228600" cy="608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5105520" y="3276360"/>
            <a:ext cx="8380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5409720" y="3200040"/>
            <a:ext cx="175284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895560" y="2895480"/>
            <a:ext cx="1352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 rob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361440" y="1222200"/>
            <a:ext cx="2610360" cy="822600"/>
            <a:chOff x="361440" y="1222200"/>
            <a:chExt cx="2610360" cy="822600"/>
          </a:xfrm>
        </p:grpSpPr>
        <p:sp>
          <p:nvSpPr>
            <p:cNvPr id="836" name=""/>
            <p:cNvSpPr/>
            <p:nvPr/>
          </p:nvSpPr>
          <p:spPr>
            <a:xfrm>
              <a:off x="2286000" y="1600200"/>
              <a:ext cx="68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286000" y="1828800"/>
              <a:ext cx="68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61440" y="1222200"/>
              <a:ext cx="196344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Queries and reques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rom other ag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in KQ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9" name=""/>
          <p:cNvSpPr/>
          <p:nvPr/>
        </p:nvSpPr>
        <p:spPr>
          <a:xfrm>
            <a:off x="3473280" y="1225440"/>
            <a:ext cx="2197440" cy="12826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763800" y="1663560"/>
            <a:ext cx="1614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RL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054240" y="1225440"/>
            <a:ext cx="368280" cy="1282680"/>
          </a:xfrm>
          <a:prstGeom prst="rect">
            <a:avLst/>
          </a:prstGeom>
          <a:solidFill>
            <a:srgbClr val="000000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16200000">
            <a:off x="2661840" y="1673280"/>
            <a:ext cx="1225800" cy="33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KQML 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936320" y="2208240"/>
            <a:ext cx="73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295800" y="2800440"/>
            <a:ext cx="368280" cy="5205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220920" y="2900520"/>
            <a:ext cx="546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KQM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AP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H="1">
            <a:off x="2666880" y="3048120"/>
            <a:ext cx="6098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2666880" y="2361960"/>
            <a:ext cx="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666880" y="2362320"/>
            <a:ext cx="4572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51640" y="2443320"/>
            <a:ext cx="2376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mantic information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ocal web pages in KQ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5683320" y="5788080"/>
            <a:ext cx="571320" cy="743040"/>
            <a:chOff x="5683320" y="5788080"/>
            <a:chExt cx="571320" cy="743040"/>
          </a:xfrm>
        </p:grpSpPr>
        <p:sp>
          <p:nvSpPr>
            <p:cNvPr id="851" name=""/>
            <p:cNvSpPr/>
            <p:nvPr/>
          </p:nvSpPr>
          <p:spPr>
            <a:xfrm>
              <a:off x="5683320" y="5788080"/>
              <a:ext cx="571320" cy="7430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697720" y="5840280"/>
              <a:ext cx="483480" cy="5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Times New Roman"/>
                </a:rPr>
                <a:t>CMSC 20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Now is the time for al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good men to come to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the aid of the country.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The quick brown fo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jumped over the laz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dog.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3" name=""/>
          <p:cNvSpPr/>
          <p:nvPr/>
        </p:nvSpPr>
        <p:spPr>
          <a:xfrm flipV="1">
            <a:off x="5923080" y="480060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305240" y="6019920"/>
            <a:ext cx="1379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w web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694480" y="5181480"/>
            <a:ext cx="457200" cy="381240"/>
          </a:xfrm>
          <a:prstGeom prst="roundRect">
            <a:avLst>
              <a:gd name="adj" fmla="val 12495"/>
            </a:avLst>
          </a:prstGeom>
          <a:solidFill>
            <a:srgbClr val="00cc99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203720" y="5030640"/>
            <a:ext cx="14670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rkup ad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ia SH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abled 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7062840" y="855720"/>
            <a:ext cx="571320" cy="748800"/>
            <a:chOff x="7062840" y="855720"/>
            <a:chExt cx="571320" cy="748800"/>
          </a:xfrm>
        </p:grpSpPr>
        <p:sp>
          <p:nvSpPr>
            <p:cNvPr id="859" name=""/>
            <p:cNvSpPr/>
            <p:nvPr/>
          </p:nvSpPr>
          <p:spPr>
            <a:xfrm>
              <a:off x="7062840" y="855720"/>
              <a:ext cx="571320" cy="7430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075080" y="908280"/>
              <a:ext cx="518400" cy="69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Times New Roman"/>
                </a:rPr>
                <a:t>ONTOLOG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Now is the time for al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good men to come to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the aid of the country.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relation foo bar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axiom mumble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foo bar mumble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relation meettime bar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relation foo bar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axiom mumble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foo bar mumble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relation meettime bar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relation foo bar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axiom mumble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foo bar mumble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relation meettime bar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1" name=""/>
          <p:cNvGrpSpPr/>
          <p:nvPr/>
        </p:nvGrpSpPr>
        <p:grpSpPr>
          <a:xfrm>
            <a:off x="7107120" y="2048040"/>
            <a:ext cx="571320" cy="748800"/>
            <a:chOff x="7107120" y="2048040"/>
            <a:chExt cx="571320" cy="748800"/>
          </a:xfrm>
        </p:grpSpPr>
        <p:sp>
          <p:nvSpPr>
            <p:cNvPr id="862" name=""/>
            <p:cNvSpPr/>
            <p:nvPr/>
          </p:nvSpPr>
          <p:spPr>
            <a:xfrm>
              <a:off x="7107120" y="2048040"/>
              <a:ext cx="571320" cy="7430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119360" y="2100600"/>
              <a:ext cx="518400" cy="69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Times New Roman"/>
                </a:rPr>
                <a:t>ONTOLOG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Now is the time for al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good men to come to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the aid of the country.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relation foo bar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axiom mumble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foo bar mumble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relation meettime bar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relation foo bar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axiom mumble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foo bar mumble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relation meettime bar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relation foo bar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axiom mumble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foo bar mumble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relation meettime bar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 flipH="1">
            <a:off x="5491080" y="1397160"/>
            <a:ext cx="1392480" cy="156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5491080" y="2443320"/>
            <a:ext cx="1571760" cy="604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714080" y="1663560"/>
            <a:ext cx="134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ferenc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nt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85800" y="0"/>
            <a:ext cx="77724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rlAgent Prototype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080" y="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t Communic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-agent communication is a key to realizing the potential of the agent paradig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interoperability is a defining characteristic of agents, standards are  importa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didates for standardization incl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ent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ent communication langu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ent interaction protoc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ent knowl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ent programming langu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s will most develop through natural selectio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nature red in tooth and claw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800" y="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imes New Roman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744480" y="171000"/>
            <a:ext cx="7656480" cy="12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gent Methodology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65000" y="1549440"/>
            <a:ext cx="761400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KSE offers a four-part methodology for for developing complex agent-based syst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234720">
              <a:lnSpc>
                <a:spcPct val="100000"/>
              </a:lnSpc>
              <a:spcBef>
                <a:spcPts val="624"/>
              </a:spcBef>
              <a:buClr>
                <a:srgbClr val="fc0128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/construct necessary ont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79600" indent="-115920">
              <a:lnSpc>
                <a:spcPct val="100000"/>
              </a:lnSpc>
              <a:spcBef>
                <a:spcPts val="462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standard,  published ontologies if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79600" indent="-115920">
              <a:lnSpc>
                <a:spcPct val="100000"/>
              </a:lnSpc>
              <a:spcBef>
                <a:spcPts val="462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 (and publish) new components as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79600" indent="-115920">
              <a:lnSpc>
                <a:spcPct val="100000"/>
              </a:lnSpc>
              <a:spcBef>
                <a:spcPts val="462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common tools, e.g. </a:t>
            </a:r>
            <a:r>
              <a:rPr b="1" lang="en-US" sz="1800" spc="-1" strike="noStrike">
                <a:solidFill>
                  <a:srgbClr val="ff0033"/>
                </a:solidFill>
                <a:latin typeface="Times New Roman"/>
              </a:rPr>
              <a:t>Ontolingua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GFP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234720">
              <a:lnSpc>
                <a:spcPct val="100000"/>
              </a:lnSpc>
              <a:spcBef>
                <a:spcPts val="624"/>
              </a:spcBef>
              <a:buClr>
                <a:srgbClr val="fc0128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common representation language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79600" indent="-115920">
              <a:lnSpc>
                <a:spcPct val="100000"/>
              </a:lnSpc>
              <a:spcBef>
                <a:spcPts val="462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, SQL or KBMS with </a:t>
            </a:r>
            <a:r>
              <a:rPr b="1" lang="en-US" sz="1800" spc="-1" strike="noStrike">
                <a:solidFill>
                  <a:srgbClr val="ff0033"/>
                </a:solidFill>
                <a:latin typeface="Times New Roman"/>
              </a:rPr>
              <a:t>K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is a recommended de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234720">
              <a:lnSpc>
                <a:spcPct val="100000"/>
              </a:lnSpc>
              <a:spcBef>
                <a:spcPts val="624"/>
              </a:spcBef>
              <a:buClr>
                <a:srgbClr val="fc0128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n ACL like </a:t>
            </a: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KQM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communication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79600" indent="-115920">
              <a:lnSpc>
                <a:spcPct val="100000"/>
              </a:lnSpc>
              <a:spcBef>
                <a:spcPts val="462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end with new performatives and protocols as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234720">
              <a:lnSpc>
                <a:spcPct val="100000"/>
              </a:lnSpc>
              <a:spcBef>
                <a:spcPts val="624"/>
              </a:spcBef>
              <a:buClr>
                <a:srgbClr val="fc0128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and define new higher-leve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79600" indent="-115920">
              <a:lnSpc>
                <a:spcPct val="100000"/>
              </a:lnSpc>
              <a:spcBef>
                <a:spcPts val="462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, for negotiation, purchasing, catalog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800" y="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imes New Roman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6320" y="301320"/>
            <a:ext cx="773136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nowledge Interchange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3429000"/>
            <a:ext cx="800100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192960" indent="-19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F ~ First order logic with set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2960" indent="-19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terlingua for encoded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280" indent="-19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s translation among n systems from O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to O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960" indent="-19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language for reusable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280" indent="-19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 independent seman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280" indent="-19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ly expressive -- can represent knowledge in typical application knowledge b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960" indent="-19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bject of an ANSI standardization committee (ASC NCITS.TC.T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247760" y="888840"/>
            <a:ext cx="6001920" cy="2200680"/>
            <a:chOff x="1247760" y="888840"/>
            <a:chExt cx="6001920" cy="2200680"/>
          </a:xfrm>
        </p:grpSpPr>
        <p:grpSp>
          <p:nvGrpSpPr>
            <p:cNvPr id="67" name=""/>
            <p:cNvGrpSpPr/>
            <p:nvPr/>
          </p:nvGrpSpPr>
          <p:grpSpPr>
            <a:xfrm>
              <a:off x="1247760" y="1870200"/>
              <a:ext cx="2155680" cy="1211040"/>
              <a:chOff x="1247760" y="1870200"/>
              <a:chExt cx="2155680" cy="1211040"/>
            </a:xfrm>
          </p:grpSpPr>
          <p:sp>
            <p:nvSpPr>
              <p:cNvPr id="68" name=""/>
              <p:cNvSpPr/>
              <p:nvPr/>
            </p:nvSpPr>
            <p:spPr>
              <a:xfrm>
                <a:off x="1247760" y="1870200"/>
                <a:ext cx="2155680" cy="38232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247760" y="2254320"/>
                <a:ext cx="2155680" cy="82692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1303200" y="2322360"/>
              <a:ext cx="1251000" cy="679680"/>
            </a:xfrm>
            <a:prstGeom prst="ellipse">
              <a:avLst/>
            </a:prstGeom>
            <a:solidFill>
              <a:srgbClr val="ff66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98960" y="2401920"/>
              <a:ext cx="10490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Know. B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70840" y="2568600"/>
              <a:ext cx="284040" cy="2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11000" y="2730600"/>
              <a:ext cx="63468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ng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288080" y="1913040"/>
              <a:ext cx="217368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KIF &lt;-&gt; Lang1 Transl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630880" y="2681280"/>
              <a:ext cx="76104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ys 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286000" y="1190520"/>
              <a:ext cx="3819600" cy="0"/>
            </a:xfrm>
            <a:prstGeom prst="line">
              <a:avLst/>
            </a:prstGeom>
            <a:ln w="507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33840" y="2271600"/>
              <a:ext cx="1173240" cy="50976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49040" y="2327400"/>
              <a:ext cx="96228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imes New Roman"/>
                </a:rPr>
                <a:t>Library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5059440" y="1870200"/>
              <a:ext cx="2155680" cy="1211040"/>
              <a:chOff x="5059440" y="1870200"/>
              <a:chExt cx="2155680" cy="1211040"/>
            </a:xfrm>
          </p:grpSpPr>
          <p:sp>
            <p:nvSpPr>
              <p:cNvPr id="80" name=""/>
              <p:cNvSpPr/>
              <p:nvPr/>
            </p:nvSpPr>
            <p:spPr>
              <a:xfrm>
                <a:off x="5059440" y="1870200"/>
                <a:ext cx="2155680" cy="38232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59440" y="2254320"/>
                <a:ext cx="2155680" cy="82692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5127480" y="2322360"/>
              <a:ext cx="1238400" cy="67968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08840" y="2398680"/>
              <a:ext cx="10490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Know. B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81080" y="2565360"/>
              <a:ext cx="284040" cy="2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22320" y="2727360"/>
              <a:ext cx="63468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ng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11720" y="888840"/>
              <a:ext cx="174564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 in KI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76000" y="1922400"/>
              <a:ext cx="217368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KIF &lt;-&gt; Lang2 Transl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51920" y="2679840"/>
              <a:ext cx="76104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ys 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263680" y="1190160"/>
              <a:ext cx="20880" cy="669960"/>
            </a:xfrm>
            <a:prstGeom prst="line">
              <a:avLst/>
            </a:prstGeom>
            <a:ln w="50760">
              <a:solidFill>
                <a:srgbClr val="5f5f5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6105600" y="1190160"/>
              <a:ext cx="0" cy="669960"/>
            </a:xfrm>
            <a:prstGeom prst="line">
              <a:avLst/>
            </a:prstGeom>
            <a:ln w="50760">
              <a:solidFill>
                <a:srgbClr val="5f5f5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4276800" y="1190520"/>
              <a:ext cx="0" cy="1036800"/>
            </a:xfrm>
            <a:prstGeom prst="line">
              <a:avLst/>
            </a:prstGeom>
            <a:ln w="50760">
              <a:solidFill>
                <a:srgbClr val="5f5f5f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080" y="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imes New Roman"/>
              </a:rPr>
              <a:t>K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IF 101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F is a relational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alary 015-46-3946 7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upervisor ?p ?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not a flat one, as in relational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&gt; (* (width chip1) (length chip1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* (width chip2) (length chip2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F includes a variety of logical operat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eal-number ?x) (even-number ?n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&gt; (expt ?x ?n) 0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80" y="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imes New Roman"/>
              </a:rPr>
              <a:t>K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IF 101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F can encode meta-knowledge about functions &amp;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ransitive R), (inverse R1 R2), (holds ?r 1 2) , (value ?f 1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&lt;=&gt; (transitive ?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=&gt; (and (holds ?r ?x ?y) (holds ?r ?y ?z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holds ?r ?x ?z))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F can encode knowledge about knowledg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nterested joe `(salary ,?x ,?y ,?z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F can also be used to describe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rogn (fresh-line 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rint "Hello!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resh-line t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80" y="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imes New Roman"/>
              </a:rPr>
              <a:t>K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720" y="365040"/>
            <a:ext cx="892476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IF subse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4000"/>
          </a:bodyPr>
          <a:p>
            <a:pPr marL="21924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agents only need or use a subset of K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sets of KIF can be easily 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600200" y="3429000"/>
            <a:ext cx="5676840" cy="2773440"/>
            <a:chOff x="1600200" y="3429000"/>
            <a:chExt cx="5676840" cy="2773440"/>
          </a:xfrm>
        </p:grpSpPr>
        <p:sp>
          <p:nvSpPr>
            <p:cNvPr id="102" name=""/>
            <p:cNvSpPr/>
            <p:nvPr/>
          </p:nvSpPr>
          <p:spPr>
            <a:xfrm>
              <a:off x="1600200" y="3429000"/>
              <a:ext cx="5676840" cy="2773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57320" y="3709440"/>
              <a:ext cx="4727880" cy="2310120"/>
            </a:xfrm>
            <a:prstGeom prst="ellipse">
              <a:avLst/>
            </a:prstGeom>
            <a:solidFill>
              <a:srgbClr val="a2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41240" y="3891960"/>
              <a:ext cx="3780360" cy="184608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74720" y="4077000"/>
              <a:ext cx="3021840" cy="147456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06760" y="4262040"/>
              <a:ext cx="2264760" cy="110304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38640" y="5681520"/>
              <a:ext cx="57528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KIF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4507560" y="5239080"/>
              <a:ext cx="614160" cy="459000"/>
              <a:chOff x="4507560" y="5239080"/>
              <a:chExt cx="614160" cy="459000"/>
            </a:xfrm>
          </p:grpSpPr>
          <p:sp>
            <p:nvSpPr>
              <p:cNvPr id="109" name=""/>
              <p:cNvSpPr/>
              <p:nvPr/>
            </p:nvSpPr>
            <p:spPr>
              <a:xfrm>
                <a:off x="4507560" y="5239080"/>
                <a:ext cx="57528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Times New Roman"/>
                  </a:rPr>
                  <a:t>KIF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854600" y="5335560"/>
                <a:ext cx="26712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916440" y="5040000"/>
              <a:ext cx="612720" cy="461160"/>
              <a:chOff x="3916440" y="5040000"/>
              <a:chExt cx="612720" cy="461160"/>
            </a:xfrm>
          </p:grpSpPr>
          <p:sp>
            <p:nvSpPr>
              <p:cNvPr id="112" name=""/>
              <p:cNvSpPr/>
              <p:nvPr/>
            </p:nvSpPr>
            <p:spPr>
              <a:xfrm>
                <a:off x="3916440" y="5040000"/>
                <a:ext cx="57528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Times New Roman"/>
                  </a:rPr>
                  <a:t>KIF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262040" y="5138640"/>
                <a:ext cx="26712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3225960" y="4892400"/>
              <a:ext cx="612720" cy="461160"/>
              <a:chOff x="3225960" y="4892400"/>
              <a:chExt cx="612720" cy="461160"/>
            </a:xfrm>
          </p:grpSpPr>
          <p:sp>
            <p:nvSpPr>
              <p:cNvPr id="115" name=""/>
              <p:cNvSpPr/>
              <p:nvPr/>
            </p:nvSpPr>
            <p:spPr>
              <a:xfrm>
                <a:off x="3225960" y="4892400"/>
                <a:ext cx="57528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Times New Roman"/>
                  </a:rPr>
                  <a:t>KIF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571560" y="4991040"/>
                <a:ext cx="26712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431800" y="4532040"/>
              <a:ext cx="8600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lat tup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88000" y="4827960"/>
              <a:ext cx="79452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variab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63600" y="4587120"/>
              <a:ext cx="924120" cy="4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logic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connectiv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54880" y="4686480"/>
              <a:ext cx="668160" cy="2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Datalo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5150520" y="5335920"/>
              <a:ext cx="613440" cy="460080"/>
              <a:chOff x="5150520" y="5335920"/>
              <a:chExt cx="613440" cy="460080"/>
            </a:xfrm>
          </p:grpSpPr>
          <p:sp>
            <p:nvSpPr>
              <p:cNvPr id="122" name=""/>
              <p:cNvSpPr/>
              <p:nvPr/>
            </p:nvSpPr>
            <p:spPr>
              <a:xfrm>
                <a:off x="5150520" y="5335920"/>
                <a:ext cx="57528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Times New Roman"/>
                  </a:rPr>
                  <a:t>KIF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496840" y="5433480"/>
                <a:ext cx="26712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5445000" y="4686480"/>
              <a:ext cx="1001880" cy="4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Datalog wit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recurs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080" y="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imes New Roman"/>
              </a:rPr>
              <a:t>K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3560" y="390240"/>
            <a:ext cx="761688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IF Softwa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36512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KIF-based reasoners are available from Stanford (Lisp implement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’s ABE (Agent Building Environment) and RAISE reasoning engine use KIF as their external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ford’s Ontolingua uses KIF as it’s internal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ators (partial) exist for a number of other KR languages, including LOOM, Classic, CLIPS, Prolog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rs for KIF exist which take KIF strings into C++ or Java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&lt;http://www.cs.umbc.edu/kif&gt; for mor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80" y="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imes New Roman"/>
              </a:rPr>
              <a:t>K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560" y="239760"/>
            <a:ext cx="7616880" cy="12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mon Semantic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ared Ontologies and Ontolingu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6440" y="1739880"/>
            <a:ext cx="8331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Ontology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 common vocabulary and agreed upon meanings to describe a subject domai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2629080"/>
            <a:ext cx="71629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On*tol"o*gy (?), n. [Gr. the things which exist (pl.neut. of , , being, p.pr. of to be) + -logy: cf.F. ontologie.]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department of the science of metaphysics which investigates and explain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he nature and essential properties and relations of all being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s such, or the principles and causes of be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69696"/>
                </a:solidFill>
                <a:latin typeface="Times New Roman"/>
              </a:rPr>
              <a:t>Webster's Revised Unabridged Dictionary (G &amp; C. Merriam Co., 1913, edited by Noah Por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8040" y="4575240"/>
            <a:ext cx="701028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not a profoundly new idea 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220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SzPct val="15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cabulary spec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220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SzPct val="15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main the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220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SzPct val="15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eptual schema (for a data 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220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SzPct val="15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-subclass taxono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220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SzPct val="15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imes New Roman"/>
              </a:rPr>
              <a:t>Ont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89120" y="563400"/>
            <a:ext cx="7261200" cy="5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usable Declarative Knowled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0160" y="1464840"/>
            <a:ext cx="8440560" cy="45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arative knowledge is the critical enabler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scale intelligen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operation of object-oriented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ing knowledge is prohibitive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ensive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phisticated expert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must develop capability for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knowledge reuse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a tools and technique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ing and preserving reusable knowledge 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ing knowledge bases from reusable 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imes New Roman"/>
              </a:rPr>
              <a:t>Ont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Gateway Customer</dc:creator>
  <dc:description/>
  <dc:language>en-US</dc:language>
  <cp:lastModifiedBy>tim finin</cp:lastModifiedBy>
  <dcterms:modified xsi:type="dcterms:W3CDTF">1997-09-24T03:11:41Z</dcterms:modified>
  <cp:revision>15</cp:revision>
  <dc:subject/>
  <dc:title>Knowledge Sharing Effort</dc:title>
</cp:coreProperties>
</file>