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6051F-17E6-4A59-93A8-4786F6A36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0666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SE/ACL</a:t>
            </a:r>
            <a:br>
              <a:rPr sz="10600"/>
            </a:br>
            <a:r>
              <a:rPr b="1" lang="en-US" sz="106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Conclusions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-agent communication is a key to realizing the potential of the agent paradig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interoperability is a defining characteristic of agents, standards are  importa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tes for standardization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communicati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interaction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will most develop through natural sele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nature red in tooth and c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44480" y="171360"/>
            <a:ext cx="7656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gent Method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5000" y="1549440"/>
            <a:ext cx="7613640" cy="439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05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SE offers a four-part methodology for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for developing complex agent-based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3508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/construct necessary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600" indent="-11592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tandard,  published ontologies if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9600" indent="-11592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(and publish) new component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9600" indent="-11592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ommon tools, e.g. 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ingua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GFP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3508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ommon representation languag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600" indent="-11592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SQL or KBMS with </a:t>
            </a: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 recommended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3508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n ACL like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Q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communica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600" indent="-11592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with new performatives and protocol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23508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nd define new higher-level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9600" indent="-115920">
              <a:lnSpc>
                <a:spcPct val="10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for negotiation, purchasing, catalog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gent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8400" y="1854360"/>
            <a:ext cx="77468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ince interoperability is a defining characteristic of agents standards are  import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andidates for standardization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communica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interaction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tandards will most develop through natural selection, </a:t>
            </a:r>
            <a:r>
              <a:rPr b="0" i="1" lang="en-US" sz="32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“nature red in tooth and cla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What’s needed tomorr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7360" y="1270080"/>
            <a:ext cx="836928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1840" indent="-231840">
              <a:lnSpc>
                <a:spcPct val="100000"/>
              </a:lnSpc>
              <a:spcBef>
                <a:spcPts val="383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urther develop semantics of A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1440">
              <a:lnSpc>
                <a:spcPct val="100000"/>
              </a:lnSpc>
              <a:spcBef>
                <a:spcPts val="383"/>
              </a:spcBef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Common content languages and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1440">
              <a:lnSpc>
                <a:spcPct val="100000"/>
              </a:lnSpc>
              <a:spcBef>
                <a:spcPts val="383"/>
              </a:spcBef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 language for describing agent actions, beliefs, intenti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383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gent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1440">
              <a:lnSpc>
                <a:spcPct val="100000"/>
              </a:lnSpc>
              <a:spcBef>
                <a:spcPts val="383"/>
              </a:spcBef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harable ontologies for agent properties, behavior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383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Better handle on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1440">
              <a:lnSpc>
                <a:spcPct val="100000"/>
              </a:lnSpc>
              <a:spcBef>
                <a:spcPts val="383"/>
              </a:spcBef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bstractable and applicable to many content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383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Declarative and learnabl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1440">
              <a:lnSpc>
                <a:spcPct val="100000"/>
              </a:lnSpc>
              <a:spcBef>
                <a:spcPts val="383"/>
              </a:spcBef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anguages for defining higher-level protocols based on more primitiv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383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Practical agent knowled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1440">
              <a:lnSpc>
                <a:spcPct val="100000"/>
              </a:lnSpc>
              <a:spcBef>
                <a:spcPts val="96"/>
              </a:spcBef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ocial” mechanisms for distributing information an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1440">
              <a:lnSpc>
                <a:spcPct val="100000"/>
              </a:lnSpc>
              <a:spcBef>
                <a:spcPts val="96"/>
              </a:spcBef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Viewing knowledge sharing as mobile declarative co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rameworks for controlling collections of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1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.g., artificial markets, natural select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ustomer</dc:creator>
  <dc:description/>
  <dc:language>en-US</dc:language>
  <cp:lastModifiedBy>Valued Gateway Customer</cp:lastModifiedBy>
  <cp:revision>0</cp:revision>
  <dc:subject/>
  <dc:title>KSE/ACL Conclusions</dc:title>
</cp:coreProperties>
</file>