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</a:t>
            </a:r>
            <a:br>
              <a:rPr sz="12900"/>
            </a:br>
            <a:r>
              <a:rPr b="1" lang="en-US" sz="129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tandard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2184480"/>
            <a:ext cx="77468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Mobile agents require special implementation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, telescript, safe-Tcl, Java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tationary agents can benefit from some implementation languag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, multi-threading, support for KB-style representation and reason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St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Flu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hat will Microsoft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ince interoperability is a defining characteristic of agents, this is importa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23960" y="2260440"/>
            <a:ext cx="7746840" cy="31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ince interoperability is a defining characteristic of agents, this is importa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ho is doing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Standards eff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Knowledge Sharing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oundation for Intelligent Physical Agents (F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WW Consortium (W3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bject Management Group (OM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ternet Engineering Task Force (IET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ctive Group (Open Group, Boston, U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Candidates for Standard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communication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interactio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ommon computational environment and infrastructure in which our agents ex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communica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High level language agents used among agents to communicate information and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interaction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Rules agents follow in agent-agent inter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ommon representation and reasoning languages, libraries of sharable ontologies and domain models used by 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rogramming languages designed for or well suited to implementing agents (stationary or mobi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1523880"/>
            <a:ext cx="87631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: SRI’s OO and KQML’s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specify  agents and protocols which provide standar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ame servers, brokers, authenticators, certification, logging, visualization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self configuring and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work over a wide range of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rom 10’s to 1000’s of interacting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support interoperability among heterogeneous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, different implementation languages, representation languages, reasoning algorithms, platform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encourage “online plug-and-play  of agents &amp; peop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ort human col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have lightweight implementations and work in a variety of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,  PCs, Workstations, PD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distributed, network-centric and multi-thre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communication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: KQML, ARCOL, SATP,  AgentTalk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a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lingua franca 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mong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supports modeling of huma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360"/>
              </a:spcBef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he target  for the HCI  (e.g. “logical form” meaning re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semantically well-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consistent with the underlying communications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work with a variety of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ontent 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compilable with current programming languages an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interaction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2031840"/>
            <a:ext cx="77468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: ad hoc techniques based on rules or FS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re published protocols for agent-agent and agent-human inte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be the specification for good agent “citizenship” in the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ould have a sound theoretical basis, consistent with the agent communication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23960" y="2006640"/>
            <a:ext cx="7746840" cy="28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aring information and knowledge will require common representation languages and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aring can be facilitated by the use of common KR languages or via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terlingua 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(e.g., KI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ared ontologies and reference domain models are cri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Agent standards</dc:title>
</cp:coreProperties>
</file>