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1E8E8A-932C-4F4D-937E-3791592BD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Motivation: Developed initially to support AR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Book Antiqua"/>
                <a:ea typeface="Book Antiqua"/>
              </a:rPr>
              <a:t>Ro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To fit preexisting software into this environment. We created a KQML router proc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It reduces the need to restructure existing code because the router handles the asynchronously arriving messa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It improved compatibility because much of the communication was between identical rou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Book Antiqua"/>
                <a:ea typeface="Book Antiqua"/>
              </a:rPr>
              <a:t>Facilit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Avoid the hardwiring of addresses and machine names. No configuration files to be modified when processes are moved. All “linking up” is done at run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Routers deal only in KQML expressions, not in their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Handle all communication chores, include responding to asynchronously arriving messages (i.e. acting as a serv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This makes it easy to adapt existing application to asynchronous communication environ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The links between router and application varies depending on the particular implementation. In C we use a pipe, but are developing a new version which relies on shared memory. In lisp, the two processes are task in a single Common Lisp image and so share a global data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(Simple KQML interactions like “What is your name”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Routers deal only in KQML expressions, not in their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Handle all communication chores, include responding to asynchronously arriving messages (i.e. acting as a serv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This makes it easy to adapt existing application to asynchronous communication environ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The links between router and application varies depending on the particular implementation. In C we use a pipe, but are developing a new version which relies on shared memory. In lisp, the two processes are task in a single Common Lisp image and so share a global data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(Simple KQML interactions like “What is your name”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  <a:ea typeface="Book Antiqua"/>
              </a:rPr>
              <a:t>However, it is just an application like any other. E.g.. it has its own rou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291960"/>
            <a:ext cx="9132840" cy="15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692440" y="5178600"/>
            <a:ext cx="3759120" cy="16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 Fi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Mary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timore Cou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0280" y="925560"/>
            <a:ext cx="80787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9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KQML Software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1371600"/>
            <a:ext cx="4572000" cy="51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 agent metadata (advertisements), describing their capabilities and 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 special requ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144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r,  recruit, recommend, forward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such services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144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forwar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144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making and content based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144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recruiting and recomm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144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 forking and answer mer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144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tion and trans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87200" y="1905120"/>
            <a:ext cx="3889440" cy="4648320"/>
            <a:chOff x="187200" y="1905120"/>
            <a:chExt cx="3889440" cy="4648320"/>
          </a:xfrm>
        </p:grpSpPr>
        <p:sp>
          <p:nvSpPr>
            <p:cNvPr id="178" name=""/>
            <p:cNvSpPr/>
            <p:nvPr/>
          </p:nvSpPr>
          <p:spPr>
            <a:xfrm>
              <a:off x="838080" y="1905120"/>
              <a:ext cx="374760" cy="46483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12840" y="1905120"/>
              <a:ext cx="0" cy="40384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0280" y="1905120"/>
              <a:ext cx="0" cy="40384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77760" y="1905120"/>
              <a:ext cx="12960" cy="45720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36800" y="1905120"/>
              <a:ext cx="0" cy="40384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187200" y="5797440"/>
              <a:ext cx="801720" cy="262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279f"/>
                  </a:solidFill>
                  <a:latin typeface="Times New Roman"/>
                  <a:ea typeface="Times New Roman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33440" y="5424480"/>
              <a:ext cx="255960" cy="802080"/>
            </a:xfrm>
            <a:custGeom>
              <a:avLst/>
              <a:gdLst/>
              <a:ahLst/>
              <a:rect l="0" t="0" r="r" b="b"/>
              <a:pathLst>
                <a:path w="711" h="2228">
                  <a:moveTo>
                    <a:pt x="711" y="2228"/>
                  </a:moveTo>
                  <a:lnTo>
                    <a:pt x="141" y="2228"/>
                  </a:lnTo>
                  <a:lnTo>
                    <a:pt x="0" y="1783"/>
                  </a:lnTo>
                  <a:lnTo>
                    <a:pt x="0" y="0"/>
                  </a:lnTo>
                  <a:lnTo>
                    <a:pt x="141" y="445"/>
                  </a:lnTo>
                  <a:lnTo>
                    <a:pt x="141" y="2228"/>
                  </a:lnTo>
                  <a:lnTo>
                    <a:pt x="141" y="445"/>
                  </a:lnTo>
                  <a:lnTo>
                    <a:pt x="711" y="445"/>
                  </a:lnTo>
                  <a:lnTo>
                    <a:pt x="569" y="0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711" y="445"/>
                  </a:lnTo>
                  <a:lnTo>
                    <a:pt x="711" y="2228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44520" y="5764320"/>
              <a:ext cx="1068480" cy="0"/>
            </a:xfrm>
            <a:prstGeom prst="line">
              <a:avLst/>
            </a:prstGeom>
            <a:ln w="12600">
              <a:solidFill>
                <a:srgbClr val="00279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81440" y="5141880"/>
              <a:ext cx="1157760" cy="1182960"/>
            </a:xfrm>
            <a:custGeom>
              <a:avLst/>
              <a:gdLst/>
              <a:ahLst/>
              <a:rect l="0" t="0" r="r" b="b"/>
              <a:pathLst>
                <a:path w="3216" h="3286">
                  <a:moveTo>
                    <a:pt x="3216" y="3286"/>
                  </a:moveTo>
                  <a:lnTo>
                    <a:pt x="642" y="3286"/>
                  </a:lnTo>
                  <a:lnTo>
                    <a:pt x="0" y="2629"/>
                  </a:lnTo>
                  <a:lnTo>
                    <a:pt x="0" y="0"/>
                  </a:lnTo>
                  <a:lnTo>
                    <a:pt x="642" y="657"/>
                  </a:lnTo>
                  <a:lnTo>
                    <a:pt x="642" y="3286"/>
                  </a:lnTo>
                  <a:lnTo>
                    <a:pt x="642" y="657"/>
                  </a:lnTo>
                  <a:lnTo>
                    <a:pt x="3216" y="657"/>
                  </a:lnTo>
                  <a:lnTo>
                    <a:pt x="2573" y="0"/>
                  </a:lnTo>
                  <a:lnTo>
                    <a:pt x="0" y="0"/>
                  </a:lnTo>
                  <a:lnTo>
                    <a:pt x="2573" y="0"/>
                  </a:lnTo>
                  <a:lnTo>
                    <a:pt x="3216" y="657"/>
                  </a:lnTo>
                  <a:lnTo>
                    <a:pt x="3216" y="3286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3179880" y="5734080"/>
              <a:ext cx="784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279f"/>
                  </a:solidFill>
                  <a:latin typeface="Times New Roman"/>
                  <a:ea typeface="Times New Roman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82880" y="5335560"/>
              <a:ext cx="255960" cy="802080"/>
            </a:xfrm>
            <a:custGeom>
              <a:avLst/>
              <a:gdLst/>
              <a:ahLst/>
              <a:rect l="0" t="0" r="r" b="b"/>
              <a:pathLst>
                <a:path w="711" h="2228">
                  <a:moveTo>
                    <a:pt x="711" y="2228"/>
                  </a:moveTo>
                  <a:lnTo>
                    <a:pt x="141" y="2228"/>
                  </a:lnTo>
                  <a:lnTo>
                    <a:pt x="0" y="1783"/>
                  </a:lnTo>
                  <a:lnTo>
                    <a:pt x="0" y="0"/>
                  </a:lnTo>
                  <a:lnTo>
                    <a:pt x="141" y="445"/>
                  </a:lnTo>
                  <a:lnTo>
                    <a:pt x="141" y="2228"/>
                  </a:lnTo>
                  <a:lnTo>
                    <a:pt x="141" y="445"/>
                  </a:lnTo>
                  <a:lnTo>
                    <a:pt x="711" y="445"/>
                  </a:lnTo>
                  <a:lnTo>
                    <a:pt x="569" y="0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711" y="445"/>
                  </a:lnTo>
                  <a:lnTo>
                    <a:pt x="711" y="222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84360" y="5769000"/>
              <a:ext cx="480960" cy="0"/>
            </a:xfrm>
            <a:prstGeom prst="line">
              <a:avLst/>
            </a:prstGeom>
            <a:ln w="7632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33440" y="2259000"/>
              <a:ext cx="251280" cy="798840"/>
            </a:xfrm>
            <a:custGeom>
              <a:avLst/>
              <a:gdLst/>
              <a:ahLst/>
              <a:rect l="0" t="0" r="r" b="b"/>
              <a:pathLst>
                <a:path w="698" h="2219">
                  <a:moveTo>
                    <a:pt x="698" y="2219"/>
                  </a:moveTo>
                  <a:lnTo>
                    <a:pt x="139" y="2219"/>
                  </a:lnTo>
                  <a:lnTo>
                    <a:pt x="0" y="1775"/>
                  </a:lnTo>
                  <a:lnTo>
                    <a:pt x="0" y="0"/>
                  </a:lnTo>
                  <a:lnTo>
                    <a:pt x="139" y="443"/>
                  </a:lnTo>
                  <a:lnTo>
                    <a:pt x="139" y="2219"/>
                  </a:lnTo>
                  <a:lnTo>
                    <a:pt x="139" y="443"/>
                  </a:lnTo>
                  <a:lnTo>
                    <a:pt x="698" y="443"/>
                  </a:lnTo>
                  <a:lnTo>
                    <a:pt x="559" y="0"/>
                  </a:lnTo>
                  <a:lnTo>
                    <a:pt x="0" y="0"/>
                  </a:lnTo>
                  <a:lnTo>
                    <a:pt x="559" y="0"/>
                  </a:lnTo>
                  <a:lnTo>
                    <a:pt x="698" y="443"/>
                  </a:lnTo>
                  <a:lnTo>
                    <a:pt x="698" y="2219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44520" y="2598840"/>
              <a:ext cx="1046160" cy="0"/>
            </a:xfrm>
            <a:prstGeom prst="line">
              <a:avLst/>
            </a:prstGeom>
            <a:ln w="12600">
              <a:solidFill>
                <a:srgbClr val="00279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81440" y="1976400"/>
              <a:ext cx="1157760" cy="1148040"/>
            </a:xfrm>
            <a:custGeom>
              <a:avLst/>
              <a:gdLst/>
              <a:ahLst/>
              <a:rect l="0" t="0" r="r" b="b"/>
              <a:pathLst>
                <a:path w="3216" h="3189">
                  <a:moveTo>
                    <a:pt x="3216" y="3189"/>
                  </a:moveTo>
                  <a:lnTo>
                    <a:pt x="642" y="3189"/>
                  </a:lnTo>
                  <a:lnTo>
                    <a:pt x="0" y="2551"/>
                  </a:lnTo>
                  <a:lnTo>
                    <a:pt x="0" y="0"/>
                  </a:lnTo>
                  <a:lnTo>
                    <a:pt x="642" y="637"/>
                  </a:lnTo>
                  <a:lnTo>
                    <a:pt x="642" y="3189"/>
                  </a:lnTo>
                  <a:lnTo>
                    <a:pt x="642" y="637"/>
                  </a:lnTo>
                  <a:lnTo>
                    <a:pt x="3216" y="637"/>
                  </a:lnTo>
                  <a:lnTo>
                    <a:pt x="2573" y="0"/>
                  </a:lnTo>
                  <a:lnTo>
                    <a:pt x="0" y="0"/>
                  </a:lnTo>
                  <a:lnTo>
                    <a:pt x="2573" y="0"/>
                  </a:lnTo>
                  <a:lnTo>
                    <a:pt x="3216" y="637"/>
                  </a:lnTo>
                  <a:lnTo>
                    <a:pt x="3216" y="3189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3179880" y="2568600"/>
              <a:ext cx="768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279f"/>
                  </a:solidFill>
                  <a:latin typeface="Times New Roman"/>
                  <a:ea typeface="Times New Roman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89400" y="3124080"/>
              <a:ext cx="6872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82880" y="2170080"/>
              <a:ext cx="251280" cy="798840"/>
            </a:xfrm>
            <a:custGeom>
              <a:avLst/>
              <a:gdLst/>
              <a:ahLst/>
              <a:rect l="0" t="0" r="r" b="b"/>
              <a:pathLst>
                <a:path w="698" h="2219">
                  <a:moveTo>
                    <a:pt x="698" y="2219"/>
                  </a:moveTo>
                  <a:lnTo>
                    <a:pt x="139" y="2219"/>
                  </a:lnTo>
                  <a:lnTo>
                    <a:pt x="0" y="1775"/>
                  </a:lnTo>
                  <a:lnTo>
                    <a:pt x="0" y="0"/>
                  </a:lnTo>
                  <a:lnTo>
                    <a:pt x="139" y="443"/>
                  </a:lnTo>
                  <a:lnTo>
                    <a:pt x="139" y="2219"/>
                  </a:lnTo>
                  <a:lnTo>
                    <a:pt x="139" y="443"/>
                  </a:lnTo>
                  <a:lnTo>
                    <a:pt x="698" y="443"/>
                  </a:lnTo>
                  <a:lnTo>
                    <a:pt x="559" y="0"/>
                  </a:lnTo>
                  <a:lnTo>
                    <a:pt x="0" y="0"/>
                  </a:lnTo>
                  <a:lnTo>
                    <a:pt x="559" y="0"/>
                  </a:lnTo>
                  <a:lnTo>
                    <a:pt x="698" y="443"/>
                  </a:lnTo>
                  <a:lnTo>
                    <a:pt x="698" y="221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84360" y="2603520"/>
              <a:ext cx="471600" cy="0"/>
            </a:xfrm>
            <a:prstGeom prst="line">
              <a:avLst/>
            </a:prstGeom>
            <a:ln w="7632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57480" y="3711600"/>
              <a:ext cx="251280" cy="798840"/>
            </a:xfrm>
            <a:custGeom>
              <a:avLst/>
              <a:gdLst/>
              <a:ahLst/>
              <a:rect l="0" t="0" r="r" b="b"/>
              <a:pathLst>
                <a:path w="698" h="2219">
                  <a:moveTo>
                    <a:pt x="698" y="2219"/>
                  </a:moveTo>
                  <a:lnTo>
                    <a:pt x="139" y="2219"/>
                  </a:lnTo>
                  <a:lnTo>
                    <a:pt x="0" y="1775"/>
                  </a:lnTo>
                  <a:lnTo>
                    <a:pt x="0" y="0"/>
                  </a:lnTo>
                  <a:lnTo>
                    <a:pt x="139" y="443"/>
                  </a:lnTo>
                  <a:lnTo>
                    <a:pt x="139" y="2219"/>
                  </a:lnTo>
                  <a:lnTo>
                    <a:pt x="139" y="443"/>
                  </a:lnTo>
                  <a:lnTo>
                    <a:pt x="698" y="443"/>
                  </a:lnTo>
                  <a:lnTo>
                    <a:pt x="559" y="0"/>
                  </a:lnTo>
                  <a:lnTo>
                    <a:pt x="0" y="0"/>
                  </a:lnTo>
                  <a:lnTo>
                    <a:pt x="559" y="0"/>
                  </a:lnTo>
                  <a:lnTo>
                    <a:pt x="698" y="443"/>
                  </a:lnTo>
                  <a:lnTo>
                    <a:pt x="698" y="2219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8560" y="4051440"/>
              <a:ext cx="1046160" cy="0"/>
            </a:xfrm>
            <a:prstGeom prst="line">
              <a:avLst/>
            </a:prstGeom>
            <a:ln w="12600">
              <a:solidFill>
                <a:srgbClr val="00279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05120" y="3429000"/>
              <a:ext cx="1157760" cy="1148040"/>
            </a:xfrm>
            <a:custGeom>
              <a:avLst/>
              <a:gdLst/>
              <a:ahLst/>
              <a:rect l="0" t="0" r="r" b="b"/>
              <a:pathLst>
                <a:path w="3216" h="3189">
                  <a:moveTo>
                    <a:pt x="3216" y="3189"/>
                  </a:moveTo>
                  <a:lnTo>
                    <a:pt x="642" y="3189"/>
                  </a:lnTo>
                  <a:lnTo>
                    <a:pt x="0" y="2551"/>
                  </a:lnTo>
                  <a:lnTo>
                    <a:pt x="0" y="0"/>
                  </a:lnTo>
                  <a:lnTo>
                    <a:pt x="642" y="637"/>
                  </a:lnTo>
                  <a:lnTo>
                    <a:pt x="642" y="3189"/>
                  </a:lnTo>
                  <a:lnTo>
                    <a:pt x="642" y="637"/>
                  </a:lnTo>
                  <a:lnTo>
                    <a:pt x="3216" y="637"/>
                  </a:lnTo>
                  <a:lnTo>
                    <a:pt x="2573" y="0"/>
                  </a:lnTo>
                  <a:lnTo>
                    <a:pt x="0" y="0"/>
                  </a:lnTo>
                  <a:lnTo>
                    <a:pt x="2573" y="0"/>
                  </a:lnTo>
                  <a:lnTo>
                    <a:pt x="3216" y="637"/>
                  </a:lnTo>
                  <a:lnTo>
                    <a:pt x="3216" y="3189"/>
                  </a:lnTo>
                  <a:close/>
                </a:path>
              </a:pathLst>
            </a:custGeom>
            <a:solidFill>
              <a:srgbClr val="e5405d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3103560" y="3998880"/>
              <a:ext cx="960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rok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06560" y="3622680"/>
              <a:ext cx="251280" cy="798840"/>
            </a:xfrm>
            <a:custGeom>
              <a:avLst/>
              <a:gdLst/>
              <a:ahLst/>
              <a:rect l="0" t="0" r="r" b="b"/>
              <a:pathLst>
                <a:path w="698" h="2219">
                  <a:moveTo>
                    <a:pt x="698" y="2219"/>
                  </a:moveTo>
                  <a:lnTo>
                    <a:pt x="139" y="2219"/>
                  </a:lnTo>
                  <a:lnTo>
                    <a:pt x="0" y="1775"/>
                  </a:lnTo>
                  <a:lnTo>
                    <a:pt x="0" y="0"/>
                  </a:lnTo>
                  <a:lnTo>
                    <a:pt x="139" y="443"/>
                  </a:lnTo>
                  <a:lnTo>
                    <a:pt x="139" y="2219"/>
                  </a:lnTo>
                  <a:lnTo>
                    <a:pt x="139" y="443"/>
                  </a:lnTo>
                  <a:lnTo>
                    <a:pt x="698" y="443"/>
                  </a:lnTo>
                  <a:lnTo>
                    <a:pt x="559" y="0"/>
                  </a:lnTo>
                  <a:lnTo>
                    <a:pt x="0" y="0"/>
                  </a:lnTo>
                  <a:lnTo>
                    <a:pt x="559" y="0"/>
                  </a:lnTo>
                  <a:lnTo>
                    <a:pt x="698" y="443"/>
                  </a:lnTo>
                  <a:lnTo>
                    <a:pt x="698" y="221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08400" y="4056120"/>
              <a:ext cx="471240" cy="0"/>
            </a:xfrm>
            <a:prstGeom prst="line">
              <a:avLst/>
            </a:prstGeom>
            <a:ln w="7632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70080" y="2400480"/>
            <a:ext cx="1778040" cy="20541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57440" y="3855960"/>
            <a:ext cx="923760" cy="3589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roker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86360" y="1521000"/>
            <a:ext cx="379728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re implementing a general broker which has a more sophisticated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8432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eneral broker in Java with a simple database for advertis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8432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domain/language/ontology specific KBs which can do “smart matching” between advertisements and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18432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KQML speaking agents, in f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48240" y="2274840"/>
            <a:ext cx="923760" cy="600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38520" y="3129120"/>
            <a:ext cx="923760" cy="600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29160" y="3983040"/>
            <a:ext cx="923760" cy="600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17720" y="3083040"/>
            <a:ext cx="854280" cy="345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138400" y="3151080"/>
            <a:ext cx="679320" cy="873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17720" y="2556000"/>
            <a:ext cx="789120" cy="527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08360" y="3143160"/>
            <a:ext cx="798480" cy="119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-182520" y="1743120"/>
            <a:ext cx="1025640" cy="4648320"/>
            <a:chOff x="-182520" y="1743120"/>
            <a:chExt cx="1025640" cy="4648320"/>
          </a:xfrm>
        </p:grpSpPr>
        <p:sp>
          <p:nvSpPr>
            <p:cNvPr id="215" name=""/>
            <p:cNvSpPr/>
            <p:nvPr/>
          </p:nvSpPr>
          <p:spPr>
            <a:xfrm>
              <a:off x="468360" y="1743120"/>
              <a:ext cx="374760" cy="46483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3120" y="1743120"/>
              <a:ext cx="0" cy="40384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0200" y="1743120"/>
              <a:ext cx="0" cy="40384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8040" y="1743120"/>
              <a:ext cx="12600" cy="45720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6720" y="1743120"/>
              <a:ext cx="0" cy="40384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-182520" y="5635800"/>
              <a:ext cx="801720" cy="262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279f"/>
                  </a:solidFill>
                  <a:latin typeface="Times New Roman"/>
                  <a:ea typeface="Times New Roman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 txBox="1"/>
          <p:nvPr/>
        </p:nvSpPr>
        <p:spPr>
          <a:xfrm>
            <a:off x="2170080" y="209232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695760" y="2324160"/>
            <a:ext cx="876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KB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695760" y="3168720"/>
            <a:ext cx="876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K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695760" y="4037040"/>
            <a:ext cx="876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KB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54040" y="2874960"/>
            <a:ext cx="554040" cy="72720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06800" y="2662200"/>
            <a:ext cx="577800" cy="101592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47880" y="3036960"/>
            <a:ext cx="162000" cy="162000"/>
          </a:xfrm>
          <a:prstGeom prst="ellipse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68320" y="3351240"/>
            <a:ext cx="355680" cy="154080"/>
            <a:chOff x="868320" y="3351240"/>
            <a:chExt cx="355680" cy="154080"/>
          </a:xfrm>
        </p:grpSpPr>
        <p:sp>
          <p:nvSpPr>
            <p:cNvPr id="229" name=""/>
            <p:cNvSpPr/>
            <p:nvPr/>
          </p:nvSpPr>
          <p:spPr>
            <a:xfrm>
              <a:off x="878040" y="3351240"/>
              <a:ext cx="34596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68320" y="3481560"/>
              <a:ext cx="34596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22400" y="3351240"/>
            <a:ext cx="355680" cy="154080"/>
            <a:chOff x="1922400" y="3351240"/>
            <a:chExt cx="355680" cy="154080"/>
          </a:xfrm>
        </p:grpSpPr>
        <p:sp>
          <p:nvSpPr>
            <p:cNvPr id="232" name=""/>
            <p:cNvSpPr/>
            <p:nvPr/>
          </p:nvSpPr>
          <p:spPr>
            <a:xfrm>
              <a:off x="1932120" y="3351240"/>
              <a:ext cx="34596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2400" y="3481560"/>
              <a:ext cx="34596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809640" y="2714760"/>
            <a:ext cx="13622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141720" y="5280120"/>
            <a:ext cx="15080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ro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ra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902040" y="4699080"/>
            <a:ext cx="92160" cy="64620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838160" y="3843360"/>
            <a:ext cx="536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Rou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21240" y="1397160"/>
            <a:ext cx="4572000" cy="51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imple agent that delivers messages intended for other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2412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A sends Msg Router              (tell :from A :to B ..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function as a protocol gate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2412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, tcp/ip, corba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satisfy mobile code security constra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2412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Java applet can only talk to the server from which it c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14320" y="1905120"/>
            <a:ext cx="374760" cy="4648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9080" y="1905120"/>
            <a:ext cx="0" cy="40384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76160" y="1905120"/>
            <a:ext cx="0" cy="40384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54000" y="1905120"/>
            <a:ext cx="12960" cy="45720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12680" y="1905120"/>
            <a:ext cx="0" cy="40384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3440" y="5797440"/>
            <a:ext cx="80172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5424480"/>
            <a:ext cx="255960" cy="802080"/>
          </a:xfrm>
          <a:custGeom>
            <a:avLst/>
            <a:gdLst/>
            <a:ahLst/>
            <a:rect l="0" t="0" r="r" b="b"/>
            <a:pathLst>
              <a:path w="711" h="2228">
                <a:moveTo>
                  <a:pt x="711" y="2228"/>
                </a:moveTo>
                <a:lnTo>
                  <a:pt x="141" y="2228"/>
                </a:lnTo>
                <a:lnTo>
                  <a:pt x="0" y="1783"/>
                </a:lnTo>
                <a:lnTo>
                  <a:pt x="0" y="0"/>
                </a:lnTo>
                <a:lnTo>
                  <a:pt x="141" y="445"/>
                </a:lnTo>
                <a:lnTo>
                  <a:pt x="141" y="2228"/>
                </a:lnTo>
                <a:lnTo>
                  <a:pt x="141" y="445"/>
                </a:lnTo>
                <a:lnTo>
                  <a:pt x="711" y="445"/>
                </a:lnTo>
                <a:lnTo>
                  <a:pt x="569" y="0"/>
                </a:lnTo>
                <a:lnTo>
                  <a:pt x="0" y="0"/>
                </a:lnTo>
                <a:lnTo>
                  <a:pt x="569" y="0"/>
                </a:lnTo>
                <a:lnTo>
                  <a:pt x="711" y="445"/>
                </a:lnTo>
                <a:lnTo>
                  <a:pt x="711" y="2228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20760" y="5764320"/>
            <a:ext cx="1068480" cy="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57680" y="5141880"/>
            <a:ext cx="1157760" cy="1182960"/>
          </a:xfrm>
          <a:custGeom>
            <a:avLst/>
            <a:gdLst/>
            <a:ahLst/>
            <a:rect l="0" t="0" r="r" b="b"/>
            <a:pathLst>
              <a:path w="3216" h="3286">
                <a:moveTo>
                  <a:pt x="3216" y="3286"/>
                </a:moveTo>
                <a:lnTo>
                  <a:pt x="642" y="3286"/>
                </a:lnTo>
                <a:lnTo>
                  <a:pt x="0" y="2629"/>
                </a:lnTo>
                <a:lnTo>
                  <a:pt x="0" y="0"/>
                </a:lnTo>
                <a:lnTo>
                  <a:pt x="642" y="657"/>
                </a:lnTo>
                <a:lnTo>
                  <a:pt x="642" y="3286"/>
                </a:lnTo>
                <a:lnTo>
                  <a:pt x="642" y="657"/>
                </a:lnTo>
                <a:lnTo>
                  <a:pt x="3216" y="657"/>
                </a:lnTo>
                <a:lnTo>
                  <a:pt x="2573" y="0"/>
                </a:lnTo>
                <a:lnTo>
                  <a:pt x="0" y="0"/>
                </a:lnTo>
                <a:lnTo>
                  <a:pt x="2573" y="0"/>
                </a:lnTo>
                <a:lnTo>
                  <a:pt x="3216" y="657"/>
                </a:lnTo>
                <a:lnTo>
                  <a:pt x="3216" y="3286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901960" y="5429160"/>
            <a:ext cx="1415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59120" y="5335560"/>
            <a:ext cx="255960" cy="802080"/>
          </a:xfrm>
          <a:custGeom>
            <a:avLst/>
            <a:gdLst/>
            <a:ahLst/>
            <a:rect l="0" t="0" r="r" b="b"/>
            <a:pathLst>
              <a:path w="711" h="2228">
                <a:moveTo>
                  <a:pt x="711" y="2228"/>
                </a:moveTo>
                <a:lnTo>
                  <a:pt x="141" y="2228"/>
                </a:lnTo>
                <a:lnTo>
                  <a:pt x="0" y="1783"/>
                </a:lnTo>
                <a:lnTo>
                  <a:pt x="0" y="0"/>
                </a:lnTo>
                <a:lnTo>
                  <a:pt x="141" y="445"/>
                </a:lnTo>
                <a:lnTo>
                  <a:pt x="141" y="2228"/>
                </a:lnTo>
                <a:lnTo>
                  <a:pt x="141" y="445"/>
                </a:lnTo>
                <a:lnTo>
                  <a:pt x="711" y="445"/>
                </a:lnTo>
                <a:lnTo>
                  <a:pt x="569" y="0"/>
                </a:lnTo>
                <a:lnTo>
                  <a:pt x="0" y="0"/>
                </a:lnTo>
                <a:lnTo>
                  <a:pt x="569" y="0"/>
                </a:lnTo>
                <a:lnTo>
                  <a:pt x="711" y="445"/>
                </a:lnTo>
                <a:lnTo>
                  <a:pt x="711" y="2228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60600" y="5769000"/>
            <a:ext cx="480960" cy="0"/>
          </a:xfrm>
          <a:prstGeom prst="line">
            <a:avLst/>
          </a:prstGeom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2259000"/>
            <a:ext cx="251280" cy="798840"/>
          </a:xfrm>
          <a:custGeom>
            <a:avLst/>
            <a:gdLst/>
            <a:ahLst/>
            <a:rect l="0" t="0" r="r" b="b"/>
            <a:pathLst>
              <a:path w="698" h="2219">
                <a:moveTo>
                  <a:pt x="698" y="2219"/>
                </a:moveTo>
                <a:lnTo>
                  <a:pt x="139" y="2219"/>
                </a:lnTo>
                <a:lnTo>
                  <a:pt x="0" y="1775"/>
                </a:lnTo>
                <a:lnTo>
                  <a:pt x="0" y="0"/>
                </a:lnTo>
                <a:lnTo>
                  <a:pt x="139" y="443"/>
                </a:lnTo>
                <a:lnTo>
                  <a:pt x="139" y="2219"/>
                </a:lnTo>
                <a:lnTo>
                  <a:pt x="139" y="443"/>
                </a:lnTo>
                <a:lnTo>
                  <a:pt x="698" y="443"/>
                </a:lnTo>
                <a:lnTo>
                  <a:pt x="559" y="0"/>
                </a:lnTo>
                <a:lnTo>
                  <a:pt x="0" y="0"/>
                </a:lnTo>
                <a:lnTo>
                  <a:pt x="559" y="0"/>
                </a:lnTo>
                <a:lnTo>
                  <a:pt x="698" y="443"/>
                </a:lnTo>
                <a:lnTo>
                  <a:pt x="698" y="2219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220760" y="2590920"/>
            <a:ext cx="1014480" cy="792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57680" y="1976400"/>
            <a:ext cx="1157760" cy="1148040"/>
          </a:xfrm>
          <a:custGeom>
            <a:avLst/>
            <a:gdLst/>
            <a:ahLst/>
            <a:rect l="0" t="0" r="r" b="b"/>
            <a:pathLst>
              <a:path w="3216" h="3189">
                <a:moveTo>
                  <a:pt x="3216" y="3189"/>
                </a:moveTo>
                <a:lnTo>
                  <a:pt x="642" y="3189"/>
                </a:lnTo>
                <a:lnTo>
                  <a:pt x="0" y="2551"/>
                </a:lnTo>
                <a:lnTo>
                  <a:pt x="0" y="0"/>
                </a:lnTo>
                <a:lnTo>
                  <a:pt x="642" y="637"/>
                </a:lnTo>
                <a:lnTo>
                  <a:pt x="642" y="3189"/>
                </a:lnTo>
                <a:lnTo>
                  <a:pt x="642" y="637"/>
                </a:lnTo>
                <a:lnTo>
                  <a:pt x="3216" y="637"/>
                </a:lnTo>
                <a:lnTo>
                  <a:pt x="2573" y="0"/>
                </a:lnTo>
                <a:lnTo>
                  <a:pt x="0" y="0"/>
                </a:lnTo>
                <a:lnTo>
                  <a:pt x="2573" y="0"/>
                </a:lnTo>
                <a:lnTo>
                  <a:pt x="3216" y="637"/>
                </a:lnTo>
                <a:lnTo>
                  <a:pt x="3216" y="3189"/>
                </a:lnTo>
                <a:close/>
              </a:path>
            </a:pathLst>
          </a:custGeom>
          <a:solidFill>
            <a:srgbClr val="cecece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65640" y="3124080"/>
            <a:ext cx="68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59120" y="2170080"/>
            <a:ext cx="251280" cy="798840"/>
          </a:xfrm>
          <a:custGeom>
            <a:avLst/>
            <a:gdLst/>
            <a:ahLst/>
            <a:rect l="0" t="0" r="r" b="b"/>
            <a:pathLst>
              <a:path w="698" h="2219">
                <a:moveTo>
                  <a:pt x="698" y="2219"/>
                </a:moveTo>
                <a:lnTo>
                  <a:pt x="139" y="2219"/>
                </a:lnTo>
                <a:lnTo>
                  <a:pt x="0" y="1775"/>
                </a:lnTo>
                <a:lnTo>
                  <a:pt x="0" y="0"/>
                </a:lnTo>
                <a:lnTo>
                  <a:pt x="139" y="443"/>
                </a:lnTo>
                <a:lnTo>
                  <a:pt x="139" y="2219"/>
                </a:lnTo>
                <a:lnTo>
                  <a:pt x="139" y="443"/>
                </a:lnTo>
                <a:lnTo>
                  <a:pt x="698" y="443"/>
                </a:lnTo>
                <a:lnTo>
                  <a:pt x="559" y="0"/>
                </a:lnTo>
                <a:lnTo>
                  <a:pt x="0" y="0"/>
                </a:lnTo>
                <a:lnTo>
                  <a:pt x="559" y="0"/>
                </a:lnTo>
                <a:lnTo>
                  <a:pt x="698" y="443"/>
                </a:lnTo>
                <a:lnTo>
                  <a:pt x="698" y="221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60600" y="2603520"/>
            <a:ext cx="471600" cy="0"/>
          </a:xfrm>
          <a:prstGeom prst="line">
            <a:avLst/>
          </a:prstGeom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33720" y="3711600"/>
            <a:ext cx="251280" cy="798840"/>
          </a:xfrm>
          <a:custGeom>
            <a:avLst/>
            <a:gdLst/>
            <a:ahLst/>
            <a:rect l="0" t="0" r="r" b="b"/>
            <a:pathLst>
              <a:path w="698" h="2219">
                <a:moveTo>
                  <a:pt x="698" y="2219"/>
                </a:moveTo>
                <a:lnTo>
                  <a:pt x="139" y="2219"/>
                </a:lnTo>
                <a:lnTo>
                  <a:pt x="0" y="1775"/>
                </a:lnTo>
                <a:lnTo>
                  <a:pt x="0" y="0"/>
                </a:lnTo>
                <a:lnTo>
                  <a:pt x="139" y="443"/>
                </a:lnTo>
                <a:lnTo>
                  <a:pt x="139" y="2219"/>
                </a:lnTo>
                <a:lnTo>
                  <a:pt x="139" y="443"/>
                </a:lnTo>
                <a:lnTo>
                  <a:pt x="698" y="443"/>
                </a:lnTo>
                <a:lnTo>
                  <a:pt x="559" y="0"/>
                </a:lnTo>
                <a:lnTo>
                  <a:pt x="0" y="0"/>
                </a:lnTo>
                <a:lnTo>
                  <a:pt x="559" y="0"/>
                </a:lnTo>
                <a:lnTo>
                  <a:pt x="698" y="443"/>
                </a:lnTo>
                <a:lnTo>
                  <a:pt x="698" y="2219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44440" y="4051440"/>
            <a:ext cx="1046160" cy="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81360" y="3429000"/>
            <a:ext cx="1157760" cy="1148040"/>
          </a:xfrm>
          <a:custGeom>
            <a:avLst/>
            <a:gdLst/>
            <a:ahLst/>
            <a:rect l="0" t="0" r="r" b="b"/>
            <a:pathLst>
              <a:path w="3216" h="3189">
                <a:moveTo>
                  <a:pt x="3216" y="3189"/>
                </a:moveTo>
                <a:lnTo>
                  <a:pt x="642" y="3189"/>
                </a:lnTo>
                <a:lnTo>
                  <a:pt x="0" y="2551"/>
                </a:lnTo>
                <a:lnTo>
                  <a:pt x="0" y="0"/>
                </a:lnTo>
                <a:lnTo>
                  <a:pt x="642" y="637"/>
                </a:lnTo>
                <a:lnTo>
                  <a:pt x="642" y="3189"/>
                </a:lnTo>
                <a:lnTo>
                  <a:pt x="642" y="637"/>
                </a:lnTo>
                <a:lnTo>
                  <a:pt x="3216" y="637"/>
                </a:lnTo>
                <a:lnTo>
                  <a:pt x="2573" y="0"/>
                </a:lnTo>
                <a:lnTo>
                  <a:pt x="0" y="0"/>
                </a:lnTo>
                <a:lnTo>
                  <a:pt x="2573" y="0"/>
                </a:lnTo>
                <a:lnTo>
                  <a:pt x="3216" y="637"/>
                </a:lnTo>
                <a:lnTo>
                  <a:pt x="3216" y="3189"/>
                </a:lnTo>
                <a:close/>
              </a:path>
            </a:pathLst>
          </a:custGeom>
          <a:solidFill>
            <a:srgbClr val="e5405d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56040" y="3790800"/>
            <a:ext cx="9460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82800" y="3622680"/>
            <a:ext cx="251280" cy="798840"/>
          </a:xfrm>
          <a:custGeom>
            <a:avLst/>
            <a:gdLst/>
            <a:ahLst/>
            <a:rect l="0" t="0" r="r" b="b"/>
            <a:pathLst>
              <a:path w="698" h="2219">
                <a:moveTo>
                  <a:pt x="698" y="2219"/>
                </a:moveTo>
                <a:lnTo>
                  <a:pt x="139" y="2219"/>
                </a:lnTo>
                <a:lnTo>
                  <a:pt x="0" y="1775"/>
                </a:lnTo>
                <a:lnTo>
                  <a:pt x="0" y="0"/>
                </a:lnTo>
                <a:lnTo>
                  <a:pt x="139" y="443"/>
                </a:lnTo>
                <a:lnTo>
                  <a:pt x="139" y="2219"/>
                </a:lnTo>
                <a:lnTo>
                  <a:pt x="139" y="443"/>
                </a:lnTo>
                <a:lnTo>
                  <a:pt x="698" y="443"/>
                </a:lnTo>
                <a:lnTo>
                  <a:pt x="559" y="0"/>
                </a:lnTo>
                <a:lnTo>
                  <a:pt x="0" y="0"/>
                </a:lnTo>
                <a:lnTo>
                  <a:pt x="559" y="0"/>
                </a:lnTo>
                <a:lnTo>
                  <a:pt x="698" y="443"/>
                </a:lnTo>
                <a:lnTo>
                  <a:pt x="698" y="221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84280" y="4056120"/>
            <a:ext cx="471600" cy="0"/>
          </a:xfrm>
          <a:prstGeom prst="line">
            <a:avLst/>
          </a:prstGeom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533600" y="4152960"/>
            <a:ext cx="625680" cy="1632240"/>
            <a:chOff x="1533600" y="4152960"/>
            <a:chExt cx="625680" cy="1632240"/>
          </a:xfrm>
        </p:grpSpPr>
        <p:sp>
          <p:nvSpPr>
            <p:cNvPr id="265" name=""/>
            <p:cNvSpPr/>
            <p:nvPr/>
          </p:nvSpPr>
          <p:spPr>
            <a:xfrm>
              <a:off x="1533600" y="4962600"/>
              <a:ext cx="617760" cy="822600"/>
            </a:xfrm>
            <a:custGeom>
              <a:avLst/>
              <a:gdLst/>
              <a:ahLst/>
              <a:rect l="0" t="0" r="r" b="b"/>
              <a:pathLst>
                <a:path fill="none" w="1716" h="2285">
                  <a:moveTo>
                    <a:pt x="0" y="0"/>
                  </a:moveTo>
                  <a:lnTo>
                    <a:pt x="0" y="0"/>
                  </a:lnTo>
                  <a:cubicBezTo>
                    <a:pt x="0" y="401"/>
                    <a:pt x="79" y="795"/>
                    <a:pt x="230" y="1143"/>
                  </a:cubicBezTo>
                  <a:cubicBezTo>
                    <a:pt x="381" y="1490"/>
                    <a:pt x="597" y="1778"/>
                    <a:pt x="858" y="1979"/>
                  </a:cubicBezTo>
                  <a:cubicBezTo>
                    <a:pt x="1119" y="2179"/>
                    <a:pt x="1415" y="2285"/>
                    <a:pt x="1716" y="2285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41520" y="4152960"/>
              <a:ext cx="617760" cy="819360"/>
            </a:xfrm>
            <a:custGeom>
              <a:avLst/>
              <a:gdLst/>
              <a:ahLst/>
              <a:rect l="0" t="0" r="r" b="b"/>
              <a:pathLst>
                <a:path fill="none" w="1716" h="2276">
                  <a:moveTo>
                    <a:pt x="1716" y="0"/>
                  </a:moveTo>
                  <a:lnTo>
                    <a:pt x="1716" y="0"/>
                  </a:lnTo>
                  <a:cubicBezTo>
                    <a:pt x="1415" y="0"/>
                    <a:pt x="1119" y="105"/>
                    <a:pt x="858" y="305"/>
                  </a:cubicBezTo>
                  <a:cubicBezTo>
                    <a:pt x="597" y="505"/>
                    <a:pt x="381" y="792"/>
                    <a:pt x="230" y="1138"/>
                  </a:cubicBezTo>
                  <a:cubicBezTo>
                    <a:pt x="79" y="1484"/>
                    <a:pt x="0" y="1876"/>
                    <a:pt x="0" y="2276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521000" y="2717640"/>
            <a:ext cx="623160" cy="1176840"/>
            <a:chOff x="1521000" y="2717640"/>
            <a:chExt cx="623160" cy="1176840"/>
          </a:xfrm>
        </p:grpSpPr>
        <p:sp>
          <p:nvSpPr>
            <p:cNvPr id="268" name=""/>
            <p:cNvSpPr/>
            <p:nvPr/>
          </p:nvSpPr>
          <p:spPr>
            <a:xfrm>
              <a:off x="1521000" y="3302640"/>
              <a:ext cx="617040" cy="591840"/>
            </a:xfrm>
            <a:custGeom>
              <a:avLst/>
              <a:gdLst/>
              <a:ahLst/>
              <a:rect l="0" t="0" r="r" b="b"/>
              <a:pathLst>
                <a:path fill="none" w="1714" h="1644">
                  <a:moveTo>
                    <a:pt x="0" y="0"/>
                  </a:moveTo>
                  <a:lnTo>
                    <a:pt x="0" y="0"/>
                  </a:lnTo>
                  <a:cubicBezTo>
                    <a:pt x="0" y="289"/>
                    <a:pt x="79" y="572"/>
                    <a:pt x="230" y="822"/>
                  </a:cubicBezTo>
                  <a:cubicBezTo>
                    <a:pt x="380" y="1072"/>
                    <a:pt x="596" y="1279"/>
                    <a:pt x="857" y="1424"/>
                  </a:cubicBezTo>
                  <a:cubicBezTo>
                    <a:pt x="1118" y="1568"/>
                    <a:pt x="1413" y="1644"/>
                    <a:pt x="1714" y="1644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7120" y="2717640"/>
              <a:ext cx="617040" cy="589320"/>
            </a:xfrm>
            <a:custGeom>
              <a:avLst/>
              <a:gdLst/>
              <a:ahLst/>
              <a:rect l="0" t="0" r="r" b="b"/>
              <a:pathLst>
                <a:path fill="none" w="1714" h="1637">
                  <a:moveTo>
                    <a:pt x="1714" y="0"/>
                  </a:moveTo>
                  <a:lnTo>
                    <a:pt x="1714" y="0"/>
                  </a:lnTo>
                  <a:cubicBezTo>
                    <a:pt x="1413" y="0"/>
                    <a:pt x="1118" y="76"/>
                    <a:pt x="857" y="219"/>
                  </a:cubicBezTo>
                  <a:cubicBezTo>
                    <a:pt x="596" y="363"/>
                    <a:pt x="380" y="570"/>
                    <a:pt x="230" y="819"/>
                  </a:cubicBezTo>
                  <a:cubicBezTo>
                    <a:pt x="79" y="1067"/>
                    <a:pt x="0" y="1350"/>
                    <a:pt x="0" y="1637"/>
                  </a:cubicBezTo>
                </a:path>
              </a:pathLst>
            </a:custGeom>
            <a:ln w="38160">
              <a:solidFill>
                <a:srgbClr val="000000"/>
              </a:solidFill>
              <a:round/>
              <a:head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 txBox="1"/>
          <p:nvPr/>
        </p:nvSpPr>
        <p:spPr>
          <a:xfrm>
            <a:off x="2851200" y="2152800"/>
            <a:ext cx="1415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e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876920" y="1803240"/>
            <a:ext cx="4114800" cy="444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er monitors agents registered with local agent name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KQML control messages can be handled by router sub-ag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144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144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ging on/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144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/Stop/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1144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/Authent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panel 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1905120"/>
            <a:ext cx="374760" cy="4648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12840" y="1905120"/>
            <a:ext cx="0" cy="40384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00280" y="1905120"/>
            <a:ext cx="0" cy="40384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7760" y="1905120"/>
            <a:ext cx="12960" cy="45720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36800" y="1905120"/>
            <a:ext cx="0" cy="40384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87200" y="5797440"/>
            <a:ext cx="80172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314440" y="3662280"/>
            <a:ext cx="816480" cy="1013040"/>
          </a:xfrm>
          <a:custGeom>
            <a:avLst/>
            <a:gdLst/>
            <a:ahLst/>
            <a:rect l="0" t="0" r="r" b="b"/>
            <a:pathLst>
              <a:path w="2268" h="2814">
                <a:moveTo>
                  <a:pt x="2268" y="2814"/>
                </a:moveTo>
                <a:lnTo>
                  <a:pt x="453" y="2814"/>
                </a:lnTo>
                <a:lnTo>
                  <a:pt x="0" y="2251"/>
                </a:lnTo>
                <a:lnTo>
                  <a:pt x="0" y="0"/>
                </a:lnTo>
                <a:lnTo>
                  <a:pt x="453" y="562"/>
                </a:lnTo>
                <a:lnTo>
                  <a:pt x="453" y="2814"/>
                </a:lnTo>
                <a:lnTo>
                  <a:pt x="453" y="562"/>
                </a:lnTo>
                <a:lnTo>
                  <a:pt x="2268" y="562"/>
                </a:lnTo>
                <a:lnTo>
                  <a:pt x="1815" y="0"/>
                </a:lnTo>
                <a:lnTo>
                  <a:pt x="0" y="0"/>
                </a:lnTo>
                <a:lnTo>
                  <a:pt x="1815" y="0"/>
                </a:lnTo>
                <a:lnTo>
                  <a:pt x="2268" y="562"/>
                </a:lnTo>
                <a:lnTo>
                  <a:pt x="2268" y="2814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530440" y="4084560"/>
            <a:ext cx="110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859120" y="4454640"/>
            <a:ext cx="24912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3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33440" y="3784680"/>
            <a:ext cx="251280" cy="798840"/>
          </a:xfrm>
          <a:custGeom>
            <a:avLst/>
            <a:gdLst/>
            <a:ahLst/>
            <a:rect l="0" t="0" r="r" b="b"/>
            <a:pathLst>
              <a:path w="698" h="2219">
                <a:moveTo>
                  <a:pt x="698" y="2219"/>
                </a:moveTo>
                <a:lnTo>
                  <a:pt x="139" y="2219"/>
                </a:lnTo>
                <a:lnTo>
                  <a:pt x="0" y="1775"/>
                </a:lnTo>
                <a:lnTo>
                  <a:pt x="0" y="0"/>
                </a:lnTo>
                <a:lnTo>
                  <a:pt x="139" y="443"/>
                </a:lnTo>
                <a:lnTo>
                  <a:pt x="139" y="2219"/>
                </a:lnTo>
                <a:lnTo>
                  <a:pt x="139" y="443"/>
                </a:lnTo>
                <a:lnTo>
                  <a:pt x="698" y="443"/>
                </a:lnTo>
                <a:lnTo>
                  <a:pt x="559" y="0"/>
                </a:lnTo>
                <a:lnTo>
                  <a:pt x="0" y="0"/>
                </a:lnTo>
                <a:lnTo>
                  <a:pt x="559" y="0"/>
                </a:lnTo>
                <a:lnTo>
                  <a:pt x="698" y="443"/>
                </a:lnTo>
                <a:lnTo>
                  <a:pt x="698" y="2219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44520" y="4200480"/>
            <a:ext cx="1046160" cy="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33440" y="5424480"/>
            <a:ext cx="255960" cy="802080"/>
          </a:xfrm>
          <a:custGeom>
            <a:avLst/>
            <a:gdLst/>
            <a:ahLst/>
            <a:rect l="0" t="0" r="r" b="b"/>
            <a:pathLst>
              <a:path w="711" h="2228">
                <a:moveTo>
                  <a:pt x="711" y="2228"/>
                </a:moveTo>
                <a:lnTo>
                  <a:pt x="141" y="2228"/>
                </a:lnTo>
                <a:lnTo>
                  <a:pt x="0" y="1783"/>
                </a:lnTo>
                <a:lnTo>
                  <a:pt x="0" y="0"/>
                </a:lnTo>
                <a:lnTo>
                  <a:pt x="141" y="445"/>
                </a:lnTo>
                <a:lnTo>
                  <a:pt x="141" y="2228"/>
                </a:lnTo>
                <a:lnTo>
                  <a:pt x="141" y="445"/>
                </a:lnTo>
                <a:lnTo>
                  <a:pt x="711" y="445"/>
                </a:lnTo>
                <a:lnTo>
                  <a:pt x="569" y="0"/>
                </a:lnTo>
                <a:lnTo>
                  <a:pt x="0" y="0"/>
                </a:lnTo>
                <a:lnTo>
                  <a:pt x="569" y="0"/>
                </a:lnTo>
                <a:lnTo>
                  <a:pt x="711" y="445"/>
                </a:lnTo>
                <a:lnTo>
                  <a:pt x="711" y="2228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44520" y="5764320"/>
            <a:ext cx="1068480" cy="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1440" y="5141880"/>
            <a:ext cx="1157760" cy="1182960"/>
          </a:xfrm>
          <a:custGeom>
            <a:avLst/>
            <a:gdLst/>
            <a:ahLst/>
            <a:rect l="0" t="0" r="r" b="b"/>
            <a:pathLst>
              <a:path w="3216" h="3286">
                <a:moveTo>
                  <a:pt x="3216" y="3286"/>
                </a:moveTo>
                <a:lnTo>
                  <a:pt x="642" y="3286"/>
                </a:lnTo>
                <a:lnTo>
                  <a:pt x="0" y="2629"/>
                </a:lnTo>
                <a:lnTo>
                  <a:pt x="0" y="0"/>
                </a:lnTo>
                <a:lnTo>
                  <a:pt x="642" y="657"/>
                </a:lnTo>
                <a:lnTo>
                  <a:pt x="642" y="3286"/>
                </a:lnTo>
                <a:lnTo>
                  <a:pt x="642" y="657"/>
                </a:lnTo>
                <a:lnTo>
                  <a:pt x="3216" y="657"/>
                </a:lnTo>
                <a:lnTo>
                  <a:pt x="2573" y="0"/>
                </a:lnTo>
                <a:lnTo>
                  <a:pt x="0" y="0"/>
                </a:lnTo>
                <a:lnTo>
                  <a:pt x="2573" y="0"/>
                </a:lnTo>
                <a:lnTo>
                  <a:pt x="3216" y="657"/>
                </a:lnTo>
                <a:lnTo>
                  <a:pt x="3216" y="3286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179880" y="5734080"/>
            <a:ext cx="784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82880" y="5335560"/>
            <a:ext cx="255960" cy="802080"/>
          </a:xfrm>
          <a:custGeom>
            <a:avLst/>
            <a:gdLst/>
            <a:ahLst/>
            <a:rect l="0" t="0" r="r" b="b"/>
            <a:pathLst>
              <a:path w="711" h="2228">
                <a:moveTo>
                  <a:pt x="711" y="2228"/>
                </a:moveTo>
                <a:lnTo>
                  <a:pt x="141" y="2228"/>
                </a:lnTo>
                <a:lnTo>
                  <a:pt x="0" y="1783"/>
                </a:lnTo>
                <a:lnTo>
                  <a:pt x="0" y="0"/>
                </a:lnTo>
                <a:lnTo>
                  <a:pt x="141" y="445"/>
                </a:lnTo>
                <a:lnTo>
                  <a:pt x="141" y="2228"/>
                </a:lnTo>
                <a:lnTo>
                  <a:pt x="141" y="445"/>
                </a:lnTo>
                <a:lnTo>
                  <a:pt x="711" y="445"/>
                </a:lnTo>
                <a:lnTo>
                  <a:pt x="569" y="0"/>
                </a:lnTo>
                <a:lnTo>
                  <a:pt x="0" y="0"/>
                </a:lnTo>
                <a:lnTo>
                  <a:pt x="569" y="0"/>
                </a:lnTo>
                <a:lnTo>
                  <a:pt x="711" y="445"/>
                </a:lnTo>
                <a:lnTo>
                  <a:pt x="711" y="2228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84360" y="5769000"/>
            <a:ext cx="480960" cy="0"/>
          </a:xfrm>
          <a:prstGeom prst="line">
            <a:avLst/>
          </a:prstGeom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286000" y="4495680"/>
            <a:ext cx="0" cy="9176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33440" y="2259000"/>
            <a:ext cx="251280" cy="798840"/>
          </a:xfrm>
          <a:custGeom>
            <a:avLst/>
            <a:gdLst/>
            <a:ahLst/>
            <a:rect l="0" t="0" r="r" b="b"/>
            <a:pathLst>
              <a:path w="698" h="2219">
                <a:moveTo>
                  <a:pt x="698" y="2219"/>
                </a:moveTo>
                <a:lnTo>
                  <a:pt x="139" y="2219"/>
                </a:lnTo>
                <a:lnTo>
                  <a:pt x="0" y="1775"/>
                </a:lnTo>
                <a:lnTo>
                  <a:pt x="0" y="0"/>
                </a:lnTo>
                <a:lnTo>
                  <a:pt x="139" y="443"/>
                </a:lnTo>
                <a:lnTo>
                  <a:pt x="139" y="2219"/>
                </a:lnTo>
                <a:lnTo>
                  <a:pt x="139" y="443"/>
                </a:lnTo>
                <a:lnTo>
                  <a:pt x="698" y="443"/>
                </a:lnTo>
                <a:lnTo>
                  <a:pt x="559" y="0"/>
                </a:lnTo>
                <a:lnTo>
                  <a:pt x="0" y="0"/>
                </a:lnTo>
                <a:lnTo>
                  <a:pt x="559" y="0"/>
                </a:lnTo>
                <a:lnTo>
                  <a:pt x="698" y="443"/>
                </a:lnTo>
                <a:lnTo>
                  <a:pt x="698" y="2219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44520" y="2598840"/>
            <a:ext cx="1046160" cy="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81440" y="1976400"/>
            <a:ext cx="1157760" cy="1148040"/>
          </a:xfrm>
          <a:custGeom>
            <a:avLst/>
            <a:gdLst/>
            <a:ahLst/>
            <a:rect l="0" t="0" r="r" b="b"/>
            <a:pathLst>
              <a:path w="3216" h="3189">
                <a:moveTo>
                  <a:pt x="3216" y="3189"/>
                </a:moveTo>
                <a:lnTo>
                  <a:pt x="642" y="3189"/>
                </a:lnTo>
                <a:lnTo>
                  <a:pt x="0" y="2551"/>
                </a:lnTo>
                <a:lnTo>
                  <a:pt x="0" y="0"/>
                </a:lnTo>
                <a:lnTo>
                  <a:pt x="642" y="637"/>
                </a:lnTo>
                <a:lnTo>
                  <a:pt x="642" y="3189"/>
                </a:lnTo>
                <a:lnTo>
                  <a:pt x="642" y="637"/>
                </a:lnTo>
                <a:lnTo>
                  <a:pt x="3216" y="637"/>
                </a:lnTo>
                <a:lnTo>
                  <a:pt x="2573" y="0"/>
                </a:lnTo>
                <a:lnTo>
                  <a:pt x="0" y="0"/>
                </a:lnTo>
                <a:lnTo>
                  <a:pt x="2573" y="0"/>
                </a:lnTo>
                <a:lnTo>
                  <a:pt x="3216" y="637"/>
                </a:lnTo>
                <a:lnTo>
                  <a:pt x="3216" y="3189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179880" y="2568600"/>
            <a:ext cx="768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89400" y="3124080"/>
            <a:ext cx="68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82880" y="2170080"/>
            <a:ext cx="251280" cy="798840"/>
          </a:xfrm>
          <a:custGeom>
            <a:avLst/>
            <a:gdLst/>
            <a:ahLst/>
            <a:rect l="0" t="0" r="r" b="b"/>
            <a:pathLst>
              <a:path w="698" h="2219">
                <a:moveTo>
                  <a:pt x="698" y="2219"/>
                </a:moveTo>
                <a:lnTo>
                  <a:pt x="139" y="2219"/>
                </a:lnTo>
                <a:lnTo>
                  <a:pt x="0" y="1775"/>
                </a:lnTo>
                <a:lnTo>
                  <a:pt x="0" y="0"/>
                </a:lnTo>
                <a:lnTo>
                  <a:pt x="139" y="443"/>
                </a:lnTo>
                <a:lnTo>
                  <a:pt x="139" y="2219"/>
                </a:lnTo>
                <a:lnTo>
                  <a:pt x="139" y="443"/>
                </a:lnTo>
                <a:lnTo>
                  <a:pt x="698" y="443"/>
                </a:lnTo>
                <a:lnTo>
                  <a:pt x="559" y="0"/>
                </a:lnTo>
                <a:lnTo>
                  <a:pt x="0" y="0"/>
                </a:lnTo>
                <a:lnTo>
                  <a:pt x="559" y="0"/>
                </a:lnTo>
                <a:lnTo>
                  <a:pt x="698" y="443"/>
                </a:lnTo>
                <a:lnTo>
                  <a:pt x="698" y="221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484360" y="2603520"/>
            <a:ext cx="471600" cy="0"/>
          </a:xfrm>
          <a:prstGeom prst="line">
            <a:avLst/>
          </a:prstGeom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286000" y="297180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g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0" y="2057400"/>
            <a:ext cx="449568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ures log streams from agents and writes to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streams  are generated by the router sub-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er can ask agents (or their routers) to turn logging on or 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s can be visualized as they are generated or replayed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87200" y="1905120"/>
            <a:ext cx="4214880" cy="4648320"/>
            <a:chOff x="187200" y="1905120"/>
            <a:chExt cx="4214880" cy="4648320"/>
          </a:xfrm>
        </p:grpSpPr>
        <p:sp>
          <p:nvSpPr>
            <p:cNvPr id="302" name=""/>
            <p:cNvSpPr/>
            <p:nvPr/>
          </p:nvSpPr>
          <p:spPr>
            <a:xfrm>
              <a:off x="838080" y="1905120"/>
              <a:ext cx="374760" cy="46483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12840" y="1905120"/>
              <a:ext cx="0" cy="40384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0280" y="1905120"/>
              <a:ext cx="0" cy="40384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77760" y="1905120"/>
              <a:ext cx="12960" cy="45720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36800" y="1905120"/>
              <a:ext cx="0" cy="40384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187200" y="5797440"/>
              <a:ext cx="801720" cy="262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00279f"/>
                  </a:solidFill>
                  <a:latin typeface="Times New Roman"/>
                  <a:ea typeface="Times New Roman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1244520" y="3662280"/>
              <a:ext cx="2794320" cy="1057320"/>
              <a:chOff x="1244520" y="3662280"/>
              <a:chExt cx="2794320" cy="1057320"/>
            </a:xfrm>
          </p:grpSpPr>
          <p:sp>
            <p:nvSpPr>
              <p:cNvPr id="309" name=""/>
              <p:cNvSpPr/>
              <p:nvPr/>
            </p:nvSpPr>
            <p:spPr>
              <a:xfrm>
                <a:off x="2314440" y="3662280"/>
                <a:ext cx="816480" cy="1013040"/>
              </a:xfrm>
              <a:custGeom>
                <a:avLst/>
                <a:gdLst/>
                <a:ahLst/>
                <a:rect l="0" t="0" r="r" b="b"/>
                <a:pathLst>
                  <a:path w="2268" h="2814">
                    <a:moveTo>
                      <a:pt x="2268" y="2814"/>
                    </a:moveTo>
                    <a:lnTo>
                      <a:pt x="453" y="2814"/>
                    </a:lnTo>
                    <a:lnTo>
                      <a:pt x="0" y="2251"/>
                    </a:lnTo>
                    <a:lnTo>
                      <a:pt x="0" y="0"/>
                    </a:lnTo>
                    <a:lnTo>
                      <a:pt x="453" y="562"/>
                    </a:lnTo>
                    <a:lnTo>
                      <a:pt x="453" y="2814"/>
                    </a:lnTo>
                    <a:lnTo>
                      <a:pt x="453" y="562"/>
                    </a:lnTo>
                    <a:lnTo>
                      <a:pt x="2268" y="562"/>
                    </a:lnTo>
                    <a:lnTo>
                      <a:pt x="1815" y="0"/>
                    </a:lnTo>
                    <a:lnTo>
                      <a:pt x="0" y="0"/>
                    </a:lnTo>
                    <a:lnTo>
                      <a:pt x="1815" y="0"/>
                    </a:lnTo>
                    <a:lnTo>
                      <a:pt x="2268" y="562"/>
                    </a:lnTo>
                    <a:lnTo>
                      <a:pt x="2268" y="2814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 txBox="1"/>
              <p:nvPr/>
            </p:nvSpPr>
            <p:spPr>
              <a:xfrm>
                <a:off x="2530440" y="4084560"/>
                <a:ext cx="706320" cy="32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ogg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>
                <a:off x="2859120" y="4454640"/>
                <a:ext cx="249120" cy="264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300" spc="-1" strike="noStrike">
                    <a:solidFill>
                      <a:srgbClr val="00279f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233440" y="3784680"/>
                <a:ext cx="251280" cy="798840"/>
              </a:xfrm>
              <a:custGeom>
                <a:avLst/>
                <a:gdLst/>
                <a:ahLst/>
                <a:rect l="0" t="0" r="r" b="b"/>
                <a:pathLst>
                  <a:path w="698" h="2219">
                    <a:moveTo>
                      <a:pt x="698" y="2219"/>
                    </a:moveTo>
                    <a:lnTo>
                      <a:pt x="139" y="2219"/>
                    </a:lnTo>
                    <a:lnTo>
                      <a:pt x="0" y="1775"/>
                    </a:lnTo>
                    <a:lnTo>
                      <a:pt x="0" y="0"/>
                    </a:lnTo>
                    <a:lnTo>
                      <a:pt x="139" y="443"/>
                    </a:lnTo>
                    <a:lnTo>
                      <a:pt x="139" y="2219"/>
                    </a:lnTo>
                    <a:lnTo>
                      <a:pt x="139" y="443"/>
                    </a:lnTo>
                    <a:lnTo>
                      <a:pt x="698" y="443"/>
                    </a:lnTo>
                    <a:lnTo>
                      <a:pt x="559" y="0"/>
                    </a:lnTo>
                    <a:lnTo>
                      <a:pt x="0" y="0"/>
                    </a:lnTo>
                    <a:lnTo>
                      <a:pt x="559" y="0"/>
                    </a:lnTo>
                    <a:lnTo>
                      <a:pt x="698" y="443"/>
                    </a:lnTo>
                    <a:lnTo>
                      <a:pt x="698" y="2219"/>
                    </a:lnTo>
                    <a:close/>
                  </a:path>
                </a:pathLst>
              </a:custGeom>
              <a:solidFill>
                <a:srgbClr val="fc0128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244520" y="4200480"/>
                <a:ext cx="1046160" cy="0"/>
              </a:xfrm>
              <a:prstGeom prst="line">
                <a:avLst/>
              </a:prstGeom>
              <a:ln w="12600">
                <a:solidFill>
                  <a:srgbClr val="00279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81280" y="4075200"/>
                <a:ext cx="457560" cy="457560"/>
              </a:xfrm>
              <a:custGeom>
                <a:avLst/>
                <a:gdLst/>
                <a:ahLst/>
                <a:rect l="0" t="0" r="r" b="b"/>
                <a:pathLst>
                  <a:path w="1271" h="1271">
                    <a:moveTo>
                      <a:pt x="0" y="0"/>
                    </a:moveTo>
                    <a:lnTo>
                      <a:pt x="380" y="1271"/>
                    </a:lnTo>
                    <a:lnTo>
                      <a:pt x="890" y="1271"/>
                    </a:lnTo>
                    <a:lnTo>
                      <a:pt x="127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19191"/>
              </a:solidFill>
              <a:ln w="12600">
                <a:solidFill>
                  <a:srgbClr val="0027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124080" y="4227480"/>
                <a:ext cx="685800" cy="0"/>
              </a:xfrm>
              <a:prstGeom prst="line">
                <a:avLst/>
              </a:prstGeom>
              <a:ln w="25560">
                <a:solidFill>
                  <a:srgbClr val="00279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2233440" y="5424480"/>
              <a:ext cx="255960" cy="802080"/>
            </a:xfrm>
            <a:custGeom>
              <a:avLst/>
              <a:gdLst/>
              <a:ahLst/>
              <a:rect l="0" t="0" r="r" b="b"/>
              <a:pathLst>
                <a:path w="711" h="2228">
                  <a:moveTo>
                    <a:pt x="711" y="2228"/>
                  </a:moveTo>
                  <a:lnTo>
                    <a:pt x="141" y="2228"/>
                  </a:lnTo>
                  <a:lnTo>
                    <a:pt x="0" y="1783"/>
                  </a:lnTo>
                  <a:lnTo>
                    <a:pt x="0" y="0"/>
                  </a:lnTo>
                  <a:lnTo>
                    <a:pt x="141" y="445"/>
                  </a:lnTo>
                  <a:lnTo>
                    <a:pt x="141" y="2228"/>
                  </a:lnTo>
                  <a:lnTo>
                    <a:pt x="141" y="445"/>
                  </a:lnTo>
                  <a:lnTo>
                    <a:pt x="711" y="445"/>
                  </a:lnTo>
                  <a:lnTo>
                    <a:pt x="569" y="0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711" y="445"/>
                  </a:lnTo>
                  <a:lnTo>
                    <a:pt x="711" y="2228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44520" y="5764320"/>
              <a:ext cx="1068480" cy="0"/>
            </a:xfrm>
            <a:prstGeom prst="line">
              <a:avLst/>
            </a:prstGeom>
            <a:ln w="12600">
              <a:solidFill>
                <a:srgbClr val="00279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81440" y="5141880"/>
              <a:ext cx="1157760" cy="1182960"/>
            </a:xfrm>
            <a:custGeom>
              <a:avLst/>
              <a:gdLst/>
              <a:ahLst/>
              <a:rect l="0" t="0" r="r" b="b"/>
              <a:pathLst>
                <a:path w="3216" h="3286">
                  <a:moveTo>
                    <a:pt x="3216" y="3286"/>
                  </a:moveTo>
                  <a:lnTo>
                    <a:pt x="642" y="3286"/>
                  </a:lnTo>
                  <a:lnTo>
                    <a:pt x="0" y="2629"/>
                  </a:lnTo>
                  <a:lnTo>
                    <a:pt x="0" y="0"/>
                  </a:lnTo>
                  <a:lnTo>
                    <a:pt x="642" y="657"/>
                  </a:lnTo>
                  <a:lnTo>
                    <a:pt x="642" y="3286"/>
                  </a:lnTo>
                  <a:lnTo>
                    <a:pt x="642" y="657"/>
                  </a:lnTo>
                  <a:lnTo>
                    <a:pt x="3216" y="657"/>
                  </a:lnTo>
                  <a:lnTo>
                    <a:pt x="2573" y="0"/>
                  </a:lnTo>
                  <a:lnTo>
                    <a:pt x="0" y="0"/>
                  </a:lnTo>
                  <a:lnTo>
                    <a:pt x="2573" y="0"/>
                  </a:lnTo>
                  <a:lnTo>
                    <a:pt x="3216" y="657"/>
                  </a:lnTo>
                  <a:lnTo>
                    <a:pt x="3216" y="3286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3179880" y="5734080"/>
              <a:ext cx="784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279f"/>
                  </a:solidFill>
                  <a:latin typeface="Times New Roman"/>
                  <a:ea typeface="Times New Roman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82880" y="5335560"/>
              <a:ext cx="255960" cy="802080"/>
            </a:xfrm>
            <a:custGeom>
              <a:avLst/>
              <a:gdLst/>
              <a:ahLst/>
              <a:rect l="0" t="0" r="r" b="b"/>
              <a:pathLst>
                <a:path w="711" h="2228">
                  <a:moveTo>
                    <a:pt x="711" y="2228"/>
                  </a:moveTo>
                  <a:lnTo>
                    <a:pt x="141" y="2228"/>
                  </a:lnTo>
                  <a:lnTo>
                    <a:pt x="0" y="1783"/>
                  </a:lnTo>
                  <a:lnTo>
                    <a:pt x="0" y="0"/>
                  </a:lnTo>
                  <a:lnTo>
                    <a:pt x="141" y="445"/>
                  </a:lnTo>
                  <a:lnTo>
                    <a:pt x="141" y="2228"/>
                  </a:lnTo>
                  <a:lnTo>
                    <a:pt x="141" y="445"/>
                  </a:lnTo>
                  <a:lnTo>
                    <a:pt x="711" y="445"/>
                  </a:lnTo>
                  <a:lnTo>
                    <a:pt x="569" y="0"/>
                  </a:lnTo>
                  <a:lnTo>
                    <a:pt x="0" y="0"/>
                  </a:lnTo>
                  <a:lnTo>
                    <a:pt x="569" y="0"/>
                  </a:lnTo>
                  <a:lnTo>
                    <a:pt x="711" y="445"/>
                  </a:lnTo>
                  <a:lnTo>
                    <a:pt x="711" y="222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84360" y="5769000"/>
              <a:ext cx="480960" cy="0"/>
            </a:xfrm>
            <a:prstGeom prst="line">
              <a:avLst/>
            </a:prstGeom>
            <a:ln w="7632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286000" y="4495680"/>
              <a:ext cx="0" cy="917640"/>
            </a:xfrm>
            <a:prstGeom prst="line">
              <a:avLst/>
            </a:prstGeom>
            <a:ln w="1260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1584360" y="4754520"/>
              <a:ext cx="1449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 stre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33440" y="2259000"/>
              <a:ext cx="251280" cy="798840"/>
            </a:xfrm>
            <a:custGeom>
              <a:avLst/>
              <a:gdLst/>
              <a:ahLst/>
              <a:rect l="0" t="0" r="r" b="b"/>
              <a:pathLst>
                <a:path w="698" h="2219">
                  <a:moveTo>
                    <a:pt x="698" y="2219"/>
                  </a:moveTo>
                  <a:lnTo>
                    <a:pt x="139" y="2219"/>
                  </a:lnTo>
                  <a:lnTo>
                    <a:pt x="0" y="1775"/>
                  </a:lnTo>
                  <a:lnTo>
                    <a:pt x="0" y="0"/>
                  </a:lnTo>
                  <a:lnTo>
                    <a:pt x="139" y="443"/>
                  </a:lnTo>
                  <a:lnTo>
                    <a:pt x="139" y="2219"/>
                  </a:lnTo>
                  <a:lnTo>
                    <a:pt x="139" y="443"/>
                  </a:lnTo>
                  <a:lnTo>
                    <a:pt x="698" y="443"/>
                  </a:lnTo>
                  <a:lnTo>
                    <a:pt x="559" y="0"/>
                  </a:lnTo>
                  <a:lnTo>
                    <a:pt x="0" y="0"/>
                  </a:lnTo>
                  <a:lnTo>
                    <a:pt x="559" y="0"/>
                  </a:lnTo>
                  <a:lnTo>
                    <a:pt x="698" y="443"/>
                  </a:lnTo>
                  <a:lnTo>
                    <a:pt x="698" y="2219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44520" y="2598840"/>
              <a:ext cx="1046160" cy="0"/>
            </a:xfrm>
            <a:prstGeom prst="line">
              <a:avLst/>
            </a:prstGeom>
            <a:ln w="12600">
              <a:solidFill>
                <a:srgbClr val="00279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81440" y="1976400"/>
              <a:ext cx="1157760" cy="1148040"/>
            </a:xfrm>
            <a:custGeom>
              <a:avLst/>
              <a:gdLst/>
              <a:ahLst/>
              <a:rect l="0" t="0" r="r" b="b"/>
              <a:pathLst>
                <a:path w="3216" h="3189">
                  <a:moveTo>
                    <a:pt x="3216" y="3189"/>
                  </a:moveTo>
                  <a:lnTo>
                    <a:pt x="642" y="3189"/>
                  </a:lnTo>
                  <a:lnTo>
                    <a:pt x="0" y="2551"/>
                  </a:lnTo>
                  <a:lnTo>
                    <a:pt x="0" y="0"/>
                  </a:lnTo>
                  <a:lnTo>
                    <a:pt x="642" y="637"/>
                  </a:lnTo>
                  <a:lnTo>
                    <a:pt x="642" y="3189"/>
                  </a:lnTo>
                  <a:lnTo>
                    <a:pt x="642" y="637"/>
                  </a:lnTo>
                  <a:lnTo>
                    <a:pt x="3216" y="637"/>
                  </a:lnTo>
                  <a:lnTo>
                    <a:pt x="2573" y="0"/>
                  </a:lnTo>
                  <a:lnTo>
                    <a:pt x="0" y="0"/>
                  </a:lnTo>
                  <a:lnTo>
                    <a:pt x="2573" y="0"/>
                  </a:lnTo>
                  <a:lnTo>
                    <a:pt x="3216" y="637"/>
                  </a:lnTo>
                  <a:lnTo>
                    <a:pt x="3216" y="3189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3179880" y="2568600"/>
              <a:ext cx="768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279f"/>
                  </a:solidFill>
                  <a:latin typeface="Times New Roman"/>
                  <a:ea typeface="Times New Roman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89400" y="3124080"/>
              <a:ext cx="6872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82880" y="2170080"/>
              <a:ext cx="251280" cy="798840"/>
            </a:xfrm>
            <a:custGeom>
              <a:avLst/>
              <a:gdLst/>
              <a:ahLst/>
              <a:rect l="0" t="0" r="r" b="b"/>
              <a:pathLst>
                <a:path w="698" h="2219">
                  <a:moveTo>
                    <a:pt x="698" y="2219"/>
                  </a:moveTo>
                  <a:lnTo>
                    <a:pt x="139" y="2219"/>
                  </a:lnTo>
                  <a:lnTo>
                    <a:pt x="0" y="1775"/>
                  </a:lnTo>
                  <a:lnTo>
                    <a:pt x="0" y="0"/>
                  </a:lnTo>
                  <a:lnTo>
                    <a:pt x="139" y="443"/>
                  </a:lnTo>
                  <a:lnTo>
                    <a:pt x="139" y="2219"/>
                  </a:lnTo>
                  <a:lnTo>
                    <a:pt x="139" y="443"/>
                  </a:lnTo>
                  <a:lnTo>
                    <a:pt x="698" y="443"/>
                  </a:lnTo>
                  <a:lnTo>
                    <a:pt x="559" y="0"/>
                  </a:lnTo>
                  <a:lnTo>
                    <a:pt x="0" y="0"/>
                  </a:lnTo>
                  <a:lnTo>
                    <a:pt x="559" y="0"/>
                  </a:lnTo>
                  <a:lnTo>
                    <a:pt x="698" y="443"/>
                  </a:lnTo>
                  <a:lnTo>
                    <a:pt x="698" y="221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84360" y="2603520"/>
              <a:ext cx="471600" cy="0"/>
            </a:xfrm>
            <a:prstGeom prst="line">
              <a:avLst/>
            </a:prstGeom>
            <a:ln w="7632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286000" y="2971800"/>
              <a:ext cx="0" cy="914400"/>
            </a:xfrm>
            <a:prstGeom prst="line">
              <a:avLst/>
            </a:prstGeom>
            <a:ln w="12600">
              <a:solidFill>
                <a:srgbClr val="0027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1508040" y="3032280"/>
              <a:ext cx="1419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 stre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3794040" y="4145040"/>
              <a:ext cx="608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Visualiz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724280" y="1600200"/>
            <a:ext cx="4267080" cy="51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izes communication among a set of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s the agent name server to know which agents are regist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s each agent to turn logging on and logger to provide the log str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communication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replay old logs at varying speed and single-step through a saved l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1905120"/>
            <a:ext cx="374760" cy="4648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12840" y="1905120"/>
            <a:ext cx="0" cy="40384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0280" y="1905120"/>
            <a:ext cx="0" cy="40384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7760" y="1905120"/>
            <a:ext cx="12960" cy="45720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036800" y="1905120"/>
            <a:ext cx="0" cy="40384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87200" y="5797440"/>
            <a:ext cx="80172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244520" y="5415120"/>
            <a:ext cx="2794320" cy="1056960"/>
            <a:chOff x="1244520" y="5415120"/>
            <a:chExt cx="2794320" cy="1056960"/>
          </a:xfrm>
        </p:grpSpPr>
        <p:sp>
          <p:nvSpPr>
            <p:cNvPr id="343" name=""/>
            <p:cNvSpPr/>
            <p:nvPr/>
          </p:nvSpPr>
          <p:spPr>
            <a:xfrm>
              <a:off x="2314440" y="5415120"/>
              <a:ext cx="816480" cy="1013040"/>
            </a:xfrm>
            <a:custGeom>
              <a:avLst/>
              <a:gdLst/>
              <a:ahLst/>
              <a:rect l="0" t="0" r="r" b="b"/>
              <a:pathLst>
                <a:path w="2268" h="2814">
                  <a:moveTo>
                    <a:pt x="2268" y="2814"/>
                  </a:moveTo>
                  <a:lnTo>
                    <a:pt x="453" y="2814"/>
                  </a:lnTo>
                  <a:lnTo>
                    <a:pt x="0" y="2251"/>
                  </a:lnTo>
                  <a:lnTo>
                    <a:pt x="0" y="0"/>
                  </a:lnTo>
                  <a:lnTo>
                    <a:pt x="453" y="562"/>
                  </a:lnTo>
                  <a:lnTo>
                    <a:pt x="453" y="2814"/>
                  </a:lnTo>
                  <a:lnTo>
                    <a:pt x="453" y="562"/>
                  </a:lnTo>
                  <a:lnTo>
                    <a:pt x="2268" y="562"/>
                  </a:lnTo>
                  <a:lnTo>
                    <a:pt x="1815" y="0"/>
                  </a:lnTo>
                  <a:lnTo>
                    <a:pt x="0" y="0"/>
                  </a:lnTo>
                  <a:lnTo>
                    <a:pt x="1815" y="0"/>
                  </a:lnTo>
                  <a:lnTo>
                    <a:pt x="2268" y="562"/>
                  </a:lnTo>
                  <a:lnTo>
                    <a:pt x="2268" y="281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2530440" y="5837400"/>
              <a:ext cx="706320" cy="32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g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2859120" y="6207120"/>
              <a:ext cx="249120" cy="26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279f"/>
                  </a:solidFill>
                  <a:latin typeface="Times New Roman"/>
                  <a:ea typeface="Times New Roman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33440" y="5537160"/>
              <a:ext cx="251280" cy="798840"/>
            </a:xfrm>
            <a:custGeom>
              <a:avLst/>
              <a:gdLst/>
              <a:ahLst/>
              <a:rect l="0" t="0" r="r" b="b"/>
              <a:pathLst>
                <a:path w="698" h="2219">
                  <a:moveTo>
                    <a:pt x="698" y="2219"/>
                  </a:moveTo>
                  <a:lnTo>
                    <a:pt x="139" y="2219"/>
                  </a:lnTo>
                  <a:lnTo>
                    <a:pt x="0" y="1775"/>
                  </a:lnTo>
                  <a:lnTo>
                    <a:pt x="0" y="0"/>
                  </a:lnTo>
                  <a:lnTo>
                    <a:pt x="139" y="443"/>
                  </a:lnTo>
                  <a:lnTo>
                    <a:pt x="139" y="2219"/>
                  </a:lnTo>
                  <a:lnTo>
                    <a:pt x="139" y="443"/>
                  </a:lnTo>
                  <a:lnTo>
                    <a:pt x="698" y="443"/>
                  </a:lnTo>
                  <a:lnTo>
                    <a:pt x="559" y="0"/>
                  </a:lnTo>
                  <a:lnTo>
                    <a:pt x="0" y="0"/>
                  </a:lnTo>
                  <a:lnTo>
                    <a:pt x="559" y="0"/>
                  </a:lnTo>
                  <a:lnTo>
                    <a:pt x="698" y="443"/>
                  </a:lnTo>
                  <a:lnTo>
                    <a:pt x="698" y="2219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44520" y="5952960"/>
              <a:ext cx="1046160" cy="0"/>
            </a:xfrm>
            <a:prstGeom prst="line">
              <a:avLst/>
            </a:prstGeom>
            <a:ln w="12600">
              <a:solidFill>
                <a:srgbClr val="00279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81280" y="5827680"/>
              <a:ext cx="457560" cy="457560"/>
            </a:xfrm>
            <a:custGeom>
              <a:avLst/>
              <a:gdLst/>
              <a:ahLst/>
              <a:rect l="0" t="0" r="r" b="b"/>
              <a:pathLst>
                <a:path w="1271" h="1271">
                  <a:moveTo>
                    <a:pt x="0" y="0"/>
                  </a:moveTo>
                  <a:lnTo>
                    <a:pt x="380" y="1271"/>
                  </a:lnTo>
                  <a:lnTo>
                    <a:pt x="890" y="1271"/>
                  </a:lnTo>
                  <a:lnTo>
                    <a:pt x="127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4080" y="5979960"/>
              <a:ext cx="685800" cy="0"/>
            </a:xfrm>
            <a:prstGeom prst="line">
              <a:avLst/>
            </a:prstGeom>
            <a:ln w="255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 flipV="1">
            <a:off x="3352680" y="4876920"/>
            <a:ext cx="0" cy="1069920"/>
          </a:xfrm>
          <a:prstGeom prst="line">
            <a:avLst/>
          </a:prstGeom>
          <a:ln w="1260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122640" y="5211720"/>
            <a:ext cx="1449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389400" y="3124080"/>
            <a:ext cx="68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33440" y="4011480"/>
            <a:ext cx="251280" cy="798840"/>
          </a:xfrm>
          <a:custGeom>
            <a:avLst/>
            <a:gdLst/>
            <a:ahLst/>
            <a:rect l="0" t="0" r="r" b="b"/>
            <a:pathLst>
              <a:path w="698" h="2219">
                <a:moveTo>
                  <a:pt x="698" y="2219"/>
                </a:moveTo>
                <a:lnTo>
                  <a:pt x="139" y="2219"/>
                </a:lnTo>
                <a:lnTo>
                  <a:pt x="0" y="1775"/>
                </a:lnTo>
                <a:lnTo>
                  <a:pt x="0" y="0"/>
                </a:lnTo>
                <a:lnTo>
                  <a:pt x="139" y="443"/>
                </a:lnTo>
                <a:lnTo>
                  <a:pt x="139" y="2219"/>
                </a:lnTo>
                <a:lnTo>
                  <a:pt x="139" y="443"/>
                </a:lnTo>
                <a:lnTo>
                  <a:pt x="698" y="443"/>
                </a:lnTo>
                <a:lnTo>
                  <a:pt x="559" y="0"/>
                </a:lnTo>
                <a:lnTo>
                  <a:pt x="0" y="0"/>
                </a:lnTo>
                <a:lnTo>
                  <a:pt x="559" y="0"/>
                </a:lnTo>
                <a:lnTo>
                  <a:pt x="698" y="443"/>
                </a:lnTo>
                <a:lnTo>
                  <a:pt x="698" y="2219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44520" y="4351320"/>
            <a:ext cx="1046160" cy="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957400" y="3805200"/>
            <a:ext cx="700560" cy="1148040"/>
          </a:xfrm>
          <a:custGeom>
            <a:avLst/>
            <a:gdLst/>
            <a:ahLst/>
            <a:rect l="0" t="0" r="r" b="b"/>
            <a:pathLst>
              <a:path w="1946" h="3189">
                <a:moveTo>
                  <a:pt x="1946" y="3189"/>
                </a:moveTo>
                <a:lnTo>
                  <a:pt x="388" y="3189"/>
                </a:lnTo>
                <a:lnTo>
                  <a:pt x="0" y="2551"/>
                </a:lnTo>
                <a:lnTo>
                  <a:pt x="0" y="0"/>
                </a:lnTo>
                <a:lnTo>
                  <a:pt x="388" y="637"/>
                </a:lnTo>
                <a:lnTo>
                  <a:pt x="388" y="3189"/>
                </a:lnTo>
                <a:lnTo>
                  <a:pt x="388" y="637"/>
                </a:lnTo>
                <a:lnTo>
                  <a:pt x="1946" y="637"/>
                </a:lnTo>
                <a:lnTo>
                  <a:pt x="1557" y="0"/>
                </a:lnTo>
                <a:lnTo>
                  <a:pt x="0" y="0"/>
                </a:lnTo>
                <a:lnTo>
                  <a:pt x="1557" y="0"/>
                </a:lnTo>
                <a:lnTo>
                  <a:pt x="1946" y="637"/>
                </a:lnTo>
                <a:lnTo>
                  <a:pt x="1946" y="3189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179880" y="4626000"/>
            <a:ext cx="117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882880" y="3922560"/>
            <a:ext cx="251280" cy="798840"/>
          </a:xfrm>
          <a:custGeom>
            <a:avLst/>
            <a:gdLst/>
            <a:ahLst/>
            <a:rect l="0" t="0" r="r" b="b"/>
            <a:pathLst>
              <a:path w="698" h="2219">
                <a:moveTo>
                  <a:pt x="698" y="2219"/>
                </a:moveTo>
                <a:lnTo>
                  <a:pt x="139" y="2219"/>
                </a:lnTo>
                <a:lnTo>
                  <a:pt x="0" y="1775"/>
                </a:lnTo>
                <a:lnTo>
                  <a:pt x="0" y="0"/>
                </a:lnTo>
                <a:lnTo>
                  <a:pt x="139" y="443"/>
                </a:lnTo>
                <a:lnTo>
                  <a:pt x="139" y="2219"/>
                </a:lnTo>
                <a:lnTo>
                  <a:pt x="139" y="443"/>
                </a:lnTo>
                <a:lnTo>
                  <a:pt x="698" y="443"/>
                </a:lnTo>
                <a:lnTo>
                  <a:pt x="559" y="0"/>
                </a:lnTo>
                <a:lnTo>
                  <a:pt x="0" y="0"/>
                </a:lnTo>
                <a:lnTo>
                  <a:pt x="559" y="0"/>
                </a:lnTo>
                <a:lnTo>
                  <a:pt x="698" y="443"/>
                </a:lnTo>
                <a:lnTo>
                  <a:pt x="698" y="221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84360" y="4356000"/>
            <a:ext cx="471600" cy="0"/>
          </a:xfrm>
          <a:prstGeom prst="line">
            <a:avLst/>
          </a:prstGeom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286000" y="2666880"/>
            <a:ext cx="0" cy="152424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508040" y="3032280"/>
            <a:ext cx="1440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794040" y="5821200"/>
            <a:ext cx="608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14440" y="1986120"/>
            <a:ext cx="816480" cy="1013040"/>
          </a:xfrm>
          <a:custGeom>
            <a:avLst/>
            <a:gdLst/>
            <a:ahLst/>
            <a:rect l="0" t="0" r="r" b="b"/>
            <a:pathLst>
              <a:path w="2268" h="2814">
                <a:moveTo>
                  <a:pt x="2268" y="2814"/>
                </a:moveTo>
                <a:lnTo>
                  <a:pt x="453" y="2814"/>
                </a:lnTo>
                <a:lnTo>
                  <a:pt x="0" y="2251"/>
                </a:lnTo>
                <a:lnTo>
                  <a:pt x="0" y="0"/>
                </a:lnTo>
                <a:lnTo>
                  <a:pt x="453" y="562"/>
                </a:lnTo>
                <a:lnTo>
                  <a:pt x="453" y="2814"/>
                </a:lnTo>
                <a:lnTo>
                  <a:pt x="453" y="562"/>
                </a:lnTo>
                <a:lnTo>
                  <a:pt x="2268" y="562"/>
                </a:lnTo>
                <a:lnTo>
                  <a:pt x="1815" y="0"/>
                </a:lnTo>
                <a:lnTo>
                  <a:pt x="0" y="0"/>
                </a:lnTo>
                <a:lnTo>
                  <a:pt x="1815" y="0"/>
                </a:lnTo>
                <a:lnTo>
                  <a:pt x="2268" y="562"/>
                </a:lnTo>
                <a:lnTo>
                  <a:pt x="2268" y="2814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530440" y="2408400"/>
            <a:ext cx="56196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859120" y="2778120"/>
            <a:ext cx="24912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3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33440" y="2108160"/>
            <a:ext cx="251280" cy="798840"/>
          </a:xfrm>
          <a:custGeom>
            <a:avLst/>
            <a:gdLst/>
            <a:ahLst/>
            <a:rect l="0" t="0" r="r" b="b"/>
            <a:pathLst>
              <a:path w="698" h="2219">
                <a:moveTo>
                  <a:pt x="698" y="2219"/>
                </a:moveTo>
                <a:lnTo>
                  <a:pt x="139" y="2219"/>
                </a:lnTo>
                <a:lnTo>
                  <a:pt x="0" y="1775"/>
                </a:lnTo>
                <a:lnTo>
                  <a:pt x="0" y="0"/>
                </a:lnTo>
                <a:lnTo>
                  <a:pt x="139" y="443"/>
                </a:lnTo>
                <a:lnTo>
                  <a:pt x="139" y="2219"/>
                </a:lnTo>
                <a:lnTo>
                  <a:pt x="139" y="443"/>
                </a:lnTo>
                <a:lnTo>
                  <a:pt x="698" y="443"/>
                </a:lnTo>
                <a:lnTo>
                  <a:pt x="559" y="0"/>
                </a:lnTo>
                <a:lnTo>
                  <a:pt x="0" y="0"/>
                </a:lnTo>
                <a:lnTo>
                  <a:pt x="559" y="0"/>
                </a:lnTo>
                <a:lnTo>
                  <a:pt x="698" y="443"/>
                </a:lnTo>
                <a:lnTo>
                  <a:pt x="698" y="2219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44520" y="2523960"/>
            <a:ext cx="1046160" cy="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KQML Visualiz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914400" y="1271520"/>
            <a:ext cx="73152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 Ag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62120" y="1523880"/>
            <a:ext cx="8153280" cy="50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</a:t>
            </a:r>
            <a:r>
              <a:rPr b="0" i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gent name servers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</a:t>
            </a:r>
            <a:r>
              <a:rPr b="0" i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proxy   ag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   agen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es communications for its clients, both outgoing and incoming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ewal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a proxy sits both inside and outside a firew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a proxy can gateway between, say, SMTP and 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h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of common requests/ans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to prevent unwanted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can agents be composed like func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 agents act like ANSs to their clients and register under their client’s address with a “real” 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 Ag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876920" y="2108160"/>
            <a:ext cx="3962520" cy="38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xy for agent B can be for all or just some of the transport addresses for it’s c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177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’s proxy tell’s B that all addresses are it’s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177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’s proxy tell’s the ANS that it is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81080" y="1752480"/>
            <a:ext cx="457200" cy="4572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81080" y="3048120"/>
            <a:ext cx="457200" cy="4572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1981080"/>
            <a:ext cx="305280" cy="1296000"/>
            <a:chOff x="2438280" y="1981080"/>
            <a:chExt cx="305280" cy="1296000"/>
          </a:xfrm>
        </p:grpSpPr>
        <p:sp>
          <p:nvSpPr>
            <p:cNvPr id="376" name=""/>
            <p:cNvSpPr/>
            <p:nvPr/>
          </p:nvSpPr>
          <p:spPr>
            <a:xfrm>
              <a:off x="2438280" y="2671920"/>
              <a:ext cx="305280" cy="605160"/>
            </a:xfrm>
            <a:custGeom>
              <a:avLst/>
              <a:gdLst/>
              <a:ahLst/>
              <a:rect l="0" t="0" r="r" b="b"/>
              <a:pathLst>
                <a:path fill="none" w="848" h="1681">
                  <a:moveTo>
                    <a:pt x="0" y="1681"/>
                  </a:moveTo>
                  <a:lnTo>
                    <a:pt x="0" y="1681"/>
                  </a:lnTo>
                  <a:cubicBezTo>
                    <a:pt x="149" y="1681"/>
                    <a:pt x="295" y="1603"/>
                    <a:pt x="424" y="1456"/>
                  </a:cubicBezTo>
                  <a:cubicBezTo>
                    <a:pt x="553" y="1308"/>
                    <a:pt x="660" y="1096"/>
                    <a:pt x="734" y="840"/>
                  </a:cubicBezTo>
                  <a:cubicBezTo>
                    <a:pt x="809" y="585"/>
                    <a:pt x="848" y="295"/>
                    <a:pt x="848" y="0"/>
                  </a:cubicBezTo>
                </a:path>
              </a:pathLst>
            </a:custGeom>
            <a:ln w="25560">
              <a:solidFill>
                <a:srgbClr val="0027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14600" y="1981080"/>
              <a:ext cx="228960" cy="690840"/>
            </a:xfrm>
            <a:custGeom>
              <a:avLst/>
              <a:gdLst/>
              <a:ahLst/>
              <a:rect l="0" t="0" r="r" b="b"/>
              <a:pathLst>
                <a:path fill="none" w="636" h="1919">
                  <a:moveTo>
                    <a:pt x="636" y="1919"/>
                  </a:moveTo>
                  <a:lnTo>
                    <a:pt x="636" y="1919"/>
                  </a:lnTo>
                  <a:lnTo>
                    <a:pt x="636" y="1919"/>
                  </a:lnTo>
                  <a:cubicBezTo>
                    <a:pt x="636" y="1582"/>
                    <a:pt x="607" y="1251"/>
                    <a:pt x="551" y="959"/>
                  </a:cubicBezTo>
                  <a:cubicBezTo>
                    <a:pt x="495" y="668"/>
                    <a:pt x="415" y="426"/>
                    <a:pt x="318" y="257"/>
                  </a:cubicBezTo>
                  <a:cubicBezTo>
                    <a:pt x="221" y="89"/>
                    <a:pt x="112" y="0"/>
                    <a:pt x="0" y="0"/>
                  </a:cubicBezTo>
                </a:path>
              </a:pathLst>
            </a:custGeom>
            <a:ln w="25560">
              <a:solidFill>
                <a:srgbClr val="00279f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676520" y="1981080"/>
            <a:ext cx="305280" cy="1295640"/>
            <a:chOff x="1676520" y="1981080"/>
            <a:chExt cx="305280" cy="1295640"/>
          </a:xfrm>
        </p:grpSpPr>
        <p:sp>
          <p:nvSpPr>
            <p:cNvPr id="379" name=""/>
            <p:cNvSpPr/>
            <p:nvPr/>
          </p:nvSpPr>
          <p:spPr>
            <a:xfrm>
              <a:off x="1676520" y="1981080"/>
              <a:ext cx="305280" cy="605160"/>
            </a:xfrm>
            <a:custGeom>
              <a:avLst/>
              <a:gdLst/>
              <a:ahLst/>
              <a:rect l="0" t="0" r="r" b="b"/>
              <a:pathLst>
                <a:path fill="none" w="848" h="1681">
                  <a:moveTo>
                    <a:pt x="848" y="0"/>
                  </a:moveTo>
                  <a:lnTo>
                    <a:pt x="848" y="0"/>
                  </a:lnTo>
                  <a:cubicBezTo>
                    <a:pt x="699" y="0"/>
                    <a:pt x="553" y="78"/>
                    <a:pt x="424" y="225"/>
                  </a:cubicBezTo>
                  <a:cubicBezTo>
                    <a:pt x="295" y="373"/>
                    <a:pt x="188" y="585"/>
                    <a:pt x="114" y="841"/>
                  </a:cubicBezTo>
                  <a:cubicBezTo>
                    <a:pt x="39" y="1096"/>
                    <a:pt x="0" y="1386"/>
                    <a:pt x="0" y="1681"/>
                  </a:cubicBezTo>
                </a:path>
              </a:pathLst>
            </a:custGeom>
            <a:ln w="25560">
              <a:solidFill>
                <a:srgbClr val="0027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76520" y="2585880"/>
              <a:ext cx="228960" cy="690840"/>
            </a:xfrm>
            <a:custGeom>
              <a:avLst/>
              <a:gdLst/>
              <a:ahLst/>
              <a:rect l="0" t="0" r="r" b="b"/>
              <a:pathLst>
                <a:path fill="none" w="636" h="1919">
                  <a:moveTo>
                    <a:pt x="0" y="0"/>
                  </a:moveTo>
                  <a:lnTo>
                    <a:pt x="0" y="0"/>
                  </a:lnTo>
                  <a:cubicBezTo>
                    <a:pt x="0" y="337"/>
                    <a:pt x="29" y="668"/>
                    <a:pt x="85" y="960"/>
                  </a:cubicBezTo>
                  <a:cubicBezTo>
                    <a:pt x="141" y="1251"/>
                    <a:pt x="221" y="1493"/>
                    <a:pt x="318" y="1662"/>
                  </a:cubicBezTo>
                  <a:cubicBezTo>
                    <a:pt x="415" y="1830"/>
                    <a:pt x="524" y="1919"/>
                    <a:pt x="636" y="1919"/>
                  </a:cubicBezTo>
                </a:path>
              </a:pathLst>
            </a:custGeom>
            <a:ln w="25560">
              <a:solidFill>
                <a:srgbClr val="00279f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676520" y="3429000"/>
            <a:ext cx="1067040" cy="1523880"/>
            <a:chOff x="1676520" y="3429000"/>
            <a:chExt cx="1067040" cy="1523880"/>
          </a:xfrm>
        </p:grpSpPr>
        <p:sp>
          <p:nvSpPr>
            <p:cNvPr id="382" name=""/>
            <p:cNvSpPr/>
            <p:nvPr/>
          </p:nvSpPr>
          <p:spPr>
            <a:xfrm>
              <a:off x="1981080" y="4495680"/>
              <a:ext cx="457200" cy="4572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2438280" y="3429000"/>
              <a:ext cx="305280" cy="1295640"/>
              <a:chOff x="2438280" y="3429000"/>
              <a:chExt cx="305280" cy="1295640"/>
            </a:xfrm>
          </p:grpSpPr>
          <p:sp>
            <p:nvSpPr>
              <p:cNvPr id="384" name=""/>
              <p:cNvSpPr/>
              <p:nvPr/>
            </p:nvSpPr>
            <p:spPr>
              <a:xfrm>
                <a:off x="2438280" y="4119480"/>
                <a:ext cx="305280" cy="605160"/>
              </a:xfrm>
              <a:custGeom>
                <a:avLst/>
                <a:gdLst/>
                <a:ahLst/>
                <a:rect l="0" t="0" r="r" b="b"/>
                <a:pathLst>
                  <a:path fill="none" w="848" h="1681">
                    <a:moveTo>
                      <a:pt x="0" y="1681"/>
                    </a:moveTo>
                    <a:lnTo>
                      <a:pt x="0" y="1681"/>
                    </a:lnTo>
                    <a:cubicBezTo>
                      <a:pt x="149" y="1681"/>
                      <a:pt x="295" y="1603"/>
                      <a:pt x="424" y="1456"/>
                    </a:cubicBezTo>
                    <a:cubicBezTo>
                      <a:pt x="553" y="1308"/>
                      <a:pt x="660" y="1096"/>
                      <a:pt x="734" y="840"/>
                    </a:cubicBezTo>
                    <a:cubicBezTo>
                      <a:pt x="809" y="585"/>
                      <a:pt x="848" y="295"/>
                      <a:pt x="848" y="0"/>
                    </a:cubicBezTo>
                  </a:path>
                </a:pathLst>
              </a:custGeom>
              <a:ln w="25560">
                <a:solidFill>
                  <a:srgbClr val="0027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14600" y="3429000"/>
                <a:ext cx="228960" cy="690840"/>
              </a:xfrm>
              <a:custGeom>
                <a:avLst/>
                <a:gdLst/>
                <a:ahLst/>
                <a:rect l="0" t="0" r="r" b="b"/>
                <a:pathLst>
                  <a:path fill="none" w="636" h="1919">
                    <a:moveTo>
                      <a:pt x="636" y="1919"/>
                    </a:moveTo>
                    <a:lnTo>
                      <a:pt x="636" y="1919"/>
                    </a:lnTo>
                    <a:lnTo>
                      <a:pt x="636" y="1919"/>
                    </a:lnTo>
                    <a:cubicBezTo>
                      <a:pt x="636" y="1582"/>
                      <a:pt x="607" y="1251"/>
                      <a:pt x="551" y="959"/>
                    </a:cubicBezTo>
                    <a:cubicBezTo>
                      <a:pt x="495" y="668"/>
                      <a:pt x="415" y="426"/>
                      <a:pt x="318" y="257"/>
                    </a:cubicBezTo>
                    <a:cubicBezTo>
                      <a:pt x="221" y="89"/>
                      <a:pt x="112" y="0"/>
                      <a:pt x="0" y="0"/>
                    </a:cubicBezTo>
                  </a:path>
                </a:pathLst>
              </a:custGeom>
              <a:ln w="25560">
                <a:solidFill>
                  <a:srgbClr val="00279f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1676520" y="3429000"/>
              <a:ext cx="305280" cy="1295640"/>
              <a:chOff x="1676520" y="3429000"/>
              <a:chExt cx="305280" cy="1295640"/>
            </a:xfrm>
          </p:grpSpPr>
          <p:sp>
            <p:nvSpPr>
              <p:cNvPr id="387" name=""/>
              <p:cNvSpPr/>
              <p:nvPr/>
            </p:nvSpPr>
            <p:spPr>
              <a:xfrm>
                <a:off x="1676520" y="3429000"/>
                <a:ext cx="305280" cy="605160"/>
              </a:xfrm>
              <a:custGeom>
                <a:avLst/>
                <a:gdLst/>
                <a:ahLst/>
                <a:rect l="0" t="0" r="r" b="b"/>
                <a:pathLst>
                  <a:path fill="none" w="848" h="1681">
                    <a:moveTo>
                      <a:pt x="848" y="0"/>
                    </a:moveTo>
                    <a:lnTo>
                      <a:pt x="848" y="0"/>
                    </a:lnTo>
                    <a:cubicBezTo>
                      <a:pt x="699" y="0"/>
                      <a:pt x="553" y="78"/>
                      <a:pt x="424" y="225"/>
                    </a:cubicBezTo>
                    <a:cubicBezTo>
                      <a:pt x="295" y="373"/>
                      <a:pt x="188" y="585"/>
                      <a:pt x="114" y="841"/>
                    </a:cubicBezTo>
                    <a:cubicBezTo>
                      <a:pt x="39" y="1096"/>
                      <a:pt x="0" y="1386"/>
                      <a:pt x="0" y="1681"/>
                    </a:cubicBezTo>
                  </a:path>
                </a:pathLst>
              </a:custGeom>
              <a:ln w="25560">
                <a:solidFill>
                  <a:srgbClr val="0027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676520" y="4033800"/>
                <a:ext cx="228960" cy="690840"/>
              </a:xfrm>
              <a:custGeom>
                <a:avLst/>
                <a:gdLst/>
                <a:ahLst/>
                <a:rect l="0" t="0" r="r" b="b"/>
                <a:pathLst>
                  <a:path fill="none" w="636" h="1919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337"/>
                      <a:pt x="29" y="668"/>
                      <a:pt x="85" y="960"/>
                    </a:cubicBezTo>
                    <a:cubicBezTo>
                      <a:pt x="141" y="1251"/>
                      <a:pt x="221" y="1493"/>
                      <a:pt x="318" y="1662"/>
                    </a:cubicBezTo>
                    <a:cubicBezTo>
                      <a:pt x="415" y="1830"/>
                      <a:pt x="524" y="1919"/>
                      <a:pt x="636" y="1919"/>
                    </a:cubicBezTo>
                  </a:path>
                </a:pathLst>
              </a:custGeom>
              <a:ln w="25560">
                <a:solidFill>
                  <a:srgbClr val="00279f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1676520" y="4876920"/>
            <a:ext cx="1067040" cy="1523880"/>
            <a:chOff x="1676520" y="4876920"/>
            <a:chExt cx="1067040" cy="1523880"/>
          </a:xfrm>
        </p:grpSpPr>
        <p:sp>
          <p:nvSpPr>
            <p:cNvPr id="390" name=""/>
            <p:cNvSpPr/>
            <p:nvPr/>
          </p:nvSpPr>
          <p:spPr>
            <a:xfrm>
              <a:off x="1981080" y="5943600"/>
              <a:ext cx="457200" cy="4572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2438280" y="4876920"/>
              <a:ext cx="305280" cy="1295640"/>
              <a:chOff x="2438280" y="4876920"/>
              <a:chExt cx="305280" cy="1295640"/>
            </a:xfrm>
          </p:grpSpPr>
          <p:sp>
            <p:nvSpPr>
              <p:cNvPr id="392" name=""/>
              <p:cNvSpPr/>
              <p:nvPr/>
            </p:nvSpPr>
            <p:spPr>
              <a:xfrm>
                <a:off x="2438280" y="5567400"/>
                <a:ext cx="305280" cy="605160"/>
              </a:xfrm>
              <a:custGeom>
                <a:avLst/>
                <a:gdLst/>
                <a:ahLst/>
                <a:rect l="0" t="0" r="r" b="b"/>
                <a:pathLst>
                  <a:path fill="none" w="848" h="1681">
                    <a:moveTo>
                      <a:pt x="0" y="1681"/>
                    </a:moveTo>
                    <a:lnTo>
                      <a:pt x="0" y="1681"/>
                    </a:lnTo>
                    <a:cubicBezTo>
                      <a:pt x="149" y="1681"/>
                      <a:pt x="295" y="1603"/>
                      <a:pt x="424" y="1456"/>
                    </a:cubicBezTo>
                    <a:cubicBezTo>
                      <a:pt x="553" y="1308"/>
                      <a:pt x="660" y="1096"/>
                      <a:pt x="734" y="840"/>
                    </a:cubicBezTo>
                    <a:cubicBezTo>
                      <a:pt x="809" y="585"/>
                      <a:pt x="848" y="295"/>
                      <a:pt x="848" y="0"/>
                    </a:cubicBezTo>
                  </a:path>
                </a:pathLst>
              </a:custGeom>
              <a:ln w="25560">
                <a:solidFill>
                  <a:srgbClr val="0027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14600" y="4876920"/>
                <a:ext cx="228960" cy="690840"/>
              </a:xfrm>
              <a:custGeom>
                <a:avLst/>
                <a:gdLst/>
                <a:ahLst/>
                <a:rect l="0" t="0" r="r" b="b"/>
                <a:pathLst>
                  <a:path fill="none" w="636" h="1919">
                    <a:moveTo>
                      <a:pt x="636" y="1919"/>
                    </a:moveTo>
                    <a:lnTo>
                      <a:pt x="636" y="1919"/>
                    </a:lnTo>
                    <a:lnTo>
                      <a:pt x="636" y="1919"/>
                    </a:lnTo>
                    <a:cubicBezTo>
                      <a:pt x="636" y="1582"/>
                      <a:pt x="607" y="1251"/>
                      <a:pt x="551" y="959"/>
                    </a:cubicBezTo>
                    <a:cubicBezTo>
                      <a:pt x="495" y="668"/>
                      <a:pt x="415" y="426"/>
                      <a:pt x="318" y="257"/>
                    </a:cubicBezTo>
                    <a:cubicBezTo>
                      <a:pt x="221" y="89"/>
                      <a:pt x="112" y="0"/>
                      <a:pt x="0" y="0"/>
                    </a:cubicBezTo>
                  </a:path>
                </a:pathLst>
              </a:custGeom>
              <a:ln w="25560">
                <a:solidFill>
                  <a:srgbClr val="00279f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1676520" y="4876920"/>
              <a:ext cx="305280" cy="1295640"/>
              <a:chOff x="1676520" y="4876920"/>
              <a:chExt cx="305280" cy="1295640"/>
            </a:xfrm>
          </p:grpSpPr>
          <p:sp>
            <p:nvSpPr>
              <p:cNvPr id="395" name=""/>
              <p:cNvSpPr/>
              <p:nvPr/>
            </p:nvSpPr>
            <p:spPr>
              <a:xfrm>
                <a:off x="1676520" y="4876920"/>
                <a:ext cx="305280" cy="605160"/>
              </a:xfrm>
              <a:custGeom>
                <a:avLst/>
                <a:gdLst/>
                <a:ahLst/>
                <a:rect l="0" t="0" r="r" b="b"/>
                <a:pathLst>
                  <a:path fill="none" w="848" h="1681">
                    <a:moveTo>
                      <a:pt x="848" y="0"/>
                    </a:moveTo>
                    <a:lnTo>
                      <a:pt x="848" y="0"/>
                    </a:lnTo>
                    <a:cubicBezTo>
                      <a:pt x="699" y="0"/>
                      <a:pt x="553" y="78"/>
                      <a:pt x="424" y="225"/>
                    </a:cubicBezTo>
                    <a:cubicBezTo>
                      <a:pt x="295" y="373"/>
                      <a:pt x="188" y="585"/>
                      <a:pt x="114" y="841"/>
                    </a:cubicBezTo>
                    <a:cubicBezTo>
                      <a:pt x="39" y="1096"/>
                      <a:pt x="0" y="1386"/>
                      <a:pt x="0" y="1681"/>
                    </a:cubicBezTo>
                  </a:path>
                </a:pathLst>
              </a:custGeom>
              <a:ln w="25560">
                <a:solidFill>
                  <a:srgbClr val="0027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676520" y="5481720"/>
                <a:ext cx="228960" cy="690840"/>
              </a:xfrm>
              <a:custGeom>
                <a:avLst/>
                <a:gdLst/>
                <a:ahLst/>
                <a:rect l="0" t="0" r="r" b="b"/>
                <a:pathLst>
                  <a:path fill="none" w="636" h="1919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337"/>
                      <a:pt x="29" y="668"/>
                      <a:pt x="85" y="960"/>
                    </a:cubicBezTo>
                    <a:cubicBezTo>
                      <a:pt x="141" y="1251"/>
                      <a:pt x="221" y="1493"/>
                      <a:pt x="318" y="1662"/>
                    </a:cubicBezTo>
                    <a:cubicBezTo>
                      <a:pt x="415" y="1830"/>
                      <a:pt x="524" y="1919"/>
                      <a:pt x="636" y="1919"/>
                    </a:cubicBezTo>
                  </a:path>
                </a:pathLst>
              </a:custGeom>
              <a:ln w="25560">
                <a:solidFill>
                  <a:srgbClr val="00279f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7" name=""/>
          <p:cNvSpPr txBox="1"/>
          <p:nvPr/>
        </p:nvSpPr>
        <p:spPr>
          <a:xfrm>
            <a:off x="2041560" y="3032280"/>
            <a:ext cx="36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041560" y="5973840"/>
            <a:ext cx="35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89080" y="1706400"/>
            <a:ext cx="1433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89080" y="4525920"/>
            <a:ext cx="1235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’s 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727360" y="2490840"/>
            <a:ext cx="1890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(register(B,?a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36440" y="2414520"/>
            <a:ext cx="2322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(register(B,a(p(b)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746280" y="3862440"/>
            <a:ext cx="870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(a,b,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22240" y="5310360"/>
            <a:ext cx="870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(a,b,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879640" y="5310360"/>
            <a:ext cx="857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(a,b,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03680" y="3862440"/>
            <a:ext cx="857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(a,b,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2514600" y="1905120"/>
            <a:ext cx="1600560" cy="2895840"/>
            <a:chOff x="2514600" y="1905120"/>
            <a:chExt cx="1600560" cy="2895840"/>
          </a:xfrm>
        </p:grpSpPr>
        <p:sp>
          <p:nvSpPr>
            <p:cNvPr id="408" name=""/>
            <p:cNvSpPr/>
            <p:nvPr/>
          </p:nvSpPr>
          <p:spPr>
            <a:xfrm>
              <a:off x="2514600" y="3429000"/>
              <a:ext cx="1600560" cy="1371960"/>
            </a:xfrm>
            <a:custGeom>
              <a:avLst/>
              <a:gdLst/>
              <a:ahLst/>
              <a:rect l="0" t="0" r="r" b="b"/>
              <a:pathLst>
                <a:path fill="none" w="4446" h="3811">
                  <a:moveTo>
                    <a:pt x="0" y="3811"/>
                  </a:moveTo>
                  <a:lnTo>
                    <a:pt x="0" y="3811"/>
                  </a:lnTo>
                  <a:cubicBezTo>
                    <a:pt x="780" y="3811"/>
                    <a:pt x="1547" y="3635"/>
                    <a:pt x="2223" y="3300"/>
                  </a:cubicBezTo>
                  <a:cubicBezTo>
                    <a:pt x="2899" y="2966"/>
                    <a:pt x="3460" y="2485"/>
                    <a:pt x="3850" y="1905"/>
                  </a:cubicBezTo>
                  <a:cubicBezTo>
                    <a:pt x="4241" y="1326"/>
                    <a:pt x="4446" y="669"/>
                    <a:pt x="4446" y="0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14600" y="1905120"/>
              <a:ext cx="1600560" cy="1524240"/>
            </a:xfrm>
            <a:custGeom>
              <a:avLst/>
              <a:gdLst/>
              <a:ahLst/>
              <a:rect l="0" t="0" r="r" b="b"/>
              <a:pathLst>
                <a:path fill="none" w="4446" h="4234">
                  <a:moveTo>
                    <a:pt x="4446" y="4234"/>
                  </a:moveTo>
                  <a:lnTo>
                    <a:pt x="4446" y="4234"/>
                  </a:lnTo>
                  <a:lnTo>
                    <a:pt x="4446" y="4234"/>
                  </a:lnTo>
                  <a:cubicBezTo>
                    <a:pt x="4446" y="3491"/>
                    <a:pt x="4241" y="2761"/>
                    <a:pt x="3850" y="2117"/>
                  </a:cubicBezTo>
                  <a:cubicBezTo>
                    <a:pt x="3460" y="1473"/>
                    <a:pt x="2899" y="939"/>
                    <a:pt x="2223" y="567"/>
                  </a:cubicBezTo>
                  <a:cubicBezTo>
                    <a:pt x="1547" y="196"/>
                    <a:pt x="780" y="0"/>
                    <a:pt x="0" y="0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  <a:head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438280" y="4875120"/>
            <a:ext cx="1524240" cy="1526040"/>
            <a:chOff x="2438280" y="4875120"/>
            <a:chExt cx="1524240" cy="1526040"/>
          </a:xfrm>
        </p:grpSpPr>
        <p:sp>
          <p:nvSpPr>
            <p:cNvPr id="411" name=""/>
            <p:cNvSpPr/>
            <p:nvPr/>
          </p:nvSpPr>
          <p:spPr>
            <a:xfrm>
              <a:off x="2438280" y="5679360"/>
              <a:ext cx="1524240" cy="721800"/>
            </a:xfrm>
            <a:custGeom>
              <a:avLst/>
              <a:gdLst/>
              <a:ahLst/>
              <a:rect l="0" t="0" r="r" b="b"/>
              <a:pathLst>
                <a:path fill="none" w="4234" h="2005">
                  <a:moveTo>
                    <a:pt x="0" y="2005"/>
                  </a:moveTo>
                  <a:lnTo>
                    <a:pt x="0" y="2005"/>
                  </a:lnTo>
                  <a:cubicBezTo>
                    <a:pt x="743" y="2005"/>
                    <a:pt x="1473" y="1912"/>
                    <a:pt x="2117" y="1736"/>
                  </a:cubicBezTo>
                  <a:cubicBezTo>
                    <a:pt x="2761" y="1560"/>
                    <a:pt x="3295" y="1307"/>
                    <a:pt x="3667" y="1003"/>
                  </a:cubicBezTo>
                  <a:cubicBezTo>
                    <a:pt x="4038" y="698"/>
                    <a:pt x="4234" y="352"/>
                    <a:pt x="4234" y="0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38280" y="4875120"/>
              <a:ext cx="1524240" cy="802080"/>
            </a:xfrm>
            <a:custGeom>
              <a:avLst/>
              <a:gdLst/>
              <a:ahLst/>
              <a:rect l="0" t="0" r="r" b="b"/>
              <a:pathLst>
                <a:path fill="none" w="4234" h="2228">
                  <a:moveTo>
                    <a:pt x="4234" y="2228"/>
                  </a:moveTo>
                  <a:lnTo>
                    <a:pt x="4234" y="2228"/>
                  </a:lnTo>
                  <a:lnTo>
                    <a:pt x="4234" y="2228"/>
                  </a:lnTo>
                  <a:cubicBezTo>
                    <a:pt x="4234" y="1837"/>
                    <a:pt x="4038" y="1453"/>
                    <a:pt x="3667" y="1114"/>
                  </a:cubicBezTo>
                  <a:cubicBezTo>
                    <a:pt x="3295" y="775"/>
                    <a:pt x="2761" y="494"/>
                    <a:pt x="2117" y="298"/>
                  </a:cubicBezTo>
                  <a:cubicBezTo>
                    <a:pt x="1473" y="103"/>
                    <a:pt x="743" y="0"/>
                    <a:pt x="0" y="0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  <a:head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 txBox="1"/>
          <p:nvPr/>
        </p:nvSpPr>
        <p:spPr>
          <a:xfrm>
            <a:off x="3565440" y="4243320"/>
            <a:ext cx="1022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718080" y="5462640"/>
            <a:ext cx="1022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627120" y="879480"/>
            <a:ext cx="7889760" cy="5832360"/>
            <a:chOff x="627120" y="879480"/>
            <a:chExt cx="7889760" cy="5832360"/>
          </a:xfrm>
        </p:grpSpPr>
        <p:sp>
          <p:nvSpPr>
            <p:cNvPr id="416" name=""/>
            <p:cNvSpPr/>
            <p:nvPr/>
          </p:nvSpPr>
          <p:spPr>
            <a:xfrm>
              <a:off x="1512720" y="3241800"/>
              <a:ext cx="324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12720" y="3701880"/>
              <a:ext cx="324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98680" y="4154400"/>
              <a:ext cx="323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4091040" y="1287360"/>
              <a:ext cx="1505520" cy="1528920"/>
              <a:chOff x="4091040" y="1287360"/>
              <a:chExt cx="1505520" cy="1528920"/>
            </a:xfrm>
          </p:grpSpPr>
          <p:sp>
            <p:nvSpPr>
              <p:cNvPr id="420" name=""/>
              <p:cNvSpPr/>
              <p:nvPr/>
            </p:nvSpPr>
            <p:spPr>
              <a:xfrm>
                <a:off x="4091040" y="1368360"/>
                <a:ext cx="743400" cy="572040"/>
              </a:xfrm>
              <a:custGeom>
                <a:avLst/>
                <a:gdLst/>
                <a:ahLst/>
                <a:rect l="0" t="0" r="r" b="b"/>
                <a:pathLst>
                  <a:path w="2065" h="1589">
                    <a:moveTo>
                      <a:pt x="0" y="0"/>
                    </a:moveTo>
                    <a:lnTo>
                      <a:pt x="0" y="1589"/>
                    </a:lnTo>
                    <a:lnTo>
                      <a:pt x="1445" y="1589"/>
                    </a:lnTo>
                    <a:lnTo>
                      <a:pt x="2065" y="794"/>
                    </a:lnTo>
                    <a:lnTo>
                      <a:pt x="14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 txBox="1"/>
              <p:nvPr/>
            </p:nvSpPr>
            <p:spPr>
              <a:xfrm>
                <a:off x="4098960" y="1287360"/>
                <a:ext cx="70812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T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62560" y="1940040"/>
                <a:ext cx="0" cy="84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243320" y="1482840"/>
                <a:ext cx="743400" cy="572040"/>
              </a:xfrm>
              <a:custGeom>
                <a:avLst/>
                <a:gdLst/>
                <a:ahLst/>
                <a:rect l="0" t="0" r="r" b="b"/>
                <a:pathLst>
                  <a:path w="2065" h="1589">
                    <a:moveTo>
                      <a:pt x="0" y="0"/>
                    </a:moveTo>
                    <a:lnTo>
                      <a:pt x="0" y="1589"/>
                    </a:lnTo>
                    <a:lnTo>
                      <a:pt x="1445" y="1589"/>
                    </a:lnTo>
                    <a:lnTo>
                      <a:pt x="2065" y="794"/>
                    </a:lnTo>
                    <a:lnTo>
                      <a:pt x="14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 txBox="1"/>
              <p:nvPr/>
            </p:nvSpPr>
            <p:spPr>
              <a:xfrm>
                <a:off x="4251240" y="1401840"/>
                <a:ext cx="70812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T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4605480" y="2054160"/>
                <a:ext cx="936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395960" y="1596960"/>
                <a:ext cx="743400" cy="572040"/>
              </a:xfrm>
              <a:custGeom>
                <a:avLst/>
                <a:gdLst/>
                <a:ahLst/>
                <a:rect l="0" t="0" r="r" b="b"/>
                <a:pathLst>
                  <a:path w="2065" h="1589">
                    <a:moveTo>
                      <a:pt x="0" y="0"/>
                    </a:moveTo>
                    <a:lnTo>
                      <a:pt x="0" y="1589"/>
                    </a:lnTo>
                    <a:lnTo>
                      <a:pt x="1445" y="1589"/>
                    </a:lnTo>
                    <a:lnTo>
                      <a:pt x="2065" y="794"/>
                    </a:lnTo>
                    <a:lnTo>
                      <a:pt x="14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 txBox="1"/>
              <p:nvPr/>
            </p:nvSpPr>
            <p:spPr>
              <a:xfrm>
                <a:off x="4403880" y="1515960"/>
                <a:ext cx="70812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T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67120" y="216864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1711440"/>
                <a:ext cx="743400" cy="572040"/>
              </a:xfrm>
              <a:custGeom>
                <a:avLst/>
                <a:gdLst/>
                <a:ahLst/>
                <a:rect l="0" t="0" r="r" b="b"/>
                <a:pathLst>
                  <a:path w="2065" h="1589">
                    <a:moveTo>
                      <a:pt x="0" y="0"/>
                    </a:moveTo>
                    <a:lnTo>
                      <a:pt x="0" y="1589"/>
                    </a:lnTo>
                    <a:lnTo>
                      <a:pt x="1445" y="1589"/>
                    </a:lnTo>
                    <a:lnTo>
                      <a:pt x="2065" y="794"/>
                    </a:lnTo>
                    <a:lnTo>
                      <a:pt x="14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 txBox="1"/>
              <p:nvPr/>
            </p:nvSpPr>
            <p:spPr>
              <a:xfrm>
                <a:off x="4556160" y="1630440"/>
                <a:ext cx="70812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T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4910040" y="2281320"/>
                <a:ext cx="9720" cy="51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00520" y="1825560"/>
                <a:ext cx="743400" cy="572040"/>
              </a:xfrm>
              <a:custGeom>
                <a:avLst/>
                <a:gdLst/>
                <a:ahLst/>
                <a:rect l="0" t="0" r="r" b="b"/>
                <a:pathLst>
                  <a:path w="2065" h="1589">
                    <a:moveTo>
                      <a:pt x="0" y="0"/>
                    </a:moveTo>
                    <a:lnTo>
                      <a:pt x="0" y="1589"/>
                    </a:lnTo>
                    <a:lnTo>
                      <a:pt x="1445" y="1589"/>
                    </a:lnTo>
                    <a:lnTo>
                      <a:pt x="2065" y="794"/>
                    </a:lnTo>
                    <a:lnTo>
                      <a:pt x="14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 txBox="1"/>
              <p:nvPr/>
            </p:nvSpPr>
            <p:spPr>
              <a:xfrm>
                <a:off x="4708440" y="1744560"/>
                <a:ext cx="70812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T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072040" y="2397240"/>
                <a:ext cx="0" cy="399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853160" y="1940040"/>
                <a:ext cx="743400" cy="572040"/>
              </a:xfrm>
              <a:custGeom>
                <a:avLst/>
                <a:gdLst/>
                <a:ahLst/>
                <a:rect l="0" t="0" r="r" b="b"/>
                <a:pathLst>
                  <a:path w="2065" h="1589">
                    <a:moveTo>
                      <a:pt x="0" y="0"/>
                    </a:moveTo>
                    <a:lnTo>
                      <a:pt x="0" y="1589"/>
                    </a:lnTo>
                    <a:lnTo>
                      <a:pt x="1445" y="1589"/>
                    </a:lnTo>
                    <a:lnTo>
                      <a:pt x="2065" y="794"/>
                    </a:lnTo>
                    <a:lnTo>
                      <a:pt x="14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 txBox="1"/>
              <p:nvPr/>
            </p:nvSpPr>
            <p:spPr>
              <a:xfrm>
                <a:off x="4861080" y="1859040"/>
                <a:ext cx="708120" cy="41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T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5214960" y="2511360"/>
                <a:ext cx="9360" cy="29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1785960" y="2959200"/>
              <a:ext cx="914760" cy="1486440"/>
              <a:chOff x="1785960" y="2959200"/>
              <a:chExt cx="914760" cy="1486440"/>
            </a:xfrm>
          </p:grpSpPr>
          <p:sp>
            <p:nvSpPr>
              <p:cNvPr id="439" name=""/>
              <p:cNvSpPr/>
              <p:nvPr/>
            </p:nvSpPr>
            <p:spPr>
              <a:xfrm>
                <a:off x="2128680" y="2959200"/>
                <a:ext cx="572040" cy="1486440"/>
              </a:xfrm>
              <a:custGeom>
                <a:avLst/>
                <a:gdLst/>
                <a:ahLst/>
                <a:rect l="0" t="0" r="r" b="b"/>
                <a:pathLst>
                  <a:path w="1589" h="4129">
                    <a:moveTo>
                      <a:pt x="1589" y="4129"/>
                    </a:moveTo>
                    <a:lnTo>
                      <a:pt x="1112" y="0"/>
                    </a:lnTo>
                    <a:lnTo>
                      <a:pt x="477" y="0"/>
                    </a:lnTo>
                    <a:lnTo>
                      <a:pt x="0" y="4129"/>
                    </a:lnTo>
                    <a:lnTo>
                      <a:pt x="1589" y="4129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785960" y="3073320"/>
                <a:ext cx="343080" cy="3430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785960" y="3530520"/>
                <a:ext cx="343080" cy="3430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785960" y="3987720"/>
                <a:ext cx="343080" cy="3430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2700360" y="3473280"/>
              <a:ext cx="102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00360" y="3930480"/>
              <a:ext cx="102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681120" y="3516480"/>
              <a:ext cx="87948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QM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47800" y="3016080"/>
              <a:ext cx="1029960" cy="343440"/>
            </a:xfrm>
            <a:custGeom>
              <a:avLst/>
              <a:gdLst/>
              <a:ahLst/>
              <a:rect l="0" t="0" r="r" b="b"/>
              <a:pathLst>
                <a:path fill="none" w="2861" h="954">
                  <a:moveTo>
                    <a:pt x="2861" y="954"/>
                  </a:moveTo>
                  <a:lnTo>
                    <a:pt x="2861" y="954"/>
                  </a:lnTo>
                  <a:lnTo>
                    <a:pt x="2861" y="954"/>
                  </a:lnTo>
                  <a:cubicBezTo>
                    <a:pt x="2861" y="787"/>
                    <a:pt x="2729" y="622"/>
                    <a:pt x="2478" y="477"/>
                  </a:cubicBezTo>
                  <a:cubicBezTo>
                    <a:pt x="2227" y="332"/>
                    <a:pt x="1865" y="212"/>
                    <a:pt x="1430" y="128"/>
                  </a:cubicBezTo>
                  <a:cubicBezTo>
                    <a:pt x="996" y="44"/>
                    <a:pt x="502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272360" y="4276080"/>
              <a:ext cx="1029240" cy="344160"/>
            </a:xfrm>
            <a:custGeom>
              <a:avLst/>
              <a:gdLst/>
              <a:ahLst/>
              <a:rect l="0" t="0" r="r" b="b"/>
              <a:pathLst>
                <a:path fill="none" w="2859" h="956">
                  <a:moveTo>
                    <a:pt x="0" y="0"/>
                  </a:moveTo>
                  <a:lnTo>
                    <a:pt x="0" y="956"/>
                  </a:lnTo>
                  <a:lnTo>
                    <a:pt x="0" y="956"/>
                  </a:lnTo>
                  <a:cubicBezTo>
                    <a:pt x="502" y="956"/>
                    <a:pt x="995" y="912"/>
                    <a:pt x="1430" y="828"/>
                  </a:cubicBezTo>
                  <a:cubicBezTo>
                    <a:pt x="1864" y="744"/>
                    <a:pt x="2225" y="623"/>
                    <a:pt x="2476" y="478"/>
                  </a:cubicBezTo>
                  <a:cubicBezTo>
                    <a:pt x="2727" y="333"/>
                    <a:pt x="2859" y="168"/>
                    <a:pt x="2859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  <a:head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157880" y="3073320"/>
              <a:ext cx="1257480" cy="12574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7078680" y="3373560"/>
              <a:ext cx="1438200" cy="87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Q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vers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d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786120" y="2787480"/>
              <a:ext cx="2400480" cy="182880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3863880" y="2857680"/>
              <a:ext cx="2316240" cy="16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nd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uple Spa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3387600" y="879480"/>
              <a:ext cx="291636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va Agent Component Thread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57640" y="5767560"/>
              <a:ext cx="771840" cy="390960"/>
            </a:xfrm>
            <a:custGeom>
              <a:avLst/>
              <a:gdLst/>
              <a:ahLst/>
              <a:rect l="0" t="0" r="r" b="b"/>
              <a:pathLst>
                <a:path w="2144" h="1086">
                  <a:moveTo>
                    <a:pt x="0" y="0"/>
                  </a:moveTo>
                  <a:lnTo>
                    <a:pt x="642" y="1086"/>
                  </a:lnTo>
                  <a:lnTo>
                    <a:pt x="1501" y="1086"/>
                  </a:lnTo>
                  <a:lnTo>
                    <a:pt x="21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29160" y="462456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4600440" y="4626000"/>
              <a:ext cx="771840" cy="991080"/>
              <a:chOff x="4600440" y="4626000"/>
              <a:chExt cx="771840" cy="991080"/>
            </a:xfrm>
          </p:grpSpPr>
          <p:sp>
            <p:nvSpPr>
              <p:cNvPr id="456" name=""/>
              <p:cNvSpPr/>
              <p:nvPr/>
            </p:nvSpPr>
            <p:spPr>
              <a:xfrm>
                <a:off x="4600440" y="5226120"/>
                <a:ext cx="771840" cy="390960"/>
              </a:xfrm>
              <a:custGeom>
                <a:avLst/>
                <a:gdLst/>
                <a:ahLst/>
                <a:rect l="0" t="0" r="r" b="b"/>
                <a:pathLst>
                  <a:path w="2144" h="1086">
                    <a:moveTo>
                      <a:pt x="0" y="0"/>
                    </a:moveTo>
                    <a:lnTo>
                      <a:pt x="642" y="1086"/>
                    </a:lnTo>
                    <a:lnTo>
                      <a:pt x="1501" y="1086"/>
                    </a:lnTo>
                    <a:lnTo>
                      <a:pt x="21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4971960" y="4626000"/>
                <a:ext cx="9720" cy="60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 flipH="1">
              <a:off x="5442120" y="4626000"/>
              <a:ext cx="9360" cy="1273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5519880" y="4606920"/>
              <a:ext cx="771840" cy="991080"/>
              <a:chOff x="5519880" y="4606920"/>
              <a:chExt cx="771840" cy="991080"/>
            </a:xfrm>
          </p:grpSpPr>
          <p:sp>
            <p:nvSpPr>
              <p:cNvPr id="460" name=""/>
              <p:cNvSpPr/>
              <p:nvPr/>
            </p:nvSpPr>
            <p:spPr>
              <a:xfrm>
                <a:off x="5519880" y="5207040"/>
                <a:ext cx="771840" cy="390960"/>
              </a:xfrm>
              <a:custGeom>
                <a:avLst/>
                <a:gdLst/>
                <a:ahLst/>
                <a:rect l="0" t="0" r="r" b="b"/>
                <a:pathLst>
                  <a:path w="2144" h="1086">
                    <a:moveTo>
                      <a:pt x="0" y="0"/>
                    </a:moveTo>
                    <a:lnTo>
                      <a:pt x="642" y="1086"/>
                    </a:lnTo>
                    <a:lnTo>
                      <a:pt x="1501" y="1086"/>
                    </a:lnTo>
                    <a:lnTo>
                      <a:pt x="21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5891040" y="4606920"/>
                <a:ext cx="9720" cy="60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3700440" y="4587840"/>
              <a:ext cx="771840" cy="991080"/>
              <a:chOff x="3700440" y="4587840"/>
              <a:chExt cx="771840" cy="991080"/>
            </a:xfrm>
          </p:grpSpPr>
          <p:sp>
            <p:nvSpPr>
              <p:cNvPr id="463" name=""/>
              <p:cNvSpPr/>
              <p:nvPr/>
            </p:nvSpPr>
            <p:spPr>
              <a:xfrm>
                <a:off x="3700440" y="5187960"/>
                <a:ext cx="771840" cy="390960"/>
              </a:xfrm>
              <a:custGeom>
                <a:avLst/>
                <a:gdLst/>
                <a:ahLst/>
                <a:rect l="0" t="0" r="r" b="b"/>
                <a:pathLst>
                  <a:path w="2144" h="1086">
                    <a:moveTo>
                      <a:pt x="0" y="0"/>
                    </a:moveTo>
                    <a:lnTo>
                      <a:pt x="642" y="1086"/>
                    </a:lnTo>
                    <a:lnTo>
                      <a:pt x="1501" y="1086"/>
                    </a:lnTo>
                    <a:lnTo>
                      <a:pt x="21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4071960" y="4587840"/>
                <a:ext cx="9360" cy="60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 txBox="1"/>
            <p:nvPr/>
          </p:nvSpPr>
          <p:spPr>
            <a:xfrm>
              <a:off x="3787920" y="6343560"/>
              <a:ext cx="239544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apters and Effecto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 txBox="1"/>
            <p:nvPr/>
          </p:nvSpPr>
          <p:spPr>
            <a:xfrm>
              <a:off x="4844880" y="5262480"/>
              <a:ext cx="52380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5502240" y="5241960"/>
              <a:ext cx="78912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76720" y="5776920"/>
              <a:ext cx="771840" cy="390960"/>
            </a:xfrm>
            <a:custGeom>
              <a:avLst/>
              <a:gdLst/>
              <a:ahLst/>
              <a:rect l="0" t="0" r="r" b="b"/>
              <a:pathLst>
                <a:path w="2144" h="1086">
                  <a:moveTo>
                    <a:pt x="0" y="0"/>
                  </a:moveTo>
                  <a:lnTo>
                    <a:pt x="642" y="1086"/>
                  </a:lnTo>
                  <a:lnTo>
                    <a:pt x="1501" y="1086"/>
                  </a:lnTo>
                  <a:lnTo>
                    <a:pt x="21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5118120" y="5765760"/>
              <a:ext cx="70020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ma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627120" y="2482920"/>
              <a:ext cx="1219320" cy="30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port adap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38360" y="2787480"/>
              <a:ext cx="291960" cy="420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>
              <a:off x="1768320" y="3502080"/>
              <a:ext cx="1036800" cy="30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witchboar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2295360" y="2530440"/>
              <a:ext cx="6480" cy="534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556000" y="2508120"/>
              <a:ext cx="14040" cy="693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179800" y="2116080"/>
              <a:ext cx="577800" cy="3999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2076480" y="1996920"/>
              <a:ext cx="733320" cy="64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res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c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 Softw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98400" y="1498680"/>
            <a:ext cx="7746840" cy="41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rief look at some KQML API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etail -- K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c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Q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T-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Agent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727280"/>
            <a:ext cx="4038480" cy="421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TLite set of Java packages which makes easy to build KQML-Speaking multi-agent systems using Ja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d at the Stanford Center for Desig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a layered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load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ttp://java.stanford.edu/java_agent/html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527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QM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371600"/>
            <a:ext cx="38862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76040" indent="-1760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QML application adds KQML functionality to any Tcl/Tk sh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QML allows Tcl based applications to communicate via KQ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rporates tools for a facilitated environment (resource broker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s are registered dynamically for handling incoming mess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processing is interrupted by handler, and resumes when message handling is compl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&lt;http://kqml.org/tkqml&gt; or send email to tkqml@kqml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2209680"/>
            <a:ext cx="2209680" cy="12952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562720" y="1523880"/>
            <a:ext cx="1752480" cy="9144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708440" y="3328920"/>
            <a:ext cx="39304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receiver b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reply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 send_msg 0 tell 24 receiver re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0" y="4800600"/>
            <a:ext cx="1447920" cy="7621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784760" y="4975200"/>
            <a:ext cx="10288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KQ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334120" y="2514600"/>
            <a:ext cx="1295280" cy="685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5468760" y="2362320"/>
            <a:ext cx="1103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s 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5638680"/>
            <a:ext cx="1447920" cy="4572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5927760" y="5737320"/>
            <a:ext cx="111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5697360" y="1623960"/>
            <a:ext cx="147780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QML w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ly interpr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as a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334120" y="4114800"/>
            <a:ext cx="304560" cy="685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477120" y="4114800"/>
            <a:ext cx="228600" cy="15238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705720" y="4952880"/>
            <a:ext cx="914400" cy="4572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765840" y="5051520"/>
            <a:ext cx="747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010280" y="4114800"/>
            <a:ext cx="152640" cy="8380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916680" y="2309760"/>
            <a:ext cx="21985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reply 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able, TKQML w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, and a reference to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message will 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d in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400800" y="31240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477120" y="2438280"/>
            <a:ext cx="838080" cy="1524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001000" y="3505320"/>
            <a:ext cx="15228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QML Agent Control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61800" y="2476440"/>
            <a:ext cx="3143160" cy="255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control and monitoring of all agents in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ten entirely as Tcl script for TKQML sh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CARRO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3728880" y="1771560"/>
            <a:ext cx="52102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S: KQML Agent Technology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71680" y="2031840"/>
            <a:ext cx="8001000" cy="452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463680" indent="-41292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for building KQML speak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s for programming languages C, Java, Lisp, Prolog, Perl,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s for representation languages such as LOOM, CYC, 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appers for systems such as Sybase, Ingress, Oracle, mSQL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1292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router sub-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-41292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name server, broker, authenticator, control agent, communication visualize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1292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ntolog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286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gents, authenticatio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1292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lin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4920" y="228600"/>
            <a:ext cx="853452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heed/UMBC KQML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ftware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49800" y="1905120"/>
            <a:ext cx="474192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47680" indent="-247680">
              <a:lnSpc>
                <a:spcPct val="8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09600">
              <a:lnSpc>
                <a:spcPct val="8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 independent message rou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09600">
              <a:lnSpc>
                <a:spcPct val="8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er  agent - handles  sending and  asynchronous receiving of mess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7680" indent="-247680">
              <a:lnSpc>
                <a:spcPct val="8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09600">
              <a:lnSpc>
                <a:spcPct val="8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Representation Interface Libr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09600">
              <a:lnSpc>
                <a:spcPct val="8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 makes application look like a K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7680" indent="-247680">
              <a:lnSpc>
                <a:spcPct val="8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09600">
              <a:lnSpc>
                <a:spcPct val="8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nam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09600">
              <a:lnSpc>
                <a:spcPct val="8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ger, Controller, Visualizer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09600">
              <a:lnSpc>
                <a:spcPct val="8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rs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09600">
              <a:lnSpc>
                <a:spcPct val="8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 agents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09600">
              <a:lnSpc>
                <a:spcPct val="8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tors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9240" y="5614920"/>
            <a:ext cx="852480" cy="2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5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Networ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98520" y="2506680"/>
            <a:ext cx="3328920" cy="3110040"/>
            <a:chOff x="398520" y="2506680"/>
            <a:chExt cx="3328920" cy="3110040"/>
          </a:xfrm>
        </p:grpSpPr>
        <p:sp>
          <p:nvSpPr>
            <p:cNvPr id="56" name=""/>
            <p:cNvSpPr/>
            <p:nvPr/>
          </p:nvSpPr>
          <p:spPr>
            <a:xfrm>
              <a:off x="2494080" y="2927520"/>
              <a:ext cx="1140120" cy="1418040"/>
            </a:xfrm>
            <a:custGeom>
              <a:avLst/>
              <a:gdLst/>
              <a:ahLst/>
              <a:rect l="0" t="0" r="r" b="b"/>
              <a:pathLst>
                <a:path w="3167" h="3939">
                  <a:moveTo>
                    <a:pt x="3167" y="3939"/>
                  </a:moveTo>
                  <a:lnTo>
                    <a:pt x="633" y="3939"/>
                  </a:lnTo>
                  <a:lnTo>
                    <a:pt x="0" y="3152"/>
                  </a:lnTo>
                  <a:lnTo>
                    <a:pt x="0" y="0"/>
                  </a:lnTo>
                  <a:lnTo>
                    <a:pt x="633" y="787"/>
                  </a:lnTo>
                  <a:lnTo>
                    <a:pt x="633" y="3939"/>
                  </a:lnTo>
                  <a:lnTo>
                    <a:pt x="633" y="787"/>
                  </a:lnTo>
                  <a:lnTo>
                    <a:pt x="3167" y="787"/>
                  </a:lnTo>
                  <a:lnTo>
                    <a:pt x="2533" y="0"/>
                  </a:lnTo>
                  <a:lnTo>
                    <a:pt x="0" y="0"/>
                  </a:lnTo>
                  <a:lnTo>
                    <a:pt x="2533" y="0"/>
                  </a:lnTo>
                  <a:lnTo>
                    <a:pt x="3167" y="787"/>
                  </a:lnTo>
                  <a:lnTo>
                    <a:pt x="3167" y="3939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2838600" y="3571920"/>
              <a:ext cx="88884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en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94080" y="3228840"/>
              <a:ext cx="259200" cy="808560"/>
            </a:xfrm>
            <a:custGeom>
              <a:avLst/>
              <a:gdLst/>
              <a:ahLst/>
              <a:rect l="0" t="0" r="r" b="b"/>
              <a:pathLst>
                <a:path w="720" h="2246">
                  <a:moveTo>
                    <a:pt x="720" y="2246"/>
                  </a:moveTo>
                  <a:lnTo>
                    <a:pt x="143" y="2246"/>
                  </a:lnTo>
                  <a:lnTo>
                    <a:pt x="0" y="1797"/>
                  </a:lnTo>
                  <a:lnTo>
                    <a:pt x="0" y="0"/>
                  </a:lnTo>
                  <a:lnTo>
                    <a:pt x="143" y="448"/>
                  </a:lnTo>
                  <a:lnTo>
                    <a:pt x="143" y="2246"/>
                  </a:lnTo>
                  <a:lnTo>
                    <a:pt x="143" y="448"/>
                  </a:lnTo>
                  <a:lnTo>
                    <a:pt x="720" y="448"/>
                  </a:lnTo>
                  <a:lnTo>
                    <a:pt x="577" y="0"/>
                  </a:lnTo>
                  <a:lnTo>
                    <a:pt x="0" y="0"/>
                  </a:lnTo>
                  <a:lnTo>
                    <a:pt x="577" y="0"/>
                  </a:lnTo>
                  <a:lnTo>
                    <a:pt x="720" y="448"/>
                  </a:lnTo>
                  <a:lnTo>
                    <a:pt x="720" y="224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98520" y="2506680"/>
              <a:ext cx="425520" cy="3110040"/>
              <a:chOff x="398520" y="2506680"/>
              <a:chExt cx="425520" cy="3110040"/>
            </a:xfrm>
          </p:grpSpPr>
          <p:sp>
            <p:nvSpPr>
              <p:cNvPr id="60" name=""/>
              <p:cNvSpPr/>
              <p:nvPr/>
            </p:nvSpPr>
            <p:spPr>
              <a:xfrm>
                <a:off x="398520" y="2506680"/>
                <a:ext cx="425520" cy="31100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4040" y="2506680"/>
                <a:ext cx="0" cy="3110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8520" y="2506680"/>
                <a:ext cx="0" cy="3110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7800" y="2506680"/>
                <a:ext cx="0" cy="3110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38280" y="2506680"/>
                <a:ext cx="0" cy="311004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1841400" y="3228840"/>
              <a:ext cx="254520" cy="808560"/>
            </a:xfrm>
            <a:custGeom>
              <a:avLst/>
              <a:gdLst/>
              <a:ahLst/>
              <a:rect l="0" t="0" r="r" b="b"/>
              <a:pathLst>
                <a:path w="707" h="2246">
                  <a:moveTo>
                    <a:pt x="707" y="2246"/>
                  </a:moveTo>
                  <a:lnTo>
                    <a:pt x="141" y="2246"/>
                  </a:lnTo>
                  <a:lnTo>
                    <a:pt x="0" y="1797"/>
                  </a:lnTo>
                  <a:lnTo>
                    <a:pt x="0" y="0"/>
                  </a:lnTo>
                  <a:lnTo>
                    <a:pt x="141" y="448"/>
                  </a:lnTo>
                  <a:lnTo>
                    <a:pt x="141" y="2246"/>
                  </a:lnTo>
                  <a:lnTo>
                    <a:pt x="141" y="448"/>
                  </a:lnTo>
                  <a:lnTo>
                    <a:pt x="707" y="448"/>
                  </a:lnTo>
                  <a:lnTo>
                    <a:pt x="566" y="0"/>
                  </a:lnTo>
                  <a:lnTo>
                    <a:pt x="0" y="0"/>
                  </a:lnTo>
                  <a:lnTo>
                    <a:pt x="566" y="0"/>
                  </a:lnTo>
                  <a:lnTo>
                    <a:pt x="707" y="448"/>
                  </a:lnTo>
                  <a:lnTo>
                    <a:pt x="707" y="2246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27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92320" y="3664080"/>
              <a:ext cx="479520" cy="0"/>
            </a:xfrm>
            <a:prstGeom prst="line">
              <a:avLst/>
            </a:prstGeom>
            <a:ln w="7632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44560" y="3649680"/>
              <a:ext cx="1054080" cy="0"/>
            </a:xfrm>
            <a:prstGeom prst="line">
              <a:avLst/>
            </a:prstGeom>
            <a:ln w="38160">
              <a:solidFill>
                <a:srgbClr val="00279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1603440" y="4079880"/>
              <a:ext cx="86688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oute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1500120" y="2724120"/>
              <a:ext cx="7603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RI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87720" y="2955960"/>
              <a:ext cx="411120" cy="615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82960" y="4041720"/>
              <a:ext cx="679320" cy="3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857160" y="3230640"/>
              <a:ext cx="74916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i="1" lang="en-US" sz="1600" spc="-1" strike="noStrike">
                  <a:solidFill>
                    <a:srgbClr val="00279f"/>
                  </a:solidFill>
                  <a:latin typeface="Times New Roman"/>
                  <a:ea typeface="Times New Roman"/>
                </a:rPr>
                <a:t>KQ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28600" y="16524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heed/UMBC KQML Rou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0" y="1803240"/>
            <a:ext cx="4343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27080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outer sub-agent provides an easy-to-use link between application and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1522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as a separate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1522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 multiple transport protocols and syn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1522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 many communication details...manages multiple simultaneous connection, caches connections, proxy agen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1522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les some KQML interactions autonom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55880" y="2558880"/>
            <a:ext cx="1267200" cy="1576800"/>
          </a:xfrm>
          <a:custGeom>
            <a:avLst/>
            <a:gdLst/>
            <a:ahLst/>
            <a:rect l="0" t="0" r="r" b="b"/>
            <a:pathLst>
              <a:path w="3520" h="4380">
                <a:moveTo>
                  <a:pt x="3520" y="4380"/>
                </a:moveTo>
                <a:lnTo>
                  <a:pt x="703" y="4380"/>
                </a:lnTo>
                <a:lnTo>
                  <a:pt x="0" y="3505"/>
                </a:lnTo>
                <a:lnTo>
                  <a:pt x="0" y="0"/>
                </a:lnTo>
                <a:lnTo>
                  <a:pt x="703" y="875"/>
                </a:lnTo>
                <a:lnTo>
                  <a:pt x="703" y="4380"/>
                </a:lnTo>
                <a:lnTo>
                  <a:pt x="703" y="875"/>
                </a:lnTo>
                <a:lnTo>
                  <a:pt x="3520" y="875"/>
                </a:lnTo>
                <a:lnTo>
                  <a:pt x="2817" y="0"/>
                </a:lnTo>
                <a:lnTo>
                  <a:pt x="0" y="0"/>
                </a:lnTo>
                <a:lnTo>
                  <a:pt x="2817" y="0"/>
                </a:lnTo>
                <a:lnTo>
                  <a:pt x="3520" y="875"/>
                </a:lnTo>
                <a:lnTo>
                  <a:pt x="3520" y="438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55880" y="2894040"/>
            <a:ext cx="286200" cy="898920"/>
          </a:xfrm>
          <a:custGeom>
            <a:avLst/>
            <a:gdLst/>
            <a:ahLst/>
            <a:rect l="0" t="0" r="r" b="b"/>
            <a:pathLst>
              <a:path w="795" h="2497">
                <a:moveTo>
                  <a:pt x="795" y="2497"/>
                </a:moveTo>
                <a:lnTo>
                  <a:pt x="158" y="2497"/>
                </a:lnTo>
                <a:lnTo>
                  <a:pt x="0" y="1998"/>
                </a:lnTo>
                <a:lnTo>
                  <a:pt x="0" y="0"/>
                </a:lnTo>
                <a:lnTo>
                  <a:pt x="158" y="499"/>
                </a:lnTo>
                <a:lnTo>
                  <a:pt x="158" y="2497"/>
                </a:lnTo>
                <a:lnTo>
                  <a:pt x="158" y="499"/>
                </a:lnTo>
                <a:lnTo>
                  <a:pt x="795" y="499"/>
                </a:lnTo>
                <a:lnTo>
                  <a:pt x="637" y="0"/>
                </a:lnTo>
                <a:lnTo>
                  <a:pt x="0" y="0"/>
                </a:lnTo>
                <a:lnTo>
                  <a:pt x="637" y="0"/>
                </a:lnTo>
                <a:lnTo>
                  <a:pt x="795" y="499"/>
                </a:lnTo>
                <a:lnTo>
                  <a:pt x="795" y="2497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7040" y="2093760"/>
            <a:ext cx="471600" cy="3456000"/>
            <a:chOff x="527040" y="2093760"/>
            <a:chExt cx="471600" cy="3456000"/>
          </a:xfrm>
        </p:grpSpPr>
        <p:sp>
          <p:nvSpPr>
            <p:cNvPr id="78" name=""/>
            <p:cNvSpPr/>
            <p:nvPr/>
          </p:nvSpPr>
          <p:spPr>
            <a:xfrm>
              <a:off x="527040" y="2093760"/>
              <a:ext cx="471600" cy="34560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98640" y="2093760"/>
              <a:ext cx="0" cy="34560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7040" y="2093760"/>
              <a:ext cx="0" cy="34560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7200" y="2093760"/>
              <a:ext cx="0" cy="34560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3800" y="2093760"/>
              <a:ext cx="0" cy="34560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 txBox="1"/>
          <p:nvPr/>
        </p:nvSpPr>
        <p:spPr>
          <a:xfrm>
            <a:off x="328680" y="5543640"/>
            <a:ext cx="96192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7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Networ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0480" y="2894040"/>
            <a:ext cx="282960" cy="898920"/>
          </a:xfrm>
          <a:custGeom>
            <a:avLst/>
            <a:gdLst/>
            <a:ahLst/>
            <a:rect l="0" t="0" r="r" b="b"/>
            <a:pathLst>
              <a:path w="786" h="2497">
                <a:moveTo>
                  <a:pt x="786" y="2497"/>
                </a:moveTo>
                <a:lnTo>
                  <a:pt x="156" y="2497"/>
                </a:lnTo>
                <a:lnTo>
                  <a:pt x="0" y="1998"/>
                </a:lnTo>
                <a:lnTo>
                  <a:pt x="0" y="0"/>
                </a:lnTo>
                <a:lnTo>
                  <a:pt x="156" y="499"/>
                </a:lnTo>
                <a:lnTo>
                  <a:pt x="156" y="2497"/>
                </a:lnTo>
                <a:lnTo>
                  <a:pt x="156" y="499"/>
                </a:lnTo>
                <a:lnTo>
                  <a:pt x="786" y="499"/>
                </a:lnTo>
                <a:lnTo>
                  <a:pt x="629" y="0"/>
                </a:lnTo>
                <a:lnTo>
                  <a:pt x="0" y="0"/>
                </a:lnTo>
                <a:lnTo>
                  <a:pt x="629" y="0"/>
                </a:lnTo>
                <a:lnTo>
                  <a:pt x="786" y="499"/>
                </a:lnTo>
                <a:lnTo>
                  <a:pt x="786" y="2497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3379680"/>
            <a:ext cx="533160" cy="0"/>
          </a:xfrm>
          <a:prstGeom prst="line">
            <a:avLst/>
          </a:prstGeom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22400" y="3363840"/>
            <a:ext cx="1171440" cy="0"/>
          </a:xfrm>
          <a:prstGeom prst="line">
            <a:avLst/>
          </a:prstGeom>
          <a:ln w="3816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65160" y="3840120"/>
            <a:ext cx="95868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100" spc="-1" strike="noStrike">
                <a:solidFill>
                  <a:srgbClr val="ff5008"/>
                </a:solidFill>
                <a:latin typeface="Times New Roman"/>
                <a:ea typeface="Times New Roman"/>
              </a:rPr>
              <a:t>Rout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46240" y="439596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KQ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308320" y="4395960"/>
            <a:ext cx="90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KQ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523880" y="33526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666880" y="33526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14680" y="3889440"/>
            <a:ext cx="6778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81320" y="3260880"/>
            <a:ext cx="123984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28600" y="16524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 KRI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402080" y="1752480"/>
            <a:ext cx="45133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KRIL is part of the application and has access to its inter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17136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internal access points to which the router delivers incoming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17136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es outgoing messages for appropriate domain tagging and rou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17136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pplication specific interface and procedures for communication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0200" y="3465360"/>
            <a:ext cx="1013040" cy="1257840"/>
          </a:xfrm>
          <a:custGeom>
            <a:avLst/>
            <a:gdLst/>
            <a:ahLst/>
            <a:rect l="0" t="0" r="r" b="b"/>
            <a:pathLst>
              <a:path w="2814" h="3494">
                <a:moveTo>
                  <a:pt x="2814" y="3494"/>
                </a:moveTo>
                <a:lnTo>
                  <a:pt x="562" y="3494"/>
                </a:lnTo>
                <a:lnTo>
                  <a:pt x="0" y="2796"/>
                </a:lnTo>
                <a:lnTo>
                  <a:pt x="0" y="0"/>
                </a:lnTo>
                <a:lnTo>
                  <a:pt x="562" y="698"/>
                </a:lnTo>
                <a:lnTo>
                  <a:pt x="562" y="3494"/>
                </a:lnTo>
                <a:lnTo>
                  <a:pt x="562" y="698"/>
                </a:lnTo>
                <a:lnTo>
                  <a:pt x="2814" y="698"/>
                </a:lnTo>
                <a:lnTo>
                  <a:pt x="2251" y="0"/>
                </a:lnTo>
                <a:lnTo>
                  <a:pt x="0" y="0"/>
                </a:lnTo>
                <a:lnTo>
                  <a:pt x="2251" y="0"/>
                </a:lnTo>
                <a:lnTo>
                  <a:pt x="2814" y="698"/>
                </a:lnTo>
                <a:lnTo>
                  <a:pt x="2814" y="3494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4330800"/>
            <a:ext cx="54936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51000" y="3735360"/>
            <a:ext cx="228960" cy="713160"/>
          </a:xfrm>
          <a:custGeom>
            <a:avLst/>
            <a:gdLst/>
            <a:ahLst/>
            <a:rect l="0" t="0" r="r" b="b"/>
            <a:pathLst>
              <a:path w="636" h="1981">
                <a:moveTo>
                  <a:pt x="636" y="1981"/>
                </a:moveTo>
                <a:lnTo>
                  <a:pt x="127" y="1981"/>
                </a:lnTo>
                <a:lnTo>
                  <a:pt x="0" y="1585"/>
                </a:lnTo>
                <a:lnTo>
                  <a:pt x="0" y="0"/>
                </a:lnTo>
                <a:lnTo>
                  <a:pt x="127" y="395"/>
                </a:lnTo>
                <a:lnTo>
                  <a:pt x="127" y="1981"/>
                </a:lnTo>
                <a:lnTo>
                  <a:pt x="127" y="395"/>
                </a:lnTo>
                <a:lnTo>
                  <a:pt x="636" y="395"/>
                </a:lnTo>
                <a:lnTo>
                  <a:pt x="508" y="0"/>
                </a:lnTo>
                <a:lnTo>
                  <a:pt x="0" y="0"/>
                </a:lnTo>
                <a:lnTo>
                  <a:pt x="508" y="0"/>
                </a:lnTo>
                <a:lnTo>
                  <a:pt x="636" y="395"/>
                </a:lnTo>
                <a:lnTo>
                  <a:pt x="636" y="1981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9200" y="3092400"/>
            <a:ext cx="741240" cy="2495880"/>
            <a:chOff x="79200" y="3092400"/>
            <a:chExt cx="741240" cy="2495880"/>
          </a:xfrm>
        </p:grpSpPr>
        <p:grpSp>
          <p:nvGrpSpPr>
            <p:cNvPr id="100" name=""/>
            <p:cNvGrpSpPr/>
            <p:nvPr/>
          </p:nvGrpSpPr>
          <p:grpSpPr>
            <a:xfrm>
              <a:off x="285840" y="3092400"/>
              <a:ext cx="369720" cy="2146320"/>
              <a:chOff x="285840" y="3092400"/>
              <a:chExt cx="369720" cy="2146320"/>
            </a:xfrm>
          </p:grpSpPr>
          <p:sp>
            <p:nvSpPr>
              <p:cNvPr id="101" name=""/>
              <p:cNvSpPr/>
              <p:nvPr/>
            </p:nvSpPr>
            <p:spPr>
              <a:xfrm>
                <a:off x="285840" y="3092400"/>
                <a:ext cx="369720" cy="21463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55560" y="3092400"/>
                <a:ext cx="0" cy="21463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85840" y="3092400"/>
                <a:ext cx="0" cy="21463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6040" y="3092400"/>
                <a:ext cx="0" cy="21463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8600" y="3092400"/>
                <a:ext cx="0" cy="2146320"/>
              </a:xfrm>
              <a:prstGeom prst="line">
                <a:avLst/>
              </a:prstGeom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 txBox="1"/>
            <p:nvPr/>
          </p:nvSpPr>
          <p:spPr>
            <a:xfrm>
              <a:off x="79200" y="5345280"/>
              <a:ext cx="741240" cy="2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300" spc="-1" strike="noStrike">
                  <a:solidFill>
                    <a:srgbClr val="00279f"/>
                  </a:solidFill>
                  <a:latin typeface="Times New Roman"/>
                  <a:ea typeface="Times New Roman"/>
                </a:rPr>
                <a:t>Networ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571760" y="3735360"/>
            <a:ext cx="224280" cy="713160"/>
          </a:xfrm>
          <a:custGeom>
            <a:avLst/>
            <a:gdLst/>
            <a:ahLst/>
            <a:rect l="0" t="0" r="r" b="b"/>
            <a:pathLst>
              <a:path w="623" h="1981">
                <a:moveTo>
                  <a:pt x="623" y="1981"/>
                </a:moveTo>
                <a:lnTo>
                  <a:pt x="124" y="1981"/>
                </a:lnTo>
                <a:lnTo>
                  <a:pt x="0" y="1585"/>
                </a:lnTo>
                <a:lnTo>
                  <a:pt x="0" y="0"/>
                </a:lnTo>
                <a:lnTo>
                  <a:pt x="124" y="395"/>
                </a:lnTo>
                <a:lnTo>
                  <a:pt x="124" y="1981"/>
                </a:lnTo>
                <a:lnTo>
                  <a:pt x="124" y="395"/>
                </a:lnTo>
                <a:lnTo>
                  <a:pt x="623" y="395"/>
                </a:lnTo>
                <a:lnTo>
                  <a:pt x="499" y="0"/>
                </a:lnTo>
                <a:lnTo>
                  <a:pt x="0" y="0"/>
                </a:lnTo>
                <a:lnTo>
                  <a:pt x="499" y="0"/>
                </a:lnTo>
                <a:lnTo>
                  <a:pt x="623" y="395"/>
                </a:lnTo>
                <a:lnTo>
                  <a:pt x="623" y="1981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3880" y="4122720"/>
            <a:ext cx="423720" cy="0"/>
          </a:xfrm>
          <a:prstGeom prst="line">
            <a:avLst/>
          </a:prstGeom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2560" y="4106880"/>
            <a:ext cx="939960" cy="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46040" y="3121200"/>
            <a:ext cx="64620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KR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4560" y="3400560"/>
            <a:ext cx="411120" cy="360360"/>
          </a:xfrm>
          <a:prstGeom prst="line">
            <a:avLst/>
          </a:prstGeom>
          <a:ln w="1260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662120" y="5132520"/>
            <a:ext cx="8082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KQ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981080" y="4191120"/>
            <a:ext cx="0" cy="961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92200" y="4260960"/>
            <a:ext cx="54792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92200" y="3986280"/>
            <a:ext cx="54792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92200" y="4056120"/>
            <a:ext cx="54792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92200" y="4191120"/>
            <a:ext cx="54792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529000" y="3233880"/>
            <a:ext cx="0" cy="7524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08160" y="2733840"/>
            <a:ext cx="8874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22360" y="3781440"/>
            <a:ext cx="617760" cy="0"/>
          </a:xfrm>
          <a:prstGeom prst="line">
            <a:avLst/>
          </a:prstGeom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09640" y="4768920"/>
            <a:ext cx="666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KQ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t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144440" y="4111560"/>
            <a:ext cx="12960" cy="604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076560" y="3879720"/>
            <a:ext cx="1238400" cy="739800"/>
            <a:chOff x="3076560" y="3879720"/>
            <a:chExt cx="1238400" cy="739800"/>
          </a:xfrm>
        </p:grpSpPr>
        <p:sp>
          <p:nvSpPr>
            <p:cNvPr id="124" name=""/>
            <p:cNvSpPr txBox="1"/>
            <p:nvPr/>
          </p:nvSpPr>
          <p:spPr>
            <a:xfrm>
              <a:off x="3076560" y="3879720"/>
              <a:ext cx="123840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2000" spc="-1" strike="noStrike">
                  <a:solidFill>
                    <a:srgbClr val="00279f"/>
                  </a:solidFill>
                  <a:latin typeface="Times New Roman"/>
                  <a:ea typeface="Times New Roman"/>
                </a:rPr>
                <a:t>G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14720" y="4325760"/>
              <a:ext cx="677880" cy="2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04920" y="165240"/>
            <a:ext cx="853452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y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5680" y="1752480"/>
            <a:ext cx="843264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47680" indent="-2476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  <a:tabLst>
                <a:tab algn="l" pos="4324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 developed a number of KQML speaking utility agents based on standard ont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0952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  <a:tabLst>
                <a:tab algn="l" pos="4000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name ser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0952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  <a:tabLst>
                <a:tab algn="l" pos="4000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Rou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0952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  <a:tabLst>
                <a:tab algn="l" pos="4000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visual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0952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  <a:tabLst>
                <a:tab algn="l" pos="4000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xy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7680" indent="-2476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  <a:tabLst>
                <a:tab algn="l" pos="4324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facilitate the development of agent-based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Name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0" y="1758960"/>
            <a:ext cx="4495680" cy="464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d by router sub-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n agent registration service and resolves agent names into transport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d into a hierarchy of agent domains similar to Internet domain name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sub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voke agents on demand via registered  autolaunch</a:t>
            </a:r>
            <a:r>
              <a:rPr b="0" lang="en-US" sz="2400" spc="-1" strike="noStrike">
                <a:solidFill>
                  <a:srgbClr val="e5405d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581280"/>
            <a:ext cx="1219320" cy="7621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1000" y="1905120"/>
            <a:ext cx="974880" cy="6094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219320" y="2590920"/>
            <a:ext cx="838080" cy="990360"/>
          </a:xfrm>
          <a:prstGeom prst="line">
            <a:avLst/>
          </a:prstGeom>
          <a:ln w="25560">
            <a:solidFill>
              <a:srgbClr val="47474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08040" y="3794040"/>
            <a:ext cx="111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41360" y="2041560"/>
            <a:ext cx="82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5410080"/>
            <a:ext cx="914760" cy="609840"/>
          </a:xfrm>
          <a:custGeom>
            <a:avLst/>
            <a:gdLst/>
            <a:ahLst/>
            <a:rect l="0" t="0" r="r" b="b"/>
            <a:pathLst>
              <a:path w="2541" h="1694">
                <a:moveTo>
                  <a:pt x="0" y="507"/>
                </a:moveTo>
                <a:lnTo>
                  <a:pt x="0" y="1186"/>
                </a:lnTo>
                <a:lnTo>
                  <a:pt x="761" y="1694"/>
                </a:lnTo>
                <a:lnTo>
                  <a:pt x="1778" y="1694"/>
                </a:lnTo>
                <a:lnTo>
                  <a:pt x="2541" y="1186"/>
                </a:lnTo>
                <a:lnTo>
                  <a:pt x="2541" y="507"/>
                </a:lnTo>
                <a:lnTo>
                  <a:pt x="1778" y="0"/>
                </a:lnTo>
                <a:lnTo>
                  <a:pt x="761" y="0"/>
                </a:lnTo>
                <a:lnTo>
                  <a:pt x="0" y="507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066680" y="4419720"/>
            <a:ext cx="609840" cy="990360"/>
          </a:xfrm>
          <a:prstGeom prst="line">
            <a:avLst/>
          </a:prstGeom>
          <a:ln w="25560">
            <a:solidFill>
              <a:srgbClr val="47474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5410080"/>
            <a:ext cx="914760" cy="609840"/>
          </a:xfrm>
          <a:custGeom>
            <a:avLst/>
            <a:gdLst/>
            <a:ahLst/>
            <a:rect l="0" t="0" r="r" b="b"/>
            <a:pathLst>
              <a:path w="2541" h="1694">
                <a:moveTo>
                  <a:pt x="0" y="507"/>
                </a:moveTo>
                <a:lnTo>
                  <a:pt x="0" y="1186"/>
                </a:lnTo>
                <a:lnTo>
                  <a:pt x="762" y="1694"/>
                </a:lnTo>
                <a:lnTo>
                  <a:pt x="1778" y="1694"/>
                </a:lnTo>
                <a:lnTo>
                  <a:pt x="2541" y="1186"/>
                </a:lnTo>
                <a:lnTo>
                  <a:pt x="2541" y="507"/>
                </a:lnTo>
                <a:lnTo>
                  <a:pt x="1778" y="0"/>
                </a:lnTo>
                <a:lnTo>
                  <a:pt x="762" y="0"/>
                </a:lnTo>
                <a:lnTo>
                  <a:pt x="0" y="507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133720" y="4343400"/>
            <a:ext cx="0" cy="1066680"/>
          </a:xfrm>
          <a:prstGeom prst="line">
            <a:avLst/>
          </a:prstGeom>
          <a:ln w="25560">
            <a:solidFill>
              <a:srgbClr val="47474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5410080"/>
            <a:ext cx="914760" cy="609840"/>
          </a:xfrm>
          <a:custGeom>
            <a:avLst/>
            <a:gdLst/>
            <a:ahLst/>
            <a:rect l="0" t="0" r="r" b="b"/>
            <a:pathLst>
              <a:path w="2541" h="1694">
                <a:moveTo>
                  <a:pt x="0" y="507"/>
                </a:moveTo>
                <a:lnTo>
                  <a:pt x="0" y="1186"/>
                </a:lnTo>
                <a:lnTo>
                  <a:pt x="763" y="1694"/>
                </a:lnTo>
                <a:lnTo>
                  <a:pt x="1778" y="1694"/>
                </a:lnTo>
                <a:lnTo>
                  <a:pt x="2541" y="1186"/>
                </a:lnTo>
                <a:lnTo>
                  <a:pt x="2541" y="507"/>
                </a:lnTo>
                <a:lnTo>
                  <a:pt x="1778" y="0"/>
                </a:lnTo>
                <a:lnTo>
                  <a:pt x="763" y="0"/>
                </a:lnTo>
                <a:lnTo>
                  <a:pt x="0" y="507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2514600" y="4419720"/>
            <a:ext cx="762120" cy="990360"/>
          </a:xfrm>
          <a:prstGeom prst="line">
            <a:avLst/>
          </a:prstGeom>
          <a:ln w="25560">
            <a:solidFill>
              <a:srgbClr val="47474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17680" y="5470560"/>
            <a:ext cx="108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660680" y="5470560"/>
            <a:ext cx="92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803680" y="5470560"/>
            <a:ext cx="895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P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660680" y="2894040"/>
            <a:ext cx="79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03680" y="4799160"/>
            <a:ext cx="79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736640" y="4875120"/>
            <a:ext cx="79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46280" y="4799160"/>
            <a:ext cx="79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04920" y="1295280"/>
            <a:ext cx="533160" cy="609840"/>
          </a:xfrm>
          <a:prstGeom prst="line">
            <a:avLst/>
          </a:prstGeom>
          <a:ln w="25560">
            <a:solidFill>
              <a:srgbClr val="47474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786040" y="6049800"/>
            <a:ext cx="1785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po.umbc.e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36440" y="6049800"/>
            <a:ext cx="1968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r.umbc.e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709720" y="3840120"/>
            <a:ext cx="1228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bc.e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65040" y="3511440"/>
            <a:ext cx="99684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2400" spc="-1" strike="noStrike">
                <a:solidFill>
                  <a:srgbClr val="ff5008"/>
                </a:solidFill>
                <a:latin typeface="Times New Roman"/>
                <a:ea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2400" spc="-1" strike="noStrike">
                <a:solidFill>
                  <a:srgbClr val="ff5008"/>
                </a:solidFill>
                <a:latin typeface="Times New Roman"/>
                <a:ea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2400" spc="-1" strike="noStrike">
                <a:solidFill>
                  <a:srgbClr val="ff5008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08040" y="1758960"/>
            <a:ext cx="99684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2400" spc="-1" strike="noStrike">
                <a:solidFill>
                  <a:srgbClr val="ff5008"/>
                </a:solidFill>
                <a:latin typeface="Times New Roman"/>
                <a:ea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2400" spc="-1" strike="noStrike">
                <a:solidFill>
                  <a:srgbClr val="ff5008"/>
                </a:solidFill>
                <a:latin typeface="Times New Roman"/>
                <a:ea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2400" spc="-1" strike="noStrike">
                <a:solidFill>
                  <a:srgbClr val="ff5008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81200" y="165240"/>
            <a:ext cx="77090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724280" y="1447920"/>
            <a:ext cx="4191120" cy="51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171360" indent="-17136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security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44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44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44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44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repudiation of 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44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 from replay attacks and message hij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44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KQML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44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44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or agent provi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44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144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 for crypto-unaware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 handles most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1905120"/>
            <a:ext cx="374760" cy="4648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2840" y="1905120"/>
            <a:ext cx="0" cy="40384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00280" y="1905120"/>
            <a:ext cx="0" cy="40384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7760" y="1905120"/>
            <a:ext cx="12960" cy="45720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36800" y="1905120"/>
            <a:ext cx="0" cy="403848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87200" y="5797440"/>
            <a:ext cx="80172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14440" y="4348080"/>
            <a:ext cx="816480" cy="1013040"/>
          </a:xfrm>
          <a:custGeom>
            <a:avLst/>
            <a:gdLst/>
            <a:ahLst/>
            <a:rect l="0" t="0" r="r" b="b"/>
            <a:pathLst>
              <a:path w="2268" h="2814">
                <a:moveTo>
                  <a:pt x="2268" y="2814"/>
                </a:moveTo>
                <a:lnTo>
                  <a:pt x="453" y="2814"/>
                </a:lnTo>
                <a:lnTo>
                  <a:pt x="0" y="2251"/>
                </a:lnTo>
                <a:lnTo>
                  <a:pt x="0" y="0"/>
                </a:lnTo>
                <a:lnTo>
                  <a:pt x="453" y="562"/>
                </a:lnTo>
                <a:lnTo>
                  <a:pt x="453" y="2814"/>
                </a:lnTo>
                <a:lnTo>
                  <a:pt x="453" y="562"/>
                </a:lnTo>
                <a:lnTo>
                  <a:pt x="2268" y="562"/>
                </a:lnTo>
                <a:lnTo>
                  <a:pt x="1815" y="0"/>
                </a:lnTo>
                <a:lnTo>
                  <a:pt x="0" y="0"/>
                </a:lnTo>
                <a:lnTo>
                  <a:pt x="1815" y="0"/>
                </a:lnTo>
                <a:lnTo>
                  <a:pt x="2268" y="562"/>
                </a:lnTo>
                <a:lnTo>
                  <a:pt x="2268" y="2814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33440" y="4470480"/>
            <a:ext cx="251280" cy="798840"/>
          </a:xfrm>
          <a:custGeom>
            <a:avLst/>
            <a:gdLst/>
            <a:ahLst/>
            <a:rect l="0" t="0" r="r" b="b"/>
            <a:pathLst>
              <a:path w="698" h="2219">
                <a:moveTo>
                  <a:pt x="698" y="2219"/>
                </a:moveTo>
                <a:lnTo>
                  <a:pt x="139" y="2219"/>
                </a:lnTo>
                <a:lnTo>
                  <a:pt x="0" y="1775"/>
                </a:lnTo>
                <a:lnTo>
                  <a:pt x="0" y="0"/>
                </a:lnTo>
                <a:lnTo>
                  <a:pt x="139" y="443"/>
                </a:lnTo>
                <a:lnTo>
                  <a:pt x="139" y="2219"/>
                </a:lnTo>
                <a:lnTo>
                  <a:pt x="139" y="443"/>
                </a:lnTo>
                <a:lnTo>
                  <a:pt x="698" y="443"/>
                </a:lnTo>
                <a:lnTo>
                  <a:pt x="559" y="0"/>
                </a:lnTo>
                <a:lnTo>
                  <a:pt x="0" y="0"/>
                </a:lnTo>
                <a:lnTo>
                  <a:pt x="559" y="0"/>
                </a:lnTo>
                <a:lnTo>
                  <a:pt x="698" y="443"/>
                </a:lnTo>
                <a:lnTo>
                  <a:pt x="698" y="2219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44520" y="4886280"/>
            <a:ext cx="1046160" cy="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33440" y="2259000"/>
            <a:ext cx="251280" cy="798840"/>
          </a:xfrm>
          <a:custGeom>
            <a:avLst/>
            <a:gdLst/>
            <a:ahLst/>
            <a:rect l="0" t="0" r="r" b="b"/>
            <a:pathLst>
              <a:path w="698" h="2219">
                <a:moveTo>
                  <a:pt x="698" y="2219"/>
                </a:moveTo>
                <a:lnTo>
                  <a:pt x="139" y="2219"/>
                </a:lnTo>
                <a:lnTo>
                  <a:pt x="0" y="1775"/>
                </a:lnTo>
                <a:lnTo>
                  <a:pt x="0" y="0"/>
                </a:lnTo>
                <a:lnTo>
                  <a:pt x="139" y="443"/>
                </a:lnTo>
                <a:lnTo>
                  <a:pt x="139" y="2219"/>
                </a:lnTo>
                <a:lnTo>
                  <a:pt x="139" y="443"/>
                </a:lnTo>
                <a:lnTo>
                  <a:pt x="698" y="443"/>
                </a:lnTo>
                <a:lnTo>
                  <a:pt x="559" y="0"/>
                </a:lnTo>
                <a:lnTo>
                  <a:pt x="0" y="0"/>
                </a:lnTo>
                <a:lnTo>
                  <a:pt x="559" y="0"/>
                </a:lnTo>
                <a:lnTo>
                  <a:pt x="698" y="443"/>
                </a:lnTo>
                <a:lnTo>
                  <a:pt x="698" y="2219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44520" y="2598840"/>
            <a:ext cx="1046160" cy="0"/>
          </a:xfrm>
          <a:prstGeom prst="line">
            <a:avLst/>
          </a:prstGeom>
          <a:ln w="12600">
            <a:solidFill>
              <a:srgbClr val="0027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1440" y="1976400"/>
            <a:ext cx="1157760" cy="1148040"/>
          </a:xfrm>
          <a:custGeom>
            <a:avLst/>
            <a:gdLst/>
            <a:ahLst/>
            <a:rect l="0" t="0" r="r" b="b"/>
            <a:pathLst>
              <a:path w="3216" h="3189">
                <a:moveTo>
                  <a:pt x="3216" y="3189"/>
                </a:moveTo>
                <a:lnTo>
                  <a:pt x="642" y="3189"/>
                </a:lnTo>
                <a:lnTo>
                  <a:pt x="0" y="2551"/>
                </a:lnTo>
                <a:lnTo>
                  <a:pt x="0" y="0"/>
                </a:lnTo>
                <a:lnTo>
                  <a:pt x="642" y="637"/>
                </a:lnTo>
                <a:lnTo>
                  <a:pt x="642" y="3189"/>
                </a:lnTo>
                <a:lnTo>
                  <a:pt x="642" y="637"/>
                </a:lnTo>
                <a:lnTo>
                  <a:pt x="3216" y="637"/>
                </a:lnTo>
                <a:lnTo>
                  <a:pt x="2573" y="0"/>
                </a:lnTo>
                <a:lnTo>
                  <a:pt x="0" y="0"/>
                </a:lnTo>
                <a:lnTo>
                  <a:pt x="2573" y="0"/>
                </a:lnTo>
                <a:lnTo>
                  <a:pt x="3216" y="637"/>
                </a:lnTo>
                <a:lnTo>
                  <a:pt x="3216" y="3189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179880" y="2568600"/>
            <a:ext cx="768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89400" y="3124080"/>
            <a:ext cx="68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82880" y="2170080"/>
            <a:ext cx="251280" cy="798840"/>
          </a:xfrm>
          <a:custGeom>
            <a:avLst/>
            <a:gdLst/>
            <a:ahLst/>
            <a:rect l="0" t="0" r="r" b="b"/>
            <a:pathLst>
              <a:path w="698" h="2219">
                <a:moveTo>
                  <a:pt x="698" y="2219"/>
                </a:moveTo>
                <a:lnTo>
                  <a:pt x="139" y="2219"/>
                </a:lnTo>
                <a:lnTo>
                  <a:pt x="0" y="1775"/>
                </a:lnTo>
                <a:lnTo>
                  <a:pt x="0" y="0"/>
                </a:lnTo>
                <a:lnTo>
                  <a:pt x="139" y="443"/>
                </a:lnTo>
                <a:lnTo>
                  <a:pt x="139" y="2219"/>
                </a:lnTo>
                <a:lnTo>
                  <a:pt x="139" y="443"/>
                </a:lnTo>
                <a:lnTo>
                  <a:pt x="698" y="443"/>
                </a:lnTo>
                <a:lnTo>
                  <a:pt x="559" y="0"/>
                </a:lnTo>
                <a:lnTo>
                  <a:pt x="0" y="0"/>
                </a:lnTo>
                <a:lnTo>
                  <a:pt x="559" y="0"/>
                </a:lnTo>
                <a:lnTo>
                  <a:pt x="698" y="443"/>
                </a:lnTo>
                <a:lnTo>
                  <a:pt x="698" y="221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2603520"/>
            <a:ext cx="471600" cy="0"/>
          </a:xfrm>
          <a:prstGeom prst="line">
            <a:avLst/>
          </a:prstGeom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041560" y="5440320"/>
            <a:ext cx="1708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00200" y="2743200"/>
            <a:ext cx="533880" cy="1067040"/>
          </a:xfrm>
          <a:custGeom>
            <a:avLst/>
            <a:gdLst/>
            <a:ahLst/>
            <a:rect l="0" t="0" r="r" b="b"/>
            <a:pathLst>
              <a:path fill="none" w="1483" h="2964">
                <a:moveTo>
                  <a:pt x="1483" y="0"/>
                </a:moveTo>
                <a:lnTo>
                  <a:pt x="1483" y="0"/>
                </a:lnTo>
                <a:cubicBezTo>
                  <a:pt x="1223" y="0"/>
                  <a:pt x="967" y="137"/>
                  <a:pt x="741" y="397"/>
                </a:cubicBezTo>
                <a:cubicBezTo>
                  <a:pt x="516" y="657"/>
                  <a:pt x="329" y="1031"/>
                  <a:pt x="199" y="1482"/>
                </a:cubicBezTo>
                <a:cubicBezTo>
                  <a:pt x="69" y="1933"/>
                  <a:pt x="0" y="2444"/>
                  <a:pt x="0" y="2964"/>
                </a:cubicBezTo>
              </a:path>
            </a:pathLst>
          </a:custGeom>
          <a:ln w="38160">
            <a:solidFill>
              <a:srgbClr val="00279f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3809880"/>
            <a:ext cx="533880" cy="1067040"/>
          </a:xfrm>
          <a:custGeom>
            <a:avLst/>
            <a:gdLst/>
            <a:ahLst/>
            <a:rect l="0" t="0" r="r" b="b"/>
            <a:pathLst>
              <a:path fill="none" w="1483" h="2964">
                <a:moveTo>
                  <a:pt x="0" y="0"/>
                </a:moveTo>
                <a:lnTo>
                  <a:pt x="0" y="0"/>
                </a:lnTo>
                <a:cubicBezTo>
                  <a:pt x="0" y="520"/>
                  <a:pt x="69" y="1031"/>
                  <a:pt x="199" y="1482"/>
                </a:cubicBezTo>
                <a:cubicBezTo>
                  <a:pt x="329" y="1933"/>
                  <a:pt x="516" y="2307"/>
                  <a:pt x="742" y="2567"/>
                </a:cubicBezTo>
                <a:cubicBezTo>
                  <a:pt x="967" y="2827"/>
                  <a:pt x="1223" y="2964"/>
                  <a:pt x="1483" y="2964"/>
                </a:cubicBezTo>
              </a:path>
            </a:pathLst>
          </a:custGeom>
          <a:ln w="38160">
            <a:solidFill>
              <a:srgbClr val="00279f"/>
            </a:solidFill>
            <a:round/>
            <a:head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im Finin</dc:creator>
  <dc:description/>
  <dc:language>en-US</dc:language>
  <cp:lastModifiedBy>Tim Finin</cp:lastModifiedBy>
  <cp:revision>0</cp:revision>
  <dc:subject>kats software</dc:subject>
  <dc:title>KQML Agent Technology Software</dc:title>
</cp:coreProperties>
</file>