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371600"/>
            <a:ext cx="777240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7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IIMPLEX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57200" y="289548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rtium for Integrated Intellig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ing Planning and Execu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62440" y="4714920"/>
            <a:ext cx="141912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6320" y="1614600"/>
            <a:ext cx="434340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5920" indent="-115920">
              <a:lnSpc>
                <a:spcPct val="100000"/>
              </a:lnSpc>
              <a:spcBef>
                <a:spcPts val="479"/>
              </a:spcBef>
              <a:buClr>
                <a:srgbClr val="618ffd"/>
              </a:buClr>
              <a:buSzPct val="7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der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tional Institute of Standards and Technology / Advanced Technology Program (NIST/A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5920">
              <a:lnSpc>
                <a:spcPct val="100000"/>
              </a:lnSpc>
              <a:spcBef>
                <a:spcPts val="479"/>
              </a:spcBef>
              <a:buClr>
                <a:srgbClr val="00ae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ies for the Integration of Manufacturing Applications (TI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7760" indent="-115920">
              <a:lnSpc>
                <a:spcPct val="100000"/>
              </a:lnSpc>
              <a:spcBef>
                <a:spcPts val="479"/>
              </a:spcBef>
              <a:buClr>
                <a:srgbClr val="00ae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2.9M over 3 years (6/96 - 6/99), 45% government, 55% consort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spcBef>
                <a:spcPts val="479"/>
              </a:spcBef>
              <a:buClr>
                <a:srgbClr val="00ae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ug and Play framework of business objectives and integration enabling tools allowing a suite of solutions that can be implemented “out-of-the-box” at small and midsized manufacturing and process sites including MES, ERP, Finite Scheduling, and Capacity Analysis/Decis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00000"/>
              </a:lnSpc>
              <a:spcBef>
                <a:spcPts val="479"/>
              </a:spcBef>
              <a:buClr>
                <a:srgbClr val="00ae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, configurability, adaptability, extensibility, plug and pla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952880" y="137160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760" indent="-50760" algn="ctr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760" indent="-50760" algn="ctr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760" indent="-50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M Cor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73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Maryland Baltimore Coun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73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North Carolina at Charlot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73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Flori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760" indent="-50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clain USA Lt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760" indent="-50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AD In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73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SE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760" indent="-50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760" indent="-50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ersoll-Rand 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73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 Solu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73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oG Remex Inc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760" indent="-50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760" indent="-50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sionIt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312920" y="304920"/>
            <a:ext cx="6165720" cy="762120"/>
            <a:chOff x="1312920" y="304920"/>
            <a:chExt cx="6165720" cy="762120"/>
          </a:xfrm>
        </p:grpSpPr>
        <p:sp>
          <p:nvSpPr>
            <p:cNvPr id="45" name=""/>
            <p:cNvSpPr txBox="1"/>
            <p:nvPr/>
          </p:nvSpPr>
          <p:spPr>
            <a:xfrm>
              <a:off x="1312920" y="304920"/>
              <a:ext cx="304020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ff0033"/>
                  </a:solidFill>
                  <a:latin typeface="Times New Roman"/>
                  <a:ea typeface="Times New Roman"/>
                </a:rPr>
                <a:t>CIIMPLEX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4276800" y="420840"/>
              <a:ext cx="3201840" cy="56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sortium for Integrated Intelli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ufacturing Planning and Exec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261040" y="609480"/>
            <a:ext cx="2874960" cy="679320"/>
          </a:xfrm>
          <a:prstGeom prst="rect">
            <a:avLst/>
          </a:prstGeom>
          <a:noFill/>
          <a:ln w="25560">
            <a:solidFill>
              <a:srgbClr val="618ffd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68960" y="647640"/>
            <a:ext cx="1827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apacity Analysis(C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44960" y="2230560"/>
            <a:ext cx="2874960" cy="679320"/>
          </a:xfrm>
          <a:prstGeom prst="rect">
            <a:avLst/>
          </a:prstGeom>
          <a:noFill/>
          <a:ln w="25560">
            <a:solidFill>
              <a:srgbClr val="618ffd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137120" y="2268360"/>
            <a:ext cx="2873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Enterprise Resource Planning (ERP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26000" y="4157640"/>
            <a:ext cx="3786120" cy="663480"/>
          </a:xfrm>
          <a:prstGeom prst="rect">
            <a:avLst/>
          </a:prstGeom>
          <a:noFill/>
          <a:ln w="25560">
            <a:solidFill>
              <a:srgbClr val="618ffd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760920" y="4156200"/>
            <a:ext cx="31114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anufacturing Execution System (ME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19000" y="2911320"/>
            <a:ext cx="2351160" cy="1015920"/>
          </a:xfrm>
          <a:prstGeom prst="rect">
            <a:avLst/>
          </a:prstGeom>
          <a:noFill/>
          <a:ln w="25560">
            <a:solidFill>
              <a:srgbClr val="618ffd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88840" y="2887560"/>
            <a:ext cx="2414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fg. Synch /Finite Scheduling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88840" y="3078000"/>
            <a:ext cx="1531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(MS/F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36920" y="5773680"/>
            <a:ext cx="5975280" cy="703440"/>
          </a:xfrm>
          <a:prstGeom prst="rect">
            <a:avLst/>
          </a:prstGeom>
          <a:noFill/>
          <a:ln w="25560">
            <a:solidFill>
              <a:srgbClr val="618ffd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665440" y="5805360"/>
            <a:ext cx="8636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(SCAD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473800" y="927000"/>
            <a:ext cx="2541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User: Plant Mgr., Marketing Re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154400" y="2563920"/>
            <a:ext cx="20098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User: Production plan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66880" y="3390840"/>
            <a:ext cx="237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User: Production planner an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66880" y="3581280"/>
            <a:ext cx="1587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chedul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80000" y="447660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User: Manufacturing Engr. Foreman, operat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678040" y="6138720"/>
            <a:ext cx="1322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User: operat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376880" y="1298520"/>
            <a:ext cx="882360" cy="908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5280" y="1298520"/>
            <a:ext cx="184680" cy="198720"/>
          </a:xfrm>
          <a:custGeom>
            <a:avLst/>
            <a:gdLst/>
            <a:ahLst/>
            <a:rect l="0" t="0" r="r" b="b"/>
            <a:pathLst>
              <a:path w="513" h="552">
                <a:moveTo>
                  <a:pt x="0" y="314"/>
                </a:moveTo>
                <a:lnTo>
                  <a:pt x="513" y="0"/>
                </a:lnTo>
                <a:lnTo>
                  <a:pt x="190" y="552"/>
                </a:lnTo>
                <a:lnTo>
                  <a:pt x="0" y="31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759200" y="1587600"/>
            <a:ext cx="1395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BOM, Capacity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759200" y="1776240"/>
            <a:ext cx="6984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ord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46800" y="129852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96040" y="1995480"/>
            <a:ext cx="101880" cy="230400"/>
          </a:xfrm>
          <a:custGeom>
            <a:avLst/>
            <a:gdLst/>
            <a:ahLst/>
            <a:rect l="0" t="0" r="r" b="b"/>
            <a:pathLst>
              <a:path w="283" h="640">
                <a:moveTo>
                  <a:pt x="283" y="0"/>
                </a:moveTo>
                <a:lnTo>
                  <a:pt x="142" y="640"/>
                </a:lnTo>
                <a:lnTo>
                  <a:pt x="0" y="0"/>
                </a:lnTo>
                <a:lnTo>
                  <a:pt x="28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329520" y="1441440"/>
            <a:ext cx="5414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201840" y="2540160"/>
            <a:ext cx="854280" cy="550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1840" y="2927520"/>
            <a:ext cx="201960" cy="163800"/>
          </a:xfrm>
          <a:custGeom>
            <a:avLst/>
            <a:gdLst/>
            <a:ahLst/>
            <a:rect l="0" t="0" r="r" b="b"/>
            <a:pathLst>
              <a:path w="561" h="455">
                <a:moveTo>
                  <a:pt x="561" y="278"/>
                </a:moveTo>
                <a:lnTo>
                  <a:pt x="0" y="455"/>
                </a:lnTo>
                <a:lnTo>
                  <a:pt x="419" y="0"/>
                </a:lnTo>
                <a:lnTo>
                  <a:pt x="561" y="278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24160" y="2424240"/>
            <a:ext cx="10652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PS, BOM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324160" y="2612880"/>
            <a:ext cx="12304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apacity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201840" y="3584520"/>
            <a:ext cx="854280" cy="57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1840" y="3584520"/>
            <a:ext cx="200520" cy="168480"/>
          </a:xfrm>
          <a:custGeom>
            <a:avLst/>
            <a:gdLst/>
            <a:ahLst/>
            <a:rect l="0" t="0" r="r" b="b"/>
            <a:pathLst>
              <a:path w="557" h="468">
                <a:moveTo>
                  <a:pt x="415" y="468"/>
                </a:moveTo>
                <a:lnTo>
                  <a:pt x="0" y="0"/>
                </a:lnTo>
                <a:lnTo>
                  <a:pt x="557" y="194"/>
                </a:lnTo>
                <a:lnTo>
                  <a:pt x="415" y="468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355920" y="3535200"/>
            <a:ext cx="1349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apacity data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08560" y="3535200"/>
            <a:ext cx="495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WI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7072200" y="1319040"/>
            <a:ext cx="14400" cy="2859120"/>
          </a:xfrm>
          <a:prstGeom prst="line">
            <a:avLst/>
          </a:prstGeom>
          <a:ln w="12600">
            <a:solidFill>
              <a:srgbClr val="4f4f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23240" y="1319040"/>
            <a:ext cx="101880" cy="230400"/>
          </a:xfrm>
          <a:custGeom>
            <a:avLst/>
            <a:gdLst/>
            <a:ahLst/>
            <a:rect l="0" t="0" r="r" b="b"/>
            <a:pathLst>
              <a:path w="283" h="640">
                <a:moveTo>
                  <a:pt x="0" y="640"/>
                </a:moveTo>
                <a:lnTo>
                  <a:pt x="136" y="0"/>
                </a:lnTo>
                <a:lnTo>
                  <a:pt x="283" y="640"/>
                </a:lnTo>
                <a:lnTo>
                  <a:pt x="0" y="640"/>
                </a:lnTo>
                <a:close/>
              </a:path>
            </a:pathLst>
          </a:custGeom>
          <a:solidFill>
            <a:srgbClr val="4f4f4f"/>
          </a:solidFill>
          <a:ln w="12600">
            <a:solidFill>
              <a:srgbClr val="4f4f4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128000" y="2060640"/>
            <a:ext cx="1349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apacity data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128000" y="2255760"/>
            <a:ext cx="495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WI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14720" y="3941640"/>
            <a:ext cx="1522080" cy="70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29080" y="4510080"/>
            <a:ext cx="208440" cy="140040"/>
          </a:xfrm>
          <a:custGeom>
            <a:avLst/>
            <a:gdLst/>
            <a:ahLst/>
            <a:rect l="0" t="0" r="r" b="b"/>
            <a:pathLst>
              <a:path w="579" h="389">
                <a:moveTo>
                  <a:pt x="105" y="0"/>
                </a:moveTo>
                <a:lnTo>
                  <a:pt x="579" y="389"/>
                </a:lnTo>
                <a:lnTo>
                  <a:pt x="0" y="292"/>
                </a:lnTo>
                <a:lnTo>
                  <a:pt x="105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57360" y="4200480"/>
            <a:ext cx="14414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Execution ord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57360" y="4390920"/>
            <a:ext cx="946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eque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867120" y="4848120"/>
            <a:ext cx="0" cy="86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16360" y="4848120"/>
            <a:ext cx="103680" cy="228960"/>
          </a:xfrm>
          <a:custGeom>
            <a:avLst/>
            <a:gdLst/>
            <a:ahLst/>
            <a:rect l="0" t="0" r="r" b="b"/>
            <a:pathLst>
              <a:path w="288" h="636">
                <a:moveTo>
                  <a:pt x="0" y="636"/>
                </a:moveTo>
                <a:lnTo>
                  <a:pt x="142" y="0"/>
                </a:lnTo>
                <a:lnTo>
                  <a:pt x="288" y="636"/>
                </a:lnTo>
                <a:lnTo>
                  <a:pt x="0" y="63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94120" y="5025960"/>
            <a:ext cx="57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94120" y="5214960"/>
            <a:ext cx="873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2240" y="2579760"/>
            <a:ext cx="1016280" cy="3194280"/>
          </a:xfrm>
          <a:custGeom>
            <a:avLst/>
            <a:gdLst/>
            <a:ahLst/>
            <a:rect l="0" t="0" r="r" b="b"/>
            <a:pathLst>
              <a:path fill="none" w="2823" h="8873">
                <a:moveTo>
                  <a:pt x="2536" y="8873"/>
                </a:moveTo>
                <a:lnTo>
                  <a:pt x="2765" y="6302"/>
                </a:lnTo>
                <a:lnTo>
                  <a:pt x="2809" y="5257"/>
                </a:lnTo>
                <a:lnTo>
                  <a:pt x="2823" y="4741"/>
                </a:lnTo>
                <a:lnTo>
                  <a:pt x="2823" y="4490"/>
                </a:lnTo>
                <a:lnTo>
                  <a:pt x="2818" y="4237"/>
                </a:lnTo>
                <a:lnTo>
                  <a:pt x="2765" y="3351"/>
                </a:lnTo>
                <a:lnTo>
                  <a:pt x="2620" y="2685"/>
                </a:lnTo>
                <a:lnTo>
                  <a:pt x="2408" y="2288"/>
                </a:lnTo>
                <a:lnTo>
                  <a:pt x="2060" y="1847"/>
                </a:lnTo>
                <a:lnTo>
                  <a:pt x="1172" y="965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42240" y="2579760"/>
            <a:ext cx="194040" cy="182880"/>
          </a:xfrm>
          <a:custGeom>
            <a:avLst/>
            <a:gdLst/>
            <a:ahLst/>
            <a:rect l="0" t="0" r="r" b="b"/>
            <a:pathLst>
              <a:path w="539" h="508">
                <a:moveTo>
                  <a:pt x="371" y="508"/>
                </a:moveTo>
                <a:lnTo>
                  <a:pt x="0" y="0"/>
                </a:lnTo>
                <a:lnTo>
                  <a:pt x="539" y="251"/>
                </a:lnTo>
                <a:lnTo>
                  <a:pt x="371" y="508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243920" y="3332160"/>
            <a:ext cx="57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243920" y="3522600"/>
            <a:ext cx="873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145360" y="826920"/>
            <a:ext cx="665640" cy="4966200"/>
          </a:xfrm>
          <a:custGeom>
            <a:avLst/>
            <a:gdLst/>
            <a:ahLst/>
            <a:rect l="0" t="0" r="r" b="b"/>
            <a:pathLst>
              <a:path fill="none" w="1849" h="13795">
                <a:moveTo>
                  <a:pt x="1046" y="13795"/>
                </a:moveTo>
                <a:lnTo>
                  <a:pt x="1297" y="10907"/>
                </a:lnTo>
                <a:lnTo>
                  <a:pt x="1615" y="6681"/>
                </a:lnTo>
                <a:lnTo>
                  <a:pt x="1814" y="4229"/>
                </a:lnTo>
                <a:lnTo>
                  <a:pt x="1840" y="3550"/>
                </a:lnTo>
                <a:lnTo>
                  <a:pt x="1849" y="3223"/>
                </a:lnTo>
                <a:lnTo>
                  <a:pt x="1849" y="3064"/>
                </a:lnTo>
                <a:lnTo>
                  <a:pt x="1845" y="2906"/>
                </a:lnTo>
                <a:lnTo>
                  <a:pt x="1801" y="2328"/>
                </a:lnTo>
                <a:lnTo>
                  <a:pt x="1695" y="1856"/>
                </a:lnTo>
                <a:lnTo>
                  <a:pt x="1332" y="1287"/>
                </a:lnTo>
                <a:lnTo>
                  <a:pt x="763" y="679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145360" y="826920"/>
            <a:ext cx="190800" cy="187560"/>
          </a:xfrm>
          <a:custGeom>
            <a:avLst/>
            <a:gdLst/>
            <a:ahLst/>
            <a:rect l="0" t="0" r="r" b="b"/>
            <a:pathLst>
              <a:path w="530" h="521">
                <a:moveTo>
                  <a:pt x="353" y="521"/>
                </a:moveTo>
                <a:lnTo>
                  <a:pt x="0" y="0"/>
                </a:lnTo>
                <a:lnTo>
                  <a:pt x="530" y="269"/>
                </a:lnTo>
                <a:lnTo>
                  <a:pt x="353" y="52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028000" y="2689200"/>
            <a:ext cx="579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28000" y="2878200"/>
            <a:ext cx="873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ol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81680" y="2922480"/>
            <a:ext cx="0" cy="122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0920" y="3917880"/>
            <a:ext cx="101880" cy="230400"/>
          </a:xfrm>
          <a:custGeom>
            <a:avLst/>
            <a:gdLst/>
            <a:ahLst/>
            <a:rect l="0" t="0" r="r" b="b"/>
            <a:pathLst>
              <a:path w="283" h="640">
                <a:moveTo>
                  <a:pt x="283" y="0"/>
                </a:moveTo>
                <a:lnTo>
                  <a:pt x="142" y="640"/>
                </a:lnTo>
                <a:lnTo>
                  <a:pt x="0" y="0"/>
                </a:lnTo>
                <a:lnTo>
                  <a:pt x="28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0920" y="2922480"/>
            <a:ext cx="101880" cy="228960"/>
          </a:xfrm>
          <a:custGeom>
            <a:avLst/>
            <a:gdLst/>
            <a:ahLst/>
            <a:rect l="0" t="0" r="r" b="b"/>
            <a:pathLst>
              <a:path w="283" h="636">
                <a:moveTo>
                  <a:pt x="0" y="636"/>
                </a:moveTo>
                <a:lnTo>
                  <a:pt x="142" y="0"/>
                </a:lnTo>
                <a:lnTo>
                  <a:pt x="283" y="636"/>
                </a:lnTo>
                <a:lnTo>
                  <a:pt x="0" y="63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038560" y="2841480"/>
            <a:ext cx="15890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ynchronization of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038560" y="3033720"/>
            <a:ext cx="20098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(e.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038560" y="3227400"/>
            <a:ext cx="2332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fg. order release, inventory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38560" y="3419640"/>
            <a:ext cx="873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updates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038560" y="3618000"/>
            <a:ext cx="12574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apacity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067440" y="4867200"/>
            <a:ext cx="0" cy="908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6680" y="4867200"/>
            <a:ext cx="101880" cy="230400"/>
          </a:xfrm>
          <a:custGeom>
            <a:avLst/>
            <a:gdLst/>
            <a:ahLst/>
            <a:rect l="0" t="0" r="r" b="b"/>
            <a:pathLst>
              <a:path w="283" h="640">
                <a:moveTo>
                  <a:pt x="0" y="640"/>
                </a:moveTo>
                <a:lnTo>
                  <a:pt x="142" y="0"/>
                </a:lnTo>
                <a:lnTo>
                  <a:pt x="283" y="640"/>
                </a:lnTo>
                <a:lnTo>
                  <a:pt x="0" y="64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118200" y="4987800"/>
            <a:ext cx="16891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Machine / work cel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8200" y="5181480"/>
            <a:ext cx="1450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tatus summ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896000" y="4844880"/>
            <a:ext cx="14040" cy="938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46680" y="5553000"/>
            <a:ext cx="103680" cy="230400"/>
          </a:xfrm>
          <a:custGeom>
            <a:avLst/>
            <a:gdLst/>
            <a:ahLst/>
            <a:rect l="0" t="0" r="r" b="b"/>
            <a:pathLst>
              <a:path w="288" h="640">
                <a:moveTo>
                  <a:pt x="288" y="4"/>
                </a:moveTo>
                <a:lnTo>
                  <a:pt x="137" y="640"/>
                </a:lnTo>
                <a:lnTo>
                  <a:pt x="0" y="0"/>
                </a:lnTo>
                <a:lnTo>
                  <a:pt x="288" y="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878360" y="5014800"/>
            <a:ext cx="1074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ommand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73400" y="2503440"/>
            <a:ext cx="4773600" cy="1978200"/>
          </a:xfrm>
          <a:prstGeom prst="ellipse">
            <a:avLst/>
          </a:prstGeom>
          <a:noFill/>
          <a:ln w="12600">
            <a:solidFill>
              <a:srgbClr val="c2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00440" y="3000240"/>
            <a:ext cx="920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FAI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5840" y="853920"/>
            <a:ext cx="1981080" cy="822240"/>
          </a:xfrm>
          <a:prstGeom prst="rect">
            <a:avLst/>
          </a:prstGeom>
          <a:noFill/>
          <a:ln w="25560">
            <a:solidFill>
              <a:srgbClr val="618ffd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5680" y="906480"/>
            <a:ext cx="20383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Sales Force Automation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5680" y="1096920"/>
            <a:ext cx="13492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(SF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38280" y="1409760"/>
            <a:ext cx="1359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User: Salesm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0600" y="1676520"/>
            <a:ext cx="152424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638360" y="1890720"/>
            <a:ext cx="9540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Custom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Ord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71840" y="625320"/>
            <a:ext cx="1600200" cy="669960"/>
          </a:xfrm>
          <a:prstGeom prst="rect">
            <a:avLst/>
          </a:prstGeom>
          <a:noFill/>
          <a:ln w="25560">
            <a:solidFill>
              <a:srgbClr val="618ffd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641680" y="677880"/>
            <a:ext cx="20383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orecasting (F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771640" y="952560"/>
            <a:ext cx="11653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User: Part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90800" y="12952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72040" y="762120"/>
            <a:ext cx="106668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1720" y="1433520"/>
            <a:ext cx="873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oreca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28920" y="595440"/>
            <a:ext cx="873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oreca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85800" y="109440"/>
            <a:ext cx="8005680" cy="483480"/>
            <a:chOff x="685800" y="109440"/>
            <a:chExt cx="8005680" cy="483480"/>
          </a:xfrm>
        </p:grpSpPr>
        <p:sp>
          <p:nvSpPr>
            <p:cNvPr id="130" name=""/>
            <p:cNvSpPr txBox="1"/>
            <p:nvPr/>
          </p:nvSpPr>
          <p:spPr>
            <a:xfrm>
              <a:off x="685800" y="109440"/>
              <a:ext cx="7772400" cy="48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IIMPLEX Introduction and Objectiv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880" y="523800"/>
              <a:ext cx="7905600" cy="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15200" rIns="115200" tIns="-70200" bIns="-70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  <a:ea typeface="Times New Roman"/>
              </a:rPr>
              <a:t>Rate Monitoring Agent Sce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06668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observed rates of production, based on MES reporting, and update MOOPI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, rates used in scheduling rarely reflect 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s can be aggregated by the process rate agent (PRA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operation by part-number / sub-assemb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machine by operation by part-number / sub-assemb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can specify the criteria for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 “ if the rate of producing xyz yellow widget differs 10% from current assumed rate for the past three months, then update MOOPI’s rate with production analyst’s approv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criteria will be specified as business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present, all rate update requests must be approved by people through the scenario coordination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3360" y="2838600"/>
            <a:ext cx="693720" cy="38736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98440" y="4606920"/>
            <a:ext cx="1015920" cy="38736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OPI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457280" y="3263760"/>
            <a:ext cx="133200" cy="498600"/>
            <a:chOff x="1457280" y="3263760"/>
            <a:chExt cx="133200" cy="498600"/>
          </a:xfrm>
        </p:grpSpPr>
        <p:sp>
          <p:nvSpPr>
            <p:cNvPr id="137" name=""/>
            <p:cNvSpPr/>
            <p:nvPr/>
          </p:nvSpPr>
          <p:spPr>
            <a:xfrm>
              <a:off x="1457280" y="3263760"/>
              <a:ext cx="133200" cy="498600"/>
            </a:xfrm>
            <a:prstGeom prst="rect">
              <a:avLst/>
            </a:prstGeom>
            <a:solidFill>
              <a:srgbClr val="9999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63760" y="339084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63760" y="351324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63760" y="363528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457280" y="4118040"/>
            <a:ext cx="133200" cy="498600"/>
            <a:chOff x="1457280" y="4118040"/>
            <a:chExt cx="133200" cy="498600"/>
          </a:xfrm>
        </p:grpSpPr>
        <p:sp>
          <p:nvSpPr>
            <p:cNvPr id="142" name=""/>
            <p:cNvSpPr/>
            <p:nvPr/>
          </p:nvSpPr>
          <p:spPr>
            <a:xfrm>
              <a:off x="1457280" y="4118040"/>
              <a:ext cx="133200" cy="498600"/>
            </a:xfrm>
            <a:prstGeom prst="rect">
              <a:avLst/>
            </a:prstGeom>
            <a:solidFill>
              <a:srgbClr val="9999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63760" y="424512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63760" y="436716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63760" y="448956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036800" y="3330720"/>
            <a:ext cx="365400" cy="365400"/>
          </a:xfrm>
          <a:custGeom>
            <a:avLst/>
            <a:gdLst/>
            <a:ahLst/>
            <a:rect l="0" t="0" r="r" b="b"/>
            <a:pathLst>
              <a:path w="1015" h="1015">
                <a:moveTo>
                  <a:pt x="1015" y="728"/>
                </a:moveTo>
                <a:lnTo>
                  <a:pt x="710" y="1015"/>
                </a:lnTo>
                <a:lnTo>
                  <a:pt x="710" y="878"/>
                </a:lnTo>
                <a:lnTo>
                  <a:pt x="585" y="878"/>
                </a:lnTo>
                <a:lnTo>
                  <a:pt x="468" y="864"/>
                </a:lnTo>
                <a:lnTo>
                  <a:pt x="360" y="850"/>
                </a:lnTo>
                <a:lnTo>
                  <a:pt x="258" y="808"/>
                </a:lnTo>
                <a:lnTo>
                  <a:pt x="171" y="756"/>
                </a:lnTo>
                <a:lnTo>
                  <a:pt x="101" y="686"/>
                </a:lnTo>
                <a:lnTo>
                  <a:pt x="48" y="616"/>
                </a:lnTo>
                <a:lnTo>
                  <a:pt x="17" y="536"/>
                </a:lnTo>
                <a:lnTo>
                  <a:pt x="0" y="437"/>
                </a:lnTo>
                <a:lnTo>
                  <a:pt x="0" y="0"/>
                </a:lnTo>
                <a:lnTo>
                  <a:pt x="304" y="0"/>
                </a:lnTo>
                <a:lnTo>
                  <a:pt x="304" y="437"/>
                </a:lnTo>
                <a:lnTo>
                  <a:pt x="311" y="465"/>
                </a:lnTo>
                <a:lnTo>
                  <a:pt x="328" y="493"/>
                </a:lnTo>
                <a:lnTo>
                  <a:pt x="353" y="522"/>
                </a:lnTo>
                <a:lnTo>
                  <a:pt x="391" y="536"/>
                </a:lnTo>
                <a:lnTo>
                  <a:pt x="475" y="564"/>
                </a:lnTo>
                <a:lnTo>
                  <a:pt x="585" y="578"/>
                </a:lnTo>
                <a:lnTo>
                  <a:pt x="710" y="578"/>
                </a:lnTo>
                <a:lnTo>
                  <a:pt x="710" y="437"/>
                </a:lnTo>
                <a:lnTo>
                  <a:pt x="1015" y="728"/>
                </a:lnTo>
                <a:close/>
              </a:path>
            </a:pathLst>
          </a:custGeom>
          <a:solidFill>
            <a:srgbClr val="ff00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73080" y="4184640"/>
            <a:ext cx="367200" cy="365400"/>
          </a:xfrm>
          <a:custGeom>
            <a:avLst/>
            <a:gdLst/>
            <a:ahLst/>
            <a:rect l="0" t="0" r="r" b="b"/>
            <a:pathLst>
              <a:path w="1020" h="1015">
                <a:moveTo>
                  <a:pt x="280" y="1015"/>
                </a:moveTo>
                <a:lnTo>
                  <a:pt x="0" y="717"/>
                </a:lnTo>
                <a:lnTo>
                  <a:pt x="134" y="717"/>
                </a:lnTo>
                <a:lnTo>
                  <a:pt x="134" y="578"/>
                </a:lnTo>
                <a:lnTo>
                  <a:pt x="145" y="454"/>
                </a:lnTo>
                <a:lnTo>
                  <a:pt x="166" y="349"/>
                </a:lnTo>
                <a:lnTo>
                  <a:pt x="212" y="262"/>
                </a:lnTo>
                <a:lnTo>
                  <a:pt x="266" y="174"/>
                </a:lnTo>
                <a:lnTo>
                  <a:pt x="326" y="104"/>
                </a:lnTo>
                <a:lnTo>
                  <a:pt x="404" y="52"/>
                </a:lnTo>
                <a:lnTo>
                  <a:pt x="478" y="17"/>
                </a:lnTo>
                <a:lnTo>
                  <a:pt x="570" y="0"/>
                </a:lnTo>
                <a:lnTo>
                  <a:pt x="1020" y="0"/>
                </a:lnTo>
                <a:lnTo>
                  <a:pt x="1020" y="297"/>
                </a:lnTo>
                <a:lnTo>
                  <a:pt x="570" y="297"/>
                </a:lnTo>
                <a:lnTo>
                  <a:pt x="517" y="314"/>
                </a:lnTo>
                <a:lnTo>
                  <a:pt x="471" y="384"/>
                </a:lnTo>
                <a:lnTo>
                  <a:pt x="439" y="472"/>
                </a:lnTo>
                <a:lnTo>
                  <a:pt x="432" y="578"/>
                </a:lnTo>
                <a:lnTo>
                  <a:pt x="432" y="717"/>
                </a:lnTo>
                <a:lnTo>
                  <a:pt x="570" y="717"/>
                </a:lnTo>
                <a:lnTo>
                  <a:pt x="280" y="1015"/>
                </a:lnTo>
                <a:close/>
              </a:path>
            </a:pathLst>
          </a:custGeom>
          <a:solidFill>
            <a:srgbClr val="ff00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41600" y="3508200"/>
            <a:ext cx="192600" cy="254520"/>
          </a:xfrm>
          <a:custGeom>
            <a:avLst/>
            <a:gdLst/>
            <a:ahLst/>
            <a:rect l="0" t="0" r="r" b="b"/>
            <a:pathLst>
              <a:path w="535" h="707">
                <a:moveTo>
                  <a:pt x="0" y="235"/>
                </a:moveTo>
                <a:lnTo>
                  <a:pt x="0" y="470"/>
                </a:lnTo>
                <a:lnTo>
                  <a:pt x="374" y="470"/>
                </a:lnTo>
                <a:lnTo>
                  <a:pt x="374" y="707"/>
                </a:lnTo>
                <a:lnTo>
                  <a:pt x="535" y="353"/>
                </a:lnTo>
                <a:lnTo>
                  <a:pt x="374" y="0"/>
                </a:lnTo>
                <a:lnTo>
                  <a:pt x="374" y="235"/>
                </a:lnTo>
                <a:lnTo>
                  <a:pt x="0" y="235"/>
                </a:lnTo>
                <a:close/>
              </a:path>
            </a:pathLst>
          </a:cu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41600" y="4118040"/>
            <a:ext cx="192600" cy="254520"/>
          </a:xfrm>
          <a:custGeom>
            <a:avLst/>
            <a:gdLst/>
            <a:ahLst/>
            <a:rect l="0" t="0" r="r" b="b"/>
            <a:pathLst>
              <a:path w="535" h="707">
                <a:moveTo>
                  <a:pt x="535" y="235"/>
                </a:moveTo>
                <a:lnTo>
                  <a:pt x="535" y="470"/>
                </a:lnTo>
                <a:lnTo>
                  <a:pt x="161" y="470"/>
                </a:lnTo>
                <a:lnTo>
                  <a:pt x="161" y="707"/>
                </a:lnTo>
                <a:lnTo>
                  <a:pt x="0" y="353"/>
                </a:lnTo>
                <a:lnTo>
                  <a:pt x="161" y="0"/>
                </a:lnTo>
                <a:lnTo>
                  <a:pt x="161" y="235"/>
                </a:lnTo>
                <a:lnTo>
                  <a:pt x="535" y="235"/>
                </a:lnTo>
                <a:close/>
              </a:path>
            </a:pathLst>
          </a:cu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681280" y="3027240"/>
            <a:ext cx="235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815000" y="3819600"/>
            <a:ext cx="235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40120" y="3027240"/>
            <a:ext cx="235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457280" y="1928880"/>
            <a:ext cx="1413360" cy="650880"/>
            <a:chOff x="1457280" y="1928880"/>
            <a:chExt cx="1413360" cy="650880"/>
          </a:xfrm>
        </p:grpSpPr>
        <p:sp>
          <p:nvSpPr>
            <p:cNvPr id="154" name=""/>
            <p:cNvSpPr/>
            <p:nvPr/>
          </p:nvSpPr>
          <p:spPr>
            <a:xfrm>
              <a:off x="1457280" y="1947960"/>
              <a:ext cx="1413360" cy="619560"/>
            </a:xfrm>
            <a:custGeom>
              <a:avLst/>
              <a:gdLst/>
              <a:ahLst/>
              <a:rect l="0" t="0" r="r" b="b"/>
              <a:pathLst>
                <a:path w="3926" h="1721">
                  <a:moveTo>
                    <a:pt x="0" y="516"/>
                  </a:moveTo>
                  <a:lnTo>
                    <a:pt x="0" y="1204"/>
                  </a:lnTo>
                  <a:lnTo>
                    <a:pt x="1178" y="1721"/>
                  </a:lnTo>
                  <a:lnTo>
                    <a:pt x="2748" y="1721"/>
                  </a:lnTo>
                  <a:lnTo>
                    <a:pt x="3926" y="1204"/>
                  </a:lnTo>
                  <a:lnTo>
                    <a:pt x="3926" y="516"/>
                  </a:lnTo>
                  <a:lnTo>
                    <a:pt x="2748" y="0"/>
                  </a:lnTo>
                  <a:lnTo>
                    <a:pt x="1178" y="0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1476360" y="1928880"/>
              <a:ext cx="1371600" cy="65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ent Nam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017960" y="1862280"/>
            <a:ext cx="865440" cy="741600"/>
            <a:chOff x="4017960" y="1862280"/>
            <a:chExt cx="865440" cy="741600"/>
          </a:xfrm>
        </p:grpSpPr>
        <p:sp>
          <p:nvSpPr>
            <p:cNvPr id="157" name=""/>
            <p:cNvSpPr/>
            <p:nvPr/>
          </p:nvSpPr>
          <p:spPr>
            <a:xfrm>
              <a:off x="4017960" y="1862280"/>
              <a:ext cx="865440" cy="741600"/>
            </a:xfrm>
            <a:custGeom>
              <a:avLst/>
              <a:gdLst/>
              <a:ahLst/>
              <a:rect l="0" t="0" r="r" b="b"/>
              <a:pathLst>
                <a:path w="2404" h="2060">
                  <a:moveTo>
                    <a:pt x="0" y="617"/>
                  </a:moveTo>
                  <a:lnTo>
                    <a:pt x="0" y="1442"/>
                  </a:lnTo>
                  <a:lnTo>
                    <a:pt x="720" y="2060"/>
                  </a:lnTo>
                  <a:lnTo>
                    <a:pt x="1683" y="2060"/>
                  </a:lnTo>
                  <a:lnTo>
                    <a:pt x="2404" y="1442"/>
                  </a:lnTo>
                  <a:lnTo>
                    <a:pt x="2404" y="617"/>
                  </a:lnTo>
                  <a:lnTo>
                    <a:pt x="1683" y="0"/>
                  </a:lnTo>
                  <a:lnTo>
                    <a:pt x="720" y="0"/>
                  </a:lnTo>
                  <a:lnTo>
                    <a:pt x="0" y="617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4040280" y="1903320"/>
              <a:ext cx="816120" cy="65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roke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en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054760" y="4062240"/>
            <a:ext cx="1168920" cy="650880"/>
            <a:chOff x="5054760" y="4062240"/>
            <a:chExt cx="1168920" cy="650880"/>
          </a:xfrm>
        </p:grpSpPr>
        <p:sp>
          <p:nvSpPr>
            <p:cNvPr id="160" name=""/>
            <p:cNvSpPr/>
            <p:nvPr/>
          </p:nvSpPr>
          <p:spPr>
            <a:xfrm>
              <a:off x="5054760" y="4081320"/>
              <a:ext cx="1168920" cy="619560"/>
            </a:xfrm>
            <a:custGeom>
              <a:avLst/>
              <a:gdLst/>
              <a:ahLst/>
              <a:rect l="0" t="0" r="r" b="b"/>
              <a:pathLst>
                <a:path w="3247" h="1721">
                  <a:moveTo>
                    <a:pt x="0" y="516"/>
                  </a:moveTo>
                  <a:lnTo>
                    <a:pt x="0" y="1204"/>
                  </a:lnTo>
                  <a:lnTo>
                    <a:pt x="974" y="1721"/>
                  </a:lnTo>
                  <a:lnTo>
                    <a:pt x="2272" y="1721"/>
                  </a:lnTo>
                  <a:lnTo>
                    <a:pt x="3247" y="1204"/>
                  </a:lnTo>
                  <a:lnTo>
                    <a:pt x="3247" y="516"/>
                  </a:lnTo>
                  <a:lnTo>
                    <a:pt x="2272" y="0"/>
                  </a:lnTo>
                  <a:lnTo>
                    <a:pt x="974" y="0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5103720" y="4062240"/>
              <a:ext cx="1069920" cy="65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rector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en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815000" y="2776680"/>
            <a:ext cx="1595880" cy="681480"/>
            <a:chOff x="4815000" y="2776680"/>
            <a:chExt cx="1595880" cy="681480"/>
          </a:xfrm>
        </p:grpSpPr>
        <p:sp>
          <p:nvSpPr>
            <p:cNvPr id="163" name=""/>
            <p:cNvSpPr/>
            <p:nvPr/>
          </p:nvSpPr>
          <p:spPr>
            <a:xfrm>
              <a:off x="4815000" y="2776680"/>
              <a:ext cx="1595880" cy="681480"/>
            </a:xfrm>
            <a:custGeom>
              <a:avLst/>
              <a:gdLst/>
              <a:ahLst/>
              <a:rect l="0" t="0" r="r" b="b"/>
              <a:pathLst>
                <a:path w="4433" h="1893">
                  <a:moveTo>
                    <a:pt x="0" y="568"/>
                  </a:moveTo>
                  <a:lnTo>
                    <a:pt x="0" y="1325"/>
                  </a:lnTo>
                  <a:lnTo>
                    <a:pt x="1330" y="1893"/>
                  </a:lnTo>
                  <a:lnTo>
                    <a:pt x="3103" y="1893"/>
                  </a:lnTo>
                  <a:lnTo>
                    <a:pt x="4433" y="1325"/>
                  </a:lnTo>
                  <a:lnTo>
                    <a:pt x="4433" y="568"/>
                  </a:lnTo>
                  <a:lnTo>
                    <a:pt x="3103" y="0"/>
                  </a:lnTo>
                  <a:lnTo>
                    <a:pt x="1330" y="0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4822920" y="2787480"/>
              <a:ext cx="1579680" cy="65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uthentic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en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 txBox="1"/>
          <p:nvPr/>
        </p:nvSpPr>
        <p:spPr>
          <a:xfrm>
            <a:off x="1584360" y="3332160"/>
            <a:ext cx="235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90560" y="3454560"/>
            <a:ext cx="235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90560" y="4064040"/>
            <a:ext cx="235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644480" y="4307040"/>
            <a:ext cx="235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473280" y="3879720"/>
            <a:ext cx="235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017960" y="3630600"/>
            <a:ext cx="681480" cy="376560"/>
            <a:chOff x="4017960" y="3630600"/>
            <a:chExt cx="681480" cy="376560"/>
          </a:xfrm>
        </p:grpSpPr>
        <p:sp>
          <p:nvSpPr>
            <p:cNvPr id="171" name=""/>
            <p:cNvSpPr/>
            <p:nvPr/>
          </p:nvSpPr>
          <p:spPr>
            <a:xfrm>
              <a:off x="4017960" y="3630600"/>
              <a:ext cx="681480" cy="376560"/>
            </a:xfrm>
            <a:custGeom>
              <a:avLst/>
              <a:gdLst/>
              <a:ahLst/>
              <a:rect l="0" t="0" r="r" b="b"/>
              <a:pathLst>
                <a:path w="1893" h="1046">
                  <a:moveTo>
                    <a:pt x="0" y="313"/>
                  </a:moveTo>
                  <a:lnTo>
                    <a:pt x="0" y="732"/>
                  </a:lnTo>
                  <a:lnTo>
                    <a:pt x="568" y="1046"/>
                  </a:lnTo>
                  <a:lnTo>
                    <a:pt x="1325" y="1046"/>
                  </a:lnTo>
                  <a:lnTo>
                    <a:pt x="1893" y="732"/>
                  </a:lnTo>
                  <a:lnTo>
                    <a:pt x="1893" y="313"/>
                  </a:lnTo>
                  <a:lnTo>
                    <a:pt x="1325" y="0"/>
                  </a:lnTo>
                  <a:lnTo>
                    <a:pt x="568" y="0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4049640" y="3637080"/>
              <a:ext cx="615960" cy="36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043080" y="2471760"/>
            <a:ext cx="681480" cy="376560"/>
            <a:chOff x="3043080" y="2471760"/>
            <a:chExt cx="681480" cy="376560"/>
          </a:xfrm>
        </p:grpSpPr>
        <p:sp>
          <p:nvSpPr>
            <p:cNvPr id="174" name=""/>
            <p:cNvSpPr/>
            <p:nvPr/>
          </p:nvSpPr>
          <p:spPr>
            <a:xfrm>
              <a:off x="3043080" y="2471760"/>
              <a:ext cx="681480" cy="376560"/>
            </a:xfrm>
            <a:custGeom>
              <a:avLst/>
              <a:gdLst/>
              <a:ahLst/>
              <a:rect l="0" t="0" r="r" b="b"/>
              <a:pathLst>
                <a:path w="1893" h="1046">
                  <a:moveTo>
                    <a:pt x="0" y="313"/>
                  </a:moveTo>
                  <a:lnTo>
                    <a:pt x="0" y="732"/>
                  </a:lnTo>
                  <a:lnTo>
                    <a:pt x="568" y="1046"/>
                  </a:lnTo>
                  <a:lnTo>
                    <a:pt x="1325" y="1046"/>
                  </a:lnTo>
                  <a:lnTo>
                    <a:pt x="1893" y="732"/>
                  </a:lnTo>
                  <a:lnTo>
                    <a:pt x="1893" y="313"/>
                  </a:lnTo>
                  <a:lnTo>
                    <a:pt x="1325" y="0"/>
                  </a:lnTo>
                  <a:lnTo>
                    <a:pt x="568" y="0"/>
                  </a:lnTo>
                  <a:lnTo>
                    <a:pt x="0" y="31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3073320" y="2478240"/>
              <a:ext cx="615960" cy="36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893960" y="3568680"/>
            <a:ext cx="1003320" cy="743400"/>
            <a:chOff x="1893960" y="3568680"/>
            <a:chExt cx="1003320" cy="743400"/>
          </a:xfrm>
        </p:grpSpPr>
        <p:sp>
          <p:nvSpPr>
            <p:cNvPr id="177" name=""/>
            <p:cNvSpPr/>
            <p:nvPr/>
          </p:nvSpPr>
          <p:spPr>
            <a:xfrm>
              <a:off x="1903320" y="3568680"/>
              <a:ext cx="986040" cy="743400"/>
            </a:xfrm>
            <a:custGeom>
              <a:avLst/>
              <a:gdLst/>
              <a:ahLst/>
              <a:rect l="0" t="0" r="r" b="b"/>
              <a:pathLst>
                <a:path w="2739" h="2065">
                  <a:moveTo>
                    <a:pt x="0" y="620"/>
                  </a:moveTo>
                  <a:lnTo>
                    <a:pt x="0" y="1445"/>
                  </a:lnTo>
                  <a:lnTo>
                    <a:pt x="821" y="2065"/>
                  </a:lnTo>
                  <a:lnTo>
                    <a:pt x="1917" y="2065"/>
                  </a:lnTo>
                  <a:lnTo>
                    <a:pt x="2739" y="1445"/>
                  </a:lnTo>
                  <a:lnTo>
                    <a:pt x="2739" y="620"/>
                  </a:lnTo>
                  <a:lnTo>
                    <a:pt x="1917" y="0"/>
                  </a:lnTo>
                  <a:lnTo>
                    <a:pt x="821" y="0"/>
                  </a:lnTo>
                  <a:lnTo>
                    <a:pt x="0" y="62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1893960" y="3613320"/>
              <a:ext cx="1003320" cy="65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atewa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en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723040" y="2922840"/>
            <a:ext cx="512280" cy="646920"/>
          </a:xfrm>
          <a:custGeom>
            <a:avLst/>
            <a:gdLst/>
            <a:ahLst/>
            <a:rect l="0" t="0" r="r" b="b"/>
            <a:pathLst>
              <a:path w="1423" h="1797">
                <a:moveTo>
                  <a:pt x="0" y="1722"/>
                </a:moveTo>
                <a:lnTo>
                  <a:pt x="96" y="1797"/>
                </a:lnTo>
                <a:lnTo>
                  <a:pt x="1058" y="565"/>
                </a:lnTo>
                <a:lnTo>
                  <a:pt x="1155" y="641"/>
                </a:lnTo>
                <a:lnTo>
                  <a:pt x="1423" y="0"/>
                </a:lnTo>
                <a:lnTo>
                  <a:pt x="866" y="414"/>
                </a:lnTo>
                <a:lnTo>
                  <a:pt x="962" y="490"/>
                </a:lnTo>
                <a:lnTo>
                  <a:pt x="0" y="1722"/>
                </a:lnTo>
                <a:close/>
              </a:path>
            </a:pathLst>
          </a:cu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82960" y="3813120"/>
            <a:ext cx="984600" cy="132120"/>
          </a:xfrm>
          <a:custGeom>
            <a:avLst/>
            <a:gdLst/>
            <a:ahLst/>
            <a:rect l="0" t="0" r="r" b="b"/>
            <a:pathLst>
              <a:path w="2735" h="367">
                <a:moveTo>
                  <a:pt x="2735" y="121"/>
                </a:moveTo>
                <a:lnTo>
                  <a:pt x="2735" y="244"/>
                </a:lnTo>
                <a:lnTo>
                  <a:pt x="820" y="244"/>
                </a:lnTo>
                <a:lnTo>
                  <a:pt x="820" y="367"/>
                </a:lnTo>
                <a:lnTo>
                  <a:pt x="0" y="183"/>
                </a:lnTo>
                <a:lnTo>
                  <a:pt x="820" y="0"/>
                </a:lnTo>
                <a:lnTo>
                  <a:pt x="820" y="121"/>
                </a:lnTo>
                <a:lnTo>
                  <a:pt x="2735" y="121"/>
                </a:lnTo>
                <a:close/>
              </a:path>
            </a:pathLst>
          </a:cu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93160" y="2958480"/>
            <a:ext cx="478080" cy="669600"/>
          </a:xfrm>
          <a:custGeom>
            <a:avLst/>
            <a:gdLst/>
            <a:ahLst/>
            <a:rect l="0" t="0" r="r" b="b"/>
            <a:pathLst>
              <a:path w="1328" h="1860">
                <a:moveTo>
                  <a:pt x="99" y="0"/>
                </a:moveTo>
                <a:lnTo>
                  <a:pt x="0" y="69"/>
                </a:lnTo>
                <a:lnTo>
                  <a:pt x="895" y="1347"/>
                </a:lnTo>
                <a:lnTo>
                  <a:pt x="794" y="1417"/>
                </a:lnTo>
                <a:lnTo>
                  <a:pt x="1328" y="1860"/>
                </a:lnTo>
                <a:lnTo>
                  <a:pt x="1094" y="1208"/>
                </a:lnTo>
                <a:lnTo>
                  <a:pt x="994" y="1277"/>
                </a:lnTo>
                <a:lnTo>
                  <a:pt x="99" y="0"/>
                </a:lnTo>
                <a:close/>
              </a:path>
            </a:pathLst>
          </a:cu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58840" y="4027680"/>
            <a:ext cx="287280" cy="184320"/>
          </a:xfrm>
          <a:custGeom>
            <a:avLst/>
            <a:gdLst/>
            <a:ahLst/>
            <a:rect l="0" t="0" r="r" b="b"/>
            <a:pathLst>
              <a:path w="798" h="512">
                <a:moveTo>
                  <a:pt x="59" y="0"/>
                </a:moveTo>
                <a:lnTo>
                  <a:pt x="0" y="106"/>
                </a:lnTo>
                <a:lnTo>
                  <a:pt x="538" y="405"/>
                </a:lnTo>
                <a:lnTo>
                  <a:pt x="478" y="512"/>
                </a:lnTo>
                <a:lnTo>
                  <a:pt x="798" y="479"/>
                </a:lnTo>
                <a:lnTo>
                  <a:pt x="657" y="191"/>
                </a:lnTo>
                <a:lnTo>
                  <a:pt x="597" y="298"/>
                </a:lnTo>
                <a:lnTo>
                  <a:pt x="59" y="0"/>
                </a:lnTo>
                <a:close/>
              </a:path>
            </a:pathLst>
          </a:custGeom>
          <a:solidFill>
            <a:srgbClr val="33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209680" y="5257800"/>
            <a:ext cx="63244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gents register with the Agent Nam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gent may communicate/collaborate with any other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roker Agent matches agent interests with service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ows indicate path of rate monitoring sce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999933"/>
                </a:solidFill>
                <a:latin typeface="Times New Roman"/>
                <a:ea typeface="Times New Roman"/>
              </a:rPr>
              <a:t>Current Implementation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59680" y="2909880"/>
            <a:ext cx="1150920" cy="151776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05760" y="3184560"/>
            <a:ext cx="1058760" cy="1197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292880" y="3554280"/>
            <a:ext cx="8827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-Enabl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426440" y="2960640"/>
            <a:ext cx="622440" cy="2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ca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3429000"/>
            <a:ext cx="2910240" cy="394200"/>
          </a:xfrm>
          <a:custGeom>
            <a:avLst/>
            <a:gdLst/>
            <a:ahLst/>
            <a:rect l="0" t="0" r="r" b="b"/>
            <a:pathLst>
              <a:path fill="none" w="8084" h="1095">
                <a:moveTo>
                  <a:pt x="0" y="1095"/>
                </a:moveTo>
                <a:lnTo>
                  <a:pt x="881" y="1077"/>
                </a:lnTo>
                <a:lnTo>
                  <a:pt x="1736" y="1042"/>
                </a:lnTo>
                <a:lnTo>
                  <a:pt x="2498" y="989"/>
                </a:lnTo>
                <a:lnTo>
                  <a:pt x="3233" y="919"/>
                </a:lnTo>
                <a:lnTo>
                  <a:pt x="3807" y="853"/>
                </a:lnTo>
                <a:lnTo>
                  <a:pt x="4075" y="799"/>
                </a:lnTo>
                <a:lnTo>
                  <a:pt x="4276" y="763"/>
                </a:lnTo>
                <a:lnTo>
                  <a:pt x="4463" y="710"/>
                </a:lnTo>
                <a:lnTo>
                  <a:pt x="4583" y="662"/>
                </a:lnTo>
                <a:lnTo>
                  <a:pt x="4663" y="609"/>
                </a:lnTo>
                <a:lnTo>
                  <a:pt x="4703" y="556"/>
                </a:lnTo>
                <a:lnTo>
                  <a:pt x="4703" y="503"/>
                </a:lnTo>
                <a:lnTo>
                  <a:pt x="4770" y="450"/>
                </a:lnTo>
                <a:lnTo>
                  <a:pt x="5011" y="344"/>
                </a:lnTo>
                <a:lnTo>
                  <a:pt x="5305" y="260"/>
                </a:lnTo>
                <a:lnTo>
                  <a:pt x="5732" y="171"/>
                </a:lnTo>
                <a:lnTo>
                  <a:pt x="6267" y="101"/>
                </a:lnTo>
                <a:lnTo>
                  <a:pt x="6854" y="52"/>
                </a:lnTo>
                <a:lnTo>
                  <a:pt x="7469" y="17"/>
                </a:lnTo>
                <a:lnTo>
                  <a:pt x="8084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2868480"/>
            <a:ext cx="92520" cy="1644840"/>
          </a:xfrm>
          <a:custGeom>
            <a:avLst/>
            <a:gdLst/>
            <a:ahLst/>
            <a:rect l="0" t="0" r="r" b="b"/>
            <a:pathLst>
              <a:path fill="none" w="257" h="4569">
                <a:moveTo>
                  <a:pt x="257" y="0"/>
                </a:moveTo>
                <a:lnTo>
                  <a:pt x="162" y="285"/>
                </a:lnTo>
                <a:lnTo>
                  <a:pt x="81" y="559"/>
                </a:lnTo>
                <a:lnTo>
                  <a:pt x="26" y="842"/>
                </a:lnTo>
                <a:lnTo>
                  <a:pt x="0" y="1138"/>
                </a:lnTo>
                <a:lnTo>
                  <a:pt x="13" y="1293"/>
                </a:lnTo>
                <a:lnTo>
                  <a:pt x="40" y="1457"/>
                </a:lnTo>
                <a:lnTo>
                  <a:pt x="135" y="1785"/>
                </a:lnTo>
                <a:lnTo>
                  <a:pt x="217" y="2104"/>
                </a:lnTo>
                <a:lnTo>
                  <a:pt x="244" y="2268"/>
                </a:lnTo>
                <a:lnTo>
                  <a:pt x="257" y="2411"/>
                </a:lnTo>
                <a:lnTo>
                  <a:pt x="244" y="2554"/>
                </a:lnTo>
                <a:lnTo>
                  <a:pt x="217" y="2683"/>
                </a:lnTo>
                <a:lnTo>
                  <a:pt x="135" y="2926"/>
                </a:lnTo>
                <a:lnTo>
                  <a:pt x="40" y="3177"/>
                </a:lnTo>
                <a:lnTo>
                  <a:pt x="13" y="3299"/>
                </a:lnTo>
                <a:lnTo>
                  <a:pt x="0" y="3431"/>
                </a:lnTo>
                <a:lnTo>
                  <a:pt x="26" y="3703"/>
                </a:lnTo>
                <a:lnTo>
                  <a:pt x="81" y="3988"/>
                </a:lnTo>
                <a:lnTo>
                  <a:pt x="162" y="4273"/>
                </a:lnTo>
                <a:lnTo>
                  <a:pt x="257" y="4569"/>
                </a:lnTo>
              </a:path>
            </a:pathLst>
          </a:custGeom>
          <a:ln w="25560">
            <a:solidFill>
              <a:srgbClr val="8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844720" y="3260880"/>
            <a:ext cx="1244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/K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04640" y="3719520"/>
            <a:ext cx="674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299360" y="2270160"/>
            <a:ext cx="1047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ued Gateway Customer</dc:creator>
  <dc:description/>
  <dc:language>en-US</dc:language>
  <cp:lastModifiedBy>Valued Gateway Customer</cp:lastModifiedBy>
  <cp:revision>0</cp:revision>
  <dc:subject/>
  <dc:title>CIIMPLEX</dc:title>
</cp:coreProperties>
</file>