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80F74E-9B84-46C7-AFC4-AF59D5643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  <a:ea typeface="Arial Narrow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533520"/>
            <a:ext cx="7772400" cy="36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9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QML</a:t>
            </a:r>
            <a:br>
              <a:rPr sz="12900"/>
            </a:br>
            <a:r>
              <a:rPr b="1" lang="en-US" sz="129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emantic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62120" y="4389480"/>
            <a:ext cx="7620120" cy="24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the work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nnis Labr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Mary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imore Cou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mantics for  </a:t>
            </a:r>
            <a:r>
              <a:rPr b="1" lang="en-US" sz="3600" spc="-1" strike="noStrike">
                <a:solidFill>
                  <a:srgbClr val="cf0e30"/>
                </a:solidFill>
                <a:latin typeface="Arial Narrow"/>
                <a:ea typeface="Arial Narrow"/>
              </a:rPr>
              <a:t>T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19040" y="1841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8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TELL(A,B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 states to B that A believes X to be true (for 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bel(A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(A):  </a:t>
            </a:r>
            <a:r>
              <a:rPr b="0" i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bel(A,X) AND know(A,want(B,know(B,S)))</a:t>
            </a:r>
            <a:r>
              <a:rPr b="0" i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here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may be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bel(B,X)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or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NOT(bel(B,X))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(B):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ntend(B,know(B,S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ost(A)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A,know(B,bel(A,X)))</a:t>
            </a:r>
            <a:r>
              <a:rPr b="0" i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ost(B)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B,bel(A,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ompletion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B,bel(A,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he completion condition and postconditions hold unless a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SORRY</a:t>
            </a:r>
            <a:r>
              <a:rPr b="0" i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or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ERROR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uggests B’s inability to properly acknowledge the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TELL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.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mantics for  the </a:t>
            </a:r>
            <a:r>
              <a:rPr b="1" lang="en-US" sz="3600" spc="-1" strike="noStrike">
                <a:solidFill>
                  <a:srgbClr val="cf0e30"/>
                </a:solidFill>
                <a:latin typeface="Arial Narrow"/>
                <a:ea typeface="Arial Narrow"/>
              </a:rPr>
              <a:t>proactive-T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19040" y="21463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proactive-TELL(A,B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 states to B that A believes the content to be tr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bel(A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(A):  </a:t>
            </a:r>
            <a:r>
              <a:rPr b="0" i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bel(A,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(B):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ost(A)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A,know(B,bel(A,X)))</a:t>
            </a:r>
            <a:r>
              <a:rPr b="0" i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ost(B)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B,bel(A,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ompletion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B,bel(A,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he postconditions and completion condition hold unless a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SORRY</a:t>
            </a:r>
            <a:r>
              <a:rPr b="0" i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or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ERROR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uggests B’s inability to properly acknowledge the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TELL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.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case of  KD45 semantics for </a:t>
            </a:r>
            <a:r>
              <a:rPr b="1" lang="en-US" sz="36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62120" y="21337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TELL(A,B,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TELL(A,B,P implies 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hould  A decide that 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BEL(B,Q)</a:t>
            </a:r>
            <a:r>
              <a:rPr b="0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hould  B decide that 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BEL(A,Q)</a:t>
            </a:r>
            <a:r>
              <a:rPr b="0" lang="en-US" sz="2800" spc="-1" strike="noStrike">
                <a:solidFill>
                  <a:srgbClr val="cf0e3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81d58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Maybe ,  maybe not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68240" y="77148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onversation Poli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(intuitive)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performatives “fit” in exchanges of KQML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(formal)</a:t>
            </a:r>
            <a:r>
              <a:rPr b="0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um possible set of permissible KQML conversations, consistent with the semantic descri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a formal specification, independent of implementation, but we’ve defined them as DCGs and as ATNs to provide “executable specifications” used to filter out inchoherent mess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V="1">
            <a:off x="1606680" y="2317680"/>
            <a:ext cx="1307880" cy="317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13000" y="2131920"/>
            <a:ext cx="1200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am-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8240" y="77148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onversation polices as AT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495520"/>
            <a:ext cx="685800" cy="711360"/>
          </a:xfrm>
          <a:prstGeom prst="ellipse">
            <a:avLst/>
          </a:prstGeom>
          <a:solidFill>
            <a:srgbClr val="618ffd"/>
          </a:solidFill>
          <a:ln w="25560">
            <a:solidFill>
              <a:srgbClr val="618ffd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73680" y="2495520"/>
            <a:ext cx="685800" cy="711360"/>
          </a:xfrm>
          <a:prstGeom prst="ellipse">
            <a:avLst/>
          </a:prstGeom>
          <a:solidFill>
            <a:srgbClr val="618ffd"/>
          </a:solidFill>
          <a:ln w="25560">
            <a:solidFill>
              <a:srgbClr val="618ffd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81560" y="3898800"/>
            <a:ext cx="685800" cy="711360"/>
          </a:xfrm>
          <a:prstGeom prst="ellipse">
            <a:avLst/>
          </a:prstGeom>
          <a:solidFill>
            <a:srgbClr val="618ffd"/>
          </a:solidFill>
          <a:ln w="25560">
            <a:solidFill>
              <a:srgbClr val="618ffd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62480" y="5022720"/>
            <a:ext cx="685800" cy="711360"/>
          </a:xfrm>
          <a:prstGeom prst="ellipse">
            <a:avLst/>
          </a:prstGeom>
          <a:solidFill>
            <a:srgbClr val="618ffd"/>
          </a:solidFill>
          <a:ln w="25560">
            <a:solidFill>
              <a:srgbClr val="618ffd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0000" y="2521080"/>
            <a:ext cx="673200" cy="68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27520" y="1949400"/>
            <a:ext cx="673200" cy="68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27520" y="3117960"/>
            <a:ext cx="673200" cy="68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52560" y="3949560"/>
            <a:ext cx="673200" cy="68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58680" y="5060880"/>
            <a:ext cx="673200" cy="68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35200" y="5060880"/>
            <a:ext cx="673200" cy="68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0040" y="2851200"/>
            <a:ext cx="299736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93720" y="3079800"/>
            <a:ext cx="1308240" cy="3556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40240" y="2711520"/>
            <a:ext cx="13590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40240" y="3029040"/>
            <a:ext cx="13464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63560" y="4330800"/>
            <a:ext cx="27306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0040" y="5416560"/>
            <a:ext cx="93996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33600" y="5403960"/>
            <a:ext cx="10414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8520" y="2292480"/>
            <a:ext cx="3238560" cy="253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600360" y="3219480"/>
            <a:ext cx="3289320" cy="368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82840" y="1936800"/>
            <a:ext cx="3848400" cy="572040"/>
          </a:xfrm>
          <a:custGeom>
            <a:avLst/>
            <a:gdLst/>
            <a:ahLst/>
            <a:rect l="0" t="0" r="r" b="b"/>
            <a:pathLst>
              <a:path fill="none" w="10690" h="1589">
                <a:moveTo>
                  <a:pt x="10690" y="1589"/>
                </a:moveTo>
                <a:lnTo>
                  <a:pt x="10690" y="1589"/>
                </a:lnTo>
                <a:lnTo>
                  <a:pt x="10690" y="1589"/>
                </a:lnTo>
                <a:cubicBezTo>
                  <a:pt x="10690" y="1310"/>
                  <a:pt x="10196" y="1036"/>
                  <a:pt x="9258" y="794"/>
                </a:cubicBezTo>
                <a:cubicBezTo>
                  <a:pt x="8320" y="553"/>
                  <a:pt x="6970" y="352"/>
                  <a:pt x="5345" y="213"/>
                </a:cubicBezTo>
                <a:cubicBezTo>
                  <a:pt x="3720" y="73"/>
                  <a:pt x="1876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57640" y="3143160"/>
            <a:ext cx="4001040" cy="686160"/>
          </a:xfrm>
          <a:custGeom>
            <a:avLst/>
            <a:gdLst/>
            <a:ahLst/>
            <a:rect l="0" t="0" r="r" b="b"/>
            <a:pathLst>
              <a:path fill="none" w="11114" h="1906">
                <a:moveTo>
                  <a:pt x="0" y="1906"/>
                </a:moveTo>
                <a:lnTo>
                  <a:pt x="0" y="1906"/>
                </a:lnTo>
                <a:cubicBezTo>
                  <a:pt x="1951" y="1906"/>
                  <a:pt x="3867" y="1818"/>
                  <a:pt x="5557" y="1651"/>
                </a:cubicBezTo>
                <a:cubicBezTo>
                  <a:pt x="7247" y="1483"/>
                  <a:pt x="8650" y="1243"/>
                  <a:pt x="9625" y="953"/>
                </a:cubicBezTo>
                <a:cubicBezTo>
                  <a:pt x="10600" y="663"/>
                  <a:pt x="11114" y="335"/>
                  <a:pt x="11114" y="0"/>
                </a:cubicBezTo>
              </a:path>
            </a:pathLst>
          </a:custGeom>
          <a:ln w="25560">
            <a:solidFill>
              <a:srgbClr val="00000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83520" y="2635200"/>
            <a:ext cx="825840" cy="394200"/>
          </a:xfrm>
          <a:custGeom>
            <a:avLst/>
            <a:gdLst/>
            <a:ahLst/>
            <a:rect l="0" t="0" r="r" b="b"/>
            <a:pathLst>
              <a:path fill="none" w="2294" h="1095">
                <a:moveTo>
                  <a:pt x="2294" y="1095"/>
                </a:moveTo>
                <a:lnTo>
                  <a:pt x="2294" y="1095"/>
                </a:lnTo>
                <a:lnTo>
                  <a:pt x="2294" y="1095"/>
                </a:lnTo>
                <a:cubicBezTo>
                  <a:pt x="2294" y="903"/>
                  <a:pt x="2188" y="714"/>
                  <a:pt x="1987" y="547"/>
                </a:cubicBezTo>
                <a:cubicBezTo>
                  <a:pt x="1785" y="381"/>
                  <a:pt x="1496" y="243"/>
                  <a:pt x="1147" y="147"/>
                </a:cubicBezTo>
                <a:cubicBezTo>
                  <a:pt x="798" y="51"/>
                  <a:pt x="403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67360" y="4127400"/>
            <a:ext cx="736920" cy="292320"/>
          </a:xfrm>
          <a:custGeom>
            <a:avLst/>
            <a:gdLst/>
            <a:ahLst/>
            <a:rect l="0" t="0" r="r" b="b"/>
            <a:pathLst>
              <a:path fill="none" w="2047" h="812">
                <a:moveTo>
                  <a:pt x="2047" y="812"/>
                </a:moveTo>
                <a:lnTo>
                  <a:pt x="2047" y="812"/>
                </a:lnTo>
                <a:lnTo>
                  <a:pt x="2047" y="812"/>
                </a:lnTo>
                <a:cubicBezTo>
                  <a:pt x="2047" y="669"/>
                  <a:pt x="1952" y="529"/>
                  <a:pt x="1773" y="406"/>
                </a:cubicBezTo>
                <a:cubicBezTo>
                  <a:pt x="1593" y="283"/>
                  <a:pt x="1335" y="180"/>
                  <a:pt x="1023" y="109"/>
                </a:cubicBezTo>
                <a:cubicBezTo>
                  <a:pt x="712" y="38"/>
                  <a:pt x="359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92560" y="5219640"/>
            <a:ext cx="724320" cy="381240"/>
          </a:xfrm>
          <a:custGeom>
            <a:avLst/>
            <a:gdLst/>
            <a:ahLst/>
            <a:rect l="0" t="0" r="r" b="b"/>
            <a:pathLst>
              <a:path fill="none" w="2012" h="1059">
                <a:moveTo>
                  <a:pt x="2012" y="1059"/>
                </a:moveTo>
                <a:lnTo>
                  <a:pt x="2012" y="1059"/>
                </a:lnTo>
                <a:lnTo>
                  <a:pt x="2012" y="1059"/>
                </a:lnTo>
                <a:cubicBezTo>
                  <a:pt x="2012" y="873"/>
                  <a:pt x="1919" y="690"/>
                  <a:pt x="1742" y="529"/>
                </a:cubicBezTo>
                <a:cubicBezTo>
                  <a:pt x="1566" y="369"/>
                  <a:pt x="1312" y="235"/>
                  <a:pt x="1006" y="142"/>
                </a:cubicBezTo>
                <a:cubicBezTo>
                  <a:pt x="700" y="49"/>
                  <a:pt x="353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355920" y="2627280"/>
            <a:ext cx="860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-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666800" y="3076560"/>
            <a:ext cx="1000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-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24400" y="1814400"/>
            <a:ext cx="35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19840" y="2170080"/>
            <a:ext cx="495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565600" y="2500200"/>
            <a:ext cx="507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565600" y="2805120"/>
            <a:ext cx="35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121360" y="3160800"/>
            <a:ext cx="507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03760" y="3440160"/>
            <a:ext cx="35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445520" y="2817720"/>
            <a:ext cx="565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13360" y="4119480"/>
            <a:ext cx="565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108400" y="5205240"/>
            <a:ext cx="565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409840" y="426708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730520" y="5180040"/>
            <a:ext cx="507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483000" y="5167440"/>
            <a:ext cx="522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20680" y="2522520"/>
            <a:ext cx="38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990880" y="2065320"/>
            <a:ext cx="560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00240" y="3201840"/>
            <a:ext cx="560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740120" y="2624040"/>
            <a:ext cx="560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724800" y="2590920"/>
            <a:ext cx="560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73160" y="4035600"/>
            <a:ext cx="441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419720" y="4040280"/>
            <a:ext cx="619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93600" y="5133960"/>
            <a:ext cx="638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593800" y="5164200"/>
            <a:ext cx="81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302000" y="5121360"/>
            <a:ext cx="81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85640" y="2548080"/>
            <a:ext cx="382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03200" y="3989520"/>
            <a:ext cx="441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4120" y="5113440"/>
            <a:ext cx="638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86080" y="4000680"/>
            <a:ext cx="2921400" cy="140040"/>
          </a:xfrm>
          <a:custGeom>
            <a:avLst/>
            <a:gdLst/>
            <a:ahLst/>
            <a:rect l="0" t="0" r="r" b="b"/>
            <a:pathLst>
              <a:path fill="none" w="8115" h="389">
                <a:moveTo>
                  <a:pt x="8115" y="389"/>
                </a:moveTo>
                <a:lnTo>
                  <a:pt x="8115" y="389"/>
                </a:lnTo>
                <a:lnTo>
                  <a:pt x="8115" y="389"/>
                </a:lnTo>
                <a:cubicBezTo>
                  <a:pt x="8115" y="321"/>
                  <a:pt x="7740" y="254"/>
                  <a:pt x="7028" y="194"/>
                </a:cubicBezTo>
                <a:cubicBezTo>
                  <a:pt x="6316" y="135"/>
                  <a:pt x="5291" y="86"/>
                  <a:pt x="4057" y="52"/>
                </a:cubicBezTo>
                <a:cubicBezTo>
                  <a:pt x="2824" y="18"/>
                  <a:pt x="1424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60520" y="4470480"/>
            <a:ext cx="2997720" cy="127440"/>
          </a:xfrm>
          <a:custGeom>
            <a:avLst/>
            <a:gdLst/>
            <a:ahLst/>
            <a:rect l="0" t="0" r="r" b="b"/>
            <a:pathLst>
              <a:path fill="none" w="8327" h="354">
                <a:moveTo>
                  <a:pt x="0" y="354"/>
                </a:moveTo>
                <a:lnTo>
                  <a:pt x="0" y="354"/>
                </a:lnTo>
                <a:cubicBezTo>
                  <a:pt x="1462" y="354"/>
                  <a:pt x="2898" y="338"/>
                  <a:pt x="4164" y="307"/>
                </a:cubicBezTo>
                <a:cubicBezTo>
                  <a:pt x="5429" y="276"/>
                  <a:pt x="6481" y="231"/>
                  <a:pt x="7211" y="177"/>
                </a:cubicBezTo>
                <a:cubicBezTo>
                  <a:pt x="7942" y="123"/>
                  <a:pt x="8327" y="62"/>
                  <a:pt x="8327" y="0"/>
                </a:cubicBezTo>
              </a:path>
            </a:pathLst>
          </a:custGeom>
          <a:ln w="25560">
            <a:solidFill>
              <a:srgbClr val="000000"/>
            </a:solidFill>
            <a:round/>
            <a:head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435400" y="378936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235320" y="4525920"/>
            <a:ext cx="706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35560" y="5651640"/>
            <a:ext cx="279360" cy="266760"/>
          </a:xfrm>
          <a:prstGeom prst="ellipse">
            <a:avLst/>
          </a:prstGeom>
          <a:solidFill>
            <a:srgbClr val="618ffd"/>
          </a:solidFill>
          <a:ln w="25560">
            <a:solidFill>
              <a:srgbClr val="618ffd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537240" y="5599080"/>
            <a:ext cx="252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ing messag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550200" y="5916600"/>
            <a:ext cx="2509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ing messag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5981760"/>
            <a:ext cx="266760" cy="2667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0000" y="5721480"/>
            <a:ext cx="825840" cy="864000"/>
          </a:xfrm>
          <a:custGeom>
            <a:avLst/>
            <a:gdLst/>
            <a:ahLst/>
            <a:rect l="0" t="0" r="r" b="b"/>
            <a:pathLst>
              <a:path fill="none" w="2294" h="2400">
                <a:moveTo>
                  <a:pt x="388" y="0"/>
                </a:moveTo>
                <a:lnTo>
                  <a:pt x="317" y="70"/>
                </a:lnTo>
                <a:lnTo>
                  <a:pt x="282" y="141"/>
                </a:lnTo>
                <a:lnTo>
                  <a:pt x="246" y="211"/>
                </a:lnTo>
                <a:lnTo>
                  <a:pt x="211" y="282"/>
                </a:lnTo>
                <a:lnTo>
                  <a:pt x="211" y="352"/>
                </a:lnTo>
                <a:lnTo>
                  <a:pt x="211" y="423"/>
                </a:lnTo>
                <a:lnTo>
                  <a:pt x="176" y="493"/>
                </a:lnTo>
                <a:lnTo>
                  <a:pt x="141" y="564"/>
                </a:lnTo>
                <a:lnTo>
                  <a:pt x="105" y="636"/>
                </a:lnTo>
                <a:lnTo>
                  <a:pt x="70" y="706"/>
                </a:lnTo>
                <a:lnTo>
                  <a:pt x="70" y="777"/>
                </a:lnTo>
                <a:lnTo>
                  <a:pt x="0" y="918"/>
                </a:lnTo>
                <a:lnTo>
                  <a:pt x="0" y="988"/>
                </a:lnTo>
                <a:lnTo>
                  <a:pt x="0" y="1129"/>
                </a:lnTo>
                <a:lnTo>
                  <a:pt x="0" y="1200"/>
                </a:lnTo>
                <a:lnTo>
                  <a:pt x="0" y="1341"/>
                </a:lnTo>
                <a:lnTo>
                  <a:pt x="0" y="1482"/>
                </a:lnTo>
                <a:lnTo>
                  <a:pt x="35" y="1553"/>
                </a:lnTo>
                <a:lnTo>
                  <a:pt x="35" y="1623"/>
                </a:lnTo>
                <a:lnTo>
                  <a:pt x="70" y="1694"/>
                </a:lnTo>
                <a:lnTo>
                  <a:pt x="141" y="1836"/>
                </a:lnTo>
                <a:lnTo>
                  <a:pt x="282" y="1977"/>
                </a:lnTo>
                <a:lnTo>
                  <a:pt x="388" y="2153"/>
                </a:lnTo>
                <a:lnTo>
                  <a:pt x="564" y="2259"/>
                </a:lnTo>
                <a:lnTo>
                  <a:pt x="635" y="2330"/>
                </a:lnTo>
                <a:lnTo>
                  <a:pt x="705" y="2365"/>
                </a:lnTo>
                <a:lnTo>
                  <a:pt x="776" y="2365"/>
                </a:lnTo>
                <a:lnTo>
                  <a:pt x="846" y="2400"/>
                </a:lnTo>
                <a:lnTo>
                  <a:pt x="917" y="2400"/>
                </a:lnTo>
                <a:lnTo>
                  <a:pt x="987" y="2400"/>
                </a:lnTo>
                <a:lnTo>
                  <a:pt x="1093" y="2400"/>
                </a:lnTo>
                <a:lnTo>
                  <a:pt x="1165" y="2400"/>
                </a:lnTo>
                <a:lnTo>
                  <a:pt x="1341" y="2400"/>
                </a:lnTo>
                <a:lnTo>
                  <a:pt x="1482" y="2330"/>
                </a:lnTo>
                <a:lnTo>
                  <a:pt x="1623" y="2330"/>
                </a:lnTo>
                <a:lnTo>
                  <a:pt x="1764" y="2189"/>
                </a:lnTo>
                <a:lnTo>
                  <a:pt x="1835" y="2153"/>
                </a:lnTo>
                <a:lnTo>
                  <a:pt x="1941" y="2083"/>
                </a:lnTo>
                <a:lnTo>
                  <a:pt x="2011" y="2048"/>
                </a:lnTo>
                <a:lnTo>
                  <a:pt x="2082" y="1977"/>
                </a:lnTo>
                <a:lnTo>
                  <a:pt x="2152" y="1942"/>
                </a:lnTo>
                <a:lnTo>
                  <a:pt x="2188" y="1871"/>
                </a:lnTo>
                <a:lnTo>
                  <a:pt x="2223" y="1801"/>
                </a:lnTo>
                <a:lnTo>
                  <a:pt x="2258" y="1729"/>
                </a:lnTo>
                <a:lnTo>
                  <a:pt x="2258" y="1659"/>
                </a:lnTo>
                <a:lnTo>
                  <a:pt x="2258" y="1588"/>
                </a:lnTo>
                <a:lnTo>
                  <a:pt x="2294" y="1517"/>
                </a:lnTo>
                <a:lnTo>
                  <a:pt x="2294" y="1447"/>
                </a:lnTo>
                <a:lnTo>
                  <a:pt x="2294" y="1376"/>
                </a:lnTo>
                <a:lnTo>
                  <a:pt x="2294" y="1306"/>
                </a:lnTo>
                <a:lnTo>
                  <a:pt x="2223" y="1129"/>
                </a:lnTo>
                <a:lnTo>
                  <a:pt x="2223" y="1059"/>
                </a:lnTo>
                <a:lnTo>
                  <a:pt x="2188" y="988"/>
                </a:lnTo>
                <a:lnTo>
                  <a:pt x="2152" y="918"/>
                </a:lnTo>
                <a:lnTo>
                  <a:pt x="2117" y="847"/>
                </a:lnTo>
                <a:lnTo>
                  <a:pt x="2117" y="777"/>
                </a:lnTo>
                <a:lnTo>
                  <a:pt x="2047" y="706"/>
                </a:lnTo>
                <a:lnTo>
                  <a:pt x="2011" y="636"/>
                </a:lnTo>
                <a:lnTo>
                  <a:pt x="1976" y="564"/>
                </a:lnTo>
                <a:lnTo>
                  <a:pt x="1941" y="493"/>
                </a:lnTo>
                <a:lnTo>
                  <a:pt x="1906" y="423"/>
                </a:lnTo>
                <a:lnTo>
                  <a:pt x="1835" y="352"/>
                </a:lnTo>
                <a:lnTo>
                  <a:pt x="1800" y="282"/>
                </a:lnTo>
                <a:lnTo>
                  <a:pt x="1729" y="246"/>
                </a:lnTo>
                <a:lnTo>
                  <a:pt x="1694" y="176"/>
                </a:lnTo>
                <a:lnTo>
                  <a:pt x="1623" y="141"/>
                </a:lnTo>
                <a:lnTo>
                  <a:pt x="1553" y="70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803680" y="6132600"/>
            <a:ext cx="507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ther ACLs and semantic approa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19080" y="2270160"/>
            <a:ext cx="7539120" cy="36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ohen &amp; Lesve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 few primitiv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heavily grounded on an agen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t is a moving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he FIPA version of an 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here is an underlying  agent 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L is the source of it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QML Semantics 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486080"/>
            <a:ext cx="7696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e have developed a framework for providing the semantics of primitives for KQML-like languag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e have tried to dissociate the ACL’s semantic description from the agent theory of the conversing a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e have provided semantics for the full set of KQML performatives (all 30-something of the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7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Backup</a:t>
            </a:r>
            <a:br>
              <a:rPr sz="11700"/>
            </a:br>
            <a:r>
              <a:rPr b="1" lang="en-US" sz="117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nd Detail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mantics for  </a:t>
            </a:r>
            <a:r>
              <a:rPr b="1" lang="en-US" sz="3600" spc="-1" strike="noStrike">
                <a:solidFill>
                  <a:srgbClr val="cf0e30"/>
                </a:solidFill>
                <a:latin typeface="Arial Narrow"/>
                <a:ea typeface="Arial Narrow"/>
              </a:rPr>
              <a:t>ASK-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6320" y="167472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8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ASK-IF(A,B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 wants to know what B believes regarding the truth status of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want(A,know(A,S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here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may be one of 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bel(B,X) , NOT(bel(B,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(A):  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want(A,know(A,S)) AND know(A,intend(B,process(B,M)))</a:t>
            </a:r>
            <a:r>
              <a:rPr b="0" i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here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M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is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ASK-IF(A,B,X)</a:t>
            </a:r>
            <a:r>
              <a:rPr b="0" i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(B):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ntend(B,process(B,M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ost(A)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ntend(A,know(A,S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ost(B)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B,want(A,know(A,S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ompletion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A,S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here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S’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is either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bel(B,X)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or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NOT(bel(B,X)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but not necessarily the same instantiation that appears in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Pre(A)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, for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ot believing something is not necessarily the same as believing its 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mantics for  the  </a:t>
            </a:r>
            <a:r>
              <a:rPr b="1" lang="en-US" sz="3600" spc="-1" strike="noStrike">
                <a:solidFill>
                  <a:srgbClr val="cf0e30"/>
                </a:solidFill>
                <a:latin typeface="Arial Narrow"/>
                <a:ea typeface="Arial Narrow"/>
              </a:rPr>
              <a:t>proactive-ASK-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52280" y="1827360"/>
            <a:ext cx="87631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proactive-ASK-IF(A,B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 wants to know what B believes regarding the truth status of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want(A,know(A,S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here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may be one of 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bel(B,X) , NOT(bel(B,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(A): 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want(A,know(A,S))</a:t>
            </a:r>
            <a:r>
              <a:rPr b="0" i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(B):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ost(A)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ntend(A,know(A,S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ost(B)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B,want(A,know(A,S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ompletion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A,S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here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S’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is either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bel(B,X)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or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NOT(bel(B,X)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but not necessarily the same instantiation that appears in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Pre(A)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, for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ot believing something is not necessarily the same as believing its 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 we really need semantics for an AC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2055960"/>
            <a:ext cx="7924680" cy="35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e have no complete semantic accounts for ACLs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KQML has been criticized for its lack of seman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CL Semantics sh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Help with the process of standardization and agreement between implem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ovide a framework for defining new primiti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License Inferencing based on the message ex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mantics for  </a:t>
            </a:r>
            <a:r>
              <a:rPr b="1" lang="en-US" sz="3600" spc="-1" strike="noStrike">
                <a:solidFill>
                  <a:srgbClr val="cf0e30"/>
                </a:solidFill>
                <a:latin typeface="Arial Narrow"/>
                <a:ea typeface="Arial Narrow"/>
              </a:rPr>
              <a:t>SO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38120" y="1765440"/>
            <a:ext cx="82677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SORRY(A,B,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 states to B that A believes the content to be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proc(A,M)</a:t>
            </a:r>
            <a:r>
              <a:rPr b="0" i="1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here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is the message identified by the </a:t>
            </a:r>
            <a:r>
              <a:rPr b="0" lang="en-US" sz="2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:in-reply-to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value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(A):  </a:t>
            </a:r>
            <a:r>
              <a:rPr b="0" i="1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proc(A,M)</a:t>
            </a:r>
            <a:r>
              <a:rPr b="0" i="1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(B):</a:t>
            </a:r>
            <a:r>
              <a:rPr b="0" i="1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sendMSG(B,A,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ost(A): 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A,know(B,proc(A,M))) AND  not(Post</a:t>
            </a:r>
            <a:r>
              <a:rPr b="0" lang="en-US" sz="2400" spc="-1" strike="noStrike" baseline="-25000">
                <a:solidFill>
                  <a:srgbClr val="cf0e3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(A))</a:t>
            </a:r>
            <a:r>
              <a:rPr b="0" i="1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ost(B): 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B,proc(A,M))) AND  not(Post</a:t>
            </a:r>
            <a:r>
              <a:rPr b="0" lang="en-US" sz="2400" spc="-1" strike="noStrike" baseline="-25000">
                <a:solidFill>
                  <a:srgbClr val="cf0e3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(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ompletion: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B,proc(A,M)))</a:t>
            </a:r>
            <a:r>
              <a:rPr b="0" i="1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he postconditions, as a result of message M, do not 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mantics for  </a:t>
            </a:r>
            <a:r>
              <a:rPr b="1" lang="en-US" sz="2000" spc="-1" strike="noStrike">
                <a:solidFill>
                  <a:srgbClr val="cf0e30"/>
                </a:solidFill>
                <a:latin typeface="Arial Narrow"/>
                <a:ea typeface="Arial Narrow"/>
              </a:rPr>
              <a:t> </a:t>
            </a:r>
            <a:r>
              <a:rPr b="1" lang="en-US" sz="3600" spc="-1" strike="noStrike">
                <a:solidFill>
                  <a:srgbClr val="cf0e30"/>
                </a:solidFill>
                <a:latin typeface="Arial Narrow"/>
                <a:ea typeface="Arial Narrow"/>
              </a:rPr>
              <a:t>BROKER-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243828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BROKER-ONE(A,B,PERFORMATIVE(A,?C,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PERFORMATIVE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ntails a request (direc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his a three-party inter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etween A a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etween B (the broker) and some agent C (who is been “brokered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etween A and C, or maybe ... not exa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mantics for </a:t>
            </a:r>
            <a:r>
              <a:rPr b="1" lang="en-US" sz="3600" spc="-1" strike="noStrike">
                <a:solidFill>
                  <a:srgbClr val="cf0e30"/>
                </a:solidFill>
                <a:latin typeface="Arial Narrow"/>
                <a:ea typeface="Arial Narrow"/>
              </a:rPr>
              <a:t>BROKER-ON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28600" y="23623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BROKER-ONE(A,B,PERFORMATIVE(A,?C,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For A and B, it is merely a request to pass the :content to a suitable candidate and forward the response(s) if any.   This is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not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as if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 PERFORMATIVE(A,B,X)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For B and C, semantically this is j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PERFORMATIVE(B,C,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For A and C it is as if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PERFORMATIVE(A,C,X), 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ut only from A’s side and then C’s identity is unknown t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76320"/>
            <a:ext cx="914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case of  </a:t>
            </a:r>
            <a:r>
              <a:rPr b="1" lang="en-US" sz="3200" spc="-1" strike="noStrike">
                <a:solidFill>
                  <a:srgbClr val="cf0e30"/>
                </a:solidFill>
                <a:latin typeface="Arial Narrow"/>
                <a:ea typeface="Arial Narrow"/>
              </a:rPr>
              <a:t>BROKER-ONE(A,B,ASK-IF(A,?C,X))  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 Narrow"/>
                <a:ea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for A and the broker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 wants B (the broker) to send the :content of  the broker-one to some agent that can process it and eventually forward whatever response back to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want(A,sendMSG(B,C,M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here M is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ASK-IF(A,C,X)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and C is an agent such that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canProcess(C,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(A):  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want(A,sendMSG(B,C,M))</a:t>
            </a:r>
            <a:r>
              <a:rPr b="0" i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(B):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 is a facilit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ost(A)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A,sendMSG(B,C,M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ost(B)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sendMSG(B,C,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ompletion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sendMSG(B,A,forward(B,A,_,A,M’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here M’ is the message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response(_,A,X’)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generated by the broker-ed agent’s response to B, i.e.,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response(C,B,X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 does not know C’s name (it is omitted in the forw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6094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case of </a:t>
            </a:r>
            <a:r>
              <a:rPr b="1" lang="en-US" sz="3200" spc="-1" strike="noStrike">
                <a:solidFill>
                  <a:srgbClr val="cf0e30"/>
                </a:solidFill>
                <a:latin typeface="Arial Narrow"/>
                <a:ea typeface="Arial Narrow"/>
              </a:rPr>
              <a:t>BROKER-ONE(A,B,ASK-IF(A,?C,X))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for A and the broker-ed agent,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948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 wants to know what some other agent  believes regarding the truth status of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want(A,know(A,S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here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S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may be one of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bel(?C,X), NOT(bel(?C,X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(A): 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want(A,know(A,S)),</a:t>
            </a:r>
            <a:r>
              <a:rPr b="0" i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here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is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ask-if(A,B,X)</a:t>
            </a:r>
            <a:r>
              <a:rPr b="0" i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(C):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ost(A)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ntend(A,know(A,S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ost(C):  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ompletion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A,S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here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S’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is either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bel(?C,X)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or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NOT(bel(?C,X)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but not necessarily the same instantiation that appears in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Pre(A)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, for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 only know that there exists an agent that ... Also, C is unaware of all th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blem of the semantic description of KQML perform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068560"/>
            <a:ext cx="83818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Our 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o capture all intuitions previously expressed about KQ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o avoid commitments to specific system designs and architectures, agent theories,  problem-solving strategi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o offer a formalism that might be understood by people that are not modal logici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imitives (performatives) are (loosely) modeled after speech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, what do we mean by “semantics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oviding semantics is the process of ascribing mea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laim: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Describing the state of an agent before sending a particular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message and after receiving it is a useful basis for ascribing meaning to the communication primi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o, the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two-step process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Which agents’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Having a  language to describe agents’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7240" y="184320"/>
            <a:ext cx="908532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, what constitutes th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mantic  Descrip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84240" y="2943360"/>
            <a:ext cx="7370640" cy="29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Natural Langu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Formal Description of the NL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re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ostcondi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ompletion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9560" y="2224080"/>
            <a:ext cx="8204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he semantic description is the sum of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82800" y="379440"/>
            <a:ext cx="71802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to describe agents’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28880" y="1873080"/>
            <a:ext cx="708660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gent  state  descriptions  refer to 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mental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231840">
              <a:lnSpc>
                <a:spcPct val="100000"/>
              </a:lnSpc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knowledge, belief, intention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23184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231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ctions</a:t>
            </a: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231840">
              <a:lnSpc>
                <a:spcPct val="100000"/>
              </a:lnSpc>
            </a:pPr>
            <a:r>
              <a:rPr b="0" lang="en-US" sz="2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hat have happened or will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81000" y="379440"/>
            <a:ext cx="71802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to describe agents’ st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14440" y="1560600"/>
            <a:ext cx="7505640" cy="39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bel(A,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 is an expression in A’s Knowledge Base or Virtual 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now(A,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 u="sng">
                <a:solidFill>
                  <a:srgbClr val="cf0e30"/>
                </a:solidFill>
                <a:uFillTx/>
                <a:latin typeface="Times New Roman"/>
                <a:ea typeface="Times New Roman"/>
              </a:rPr>
              <a:t>knowledge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that a mental state description (or action)  holds (or has occur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want(A,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  </a:t>
            </a:r>
            <a:r>
              <a:rPr b="0" lang="en-US" sz="1800" spc="-1" strike="noStrike" u="sng">
                <a:solidFill>
                  <a:srgbClr val="cf0e30"/>
                </a:solidFill>
                <a:uFillTx/>
                <a:latin typeface="Times New Roman"/>
                <a:ea typeface="Times New Roman"/>
              </a:rPr>
              <a:t>desire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for an action (or state) S to occur (to become tr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intend(A,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n </a:t>
            </a:r>
            <a:r>
              <a:rPr b="0" lang="en-US" sz="1800" spc="-1" strike="noStrike" u="sng">
                <a:solidFill>
                  <a:srgbClr val="cf0e30"/>
                </a:solidFill>
                <a:uFillTx/>
                <a:latin typeface="Times New Roman"/>
                <a:ea typeface="Times New Roman"/>
              </a:rPr>
              <a:t>intention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, i.e., A has the intention of doing S and thus is committed towards achieving S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roc(A,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refers to the action of A processing message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endMSG(A,B,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he action of A sending the message M to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0" y="5927760"/>
            <a:ext cx="43592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he arguments of the attitudes  are ei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- propositions (P),  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n-US" sz="18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- state descriptions 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01640" y="760320"/>
            <a:ext cx="718020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me explaining regarding th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ntal attitudes (part 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76240" y="2131920"/>
            <a:ext cx="704844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bel(A,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oposition P exists in the KB or can be proven true (some “turnstil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now(A,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n agent can know (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)  that (not what) it believes (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bel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)  a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roposition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an know a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tate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omething that has been communicated to it (a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tate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or the occurrence of an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ction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o,   </a:t>
            </a:r>
            <a:r>
              <a:rPr b="1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A,bel(A,P))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is fine but not  </a:t>
            </a:r>
            <a:r>
              <a:rPr b="1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(A,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01640" y="760320"/>
            <a:ext cx="718020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me explaining regarding th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ntal attitudes (part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2557440"/>
            <a:ext cx="7539120" cy="31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want(A,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n agent can 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want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to 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some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state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an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want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som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ctio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intend(A,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n agent can 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ntend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to 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know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some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state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an  </a:t>
            </a: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intend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  for some 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ction</a:t>
            </a:r>
            <a:r>
              <a:rPr b="0" lang="en-US" sz="24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(of which it is the agent)  t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ued Gateway Customer</dc:creator>
  <dc:description/>
  <dc:language>en-US</dc:language>
  <cp:lastModifiedBy>Valued Gateway Customer</cp:lastModifiedBy>
  <cp:revision>0</cp:revision>
  <dc:subject/>
  <dc:title>KQML Semantics</dc:title>
</cp:coreProperties>
</file>