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6E3ABA-0B99-4DFA-A49A-3E987BE41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stream in stuff. This takes (I think) a KQML expression as a conten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” is used to build routing and information servi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ax for KQML is si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raps the data/information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ve in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possible for a program to evaluate whether it is interesting or useful, to record its language, ... all without knowing the content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act, the particular syntax we use is not very important because it is designed to be a language used between two computer progra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user (programmer) interfaces to the communication functions of KQML procedures do not expect the programmer to know KQML. The program generates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t becomes useful to change the KQML syntax, applications won’t have to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38088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7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8240" y="477720"/>
            <a:ext cx="7607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 KQML Message</a:t>
            </a:r>
            <a:br>
              <a:rPr sz="4000"/>
            </a:b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32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default top-level syntax is Cambridge prefix (i.e., Lisp-li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32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e syntaxes have been used (e.g., based on SMTP, HTTP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32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being developed to support multiple synta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8240" y="477720"/>
            <a:ext cx="760716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 KQML Message</a:t>
            </a:r>
            <a:br>
              <a:rPr sz="4000"/>
            </a:b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lternate syn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80080" y="1720800"/>
            <a:ext cx="38052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.96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from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-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-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reply-to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ogy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a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: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ather(John,Eve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6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4890960"/>
            <a:ext cx="28447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separated from header by a blank line and terminated by \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74840" y="5537160"/>
            <a:ext cx="1549440" cy="50760"/>
          </a:xfrm>
          <a:prstGeom prst="line">
            <a:avLst/>
          </a:prstGeom>
          <a:ln w="38160">
            <a:solidFill>
              <a:srgbClr val="67676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920" y="2355840"/>
            <a:ext cx="3022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s preceded by  newline and followed by  co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76720" y="2819520"/>
            <a:ext cx="1447560" cy="368280"/>
          </a:xfrm>
          <a:prstGeom prst="line">
            <a:avLst/>
          </a:prstGeom>
          <a:ln w="38160">
            <a:solidFill>
              <a:srgbClr val="67676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5096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H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22560" y="1879560"/>
            <a:ext cx="1701720" cy="50760"/>
          </a:xfrm>
          <a:prstGeom prst="line">
            <a:avLst/>
          </a:prstGeom>
          <a:ln w="38160">
            <a:solidFill>
              <a:srgbClr val="67676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9360" y="3720960"/>
            <a:ext cx="3022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s can’t contain un-escaped new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301920" y="2870280"/>
            <a:ext cx="3276720" cy="1218960"/>
          </a:xfrm>
          <a:prstGeom prst="line">
            <a:avLst/>
          </a:prstGeom>
          <a:ln w="38160">
            <a:solidFill>
              <a:srgbClr val="67676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08200" y="487440"/>
            <a:ext cx="75279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KQML Perform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71520" y="2208240"/>
            <a:ext cx="480060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perform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an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39800" y="349200"/>
            <a:ext cx="79693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ome KQML Perform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1828800"/>
            <a:ext cx="7010280" cy="47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241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query performativ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evaluate, ask-if, ask-in, ask-one, ask-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1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response query performativ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stream-in, stream-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1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ply, sorry,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1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informational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ell, achieve, cancel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ach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1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standby, ready, next, rest, discard,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1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bility-definition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advertise, subscribe, monitor, import,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1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performativ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register, unregister, forward, broadcast,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08200" y="411120"/>
            <a:ext cx="75279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imple Query Perform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0200" y="1889280"/>
            <a:ext cx="5943600" cy="3063600"/>
            <a:chOff x="1600200" y="1889280"/>
            <a:chExt cx="5943600" cy="3063600"/>
          </a:xfrm>
        </p:grpSpPr>
        <p:sp>
          <p:nvSpPr>
            <p:cNvPr id="114" name=""/>
            <p:cNvSpPr/>
            <p:nvPr/>
          </p:nvSpPr>
          <p:spPr>
            <a:xfrm>
              <a:off x="1600200" y="304812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3048120"/>
              <a:ext cx="1143000" cy="762120"/>
            </a:xfrm>
            <a:prstGeom prst="round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1812960" y="294948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6613560" y="2971800"/>
              <a:ext cx="641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743200" y="2133720"/>
              <a:ext cx="3657960" cy="991080"/>
              <a:chOff x="2743200" y="2133720"/>
              <a:chExt cx="3657960" cy="991080"/>
            </a:xfrm>
          </p:grpSpPr>
          <p:sp>
            <p:nvSpPr>
              <p:cNvPr id="119" name=""/>
              <p:cNvSpPr/>
              <p:nvPr/>
            </p:nvSpPr>
            <p:spPr>
              <a:xfrm>
                <a:off x="4597560" y="2133720"/>
                <a:ext cx="1803600" cy="991080"/>
              </a:xfrm>
              <a:custGeom>
                <a:avLst/>
                <a:gdLst/>
                <a:ahLst/>
                <a:rect l="0" t="0" r="r" b="b"/>
                <a:pathLst>
                  <a:path fill="none" w="5010" h="2753">
                    <a:moveTo>
                      <a:pt x="5010" y="2753"/>
                    </a:moveTo>
                    <a:lnTo>
                      <a:pt x="5010" y="2753"/>
                    </a:lnTo>
                    <a:lnTo>
                      <a:pt x="5010" y="2753"/>
                    </a:lnTo>
                    <a:cubicBezTo>
                      <a:pt x="5010" y="2270"/>
                      <a:pt x="4779" y="1795"/>
                      <a:pt x="4339" y="1376"/>
                    </a:cubicBezTo>
                    <a:cubicBezTo>
                      <a:pt x="3899" y="958"/>
                      <a:pt x="3267" y="610"/>
                      <a:pt x="2505" y="369"/>
                    </a:cubicBezTo>
                    <a:cubicBezTo>
                      <a:pt x="1743" y="127"/>
                      <a:pt x="879" y="0"/>
                      <a:pt x="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43200" y="2133720"/>
                <a:ext cx="1854720" cy="991080"/>
              </a:xfrm>
              <a:custGeom>
                <a:avLst/>
                <a:gdLst/>
                <a:ahLst/>
                <a:rect l="0" t="0" r="r" b="b"/>
                <a:pathLst>
                  <a:path fill="none" w="5152" h="2753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127"/>
                      <a:pt x="2576" y="369"/>
                    </a:cubicBezTo>
                    <a:cubicBezTo>
                      <a:pt x="1793" y="610"/>
                      <a:pt x="1142" y="958"/>
                      <a:pt x="690" y="1377"/>
                    </a:cubicBezTo>
                    <a:cubicBezTo>
                      <a:pt x="238" y="1795"/>
                      <a:pt x="0" y="2270"/>
                      <a:pt x="0" y="2753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743200" y="2743200"/>
              <a:ext cx="3657960" cy="686160"/>
              <a:chOff x="2743200" y="2743200"/>
              <a:chExt cx="3657960" cy="68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4597560" y="2743200"/>
                <a:ext cx="1803600" cy="686160"/>
              </a:xfrm>
              <a:custGeom>
                <a:avLst/>
                <a:gdLst/>
                <a:ahLst/>
                <a:rect l="0" t="0" r="r" b="b"/>
                <a:pathLst>
                  <a:path fill="none" w="5010" h="1906">
                    <a:moveTo>
                      <a:pt x="5010" y="1906"/>
                    </a:moveTo>
                    <a:lnTo>
                      <a:pt x="5010" y="1906"/>
                    </a:lnTo>
                    <a:lnTo>
                      <a:pt x="5010" y="1906"/>
                    </a:lnTo>
                    <a:cubicBezTo>
                      <a:pt x="5010" y="1571"/>
                      <a:pt x="4779" y="1243"/>
                      <a:pt x="4339" y="953"/>
                    </a:cubicBezTo>
                    <a:cubicBezTo>
                      <a:pt x="3899" y="663"/>
                      <a:pt x="3267" y="423"/>
                      <a:pt x="2505" y="255"/>
                    </a:cubicBezTo>
                    <a:cubicBezTo>
                      <a:pt x="1743" y="88"/>
                      <a:pt x="879" y="0"/>
                      <a:pt x="0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43200" y="2743200"/>
                <a:ext cx="1854720" cy="686160"/>
              </a:xfrm>
              <a:custGeom>
                <a:avLst/>
                <a:gdLst/>
                <a:ahLst/>
                <a:rect l="0" t="0" r="r" b="b"/>
                <a:pathLst>
                  <a:path fill="none" w="5152" h="1906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88"/>
                      <a:pt x="2576" y="255"/>
                    </a:cubicBezTo>
                    <a:cubicBezTo>
                      <a:pt x="1793" y="423"/>
                      <a:pt x="1142" y="663"/>
                      <a:pt x="690" y="953"/>
                    </a:cubicBezTo>
                    <a:cubicBezTo>
                      <a:pt x="238" y="1243"/>
                      <a:pt x="0" y="1571"/>
                      <a:pt x="0" y="1906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 txBox="1"/>
            <p:nvPr/>
          </p:nvSpPr>
          <p:spPr>
            <a:xfrm>
              <a:off x="2575080" y="1889280"/>
              <a:ext cx="157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one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4888080" y="2422440"/>
              <a:ext cx="97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828880" y="3673440"/>
              <a:ext cx="3657960" cy="991080"/>
              <a:chOff x="2828880" y="3673440"/>
              <a:chExt cx="3657960" cy="991080"/>
            </a:xfrm>
          </p:grpSpPr>
          <p:sp>
            <p:nvSpPr>
              <p:cNvPr id="127" name=""/>
              <p:cNvSpPr/>
              <p:nvPr/>
            </p:nvSpPr>
            <p:spPr>
              <a:xfrm>
                <a:off x="4683240" y="3673440"/>
                <a:ext cx="1803600" cy="991080"/>
              </a:xfrm>
              <a:custGeom>
                <a:avLst/>
                <a:gdLst/>
                <a:ahLst/>
                <a:rect l="0" t="0" r="r" b="b"/>
                <a:pathLst>
                  <a:path fill="none" w="5010" h="2753">
                    <a:moveTo>
                      <a:pt x="0" y="2753"/>
                    </a:moveTo>
                    <a:lnTo>
                      <a:pt x="0" y="2753"/>
                    </a:lnTo>
                    <a:cubicBezTo>
                      <a:pt x="879" y="2753"/>
                      <a:pt x="1743" y="2626"/>
                      <a:pt x="2505" y="2384"/>
                    </a:cubicBezTo>
                    <a:cubicBezTo>
                      <a:pt x="3267" y="2143"/>
                      <a:pt x="3899" y="1795"/>
                      <a:pt x="4339" y="1376"/>
                    </a:cubicBezTo>
                    <a:cubicBezTo>
                      <a:pt x="4779" y="958"/>
                      <a:pt x="5010" y="483"/>
                      <a:pt x="501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28880" y="3673440"/>
                <a:ext cx="1854720" cy="991080"/>
              </a:xfrm>
              <a:custGeom>
                <a:avLst/>
                <a:gdLst/>
                <a:ahLst/>
                <a:rect l="0" t="0" r="r" b="b"/>
                <a:pathLst>
                  <a:path fill="none" w="5152" h="275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83"/>
                      <a:pt x="238" y="958"/>
                      <a:pt x="690" y="1377"/>
                    </a:cubicBezTo>
                    <a:cubicBezTo>
                      <a:pt x="1142" y="1795"/>
                      <a:pt x="1793" y="2143"/>
                      <a:pt x="2576" y="2384"/>
                    </a:cubicBezTo>
                    <a:cubicBezTo>
                      <a:pt x="3359" y="2626"/>
                      <a:pt x="4248" y="2753"/>
                      <a:pt x="5152" y="2753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743200" y="3429000"/>
              <a:ext cx="3657960" cy="686160"/>
              <a:chOff x="2743200" y="3429000"/>
              <a:chExt cx="3657960" cy="686160"/>
            </a:xfrm>
          </p:grpSpPr>
          <p:sp>
            <p:nvSpPr>
              <p:cNvPr id="130" name=""/>
              <p:cNvSpPr/>
              <p:nvPr/>
            </p:nvSpPr>
            <p:spPr>
              <a:xfrm>
                <a:off x="4597560" y="3429000"/>
                <a:ext cx="1803600" cy="686160"/>
              </a:xfrm>
              <a:custGeom>
                <a:avLst/>
                <a:gdLst/>
                <a:ahLst/>
                <a:rect l="0" t="0" r="r" b="b"/>
                <a:pathLst>
                  <a:path fill="none" w="5010" h="1906">
                    <a:moveTo>
                      <a:pt x="0" y="1906"/>
                    </a:moveTo>
                    <a:lnTo>
                      <a:pt x="0" y="1906"/>
                    </a:lnTo>
                    <a:cubicBezTo>
                      <a:pt x="879" y="1906"/>
                      <a:pt x="1743" y="1818"/>
                      <a:pt x="2505" y="1651"/>
                    </a:cubicBezTo>
                    <a:cubicBezTo>
                      <a:pt x="3267" y="1483"/>
                      <a:pt x="3899" y="1243"/>
                      <a:pt x="4339" y="953"/>
                    </a:cubicBezTo>
                    <a:cubicBezTo>
                      <a:pt x="4779" y="663"/>
                      <a:pt x="5010" y="335"/>
                      <a:pt x="5010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43200" y="3429000"/>
                <a:ext cx="1854720" cy="686160"/>
              </a:xfrm>
              <a:custGeom>
                <a:avLst/>
                <a:gdLst/>
                <a:ahLst/>
                <a:rect l="0" t="0" r="r" b="b"/>
                <a:pathLst>
                  <a:path fill="none" w="5152" h="1906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335"/>
                      <a:pt x="238" y="663"/>
                      <a:pt x="690" y="953"/>
                    </a:cubicBezTo>
                    <a:cubicBezTo>
                      <a:pt x="1142" y="1243"/>
                      <a:pt x="1793" y="1483"/>
                      <a:pt x="2576" y="1651"/>
                    </a:cubicBezTo>
                    <a:cubicBezTo>
                      <a:pt x="3359" y="1818"/>
                      <a:pt x="4248" y="1906"/>
                      <a:pt x="5152" y="1906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 txBox="1"/>
            <p:nvPr/>
          </p:nvSpPr>
          <p:spPr>
            <a:xfrm>
              <a:off x="2733840" y="4495680"/>
              <a:ext cx="1436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all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3933720" y="3429000"/>
              <a:ext cx="2343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(p1 p2 p3...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357120" y="5257800"/>
            <a:ext cx="8431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o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ab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formatives provide a simple query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68240" y="738360"/>
            <a:ext cx="760716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valu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600200" y="1676520"/>
            <a:ext cx="5943600" cy="1905120"/>
            <a:chOff x="1600200" y="1676520"/>
            <a:chExt cx="5943600" cy="1905120"/>
          </a:xfrm>
        </p:grpSpPr>
        <p:sp>
          <p:nvSpPr>
            <p:cNvPr id="137" name=""/>
            <p:cNvSpPr/>
            <p:nvPr/>
          </p:nvSpPr>
          <p:spPr>
            <a:xfrm>
              <a:off x="1600200" y="236232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00800" y="2362320"/>
              <a:ext cx="1143000" cy="762120"/>
            </a:xfrm>
            <a:prstGeom prst="round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812960" y="226368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6613560" y="2286000"/>
              <a:ext cx="641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43200" y="1676520"/>
              <a:ext cx="3657960" cy="762480"/>
              <a:chOff x="2743200" y="1676520"/>
              <a:chExt cx="3657960" cy="762480"/>
            </a:xfrm>
          </p:grpSpPr>
          <p:sp>
            <p:nvSpPr>
              <p:cNvPr id="142" name=""/>
              <p:cNvSpPr/>
              <p:nvPr/>
            </p:nvSpPr>
            <p:spPr>
              <a:xfrm>
                <a:off x="4597560" y="1676520"/>
                <a:ext cx="1803600" cy="762480"/>
              </a:xfrm>
              <a:custGeom>
                <a:avLst/>
                <a:gdLst/>
                <a:ahLst/>
                <a:rect l="0" t="0" r="r" b="b"/>
                <a:pathLst>
                  <a:path fill="none" w="5010" h="2118">
                    <a:moveTo>
                      <a:pt x="5010" y="2118"/>
                    </a:moveTo>
                    <a:lnTo>
                      <a:pt x="5010" y="2118"/>
                    </a:lnTo>
                    <a:lnTo>
                      <a:pt x="5010" y="2118"/>
                    </a:lnTo>
                    <a:cubicBezTo>
                      <a:pt x="5010" y="1746"/>
                      <a:pt x="4779" y="1381"/>
                      <a:pt x="4339" y="1059"/>
                    </a:cubicBezTo>
                    <a:cubicBezTo>
                      <a:pt x="3899" y="737"/>
                      <a:pt x="3267" y="470"/>
                      <a:pt x="2505" y="284"/>
                    </a:cubicBezTo>
                    <a:cubicBezTo>
                      <a:pt x="1743" y="98"/>
                      <a:pt x="879" y="0"/>
                      <a:pt x="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43200" y="1676520"/>
                <a:ext cx="1854720" cy="762480"/>
              </a:xfrm>
              <a:custGeom>
                <a:avLst/>
                <a:gdLst/>
                <a:ahLst/>
                <a:rect l="0" t="0" r="r" b="b"/>
                <a:pathLst>
                  <a:path fill="none" w="5152" h="2118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98"/>
                      <a:pt x="2576" y="284"/>
                    </a:cubicBezTo>
                    <a:cubicBezTo>
                      <a:pt x="1793" y="470"/>
                      <a:pt x="1142" y="737"/>
                      <a:pt x="690" y="1059"/>
                    </a:cubicBezTo>
                    <a:cubicBezTo>
                      <a:pt x="238" y="1381"/>
                      <a:pt x="0" y="1746"/>
                      <a:pt x="0" y="2118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743200" y="2895480"/>
              <a:ext cx="3657960" cy="686160"/>
              <a:chOff x="2743200" y="2895480"/>
              <a:chExt cx="3657960" cy="686160"/>
            </a:xfrm>
          </p:grpSpPr>
          <p:sp>
            <p:nvSpPr>
              <p:cNvPr id="145" name=""/>
              <p:cNvSpPr/>
              <p:nvPr/>
            </p:nvSpPr>
            <p:spPr>
              <a:xfrm>
                <a:off x="4597560" y="2895480"/>
                <a:ext cx="1803600" cy="686160"/>
              </a:xfrm>
              <a:custGeom>
                <a:avLst/>
                <a:gdLst/>
                <a:ahLst/>
                <a:rect l="0" t="0" r="r" b="b"/>
                <a:pathLst>
                  <a:path fill="none" w="5010" h="1906">
                    <a:moveTo>
                      <a:pt x="0" y="1906"/>
                    </a:moveTo>
                    <a:lnTo>
                      <a:pt x="0" y="1906"/>
                    </a:lnTo>
                    <a:cubicBezTo>
                      <a:pt x="879" y="1906"/>
                      <a:pt x="1743" y="1818"/>
                      <a:pt x="2505" y="1651"/>
                    </a:cubicBezTo>
                    <a:cubicBezTo>
                      <a:pt x="3267" y="1483"/>
                      <a:pt x="3899" y="1243"/>
                      <a:pt x="4339" y="953"/>
                    </a:cubicBezTo>
                    <a:cubicBezTo>
                      <a:pt x="4779" y="663"/>
                      <a:pt x="5010" y="335"/>
                      <a:pt x="5010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43200" y="2895480"/>
                <a:ext cx="1854720" cy="686160"/>
              </a:xfrm>
              <a:custGeom>
                <a:avLst/>
                <a:gdLst/>
                <a:ahLst/>
                <a:rect l="0" t="0" r="r" b="b"/>
                <a:pathLst>
                  <a:path fill="none" w="5152" h="1906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335"/>
                      <a:pt x="238" y="663"/>
                      <a:pt x="690" y="953"/>
                    </a:cubicBezTo>
                    <a:cubicBezTo>
                      <a:pt x="1142" y="1243"/>
                      <a:pt x="1793" y="1483"/>
                      <a:pt x="2576" y="1651"/>
                    </a:cubicBezTo>
                    <a:cubicBezTo>
                      <a:pt x="3359" y="1818"/>
                      <a:pt x="4248" y="1906"/>
                      <a:pt x="5152" y="1906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 txBox="1"/>
            <p:nvPr/>
          </p:nvSpPr>
          <p:spPr>
            <a:xfrm>
              <a:off x="3735360" y="1889280"/>
              <a:ext cx="1673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aluate(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3930480" y="3032280"/>
              <a:ext cx="1284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reply(V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 txBox="1"/>
          <p:nvPr/>
        </p:nvSpPr>
        <p:spPr>
          <a:xfrm>
            <a:off x="304920" y="52578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(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request for the recipient to redu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a (single) value using its native reduction r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chieve and Unachi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00200" y="1508040"/>
            <a:ext cx="5943600" cy="3063960"/>
            <a:chOff x="1600200" y="1508040"/>
            <a:chExt cx="5943600" cy="3063960"/>
          </a:xfrm>
        </p:grpSpPr>
        <p:sp>
          <p:nvSpPr>
            <p:cNvPr id="152" name=""/>
            <p:cNvSpPr/>
            <p:nvPr/>
          </p:nvSpPr>
          <p:spPr>
            <a:xfrm>
              <a:off x="1600200" y="266688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0800" y="2666880"/>
              <a:ext cx="1143000" cy="762120"/>
            </a:xfrm>
            <a:prstGeom prst="roundRect">
              <a:avLst/>
            </a:prstGeom>
            <a:solidFill>
              <a:srgbClr val="fc0128"/>
            </a:solidFill>
            <a:ln w="25560">
              <a:solidFill>
                <a:srgbClr val="fc012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812960" y="256860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613560" y="2590920"/>
              <a:ext cx="641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743200" y="1752480"/>
              <a:ext cx="3657960" cy="991080"/>
              <a:chOff x="2743200" y="1752480"/>
              <a:chExt cx="3657960" cy="991080"/>
            </a:xfrm>
          </p:grpSpPr>
          <p:sp>
            <p:nvSpPr>
              <p:cNvPr id="157" name=""/>
              <p:cNvSpPr/>
              <p:nvPr/>
            </p:nvSpPr>
            <p:spPr>
              <a:xfrm>
                <a:off x="4597560" y="1752480"/>
                <a:ext cx="1803600" cy="991080"/>
              </a:xfrm>
              <a:custGeom>
                <a:avLst/>
                <a:gdLst/>
                <a:ahLst/>
                <a:rect l="0" t="0" r="r" b="b"/>
                <a:pathLst>
                  <a:path fill="none" w="5010" h="2753">
                    <a:moveTo>
                      <a:pt x="5010" y="2753"/>
                    </a:moveTo>
                    <a:lnTo>
                      <a:pt x="5010" y="2753"/>
                    </a:lnTo>
                    <a:lnTo>
                      <a:pt x="5010" y="2753"/>
                    </a:lnTo>
                    <a:cubicBezTo>
                      <a:pt x="5010" y="2270"/>
                      <a:pt x="4779" y="1795"/>
                      <a:pt x="4339" y="1376"/>
                    </a:cubicBezTo>
                    <a:cubicBezTo>
                      <a:pt x="3899" y="958"/>
                      <a:pt x="3267" y="610"/>
                      <a:pt x="2505" y="369"/>
                    </a:cubicBezTo>
                    <a:cubicBezTo>
                      <a:pt x="1743" y="127"/>
                      <a:pt x="879" y="0"/>
                      <a:pt x="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43200" y="1752480"/>
                <a:ext cx="1854720" cy="991080"/>
              </a:xfrm>
              <a:custGeom>
                <a:avLst/>
                <a:gdLst/>
                <a:ahLst/>
                <a:rect l="0" t="0" r="r" b="b"/>
                <a:pathLst>
                  <a:path fill="none" w="5152" h="2753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127"/>
                      <a:pt x="2576" y="369"/>
                    </a:cubicBezTo>
                    <a:cubicBezTo>
                      <a:pt x="1793" y="610"/>
                      <a:pt x="1142" y="958"/>
                      <a:pt x="690" y="1377"/>
                    </a:cubicBezTo>
                    <a:cubicBezTo>
                      <a:pt x="238" y="1795"/>
                      <a:pt x="0" y="2270"/>
                      <a:pt x="0" y="2753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2743200" y="2362320"/>
              <a:ext cx="3657960" cy="686160"/>
              <a:chOff x="2743200" y="2362320"/>
              <a:chExt cx="3657960" cy="686160"/>
            </a:xfrm>
          </p:grpSpPr>
          <p:sp>
            <p:nvSpPr>
              <p:cNvPr id="160" name=""/>
              <p:cNvSpPr/>
              <p:nvPr/>
            </p:nvSpPr>
            <p:spPr>
              <a:xfrm>
                <a:off x="4597560" y="2362320"/>
                <a:ext cx="1803600" cy="686160"/>
              </a:xfrm>
              <a:custGeom>
                <a:avLst/>
                <a:gdLst/>
                <a:ahLst/>
                <a:rect l="0" t="0" r="r" b="b"/>
                <a:pathLst>
                  <a:path fill="none" w="5010" h="1906">
                    <a:moveTo>
                      <a:pt x="5010" y="1906"/>
                    </a:moveTo>
                    <a:lnTo>
                      <a:pt x="5010" y="1906"/>
                    </a:lnTo>
                    <a:lnTo>
                      <a:pt x="5010" y="1906"/>
                    </a:lnTo>
                    <a:cubicBezTo>
                      <a:pt x="5010" y="1571"/>
                      <a:pt x="4779" y="1243"/>
                      <a:pt x="4339" y="953"/>
                    </a:cubicBezTo>
                    <a:cubicBezTo>
                      <a:pt x="3899" y="663"/>
                      <a:pt x="3267" y="423"/>
                      <a:pt x="2505" y="255"/>
                    </a:cubicBezTo>
                    <a:cubicBezTo>
                      <a:pt x="1743" y="88"/>
                      <a:pt x="879" y="0"/>
                      <a:pt x="0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43200" y="2362320"/>
                <a:ext cx="1854720" cy="686160"/>
              </a:xfrm>
              <a:custGeom>
                <a:avLst/>
                <a:gdLst/>
                <a:ahLst/>
                <a:rect l="0" t="0" r="r" b="b"/>
                <a:pathLst>
                  <a:path fill="none" w="5152" h="1906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88"/>
                      <a:pt x="2576" y="255"/>
                    </a:cubicBezTo>
                    <a:cubicBezTo>
                      <a:pt x="1793" y="423"/>
                      <a:pt x="1142" y="663"/>
                      <a:pt x="690" y="953"/>
                    </a:cubicBezTo>
                    <a:cubicBezTo>
                      <a:pt x="238" y="1243"/>
                      <a:pt x="0" y="1571"/>
                      <a:pt x="0" y="1906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2575080" y="1508040"/>
              <a:ext cx="152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hieve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888080" y="2041560"/>
              <a:ext cx="1063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reply(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828880" y="3292560"/>
              <a:ext cx="3657960" cy="991080"/>
              <a:chOff x="2828880" y="3292560"/>
              <a:chExt cx="3657960" cy="991080"/>
            </a:xfrm>
          </p:grpSpPr>
          <p:sp>
            <p:nvSpPr>
              <p:cNvPr id="165" name=""/>
              <p:cNvSpPr/>
              <p:nvPr/>
            </p:nvSpPr>
            <p:spPr>
              <a:xfrm>
                <a:off x="4683240" y="3292560"/>
                <a:ext cx="1803600" cy="991080"/>
              </a:xfrm>
              <a:custGeom>
                <a:avLst/>
                <a:gdLst/>
                <a:ahLst/>
                <a:rect l="0" t="0" r="r" b="b"/>
                <a:pathLst>
                  <a:path fill="none" w="5010" h="2753">
                    <a:moveTo>
                      <a:pt x="0" y="2753"/>
                    </a:moveTo>
                    <a:lnTo>
                      <a:pt x="0" y="2753"/>
                    </a:lnTo>
                    <a:cubicBezTo>
                      <a:pt x="879" y="2753"/>
                      <a:pt x="1743" y="2626"/>
                      <a:pt x="2505" y="2384"/>
                    </a:cubicBezTo>
                    <a:cubicBezTo>
                      <a:pt x="3267" y="2143"/>
                      <a:pt x="3899" y="1795"/>
                      <a:pt x="4339" y="1376"/>
                    </a:cubicBezTo>
                    <a:cubicBezTo>
                      <a:pt x="4779" y="958"/>
                      <a:pt x="5010" y="483"/>
                      <a:pt x="5010" y="0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28880" y="3292560"/>
                <a:ext cx="1854720" cy="991080"/>
              </a:xfrm>
              <a:custGeom>
                <a:avLst/>
                <a:gdLst/>
                <a:ahLst/>
                <a:rect l="0" t="0" r="r" b="b"/>
                <a:pathLst>
                  <a:path fill="none" w="5152" h="275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83"/>
                      <a:pt x="238" y="958"/>
                      <a:pt x="690" y="1377"/>
                    </a:cubicBezTo>
                    <a:cubicBezTo>
                      <a:pt x="1142" y="1795"/>
                      <a:pt x="1793" y="2143"/>
                      <a:pt x="2576" y="2384"/>
                    </a:cubicBezTo>
                    <a:cubicBezTo>
                      <a:pt x="3359" y="2626"/>
                      <a:pt x="4248" y="2753"/>
                      <a:pt x="5152" y="2753"/>
                    </a:cubicBezTo>
                  </a:path>
                </a:pathLst>
              </a:custGeom>
              <a:ln w="2556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2743200" y="3048120"/>
              <a:ext cx="3657960" cy="686160"/>
              <a:chOff x="2743200" y="3048120"/>
              <a:chExt cx="3657960" cy="686160"/>
            </a:xfrm>
          </p:grpSpPr>
          <p:sp>
            <p:nvSpPr>
              <p:cNvPr id="168" name=""/>
              <p:cNvSpPr/>
              <p:nvPr/>
            </p:nvSpPr>
            <p:spPr>
              <a:xfrm>
                <a:off x="4597560" y="3048120"/>
                <a:ext cx="1803600" cy="686160"/>
              </a:xfrm>
              <a:custGeom>
                <a:avLst/>
                <a:gdLst/>
                <a:ahLst/>
                <a:rect l="0" t="0" r="r" b="b"/>
                <a:pathLst>
                  <a:path fill="none" w="5010" h="1906">
                    <a:moveTo>
                      <a:pt x="0" y="1906"/>
                    </a:moveTo>
                    <a:lnTo>
                      <a:pt x="0" y="1906"/>
                    </a:lnTo>
                    <a:cubicBezTo>
                      <a:pt x="879" y="1906"/>
                      <a:pt x="1743" y="1818"/>
                      <a:pt x="2505" y="1651"/>
                    </a:cubicBezTo>
                    <a:cubicBezTo>
                      <a:pt x="3267" y="1483"/>
                      <a:pt x="3899" y="1243"/>
                      <a:pt x="4339" y="953"/>
                    </a:cubicBezTo>
                    <a:cubicBezTo>
                      <a:pt x="4779" y="663"/>
                      <a:pt x="5010" y="335"/>
                      <a:pt x="5010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43200" y="3048120"/>
                <a:ext cx="1854720" cy="686160"/>
              </a:xfrm>
              <a:custGeom>
                <a:avLst/>
                <a:gdLst/>
                <a:ahLst/>
                <a:rect l="0" t="0" r="r" b="b"/>
                <a:pathLst>
                  <a:path fill="none" w="5152" h="1906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334"/>
                      <a:pt x="239" y="663"/>
                      <a:pt x="690" y="952"/>
                    </a:cubicBezTo>
                    <a:cubicBezTo>
                      <a:pt x="1142" y="1242"/>
                      <a:pt x="1793" y="1483"/>
                      <a:pt x="2576" y="1651"/>
                    </a:cubicBezTo>
                    <a:cubicBezTo>
                      <a:pt x="3359" y="1818"/>
                      <a:pt x="4248" y="1906"/>
                      <a:pt x="5152" y="1906"/>
                    </a:cubicBezTo>
                    <a:lnTo>
                      <a:pt x="5152" y="1906"/>
                    </a:lnTo>
                  </a:path>
                </a:pathLst>
              </a:custGeom>
              <a:ln w="255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 txBox="1"/>
            <p:nvPr/>
          </p:nvSpPr>
          <p:spPr>
            <a:xfrm>
              <a:off x="2733840" y="4114800"/>
              <a:ext cx="18604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nachieve(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933720" y="3048120"/>
              <a:ext cx="1301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reply(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304920" y="4952880"/>
            <a:ext cx="85345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(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quest for the receiver to perform an action by trying to make the sentence S true in its VKB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chieve(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equivalent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y(achieve(S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ell, Untell, Insert and De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4800600"/>
            <a:ext cx="86868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(P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s that the sender believes P to be true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ell(P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at the sender does not believe P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(P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quest for the receiver to add P to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irtual knowledge base”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KB)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e(P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move it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y(insert(P)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s that the sender no longer request that P be added to the receivers V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143000" y="1538280"/>
            <a:ext cx="6621480" cy="3079800"/>
            <a:chOff x="1143000" y="1538280"/>
            <a:chExt cx="6621480" cy="3079800"/>
          </a:xfrm>
        </p:grpSpPr>
        <p:sp>
          <p:nvSpPr>
            <p:cNvPr id="176" name=""/>
            <p:cNvSpPr/>
            <p:nvPr/>
          </p:nvSpPr>
          <p:spPr>
            <a:xfrm>
              <a:off x="6531120" y="2527200"/>
              <a:ext cx="1158840" cy="790560"/>
            </a:xfrm>
            <a:prstGeom prst="roundRect">
              <a:avLst/>
            </a:prstGeom>
            <a:solidFill>
              <a:srgbClr val="fc0128"/>
            </a:solidFill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035680" y="2209680"/>
              <a:ext cx="1537200" cy="317880"/>
              <a:chOff x="5035680" y="2209680"/>
              <a:chExt cx="1537200" cy="317880"/>
            </a:xfrm>
          </p:grpSpPr>
          <p:sp>
            <p:nvSpPr>
              <p:cNvPr id="178" name=""/>
              <p:cNvSpPr/>
              <p:nvPr/>
            </p:nvSpPr>
            <p:spPr>
              <a:xfrm>
                <a:off x="5814360" y="2209680"/>
                <a:ext cx="758520" cy="317880"/>
              </a:xfrm>
              <a:custGeom>
                <a:avLst/>
                <a:gdLst/>
                <a:ahLst/>
                <a:rect l="0" t="0" r="r" b="b"/>
                <a:pathLst>
                  <a:path fill="none" w="2107" h="883">
                    <a:moveTo>
                      <a:pt x="2107" y="883"/>
                    </a:moveTo>
                    <a:lnTo>
                      <a:pt x="2107" y="883"/>
                    </a:lnTo>
                    <a:lnTo>
                      <a:pt x="2107" y="883"/>
                    </a:lnTo>
                    <a:cubicBezTo>
                      <a:pt x="2107" y="728"/>
                      <a:pt x="2010" y="576"/>
                      <a:pt x="1825" y="441"/>
                    </a:cubicBezTo>
                    <a:cubicBezTo>
                      <a:pt x="1640" y="307"/>
                      <a:pt x="1374" y="196"/>
                      <a:pt x="1053" y="118"/>
                    </a:cubicBezTo>
                    <a:cubicBezTo>
                      <a:pt x="733" y="41"/>
                      <a:pt x="370" y="0"/>
                      <a:pt x="0" y="0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035680" y="2209680"/>
                <a:ext cx="779040" cy="317880"/>
              </a:xfrm>
              <a:custGeom>
                <a:avLst/>
                <a:gdLst/>
                <a:ahLst/>
                <a:rect l="0" t="0" r="r" b="b"/>
                <a:pathLst>
                  <a:path fill="none" w="2164" h="883">
                    <a:moveTo>
                      <a:pt x="2164" y="0"/>
                    </a:moveTo>
                    <a:lnTo>
                      <a:pt x="2164" y="0"/>
                    </a:lnTo>
                    <a:cubicBezTo>
                      <a:pt x="1784" y="0"/>
                      <a:pt x="1411" y="41"/>
                      <a:pt x="1082" y="118"/>
                    </a:cubicBezTo>
                    <a:cubicBezTo>
                      <a:pt x="753" y="196"/>
                      <a:pt x="480" y="307"/>
                      <a:pt x="290" y="442"/>
                    </a:cubicBezTo>
                    <a:cubicBezTo>
                      <a:pt x="100" y="576"/>
                      <a:pt x="0" y="728"/>
                      <a:pt x="0" y="883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3917880" y="248904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422440" y="2235240"/>
              <a:ext cx="1535760" cy="368640"/>
              <a:chOff x="2422440" y="2235240"/>
              <a:chExt cx="1535760" cy="368640"/>
            </a:xfrm>
          </p:grpSpPr>
          <p:sp>
            <p:nvSpPr>
              <p:cNvPr id="182" name=""/>
              <p:cNvSpPr/>
              <p:nvPr/>
            </p:nvSpPr>
            <p:spPr>
              <a:xfrm>
                <a:off x="2422440" y="2235240"/>
                <a:ext cx="758520" cy="368640"/>
              </a:xfrm>
              <a:custGeom>
                <a:avLst/>
                <a:gdLst/>
                <a:ahLst/>
                <a:rect l="0" t="0" r="r" b="b"/>
                <a:pathLst>
                  <a:path fill="none" w="2107" h="1024"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1737" y="0"/>
                      <a:pt x="1374" y="47"/>
                      <a:pt x="1053" y="137"/>
                    </a:cubicBezTo>
                    <a:cubicBezTo>
                      <a:pt x="733" y="227"/>
                      <a:pt x="467" y="356"/>
                      <a:pt x="282" y="512"/>
                    </a:cubicBezTo>
                    <a:cubicBezTo>
                      <a:pt x="97" y="668"/>
                      <a:pt x="0" y="844"/>
                      <a:pt x="0" y="1024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79160" y="2235240"/>
                <a:ext cx="779040" cy="368640"/>
              </a:xfrm>
              <a:custGeom>
                <a:avLst/>
                <a:gdLst/>
                <a:ahLst/>
                <a:rect l="0" t="0" r="r" b="b"/>
                <a:pathLst>
                  <a:path fill="none" w="2164" h="1024">
                    <a:moveTo>
                      <a:pt x="2164" y="1024"/>
                    </a:moveTo>
                    <a:lnTo>
                      <a:pt x="2164" y="1024"/>
                    </a:lnTo>
                    <a:lnTo>
                      <a:pt x="2164" y="1024"/>
                    </a:lnTo>
                    <a:cubicBezTo>
                      <a:pt x="2164" y="844"/>
                      <a:pt x="2064" y="668"/>
                      <a:pt x="1874" y="512"/>
                    </a:cubicBezTo>
                    <a:cubicBezTo>
                      <a:pt x="1684" y="356"/>
                      <a:pt x="1411" y="227"/>
                      <a:pt x="1082" y="137"/>
                    </a:cubicBezTo>
                    <a:cubicBezTo>
                      <a:pt x="753" y="47"/>
                      <a:pt x="380" y="0"/>
                      <a:pt x="0" y="0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 txBox="1"/>
            <p:nvPr/>
          </p:nvSpPr>
          <p:spPr>
            <a:xfrm>
              <a:off x="6848640" y="241308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257800" y="3672000"/>
              <a:ext cx="250668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untell(P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= deny(tell(P1)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4164120" y="241308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057640" y="1538280"/>
              <a:ext cx="1290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495520" y="3244680"/>
              <a:ext cx="1537200" cy="368640"/>
              <a:chOff x="2495520" y="3244680"/>
              <a:chExt cx="1537200" cy="368640"/>
            </a:xfrm>
          </p:grpSpPr>
          <p:sp>
            <p:nvSpPr>
              <p:cNvPr id="189" name=""/>
              <p:cNvSpPr/>
              <p:nvPr/>
            </p:nvSpPr>
            <p:spPr>
              <a:xfrm>
                <a:off x="2495520" y="3244680"/>
                <a:ext cx="758520" cy="368640"/>
              </a:xfrm>
              <a:custGeom>
                <a:avLst/>
                <a:gdLst/>
                <a:ahLst/>
                <a:rect l="0" t="0" r="r" b="b"/>
                <a:pathLst>
                  <a:path fill="none" w="2107" h="102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80"/>
                      <a:pt x="97" y="356"/>
                      <a:pt x="282" y="512"/>
                    </a:cubicBezTo>
                    <a:cubicBezTo>
                      <a:pt x="467" y="668"/>
                      <a:pt x="733" y="797"/>
                      <a:pt x="1054" y="887"/>
                    </a:cubicBezTo>
                    <a:cubicBezTo>
                      <a:pt x="1374" y="977"/>
                      <a:pt x="1737" y="1024"/>
                      <a:pt x="2107" y="1024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53680" y="3244680"/>
                <a:ext cx="779040" cy="368640"/>
              </a:xfrm>
              <a:custGeom>
                <a:avLst/>
                <a:gdLst/>
                <a:ahLst/>
                <a:rect l="0" t="0" r="r" b="b"/>
                <a:pathLst>
                  <a:path fill="none" w="2164" h="1024">
                    <a:moveTo>
                      <a:pt x="0" y="1024"/>
                    </a:moveTo>
                    <a:lnTo>
                      <a:pt x="0" y="1024"/>
                    </a:lnTo>
                    <a:cubicBezTo>
                      <a:pt x="380" y="1024"/>
                      <a:pt x="753" y="977"/>
                      <a:pt x="1082" y="887"/>
                    </a:cubicBezTo>
                    <a:cubicBezTo>
                      <a:pt x="1411" y="797"/>
                      <a:pt x="1684" y="668"/>
                      <a:pt x="1874" y="512"/>
                    </a:cubicBezTo>
                    <a:cubicBezTo>
                      <a:pt x="2064" y="356"/>
                      <a:pt x="2164" y="180"/>
                      <a:pt x="2164" y="0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033880" y="3270240"/>
              <a:ext cx="1535760" cy="317880"/>
              <a:chOff x="5033880" y="3270240"/>
              <a:chExt cx="1535760" cy="317880"/>
            </a:xfrm>
          </p:grpSpPr>
          <p:sp>
            <p:nvSpPr>
              <p:cNvPr id="192" name=""/>
              <p:cNvSpPr/>
              <p:nvPr/>
            </p:nvSpPr>
            <p:spPr>
              <a:xfrm>
                <a:off x="5811120" y="3270240"/>
                <a:ext cx="758520" cy="317880"/>
              </a:xfrm>
              <a:custGeom>
                <a:avLst/>
                <a:gdLst/>
                <a:ahLst/>
                <a:rect l="0" t="0" r="r" b="b"/>
                <a:pathLst>
                  <a:path fill="none" w="2107" h="883">
                    <a:moveTo>
                      <a:pt x="0" y="883"/>
                    </a:moveTo>
                    <a:lnTo>
                      <a:pt x="0" y="883"/>
                    </a:lnTo>
                    <a:cubicBezTo>
                      <a:pt x="370" y="883"/>
                      <a:pt x="733" y="842"/>
                      <a:pt x="1054" y="765"/>
                    </a:cubicBezTo>
                    <a:cubicBezTo>
                      <a:pt x="1374" y="687"/>
                      <a:pt x="1640" y="576"/>
                      <a:pt x="1825" y="441"/>
                    </a:cubicBezTo>
                    <a:cubicBezTo>
                      <a:pt x="2010" y="307"/>
                      <a:pt x="2107" y="155"/>
                      <a:pt x="2107" y="0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33880" y="3270240"/>
                <a:ext cx="779040" cy="317880"/>
              </a:xfrm>
              <a:custGeom>
                <a:avLst/>
                <a:gdLst/>
                <a:ahLst/>
                <a:rect l="0" t="0" r="r" b="b"/>
                <a:pathLst>
                  <a:path fill="none" w="2164" h="88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55"/>
                      <a:pt x="100" y="307"/>
                      <a:pt x="290" y="442"/>
                    </a:cubicBezTo>
                    <a:cubicBezTo>
                      <a:pt x="480" y="576"/>
                      <a:pt x="753" y="687"/>
                      <a:pt x="1082" y="765"/>
                    </a:cubicBezTo>
                    <a:cubicBezTo>
                      <a:pt x="1411" y="842"/>
                      <a:pt x="1784" y="883"/>
                      <a:pt x="2164" y="883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 txBox="1"/>
            <p:nvPr/>
          </p:nvSpPr>
          <p:spPr>
            <a:xfrm>
              <a:off x="1143000" y="3657600"/>
              <a:ext cx="297180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delete(P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i="1" lang="en-US" sz="28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!=deny(insert(p2)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390760" y="1614600"/>
              <a:ext cx="1684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insert(P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301760" y="2514600"/>
              <a:ext cx="1158840" cy="914400"/>
              <a:chOff x="1301760" y="2514600"/>
              <a:chExt cx="1158840" cy="914400"/>
            </a:xfrm>
          </p:grpSpPr>
          <p:sp>
            <p:nvSpPr>
              <p:cNvPr id="197" name=""/>
              <p:cNvSpPr/>
              <p:nvPr/>
            </p:nvSpPr>
            <p:spPr>
              <a:xfrm>
                <a:off x="1301760" y="2548080"/>
                <a:ext cx="1158840" cy="847800"/>
              </a:xfrm>
              <a:prstGeom prst="roundRect">
                <a:avLst/>
              </a:prstGeom>
              <a:solidFill>
                <a:srgbClr val="438e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1577880" y="2514600"/>
                <a:ext cx="67932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Reply, Sorry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31120" y="2527200"/>
            <a:ext cx="1158840" cy="790560"/>
          </a:xfrm>
          <a:prstGeom prst="roundRect">
            <a:avLst/>
          </a:prstGeom>
          <a:solidFill>
            <a:srgbClr val="fc0128"/>
          </a:solidFill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035680" y="2209680"/>
            <a:ext cx="1537200" cy="317880"/>
            <a:chOff x="5035680" y="2209680"/>
            <a:chExt cx="1537200" cy="317880"/>
          </a:xfrm>
        </p:grpSpPr>
        <p:sp>
          <p:nvSpPr>
            <p:cNvPr id="202" name=""/>
            <p:cNvSpPr/>
            <p:nvPr/>
          </p:nvSpPr>
          <p:spPr>
            <a:xfrm>
              <a:off x="5814360" y="2209680"/>
              <a:ext cx="758520" cy="317880"/>
            </a:xfrm>
            <a:custGeom>
              <a:avLst/>
              <a:gdLst/>
              <a:ahLst/>
              <a:rect l="0" t="0" r="r" b="b"/>
              <a:pathLst>
                <a:path fill="none" w="2107" h="883">
                  <a:moveTo>
                    <a:pt x="2107" y="883"/>
                  </a:moveTo>
                  <a:lnTo>
                    <a:pt x="2107" y="883"/>
                  </a:lnTo>
                  <a:lnTo>
                    <a:pt x="2107" y="883"/>
                  </a:lnTo>
                  <a:cubicBezTo>
                    <a:pt x="2107" y="728"/>
                    <a:pt x="2010" y="576"/>
                    <a:pt x="1825" y="441"/>
                  </a:cubicBezTo>
                  <a:cubicBezTo>
                    <a:pt x="1640" y="307"/>
                    <a:pt x="1374" y="196"/>
                    <a:pt x="1053" y="118"/>
                  </a:cubicBezTo>
                  <a:cubicBezTo>
                    <a:pt x="733" y="41"/>
                    <a:pt x="370" y="0"/>
                    <a:pt x="0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35680" y="2209680"/>
              <a:ext cx="779040" cy="317880"/>
            </a:xfrm>
            <a:custGeom>
              <a:avLst/>
              <a:gdLst/>
              <a:ahLst/>
              <a:rect l="0" t="0" r="r" b="b"/>
              <a:pathLst>
                <a:path fill="none" w="2164" h="883">
                  <a:moveTo>
                    <a:pt x="2164" y="0"/>
                  </a:moveTo>
                  <a:lnTo>
                    <a:pt x="2164" y="0"/>
                  </a:lnTo>
                  <a:cubicBezTo>
                    <a:pt x="1784" y="0"/>
                    <a:pt x="1411" y="41"/>
                    <a:pt x="1082" y="118"/>
                  </a:cubicBezTo>
                  <a:cubicBezTo>
                    <a:pt x="753" y="196"/>
                    <a:pt x="480" y="307"/>
                    <a:pt x="290" y="442"/>
                  </a:cubicBezTo>
                  <a:cubicBezTo>
                    <a:pt x="100" y="576"/>
                    <a:pt x="0" y="728"/>
                    <a:pt x="0" y="883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917880" y="2489040"/>
            <a:ext cx="1143000" cy="762120"/>
          </a:xfrm>
          <a:prstGeom prst="round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422440" y="2514600"/>
            <a:ext cx="1535760" cy="305280"/>
            <a:chOff x="2422440" y="2514600"/>
            <a:chExt cx="1535760" cy="305280"/>
          </a:xfrm>
        </p:grpSpPr>
        <p:sp>
          <p:nvSpPr>
            <p:cNvPr id="206" name=""/>
            <p:cNvSpPr/>
            <p:nvPr/>
          </p:nvSpPr>
          <p:spPr>
            <a:xfrm>
              <a:off x="2422440" y="2514600"/>
              <a:ext cx="758520" cy="305280"/>
            </a:xfrm>
            <a:custGeom>
              <a:avLst/>
              <a:gdLst/>
              <a:ahLst/>
              <a:rect l="0" t="0" r="r" b="b"/>
              <a:pathLst>
                <a:path fill="none" w="2107" h="848">
                  <a:moveTo>
                    <a:pt x="2107" y="0"/>
                  </a:moveTo>
                  <a:lnTo>
                    <a:pt x="2107" y="0"/>
                  </a:lnTo>
                  <a:cubicBezTo>
                    <a:pt x="1737" y="0"/>
                    <a:pt x="1374" y="39"/>
                    <a:pt x="1053" y="114"/>
                  </a:cubicBezTo>
                  <a:cubicBezTo>
                    <a:pt x="733" y="188"/>
                    <a:pt x="467" y="295"/>
                    <a:pt x="282" y="424"/>
                  </a:cubicBezTo>
                  <a:cubicBezTo>
                    <a:pt x="97" y="553"/>
                    <a:pt x="0" y="699"/>
                    <a:pt x="0" y="848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79160" y="2514600"/>
              <a:ext cx="779040" cy="305280"/>
            </a:xfrm>
            <a:custGeom>
              <a:avLst/>
              <a:gdLst/>
              <a:ahLst/>
              <a:rect l="0" t="0" r="r" b="b"/>
              <a:pathLst>
                <a:path fill="none" w="2164" h="848">
                  <a:moveTo>
                    <a:pt x="2164" y="848"/>
                  </a:moveTo>
                  <a:lnTo>
                    <a:pt x="2164" y="848"/>
                  </a:lnTo>
                  <a:lnTo>
                    <a:pt x="2164" y="848"/>
                  </a:lnTo>
                  <a:cubicBezTo>
                    <a:pt x="2164" y="699"/>
                    <a:pt x="2064" y="553"/>
                    <a:pt x="1874" y="424"/>
                  </a:cubicBezTo>
                  <a:cubicBezTo>
                    <a:pt x="1684" y="295"/>
                    <a:pt x="1411" y="188"/>
                    <a:pt x="1082" y="114"/>
                  </a:cubicBezTo>
                  <a:cubicBezTo>
                    <a:pt x="753" y="39"/>
                    <a:pt x="380" y="0"/>
                    <a:pt x="0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684864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257800" y="3672000"/>
            <a:ext cx="1843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eply(tr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16412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057640" y="1538280"/>
            <a:ext cx="148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sk-i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495520" y="3048120"/>
            <a:ext cx="1537200" cy="228960"/>
            <a:chOff x="2495520" y="3048120"/>
            <a:chExt cx="1537200" cy="228960"/>
          </a:xfrm>
        </p:grpSpPr>
        <p:sp>
          <p:nvSpPr>
            <p:cNvPr id="213" name=""/>
            <p:cNvSpPr/>
            <p:nvPr/>
          </p:nvSpPr>
          <p:spPr>
            <a:xfrm>
              <a:off x="2495520" y="3048120"/>
              <a:ext cx="758520" cy="228960"/>
            </a:xfrm>
            <a:custGeom>
              <a:avLst/>
              <a:gdLst/>
              <a:ahLst/>
              <a:rect l="0" t="0" r="r" b="b"/>
              <a:pathLst>
                <a:path fill="none" w="2107" h="636">
                  <a:moveTo>
                    <a:pt x="0" y="0"/>
                  </a:moveTo>
                  <a:lnTo>
                    <a:pt x="0" y="0"/>
                  </a:lnTo>
                  <a:cubicBezTo>
                    <a:pt x="0" y="112"/>
                    <a:pt x="97" y="221"/>
                    <a:pt x="282" y="318"/>
                  </a:cubicBezTo>
                  <a:cubicBezTo>
                    <a:pt x="467" y="415"/>
                    <a:pt x="733" y="495"/>
                    <a:pt x="1054" y="551"/>
                  </a:cubicBezTo>
                  <a:cubicBezTo>
                    <a:pt x="1374" y="607"/>
                    <a:pt x="1737" y="636"/>
                    <a:pt x="2107" y="636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53680" y="3048120"/>
              <a:ext cx="779040" cy="228960"/>
            </a:xfrm>
            <a:custGeom>
              <a:avLst/>
              <a:gdLst/>
              <a:ahLst/>
              <a:rect l="0" t="0" r="r" b="b"/>
              <a:pathLst>
                <a:path fill="none" w="2164" h="636">
                  <a:moveTo>
                    <a:pt x="0" y="636"/>
                  </a:moveTo>
                  <a:lnTo>
                    <a:pt x="0" y="636"/>
                  </a:lnTo>
                  <a:cubicBezTo>
                    <a:pt x="380" y="636"/>
                    <a:pt x="753" y="607"/>
                    <a:pt x="1082" y="551"/>
                  </a:cubicBezTo>
                  <a:cubicBezTo>
                    <a:pt x="1411" y="495"/>
                    <a:pt x="1684" y="415"/>
                    <a:pt x="1874" y="318"/>
                  </a:cubicBezTo>
                  <a:cubicBezTo>
                    <a:pt x="2064" y="221"/>
                    <a:pt x="2164" y="112"/>
                    <a:pt x="2164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033880" y="3270240"/>
            <a:ext cx="1535760" cy="317880"/>
            <a:chOff x="5033880" y="3270240"/>
            <a:chExt cx="1535760" cy="317880"/>
          </a:xfrm>
        </p:grpSpPr>
        <p:sp>
          <p:nvSpPr>
            <p:cNvPr id="216" name=""/>
            <p:cNvSpPr/>
            <p:nvPr/>
          </p:nvSpPr>
          <p:spPr>
            <a:xfrm>
              <a:off x="5811120" y="3270240"/>
              <a:ext cx="758520" cy="317880"/>
            </a:xfrm>
            <a:custGeom>
              <a:avLst/>
              <a:gdLst/>
              <a:ahLst/>
              <a:rect l="0" t="0" r="r" b="b"/>
              <a:pathLst>
                <a:path fill="none" w="2107" h="883">
                  <a:moveTo>
                    <a:pt x="0" y="883"/>
                  </a:moveTo>
                  <a:lnTo>
                    <a:pt x="0" y="883"/>
                  </a:lnTo>
                  <a:cubicBezTo>
                    <a:pt x="370" y="883"/>
                    <a:pt x="733" y="842"/>
                    <a:pt x="1054" y="765"/>
                  </a:cubicBezTo>
                  <a:cubicBezTo>
                    <a:pt x="1374" y="687"/>
                    <a:pt x="1640" y="576"/>
                    <a:pt x="1825" y="441"/>
                  </a:cubicBezTo>
                  <a:cubicBezTo>
                    <a:pt x="2010" y="307"/>
                    <a:pt x="2107" y="155"/>
                    <a:pt x="2107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33880" y="3270240"/>
              <a:ext cx="779040" cy="317880"/>
            </a:xfrm>
            <a:custGeom>
              <a:avLst/>
              <a:gdLst/>
              <a:ahLst/>
              <a:rect l="0" t="0" r="r" b="b"/>
              <a:pathLst>
                <a:path fill="none" w="2164" h="883">
                  <a:moveTo>
                    <a:pt x="0" y="0"/>
                  </a:moveTo>
                  <a:lnTo>
                    <a:pt x="0" y="0"/>
                  </a:lnTo>
                  <a:cubicBezTo>
                    <a:pt x="0" y="155"/>
                    <a:pt x="100" y="307"/>
                    <a:pt x="290" y="442"/>
                  </a:cubicBezTo>
                  <a:cubicBezTo>
                    <a:pt x="480" y="576"/>
                    <a:pt x="753" y="687"/>
                    <a:pt x="1082" y="765"/>
                  </a:cubicBezTo>
                  <a:cubicBezTo>
                    <a:pt x="1411" y="842"/>
                    <a:pt x="1784" y="883"/>
                    <a:pt x="2164" y="883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 txBox="1"/>
          <p:nvPr/>
        </p:nvSpPr>
        <p:spPr>
          <a:xfrm>
            <a:off x="2438280" y="3429000"/>
            <a:ext cx="1828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ry(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90760" y="2071800"/>
            <a:ext cx="1684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38e00"/>
                </a:solidFill>
                <a:latin typeface="Times New Roman"/>
                <a:ea typeface="Times New Roman"/>
              </a:rPr>
              <a:t>insert(P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01760" y="2514600"/>
            <a:ext cx="1158840" cy="914400"/>
            <a:chOff x="1301760" y="2514600"/>
            <a:chExt cx="1158840" cy="914400"/>
          </a:xfrm>
        </p:grpSpPr>
        <p:sp>
          <p:nvSpPr>
            <p:cNvPr id="221" name=""/>
            <p:cNvSpPr/>
            <p:nvPr/>
          </p:nvSpPr>
          <p:spPr>
            <a:xfrm>
              <a:off x="1301760" y="2548080"/>
              <a:ext cx="1158840" cy="84780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1577880" y="251460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304920" y="5029200"/>
            <a:ext cx="85345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y(Msg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successful response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ry(Msg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e message was not accepted.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(Msg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e message was considered inappropriate or mal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905120" y="1905120"/>
            <a:ext cx="2438640" cy="609840"/>
            <a:chOff x="1905120" y="1905120"/>
            <a:chExt cx="2438640" cy="609840"/>
          </a:xfrm>
        </p:grpSpPr>
        <p:sp>
          <p:nvSpPr>
            <p:cNvPr id="225" name=""/>
            <p:cNvSpPr/>
            <p:nvPr/>
          </p:nvSpPr>
          <p:spPr>
            <a:xfrm>
              <a:off x="1905120" y="1905120"/>
              <a:ext cx="1204560" cy="609840"/>
            </a:xfrm>
            <a:custGeom>
              <a:avLst/>
              <a:gdLst/>
              <a:ahLst/>
              <a:rect l="0" t="0" r="r" b="b"/>
              <a:pathLst>
                <a:path fill="none" w="3346" h="1694">
                  <a:moveTo>
                    <a:pt x="3346" y="0"/>
                  </a:moveTo>
                  <a:lnTo>
                    <a:pt x="3346" y="0"/>
                  </a:lnTo>
                  <a:cubicBezTo>
                    <a:pt x="2759" y="0"/>
                    <a:pt x="2182" y="78"/>
                    <a:pt x="1673" y="227"/>
                  </a:cubicBezTo>
                  <a:cubicBezTo>
                    <a:pt x="1164" y="376"/>
                    <a:pt x="742" y="589"/>
                    <a:pt x="448" y="847"/>
                  </a:cubicBezTo>
                  <a:cubicBezTo>
                    <a:pt x="155" y="1105"/>
                    <a:pt x="0" y="1397"/>
                    <a:pt x="0" y="1694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06080" y="1905120"/>
              <a:ext cx="1237680" cy="609840"/>
            </a:xfrm>
            <a:custGeom>
              <a:avLst/>
              <a:gdLst/>
              <a:ahLst/>
              <a:rect l="0" t="0" r="r" b="b"/>
              <a:pathLst>
                <a:path fill="none" w="3438" h="1694">
                  <a:moveTo>
                    <a:pt x="3438" y="1694"/>
                  </a:moveTo>
                  <a:lnTo>
                    <a:pt x="3438" y="1694"/>
                  </a:lnTo>
                  <a:lnTo>
                    <a:pt x="3438" y="1694"/>
                  </a:lnTo>
                  <a:cubicBezTo>
                    <a:pt x="3438" y="1397"/>
                    <a:pt x="3279" y="1105"/>
                    <a:pt x="2977" y="847"/>
                  </a:cubicBezTo>
                  <a:cubicBezTo>
                    <a:pt x="2676" y="589"/>
                    <a:pt x="2242" y="376"/>
                    <a:pt x="1719" y="227"/>
                  </a:cubicBezTo>
                  <a:cubicBezTo>
                    <a:pt x="1196" y="78"/>
                    <a:pt x="603" y="0"/>
                    <a:pt x="0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79640" y="3429000"/>
            <a:ext cx="2437200" cy="609840"/>
            <a:chOff x="1979640" y="3429000"/>
            <a:chExt cx="2437200" cy="609840"/>
          </a:xfrm>
        </p:grpSpPr>
        <p:sp>
          <p:nvSpPr>
            <p:cNvPr id="228" name=""/>
            <p:cNvSpPr/>
            <p:nvPr/>
          </p:nvSpPr>
          <p:spPr>
            <a:xfrm>
              <a:off x="1979640" y="3429000"/>
              <a:ext cx="1204560" cy="609840"/>
            </a:xfrm>
            <a:custGeom>
              <a:avLst/>
              <a:gdLst/>
              <a:ahLst/>
              <a:rect l="0" t="0" r="r" b="b"/>
              <a:pathLst>
                <a:path fill="none" w="3346" h="1694">
                  <a:moveTo>
                    <a:pt x="0" y="0"/>
                  </a:moveTo>
                  <a:lnTo>
                    <a:pt x="0" y="0"/>
                  </a:lnTo>
                  <a:cubicBezTo>
                    <a:pt x="0" y="297"/>
                    <a:pt x="155" y="589"/>
                    <a:pt x="448" y="847"/>
                  </a:cubicBezTo>
                  <a:cubicBezTo>
                    <a:pt x="742" y="1105"/>
                    <a:pt x="1164" y="1318"/>
                    <a:pt x="1673" y="1467"/>
                  </a:cubicBezTo>
                  <a:cubicBezTo>
                    <a:pt x="2182" y="1616"/>
                    <a:pt x="2759" y="1694"/>
                    <a:pt x="3346" y="1694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79160" y="3429000"/>
              <a:ext cx="1237680" cy="609840"/>
            </a:xfrm>
            <a:custGeom>
              <a:avLst/>
              <a:gdLst/>
              <a:ahLst/>
              <a:rect l="0" t="0" r="r" b="b"/>
              <a:pathLst>
                <a:path fill="none" w="3438" h="1694">
                  <a:moveTo>
                    <a:pt x="0" y="1694"/>
                  </a:moveTo>
                  <a:lnTo>
                    <a:pt x="0" y="1694"/>
                  </a:lnTo>
                  <a:cubicBezTo>
                    <a:pt x="603" y="1694"/>
                    <a:pt x="1196" y="1616"/>
                    <a:pt x="1719" y="1467"/>
                  </a:cubicBezTo>
                  <a:cubicBezTo>
                    <a:pt x="2242" y="1318"/>
                    <a:pt x="2676" y="1105"/>
                    <a:pt x="2977" y="847"/>
                  </a:cubicBezTo>
                  <a:cubicBezTo>
                    <a:pt x="3279" y="589"/>
                    <a:pt x="3438" y="297"/>
                    <a:pt x="3438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609480" y="4114800"/>
            <a:ext cx="419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(“foo(P)unknow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390760" y="1386000"/>
            <a:ext cx="1112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38e00"/>
                </a:solidFill>
                <a:latin typeface="Times New Roman"/>
                <a:ea typeface="Times New Roman"/>
              </a:rPr>
              <a:t>foo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ctive Information Perform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95280" y="4343400"/>
            <a:ext cx="7518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itor(P)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Keep your response to P curr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91960" y="548640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onit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ubscri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erformatives are used to request active informa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54360" y="1700280"/>
            <a:ext cx="5410080" cy="2491200"/>
            <a:chOff x="1854360" y="1700280"/>
            <a:chExt cx="5410080" cy="2491200"/>
          </a:xfrm>
        </p:grpSpPr>
        <p:sp>
          <p:nvSpPr>
            <p:cNvPr id="236" name=""/>
            <p:cNvSpPr/>
            <p:nvPr/>
          </p:nvSpPr>
          <p:spPr>
            <a:xfrm>
              <a:off x="1854360" y="223344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21440" y="2233440"/>
              <a:ext cx="1143000" cy="762120"/>
            </a:xfrm>
            <a:prstGeom prst="roundRect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997360" y="1700280"/>
              <a:ext cx="3150000" cy="586080"/>
              <a:chOff x="2997360" y="1700280"/>
              <a:chExt cx="3150000" cy="586080"/>
            </a:xfrm>
          </p:grpSpPr>
          <p:sp>
            <p:nvSpPr>
              <p:cNvPr id="239" name=""/>
              <p:cNvSpPr/>
              <p:nvPr/>
            </p:nvSpPr>
            <p:spPr>
              <a:xfrm>
                <a:off x="4594320" y="1700280"/>
                <a:ext cx="1553040" cy="586080"/>
              </a:xfrm>
              <a:custGeom>
                <a:avLst/>
                <a:gdLst/>
                <a:ahLst/>
                <a:rect l="0" t="0" r="r" b="b"/>
                <a:pathLst>
                  <a:path fill="none" w="4314" h="1628">
                    <a:moveTo>
                      <a:pt x="4314" y="1628"/>
                    </a:moveTo>
                    <a:lnTo>
                      <a:pt x="4314" y="1628"/>
                    </a:lnTo>
                    <a:lnTo>
                      <a:pt x="4314" y="1628"/>
                    </a:lnTo>
                    <a:cubicBezTo>
                      <a:pt x="4314" y="1342"/>
                      <a:pt x="4115" y="1061"/>
                      <a:pt x="3736" y="814"/>
                    </a:cubicBezTo>
                    <a:cubicBezTo>
                      <a:pt x="3357" y="567"/>
                      <a:pt x="2813" y="361"/>
                      <a:pt x="2157" y="218"/>
                    </a:cubicBezTo>
                    <a:cubicBezTo>
                      <a:pt x="1501" y="75"/>
                      <a:pt x="757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997360" y="1700280"/>
                <a:ext cx="1597320" cy="586080"/>
              </a:xfrm>
              <a:custGeom>
                <a:avLst/>
                <a:gdLst/>
                <a:ahLst/>
                <a:rect l="0" t="0" r="r" b="b"/>
                <a:pathLst>
                  <a:path fill="none" w="4437" h="1628">
                    <a:moveTo>
                      <a:pt x="4437" y="0"/>
                    </a:moveTo>
                    <a:lnTo>
                      <a:pt x="4437" y="0"/>
                    </a:lnTo>
                    <a:cubicBezTo>
                      <a:pt x="3658" y="0"/>
                      <a:pt x="2893" y="75"/>
                      <a:pt x="2218" y="218"/>
                    </a:cubicBezTo>
                    <a:cubicBezTo>
                      <a:pt x="1544" y="361"/>
                      <a:pt x="984" y="567"/>
                      <a:pt x="594" y="814"/>
                    </a:cubicBezTo>
                    <a:cubicBezTo>
                      <a:pt x="205" y="1061"/>
                      <a:pt x="0" y="1342"/>
                      <a:pt x="0" y="1628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 txBox="1"/>
            <p:nvPr/>
          </p:nvSpPr>
          <p:spPr>
            <a:xfrm>
              <a:off x="1990800" y="213372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6334200" y="2157480"/>
              <a:ext cx="641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075120" y="1989000"/>
              <a:ext cx="2249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nitor(ask(p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3409920" y="3170160"/>
              <a:ext cx="2325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, tell(p’),.</a:t>
              </a: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971800" y="2971800"/>
              <a:ext cx="3200760" cy="914760"/>
              <a:chOff x="2971800" y="2971800"/>
              <a:chExt cx="3200760" cy="914760"/>
            </a:xfrm>
          </p:grpSpPr>
          <p:sp>
            <p:nvSpPr>
              <p:cNvPr id="246" name=""/>
              <p:cNvSpPr/>
              <p:nvPr/>
            </p:nvSpPr>
            <p:spPr>
              <a:xfrm>
                <a:off x="4572000" y="2971800"/>
                <a:ext cx="1600560" cy="914760"/>
              </a:xfrm>
              <a:custGeom>
                <a:avLst/>
                <a:gdLst/>
                <a:ahLst/>
                <a:rect l="0" t="0" r="r" b="b"/>
                <a:pathLst>
                  <a:path fill="none" w="4446" h="2541">
                    <a:moveTo>
                      <a:pt x="0" y="2541"/>
                    </a:moveTo>
                    <a:lnTo>
                      <a:pt x="0" y="2541"/>
                    </a:lnTo>
                    <a:cubicBezTo>
                      <a:pt x="780" y="2541"/>
                      <a:pt x="1547" y="2424"/>
                      <a:pt x="2223" y="2201"/>
                    </a:cubicBezTo>
                    <a:cubicBezTo>
                      <a:pt x="2899" y="1978"/>
                      <a:pt x="3460" y="1657"/>
                      <a:pt x="3850" y="1270"/>
                    </a:cubicBezTo>
                    <a:cubicBezTo>
                      <a:pt x="4241" y="884"/>
                      <a:pt x="4446" y="446"/>
                      <a:pt x="4446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71800" y="2971800"/>
                <a:ext cx="1600560" cy="914760"/>
              </a:xfrm>
              <a:custGeom>
                <a:avLst/>
                <a:gdLst/>
                <a:ahLst/>
                <a:rect l="0" t="0" r="r" b="b"/>
                <a:pathLst>
                  <a:path fill="none" w="4446" h="254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46"/>
                      <a:pt x="205" y="884"/>
                      <a:pt x="596" y="1271"/>
                    </a:cubicBezTo>
                    <a:cubicBezTo>
                      <a:pt x="986" y="1657"/>
                      <a:pt x="1547" y="1978"/>
                      <a:pt x="2223" y="2201"/>
                    </a:cubicBezTo>
                    <a:cubicBezTo>
                      <a:pt x="2899" y="2424"/>
                      <a:pt x="3666" y="2541"/>
                      <a:pt x="4446" y="2541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2743200" y="3124080"/>
              <a:ext cx="3657960" cy="914760"/>
              <a:chOff x="2743200" y="3124080"/>
              <a:chExt cx="3657960" cy="914760"/>
            </a:xfrm>
          </p:grpSpPr>
          <p:sp>
            <p:nvSpPr>
              <p:cNvPr id="249" name=""/>
              <p:cNvSpPr/>
              <p:nvPr/>
            </p:nvSpPr>
            <p:spPr>
              <a:xfrm>
                <a:off x="4572000" y="3124080"/>
                <a:ext cx="1829160" cy="914760"/>
              </a:xfrm>
              <a:custGeom>
                <a:avLst/>
                <a:gdLst/>
                <a:ahLst/>
                <a:rect l="0" t="0" r="r" b="b"/>
                <a:pathLst>
                  <a:path fill="none" w="5081" h="2541">
                    <a:moveTo>
                      <a:pt x="0" y="2541"/>
                    </a:moveTo>
                    <a:lnTo>
                      <a:pt x="0" y="2541"/>
                    </a:lnTo>
                    <a:cubicBezTo>
                      <a:pt x="892" y="2541"/>
                      <a:pt x="1768" y="2424"/>
                      <a:pt x="2541" y="2201"/>
                    </a:cubicBezTo>
                    <a:cubicBezTo>
                      <a:pt x="3313" y="1978"/>
                      <a:pt x="3954" y="1657"/>
                      <a:pt x="4400" y="1270"/>
                    </a:cubicBezTo>
                    <a:cubicBezTo>
                      <a:pt x="4846" y="884"/>
                      <a:pt x="5081" y="446"/>
                      <a:pt x="5081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43200" y="3124080"/>
                <a:ext cx="1829160" cy="914760"/>
              </a:xfrm>
              <a:custGeom>
                <a:avLst/>
                <a:gdLst/>
                <a:ahLst/>
                <a:rect l="0" t="0" r="r" b="b"/>
                <a:pathLst>
                  <a:path fill="none" w="5081" h="254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46"/>
                      <a:pt x="235" y="884"/>
                      <a:pt x="681" y="1271"/>
                    </a:cubicBezTo>
                    <a:cubicBezTo>
                      <a:pt x="1127" y="1657"/>
                      <a:pt x="1768" y="1978"/>
                      <a:pt x="2541" y="2201"/>
                    </a:cubicBezTo>
                    <a:cubicBezTo>
                      <a:pt x="3313" y="2424"/>
                      <a:pt x="4189" y="2541"/>
                      <a:pt x="5081" y="2541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905120" y="3048120"/>
              <a:ext cx="5334120" cy="1143360"/>
              <a:chOff x="1905120" y="3048120"/>
              <a:chExt cx="5334120" cy="1143360"/>
            </a:xfrm>
          </p:grpSpPr>
          <p:sp>
            <p:nvSpPr>
              <p:cNvPr id="252" name=""/>
              <p:cNvSpPr/>
              <p:nvPr/>
            </p:nvSpPr>
            <p:spPr>
              <a:xfrm>
                <a:off x="4572000" y="3048120"/>
                <a:ext cx="2667240" cy="1143360"/>
              </a:xfrm>
              <a:custGeom>
                <a:avLst/>
                <a:gdLst/>
                <a:ahLst/>
                <a:rect l="0" t="0" r="r" b="b"/>
                <a:pathLst>
                  <a:path fill="none" w="7409" h="3176">
                    <a:moveTo>
                      <a:pt x="0" y="3176"/>
                    </a:moveTo>
                    <a:lnTo>
                      <a:pt x="0" y="3176"/>
                    </a:lnTo>
                    <a:cubicBezTo>
                      <a:pt x="1301" y="3176"/>
                      <a:pt x="2578" y="3029"/>
                      <a:pt x="3705" y="2750"/>
                    </a:cubicBezTo>
                    <a:cubicBezTo>
                      <a:pt x="4831" y="2472"/>
                      <a:pt x="5766" y="2071"/>
                      <a:pt x="6416" y="1588"/>
                    </a:cubicBezTo>
                    <a:cubicBezTo>
                      <a:pt x="7067" y="1105"/>
                      <a:pt x="7409" y="558"/>
                      <a:pt x="7409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05120" y="3048120"/>
                <a:ext cx="2667240" cy="1143360"/>
              </a:xfrm>
              <a:custGeom>
                <a:avLst/>
                <a:gdLst/>
                <a:ahLst/>
                <a:rect l="0" t="0" r="r" b="b"/>
                <a:pathLst>
                  <a:path fill="none" w="7409" h="3176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557"/>
                      <a:pt x="343" y="1105"/>
                      <a:pt x="993" y="1587"/>
                    </a:cubicBezTo>
                    <a:cubicBezTo>
                      <a:pt x="1643" y="2070"/>
                      <a:pt x="2578" y="2472"/>
                      <a:pt x="3704" y="2750"/>
                    </a:cubicBezTo>
                    <a:cubicBezTo>
                      <a:pt x="4831" y="3029"/>
                      <a:pt x="6108" y="3176"/>
                      <a:pt x="7409" y="3176"/>
                    </a:cubicBezTo>
                    <a:lnTo>
                      <a:pt x="7409" y="3176"/>
                    </a:ln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2362320" y="3124080"/>
              <a:ext cx="4419720" cy="1067040"/>
              <a:chOff x="2362320" y="3124080"/>
              <a:chExt cx="4419720" cy="1067040"/>
            </a:xfrm>
          </p:grpSpPr>
          <p:sp>
            <p:nvSpPr>
              <p:cNvPr id="255" name=""/>
              <p:cNvSpPr/>
              <p:nvPr/>
            </p:nvSpPr>
            <p:spPr>
              <a:xfrm>
                <a:off x="4572000" y="3124080"/>
                <a:ext cx="2210040" cy="1067040"/>
              </a:xfrm>
              <a:custGeom>
                <a:avLst/>
                <a:gdLst/>
                <a:ahLst/>
                <a:rect l="0" t="0" r="r" b="b"/>
                <a:pathLst>
                  <a:path fill="none" w="6139" h="2964">
                    <a:moveTo>
                      <a:pt x="0" y="2964"/>
                    </a:moveTo>
                    <a:lnTo>
                      <a:pt x="0" y="2964"/>
                    </a:lnTo>
                    <a:cubicBezTo>
                      <a:pt x="1078" y="2964"/>
                      <a:pt x="2136" y="2827"/>
                      <a:pt x="3070" y="2567"/>
                    </a:cubicBezTo>
                    <a:cubicBezTo>
                      <a:pt x="4003" y="2307"/>
                      <a:pt x="4778" y="1933"/>
                      <a:pt x="5317" y="1482"/>
                    </a:cubicBezTo>
                    <a:cubicBezTo>
                      <a:pt x="5855" y="1031"/>
                      <a:pt x="6139" y="520"/>
                      <a:pt x="6139" y="0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362320" y="3124080"/>
                <a:ext cx="2210040" cy="1067040"/>
              </a:xfrm>
              <a:custGeom>
                <a:avLst/>
                <a:gdLst/>
                <a:ahLst/>
                <a:rect l="0" t="0" r="r" b="b"/>
                <a:pathLst>
                  <a:path fill="none" w="6139" h="296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520"/>
                      <a:pt x="284" y="1031"/>
                      <a:pt x="822" y="1482"/>
                    </a:cubicBezTo>
                    <a:cubicBezTo>
                      <a:pt x="1361" y="1933"/>
                      <a:pt x="2136" y="2307"/>
                      <a:pt x="3070" y="2567"/>
                    </a:cubicBezTo>
                    <a:cubicBezTo>
                      <a:pt x="4003" y="2827"/>
                      <a:pt x="5061" y="2964"/>
                      <a:pt x="6139" y="2964"/>
                    </a:cubicBezTo>
                  </a:path>
                </a:pathLst>
              </a:custGeom>
              <a:ln w="255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8240" y="690480"/>
            <a:ext cx="760716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KQM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760" y="223524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Query and Manipula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gh-level agent communication language  independen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language and ontology (e.g., KIF or L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mechanism (e.g., TCP/IP or COR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ed in a variety of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7791480" y="306360"/>
            <a:ext cx="1028880" cy="995400"/>
            <a:chOff x="7791480" y="306360"/>
            <a:chExt cx="1028880" cy="995400"/>
          </a:xfrm>
        </p:grpSpPr>
        <p:sp>
          <p:nvSpPr>
            <p:cNvPr id="49" name=""/>
            <p:cNvSpPr/>
            <p:nvPr/>
          </p:nvSpPr>
          <p:spPr>
            <a:xfrm>
              <a:off x="7791480" y="306360"/>
              <a:ext cx="1028880" cy="995400"/>
            </a:xfrm>
            <a:prstGeom prst="ellipse">
              <a:avLst/>
            </a:prstGeom>
            <a:solidFill>
              <a:srgbClr val="a2c1fe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99480" y="311040"/>
              <a:ext cx="813240" cy="803520"/>
            </a:xfrm>
            <a:custGeom>
              <a:avLst/>
              <a:gdLst/>
              <a:ahLst/>
              <a:rect l="0" t="0" r="r" b="b"/>
              <a:pathLst>
                <a:path w="2259" h="2232">
                  <a:moveTo>
                    <a:pt x="0" y="2232"/>
                  </a:moveTo>
                  <a:lnTo>
                    <a:pt x="2259" y="2232"/>
                  </a:lnTo>
                  <a:lnTo>
                    <a:pt x="1129" y="0"/>
                  </a:lnTo>
                  <a:lnTo>
                    <a:pt x="0" y="2232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053560" y="1022400"/>
              <a:ext cx="248040" cy="268560"/>
            </a:xfrm>
            <a:custGeom>
              <a:avLst/>
              <a:gdLst/>
              <a:ahLst/>
              <a:rect l="0" t="0" r="r" b="b"/>
              <a:pathLst>
                <a:path fill="none" w="689" h="746">
                  <a:moveTo>
                    <a:pt x="0" y="0"/>
                  </a:moveTo>
                  <a:lnTo>
                    <a:pt x="0" y="0"/>
                  </a:lnTo>
                  <a:cubicBezTo>
                    <a:pt x="0" y="131"/>
                    <a:pt x="32" y="260"/>
                    <a:pt x="92" y="373"/>
                  </a:cubicBezTo>
                  <a:cubicBezTo>
                    <a:pt x="153" y="486"/>
                    <a:pt x="240" y="581"/>
                    <a:pt x="345" y="646"/>
                  </a:cubicBezTo>
                  <a:cubicBezTo>
                    <a:pt x="449" y="712"/>
                    <a:pt x="568" y="746"/>
                    <a:pt x="689" y="746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56440" y="803160"/>
              <a:ext cx="244800" cy="220320"/>
            </a:xfrm>
            <a:custGeom>
              <a:avLst/>
              <a:gdLst/>
              <a:ahLst/>
              <a:rect l="0" t="0" r="r" b="b"/>
              <a:pathLst>
                <a:path fill="none" w="680" h="612">
                  <a:moveTo>
                    <a:pt x="680" y="0"/>
                  </a:moveTo>
                  <a:lnTo>
                    <a:pt x="680" y="0"/>
                  </a:lnTo>
                  <a:cubicBezTo>
                    <a:pt x="561" y="0"/>
                    <a:pt x="443" y="28"/>
                    <a:pt x="340" y="82"/>
                  </a:cubicBezTo>
                  <a:cubicBezTo>
                    <a:pt x="237" y="136"/>
                    <a:pt x="151" y="213"/>
                    <a:pt x="91" y="306"/>
                  </a:cubicBezTo>
                  <a:cubicBezTo>
                    <a:pt x="31" y="399"/>
                    <a:pt x="0" y="505"/>
                    <a:pt x="0" y="612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75680" y="532800"/>
              <a:ext cx="248040" cy="269640"/>
            </a:xfrm>
            <a:custGeom>
              <a:avLst/>
              <a:gdLst/>
              <a:ahLst/>
              <a:rect l="0" t="0" r="r" b="b"/>
              <a:pathLst>
                <a:path fill="none" w="689" h="749">
                  <a:moveTo>
                    <a:pt x="0" y="749"/>
                  </a:moveTo>
                  <a:lnTo>
                    <a:pt x="0" y="749"/>
                  </a:lnTo>
                  <a:cubicBezTo>
                    <a:pt x="121" y="749"/>
                    <a:pt x="240" y="714"/>
                    <a:pt x="345" y="649"/>
                  </a:cubicBezTo>
                  <a:cubicBezTo>
                    <a:pt x="449" y="583"/>
                    <a:pt x="536" y="488"/>
                    <a:pt x="597" y="374"/>
                  </a:cubicBezTo>
                  <a:cubicBezTo>
                    <a:pt x="657" y="261"/>
                    <a:pt x="689" y="131"/>
                    <a:pt x="689" y="0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73160" y="316080"/>
              <a:ext cx="245520" cy="220320"/>
            </a:xfrm>
            <a:custGeom>
              <a:avLst/>
              <a:gdLst/>
              <a:ahLst/>
              <a:rect l="0" t="0" r="r" b="b"/>
              <a:pathLst>
                <a:path fill="none" w="682" h="612">
                  <a:moveTo>
                    <a:pt x="682" y="612"/>
                  </a:moveTo>
                  <a:lnTo>
                    <a:pt x="682" y="612"/>
                  </a:lnTo>
                  <a:lnTo>
                    <a:pt x="682" y="612"/>
                  </a:lnTo>
                  <a:cubicBezTo>
                    <a:pt x="682" y="505"/>
                    <a:pt x="650" y="399"/>
                    <a:pt x="591" y="306"/>
                  </a:cubicBezTo>
                  <a:cubicBezTo>
                    <a:pt x="531" y="213"/>
                    <a:pt x="445" y="136"/>
                    <a:pt x="341" y="82"/>
                  </a:cubicBezTo>
                  <a:cubicBezTo>
                    <a:pt x="237" y="28"/>
                    <a:pt x="120" y="0"/>
                    <a:pt x="0" y="0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7947000" y="976320"/>
              <a:ext cx="700200" cy="14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ONTOLINGU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8300880" y="668160"/>
              <a:ext cx="2635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KI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8005680" y="642960"/>
              <a:ext cx="40464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KQM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24000" y="331920"/>
            <a:ext cx="1028880" cy="995400"/>
            <a:chOff x="324000" y="331920"/>
            <a:chExt cx="1028880" cy="995400"/>
          </a:xfrm>
        </p:grpSpPr>
        <p:sp>
          <p:nvSpPr>
            <p:cNvPr id="59" name=""/>
            <p:cNvSpPr/>
            <p:nvPr/>
          </p:nvSpPr>
          <p:spPr>
            <a:xfrm>
              <a:off x="324000" y="331920"/>
              <a:ext cx="1028880" cy="995400"/>
            </a:xfrm>
            <a:prstGeom prst="ellipse">
              <a:avLst/>
            </a:prstGeom>
            <a:solidFill>
              <a:srgbClr val="a2c1fe"/>
            </a:solidFill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1640" y="336600"/>
              <a:ext cx="813240" cy="803520"/>
            </a:xfrm>
            <a:custGeom>
              <a:avLst/>
              <a:gdLst/>
              <a:ahLst/>
              <a:rect l="0" t="0" r="r" b="b"/>
              <a:pathLst>
                <a:path w="2259" h="2232">
                  <a:moveTo>
                    <a:pt x="0" y="2232"/>
                  </a:moveTo>
                  <a:lnTo>
                    <a:pt x="2259" y="2232"/>
                  </a:lnTo>
                  <a:lnTo>
                    <a:pt x="1129" y="0"/>
                  </a:lnTo>
                  <a:lnTo>
                    <a:pt x="0" y="2232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5720" y="1047600"/>
              <a:ext cx="248040" cy="268560"/>
            </a:xfrm>
            <a:custGeom>
              <a:avLst/>
              <a:gdLst/>
              <a:ahLst/>
              <a:rect l="0" t="0" r="r" b="b"/>
              <a:pathLst>
                <a:path fill="none" w="689" h="746">
                  <a:moveTo>
                    <a:pt x="0" y="0"/>
                  </a:moveTo>
                  <a:lnTo>
                    <a:pt x="0" y="0"/>
                  </a:lnTo>
                  <a:cubicBezTo>
                    <a:pt x="0" y="131"/>
                    <a:pt x="32" y="260"/>
                    <a:pt x="92" y="373"/>
                  </a:cubicBezTo>
                  <a:cubicBezTo>
                    <a:pt x="153" y="486"/>
                    <a:pt x="240" y="581"/>
                    <a:pt x="345" y="646"/>
                  </a:cubicBezTo>
                  <a:cubicBezTo>
                    <a:pt x="449" y="712"/>
                    <a:pt x="568" y="746"/>
                    <a:pt x="689" y="746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8960" y="828720"/>
              <a:ext cx="244800" cy="220320"/>
            </a:xfrm>
            <a:custGeom>
              <a:avLst/>
              <a:gdLst/>
              <a:ahLst/>
              <a:rect l="0" t="0" r="r" b="b"/>
              <a:pathLst>
                <a:path fill="none" w="680" h="612">
                  <a:moveTo>
                    <a:pt x="680" y="0"/>
                  </a:moveTo>
                  <a:lnTo>
                    <a:pt x="680" y="0"/>
                  </a:lnTo>
                  <a:cubicBezTo>
                    <a:pt x="561" y="0"/>
                    <a:pt x="443" y="28"/>
                    <a:pt x="340" y="82"/>
                  </a:cubicBezTo>
                  <a:cubicBezTo>
                    <a:pt x="237" y="136"/>
                    <a:pt x="151" y="213"/>
                    <a:pt x="91" y="306"/>
                  </a:cubicBezTo>
                  <a:cubicBezTo>
                    <a:pt x="31" y="399"/>
                    <a:pt x="0" y="505"/>
                    <a:pt x="0" y="612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8200" y="558000"/>
              <a:ext cx="248040" cy="269640"/>
            </a:xfrm>
            <a:custGeom>
              <a:avLst/>
              <a:gdLst/>
              <a:ahLst/>
              <a:rect l="0" t="0" r="r" b="b"/>
              <a:pathLst>
                <a:path fill="none" w="689" h="749">
                  <a:moveTo>
                    <a:pt x="0" y="749"/>
                  </a:moveTo>
                  <a:lnTo>
                    <a:pt x="0" y="749"/>
                  </a:lnTo>
                  <a:cubicBezTo>
                    <a:pt x="121" y="749"/>
                    <a:pt x="240" y="714"/>
                    <a:pt x="345" y="649"/>
                  </a:cubicBezTo>
                  <a:cubicBezTo>
                    <a:pt x="449" y="583"/>
                    <a:pt x="536" y="488"/>
                    <a:pt x="597" y="374"/>
                  </a:cubicBezTo>
                  <a:cubicBezTo>
                    <a:pt x="657" y="261"/>
                    <a:pt x="689" y="131"/>
                    <a:pt x="689" y="0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5680" y="341280"/>
              <a:ext cx="245520" cy="220320"/>
            </a:xfrm>
            <a:custGeom>
              <a:avLst/>
              <a:gdLst/>
              <a:ahLst/>
              <a:rect l="0" t="0" r="r" b="b"/>
              <a:pathLst>
                <a:path fill="none" w="682" h="612">
                  <a:moveTo>
                    <a:pt x="682" y="612"/>
                  </a:moveTo>
                  <a:lnTo>
                    <a:pt x="682" y="612"/>
                  </a:lnTo>
                  <a:lnTo>
                    <a:pt x="682" y="612"/>
                  </a:lnTo>
                  <a:cubicBezTo>
                    <a:pt x="682" y="505"/>
                    <a:pt x="650" y="399"/>
                    <a:pt x="591" y="306"/>
                  </a:cubicBezTo>
                  <a:cubicBezTo>
                    <a:pt x="531" y="213"/>
                    <a:pt x="445" y="136"/>
                    <a:pt x="341" y="82"/>
                  </a:cubicBezTo>
                  <a:cubicBezTo>
                    <a:pt x="237" y="28"/>
                    <a:pt x="120" y="0"/>
                    <a:pt x="0" y="0"/>
                  </a:cubicBezTo>
                </a:path>
              </a:pathLst>
            </a:custGeom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79520" y="1001880"/>
              <a:ext cx="700200" cy="14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ONTOLINGU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833400" y="693720"/>
              <a:ext cx="26352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KI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538200" y="668160"/>
              <a:ext cx="404640" cy="163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KQM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08200" y="411120"/>
            <a:ext cx="75279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nformation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43160" y="1554120"/>
            <a:ext cx="7194240" cy="3749760"/>
            <a:chOff x="1343160" y="1554120"/>
            <a:chExt cx="7194240" cy="3749760"/>
          </a:xfrm>
        </p:grpSpPr>
        <p:sp>
          <p:nvSpPr>
            <p:cNvPr id="259" name=""/>
            <p:cNvSpPr/>
            <p:nvPr/>
          </p:nvSpPr>
          <p:spPr>
            <a:xfrm>
              <a:off x="1579680" y="294156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80280" y="2941560"/>
              <a:ext cx="1143000" cy="762120"/>
            </a:xfrm>
            <a:prstGeom prst="roundRect">
              <a:avLst/>
            </a:prstGeom>
            <a:solidFill>
              <a:srgbClr val="fc0128"/>
            </a:solidFill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792440" y="284328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593040" y="2865600"/>
              <a:ext cx="6415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343160" y="1554120"/>
              <a:ext cx="225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ndby(ask(P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747880" y="2408400"/>
              <a:ext cx="3657960" cy="686160"/>
              <a:chOff x="2747880" y="2408400"/>
              <a:chExt cx="3657960" cy="686160"/>
            </a:xfrm>
          </p:grpSpPr>
          <p:sp>
            <p:nvSpPr>
              <p:cNvPr id="265" name=""/>
              <p:cNvSpPr/>
              <p:nvPr/>
            </p:nvSpPr>
            <p:spPr>
              <a:xfrm>
                <a:off x="4602240" y="2408400"/>
                <a:ext cx="1803600" cy="686160"/>
              </a:xfrm>
              <a:custGeom>
                <a:avLst/>
                <a:gdLst/>
                <a:ahLst/>
                <a:rect l="0" t="0" r="r" b="b"/>
                <a:pathLst>
                  <a:path fill="none" w="5010" h="1906">
                    <a:moveTo>
                      <a:pt x="5010" y="1906"/>
                    </a:moveTo>
                    <a:lnTo>
                      <a:pt x="5010" y="1906"/>
                    </a:lnTo>
                    <a:lnTo>
                      <a:pt x="5010" y="1906"/>
                    </a:lnTo>
                    <a:cubicBezTo>
                      <a:pt x="5010" y="1571"/>
                      <a:pt x="4779" y="1243"/>
                      <a:pt x="4339" y="953"/>
                    </a:cubicBezTo>
                    <a:cubicBezTo>
                      <a:pt x="3899" y="663"/>
                      <a:pt x="3267" y="423"/>
                      <a:pt x="2505" y="255"/>
                    </a:cubicBezTo>
                    <a:cubicBezTo>
                      <a:pt x="1743" y="88"/>
                      <a:pt x="879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7880" y="2408400"/>
                <a:ext cx="1854720" cy="686160"/>
              </a:xfrm>
              <a:custGeom>
                <a:avLst/>
                <a:gdLst/>
                <a:ahLst/>
                <a:rect l="0" t="0" r="r" b="b"/>
                <a:pathLst>
                  <a:path fill="none" w="5152" h="1906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88"/>
                      <a:pt x="2576" y="255"/>
                    </a:cubicBezTo>
                    <a:cubicBezTo>
                      <a:pt x="1793" y="423"/>
                      <a:pt x="1142" y="663"/>
                      <a:pt x="690" y="953"/>
                    </a:cubicBezTo>
                    <a:cubicBezTo>
                      <a:pt x="238" y="1243"/>
                      <a:pt x="0" y="1571"/>
                      <a:pt x="0" y="1906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47880" y="2027160"/>
              <a:ext cx="3657960" cy="991080"/>
              <a:chOff x="2747880" y="2027160"/>
              <a:chExt cx="3657960" cy="991080"/>
            </a:xfrm>
          </p:grpSpPr>
          <p:sp>
            <p:nvSpPr>
              <p:cNvPr id="268" name=""/>
              <p:cNvSpPr/>
              <p:nvPr/>
            </p:nvSpPr>
            <p:spPr>
              <a:xfrm>
                <a:off x="4602240" y="2027160"/>
                <a:ext cx="1803600" cy="991080"/>
              </a:xfrm>
              <a:custGeom>
                <a:avLst/>
                <a:gdLst/>
                <a:ahLst/>
                <a:rect l="0" t="0" r="r" b="b"/>
                <a:pathLst>
                  <a:path fill="none" w="5010" h="2753">
                    <a:moveTo>
                      <a:pt x="5010" y="2753"/>
                    </a:moveTo>
                    <a:lnTo>
                      <a:pt x="5010" y="2753"/>
                    </a:lnTo>
                    <a:lnTo>
                      <a:pt x="5010" y="2753"/>
                    </a:lnTo>
                    <a:cubicBezTo>
                      <a:pt x="5010" y="2270"/>
                      <a:pt x="4779" y="1795"/>
                      <a:pt x="4339" y="1376"/>
                    </a:cubicBezTo>
                    <a:cubicBezTo>
                      <a:pt x="3899" y="958"/>
                      <a:pt x="3267" y="610"/>
                      <a:pt x="2505" y="369"/>
                    </a:cubicBezTo>
                    <a:cubicBezTo>
                      <a:pt x="1743" y="127"/>
                      <a:pt x="879" y="0"/>
                      <a:pt x="0" y="0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47880" y="2027160"/>
                <a:ext cx="1854720" cy="991080"/>
              </a:xfrm>
              <a:custGeom>
                <a:avLst/>
                <a:gdLst/>
                <a:ahLst/>
                <a:rect l="0" t="0" r="r" b="b"/>
                <a:pathLst>
                  <a:path fill="none" w="5152" h="2753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127"/>
                      <a:pt x="2576" y="369"/>
                    </a:cubicBezTo>
                    <a:cubicBezTo>
                      <a:pt x="1793" y="610"/>
                      <a:pt x="1142" y="958"/>
                      <a:pt x="690" y="1377"/>
                    </a:cubicBezTo>
                    <a:cubicBezTo>
                      <a:pt x="238" y="1795"/>
                      <a:pt x="0" y="2270"/>
                      <a:pt x="0" y="2753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747880" y="1671480"/>
              <a:ext cx="3657960" cy="1422720"/>
              <a:chOff x="2747880" y="1671480"/>
              <a:chExt cx="3657960" cy="1422720"/>
            </a:xfrm>
          </p:grpSpPr>
          <p:sp>
            <p:nvSpPr>
              <p:cNvPr id="271" name=""/>
              <p:cNvSpPr/>
              <p:nvPr/>
            </p:nvSpPr>
            <p:spPr>
              <a:xfrm>
                <a:off x="4602240" y="1671480"/>
                <a:ext cx="1803600" cy="1422720"/>
              </a:xfrm>
              <a:custGeom>
                <a:avLst/>
                <a:gdLst/>
                <a:ahLst/>
                <a:rect l="0" t="0" r="r" b="b"/>
                <a:pathLst>
                  <a:path fill="none" w="5010" h="3952">
                    <a:moveTo>
                      <a:pt x="5010" y="3952"/>
                    </a:moveTo>
                    <a:lnTo>
                      <a:pt x="5010" y="3952"/>
                    </a:lnTo>
                    <a:lnTo>
                      <a:pt x="5010" y="3952"/>
                    </a:lnTo>
                    <a:cubicBezTo>
                      <a:pt x="5010" y="3258"/>
                      <a:pt x="4779" y="2577"/>
                      <a:pt x="4339" y="1976"/>
                    </a:cubicBezTo>
                    <a:cubicBezTo>
                      <a:pt x="3899" y="1375"/>
                      <a:pt x="3267" y="876"/>
                      <a:pt x="2505" y="529"/>
                    </a:cubicBezTo>
                    <a:cubicBezTo>
                      <a:pt x="1743" y="183"/>
                      <a:pt x="879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47880" y="1671480"/>
                <a:ext cx="1854720" cy="1422720"/>
              </a:xfrm>
              <a:custGeom>
                <a:avLst/>
                <a:gdLst/>
                <a:ahLst/>
                <a:rect l="0" t="0" r="r" b="b"/>
                <a:pathLst>
                  <a:path fill="none" w="5152" h="3952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183"/>
                      <a:pt x="2576" y="529"/>
                    </a:cubicBezTo>
                    <a:cubicBezTo>
                      <a:pt x="1793" y="876"/>
                      <a:pt x="1142" y="1375"/>
                      <a:pt x="690" y="1976"/>
                    </a:cubicBezTo>
                    <a:cubicBezTo>
                      <a:pt x="238" y="2577"/>
                      <a:pt x="0" y="3258"/>
                      <a:pt x="0" y="3952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747880" y="2865600"/>
              <a:ext cx="3657960" cy="305280"/>
              <a:chOff x="2747880" y="2865600"/>
              <a:chExt cx="3657960" cy="305280"/>
            </a:xfrm>
          </p:grpSpPr>
          <p:sp>
            <p:nvSpPr>
              <p:cNvPr id="274" name=""/>
              <p:cNvSpPr/>
              <p:nvPr/>
            </p:nvSpPr>
            <p:spPr>
              <a:xfrm>
                <a:off x="4602240" y="2865600"/>
                <a:ext cx="1803600" cy="305280"/>
              </a:xfrm>
              <a:custGeom>
                <a:avLst/>
                <a:gdLst/>
                <a:ahLst/>
                <a:rect l="0" t="0" r="r" b="b"/>
                <a:pathLst>
                  <a:path fill="none" w="5010" h="848">
                    <a:moveTo>
                      <a:pt x="5010" y="848"/>
                    </a:moveTo>
                    <a:lnTo>
                      <a:pt x="5010" y="848"/>
                    </a:lnTo>
                    <a:lnTo>
                      <a:pt x="5010" y="848"/>
                    </a:lnTo>
                    <a:cubicBezTo>
                      <a:pt x="5010" y="699"/>
                      <a:pt x="4779" y="553"/>
                      <a:pt x="4339" y="424"/>
                    </a:cubicBezTo>
                    <a:cubicBezTo>
                      <a:pt x="3899" y="295"/>
                      <a:pt x="3267" y="188"/>
                      <a:pt x="2505" y="114"/>
                    </a:cubicBezTo>
                    <a:cubicBezTo>
                      <a:pt x="1743" y="39"/>
                      <a:pt x="879" y="0"/>
                      <a:pt x="0" y="0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7880" y="2865600"/>
                <a:ext cx="1854720" cy="305280"/>
              </a:xfrm>
              <a:custGeom>
                <a:avLst/>
                <a:gdLst/>
                <a:ahLst/>
                <a:rect l="0" t="0" r="r" b="b"/>
                <a:pathLst>
                  <a:path fill="none" w="5152" h="848">
                    <a:moveTo>
                      <a:pt x="5152" y="0"/>
                    </a:moveTo>
                    <a:lnTo>
                      <a:pt x="5152" y="0"/>
                    </a:lnTo>
                    <a:cubicBezTo>
                      <a:pt x="4248" y="0"/>
                      <a:pt x="3359" y="39"/>
                      <a:pt x="2576" y="114"/>
                    </a:cubicBezTo>
                    <a:cubicBezTo>
                      <a:pt x="1793" y="188"/>
                      <a:pt x="1142" y="295"/>
                      <a:pt x="690" y="424"/>
                    </a:cubicBezTo>
                    <a:cubicBezTo>
                      <a:pt x="238" y="553"/>
                      <a:pt x="0" y="699"/>
                      <a:pt x="0" y="848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 txBox="1"/>
            <p:nvPr/>
          </p:nvSpPr>
          <p:spPr>
            <a:xfrm>
              <a:off x="4849920" y="170640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re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476520" y="208764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780080" y="2484360"/>
              <a:ext cx="97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2722680" y="3551400"/>
              <a:ext cx="3657600" cy="609840"/>
              <a:chOff x="2722680" y="3551400"/>
              <a:chExt cx="3657600" cy="609840"/>
            </a:xfrm>
          </p:grpSpPr>
          <p:sp>
            <p:nvSpPr>
              <p:cNvPr id="280" name=""/>
              <p:cNvSpPr/>
              <p:nvPr/>
            </p:nvSpPr>
            <p:spPr>
              <a:xfrm>
                <a:off x="4576680" y="3551400"/>
                <a:ext cx="1803600" cy="609840"/>
              </a:xfrm>
              <a:custGeom>
                <a:avLst/>
                <a:gdLst/>
                <a:ahLst/>
                <a:rect l="0" t="0" r="r" b="b"/>
                <a:pathLst>
                  <a:path fill="none" w="5010" h="1694">
                    <a:moveTo>
                      <a:pt x="0" y="1694"/>
                    </a:moveTo>
                    <a:lnTo>
                      <a:pt x="0" y="1694"/>
                    </a:lnTo>
                    <a:cubicBezTo>
                      <a:pt x="879" y="1694"/>
                      <a:pt x="1743" y="1616"/>
                      <a:pt x="2505" y="1467"/>
                    </a:cubicBezTo>
                    <a:cubicBezTo>
                      <a:pt x="3267" y="1318"/>
                      <a:pt x="3899" y="1105"/>
                      <a:pt x="4339" y="847"/>
                    </a:cubicBezTo>
                    <a:cubicBezTo>
                      <a:pt x="4779" y="589"/>
                      <a:pt x="5010" y="297"/>
                      <a:pt x="501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22680" y="3551400"/>
                <a:ext cx="1854720" cy="609840"/>
              </a:xfrm>
              <a:custGeom>
                <a:avLst/>
                <a:gdLst/>
                <a:ahLst/>
                <a:rect l="0" t="0" r="r" b="b"/>
                <a:pathLst>
                  <a:path fill="none" w="5152" h="169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97"/>
                      <a:pt x="238" y="589"/>
                      <a:pt x="690" y="847"/>
                    </a:cubicBezTo>
                    <a:cubicBezTo>
                      <a:pt x="1142" y="1105"/>
                      <a:pt x="1793" y="1318"/>
                      <a:pt x="2576" y="1467"/>
                    </a:cubicBezTo>
                    <a:cubicBezTo>
                      <a:pt x="3359" y="1616"/>
                      <a:pt x="4248" y="1694"/>
                      <a:pt x="5152" y="1694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722680" y="3627360"/>
              <a:ext cx="3657600" cy="889200"/>
              <a:chOff x="2722680" y="3627360"/>
              <a:chExt cx="3657600" cy="889200"/>
            </a:xfrm>
          </p:grpSpPr>
          <p:sp>
            <p:nvSpPr>
              <p:cNvPr id="283" name=""/>
              <p:cNvSpPr/>
              <p:nvPr/>
            </p:nvSpPr>
            <p:spPr>
              <a:xfrm>
                <a:off x="4576680" y="3627360"/>
                <a:ext cx="1803600" cy="889200"/>
              </a:xfrm>
              <a:custGeom>
                <a:avLst/>
                <a:gdLst/>
                <a:ahLst/>
                <a:rect l="0" t="0" r="r" b="b"/>
                <a:pathLst>
                  <a:path fill="none" w="5010" h="2470">
                    <a:moveTo>
                      <a:pt x="0" y="2470"/>
                    </a:moveTo>
                    <a:lnTo>
                      <a:pt x="0" y="2470"/>
                    </a:lnTo>
                    <a:cubicBezTo>
                      <a:pt x="879" y="2470"/>
                      <a:pt x="1743" y="2356"/>
                      <a:pt x="2505" y="2139"/>
                    </a:cubicBezTo>
                    <a:cubicBezTo>
                      <a:pt x="3267" y="1922"/>
                      <a:pt x="3899" y="1610"/>
                      <a:pt x="4339" y="1235"/>
                    </a:cubicBezTo>
                    <a:cubicBezTo>
                      <a:pt x="4779" y="860"/>
                      <a:pt x="5010" y="434"/>
                      <a:pt x="5010" y="0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22680" y="3627360"/>
                <a:ext cx="1854720" cy="889200"/>
              </a:xfrm>
              <a:custGeom>
                <a:avLst/>
                <a:gdLst/>
                <a:ahLst/>
                <a:rect l="0" t="0" r="r" b="b"/>
                <a:pathLst>
                  <a:path fill="none" w="5152" h="2470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34"/>
                      <a:pt x="238" y="860"/>
                      <a:pt x="690" y="1235"/>
                    </a:cubicBezTo>
                    <a:cubicBezTo>
                      <a:pt x="1142" y="1610"/>
                      <a:pt x="1793" y="1922"/>
                      <a:pt x="2576" y="2139"/>
                    </a:cubicBezTo>
                    <a:cubicBezTo>
                      <a:pt x="3359" y="2356"/>
                      <a:pt x="4248" y="2470"/>
                      <a:pt x="5152" y="2470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722680" y="3551400"/>
              <a:ext cx="3657600" cy="1270440"/>
              <a:chOff x="2722680" y="3551400"/>
              <a:chExt cx="3657600" cy="1270440"/>
            </a:xfrm>
          </p:grpSpPr>
          <p:sp>
            <p:nvSpPr>
              <p:cNvPr id="286" name=""/>
              <p:cNvSpPr/>
              <p:nvPr/>
            </p:nvSpPr>
            <p:spPr>
              <a:xfrm>
                <a:off x="4576680" y="3551400"/>
                <a:ext cx="1803600" cy="1270440"/>
              </a:xfrm>
              <a:custGeom>
                <a:avLst/>
                <a:gdLst/>
                <a:ahLst/>
                <a:rect l="0" t="0" r="r" b="b"/>
                <a:pathLst>
                  <a:path fill="none" w="5010" h="3529">
                    <a:moveTo>
                      <a:pt x="0" y="3529"/>
                    </a:moveTo>
                    <a:lnTo>
                      <a:pt x="0" y="3529"/>
                    </a:lnTo>
                    <a:cubicBezTo>
                      <a:pt x="879" y="3529"/>
                      <a:pt x="1743" y="3366"/>
                      <a:pt x="2505" y="3056"/>
                    </a:cubicBezTo>
                    <a:cubicBezTo>
                      <a:pt x="3267" y="2746"/>
                      <a:pt x="3899" y="2301"/>
                      <a:pt x="4339" y="1765"/>
                    </a:cubicBezTo>
                    <a:cubicBezTo>
                      <a:pt x="4779" y="1228"/>
                      <a:pt x="5010" y="619"/>
                      <a:pt x="501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22680" y="3551400"/>
                <a:ext cx="1854720" cy="1270440"/>
              </a:xfrm>
              <a:custGeom>
                <a:avLst/>
                <a:gdLst/>
                <a:ahLst/>
                <a:rect l="0" t="0" r="r" b="b"/>
                <a:pathLst>
                  <a:path fill="none" w="5152" h="352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19"/>
                      <a:pt x="238" y="1228"/>
                      <a:pt x="690" y="1765"/>
                    </a:cubicBezTo>
                    <a:cubicBezTo>
                      <a:pt x="1142" y="2301"/>
                      <a:pt x="1793" y="2746"/>
                      <a:pt x="2576" y="3056"/>
                    </a:cubicBezTo>
                    <a:cubicBezTo>
                      <a:pt x="3359" y="3366"/>
                      <a:pt x="4248" y="3529"/>
                      <a:pt x="5152" y="3529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722680" y="3475080"/>
              <a:ext cx="3657600" cy="305280"/>
              <a:chOff x="2722680" y="3475080"/>
              <a:chExt cx="3657600" cy="305280"/>
            </a:xfrm>
          </p:grpSpPr>
          <p:sp>
            <p:nvSpPr>
              <p:cNvPr id="289" name=""/>
              <p:cNvSpPr/>
              <p:nvPr/>
            </p:nvSpPr>
            <p:spPr>
              <a:xfrm>
                <a:off x="4576680" y="3475080"/>
                <a:ext cx="1803600" cy="305280"/>
              </a:xfrm>
              <a:custGeom>
                <a:avLst/>
                <a:gdLst/>
                <a:ahLst/>
                <a:rect l="0" t="0" r="r" b="b"/>
                <a:pathLst>
                  <a:path fill="none" w="5010" h="848">
                    <a:moveTo>
                      <a:pt x="0" y="848"/>
                    </a:moveTo>
                    <a:lnTo>
                      <a:pt x="0" y="848"/>
                    </a:lnTo>
                    <a:cubicBezTo>
                      <a:pt x="879" y="848"/>
                      <a:pt x="1743" y="809"/>
                      <a:pt x="2505" y="734"/>
                    </a:cubicBezTo>
                    <a:cubicBezTo>
                      <a:pt x="3267" y="660"/>
                      <a:pt x="3899" y="553"/>
                      <a:pt x="4339" y="424"/>
                    </a:cubicBezTo>
                    <a:cubicBezTo>
                      <a:pt x="4779" y="295"/>
                      <a:pt x="5010" y="149"/>
                      <a:pt x="5010" y="0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722680" y="3475080"/>
                <a:ext cx="1854720" cy="305280"/>
              </a:xfrm>
              <a:custGeom>
                <a:avLst/>
                <a:gdLst/>
                <a:ahLst/>
                <a:rect l="0" t="0" r="r" b="b"/>
                <a:pathLst>
                  <a:path fill="none" w="5152" h="848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49"/>
                      <a:pt x="238" y="295"/>
                      <a:pt x="690" y="424"/>
                    </a:cubicBezTo>
                    <a:cubicBezTo>
                      <a:pt x="1142" y="553"/>
                      <a:pt x="1793" y="660"/>
                      <a:pt x="2576" y="734"/>
                    </a:cubicBezTo>
                    <a:cubicBezTo>
                      <a:pt x="3359" y="809"/>
                      <a:pt x="4248" y="848"/>
                      <a:pt x="5152" y="848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 txBox="1"/>
            <p:nvPr/>
          </p:nvSpPr>
          <p:spPr>
            <a:xfrm>
              <a:off x="3451320" y="4100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751280" y="3703680"/>
              <a:ext cx="97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827600" y="4237200"/>
              <a:ext cx="97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2722680" y="3322800"/>
              <a:ext cx="3657600" cy="76680"/>
              <a:chOff x="2722680" y="3322800"/>
              <a:chExt cx="3657600" cy="76680"/>
            </a:xfrm>
          </p:grpSpPr>
          <p:sp>
            <p:nvSpPr>
              <p:cNvPr id="295" name=""/>
              <p:cNvSpPr/>
              <p:nvPr/>
            </p:nvSpPr>
            <p:spPr>
              <a:xfrm>
                <a:off x="4576680" y="3322800"/>
                <a:ext cx="1803600" cy="76680"/>
              </a:xfrm>
              <a:custGeom>
                <a:avLst/>
                <a:gdLst/>
                <a:ahLst/>
                <a:rect l="0" t="0" r="r" b="b"/>
                <a:pathLst>
                  <a:path fill="none" w="5010" h="213">
                    <a:moveTo>
                      <a:pt x="0" y="213"/>
                    </a:moveTo>
                    <a:lnTo>
                      <a:pt x="0" y="213"/>
                    </a:lnTo>
                    <a:cubicBezTo>
                      <a:pt x="879" y="213"/>
                      <a:pt x="1743" y="203"/>
                      <a:pt x="2505" y="184"/>
                    </a:cubicBezTo>
                    <a:cubicBezTo>
                      <a:pt x="3267" y="166"/>
                      <a:pt x="3899" y="139"/>
                      <a:pt x="4339" y="107"/>
                    </a:cubicBezTo>
                    <a:cubicBezTo>
                      <a:pt x="4779" y="74"/>
                      <a:pt x="5010" y="37"/>
                      <a:pt x="501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22680" y="3322800"/>
                <a:ext cx="1854720" cy="76680"/>
              </a:xfrm>
              <a:custGeom>
                <a:avLst/>
                <a:gdLst/>
                <a:ahLst/>
                <a:rect l="0" t="0" r="r" b="b"/>
                <a:pathLst>
                  <a:path fill="none" w="5152" h="21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37"/>
                      <a:pt x="238" y="74"/>
                      <a:pt x="690" y="107"/>
                    </a:cubicBezTo>
                    <a:cubicBezTo>
                      <a:pt x="1142" y="139"/>
                      <a:pt x="1793" y="166"/>
                      <a:pt x="2576" y="184"/>
                    </a:cubicBezTo>
                    <a:cubicBezTo>
                      <a:pt x="3359" y="203"/>
                      <a:pt x="4248" y="213"/>
                      <a:pt x="5152" y="213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 txBox="1"/>
            <p:nvPr/>
          </p:nvSpPr>
          <p:spPr>
            <a:xfrm>
              <a:off x="3527280" y="28656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527280" y="463392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2641680" y="3780000"/>
              <a:ext cx="3657600" cy="1397520"/>
              <a:chOff x="2641680" y="3780000"/>
              <a:chExt cx="3657600" cy="1397520"/>
            </a:xfrm>
          </p:grpSpPr>
          <p:sp>
            <p:nvSpPr>
              <p:cNvPr id="300" name=""/>
              <p:cNvSpPr/>
              <p:nvPr/>
            </p:nvSpPr>
            <p:spPr>
              <a:xfrm>
                <a:off x="4495680" y="3780000"/>
                <a:ext cx="1803600" cy="1397520"/>
              </a:xfrm>
              <a:custGeom>
                <a:avLst/>
                <a:gdLst/>
                <a:ahLst/>
                <a:rect l="0" t="0" r="r" b="b"/>
                <a:pathLst>
                  <a:path fill="none" w="5010" h="3882">
                    <a:moveTo>
                      <a:pt x="0" y="3882"/>
                    </a:moveTo>
                    <a:lnTo>
                      <a:pt x="0" y="3882"/>
                    </a:lnTo>
                    <a:cubicBezTo>
                      <a:pt x="879" y="3882"/>
                      <a:pt x="1743" y="3703"/>
                      <a:pt x="2505" y="3362"/>
                    </a:cubicBezTo>
                    <a:cubicBezTo>
                      <a:pt x="3267" y="3021"/>
                      <a:pt x="3899" y="2531"/>
                      <a:pt x="4339" y="1941"/>
                    </a:cubicBezTo>
                    <a:cubicBezTo>
                      <a:pt x="4779" y="1351"/>
                      <a:pt x="5010" y="681"/>
                      <a:pt x="5010" y="0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41680" y="3780000"/>
                <a:ext cx="1854720" cy="1397520"/>
              </a:xfrm>
              <a:custGeom>
                <a:avLst/>
                <a:gdLst/>
                <a:ahLst/>
                <a:rect l="0" t="0" r="r" b="b"/>
                <a:pathLst>
                  <a:path fill="none" w="5152" h="3882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681"/>
                      <a:pt x="238" y="1351"/>
                      <a:pt x="690" y="1941"/>
                    </a:cubicBezTo>
                    <a:cubicBezTo>
                      <a:pt x="1142" y="2531"/>
                      <a:pt x="1793" y="3021"/>
                      <a:pt x="2576" y="3362"/>
                    </a:cubicBezTo>
                    <a:cubicBezTo>
                      <a:pt x="3359" y="3703"/>
                      <a:pt x="4248" y="3882"/>
                      <a:pt x="5152" y="3882"/>
                    </a:cubicBezTo>
                  </a:path>
                </a:pathLst>
              </a:custGeom>
              <a:ln w="12600">
                <a:solidFill>
                  <a:srgbClr val="fc0128"/>
                </a:solidFill>
                <a:round/>
                <a:head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 txBox="1"/>
            <p:nvPr/>
          </p:nvSpPr>
          <p:spPr>
            <a:xfrm>
              <a:off x="5308560" y="4846680"/>
              <a:ext cx="3228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tell(P),tell(P),tell(P),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 txBox="1"/>
          <p:nvPr/>
        </p:nvSpPr>
        <p:spPr>
          <a:xfrm>
            <a:off x="758880" y="5410080"/>
            <a:ext cx="76280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tandby,  ready,  next,  rest,  discard,  and generator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ti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reating and controlling information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768240" y="446040"/>
            <a:ext cx="76071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acilitation Services</a:t>
            </a:r>
            <a:br>
              <a:rPr sz="1800"/>
            </a:b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Brok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31120" y="2527200"/>
            <a:ext cx="1158840" cy="790560"/>
          </a:xfrm>
          <a:prstGeom prst="roundRect">
            <a:avLst/>
          </a:prstGeom>
          <a:solidFill>
            <a:srgbClr val="fc0128"/>
          </a:solidFill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035680" y="2209680"/>
            <a:ext cx="1537200" cy="317880"/>
            <a:chOff x="5035680" y="2209680"/>
            <a:chExt cx="1537200" cy="317880"/>
          </a:xfrm>
        </p:grpSpPr>
        <p:sp>
          <p:nvSpPr>
            <p:cNvPr id="307" name=""/>
            <p:cNvSpPr/>
            <p:nvPr/>
          </p:nvSpPr>
          <p:spPr>
            <a:xfrm>
              <a:off x="5814360" y="2209680"/>
              <a:ext cx="758520" cy="317880"/>
            </a:xfrm>
            <a:custGeom>
              <a:avLst/>
              <a:gdLst/>
              <a:ahLst/>
              <a:rect l="0" t="0" r="r" b="b"/>
              <a:pathLst>
                <a:path fill="none" w="2107" h="883">
                  <a:moveTo>
                    <a:pt x="2107" y="883"/>
                  </a:moveTo>
                  <a:lnTo>
                    <a:pt x="2107" y="883"/>
                  </a:lnTo>
                  <a:lnTo>
                    <a:pt x="2107" y="883"/>
                  </a:lnTo>
                  <a:cubicBezTo>
                    <a:pt x="2107" y="728"/>
                    <a:pt x="2010" y="576"/>
                    <a:pt x="1825" y="441"/>
                  </a:cubicBezTo>
                  <a:cubicBezTo>
                    <a:pt x="1640" y="307"/>
                    <a:pt x="1374" y="196"/>
                    <a:pt x="1053" y="118"/>
                  </a:cubicBezTo>
                  <a:cubicBezTo>
                    <a:pt x="733" y="41"/>
                    <a:pt x="370" y="0"/>
                    <a:pt x="0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35680" y="2209680"/>
              <a:ext cx="779040" cy="317880"/>
            </a:xfrm>
            <a:custGeom>
              <a:avLst/>
              <a:gdLst/>
              <a:ahLst/>
              <a:rect l="0" t="0" r="r" b="b"/>
              <a:pathLst>
                <a:path fill="none" w="2164" h="883">
                  <a:moveTo>
                    <a:pt x="2164" y="0"/>
                  </a:moveTo>
                  <a:lnTo>
                    <a:pt x="2164" y="0"/>
                  </a:lnTo>
                  <a:cubicBezTo>
                    <a:pt x="1784" y="0"/>
                    <a:pt x="1411" y="41"/>
                    <a:pt x="1082" y="118"/>
                  </a:cubicBezTo>
                  <a:cubicBezTo>
                    <a:pt x="753" y="196"/>
                    <a:pt x="480" y="307"/>
                    <a:pt x="290" y="442"/>
                  </a:cubicBezTo>
                  <a:cubicBezTo>
                    <a:pt x="100" y="576"/>
                    <a:pt x="0" y="728"/>
                    <a:pt x="0" y="883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917880" y="2489040"/>
            <a:ext cx="1143000" cy="762120"/>
          </a:xfrm>
          <a:prstGeom prst="round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22440" y="2235240"/>
            <a:ext cx="1535760" cy="368640"/>
            <a:chOff x="2422440" y="2235240"/>
            <a:chExt cx="1535760" cy="368640"/>
          </a:xfrm>
        </p:grpSpPr>
        <p:sp>
          <p:nvSpPr>
            <p:cNvPr id="311" name=""/>
            <p:cNvSpPr/>
            <p:nvPr/>
          </p:nvSpPr>
          <p:spPr>
            <a:xfrm>
              <a:off x="2422440" y="2235240"/>
              <a:ext cx="758520" cy="368640"/>
            </a:xfrm>
            <a:custGeom>
              <a:avLst/>
              <a:gdLst/>
              <a:ahLst/>
              <a:rect l="0" t="0" r="r" b="b"/>
              <a:pathLst>
                <a:path fill="none" w="2107" h="1024">
                  <a:moveTo>
                    <a:pt x="2107" y="0"/>
                  </a:moveTo>
                  <a:lnTo>
                    <a:pt x="2107" y="0"/>
                  </a:lnTo>
                  <a:cubicBezTo>
                    <a:pt x="1737" y="0"/>
                    <a:pt x="1374" y="47"/>
                    <a:pt x="1053" y="137"/>
                  </a:cubicBezTo>
                  <a:cubicBezTo>
                    <a:pt x="733" y="227"/>
                    <a:pt x="467" y="356"/>
                    <a:pt x="282" y="512"/>
                  </a:cubicBezTo>
                  <a:cubicBezTo>
                    <a:pt x="97" y="668"/>
                    <a:pt x="0" y="844"/>
                    <a:pt x="0" y="1024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79160" y="2235240"/>
              <a:ext cx="779040" cy="368640"/>
            </a:xfrm>
            <a:custGeom>
              <a:avLst/>
              <a:gdLst/>
              <a:ahLst/>
              <a:rect l="0" t="0" r="r" b="b"/>
              <a:pathLst>
                <a:path fill="none" w="2164" h="1024">
                  <a:moveTo>
                    <a:pt x="2164" y="1024"/>
                  </a:moveTo>
                  <a:lnTo>
                    <a:pt x="2164" y="1024"/>
                  </a:lnTo>
                  <a:lnTo>
                    <a:pt x="2164" y="1024"/>
                  </a:lnTo>
                  <a:cubicBezTo>
                    <a:pt x="2164" y="844"/>
                    <a:pt x="2064" y="668"/>
                    <a:pt x="1874" y="512"/>
                  </a:cubicBezTo>
                  <a:cubicBezTo>
                    <a:pt x="1684" y="356"/>
                    <a:pt x="1411" y="227"/>
                    <a:pt x="1082" y="137"/>
                  </a:cubicBezTo>
                  <a:cubicBezTo>
                    <a:pt x="753" y="47"/>
                    <a:pt x="380" y="0"/>
                    <a:pt x="0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 txBox="1"/>
          <p:nvPr/>
        </p:nvSpPr>
        <p:spPr>
          <a:xfrm>
            <a:off x="684864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492280" y="173664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438e00"/>
                </a:solidFill>
                <a:latin typeface="Times New Roman"/>
                <a:ea typeface="Times New Roman"/>
              </a:rPr>
              <a:t>broker(ask(P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16412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057640" y="1584360"/>
            <a:ext cx="240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vertise(ask(P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495520" y="3327480"/>
            <a:ext cx="1537200" cy="368640"/>
            <a:chOff x="2495520" y="3327480"/>
            <a:chExt cx="1537200" cy="368640"/>
          </a:xfrm>
        </p:grpSpPr>
        <p:sp>
          <p:nvSpPr>
            <p:cNvPr id="318" name=""/>
            <p:cNvSpPr/>
            <p:nvPr/>
          </p:nvSpPr>
          <p:spPr>
            <a:xfrm>
              <a:off x="2495520" y="3327480"/>
              <a:ext cx="758520" cy="368640"/>
            </a:xfrm>
            <a:custGeom>
              <a:avLst/>
              <a:gdLst/>
              <a:ahLst/>
              <a:rect l="0" t="0" r="r" b="b"/>
              <a:pathLst>
                <a:path fill="none" w="2107" h="1024">
                  <a:moveTo>
                    <a:pt x="0" y="0"/>
                  </a:moveTo>
                  <a:lnTo>
                    <a:pt x="0" y="0"/>
                  </a:lnTo>
                  <a:cubicBezTo>
                    <a:pt x="0" y="180"/>
                    <a:pt x="97" y="356"/>
                    <a:pt x="282" y="512"/>
                  </a:cubicBezTo>
                  <a:cubicBezTo>
                    <a:pt x="467" y="668"/>
                    <a:pt x="733" y="797"/>
                    <a:pt x="1054" y="887"/>
                  </a:cubicBezTo>
                  <a:cubicBezTo>
                    <a:pt x="1374" y="977"/>
                    <a:pt x="1737" y="1024"/>
                    <a:pt x="2107" y="1024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3680" y="3327480"/>
              <a:ext cx="779040" cy="368640"/>
            </a:xfrm>
            <a:custGeom>
              <a:avLst/>
              <a:gdLst/>
              <a:ahLst/>
              <a:rect l="0" t="0" r="r" b="b"/>
              <a:pathLst>
                <a:path fill="none" w="2164" h="1024">
                  <a:moveTo>
                    <a:pt x="0" y="1024"/>
                  </a:moveTo>
                  <a:lnTo>
                    <a:pt x="0" y="1024"/>
                  </a:lnTo>
                  <a:cubicBezTo>
                    <a:pt x="380" y="1024"/>
                    <a:pt x="753" y="977"/>
                    <a:pt x="1082" y="887"/>
                  </a:cubicBezTo>
                  <a:cubicBezTo>
                    <a:pt x="1411" y="797"/>
                    <a:pt x="1684" y="668"/>
                    <a:pt x="1874" y="512"/>
                  </a:cubicBezTo>
                  <a:cubicBezTo>
                    <a:pt x="2064" y="356"/>
                    <a:pt x="2164" y="180"/>
                    <a:pt x="2164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059440" y="3327480"/>
            <a:ext cx="1535400" cy="279720"/>
            <a:chOff x="5059440" y="3327480"/>
            <a:chExt cx="1535400" cy="279720"/>
          </a:xfrm>
        </p:grpSpPr>
        <p:sp>
          <p:nvSpPr>
            <p:cNvPr id="321" name=""/>
            <p:cNvSpPr/>
            <p:nvPr/>
          </p:nvSpPr>
          <p:spPr>
            <a:xfrm>
              <a:off x="5836320" y="3327480"/>
              <a:ext cx="758520" cy="279720"/>
            </a:xfrm>
            <a:custGeom>
              <a:avLst/>
              <a:gdLst/>
              <a:ahLst/>
              <a:rect l="0" t="0" r="r" b="b"/>
              <a:pathLst>
                <a:path fill="none" w="2107" h="777">
                  <a:moveTo>
                    <a:pt x="0" y="777"/>
                  </a:moveTo>
                  <a:lnTo>
                    <a:pt x="0" y="777"/>
                  </a:lnTo>
                  <a:cubicBezTo>
                    <a:pt x="370" y="777"/>
                    <a:pt x="733" y="741"/>
                    <a:pt x="1054" y="673"/>
                  </a:cubicBezTo>
                  <a:cubicBezTo>
                    <a:pt x="1374" y="605"/>
                    <a:pt x="1640" y="507"/>
                    <a:pt x="1825" y="388"/>
                  </a:cubicBezTo>
                  <a:cubicBezTo>
                    <a:pt x="2010" y="270"/>
                    <a:pt x="2107" y="136"/>
                    <a:pt x="2107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59440" y="3327480"/>
              <a:ext cx="779040" cy="279720"/>
            </a:xfrm>
            <a:custGeom>
              <a:avLst/>
              <a:gdLst/>
              <a:ahLst/>
              <a:rect l="0" t="0" r="r" b="b"/>
              <a:pathLst>
                <a:path fill="none" w="2164" h="777">
                  <a:moveTo>
                    <a:pt x="0" y="0"/>
                  </a:moveTo>
                  <a:lnTo>
                    <a:pt x="0" y="0"/>
                  </a:lnTo>
                  <a:cubicBezTo>
                    <a:pt x="0" y="136"/>
                    <a:pt x="100" y="270"/>
                    <a:pt x="290" y="389"/>
                  </a:cubicBezTo>
                  <a:cubicBezTo>
                    <a:pt x="480" y="507"/>
                    <a:pt x="753" y="605"/>
                    <a:pt x="1082" y="673"/>
                  </a:cubicBezTo>
                  <a:cubicBezTo>
                    <a:pt x="1411" y="741"/>
                    <a:pt x="1784" y="777"/>
                    <a:pt x="2164" y="777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5105520" y="292104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311800" y="252396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88120" y="369252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771640" y="376884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50896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(P)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quest for the receiver to find an agent that will accept performative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301760" y="2514600"/>
            <a:ext cx="1158840" cy="914400"/>
            <a:chOff x="1301760" y="2514600"/>
            <a:chExt cx="1158840" cy="914400"/>
          </a:xfrm>
        </p:grpSpPr>
        <p:sp>
          <p:nvSpPr>
            <p:cNvPr id="329" name=""/>
            <p:cNvSpPr/>
            <p:nvPr/>
          </p:nvSpPr>
          <p:spPr>
            <a:xfrm>
              <a:off x="1301760" y="2548080"/>
              <a:ext cx="1158840" cy="84780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1577880" y="251460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8240" y="446040"/>
            <a:ext cx="76071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acilitation Services</a:t>
            </a:r>
            <a:br>
              <a:rPr sz="1800"/>
            </a:b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Recr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31120" y="2527200"/>
            <a:ext cx="1158840" cy="790560"/>
          </a:xfrm>
          <a:prstGeom prst="roundRect">
            <a:avLst/>
          </a:prstGeom>
          <a:solidFill>
            <a:srgbClr val="fc0128"/>
          </a:solidFill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035680" y="2209680"/>
            <a:ext cx="1537200" cy="317880"/>
            <a:chOff x="5035680" y="2209680"/>
            <a:chExt cx="1537200" cy="317880"/>
          </a:xfrm>
        </p:grpSpPr>
        <p:sp>
          <p:nvSpPr>
            <p:cNvPr id="334" name=""/>
            <p:cNvSpPr/>
            <p:nvPr/>
          </p:nvSpPr>
          <p:spPr>
            <a:xfrm>
              <a:off x="5814360" y="2209680"/>
              <a:ext cx="758520" cy="317880"/>
            </a:xfrm>
            <a:custGeom>
              <a:avLst/>
              <a:gdLst/>
              <a:ahLst/>
              <a:rect l="0" t="0" r="r" b="b"/>
              <a:pathLst>
                <a:path fill="none" w="2107" h="883">
                  <a:moveTo>
                    <a:pt x="2107" y="883"/>
                  </a:moveTo>
                  <a:lnTo>
                    <a:pt x="2107" y="883"/>
                  </a:lnTo>
                  <a:lnTo>
                    <a:pt x="2107" y="883"/>
                  </a:lnTo>
                  <a:cubicBezTo>
                    <a:pt x="2107" y="728"/>
                    <a:pt x="2010" y="576"/>
                    <a:pt x="1825" y="441"/>
                  </a:cubicBezTo>
                  <a:cubicBezTo>
                    <a:pt x="1640" y="307"/>
                    <a:pt x="1374" y="196"/>
                    <a:pt x="1053" y="118"/>
                  </a:cubicBezTo>
                  <a:cubicBezTo>
                    <a:pt x="733" y="41"/>
                    <a:pt x="370" y="0"/>
                    <a:pt x="0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35680" y="2209680"/>
              <a:ext cx="779040" cy="317880"/>
            </a:xfrm>
            <a:custGeom>
              <a:avLst/>
              <a:gdLst/>
              <a:ahLst/>
              <a:rect l="0" t="0" r="r" b="b"/>
              <a:pathLst>
                <a:path fill="none" w="2164" h="883">
                  <a:moveTo>
                    <a:pt x="2164" y="0"/>
                  </a:moveTo>
                  <a:lnTo>
                    <a:pt x="2164" y="0"/>
                  </a:lnTo>
                  <a:cubicBezTo>
                    <a:pt x="1784" y="0"/>
                    <a:pt x="1411" y="41"/>
                    <a:pt x="1082" y="118"/>
                  </a:cubicBezTo>
                  <a:cubicBezTo>
                    <a:pt x="753" y="196"/>
                    <a:pt x="480" y="307"/>
                    <a:pt x="290" y="442"/>
                  </a:cubicBezTo>
                  <a:cubicBezTo>
                    <a:pt x="100" y="576"/>
                    <a:pt x="0" y="728"/>
                    <a:pt x="0" y="883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917880" y="2489040"/>
            <a:ext cx="1143000" cy="762120"/>
          </a:xfrm>
          <a:prstGeom prst="round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422440" y="2235240"/>
            <a:ext cx="1535760" cy="368640"/>
            <a:chOff x="2422440" y="2235240"/>
            <a:chExt cx="1535760" cy="368640"/>
          </a:xfrm>
        </p:grpSpPr>
        <p:sp>
          <p:nvSpPr>
            <p:cNvPr id="338" name=""/>
            <p:cNvSpPr/>
            <p:nvPr/>
          </p:nvSpPr>
          <p:spPr>
            <a:xfrm>
              <a:off x="2422440" y="2235240"/>
              <a:ext cx="758520" cy="368640"/>
            </a:xfrm>
            <a:custGeom>
              <a:avLst/>
              <a:gdLst/>
              <a:ahLst/>
              <a:rect l="0" t="0" r="r" b="b"/>
              <a:pathLst>
                <a:path fill="none" w="2107" h="1024">
                  <a:moveTo>
                    <a:pt x="2107" y="0"/>
                  </a:moveTo>
                  <a:lnTo>
                    <a:pt x="2107" y="0"/>
                  </a:lnTo>
                  <a:cubicBezTo>
                    <a:pt x="1737" y="0"/>
                    <a:pt x="1374" y="47"/>
                    <a:pt x="1053" y="137"/>
                  </a:cubicBezTo>
                  <a:cubicBezTo>
                    <a:pt x="733" y="227"/>
                    <a:pt x="467" y="356"/>
                    <a:pt x="282" y="512"/>
                  </a:cubicBezTo>
                  <a:cubicBezTo>
                    <a:pt x="97" y="668"/>
                    <a:pt x="0" y="844"/>
                    <a:pt x="0" y="1024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9160" y="2235240"/>
              <a:ext cx="779040" cy="368640"/>
            </a:xfrm>
            <a:custGeom>
              <a:avLst/>
              <a:gdLst/>
              <a:ahLst/>
              <a:rect l="0" t="0" r="r" b="b"/>
              <a:pathLst>
                <a:path fill="none" w="2164" h="1024">
                  <a:moveTo>
                    <a:pt x="2164" y="1024"/>
                  </a:moveTo>
                  <a:lnTo>
                    <a:pt x="2164" y="1024"/>
                  </a:lnTo>
                  <a:lnTo>
                    <a:pt x="2164" y="1024"/>
                  </a:lnTo>
                  <a:cubicBezTo>
                    <a:pt x="2164" y="844"/>
                    <a:pt x="2064" y="668"/>
                    <a:pt x="1874" y="512"/>
                  </a:cubicBezTo>
                  <a:cubicBezTo>
                    <a:pt x="1684" y="356"/>
                    <a:pt x="1411" y="227"/>
                    <a:pt x="1082" y="137"/>
                  </a:cubicBezTo>
                  <a:cubicBezTo>
                    <a:pt x="753" y="47"/>
                    <a:pt x="380" y="0"/>
                    <a:pt x="0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 txBox="1"/>
          <p:nvPr/>
        </p:nvSpPr>
        <p:spPr>
          <a:xfrm>
            <a:off x="684864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492280" y="1736640"/>
            <a:ext cx="2112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438e00"/>
                </a:solidFill>
                <a:latin typeface="Times New Roman"/>
                <a:ea typeface="Times New Roman"/>
              </a:rPr>
              <a:t>recruit(ask(P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16412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57640" y="1584360"/>
            <a:ext cx="2401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vertise(ask(P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49520" y="3429000"/>
            <a:ext cx="4046760" cy="686160"/>
            <a:chOff x="2549520" y="3429000"/>
            <a:chExt cx="4046760" cy="686160"/>
          </a:xfrm>
        </p:grpSpPr>
        <p:sp>
          <p:nvSpPr>
            <p:cNvPr id="345" name=""/>
            <p:cNvSpPr/>
            <p:nvPr/>
          </p:nvSpPr>
          <p:spPr>
            <a:xfrm>
              <a:off x="4596480" y="3429000"/>
              <a:ext cx="1999800" cy="686160"/>
            </a:xfrm>
            <a:custGeom>
              <a:avLst/>
              <a:gdLst/>
              <a:ahLst/>
              <a:rect l="0" t="0" r="r" b="b"/>
              <a:pathLst>
                <a:path fill="none" w="5555" h="1906">
                  <a:moveTo>
                    <a:pt x="0" y="1906"/>
                  </a:moveTo>
                  <a:lnTo>
                    <a:pt x="0" y="1906"/>
                  </a:lnTo>
                  <a:cubicBezTo>
                    <a:pt x="975" y="1906"/>
                    <a:pt x="1933" y="1818"/>
                    <a:pt x="2778" y="1651"/>
                  </a:cubicBezTo>
                  <a:cubicBezTo>
                    <a:pt x="3622" y="1483"/>
                    <a:pt x="4323" y="1243"/>
                    <a:pt x="4811" y="953"/>
                  </a:cubicBezTo>
                  <a:cubicBezTo>
                    <a:pt x="5298" y="663"/>
                    <a:pt x="5555" y="335"/>
                    <a:pt x="5555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9520" y="3429000"/>
              <a:ext cx="2054520" cy="686160"/>
            </a:xfrm>
            <a:custGeom>
              <a:avLst/>
              <a:gdLst/>
              <a:ahLst/>
              <a:rect l="0" t="0" r="r" b="b"/>
              <a:pathLst>
                <a:path fill="none" w="5707" h="1906">
                  <a:moveTo>
                    <a:pt x="0" y="0"/>
                  </a:moveTo>
                  <a:lnTo>
                    <a:pt x="0" y="0"/>
                  </a:lnTo>
                  <a:cubicBezTo>
                    <a:pt x="0" y="335"/>
                    <a:pt x="264" y="663"/>
                    <a:pt x="765" y="953"/>
                  </a:cubicBezTo>
                  <a:cubicBezTo>
                    <a:pt x="1265" y="1243"/>
                    <a:pt x="1986" y="1483"/>
                    <a:pt x="2854" y="1651"/>
                  </a:cubicBezTo>
                  <a:cubicBezTo>
                    <a:pt x="3721" y="1818"/>
                    <a:pt x="4705" y="1906"/>
                    <a:pt x="5707" y="1906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292104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311800" y="252396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083120" y="361620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50896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ruit(P)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quest for the receiver to find an agent that will accept performative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301760" y="2514600"/>
            <a:ext cx="1158840" cy="914400"/>
            <a:chOff x="1301760" y="2514600"/>
            <a:chExt cx="1158840" cy="914400"/>
          </a:xfrm>
        </p:grpSpPr>
        <p:sp>
          <p:nvSpPr>
            <p:cNvPr id="352" name=""/>
            <p:cNvSpPr/>
            <p:nvPr/>
          </p:nvSpPr>
          <p:spPr>
            <a:xfrm>
              <a:off x="1301760" y="2548080"/>
              <a:ext cx="1158840" cy="84780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1577880" y="251460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08200" y="289080"/>
            <a:ext cx="7527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acilitation Services</a:t>
            </a:r>
            <a:br>
              <a:rPr sz="1800"/>
            </a:b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Recomm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50896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(P)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equest for the receiver to find an agent that will accept performative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31120" y="2527200"/>
            <a:ext cx="1158840" cy="790560"/>
          </a:xfrm>
          <a:prstGeom prst="roundRect">
            <a:avLst/>
          </a:prstGeom>
          <a:solidFill>
            <a:srgbClr val="fc0128"/>
          </a:solidFill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35680" y="2209680"/>
            <a:ext cx="1537200" cy="317880"/>
            <a:chOff x="5035680" y="2209680"/>
            <a:chExt cx="1537200" cy="317880"/>
          </a:xfrm>
        </p:grpSpPr>
        <p:sp>
          <p:nvSpPr>
            <p:cNvPr id="358" name=""/>
            <p:cNvSpPr/>
            <p:nvPr/>
          </p:nvSpPr>
          <p:spPr>
            <a:xfrm>
              <a:off x="5814360" y="2209680"/>
              <a:ext cx="758520" cy="317880"/>
            </a:xfrm>
            <a:custGeom>
              <a:avLst/>
              <a:gdLst/>
              <a:ahLst/>
              <a:rect l="0" t="0" r="r" b="b"/>
              <a:pathLst>
                <a:path fill="none" w="2107" h="883">
                  <a:moveTo>
                    <a:pt x="2107" y="883"/>
                  </a:moveTo>
                  <a:lnTo>
                    <a:pt x="2107" y="883"/>
                  </a:lnTo>
                  <a:lnTo>
                    <a:pt x="2107" y="883"/>
                  </a:lnTo>
                  <a:cubicBezTo>
                    <a:pt x="2107" y="728"/>
                    <a:pt x="2010" y="576"/>
                    <a:pt x="1825" y="441"/>
                  </a:cubicBezTo>
                  <a:cubicBezTo>
                    <a:pt x="1640" y="307"/>
                    <a:pt x="1374" y="196"/>
                    <a:pt x="1053" y="118"/>
                  </a:cubicBezTo>
                  <a:cubicBezTo>
                    <a:pt x="733" y="41"/>
                    <a:pt x="370" y="0"/>
                    <a:pt x="0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35680" y="2209680"/>
              <a:ext cx="779040" cy="317880"/>
            </a:xfrm>
            <a:custGeom>
              <a:avLst/>
              <a:gdLst/>
              <a:ahLst/>
              <a:rect l="0" t="0" r="r" b="b"/>
              <a:pathLst>
                <a:path fill="none" w="2164" h="883">
                  <a:moveTo>
                    <a:pt x="2164" y="0"/>
                  </a:moveTo>
                  <a:lnTo>
                    <a:pt x="2164" y="0"/>
                  </a:lnTo>
                  <a:cubicBezTo>
                    <a:pt x="1784" y="0"/>
                    <a:pt x="1411" y="41"/>
                    <a:pt x="1082" y="118"/>
                  </a:cubicBezTo>
                  <a:cubicBezTo>
                    <a:pt x="753" y="196"/>
                    <a:pt x="480" y="307"/>
                    <a:pt x="290" y="442"/>
                  </a:cubicBezTo>
                  <a:cubicBezTo>
                    <a:pt x="100" y="576"/>
                    <a:pt x="0" y="728"/>
                    <a:pt x="0" y="883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917880" y="2489040"/>
            <a:ext cx="1143000" cy="762120"/>
          </a:xfrm>
          <a:prstGeom prst="round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422440" y="2235240"/>
            <a:ext cx="1535760" cy="368640"/>
            <a:chOff x="2422440" y="2235240"/>
            <a:chExt cx="1535760" cy="368640"/>
          </a:xfrm>
        </p:grpSpPr>
        <p:sp>
          <p:nvSpPr>
            <p:cNvPr id="362" name=""/>
            <p:cNvSpPr/>
            <p:nvPr/>
          </p:nvSpPr>
          <p:spPr>
            <a:xfrm>
              <a:off x="2422440" y="2235240"/>
              <a:ext cx="758520" cy="368640"/>
            </a:xfrm>
            <a:custGeom>
              <a:avLst/>
              <a:gdLst/>
              <a:ahLst/>
              <a:rect l="0" t="0" r="r" b="b"/>
              <a:pathLst>
                <a:path fill="none" w="2107" h="1024">
                  <a:moveTo>
                    <a:pt x="2107" y="0"/>
                  </a:moveTo>
                  <a:lnTo>
                    <a:pt x="2107" y="0"/>
                  </a:lnTo>
                  <a:cubicBezTo>
                    <a:pt x="1737" y="0"/>
                    <a:pt x="1374" y="47"/>
                    <a:pt x="1053" y="137"/>
                  </a:cubicBezTo>
                  <a:cubicBezTo>
                    <a:pt x="733" y="227"/>
                    <a:pt x="467" y="356"/>
                    <a:pt x="282" y="512"/>
                  </a:cubicBezTo>
                  <a:cubicBezTo>
                    <a:pt x="97" y="668"/>
                    <a:pt x="0" y="844"/>
                    <a:pt x="0" y="1024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79160" y="2235240"/>
              <a:ext cx="779040" cy="368640"/>
            </a:xfrm>
            <a:custGeom>
              <a:avLst/>
              <a:gdLst/>
              <a:ahLst/>
              <a:rect l="0" t="0" r="r" b="b"/>
              <a:pathLst>
                <a:path fill="none" w="2164" h="1024">
                  <a:moveTo>
                    <a:pt x="2164" y="1024"/>
                  </a:moveTo>
                  <a:lnTo>
                    <a:pt x="2164" y="1024"/>
                  </a:lnTo>
                  <a:lnTo>
                    <a:pt x="2164" y="1024"/>
                  </a:lnTo>
                  <a:cubicBezTo>
                    <a:pt x="2164" y="844"/>
                    <a:pt x="2064" y="668"/>
                    <a:pt x="1874" y="512"/>
                  </a:cubicBezTo>
                  <a:cubicBezTo>
                    <a:pt x="1684" y="356"/>
                    <a:pt x="1411" y="227"/>
                    <a:pt x="1082" y="137"/>
                  </a:cubicBezTo>
                  <a:cubicBezTo>
                    <a:pt x="753" y="47"/>
                    <a:pt x="380" y="0"/>
                    <a:pt x="0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 txBox="1"/>
          <p:nvPr/>
        </p:nvSpPr>
        <p:spPr>
          <a:xfrm>
            <a:off x="684864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577880" y="1736640"/>
            <a:ext cx="275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438e00"/>
                </a:solidFill>
                <a:latin typeface="Times New Roman"/>
                <a:ea typeface="Times New Roman"/>
              </a:rPr>
              <a:t>recommend(ask(P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164120" y="241308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057640" y="158436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v(ask(P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058840" y="3429000"/>
            <a:ext cx="5026320" cy="609840"/>
            <a:chOff x="2058840" y="3429000"/>
            <a:chExt cx="5026320" cy="609840"/>
          </a:xfrm>
        </p:grpSpPr>
        <p:sp>
          <p:nvSpPr>
            <p:cNvPr id="369" name=""/>
            <p:cNvSpPr/>
            <p:nvPr/>
          </p:nvSpPr>
          <p:spPr>
            <a:xfrm>
              <a:off x="2058840" y="3429000"/>
              <a:ext cx="2486520" cy="609840"/>
            </a:xfrm>
            <a:custGeom>
              <a:avLst/>
              <a:gdLst/>
              <a:ahLst/>
              <a:rect l="0" t="0" r="r" b="b"/>
              <a:pathLst>
                <a:path fill="none" w="6907" h="1694">
                  <a:moveTo>
                    <a:pt x="0" y="0"/>
                  </a:moveTo>
                  <a:lnTo>
                    <a:pt x="0" y="0"/>
                  </a:lnTo>
                  <a:cubicBezTo>
                    <a:pt x="0" y="297"/>
                    <a:pt x="319" y="589"/>
                    <a:pt x="925" y="847"/>
                  </a:cubicBezTo>
                  <a:cubicBezTo>
                    <a:pt x="1532" y="1105"/>
                    <a:pt x="2404" y="1318"/>
                    <a:pt x="3454" y="1467"/>
                  </a:cubicBezTo>
                  <a:cubicBezTo>
                    <a:pt x="4503" y="1616"/>
                    <a:pt x="5695" y="1694"/>
                    <a:pt x="6907" y="1694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0600" y="3429000"/>
              <a:ext cx="2554560" cy="609840"/>
            </a:xfrm>
            <a:custGeom>
              <a:avLst/>
              <a:gdLst/>
              <a:ahLst/>
              <a:rect l="0" t="0" r="r" b="b"/>
              <a:pathLst>
                <a:path fill="none" w="7096" h="1694">
                  <a:moveTo>
                    <a:pt x="0" y="1694"/>
                  </a:moveTo>
                  <a:lnTo>
                    <a:pt x="0" y="1694"/>
                  </a:lnTo>
                  <a:cubicBezTo>
                    <a:pt x="1246" y="1694"/>
                    <a:pt x="2469" y="1616"/>
                    <a:pt x="3548" y="1467"/>
                  </a:cubicBezTo>
                  <a:cubicBezTo>
                    <a:pt x="4627" y="1318"/>
                    <a:pt x="5523" y="1105"/>
                    <a:pt x="6145" y="847"/>
                  </a:cubicBezTo>
                  <a:cubicBezTo>
                    <a:pt x="6768" y="589"/>
                    <a:pt x="7096" y="297"/>
                    <a:pt x="7096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444680" y="3429000"/>
            <a:ext cx="6253200" cy="1219680"/>
            <a:chOff x="1444680" y="3429000"/>
            <a:chExt cx="6253200" cy="1219680"/>
          </a:xfrm>
        </p:grpSpPr>
        <p:sp>
          <p:nvSpPr>
            <p:cNvPr id="372" name=""/>
            <p:cNvSpPr/>
            <p:nvPr/>
          </p:nvSpPr>
          <p:spPr>
            <a:xfrm>
              <a:off x="4611600" y="3429000"/>
              <a:ext cx="3086280" cy="1219680"/>
            </a:xfrm>
            <a:custGeom>
              <a:avLst/>
              <a:gdLst/>
              <a:ahLst/>
              <a:rect l="0" t="0" r="r" b="b"/>
              <a:pathLst>
                <a:path fill="none" w="8573" h="3388">
                  <a:moveTo>
                    <a:pt x="0" y="3388"/>
                  </a:moveTo>
                  <a:lnTo>
                    <a:pt x="0" y="3388"/>
                  </a:lnTo>
                  <a:cubicBezTo>
                    <a:pt x="1505" y="3388"/>
                    <a:pt x="2983" y="3231"/>
                    <a:pt x="4287" y="2934"/>
                  </a:cubicBezTo>
                  <a:cubicBezTo>
                    <a:pt x="5590" y="2637"/>
                    <a:pt x="6672" y="2209"/>
                    <a:pt x="7424" y="1694"/>
                  </a:cubicBezTo>
                  <a:cubicBezTo>
                    <a:pt x="8177" y="1179"/>
                    <a:pt x="8573" y="595"/>
                    <a:pt x="8573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44680" y="3429000"/>
              <a:ext cx="3171240" cy="1219680"/>
            </a:xfrm>
            <a:custGeom>
              <a:avLst/>
              <a:gdLst/>
              <a:ahLst/>
              <a:rect l="0" t="0" r="r" b="b"/>
              <a:pathLst>
                <a:path fill="none" w="8809" h="3388">
                  <a:moveTo>
                    <a:pt x="0" y="0"/>
                  </a:moveTo>
                  <a:lnTo>
                    <a:pt x="0" y="0"/>
                  </a:lnTo>
                  <a:cubicBezTo>
                    <a:pt x="0" y="595"/>
                    <a:pt x="407" y="1179"/>
                    <a:pt x="1180" y="1694"/>
                  </a:cubicBezTo>
                  <a:cubicBezTo>
                    <a:pt x="1953" y="2209"/>
                    <a:pt x="3065" y="2637"/>
                    <a:pt x="4405" y="2934"/>
                  </a:cubicBezTo>
                  <a:cubicBezTo>
                    <a:pt x="5744" y="3231"/>
                    <a:pt x="7263" y="3388"/>
                    <a:pt x="8809" y="3388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 txBox="1"/>
          <p:nvPr/>
        </p:nvSpPr>
        <p:spPr>
          <a:xfrm>
            <a:off x="4083120" y="4149720"/>
            <a:ext cx="97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894280" y="380988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438e00"/>
                </a:solidFill>
                <a:latin typeface="Times New Roman"/>
                <a:ea typeface="Times New Roman"/>
              </a:rPr>
              <a:t>ask(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495520" y="3244680"/>
            <a:ext cx="1537200" cy="368640"/>
            <a:chOff x="2495520" y="3244680"/>
            <a:chExt cx="1537200" cy="368640"/>
          </a:xfrm>
        </p:grpSpPr>
        <p:sp>
          <p:nvSpPr>
            <p:cNvPr id="377" name=""/>
            <p:cNvSpPr/>
            <p:nvPr/>
          </p:nvSpPr>
          <p:spPr>
            <a:xfrm>
              <a:off x="2495520" y="3244680"/>
              <a:ext cx="758520" cy="368640"/>
            </a:xfrm>
            <a:custGeom>
              <a:avLst/>
              <a:gdLst/>
              <a:ahLst/>
              <a:rect l="0" t="0" r="r" b="b"/>
              <a:pathLst>
                <a:path fill="none" w="2107" h="1024">
                  <a:moveTo>
                    <a:pt x="0" y="0"/>
                  </a:moveTo>
                  <a:lnTo>
                    <a:pt x="0" y="0"/>
                  </a:lnTo>
                  <a:cubicBezTo>
                    <a:pt x="0" y="180"/>
                    <a:pt x="97" y="356"/>
                    <a:pt x="282" y="512"/>
                  </a:cubicBezTo>
                  <a:cubicBezTo>
                    <a:pt x="467" y="668"/>
                    <a:pt x="733" y="797"/>
                    <a:pt x="1054" y="887"/>
                  </a:cubicBezTo>
                  <a:cubicBezTo>
                    <a:pt x="1374" y="977"/>
                    <a:pt x="1737" y="1024"/>
                    <a:pt x="2107" y="1024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53680" y="3244680"/>
              <a:ext cx="779040" cy="368640"/>
            </a:xfrm>
            <a:custGeom>
              <a:avLst/>
              <a:gdLst/>
              <a:ahLst/>
              <a:rect l="0" t="0" r="r" b="b"/>
              <a:pathLst>
                <a:path fill="none" w="2164" h="1024">
                  <a:moveTo>
                    <a:pt x="0" y="1024"/>
                  </a:moveTo>
                  <a:lnTo>
                    <a:pt x="0" y="1024"/>
                  </a:lnTo>
                  <a:cubicBezTo>
                    <a:pt x="380" y="1024"/>
                    <a:pt x="753" y="977"/>
                    <a:pt x="1082" y="887"/>
                  </a:cubicBezTo>
                  <a:cubicBezTo>
                    <a:pt x="1411" y="797"/>
                    <a:pt x="1684" y="668"/>
                    <a:pt x="1874" y="512"/>
                  </a:cubicBezTo>
                  <a:cubicBezTo>
                    <a:pt x="2064" y="356"/>
                    <a:pt x="2164" y="180"/>
                    <a:pt x="2164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 txBox="1"/>
          <p:nvPr/>
        </p:nvSpPr>
        <p:spPr>
          <a:xfrm>
            <a:off x="3753000" y="3429000"/>
            <a:ext cx="238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wd(adv(ask(P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01760" y="2514600"/>
            <a:ext cx="1158840" cy="914400"/>
            <a:chOff x="1301760" y="2514600"/>
            <a:chExt cx="1158840" cy="914400"/>
          </a:xfrm>
        </p:grpSpPr>
        <p:sp>
          <p:nvSpPr>
            <p:cNvPr id="381" name=""/>
            <p:cNvSpPr/>
            <p:nvPr/>
          </p:nvSpPr>
          <p:spPr>
            <a:xfrm>
              <a:off x="1301760" y="2548080"/>
              <a:ext cx="1158840" cy="84780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1577880" y="251460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ame Spa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63520" y="4708440"/>
            <a:ext cx="3095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438e00"/>
                </a:solidFill>
                <a:latin typeface="Times New Roman"/>
                <a:ea typeface="Times New Roman"/>
              </a:rPr>
              <a:t>ask-one(register(B,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812960" y="3406680"/>
            <a:ext cx="679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613560" y="3543480"/>
            <a:ext cx="1158840" cy="790560"/>
          </a:xfrm>
          <a:prstGeom prst="roundRect">
            <a:avLst/>
          </a:prstGeom>
          <a:solidFill>
            <a:srgbClr val="fc0128"/>
          </a:solidFill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154480" y="4305240"/>
            <a:ext cx="1499040" cy="292320"/>
            <a:chOff x="5154480" y="4305240"/>
            <a:chExt cx="1499040" cy="292320"/>
          </a:xfrm>
        </p:grpSpPr>
        <p:sp>
          <p:nvSpPr>
            <p:cNvPr id="388" name=""/>
            <p:cNvSpPr/>
            <p:nvPr/>
          </p:nvSpPr>
          <p:spPr>
            <a:xfrm>
              <a:off x="5914080" y="4305240"/>
              <a:ext cx="739440" cy="292320"/>
            </a:xfrm>
            <a:custGeom>
              <a:avLst/>
              <a:gdLst/>
              <a:ahLst/>
              <a:rect l="0" t="0" r="r" b="b"/>
              <a:pathLst>
                <a:path fill="none" w="2054" h="812">
                  <a:moveTo>
                    <a:pt x="0" y="812"/>
                  </a:moveTo>
                  <a:lnTo>
                    <a:pt x="0" y="812"/>
                  </a:lnTo>
                  <a:cubicBezTo>
                    <a:pt x="361" y="812"/>
                    <a:pt x="715" y="774"/>
                    <a:pt x="1027" y="703"/>
                  </a:cubicBezTo>
                  <a:cubicBezTo>
                    <a:pt x="1339" y="632"/>
                    <a:pt x="1599" y="529"/>
                    <a:pt x="1779" y="406"/>
                  </a:cubicBezTo>
                  <a:cubicBezTo>
                    <a:pt x="1959" y="283"/>
                    <a:pt x="2054" y="143"/>
                    <a:pt x="2054" y="0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54480" y="4305240"/>
              <a:ext cx="759960" cy="292320"/>
            </a:xfrm>
            <a:custGeom>
              <a:avLst/>
              <a:gdLst/>
              <a:ahLst/>
              <a:rect l="0" t="0" r="r" b="b"/>
              <a:pathLst>
                <a:path fill="none" w="2111" h="812">
                  <a:moveTo>
                    <a:pt x="0" y="0"/>
                  </a:moveTo>
                  <a:lnTo>
                    <a:pt x="0" y="0"/>
                  </a:lnTo>
                  <a:cubicBezTo>
                    <a:pt x="0" y="143"/>
                    <a:pt x="98" y="283"/>
                    <a:pt x="283" y="406"/>
                  </a:cubicBezTo>
                  <a:cubicBezTo>
                    <a:pt x="468" y="529"/>
                    <a:pt x="735" y="632"/>
                    <a:pt x="1056" y="703"/>
                  </a:cubicBezTo>
                  <a:cubicBezTo>
                    <a:pt x="1376" y="774"/>
                    <a:pt x="1740" y="812"/>
                    <a:pt x="2111" y="812"/>
                  </a:cubicBezTo>
                </a:path>
              </a:pathLst>
            </a:custGeom>
            <a:ln w="38160">
              <a:solidFill>
                <a:srgbClr val="fc0128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 txBox="1"/>
          <p:nvPr/>
        </p:nvSpPr>
        <p:spPr>
          <a:xfrm>
            <a:off x="6832440" y="346716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000680" y="3505320"/>
            <a:ext cx="1143000" cy="762120"/>
            <a:chOff x="4000680" y="3505320"/>
            <a:chExt cx="1143000" cy="762120"/>
          </a:xfrm>
        </p:grpSpPr>
        <p:sp>
          <p:nvSpPr>
            <p:cNvPr id="392" name=""/>
            <p:cNvSpPr/>
            <p:nvPr/>
          </p:nvSpPr>
          <p:spPr>
            <a:xfrm>
              <a:off x="4000680" y="350532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4022640" y="3672000"/>
              <a:ext cx="10731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S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384200" y="3562200"/>
            <a:ext cx="1158840" cy="847800"/>
          </a:xfrm>
          <a:prstGeom prst="roundRect">
            <a:avLst/>
          </a:prstGeom>
          <a:solidFill>
            <a:srgbClr val="438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500200" y="4324320"/>
            <a:ext cx="1500840" cy="424080"/>
            <a:chOff x="2500200" y="4324320"/>
            <a:chExt cx="1500840" cy="424080"/>
          </a:xfrm>
        </p:grpSpPr>
        <p:sp>
          <p:nvSpPr>
            <p:cNvPr id="396" name=""/>
            <p:cNvSpPr/>
            <p:nvPr/>
          </p:nvSpPr>
          <p:spPr>
            <a:xfrm>
              <a:off x="2500200" y="4324320"/>
              <a:ext cx="739440" cy="424080"/>
            </a:xfrm>
            <a:custGeom>
              <a:avLst/>
              <a:gdLst/>
              <a:ahLst/>
              <a:rect l="0" t="0" r="r" b="b"/>
              <a:pathLst>
                <a:path fill="none" w="2054" h="1178">
                  <a:moveTo>
                    <a:pt x="0" y="0"/>
                  </a:moveTo>
                  <a:lnTo>
                    <a:pt x="0" y="0"/>
                  </a:lnTo>
                  <a:cubicBezTo>
                    <a:pt x="0" y="207"/>
                    <a:pt x="95" y="410"/>
                    <a:pt x="275" y="589"/>
                  </a:cubicBezTo>
                  <a:cubicBezTo>
                    <a:pt x="455" y="768"/>
                    <a:pt x="715" y="917"/>
                    <a:pt x="1027" y="1020"/>
                  </a:cubicBezTo>
                  <a:cubicBezTo>
                    <a:pt x="1339" y="1124"/>
                    <a:pt x="1693" y="1178"/>
                    <a:pt x="2054" y="1178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41080" y="4324320"/>
              <a:ext cx="759960" cy="424080"/>
            </a:xfrm>
            <a:custGeom>
              <a:avLst/>
              <a:gdLst/>
              <a:ahLst/>
              <a:rect l="0" t="0" r="r" b="b"/>
              <a:pathLst>
                <a:path fill="none" w="2111" h="1178">
                  <a:moveTo>
                    <a:pt x="0" y="1178"/>
                  </a:moveTo>
                  <a:lnTo>
                    <a:pt x="0" y="1178"/>
                  </a:lnTo>
                  <a:cubicBezTo>
                    <a:pt x="371" y="1178"/>
                    <a:pt x="735" y="1124"/>
                    <a:pt x="1056" y="1020"/>
                  </a:cubicBezTo>
                  <a:cubicBezTo>
                    <a:pt x="1376" y="917"/>
                    <a:pt x="1643" y="768"/>
                    <a:pt x="1828" y="589"/>
                  </a:cubicBezTo>
                  <a:cubicBezTo>
                    <a:pt x="2013" y="410"/>
                    <a:pt x="2111" y="207"/>
                    <a:pt x="2111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505240" y="3238560"/>
            <a:ext cx="1535400" cy="381240"/>
            <a:chOff x="2505240" y="3238560"/>
            <a:chExt cx="1535400" cy="381240"/>
          </a:xfrm>
        </p:grpSpPr>
        <p:sp>
          <p:nvSpPr>
            <p:cNvPr id="399" name=""/>
            <p:cNvSpPr/>
            <p:nvPr/>
          </p:nvSpPr>
          <p:spPr>
            <a:xfrm>
              <a:off x="2505240" y="3238560"/>
              <a:ext cx="758520" cy="381240"/>
            </a:xfrm>
            <a:custGeom>
              <a:avLst/>
              <a:gdLst/>
              <a:ahLst/>
              <a:rect l="0" t="0" r="r" b="b"/>
              <a:pathLst>
                <a:path fill="none" w="2107" h="1059">
                  <a:moveTo>
                    <a:pt x="2107" y="0"/>
                  </a:moveTo>
                  <a:lnTo>
                    <a:pt x="2107" y="0"/>
                  </a:lnTo>
                  <a:cubicBezTo>
                    <a:pt x="1737" y="0"/>
                    <a:pt x="1374" y="49"/>
                    <a:pt x="1053" y="142"/>
                  </a:cubicBezTo>
                  <a:cubicBezTo>
                    <a:pt x="733" y="235"/>
                    <a:pt x="467" y="369"/>
                    <a:pt x="282" y="530"/>
                  </a:cubicBezTo>
                  <a:cubicBezTo>
                    <a:pt x="97" y="690"/>
                    <a:pt x="0" y="873"/>
                    <a:pt x="0" y="1059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1600" y="3238560"/>
              <a:ext cx="779040" cy="381240"/>
            </a:xfrm>
            <a:custGeom>
              <a:avLst/>
              <a:gdLst/>
              <a:ahLst/>
              <a:rect l="0" t="0" r="r" b="b"/>
              <a:pathLst>
                <a:path fill="none" w="2164" h="1059">
                  <a:moveTo>
                    <a:pt x="2164" y="1059"/>
                  </a:moveTo>
                  <a:lnTo>
                    <a:pt x="2164" y="1059"/>
                  </a:lnTo>
                  <a:lnTo>
                    <a:pt x="2164" y="1059"/>
                  </a:lnTo>
                  <a:cubicBezTo>
                    <a:pt x="2164" y="873"/>
                    <a:pt x="2064" y="690"/>
                    <a:pt x="1874" y="529"/>
                  </a:cubicBezTo>
                  <a:cubicBezTo>
                    <a:pt x="1684" y="369"/>
                    <a:pt x="1411" y="235"/>
                    <a:pt x="1082" y="142"/>
                  </a:cubicBezTo>
                  <a:cubicBezTo>
                    <a:pt x="753" y="49"/>
                    <a:pt x="380" y="0"/>
                    <a:pt x="0" y="0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 txBox="1"/>
          <p:nvPr/>
        </p:nvSpPr>
        <p:spPr>
          <a:xfrm>
            <a:off x="1673280" y="3478320"/>
            <a:ext cx="650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232680" y="4581360"/>
            <a:ext cx="189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egister(B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42880" y="2971800"/>
            <a:ext cx="2579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(register(B,,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00680" y="1371600"/>
            <a:ext cx="1143000" cy="762120"/>
          </a:xfrm>
          <a:prstGeom prst="roundRect">
            <a:avLst/>
          </a:prstGeom>
          <a:solidFill>
            <a:srgbClr val="7b00e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035600" y="1538280"/>
            <a:ext cx="107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267080" y="2209680"/>
            <a:ext cx="0" cy="1219320"/>
          </a:xfrm>
          <a:prstGeom prst="line">
            <a:avLst/>
          </a:prstGeom>
          <a:ln w="38160">
            <a:solidFill>
              <a:srgbClr val="7b00e4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22096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861080" y="2270160"/>
            <a:ext cx="3112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one(register(D,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762200" y="2295360"/>
            <a:ext cx="2595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7b00e4"/>
                </a:solidFill>
                <a:latin typeface="Times New Roman"/>
                <a:ea typeface="Times New Roman"/>
              </a:rPr>
              <a:t>tell(register(D,,..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0480" y="5410080"/>
            <a:ext cx="9023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gis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tives allow agent name servers to provide name space manage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768240" y="803160"/>
            <a:ext cx="76071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apability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873000" y="1714680"/>
            <a:ext cx="7380360" cy="3428640"/>
            <a:chOff x="873000" y="1714680"/>
            <a:chExt cx="7380360" cy="3428640"/>
          </a:xfrm>
        </p:grpSpPr>
        <p:sp>
          <p:nvSpPr>
            <p:cNvPr id="413" name=""/>
            <p:cNvSpPr txBox="1"/>
            <p:nvPr/>
          </p:nvSpPr>
          <p:spPr>
            <a:xfrm>
              <a:off x="1940040" y="3079800"/>
              <a:ext cx="6793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40640" y="3216240"/>
              <a:ext cx="1158840" cy="790560"/>
            </a:xfrm>
            <a:prstGeom prst="roundRect">
              <a:avLst/>
            </a:prstGeom>
            <a:solidFill>
              <a:srgbClr val="fc0128"/>
            </a:solidFill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5003640" y="2314440"/>
              <a:ext cx="1781640" cy="787680"/>
              <a:chOff x="5003640" y="2314440"/>
              <a:chExt cx="1781640" cy="787680"/>
            </a:xfrm>
          </p:grpSpPr>
          <p:sp>
            <p:nvSpPr>
              <p:cNvPr id="416" name=""/>
              <p:cNvSpPr/>
              <p:nvPr/>
            </p:nvSpPr>
            <p:spPr>
              <a:xfrm>
                <a:off x="5907960" y="2314440"/>
                <a:ext cx="877320" cy="787680"/>
              </a:xfrm>
              <a:custGeom>
                <a:avLst/>
                <a:gdLst/>
                <a:ahLst/>
                <a:rect l="0" t="0" r="r" b="b"/>
                <a:pathLst>
                  <a:path fill="none" w="2437" h="2188">
                    <a:moveTo>
                      <a:pt x="2437" y="2188"/>
                    </a:moveTo>
                    <a:lnTo>
                      <a:pt x="2437" y="2188"/>
                    </a:lnTo>
                    <a:lnTo>
                      <a:pt x="2437" y="2188"/>
                    </a:lnTo>
                    <a:cubicBezTo>
                      <a:pt x="2437" y="1804"/>
                      <a:pt x="2324" y="1427"/>
                      <a:pt x="2111" y="1094"/>
                    </a:cubicBezTo>
                    <a:cubicBezTo>
                      <a:pt x="1897" y="761"/>
                      <a:pt x="1589" y="485"/>
                      <a:pt x="1218" y="293"/>
                    </a:cubicBezTo>
                    <a:cubicBezTo>
                      <a:pt x="848" y="101"/>
                      <a:pt x="428" y="0"/>
                      <a:pt x="0" y="0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3640" y="2314440"/>
                <a:ext cx="902160" cy="787680"/>
              </a:xfrm>
              <a:custGeom>
                <a:avLst/>
                <a:gdLst/>
                <a:ahLst/>
                <a:rect l="0" t="0" r="r" b="b"/>
                <a:pathLst>
                  <a:path fill="none" w="2506" h="2188">
                    <a:moveTo>
                      <a:pt x="2506" y="0"/>
                    </a:moveTo>
                    <a:lnTo>
                      <a:pt x="2506" y="0"/>
                    </a:lnTo>
                    <a:cubicBezTo>
                      <a:pt x="2066" y="0"/>
                      <a:pt x="1634" y="101"/>
                      <a:pt x="1253" y="293"/>
                    </a:cubicBezTo>
                    <a:cubicBezTo>
                      <a:pt x="872" y="485"/>
                      <a:pt x="556" y="761"/>
                      <a:pt x="336" y="1094"/>
                    </a:cubicBezTo>
                    <a:cubicBezTo>
                      <a:pt x="116" y="1427"/>
                      <a:pt x="0" y="1804"/>
                      <a:pt x="0" y="2188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 txBox="1"/>
            <p:nvPr/>
          </p:nvSpPr>
          <p:spPr>
            <a:xfrm>
              <a:off x="6959520" y="313992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127400" y="3178080"/>
              <a:ext cx="1143000" cy="762120"/>
              <a:chOff x="4127400" y="3178080"/>
              <a:chExt cx="1143000" cy="762120"/>
            </a:xfrm>
          </p:grpSpPr>
          <p:sp>
            <p:nvSpPr>
              <p:cNvPr id="420" name=""/>
              <p:cNvSpPr/>
              <p:nvPr/>
            </p:nvSpPr>
            <p:spPr>
              <a:xfrm>
                <a:off x="4127400" y="3178080"/>
                <a:ext cx="1143000" cy="762120"/>
              </a:xfrm>
              <a:prstGeom prst="round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>
                <a:off x="4149720" y="3344760"/>
                <a:ext cx="91440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A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511280" y="3235320"/>
              <a:ext cx="1158840" cy="847800"/>
            </a:xfrm>
            <a:prstGeom prst="roundRect">
              <a:avLst/>
            </a:prstGeom>
            <a:solidFill>
              <a:srgbClr val="7b00e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2628720" y="4016520"/>
              <a:ext cx="1688040" cy="913320"/>
              <a:chOff x="2628720" y="4016520"/>
              <a:chExt cx="1688040" cy="913320"/>
            </a:xfrm>
          </p:grpSpPr>
          <p:sp>
            <p:nvSpPr>
              <p:cNvPr id="424" name=""/>
              <p:cNvSpPr/>
              <p:nvPr/>
            </p:nvSpPr>
            <p:spPr>
              <a:xfrm>
                <a:off x="2628720" y="4016520"/>
                <a:ext cx="833040" cy="913320"/>
              </a:xfrm>
              <a:custGeom>
                <a:avLst/>
                <a:gdLst/>
                <a:ahLst/>
                <a:rect l="0" t="0" r="r" b="b"/>
                <a:pathLst>
                  <a:path fill="none" w="2314" h="2537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45"/>
                      <a:pt x="107" y="883"/>
                      <a:pt x="310" y="1269"/>
                    </a:cubicBezTo>
                    <a:cubicBezTo>
                      <a:pt x="513" y="1654"/>
                      <a:pt x="805" y="1974"/>
                      <a:pt x="1157" y="2197"/>
                    </a:cubicBezTo>
                    <a:cubicBezTo>
                      <a:pt x="1509" y="2420"/>
                      <a:pt x="1908" y="2537"/>
                      <a:pt x="2314" y="2537"/>
                    </a:cubicBezTo>
                  </a:path>
                </a:pathLst>
              </a:custGeom>
              <a:ln w="38160">
                <a:solidFill>
                  <a:srgbClr val="7b00e4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59960" y="4016520"/>
                <a:ext cx="856800" cy="913320"/>
              </a:xfrm>
              <a:custGeom>
                <a:avLst/>
                <a:gdLst/>
                <a:ahLst/>
                <a:rect l="0" t="0" r="r" b="b"/>
                <a:pathLst>
                  <a:path fill="none" w="2380" h="2537">
                    <a:moveTo>
                      <a:pt x="0" y="2537"/>
                    </a:moveTo>
                    <a:lnTo>
                      <a:pt x="0" y="2537"/>
                    </a:lnTo>
                    <a:cubicBezTo>
                      <a:pt x="418" y="2537"/>
                      <a:pt x="828" y="2420"/>
                      <a:pt x="1190" y="2197"/>
                    </a:cubicBezTo>
                    <a:cubicBezTo>
                      <a:pt x="1552" y="1974"/>
                      <a:pt x="1852" y="1654"/>
                      <a:pt x="2061" y="1268"/>
                    </a:cubicBezTo>
                    <a:cubicBezTo>
                      <a:pt x="2270" y="883"/>
                      <a:pt x="2380" y="445"/>
                      <a:pt x="2380" y="0"/>
                    </a:cubicBezTo>
                  </a:path>
                </a:pathLst>
              </a:custGeom>
              <a:ln w="38160">
                <a:solidFill>
                  <a:srgbClr val="7b00e4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631960" y="2720880"/>
              <a:ext cx="1535400" cy="572040"/>
              <a:chOff x="2631960" y="2720880"/>
              <a:chExt cx="1535400" cy="572040"/>
            </a:xfrm>
          </p:grpSpPr>
          <p:sp>
            <p:nvSpPr>
              <p:cNvPr id="427" name=""/>
              <p:cNvSpPr/>
              <p:nvPr/>
            </p:nvSpPr>
            <p:spPr>
              <a:xfrm>
                <a:off x="2631960" y="2720880"/>
                <a:ext cx="758520" cy="572040"/>
              </a:xfrm>
              <a:custGeom>
                <a:avLst/>
                <a:gdLst/>
                <a:ahLst/>
                <a:rect l="0" t="0" r="r" b="b"/>
                <a:pathLst>
                  <a:path fill="none" w="2107" h="1589"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1737" y="0"/>
                      <a:pt x="1374" y="73"/>
                      <a:pt x="1053" y="213"/>
                    </a:cubicBezTo>
                    <a:cubicBezTo>
                      <a:pt x="733" y="352"/>
                      <a:pt x="467" y="553"/>
                      <a:pt x="282" y="795"/>
                    </a:cubicBezTo>
                    <a:cubicBezTo>
                      <a:pt x="97" y="1036"/>
                      <a:pt x="0" y="1310"/>
                      <a:pt x="0" y="1589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388320" y="2720880"/>
                <a:ext cx="779040" cy="572040"/>
              </a:xfrm>
              <a:custGeom>
                <a:avLst/>
                <a:gdLst/>
                <a:ahLst/>
                <a:rect l="0" t="0" r="r" b="b"/>
                <a:pathLst>
                  <a:path fill="none" w="2164" h="1589">
                    <a:moveTo>
                      <a:pt x="2164" y="1589"/>
                    </a:moveTo>
                    <a:lnTo>
                      <a:pt x="2164" y="1589"/>
                    </a:lnTo>
                    <a:lnTo>
                      <a:pt x="2164" y="1589"/>
                    </a:lnTo>
                    <a:cubicBezTo>
                      <a:pt x="2164" y="1310"/>
                      <a:pt x="2064" y="1036"/>
                      <a:pt x="1874" y="794"/>
                    </a:cubicBezTo>
                    <a:cubicBezTo>
                      <a:pt x="1684" y="553"/>
                      <a:pt x="1411" y="352"/>
                      <a:pt x="1082" y="213"/>
                    </a:cubicBezTo>
                    <a:cubicBezTo>
                      <a:pt x="753" y="73"/>
                      <a:pt x="380" y="0"/>
                      <a:pt x="0" y="0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 txBox="1"/>
            <p:nvPr/>
          </p:nvSpPr>
          <p:spPr>
            <a:xfrm>
              <a:off x="1800360" y="315108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6359400" y="2095560"/>
              <a:ext cx="1893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dvertise(q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873000" y="2400480"/>
              <a:ext cx="2724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sk-all(advertise(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025640" y="4686120"/>
              <a:ext cx="1893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7b00e4"/>
                  </a:solidFill>
                  <a:latin typeface="Times New Roman"/>
                  <a:ea typeface="Times New Roman"/>
                </a:rPr>
                <a:t>advertise(p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2703600" y="3921120"/>
              <a:ext cx="1500480" cy="246600"/>
              <a:chOff x="2703600" y="3921120"/>
              <a:chExt cx="1500480" cy="246600"/>
            </a:xfrm>
          </p:grpSpPr>
          <p:sp>
            <p:nvSpPr>
              <p:cNvPr id="434" name=""/>
              <p:cNvSpPr/>
              <p:nvPr/>
            </p:nvSpPr>
            <p:spPr>
              <a:xfrm>
                <a:off x="2703600" y="3921120"/>
                <a:ext cx="739440" cy="246600"/>
              </a:xfrm>
              <a:custGeom>
                <a:avLst/>
                <a:gdLst/>
                <a:ahLst/>
                <a:rect l="0" t="0" r="r" b="b"/>
                <a:pathLst>
                  <a:path fill="none" w="2054" h="685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20"/>
                      <a:pt x="95" y="238"/>
                      <a:pt x="275" y="343"/>
                    </a:cubicBezTo>
                    <a:cubicBezTo>
                      <a:pt x="455" y="447"/>
                      <a:pt x="715" y="533"/>
                      <a:pt x="1027" y="593"/>
                    </a:cubicBezTo>
                    <a:cubicBezTo>
                      <a:pt x="1339" y="653"/>
                      <a:pt x="1693" y="685"/>
                      <a:pt x="2054" y="685"/>
                    </a:cubicBezTo>
                  </a:path>
                </a:pathLst>
              </a:custGeom>
              <a:ln w="38160">
                <a:solidFill>
                  <a:srgbClr val="7b00e4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444120" y="3921120"/>
                <a:ext cx="759960" cy="246600"/>
              </a:xfrm>
              <a:custGeom>
                <a:avLst/>
                <a:gdLst/>
                <a:ahLst/>
                <a:rect l="0" t="0" r="r" b="b"/>
                <a:pathLst>
                  <a:path fill="none" w="2111" h="685">
                    <a:moveTo>
                      <a:pt x="0" y="685"/>
                    </a:moveTo>
                    <a:lnTo>
                      <a:pt x="0" y="685"/>
                    </a:lnTo>
                    <a:cubicBezTo>
                      <a:pt x="371" y="685"/>
                      <a:pt x="735" y="653"/>
                      <a:pt x="1056" y="593"/>
                    </a:cubicBezTo>
                    <a:cubicBezTo>
                      <a:pt x="1376" y="533"/>
                      <a:pt x="1643" y="447"/>
                      <a:pt x="1828" y="342"/>
                    </a:cubicBezTo>
                    <a:cubicBezTo>
                      <a:pt x="2013" y="238"/>
                      <a:pt x="2111" y="120"/>
                      <a:pt x="2111" y="0"/>
                    </a:cubicBezTo>
                  </a:path>
                </a:pathLst>
              </a:custGeom>
              <a:ln w="38160">
                <a:solidFill>
                  <a:srgbClr val="7b00e4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 txBox="1"/>
            <p:nvPr/>
          </p:nvSpPr>
          <p:spPr>
            <a:xfrm>
              <a:off x="1940040" y="4305240"/>
              <a:ext cx="1893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7b00e4"/>
                  </a:solidFill>
                  <a:latin typeface="Times New Roman"/>
                  <a:ea typeface="Times New Roman"/>
                </a:rPr>
                <a:t>advertise(p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207040" y="2949480"/>
              <a:ext cx="1500480" cy="305280"/>
              <a:chOff x="5207040" y="2949480"/>
              <a:chExt cx="1500480" cy="305280"/>
            </a:xfrm>
          </p:grpSpPr>
          <p:sp>
            <p:nvSpPr>
              <p:cNvPr id="438" name=""/>
              <p:cNvSpPr/>
              <p:nvPr/>
            </p:nvSpPr>
            <p:spPr>
              <a:xfrm>
                <a:off x="5968080" y="2949480"/>
                <a:ext cx="739440" cy="305280"/>
              </a:xfrm>
              <a:custGeom>
                <a:avLst/>
                <a:gdLst/>
                <a:ahLst/>
                <a:rect l="0" t="0" r="r" b="b"/>
                <a:pathLst>
                  <a:path fill="none" w="2054" h="848">
                    <a:moveTo>
                      <a:pt x="2054" y="848"/>
                    </a:moveTo>
                    <a:lnTo>
                      <a:pt x="2054" y="848"/>
                    </a:lnTo>
                    <a:lnTo>
                      <a:pt x="2054" y="848"/>
                    </a:lnTo>
                    <a:cubicBezTo>
                      <a:pt x="2054" y="699"/>
                      <a:pt x="1959" y="553"/>
                      <a:pt x="1779" y="424"/>
                    </a:cubicBezTo>
                    <a:cubicBezTo>
                      <a:pt x="1599" y="295"/>
                      <a:pt x="1339" y="188"/>
                      <a:pt x="1027" y="114"/>
                    </a:cubicBezTo>
                    <a:cubicBezTo>
                      <a:pt x="715" y="39"/>
                      <a:pt x="361" y="0"/>
                      <a:pt x="0" y="0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207040" y="2949480"/>
                <a:ext cx="759960" cy="305280"/>
              </a:xfrm>
              <a:custGeom>
                <a:avLst/>
                <a:gdLst/>
                <a:ahLst/>
                <a:rect l="0" t="0" r="r" b="b"/>
                <a:pathLst>
                  <a:path fill="none" w="2111" h="848">
                    <a:moveTo>
                      <a:pt x="2111" y="0"/>
                    </a:moveTo>
                    <a:lnTo>
                      <a:pt x="2111" y="0"/>
                    </a:lnTo>
                    <a:cubicBezTo>
                      <a:pt x="1740" y="0"/>
                      <a:pt x="1376" y="39"/>
                      <a:pt x="1055" y="114"/>
                    </a:cubicBezTo>
                    <a:cubicBezTo>
                      <a:pt x="735" y="188"/>
                      <a:pt x="468" y="295"/>
                      <a:pt x="283" y="424"/>
                    </a:cubicBezTo>
                    <a:cubicBezTo>
                      <a:pt x="98" y="553"/>
                      <a:pt x="0" y="699"/>
                      <a:pt x="0" y="848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 txBox="1"/>
            <p:nvPr/>
          </p:nvSpPr>
          <p:spPr>
            <a:xfrm>
              <a:off x="6283440" y="2476440"/>
              <a:ext cx="1893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dvertise(q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546440" y="2111400"/>
              <a:ext cx="2238840" cy="991080"/>
              <a:chOff x="4546440" y="2111400"/>
              <a:chExt cx="2238840" cy="991080"/>
            </a:xfrm>
          </p:grpSpPr>
          <p:sp>
            <p:nvSpPr>
              <p:cNvPr id="442" name=""/>
              <p:cNvSpPr/>
              <p:nvPr/>
            </p:nvSpPr>
            <p:spPr>
              <a:xfrm>
                <a:off x="5682600" y="2111400"/>
                <a:ext cx="1102680" cy="991080"/>
              </a:xfrm>
              <a:custGeom>
                <a:avLst/>
                <a:gdLst/>
                <a:ahLst/>
                <a:rect l="0" t="0" r="r" b="b"/>
                <a:pathLst>
                  <a:path fill="none" w="3063" h="2753">
                    <a:moveTo>
                      <a:pt x="3063" y="2753"/>
                    </a:moveTo>
                    <a:lnTo>
                      <a:pt x="3063" y="2753"/>
                    </a:lnTo>
                    <a:lnTo>
                      <a:pt x="3063" y="2753"/>
                    </a:lnTo>
                    <a:cubicBezTo>
                      <a:pt x="3063" y="2270"/>
                      <a:pt x="2921" y="1795"/>
                      <a:pt x="2653" y="1376"/>
                    </a:cubicBezTo>
                    <a:cubicBezTo>
                      <a:pt x="2384" y="958"/>
                      <a:pt x="1997" y="610"/>
                      <a:pt x="1531" y="369"/>
                    </a:cubicBezTo>
                    <a:cubicBezTo>
                      <a:pt x="1066" y="127"/>
                      <a:pt x="538" y="0"/>
                      <a:pt x="0" y="0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46440" y="2111400"/>
                <a:ext cx="1132920" cy="991080"/>
              </a:xfrm>
              <a:custGeom>
                <a:avLst/>
                <a:gdLst/>
                <a:ahLst/>
                <a:rect l="0" t="0" r="r" b="b"/>
                <a:pathLst>
                  <a:path fill="none" w="3147" h="2753">
                    <a:moveTo>
                      <a:pt x="3147" y="0"/>
                    </a:moveTo>
                    <a:lnTo>
                      <a:pt x="3147" y="0"/>
                    </a:lnTo>
                    <a:cubicBezTo>
                      <a:pt x="2595" y="0"/>
                      <a:pt x="2052" y="127"/>
                      <a:pt x="1573" y="369"/>
                    </a:cubicBezTo>
                    <a:cubicBezTo>
                      <a:pt x="1095" y="610"/>
                      <a:pt x="698" y="958"/>
                      <a:pt x="422" y="1377"/>
                    </a:cubicBezTo>
                    <a:cubicBezTo>
                      <a:pt x="145" y="1795"/>
                      <a:pt x="0" y="2270"/>
                      <a:pt x="0" y="2753"/>
                    </a:cubicBezTo>
                  </a:path>
                </a:pathLst>
              </a:custGeom>
              <a:ln w="38160">
                <a:solidFill>
                  <a:srgbClr val="fc0128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"/>
            <p:cNvSpPr txBox="1"/>
            <p:nvPr/>
          </p:nvSpPr>
          <p:spPr>
            <a:xfrm>
              <a:off x="6359400" y="1714680"/>
              <a:ext cx="1893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dvertise(q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"/>
          <p:cNvSpPr txBox="1"/>
          <p:nvPr/>
        </p:nvSpPr>
        <p:spPr>
          <a:xfrm>
            <a:off x="527040" y="5410080"/>
            <a:ext cx="80913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erformative is used to describe the performatives an agent is prepared to ac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768240" y="414360"/>
            <a:ext cx="760716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mmunication</a:t>
            </a:r>
            <a:br>
              <a:rPr sz="4400"/>
            </a:b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orward and Broa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65040" y="5257800"/>
            <a:ext cx="84139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tives are two of the basic networking primit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34800" y="1838160"/>
            <a:ext cx="7431120" cy="2962440"/>
            <a:chOff x="334800" y="1838160"/>
            <a:chExt cx="7431120" cy="2962440"/>
          </a:xfrm>
        </p:grpSpPr>
        <p:grpSp>
          <p:nvGrpSpPr>
            <p:cNvPr id="449" name=""/>
            <p:cNvGrpSpPr/>
            <p:nvPr/>
          </p:nvGrpSpPr>
          <p:grpSpPr>
            <a:xfrm>
              <a:off x="5111640" y="2286000"/>
              <a:ext cx="1537200" cy="343440"/>
              <a:chOff x="5111640" y="2286000"/>
              <a:chExt cx="1537200" cy="343440"/>
            </a:xfrm>
          </p:grpSpPr>
          <p:sp>
            <p:nvSpPr>
              <p:cNvPr id="450" name=""/>
              <p:cNvSpPr/>
              <p:nvPr/>
            </p:nvSpPr>
            <p:spPr>
              <a:xfrm>
                <a:off x="5890320" y="2286000"/>
                <a:ext cx="758520" cy="343440"/>
              </a:xfrm>
              <a:custGeom>
                <a:avLst/>
                <a:gdLst/>
                <a:ahLst/>
                <a:rect l="0" t="0" r="r" b="b"/>
                <a:pathLst>
                  <a:path fill="none" w="2107" h="954">
                    <a:moveTo>
                      <a:pt x="2107" y="954"/>
                    </a:moveTo>
                    <a:lnTo>
                      <a:pt x="2107" y="954"/>
                    </a:lnTo>
                    <a:lnTo>
                      <a:pt x="2107" y="954"/>
                    </a:lnTo>
                    <a:cubicBezTo>
                      <a:pt x="2107" y="787"/>
                      <a:pt x="2010" y="622"/>
                      <a:pt x="1825" y="477"/>
                    </a:cubicBezTo>
                    <a:cubicBezTo>
                      <a:pt x="1640" y="332"/>
                      <a:pt x="1374" y="212"/>
                      <a:pt x="1053" y="128"/>
                    </a:cubicBezTo>
                    <a:cubicBezTo>
                      <a:pt x="733" y="44"/>
                      <a:pt x="370" y="0"/>
                      <a:pt x="0" y="0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111640" y="2286000"/>
                <a:ext cx="779040" cy="343440"/>
              </a:xfrm>
              <a:custGeom>
                <a:avLst/>
                <a:gdLst/>
                <a:ahLst/>
                <a:rect l="0" t="0" r="r" b="b"/>
                <a:pathLst>
                  <a:path fill="none" w="2164" h="954">
                    <a:moveTo>
                      <a:pt x="2164" y="0"/>
                    </a:moveTo>
                    <a:lnTo>
                      <a:pt x="2164" y="0"/>
                    </a:lnTo>
                    <a:cubicBezTo>
                      <a:pt x="1784" y="0"/>
                      <a:pt x="1411" y="44"/>
                      <a:pt x="1082" y="128"/>
                    </a:cubicBezTo>
                    <a:cubicBezTo>
                      <a:pt x="753" y="212"/>
                      <a:pt x="480" y="332"/>
                      <a:pt x="290" y="477"/>
                    </a:cubicBezTo>
                    <a:cubicBezTo>
                      <a:pt x="100" y="622"/>
                      <a:pt x="0" y="787"/>
                      <a:pt x="0" y="954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3994200" y="259092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2498760" y="2438280"/>
              <a:ext cx="1535400" cy="267120"/>
              <a:chOff x="2498760" y="2438280"/>
              <a:chExt cx="1535400" cy="2671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98760" y="2438280"/>
                <a:ext cx="758520" cy="267120"/>
              </a:xfrm>
              <a:custGeom>
                <a:avLst/>
                <a:gdLst/>
                <a:ahLst/>
                <a:rect l="0" t="0" r="r" b="b"/>
                <a:pathLst>
                  <a:path fill="none" w="2107" h="742"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1737" y="0"/>
                      <a:pt x="1374" y="34"/>
                      <a:pt x="1053" y="99"/>
                    </a:cubicBezTo>
                    <a:cubicBezTo>
                      <a:pt x="733" y="165"/>
                      <a:pt x="467" y="258"/>
                      <a:pt x="282" y="371"/>
                    </a:cubicBezTo>
                    <a:cubicBezTo>
                      <a:pt x="97" y="484"/>
                      <a:pt x="0" y="612"/>
                      <a:pt x="0" y="742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55120" y="2438280"/>
                <a:ext cx="779040" cy="267120"/>
              </a:xfrm>
              <a:custGeom>
                <a:avLst/>
                <a:gdLst/>
                <a:ahLst/>
                <a:rect l="0" t="0" r="r" b="b"/>
                <a:pathLst>
                  <a:path fill="none" w="2164" h="742">
                    <a:moveTo>
                      <a:pt x="2164" y="742"/>
                    </a:moveTo>
                    <a:lnTo>
                      <a:pt x="2164" y="742"/>
                    </a:lnTo>
                    <a:lnTo>
                      <a:pt x="2164" y="742"/>
                    </a:lnTo>
                    <a:cubicBezTo>
                      <a:pt x="2164" y="612"/>
                      <a:pt x="2064" y="484"/>
                      <a:pt x="1874" y="371"/>
                    </a:cubicBezTo>
                    <a:cubicBezTo>
                      <a:pt x="1684" y="258"/>
                      <a:pt x="1411" y="165"/>
                      <a:pt x="1082" y="99"/>
                    </a:cubicBezTo>
                    <a:cubicBezTo>
                      <a:pt x="753" y="34"/>
                      <a:pt x="380" y="0"/>
                      <a:pt x="0" y="0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607080" y="2514600"/>
              <a:ext cx="1158840" cy="914400"/>
              <a:chOff x="6607080" y="2514600"/>
              <a:chExt cx="1158840" cy="914400"/>
            </a:xfrm>
          </p:grpSpPr>
          <p:sp>
            <p:nvSpPr>
              <p:cNvPr id="457" name=""/>
              <p:cNvSpPr/>
              <p:nvPr/>
            </p:nvSpPr>
            <p:spPr>
              <a:xfrm>
                <a:off x="6607080" y="2629080"/>
                <a:ext cx="1158840" cy="790560"/>
              </a:xfrm>
              <a:prstGeom prst="roundRect">
                <a:avLst/>
              </a:prstGeom>
              <a:solidFill>
                <a:srgbClr val="fc0128"/>
              </a:solidFill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>
                <a:off x="6924600" y="2514600"/>
                <a:ext cx="65088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 txBox="1"/>
            <p:nvPr/>
          </p:nvSpPr>
          <p:spPr>
            <a:xfrm>
              <a:off x="2416320" y="1965240"/>
              <a:ext cx="1657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fwd(A,C,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240080" y="251460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78080" y="2581200"/>
              <a:ext cx="1158840" cy="847800"/>
            </a:xfrm>
            <a:prstGeom prst="roundRect">
              <a:avLst/>
            </a:prstGeom>
            <a:solidFill>
              <a:srgbClr val="438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616040" y="251460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5133960" y="1838160"/>
              <a:ext cx="1657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wd(A,C,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4800" y="4000680"/>
              <a:ext cx="1158840" cy="790560"/>
            </a:xfrm>
            <a:prstGeom prst="roundRect">
              <a:avLst/>
            </a:prstGeom>
            <a:solidFill>
              <a:srgbClr val="7b00e4"/>
            </a:solidFill>
            <a:ln w="38160">
              <a:solidFill>
                <a:srgbClr val="7b00e4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652320" y="388620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0200" y="3429000"/>
              <a:ext cx="381240" cy="838440"/>
            </a:xfrm>
            <a:custGeom>
              <a:avLst/>
              <a:gdLst/>
              <a:ahLst/>
              <a:rect l="0" t="0" r="r" b="b"/>
              <a:pathLst>
                <a:path fill="none" w="1059" h="2329">
                  <a:moveTo>
                    <a:pt x="0" y="2329"/>
                  </a:moveTo>
                  <a:lnTo>
                    <a:pt x="0" y="2329"/>
                  </a:lnTo>
                  <a:cubicBezTo>
                    <a:pt x="186" y="2329"/>
                    <a:pt x="369" y="2221"/>
                    <a:pt x="530" y="2017"/>
                  </a:cubicBezTo>
                  <a:cubicBezTo>
                    <a:pt x="690" y="1813"/>
                    <a:pt x="824" y="1519"/>
                    <a:pt x="917" y="1164"/>
                  </a:cubicBezTo>
                  <a:cubicBezTo>
                    <a:pt x="1010" y="810"/>
                    <a:pt x="1059" y="409"/>
                    <a:pt x="1059" y="0"/>
                  </a:cubicBezTo>
                </a:path>
              </a:pathLst>
            </a:custGeom>
            <a:ln w="38160">
              <a:solidFill>
                <a:srgbClr val="438e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981080" y="3429000"/>
              <a:ext cx="1981440" cy="381240"/>
              <a:chOff x="1981080" y="3429000"/>
              <a:chExt cx="1981440" cy="381240"/>
            </a:xfrm>
          </p:grpSpPr>
          <p:sp>
            <p:nvSpPr>
              <p:cNvPr id="468" name=""/>
              <p:cNvSpPr/>
              <p:nvPr/>
            </p:nvSpPr>
            <p:spPr>
              <a:xfrm>
                <a:off x="1981080" y="3429000"/>
                <a:ext cx="979200" cy="381240"/>
              </a:xfrm>
              <a:custGeom>
                <a:avLst/>
                <a:gdLst/>
                <a:ahLst/>
                <a:rect l="0" t="0" r="r" b="b"/>
                <a:pathLst>
                  <a:path fill="none" w="2720" h="105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86"/>
                      <a:pt x="126" y="369"/>
                      <a:pt x="364" y="530"/>
                    </a:cubicBezTo>
                    <a:cubicBezTo>
                      <a:pt x="603" y="690"/>
                      <a:pt x="947" y="824"/>
                      <a:pt x="1360" y="917"/>
                    </a:cubicBezTo>
                    <a:cubicBezTo>
                      <a:pt x="1773" y="1010"/>
                      <a:pt x="2243" y="1059"/>
                      <a:pt x="2720" y="1059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956680" y="3429000"/>
                <a:ext cx="1005840" cy="381240"/>
              </a:xfrm>
              <a:custGeom>
                <a:avLst/>
                <a:gdLst/>
                <a:ahLst/>
                <a:rect l="0" t="0" r="r" b="b"/>
                <a:pathLst>
                  <a:path fill="none" w="2794" h="1059">
                    <a:moveTo>
                      <a:pt x="0" y="1059"/>
                    </a:moveTo>
                    <a:lnTo>
                      <a:pt x="0" y="1059"/>
                    </a:lnTo>
                    <a:cubicBezTo>
                      <a:pt x="490" y="1059"/>
                      <a:pt x="972" y="1010"/>
                      <a:pt x="1397" y="917"/>
                    </a:cubicBezTo>
                    <a:cubicBezTo>
                      <a:pt x="1822" y="824"/>
                      <a:pt x="2174" y="690"/>
                      <a:pt x="2420" y="529"/>
                    </a:cubicBezTo>
                    <a:cubicBezTo>
                      <a:pt x="2665" y="369"/>
                      <a:pt x="2794" y="186"/>
                      <a:pt x="2794" y="0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1981080" y="3429000"/>
              <a:ext cx="5182200" cy="991080"/>
              <a:chOff x="1981080" y="3429000"/>
              <a:chExt cx="5182200" cy="991080"/>
            </a:xfrm>
          </p:grpSpPr>
          <p:sp>
            <p:nvSpPr>
              <p:cNvPr id="471" name=""/>
              <p:cNvSpPr/>
              <p:nvPr/>
            </p:nvSpPr>
            <p:spPr>
              <a:xfrm>
                <a:off x="1981080" y="3429000"/>
                <a:ext cx="2591280" cy="991080"/>
              </a:xfrm>
              <a:custGeom>
                <a:avLst/>
                <a:gdLst/>
                <a:ahLst/>
                <a:rect l="0" t="0" r="r" b="b"/>
                <a:pathLst>
                  <a:path fill="none" w="7198" h="2753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483"/>
                      <a:pt x="333" y="958"/>
                      <a:pt x="964" y="1377"/>
                    </a:cubicBezTo>
                    <a:cubicBezTo>
                      <a:pt x="1596" y="1795"/>
                      <a:pt x="2505" y="2143"/>
                      <a:pt x="3599" y="2384"/>
                    </a:cubicBezTo>
                    <a:cubicBezTo>
                      <a:pt x="4693" y="2626"/>
                      <a:pt x="5934" y="2753"/>
                      <a:pt x="7198" y="2753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72000" y="3429000"/>
                <a:ext cx="2591280" cy="991080"/>
              </a:xfrm>
              <a:custGeom>
                <a:avLst/>
                <a:gdLst/>
                <a:ahLst/>
                <a:rect l="0" t="0" r="r" b="b"/>
                <a:pathLst>
                  <a:path fill="none" w="7198" h="2753">
                    <a:moveTo>
                      <a:pt x="0" y="2753"/>
                    </a:moveTo>
                    <a:lnTo>
                      <a:pt x="0" y="2753"/>
                    </a:lnTo>
                    <a:cubicBezTo>
                      <a:pt x="1264" y="2753"/>
                      <a:pt x="2505" y="2626"/>
                      <a:pt x="3599" y="2384"/>
                    </a:cubicBezTo>
                    <a:cubicBezTo>
                      <a:pt x="4693" y="2143"/>
                      <a:pt x="5602" y="1795"/>
                      <a:pt x="6234" y="1376"/>
                    </a:cubicBezTo>
                    <a:cubicBezTo>
                      <a:pt x="6865" y="958"/>
                      <a:pt x="7198" y="483"/>
                      <a:pt x="7198" y="0"/>
                    </a:cubicBezTo>
                  </a:path>
                </a:pathLst>
              </a:custGeom>
              <a:ln w="38160">
                <a:solidFill>
                  <a:srgbClr val="438e00"/>
                </a:solidFill>
                <a:round/>
                <a:tail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 txBox="1"/>
            <p:nvPr/>
          </p:nvSpPr>
          <p:spPr>
            <a:xfrm>
              <a:off x="3178080" y="3718080"/>
              <a:ext cx="3384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broadcast(A, (B,C,D), 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768240" y="414360"/>
            <a:ext cx="760716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mmunication</a:t>
            </a:r>
            <a:br>
              <a:rPr sz="4400"/>
            </a:b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Pipe and 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60480" y="5029200"/>
            <a:ext cx="9023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formatives are used to establish low level communication chann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378080" y="1660680"/>
            <a:ext cx="6387840" cy="3022560"/>
            <a:chOff x="1378080" y="1660680"/>
            <a:chExt cx="6387840" cy="3022560"/>
          </a:xfrm>
        </p:grpSpPr>
        <p:grpSp>
          <p:nvGrpSpPr>
            <p:cNvPr id="477" name=""/>
            <p:cNvGrpSpPr/>
            <p:nvPr/>
          </p:nvGrpSpPr>
          <p:grpSpPr>
            <a:xfrm>
              <a:off x="2514600" y="3276720"/>
              <a:ext cx="4115160" cy="1016280"/>
              <a:chOff x="2514600" y="3276720"/>
              <a:chExt cx="4115160" cy="101628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514600" y="3276720"/>
                <a:ext cx="4115160" cy="914760"/>
                <a:chOff x="2514600" y="3276720"/>
                <a:chExt cx="4115160" cy="9147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4572000" y="3276720"/>
                  <a:ext cx="2057760" cy="914760"/>
                </a:xfrm>
                <a:custGeom>
                  <a:avLst/>
                  <a:gdLst/>
                  <a:ahLst/>
                  <a:rect l="0" t="0" r="r" b="b"/>
                  <a:pathLst>
                    <a:path fill="none" w="5716" h="2541">
                      <a:moveTo>
                        <a:pt x="0" y="2541"/>
                      </a:moveTo>
                      <a:lnTo>
                        <a:pt x="0" y="2541"/>
                      </a:lnTo>
                      <a:lnTo>
                        <a:pt x="0" y="2541"/>
                      </a:lnTo>
                      <a:cubicBezTo>
                        <a:pt x="1003" y="2541"/>
                        <a:pt x="1989" y="2424"/>
                        <a:pt x="2858" y="2200"/>
                      </a:cubicBezTo>
                      <a:cubicBezTo>
                        <a:pt x="3727" y="1977"/>
                        <a:pt x="4449" y="1656"/>
                        <a:pt x="4950" y="1270"/>
                      </a:cubicBezTo>
                      <a:cubicBezTo>
                        <a:pt x="5452" y="884"/>
                        <a:pt x="5716" y="446"/>
                        <a:pt x="5716" y="0"/>
                      </a:cubicBezTo>
                    </a:path>
                  </a:pathLst>
                </a:custGeom>
                <a:ln w="38160">
                  <a:solidFill>
                    <a:srgbClr val="438e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514600" y="3276720"/>
                  <a:ext cx="2057760" cy="914760"/>
                </a:xfrm>
                <a:custGeom>
                  <a:avLst/>
                  <a:gdLst/>
                  <a:ahLst/>
                  <a:rect l="0" t="0" r="r" b="b"/>
                  <a:pathLst>
                    <a:path fill="none" w="5716" h="2541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446"/>
                        <a:pt x="264" y="884"/>
                        <a:pt x="766" y="1270"/>
                      </a:cubicBezTo>
                      <a:cubicBezTo>
                        <a:pt x="1267" y="1656"/>
                        <a:pt x="1989" y="1977"/>
                        <a:pt x="2858" y="2200"/>
                      </a:cubicBezTo>
                      <a:cubicBezTo>
                        <a:pt x="3727" y="2424"/>
                        <a:pt x="4713" y="2541"/>
                        <a:pt x="5716" y="2541"/>
                      </a:cubicBezTo>
                      <a:lnTo>
                        <a:pt x="5716" y="2541"/>
                      </a:lnTo>
                    </a:path>
                  </a:pathLst>
                </a:custGeom>
                <a:ln w="38160">
                  <a:solidFill>
                    <a:srgbClr val="438e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514600" y="3429000"/>
                <a:ext cx="4115160" cy="864000"/>
                <a:chOff x="2514600" y="3429000"/>
                <a:chExt cx="4115160" cy="8640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4572000" y="3429000"/>
                  <a:ext cx="2057760" cy="864000"/>
                </a:xfrm>
                <a:custGeom>
                  <a:avLst/>
                  <a:gdLst/>
                  <a:ahLst/>
                  <a:rect l="0" t="0" r="r" b="b"/>
                  <a:pathLst>
                    <a:path fill="none" w="5716" h="2400">
                      <a:moveTo>
                        <a:pt x="0" y="2400"/>
                      </a:moveTo>
                      <a:lnTo>
                        <a:pt x="0" y="2400"/>
                      </a:lnTo>
                      <a:cubicBezTo>
                        <a:pt x="1003" y="2400"/>
                        <a:pt x="1989" y="2289"/>
                        <a:pt x="2858" y="2078"/>
                      </a:cubicBezTo>
                      <a:cubicBezTo>
                        <a:pt x="3727" y="1868"/>
                        <a:pt x="4449" y="1565"/>
                        <a:pt x="4950" y="1200"/>
                      </a:cubicBezTo>
                      <a:cubicBezTo>
                        <a:pt x="5452" y="835"/>
                        <a:pt x="5716" y="421"/>
                        <a:pt x="5716" y="0"/>
                      </a:cubicBezTo>
                    </a:path>
                  </a:pathLst>
                </a:custGeom>
                <a:ln w="38160">
                  <a:solidFill>
                    <a:srgbClr val="438e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514600" y="3429000"/>
                  <a:ext cx="2057760" cy="864000"/>
                </a:xfrm>
                <a:custGeom>
                  <a:avLst/>
                  <a:gdLst/>
                  <a:ahLst/>
                  <a:rect l="0" t="0" r="r" b="b"/>
                  <a:pathLst>
                    <a:path fill="none" w="5716" h="2400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421"/>
                        <a:pt x="264" y="835"/>
                        <a:pt x="766" y="1200"/>
                      </a:cubicBezTo>
                      <a:cubicBezTo>
                        <a:pt x="1267" y="1565"/>
                        <a:pt x="1989" y="1868"/>
                        <a:pt x="2858" y="2078"/>
                      </a:cubicBezTo>
                      <a:cubicBezTo>
                        <a:pt x="3727" y="2289"/>
                        <a:pt x="4713" y="2400"/>
                        <a:pt x="5716" y="2400"/>
                      </a:cubicBezTo>
                    </a:path>
                  </a:pathLst>
                </a:custGeom>
                <a:ln w="38160">
                  <a:solidFill>
                    <a:srgbClr val="438e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4" name=""/>
            <p:cNvSpPr/>
            <p:nvPr/>
          </p:nvSpPr>
          <p:spPr>
            <a:xfrm>
              <a:off x="6607080" y="2629080"/>
              <a:ext cx="1158840" cy="790560"/>
            </a:xfrm>
            <a:prstGeom prst="roundRect">
              <a:avLst/>
            </a:prstGeom>
            <a:solidFill>
              <a:srgbClr val="fc0128"/>
            </a:solidFill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5111640" y="2095560"/>
              <a:ext cx="1537200" cy="533880"/>
              <a:chOff x="5111640" y="2095560"/>
              <a:chExt cx="1537200" cy="533880"/>
            </a:xfrm>
          </p:grpSpPr>
          <p:sp>
            <p:nvSpPr>
              <p:cNvPr id="486" name=""/>
              <p:cNvSpPr/>
              <p:nvPr/>
            </p:nvSpPr>
            <p:spPr>
              <a:xfrm>
                <a:off x="5890320" y="2095560"/>
                <a:ext cx="758520" cy="533880"/>
              </a:xfrm>
              <a:custGeom>
                <a:avLst/>
                <a:gdLst/>
                <a:ahLst/>
                <a:rect l="0" t="0" r="r" b="b"/>
                <a:pathLst>
                  <a:path fill="none" w="2107" h="1483">
                    <a:moveTo>
                      <a:pt x="2107" y="1483"/>
                    </a:moveTo>
                    <a:lnTo>
                      <a:pt x="2107" y="1483"/>
                    </a:lnTo>
                    <a:lnTo>
                      <a:pt x="2107" y="1483"/>
                    </a:lnTo>
                    <a:cubicBezTo>
                      <a:pt x="2107" y="1223"/>
                      <a:pt x="2010" y="967"/>
                      <a:pt x="1825" y="741"/>
                    </a:cubicBezTo>
                    <a:cubicBezTo>
                      <a:pt x="1640" y="516"/>
                      <a:pt x="1374" y="329"/>
                      <a:pt x="1053" y="199"/>
                    </a:cubicBezTo>
                    <a:cubicBezTo>
                      <a:pt x="733" y="69"/>
                      <a:pt x="370" y="0"/>
                      <a:pt x="0" y="0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111640" y="2095560"/>
                <a:ext cx="779040" cy="533880"/>
              </a:xfrm>
              <a:custGeom>
                <a:avLst/>
                <a:gdLst/>
                <a:ahLst/>
                <a:rect l="0" t="0" r="r" b="b"/>
                <a:pathLst>
                  <a:path fill="none" w="2164" h="1483">
                    <a:moveTo>
                      <a:pt x="2164" y="0"/>
                    </a:moveTo>
                    <a:lnTo>
                      <a:pt x="2164" y="0"/>
                    </a:lnTo>
                    <a:cubicBezTo>
                      <a:pt x="1784" y="0"/>
                      <a:pt x="1411" y="69"/>
                      <a:pt x="1082" y="199"/>
                    </a:cubicBezTo>
                    <a:cubicBezTo>
                      <a:pt x="753" y="329"/>
                      <a:pt x="480" y="516"/>
                      <a:pt x="290" y="742"/>
                    </a:cubicBezTo>
                    <a:cubicBezTo>
                      <a:pt x="100" y="967"/>
                      <a:pt x="0" y="1223"/>
                      <a:pt x="0" y="1483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3994200" y="2590920"/>
              <a:ext cx="1143000" cy="762120"/>
            </a:xfrm>
            <a:prstGeom prst="round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2498760" y="2133720"/>
              <a:ext cx="1535400" cy="572040"/>
              <a:chOff x="2498760" y="2133720"/>
              <a:chExt cx="1535400" cy="572040"/>
            </a:xfrm>
          </p:grpSpPr>
          <p:sp>
            <p:nvSpPr>
              <p:cNvPr id="490" name=""/>
              <p:cNvSpPr/>
              <p:nvPr/>
            </p:nvSpPr>
            <p:spPr>
              <a:xfrm>
                <a:off x="2498760" y="2133720"/>
                <a:ext cx="758520" cy="572040"/>
              </a:xfrm>
              <a:custGeom>
                <a:avLst/>
                <a:gdLst/>
                <a:ahLst/>
                <a:rect l="0" t="0" r="r" b="b"/>
                <a:pathLst>
                  <a:path fill="none" w="2107" h="1589">
                    <a:moveTo>
                      <a:pt x="2107" y="0"/>
                    </a:moveTo>
                    <a:lnTo>
                      <a:pt x="2107" y="0"/>
                    </a:lnTo>
                    <a:cubicBezTo>
                      <a:pt x="1737" y="0"/>
                      <a:pt x="1374" y="73"/>
                      <a:pt x="1053" y="213"/>
                    </a:cubicBezTo>
                    <a:cubicBezTo>
                      <a:pt x="733" y="352"/>
                      <a:pt x="467" y="553"/>
                      <a:pt x="282" y="795"/>
                    </a:cubicBezTo>
                    <a:cubicBezTo>
                      <a:pt x="97" y="1036"/>
                      <a:pt x="0" y="1310"/>
                      <a:pt x="0" y="1589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255120" y="2133720"/>
                <a:ext cx="779040" cy="572040"/>
              </a:xfrm>
              <a:custGeom>
                <a:avLst/>
                <a:gdLst/>
                <a:ahLst/>
                <a:rect l="0" t="0" r="r" b="b"/>
                <a:pathLst>
                  <a:path fill="none" w="2164" h="1589">
                    <a:moveTo>
                      <a:pt x="2164" y="1589"/>
                    </a:moveTo>
                    <a:lnTo>
                      <a:pt x="2164" y="1589"/>
                    </a:lnTo>
                    <a:lnTo>
                      <a:pt x="2164" y="1589"/>
                    </a:lnTo>
                    <a:cubicBezTo>
                      <a:pt x="2164" y="1310"/>
                      <a:pt x="2064" y="1036"/>
                      <a:pt x="1874" y="794"/>
                    </a:cubicBezTo>
                    <a:cubicBezTo>
                      <a:pt x="1684" y="553"/>
                      <a:pt x="1411" y="352"/>
                      <a:pt x="1082" y="213"/>
                    </a:cubicBezTo>
                    <a:cubicBezTo>
                      <a:pt x="753" y="73"/>
                      <a:pt x="380" y="0"/>
                      <a:pt x="0" y="0"/>
                    </a:cubicBezTo>
                  </a:path>
                </a:pathLst>
              </a:custGeom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"/>
            <p:cNvSpPr txBox="1"/>
            <p:nvPr/>
          </p:nvSpPr>
          <p:spPr>
            <a:xfrm>
              <a:off x="6924600" y="251460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2644920" y="1660680"/>
              <a:ext cx="1461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pe(A,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4240080" y="2514600"/>
              <a:ext cx="6508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378080" y="2425680"/>
              <a:ext cx="1158840" cy="1003320"/>
              <a:chOff x="1378080" y="2425680"/>
              <a:chExt cx="1158840" cy="1003320"/>
            </a:xfrm>
          </p:grpSpPr>
          <p:sp>
            <p:nvSpPr>
              <p:cNvPr id="496" name=""/>
              <p:cNvSpPr txBox="1"/>
              <p:nvPr/>
            </p:nvSpPr>
            <p:spPr>
              <a:xfrm>
                <a:off x="1806480" y="2425680"/>
                <a:ext cx="67932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8080" y="2581200"/>
                <a:ext cx="1158840" cy="847800"/>
              </a:xfrm>
              <a:prstGeom prst="roundRect">
                <a:avLst/>
              </a:prstGeom>
              <a:solidFill>
                <a:srgbClr val="7b00e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1616040" y="2448000"/>
                <a:ext cx="65088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 txBox="1"/>
            <p:nvPr/>
          </p:nvSpPr>
          <p:spPr>
            <a:xfrm>
              <a:off x="5133960" y="1685880"/>
              <a:ext cx="1461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pe(A,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5978520" y="4226040"/>
              <a:ext cx="878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38e00"/>
                  </a:solidFill>
                  <a:latin typeface="Times New Roman"/>
                  <a:ea typeface="Times New Roman"/>
                </a:rPr>
                <a:t>PI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xten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249200" y="2165400"/>
            <a:ext cx="705636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extend KQML by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new perform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new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o language impediments to either type of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a mechanism for creating machine-readable performative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115920" y="250920"/>
            <a:ext cx="88106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mmunication Protocols</a:t>
            </a:r>
            <a:br>
              <a:rPr sz="4400"/>
            </a:b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messag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520560" y="2101680"/>
            <a:ext cx="7797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chronous transactions, e.g. query/reply, assert/ac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response performatives, e.g. genera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replies, e.g. subscriptions,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services, e.g. forwarding, broadc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 KQML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57160" y="190512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a singl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peech act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erform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n associated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mantics and protocol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list of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ttribute/value pairs</a:t>
            </a:r>
            <a:r>
              <a:rPr b="0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nt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ece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langu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eply-w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-reply-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top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sen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ont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aspect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768240" y="446040"/>
            <a:ext cx="76071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mmunication Protocols</a:t>
            </a:r>
            <a:br>
              <a:rPr sz="4400"/>
            </a:b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ransport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3996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d to be “packet orien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23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TCP/IP based, but has been carried by SMTP (email), CORBA, HTTP (www) and Li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37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in works to support multiple transport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acilit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23720" y="1714680"/>
            <a:ext cx="861840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ors are a class of agents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in meta-knowledge about other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communication service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5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forwarding and broad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5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5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5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-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5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-knowledg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tives of special interest to facilitator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, broker, recruit, recommend, forward, broadcas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66680" y="689040"/>
            <a:ext cx="881064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ntent Based Ro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66680" y="1878120"/>
            <a:ext cx="8507520" cy="4682880"/>
            <a:chOff x="166680" y="1878120"/>
            <a:chExt cx="8507520" cy="4682880"/>
          </a:xfrm>
        </p:grpSpPr>
        <p:sp>
          <p:nvSpPr>
            <p:cNvPr id="511" name=""/>
            <p:cNvSpPr/>
            <p:nvPr/>
          </p:nvSpPr>
          <p:spPr>
            <a:xfrm>
              <a:off x="3025800" y="3417840"/>
              <a:ext cx="2612880" cy="15667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592440" y="3295800"/>
              <a:ext cx="314640" cy="345600"/>
              <a:chOff x="3592440" y="3295800"/>
              <a:chExt cx="314640" cy="345600"/>
            </a:xfrm>
          </p:grpSpPr>
          <p:sp>
            <p:nvSpPr>
              <p:cNvPr id="513" name=""/>
              <p:cNvSpPr/>
              <p:nvPr/>
            </p:nvSpPr>
            <p:spPr>
              <a:xfrm>
                <a:off x="3592440" y="3295800"/>
                <a:ext cx="314640" cy="314640"/>
              </a:xfrm>
              <a:custGeom>
                <a:avLst/>
                <a:gdLst/>
                <a:ahLst/>
                <a:rect l="0" t="0" r="r" b="b"/>
                <a:pathLst>
                  <a:path w="874" h="874">
                    <a:moveTo>
                      <a:pt x="0" y="874"/>
                    </a:moveTo>
                    <a:lnTo>
                      <a:pt x="699" y="874"/>
                    </a:lnTo>
                    <a:lnTo>
                      <a:pt x="874" y="699"/>
                    </a:lnTo>
                    <a:lnTo>
                      <a:pt x="874" y="0"/>
                    </a:lnTo>
                    <a:lnTo>
                      <a:pt x="699" y="174"/>
                    </a:lnTo>
                    <a:lnTo>
                      <a:pt x="699" y="874"/>
                    </a:lnTo>
                    <a:lnTo>
                      <a:pt x="699" y="174"/>
                    </a:lnTo>
                    <a:lnTo>
                      <a:pt x="0" y="174"/>
                    </a:lnTo>
                    <a:lnTo>
                      <a:pt x="174" y="0"/>
                    </a:lnTo>
                    <a:lnTo>
                      <a:pt x="874" y="0"/>
                    </a:lnTo>
                    <a:lnTo>
                      <a:pt x="174" y="0"/>
                    </a:lnTo>
                    <a:lnTo>
                      <a:pt x="0" y="174"/>
                    </a:lnTo>
                    <a:lnTo>
                      <a:pt x="0" y="874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3598920" y="3376440"/>
                <a:ext cx="27468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3614760" y="4697280"/>
              <a:ext cx="313200" cy="345960"/>
              <a:chOff x="3614760" y="4697280"/>
              <a:chExt cx="313200" cy="345960"/>
            </a:xfrm>
          </p:grpSpPr>
          <p:sp>
            <p:nvSpPr>
              <p:cNvPr id="516" name=""/>
              <p:cNvSpPr/>
              <p:nvPr/>
            </p:nvSpPr>
            <p:spPr>
              <a:xfrm>
                <a:off x="3614760" y="4697280"/>
                <a:ext cx="313200" cy="313200"/>
              </a:xfrm>
              <a:custGeom>
                <a:avLst/>
                <a:gdLst/>
                <a:ahLst/>
                <a:rect l="0" t="0" r="r" b="b"/>
                <a:pathLst>
                  <a:path w="870" h="870">
                    <a:moveTo>
                      <a:pt x="0" y="870"/>
                    </a:moveTo>
                    <a:lnTo>
                      <a:pt x="696" y="870"/>
                    </a:lnTo>
                    <a:lnTo>
                      <a:pt x="870" y="696"/>
                    </a:lnTo>
                    <a:lnTo>
                      <a:pt x="870" y="0"/>
                    </a:lnTo>
                    <a:lnTo>
                      <a:pt x="696" y="173"/>
                    </a:lnTo>
                    <a:lnTo>
                      <a:pt x="696" y="870"/>
                    </a:lnTo>
                    <a:lnTo>
                      <a:pt x="696" y="173"/>
                    </a:lnTo>
                    <a:lnTo>
                      <a:pt x="0" y="173"/>
                    </a:lnTo>
                    <a:lnTo>
                      <a:pt x="173" y="0"/>
                    </a:lnTo>
                    <a:lnTo>
                      <a:pt x="870" y="0"/>
                    </a:lnTo>
                    <a:lnTo>
                      <a:pt x="173" y="0"/>
                    </a:lnTo>
                    <a:lnTo>
                      <a:pt x="0" y="173"/>
                    </a:lnTo>
                    <a:lnTo>
                      <a:pt x="0" y="87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3618000" y="4778280"/>
                <a:ext cx="27468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flipH="1">
              <a:off x="5119560" y="2757600"/>
              <a:ext cx="519120" cy="660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4815000" y="5064120"/>
              <a:ext cx="304560" cy="54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2249640" y="5124600"/>
              <a:ext cx="1051200" cy="1111680"/>
              <a:chOff x="2249640" y="5124600"/>
              <a:chExt cx="1051200" cy="1111680"/>
            </a:xfrm>
          </p:grpSpPr>
          <p:sp>
            <p:nvSpPr>
              <p:cNvPr id="521" name=""/>
              <p:cNvSpPr/>
              <p:nvPr/>
            </p:nvSpPr>
            <p:spPr>
              <a:xfrm>
                <a:off x="2298600" y="5124600"/>
                <a:ext cx="970200" cy="1111680"/>
              </a:xfrm>
              <a:custGeom>
                <a:avLst/>
                <a:gdLst/>
                <a:ahLst/>
                <a:rect l="0" t="0" r="r" b="b"/>
                <a:pathLst>
                  <a:path w="2695" h="3088">
                    <a:moveTo>
                      <a:pt x="0" y="3088"/>
                    </a:moveTo>
                    <a:lnTo>
                      <a:pt x="2156" y="3088"/>
                    </a:lnTo>
                    <a:lnTo>
                      <a:pt x="2695" y="2471"/>
                    </a:lnTo>
                    <a:lnTo>
                      <a:pt x="2695" y="0"/>
                    </a:lnTo>
                    <a:lnTo>
                      <a:pt x="2156" y="617"/>
                    </a:lnTo>
                    <a:lnTo>
                      <a:pt x="2156" y="3088"/>
                    </a:lnTo>
                    <a:lnTo>
                      <a:pt x="2156" y="617"/>
                    </a:lnTo>
                    <a:lnTo>
                      <a:pt x="0" y="617"/>
                    </a:lnTo>
                    <a:lnTo>
                      <a:pt x="538" y="0"/>
                    </a:lnTo>
                    <a:lnTo>
                      <a:pt x="2695" y="0"/>
                    </a:lnTo>
                    <a:lnTo>
                      <a:pt x="538" y="0"/>
                    </a:lnTo>
                    <a:lnTo>
                      <a:pt x="0" y="617"/>
                    </a:lnTo>
                    <a:lnTo>
                      <a:pt x="0" y="3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5fb"/>
                  </a:gs>
                  <a:gs pos="50000">
                    <a:srgbClr val="000000"/>
                  </a:gs>
                  <a:gs pos="100000">
                    <a:srgbClr val="3365f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081240" y="5419800"/>
                <a:ext cx="219600" cy="538560"/>
              </a:xfrm>
              <a:custGeom>
                <a:avLst/>
                <a:gdLst/>
                <a:ahLst/>
                <a:rect l="0" t="0" r="r" b="b"/>
                <a:pathLst>
                  <a:path w="610" h="1496">
                    <a:moveTo>
                      <a:pt x="0" y="1496"/>
                    </a:moveTo>
                    <a:lnTo>
                      <a:pt x="488" y="1496"/>
                    </a:lnTo>
                    <a:lnTo>
                      <a:pt x="610" y="1197"/>
                    </a:lnTo>
                    <a:lnTo>
                      <a:pt x="610" y="0"/>
                    </a:lnTo>
                    <a:lnTo>
                      <a:pt x="488" y="298"/>
                    </a:lnTo>
                    <a:lnTo>
                      <a:pt x="488" y="1496"/>
                    </a:lnTo>
                    <a:lnTo>
                      <a:pt x="488" y="298"/>
                    </a:lnTo>
                    <a:lnTo>
                      <a:pt x="0" y="298"/>
                    </a:lnTo>
                    <a:lnTo>
                      <a:pt x="121" y="0"/>
                    </a:lnTo>
                    <a:lnTo>
                      <a:pt x="610" y="0"/>
                    </a:lnTo>
                    <a:lnTo>
                      <a:pt x="121" y="0"/>
                    </a:lnTo>
                    <a:lnTo>
                      <a:pt x="0" y="298"/>
                    </a:lnTo>
                    <a:lnTo>
                      <a:pt x="0" y="1496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2249640" y="5433840"/>
                <a:ext cx="74628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3543480" y="2743200"/>
              <a:ext cx="174600" cy="55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4080" y="3784680"/>
              <a:ext cx="970200" cy="1111680"/>
            </a:xfrm>
            <a:custGeom>
              <a:avLst/>
              <a:gdLst/>
              <a:ahLst/>
              <a:rect l="0" t="0" r="r" b="b"/>
              <a:pathLst>
                <a:path w="2695" h="3088">
                  <a:moveTo>
                    <a:pt x="0" y="3088"/>
                  </a:moveTo>
                  <a:lnTo>
                    <a:pt x="2156" y="3088"/>
                  </a:lnTo>
                  <a:lnTo>
                    <a:pt x="2695" y="2471"/>
                  </a:lnTo>
                  <a:lnTo>
                    <a:pt x="2695" y="0"/>
                  </a:lnTo>
                  <a:lnTo>
                    <a:pt x="2156" y="617"/>
                  </a:lnTo>
                  <a:lnTo>
                    <a:pt x="2156" y="3088"/>
                  </a:lnTo>
                  <a:lnTo>
                    <a:pt x="2156" y="617"/>
                  </a:lnTo>
                  <a:lnTo>
                    <a:pt x="0" y="617"/>
                  </a:lnTo>
                  <a:lnTo>
                    <a:pt x="538" y="0"/>
                  </a:lnTo>
                  <a:lnTo>
                    <a:pt x="2695" y="0"/>
                  </a:lnTo>
                  <a:lnTo>
                    <a:pt x="538" y="0"/>
                  </a:lnTo>
                  <a:lnTo>
                    <a:pt x="0" y="617"/>
                  </a:lnTo>
                  <a:lnTo>
                    <a:pt x="0" y="3088"/>
                  </a:lnTo>
                  <a:close/>
                </a:path>
              </a:pathLst>
            </a:custGeom>
            <a:gradFill rotWithShape="0">
              <a:gsLst>
                <a:gs pos="0">
                  <a:srgbClr val="3365fb"/>
                </a:gs>
                <a:gs pos="50000">
                  <a:srgbClr val="000000"/>
                </a:gs>
                <a:gs pos="100000">
                  <a:srgbClr val="3365fb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06720" y="4079880"/>
              <a:ext cx="219600" cy="538560"/>
            </a:xfrm>
            <a:custGeom>
              <a:avLst/>
              <a:gdLst/>
              <a:ahLst/>
              <a:rect l="0" t="0" r="r" b="b"/>
              <a:pathLst>
                <a:path w="610" h="1496">
                  <a:moveTo>
                    <a:pt x="0" y="1496"/>
                  </a:moveTo>
                  <a:lnTo>
                    <a:pt x="488" y="1496"/>
                  </a:lnTo>
                  <a:lnTo>
                    <a:pt x="610" y="1197"/>
                  </a:lnTo>
                  <a:lnTo>
                    <a:pt x="610" y="0"/>
                  </a:lnTo>
                  <a:lnTo>
                    <a:pt x="488" y="298"/>
                  </a:lnTo>
                  <a:lnTo>
                    <a:pt x="488" y="1496"/>
                  </a:lnTo>
                  <a:lnTo>
                    <a:pt x="488" y="298"/>
                  </a:lnTo>
                  <a:lnTo>
                    <a:pt x="0" y="298"/>
                  </a:lnTo>
                  <a:lnTo>
                    <a:pt x="121" y="0"/>
                  </a:lnTo>
                  <a:lnTo>
                    <a:pt x="610" y="0"/>
                  </a:lnTo>
                  <a:lnTo>
                    <a:pt x="121" y="0"/>
                  </a:lnTo>
                  <a:lnTo>
                    <a:pt x="0" y="298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1335240" y="4156200"/>
              <a:ext cx="746280" cy="20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944800" y="4087800"/>
              <a:ext cx="311400" cy="345960"/>
              <a:chOff x="2944800" y="4087800"/>
              <a:chExt cx="311400" cy="345960"/>
            </a:xfrm>
          </p:grpSpPr>
          <p:sp>
            <p:nvSpPr>
              <p:cNvPr id="529" name=""/>
              <p:cNvSpPr/>
              <p:nvPr/>
            </p:nvSpPr>
            <p:spPr>
              <a:xfrm>
                <a:off x="2944800" y="4087800"/>
                <a:ext cx="311400" cy="313200"/>
              </a:xfrm>
              <a:custGeom>
                <a:avLst/>
                <a:gdLst/>
                <a:ahLst/>
                <a:rect l="0" t="0" r="r" b="b"/>
                <a:pathLst>
                  <a:path w="865" h="870">
                    <a:moveTo>
                      <a:pt x="0" y="870"/>
                    </a:moveTo>
                    <a:lnTo>
                      <a:pt x="692" y="870"/>
                    </a:lnTo>
                    <a:lnTo>
                      <a:pt x="865" y="696"/>
                    </a:lnTo>
                    <a:lnTo>
                      <a:pt x="865" y="0"/>
                    </a:lnTo>
                    <a:lnTo>
                      <a:pt x="692" y="173"/>
                    </a:lnTo>
                    <a:lnTo>
                      <a:pt x="692" y="870"/>
                    </a:lnTo>
                    <a:lnTo>
                      <a:pt x="692" y="173"/>
                    </a:lnTo>
                    <a:lnTo>
                      <a:pt x="0" y="173"/>
                    </a:lnTo>
                    <a:lnTo>
                      <a:pt x="172" y="0"/>
                    </a:lnTo>
                    <a:lnTo>
                      <a:pt x="865" y="0"/>
                    </a:lnTo>
                    <a:lnTo>
                      <a:pt x="172" y="0"/>
                    </a:lnTo>
                    <a:lnTo>
                      <a:pt x="0" y="173"/>
                    </a:lnTo>
                    <a:lnTo>
                      <a:pt x="0" y="87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2948040" y="4168800"/>
                <a:ext cx="27468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2254320" y="427212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421240" y="3967200"/>
              <a:ext cx="313200" cy="345960"/>
              <a:chOff x="5421240" y="3967200"/>
              <a:chExt cx="313200" cy="345960"/>
            </a:xfrm>
          </p:grpSpPr>
          <p:sp>
            <p:nvSpPr>
              <p:cNvPr id="533" name=""/>
              <p:cNvSpPr/>
              <p:nvPr/>
            </p:nvSpPr>
            <p:spPr>
              <a:xfrm>
                <a:off x="5421240" y="3967200"/>
                <a:ext cx="313200" cy="313200"/>
              </a:xfrm>
              <a:custGeom>
                <a:avLst/>
                <a:gdLst/>
                <a:ahLst/>
                <a:rect l="0" t="0" r="r" b="b"/>
                <a:pathLst>
                  <a:path w="870" h="870">
                    <a:moveTo>
                      <a:pt x="870" y="870"/>
                    </a:moveTo>
                    <a:lnTo>
                      <a:pt x="173" y="870"/>
                    </a:lnTo>
                    <a:lnTo>
                      <a:pt x="0" y="696"/>
                    </a:lnTo>
                    <a:lnTo>
                      <a:pt x="0" y="0"/>
                    </a:lnTo>
                    <a:lnTo>
                      <a:pt x="173" y="173"/>
                    </a:lnTo>
                    <a:lnTo>
                      <a:pt x="173" y="870"/>
                    </a:lnTo>
                    <a:lnTo>
                      <a:pt x="173" y="173"/>
                    </a:lnTo>
                    <a:lnTo>
                      <a:pt x="870" y="173"/>
                    </a:lnTo>
                    <a:lnTo>
                      <a:pt x="696" y="0"/>
                    </a:lnTo>
                    <a:lnTo>
                      <a:pt x="0" y="0"/>
                    </a:lnTo>
                    <a:lnTo>
                      <a:pt x="696" y="0"/>
                    </a:lnTo>
                    <a:lnTo>
                      <a:pt x="870" y="173"/>
                    </a:lnTo>
                    <a:lnTo>
                      <a:pt x="870" y="87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5451480" y="4048200"/>
                <a:ext cx="27468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510080" y="4759200"/>
              <a:ext cx="314640" cy="345960"/>
              <a:chOff x="4510080" y="4759200"/>
              <a:chExt cx="314640" cy="345960"/>
            </a:xfrm>
          </p:grpSpPr>
          <p:sp>
            <p:nvSpPr>
              <p:cNvPr id="536" name=""/>
              <p:cNvSpPr/>
              <p:nvPr/>
            </p:nvSpPr>
            <p:spPr>
              <a:xfrm>
                <a:off x="4510080" y="4759200"/>
                <a:ext cx="314640" cy="314640"/>
              </a:xfrm>
              <a:custGeom>
                <a:avLst/>
                <a:gdLst/>
                <a:ahLst/>
                <a:rect l="0" t="0" r="r" b="b"/>
                <a:pathLst>
                  <a:path w="874" h="874">
                    <a:moveTo>
                      <a:pt x="874" y="874"/>
                    </a:moveTo>
                    <a:lnTo>
                      <a:pt x="174" y="874"/>
                    </a:lnTo>
                    <a:lnTo>
                      <a:pt x="0" y="699"/>
                    </a:lnTo>
                    <a:lnTo>
                      <a:pt x="0" y="0"/>
                    </a:lnTo>
                    <a:lnTo>
                      <a:pt x="174" y="174"/>
                    </a:lnTo>
                    <a:lnTo>
                      <a:pt x="174" y="874"/>
                    </a:lnTo>
                    <a:lnTo>
                      <a:pt x="174" y="174"/>
                    </a:lnTo>
                    <a:lnTo>
                      <a:pt x="874" y="174"/>
                    </a:lnTo>
                    <a:lnTo>
                      <a:pt x="699" y="0"/>
                    </a:lnTo>
                    <a:lnTo>
                      <a:pt x="0" y="0"/>
                    </a:lnTo>
                    <a:lnTo>
                      <a:pt x="699" y="0"/>
                    </a:lnTo>
                    <a:lnTo>
                      <a:pt x="874" y="174"/>
                    </a:lnTo>
                    <a:lnTo>
                      <a:pt x="874" y="874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4540320" y="4840200"/>
                <a:ext cx="27468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811760" y="3295800"/>
              <a:ext cx="313200" cy="345600"/>
              <a:chOff x="4811760" y="3295800"/>
              <a:chExt cx="313200" cy="345600"/>
            </a:xfrm>
          </p:grpSpPr>
          <p:sp>
            <p:nvSpPr>
              <p:cNvPr id="539" name=""/>
              <p:cNvSpPr/>
              <p:nvPr/>
            </p:nvSpPr>
            <p:spPr>
              <a:xfrm>
                <a:off x="4811760" y="3295800"/>
                <a:ext cx="313200" cy="314640"/>
              </a:xfrm>
              <a:custGeom>
                <a:avLst/>
                <a:gdLst/>
                <a:ahLst/>
                <a:rect l="0" t="0" r="r" b="b"/>
                <a:pathLst>
                  <a:path w="870" h="874">
                    <a:moveTo>
                      <a:pt x="870" y="874"/>
                    </a:moveTo>
                    <a:lnTo>
                      <a:pt x="173" y="874"/>
                    </a:lnTo>
                    <a:lnTo>
                      <a:pt x="0" y="699"/>
                    </a:lnTo>
                    <a:lnTo>
                      <a:pt x="0" y="0"/>
                    </a:lnTo>
                    <a:lnTo>
                      <a:pt x="173" y="174"/>
                    </a:lnTo>
                    <a:lnTo>
                      <a:pt x="173" y="874"/>
                    </a:lnTo>
                    <a:lnTo>
                      <a:pt x="173" y="174"/>
                    </a:lnTo>
                    <a:lnTo>
                      <a:pt x="870" y="174"/>
                    </a:lnTo>
                    <a:lnTo>
                      <a:pt x="696" y="0"/>
                    </a:lnTo>
                    <a:lnTo>
                      <a:pt x="0" y="0"/>
                    </a:lnTo>
                    <a:lnTo>
                      <a:pt x="696" y="0"/>
                    </a:lnTo>
                    <a:lnTo>
                      <a:pt x="870" y="174"/>
                    </a:lnTo>
                    <a:lnTo>
                      <a:pt x="870" y="874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4842000" y="3376440"/>
                <a:ext cx="27468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flipV="1">
              <a:off x="3300480" y="5010120"/>
              <a:ext cx="40644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6464160" y="3584520"/>
              <a:ext cx="1000800" cy="1114920"/>
              <a:chOff x="6464160" y="3584520"/>
              <a:chExt cx="1000800" cy="1114920"/>
            </a:xfrm>
          </p:grpSpPr>
          <p:sp>
            <p:nvSpPr>
              <p:cNvPr id="543" name=""/>
              <p:cNvSpPr/>
              <p:nvPr/>
            </p:nvSpPr>
            <p:spPr>
              <a:xfrm>
                <a:off x="6496200" y="3584520"/>
                <a:ext cx="968760" cy="1114920"/>
              </a:xfrm>
              <a:custGeom>
                <a:avLst/>
                <a:gdLst/>
                <a:ahLst/>
                <a:rect l="0" t="0" r="r" b="b"/>
                <a:pathLst>
                  <a:path w="2691" h="3097">
                    <a:moveTo>
                      <a:pt x="2691" y="3097"/>
                    </a:moveTo>
                    <a:lnTo>
                      <a:pt x="537" y="3097"/>
                    </a:lnTo>
                    <a:lnTo>
                      <a:pt x="0" y="2478"/>
                    </a:lnTo>
                    <a:lnTo>
                      <a:pt x="0" y="0"/>
                    </a:lnTo>
                    <a:lnTo>
                      <a:pt x="537" y="619"/>
                    </a:lnTo>
                    <a:lnTo>
                      <a:pt x="537" y="3097"/>
                    </a:lnTo>
                    <a:lnTo>
                      <a:pt x="537" y="619"/>
                    </a:lnTo>
                    <a:lnTo>
                      <a:pt x="2691" y="619"/>
                    </a:lnTo>
                    <a:lnTo>
                      <a:pt x="2153" y="0"/>
                    </a:lnTo>
                    <a:lnTo>
                      <a:pt x="0" y="0"/>
                    </a:lnTo>
                    <a:lnTo>
                      <a:pt x="2153" y="0"/>
                    </a:lnTo>
                    <a:lnTo>
                      <a:pt x="2691" y="619"/>
                    </a:lnTo>
                    <a:lnTo>
                      <a:pt x="2691" y="30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5fb"/>
                  </a:gs>
                  <a:gs pos="50000">
                    <a:srgbClr val="000000"/>
                  </a:gs>
                  <a:gs pos="100000">
                    <a:srgbClr val="3365f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64160" y="3881520"/>
                <a:ext cx="217800" cy="540000"/>
              </a:xfrm>
              <a:custGeom>
                <a:avLst/>
                <a:gdLst/>
                <a:ahLst/>
                <a:rect l="0" t="0" r="r" b="b"/>
                <a:pathLst>
                  <a:path w="605" h="1500">
                    <a:moveTo>
                      <a:pt x="605" y="1500"/>
                    </a:moveTo>
                    <a:lnTo>
                      <a:pt x="120" y="1500"/>
                    </a:lnTo>
                    <a:lnTo>
                      <a:pt x="0" y="1200"/>
                    </a:lnTo>
                    <a:lnTo>
                      <a:pt x="0" y="0"/>
                    </a:lnTo>
                    <a:lnTo>
                      <a:pt x="120" y="299"/>
                    </a:lnTo>
                    <a:lnTo>
                      <a:pt x="120" y="1500"/>
                    </a:lnTo>
                    <a:lnTo>
                      <a:pt x="120" y="299"/>
                    </a:lnTo>
                    <a:lnTo>
                      <a:pt x="605" y="299"/>
                    </a:lnTo>
                    <a:lnTo>
                      <a:pt x="484" y="0"/>
                    </a:lnTo>
                    <a:lnTo>
                      <a:pt x="0" y="0"/>
                    </a:lnTo>
                    <a:lnTo>
                      <a:pt x="484" y="0"/>
                    </a:lnTo>
                    <a:lnTo>
                      <a:pt x="605" y="299"/>
                    </a:lnTo>
                    <a:lnTo>
                      <a:pt x="605" y="1500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6669000" y="3911760"/>
                <a:ext cx="74628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H="1">
              <a:off x="5729400" y="4089240"/>
              <a:ext cx="731880" cy="25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992160" y="5877000"/>
              <a:ext cx="1096920" cy="4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6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ort(r/1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2492280" y="2193840"/>
              <a:ext cx="1042200" cy="1114920"/>
              <a:chOff x="2492280" y="2193840"/>
              <a:chExt cx="1042200" cy="1114920"/>
            </a:xfrm>
          </p:grpSpPr>
          <p:sp>
            <p:nvSpPr>
              <p:cNvPr id="549" name=""/>
              <p:cNvSpPr/>
              <p:nvPr/>
            </p:nvSpPr>
            <p:spPr>
              <a:xfrm>
                <a:off x="2532240" y="2193840"/>
                <a:ext cx="972000" cy="1114920"/>
              </a:xfrm>
              <a:custGeom>
                <a:avLst/>
                <a:gdLst/>
                <a:ahLst/>
                <a:rect l="0" t="0" r="r" b="b"/>
                <a:pathLst>
                  <a:path w="2700" h="3097">
                    <a:moveTo>
                      <a:pt x="0" y="3097"/>
                    </a:moveTo>
                    <a:lnTo>
                      <a:pt x="2161" y="3097"/>
                    </a:lnTo>
                    <a:lnTo>
                      <a:pt x="2700" y="2478"/>
                    </a:lnTo>
                    <a:lnTo>
                      <a:pt x="2700" y="0"/>
                    </a:lnTo>
                    <a:lnTo>
                      <a:pt x="2161" y="619"/>
                    </a:lnTo>
                    <a:lnTo>
                      <a:pt x="2161" y="3097"/>
                    </a:lnTo>
                    <a:lnTo>
                      <a:pt x="2161" y="619"/>
                    </a:lnTo>
                    <a:lnTo>
                      <a:pt x="0" y="619"/>
                    </a:lnTo>
                    <a:lnTo>
                      <a:pt x="539" y="0"/>
                    </a:lnTo>
                    <a:lnTo>
                      <a:pt x="2700" y="0"/>
                    </a:lnTo>
                    <a:lnTo>
                      <a:pt x="539" y="0"/>
                    </a:lnTo>
                    <a:lnTo>
                      <a:pt x="0" y="619"/>
                    </a:lnTo>
                    <a:lnTo>
                      <a:pt x="0" y="30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5fb"/>
                  </a:gs>
                  <a:gs pos="50000">
                    <a:srgbClr val="000000"/>
                  </a:gs>
                  <a:gs pos="100000">
                    <a:srgbClr val="3365f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314880" y="2490840"/>
                <a:ext cx="219600" cy="538560"/>
              </a:xfrm>
              <a:custGeom>
                <a:avLst/>
                <a:gdLst/>
                <a:ahLst/>
                <a:rect l="0" t="0" r="r" b="b"/>
                <a:pathLst>
                  <a:path w="610" h="1496">
                    <a:moveTo>
                      <a:pt x="0" y="1496"/>
                    </a:moveTo>
                    <a:lnTo>
                      <a:pt x="488" y="1496"/>
                    </a:lnTo>
                    <a:lnTo>
                      <a:pt x="610" y="1197"/>
                    </a:lnTo>
                    <a:lnTo>
                      <a:pt x="610" y="0"/>
                    </a:lnTo>
                    <a:lnTo>
                      <a:pt x="488" y="298"/>
                    </a:lnTo>
                    <a:lnTo>
                      <a:pt x="488" y="1496"/>
                    </a:lnTo>
                    <a:lnTo>
                      <a:pt x="488" y="298"/>
                    </a:lnTo>
                    <a:lnTo>
                      <a:pt x="0" y="298"/>
                    </a:lnTo>
                    <a:lnTo>
                      <a:pt x="121" y="0"/>
                    </a:lnTo>
                    <a:lnTo>
                      <a:pt x="610" y="0"/>
                    </a:lnTo>
                    <a:lnTo>
                      <a:pt x="121" y="0"/>
                    </a:lnTo>
                    <a:lnTo>
                      <a:pt x="0" y="298"/>
                    </a:lnTo>
                    <a:lnTo>
                      <a:pt x="0" y="1496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2492280" y="2540160"/>
                <a:ext cx="74628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 txBox="1"/>
            <p:nvPr/>
          </p:nvSpPr>
          <p:spPr>
            <a:xfrm>
              <a:off x="2654280" y="2689200"/>
              <a:ext cx="48744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5610240" y="2182680"/>
              <a:ext cx="1000440" cy="1113120"/>
              <a:chOff x="5610240" y="2182680"/>
              <a:chExt cx="1000440" cy="1113120"/>
            </a:xfrm>
          </p:grpSpPr>
          <p:sp>
            <p:nvSpPr>
              <p:cNvPr id="554" name=""/>
              <p:cNvSpPr/>
              <p:nvPr/>
            </p:nvSpPr>
            <p:spPr>
              <a:xfrm>
                <a:off x="5641920" y="2182680"/>
                <a:ext cx="968760" cy="1113120"/>
              </a:xfrm>
              <a:custGeom>
                <a:avLst/>
                <a:gdLst/>
                <a:ahLst/>
                <a:rect l="0" t="0" r="r" b="b"/>
                <a:pathLst>
                  <a:path w="2691" h="3092">
                    <a:moveTo>
                      <a:pt x="2691" y="3092"/>
                    </a:moveTo>
                    <a:lnTo>
                      <a:pt x="537" y="3092"/>
                    </a:lnTo>
                    <a:lnTo>
                      <a:pt x="0" y="2473"/>
                    </a:lnTo>
                    <a:lnTo>
                      <a:pt x="0" y="0"/>
                    </a:lnTo>
                    <a:lnTo>
                      <a:pt x="537" y="618"/>
                    </a:lnTo>
                    <a:lnTo>
                      <a:pt x="537" y="3092"/>
                    </a:lnTo>
                    <a:lnTo>
                      <a:pt x="537" y="618"/>
                    </a:lnTo>
                    <a:lnTo>
                      <a:pt x="2691" y="618"/>
                    </a:lnTo>
                    <a:lnTo>
                      <a:pt x="2153" y="0"/>
                    </a:lnTo>
                    <a:lnTo>
                      <a:pt x="0" y="0"/>
                    </a:lnTo>
                    <a:lnTo>
                      <a:pt x="2153" y="0"/>
                    </a:lnTo>
                    <a:lnTo>
                      <a:pt x="2691" y="618"/>
                    </a:lnTo>
                    <a:lnTo>
                      <a:pt x="2691" y="30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65fb"/>
                  </a:gs>
                  <a:gs pos="50000">
                    <a:srgbClr val="000000"/>
                  </a:gs>
                  <a:gs pos="100000">
                    <a:srgbClr val="3365f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610240" y="2479680"/>
                <a:ext cx="219600" cy="540000"/>
              </a:xfrm>
              <a:custGeom>
                <a:avLst/>
                <a:gdLst/>
                <a:ahLst/>
                <a:rect l="0" t="0" r="r" b="b"/>
                <a:pathLst>
                  <a:path w="610" h="1500">
                    <a:moveTo>
                      <a:pt x="610" y="1500"/>
                    </a:moveTo>
                    <a:lnTo>
                      <a:pt x="121" y="1500"/>
                    </a:lnTo>
                    <a:lnTo>
                      <a:pt x="0" y="1200"/>
                    </a:lnTo>
                    <a:lnTo>
                      <a:pt x="0" y="0"/>
                    </a:lnTo>
                    <a:lnTo>
                      <a:pt x="121" y="299"/>
                    </a:lnTo>
                    <a:lnTo>
                      <a:pt x="121" y="1500"/>
                    </a:lnTo>
                    <a:lnTo>
                      <a:pt x="121" y="299"/>
                    </a:lnTo>
                    <a:lnTo>
                      <a:pt x="610" y="299"/>
                    </a:lnTo>
                    <a:lnTo>
                      <a:pt x="488" y="0"/>
                    </a:lnTo>
                    <a:lnTo>
                      <a:pt x="0" y="0"/>
                    </a:lnTo>
                    <a:lnTo>
                      <a:pt x="488" y="0"/>
                    </a:lnTo>
                    <a:lnTo>
                      <a:pt x="610" y="299"/>
                    </a:lnTo>
                    <a:lnTo>
                      <a:pt x="610" y="1500"/>
                    </a:lnTo>
                    <a:close/>
                  </a:path>
                </a:pathLst>
              </a:custGeom>
              <a:solidFill>
                <a:srgbClr val="00ae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 txBox="1"/>
              <p:nvPr/>
            </p:nvSpPr>
            <p:spPr>
              <a:xfrm>
                <a:off x="5815080" y="2509920"/>
                <a:ext cx="746280" cy="20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6022800" y="2705040"/>
                <a:ext cx="487440" cy="40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 txBox="1"/>
            <p:nvPr/>
          </p:nvSpPr>
          <p:spPr>
            <a:xfrm>
              <a:off x="1449360" y="4349880"/>
              <a:ext cx="48744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2425680" y="5691240"/>
              <a:ext cx="48744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6815160" y="4167360"/>
              <a:ext cx="48744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5162400" y="5289480"/>
              <a:ext cx="970200" cy="1113120"/>
              <a:chOff x="5162400" y="5289480"/>
              <a:chExt cx="970200" cy="111312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5162400" y="5289480"/>
                <a:ext cx="970200" cy="1113120"/>
                <a:chOff x="5162400" y="5289480"/>
                <a:chExt cx="970200" cy="11131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5162400" y="5289480"/>
                  <a:ext cx="970200" cy="1113120"/>
                </a:xfrm>
                <a:custGeom>
                  <a:avLst/>
                  <a:gdLst/>
                  <a:ahLst/>
                  <a:rect l="0" t="0" r="r" b="b"/>
                  <a:pathLst>
                    <a:path w="2695" h="3092">
                      <a:moveTo>
                        <a:pt x="2695" y="3092"/>
                      </a:moveTo>
                      <a:lnTo>
                        <a:pt x="538" y="3092"/>
                      </a:lnTo>
                      <a:lnTo>
                        <a:pt x="0" y="2473"/>
                      </a:lnTo>
                      <a:lnTo>
                        <a:pt x="0" y="0"/>
                      </a:lnTo>
                      <a:lnTo>
                        <a:pt x="538" y="618"/>
                      </a:lnTo>
                      <a:lnTo>
                        <a:pt x="538" y="3092"/>
                      </a:lnTo>
                      <a:lnTo>
                        <a:pt x="538" y="618"/>
                      </a:lnTo>
                      <a:lnTo>
                        <a:pt x="2695" y="618"/>
                      </a:lnTo>
                      <a:lnTo>
                        <a:pt x="2156" y="0"/>
                      </a:lnTo>
                      <a:lnTo>
                        <a:pt x="0" y="0"/>
                      </a:lnTo>
                      <a:lnTo>
                        <a:pt x="2156" y="0"/>
                      </a:lnTo>
                      <a:lnTo>
                        <a:pt x="2695" y="618"/>
                      </a:lnTo>
                      <a:lnTo>
                        <a:pt x="2695" y="30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afd00"/>
                    </a:gs>
                    <a:gs pos="50000">
                      <a:srgbClr val="000000"/>
                    </a:gs>
                    <a:gs pos="100000">
                      <a:srgbClr val="fafd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191200" y="5462640"/>
                  <a:ext cx="219600" cy="538560"/>
                </a:xfrm>
                <a:custGeom>
                  <a:avLst/>
                  <a:gdLst/>
                  <a:ahLst/>
                  <a:rect l="0" t="0" r="r" b="b"/>
                  <a:pathLst>
                    <a:path w="610" h="1496">
                      <a:moveTo>
                        <a:pt x="610" y="1496"/>
                      </a:moveTo>
                      <a:lnTo>
                        <a:pt x="121" y="1496"/>
                      </a:lnTo>
                      <a:lnTo>
                        <a:pt x="0" y="1197"/>
                      </a:lnTo>
                      <a:lnTo>
                        <a:pt x="0" y="0"/>
                      </a:lnTo>
                      <a:lnTo>
                        <a:pt x="121" y="298"/>
                      </a:lnTo>
                      <a:lnTo>
                        <a:pt x="121" y="1496"/>
                      </a:lnTo>
                      <a:lnTo>
                        <a:pt x="121" y="298"/>
                      </a:lnTo>
                      <a:lnTo>
                        <a:pt x="610" y="298"/>
                      </a:lnTo>
                      <a:lnTo>
                        <a:pt x="488" y="0"/>
                      </a:lnTo>
                      <a:lnTo>
                        <a:pt x="0" y="0"/>
                      </a:lnTo>
                      <a:lnTo>
                        <a:pt x="488" y="0"/>
                      </a:lnTo>
                      <a:lnTo>
                        <a:pt x="610" y="298"/>
                      </a:lnTo>
                      <a:lnTo>
                        <a:pt x="610" y="1496"/>
                      </a:lnTo>
                      <a:close/>
                    </a:path>
                  </a:pathLst>
                </a:custGeom>
                <a:solidFill>
                  <a:srgbClr val="00ae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 txBox="1"/>
                <p:nvPr/>
              </p:nvSpPr>
              <p:spPr>
                <a:xfrm>
                  <a:off x="5332320" y="5697360"/>
                  <a:ext cx="774720" cy="22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90000"/>
                    </a:lnSpc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acilitator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 txBox="1"/>
              <p:nvPr/>
            </p:nvSpPr>
            <p:spPr>
              <a:xfrm>
                <a:off x="5533920" y="5873760"/>
                <a:ext cx="487440" cy="40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166680" y="3951360"/>
              <a:ext cx="1157400" cy="897120"/>
              <a:chOff x="166680" y="3951360"/>
              <a:chExt cx="1157400" cy="897120"/>
            </a:xfrm>
          </p:grpSpPr>
          <p:sp>
            <p:nvSpPr>
              <p:cNvPr id="568" name=""/>
              <p:cNvSpPr txBox="1"/>
              <p:nvPr/>
            </p:nvSpPr>
            <p:spPr>
              <a:xfrm>
                <a:off x="166680" y="4361040"/>
                <a:ext cx="1157400" cy="48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(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xport(q/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174600" y="3951360"/>
                <a:ext cx="10414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Knows 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581040" y="1878120"/>
              <a:ext cx="2286000" cy="1500120"/>
              <a:chOff x="581040" y="1878120"/>
              <a:chExt cx="2286000" cy="1500120"/>
            </a:xfrm>
          </p:grpSpPr>
          <p:sp>
            <p:nvSpPr>
              <p:cNvPr id="571" name=""/>
              <p:cNvSpPr txBox="1"/>
              <p:nvPr/>
            </p:nvSpPr>
            <p:spPr>
              <a:xfrm>
                <a:off x="749160" y="2282760"/>
                <a:ext cx="1752480" cy="109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6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(X,Y):-q(X),r(Y)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xport(p/2)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mport(q/1)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mport(r/1)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581040" y="1878120"/>
                <a:ext cx="22860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Knows “P if Q and R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 txBox="1"/>
            <p:nvPr/>
          </p:nvSpPr>
          <p:spPr>
            <a:xfrm>
              <a:off x="1012680" y="5462640"/>
              <a:ext cx="10288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Knows 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6143760" y="5056200"/>
              <a:ext cx="2530440" cy="1504800"/>
              <a:chOff x="6143760" y="5056200"/>
              <a:chExt cx="2530440" cy="1504800"/>
            </a:xfrm>
          </p:grpSpPr>
          <p:sp>
            <p:nvSpPr>
              <p:cNvPr id="575" name=""/>
              <p:cNvSpPr txBox="1"/>
              <p:nvPr/>
            </p:nvSpPr>
            <p:spPr>
              <a:xfrm>
                <a:off x="6257880" y="5537160"/>
                <a:ext cx="2416320" cy="10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ame(a1, 128.62.39.4)  . . 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mport(a1,p/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xport(a4,r/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  <a:spcBef>
                    <a:spcPts val="1199"/>
                  </a:spcBef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xport(a6,p2) . . 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6143760" y="5056200"/>
                <a:ext cx="24400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Knows who knows wh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524640" y="2097000"/>
              <a:ext cx="1778040" cy="916200"/>
              <a:chOff x="6524640" y="2097000"/>
              <a:chExt cx="1778040" cy="916200"/>
            </a:xfrm>
          </p:grpSpPr>
          <p:sp>
            <p:nvSpPr>
              <p:cNvPr id="578" name=""/>
              <p:cNvSpPr txBox="1"/>
              <p:nvPr/>
            </p:nvSpPr>
            <p:spPr>
              <a:xfrm>
                <a:off x="6807240" y="2502000"/>
                <a:ext cx="1486080" cy="51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6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- p(A,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6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mport(p/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 txBox="1"/>
              <p:nvPr/>
            </p:nvSpPr>
            <p:spPr>
              <a:xfrm>
                <a:off x="6524640" y="2097000"/>
                <a:ext cx="1778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800" spc="-1" strike="noStrike">
                    <a:solidFill>
                      <a:srgbClr val="fc0128"/>
                    </a:solidFill>
                    <a:latin typeface="Times New Roman"/>
                    <a:ea typeface="Times New Roman"/>
                  </a:rPr>
                  <a:t>Wants to know 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835760" y="2502000"/>
                <a:ext cx="457560" cy="381240"/>
              </a:xfrm>
              <a:custGeom>
                <a:avLst/>
                <a:gdLst/>
                <a:ahLst/>
                <a:rect l="0" t="0" r="r" b="b"/>
                <a:pathLst>
                  <a:path w="1271" h="1059">
                    <a:moveTo>
                      <a:pt x="635" y="0"/>
                    </a:moveTo>
                    <a:lnTo>
                      <a:pt x="486" y="405"/>
                    </a:lnTo>
                    <a:lnTo>
                      <a:pt x="0" y="405"/>
                    </a:lnTo>
                    <a:lnTo>
                      <a:pt x="395" y="657"/>
                    </a:lnTo>
                    <a:lnTo>
                      <a:pt x="246" y="1059"/>
                    </a:lnTo>
                    <a:lnTo>
                      <a:pt x="635" y="826"/>
                    </a:lnTo>
                    <a:lnTo>
                      <a:pt x="1024" y="1059"/>
                    </a:lnTo>
                    <a:lnTo>
                      <a:pt x="874" y="657"/>
                    </a:lnTo>
                    <a:lnTo>
                      <a:pt x="1271" y="404"/>
                    </a:lnTo>
                    <a:lnTo>
                      <a:pt x="784" y="404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04840" y="187200"/>
            <a:ext cx="84297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KQML APIs and </a:t>
            </a:r>
            <a:br>
              <a:rPr sz="4000"/>
            </a:b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ystem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91960" y="1644480"/>
            <a:ext cx="8255160" cy="51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AP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S (Loral/UM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PI (Lockheed/EIT/Stanfo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ENTA (Stan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Ware (Cryzal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- Lisp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AgentTemplate (Stanford), Jackal (UMBC) --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(UMBC) -- Tck/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: Lisp, C, C++, Perl, Prolog, Tcl, CLIPS, Scheme, Java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 languages: LOOM, KRSL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216000">
              <a:lnSpc>
                <a:spcPct val="100000"/>
              </a:lnSpc>
              <a:spcBef>
                <a:spcPts val="28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: DBMSs, SIM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ummary and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961920" y="1981080"/>
            <a:ext cx="7219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common agent communication languages such as KQ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supports many interesting agent archite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reflects modern communication technology and protoc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can be used for efficient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tion and experience are evolving the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916760" y="5556240"/>
            <a:ext cx="714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8240" y="738360"/>
            <a:ext cx="760716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or More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79360" y="1701720"/>
            <a:ext cx="828036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1486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  <a:tabLst>
                <a:tab algn="l" pos="1028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@cs.umbc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  <a:tabLst>
                <a:tab algn="l" pos="1028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emai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domo@cs.umbc.e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with  body text “info kqml” for mor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1486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  <a:tabLst>
                <a:tab algn="l" pos="1028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kqml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1486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co-c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  <a:tabLst>
                <a:tab algn="l" pos="1028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Finin -- finin@umbc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  <a:tabLst>
                <a:tab algn="l" pos="1028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 McKay -- mckay@vfl.paramax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8031240" y="539640"/>
            <a:ext cx="714240" cy="64764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614520" y="539640"/>
            <a:ext cx="714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What is a speech a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905120"/>
            <a:ext cx="71629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0033"/>
                </a:solidFill>
                <a:latin typeface="Book Antiqua"/>
                <a:ea typeface="Book Antiqua"/>
              </a:rPr>
              <a:t>Speech act theory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 is a high level framework developed by philosophers and linguists to account for human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ers do more than just utter sentences which have a logical (truth-theoretic)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1240" indent="-17460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t is on the m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ers perform speech acts: requests, suggestions, promises, warnings, threats, criticisms, prais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1240" indent="-17460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earby promise to buy you lun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227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utterance is a speech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46000" y="528480"/>
            <a:ext cx="73375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ut the doo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480" y="1447920"/>
            <a:ext cx="81532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cording to Austin (1962), when  uttering a sentence, a speaker  is involved in three different speech acts: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7160">
              <a:lnSpc>
                <a:spcPct val="7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locutionar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7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hysical utterance with a logical meaning, including context  and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7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.e., who is the speaker and the hearer, which doo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7160">
              <a:lnSpc>
                <a:spcPct val="8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llocutionar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7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act of conveying 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7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.e., speaker wants the hearer to close 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7160">
              <a:lnSpc>
                <a:spcPct val="8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erlocutionary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7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tions that occur as a result of the illo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7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.e.,  hearer believes that the speaker wants the hearer to close the door. hearer closes the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8240" y="836640"/>
            <a:ext cx="76071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“</a:t>
            </a:r>
            <a:r>
              <a:rPr b="0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Do you know what time it is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llocutionary a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do with the speaker’s int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know what time it is?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tered wit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ocutionary fo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yes-no 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tered wit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ocutionary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ould be improper to respond with a simple 'yes'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Perform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peech act theory, a performative, is a speech act whose utterance performs an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promise, assert,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uristic: “I hearby 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KQML we use the term  </a:t>
            </a:r>
            <a:r>
              <a:rPr b="0" i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erform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an a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“primitive message typ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The clas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in, J. L. (1962)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o Things with Word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xford University Press Oxfo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le, John R. 1969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ch Acts: An Essay in the Philosophy of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ambridge: Cambridge University. Pr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25400" y="493560"/>
            <a:ext cx="7997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 KQML Me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40040" y="2273400"/>
            <a:ext cx="712800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l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sender          Ge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receiver         Gen-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in-reply-to      i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ontology         Genea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:</a:t>
            </a:r>
            <a:r>
              <a:rPr b="1" i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anguage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ntent         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ather(John,Eve)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168560" y="2768760"/>
            <a:ext cx="1168200" cy="952200"/>
          </a:xfrm>
          <a:prstGeom prst="line">
            <a:avLst/>
          </a:prstGeom>
          <a:ln w="381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320840" y="4800600"/>
            <a:ext cx="1600200" cy="660240"/>
          </a:xfrm>
          <a:prstGeom prst="line">
            <a:avLst/>
          </a:prstGeom>
          <a:ln w="381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760" y="3720960"/>
            <a:ext cx="26924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ae00"/>
                </a:solidFill>
                <a:latin typeface="Book Antiqua"/>
                <a:ea typeface="Book Antiqua"/>
              </a:rPr>
              <a:t>perf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520" y="5372280"/>
            <a:ext cx="21114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ae00"/>
                </a:solidFill>
                <a:latin typeface="Book Antiqua"/>
                <a:ea typeface="Book Antiqua"/>
              </a:rPr>
              <a:t>par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63840" y="6032520"/>
            <a:ext cx="21114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3200" spc="-1" strike="noStrike">
                <a:solidFill>
                  <a:srgbClr val="00ae00"/>
                </a:solidFill>
                <a:latin typeface="Book Antiqua"/>
                <a:ea typeface="Book Antiqu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191120" y="5587920"/>
            <a:ext cx="1143000" cy="584280"/>
          </a:xfrm>
          <a:prstGeom prst="line">
            <a:avLst/>
          </a:prstGeom>
          <a:ln w="381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KQML</dc:title>
</cp:coreProperties>
</file>