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759364-93C4-44F9-A540-C0F77B762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3320" y="318960"/>
            <a:ext cx="86328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IF</a:t>
            </a:r>
            <a:br>
              <a:rPr sz="1800"/>
            </a:br>
            <a:r>
              <a:rPr b="1" lang="en-US" sz="6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he Knowledge </a:t>
            </a:r>
            <a:br>
              <a:rPr sz="6600"/>
            </a:br>
            <a:r>
              <a:rPr b="1" lang="en-US" sz="6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terchange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19320" y="5283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material suppl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Fikes, Stanford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18960" y="395280"/>
            <a:ext cx="82011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elation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84280" y="1419120"/>
            <a:ext cx="8381880" cy="31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syntax is provided for specifying necessary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74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relation guest-meal (?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74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&gt; (and (meal ?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2574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as-slot-value ?m g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2574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lot-value-type ?m food gourmet-food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2574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relation above (?x ?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 transitive binary relation on objects that have a location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&gt; (and (located-object ?x) (located-object ?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xiom (transitive abov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7080" y="365040"/>
            <a:ext cx="89247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KIF sub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43000" y="57135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agents only need or use a subset of K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60560" y="1711440"/>
            <a:ext cx="7023240" cy="3436920"/>
            <a:chOff x="1060560" y="1711440"/>
            <a:chExt cx="7023240" cy="3436920"/>
          </a:xfrm>
        </p:grpSpPr>
        <p:sp>
          <p:nvSpPr>
            <p:cNvPr id="104" name=""/>
            <p:cNvSpPr/>
            <p:nvPr/>
          </p:nvSpPr>
          <p:spPr>
            <a:xfrm>
              <a:off x="1060560" y="1711440"/>
              <a:ext cx="7023240" cy="3436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1920" y="2057400"/>
              <a:ext cx="5851440" cy="286560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11320" y="2282760"/>
              <a:ext cx="4681440" cy="22924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52360" y="2511360"/>
              <a:ext cx="3745080" cy="18334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92320" y="2739960"/>
              <a:ext cx="2809800" cy="13748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548400" y="4498920"/>
              <a:ext cx="57456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IF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657680" y="3951360"/>
              <a:ext cx="693720" cy="483840"/>
              <a:chOff x="4657680" y="3951360"/>
              <a:chExt cx="693720" cy="483840"/>
            </a:xfrm>
          </p:grpSpPr>
          <p:sp>
            <p:nvSpPr>
              <p:cNvPr id="111" name=""/>
              <p:cNvSpPr txBox="1"/>
              <p:nvPr/>
            </p:nvSpPr>
            <p:spPr>
              <a:xfrm>
                <a:off x="4657680" y="3951360"/>
                <a:ext cx="5745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IF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5084640" y="4073400"/>
                <a:ext cx="2667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27600" y="3706920"/>
              <a:ext cx="691920" cy="483840"/>
              <a:chOff x="3927600" y="3706920"/>
              <a:chExt cx="691920" cy="483840"/>
            </a:xfrm>
          </p:grpSpPr>
          <p:sp>
            <p:nvSpPr>
              <p:cNvPr id="114" name=""/>
              <p:cNvSpPr txBox="1"/>
              <p:nvPr/>
            </p:nvSpPr>
            <p:spPr>
              <a:xfrm>
                <a:off x="3927600" y="3706920"/>
                <a:ext cx="5745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IF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352760" y="3828960"/>
                <a:ext cx="2667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073320" y="3524400"/>
              <a:ext cx="693720" cy="483840"/>
              <a:chOff x="3073320" y="3524400"/>
              <a:chExt cx="693720" cy="483840"/>
            </a:xfrm>
          </p:grpSpPr>
          <p:sp>
            <p:nvSpPr>
              <p:cNvPr id="117" name=""/>
              <p:cNvSpPr txBox="1"/>
              <p:nvPr/>
            </p:nvSpPr>
            <p:spPr>
              <a:xfrm>
                <a:off x="3073320" y="3524400"/>
                <a:ext cx="5745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IF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3500280" y="3646440"/>
                <a:ext cx="2667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 txBox="1"/>
            <p:nvPr/>
          </p:nvSpPr>
          <p:spPr>
            <a:xfrm>
              <a:off x="2098800" y="3079800"/>
              <a:ext cx="8524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lat tu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671480" y="3444840"/>
              <a:ext cx="7873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3986280" y="3147840"/>
              <a:ext cx="925560" cy="46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ic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nectiv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2600" y="3270240"/>
              <a:ext cx="66816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451480" y="4073400"/>
              <a:ext cx="692280" cy="482400"/>
              <a:chOff x="5451480" y="4073400"/>
              <a:chExt cx="692280" cy="482400"/>
            </a:xfrm>
          </p:grpSpPr>
          <p:sp>
            <p:nvSpPr>
              <p:cNvPr id="124" name=""/>
              <p:cNvSpPr txBox="1"/>
              <p:nvPr/>
            </p:nvSpPr>
            <p:spPr>
              <a:xfrm>
                <a:off x="5451480" y="4073400"/>
                <a:ext cx="5745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IF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5877000" y="4194000"/>
                <a:ext cx="26676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 txBox="1"/>
            <p:nvPr/>
          </p:nvSpPr>
          <p:spPr>
            <a:xfrm>
              <a:off x="5815080" y="3270240"/>
              <a:ext cx="1003320" cy="46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log wit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curs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63560" y="39060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KIF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36512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KIF-based reasoners are available from Stanford (Lisp implement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’s ABE (Agent Building Environment) and RAISE reasoning engine use KIF as their external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ford’s Ontolingua uses KIF as it’s internal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ors (partial) exist for a number of other KR languages, including LOOM, Classic, CLIPS, Prolog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s for KIF exist which take KIF strings into C++ or Jav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&lt;http://www.cs.umbc.edu/kif&gt; for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06320" y="301680"/>
            <a:ext cx="7731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Interchang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680" y="3505320"/>
            <a:ext cx="8001000" cy="27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F ~ First order logic with se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lingua for encod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translation among n systems from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language for reusabl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independent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expressive -- can represent knowledge in typical application knowledge b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able -- into and out of typical applica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41280" y="888840"/>
            <a:ext cx="5994720" cy="2200320"/>
            <a:chOff x="1241280" y="888840"/>
            <a:chExt cx="5994720" cy="2200320"/>
          </a:xfrm>
        </p:grpSpPr>
        <p:grpSp>
          <p:nvGrpSpPr>
            <p:cNvPr id="52" name=""/>
            <p:cNvGrpSpPr/>
            <p:nvPr/>
          </p:nvGrpSpPr>
          <p:grpSpPr>
            <a:xfrm>
              <a:off x="1241280" y="1863720"/>
              <a:ext cx="2168640" cy="1224000"/>
              <a:chOff x="1241280" y="1863720"/>
              <a:chExt cx="2168640" cy="1224000"/>
            </a:xfrm>
          </p:grpSpPr>
          <p:sp>
            <p:nvSpPr>
              <p:cNvPr id="53" name=""/>
              <p:cNvSpPr/>
              <p:nvPr/>
            </p:nvSpPr>
            <p:spPr>
              <a:xfrm>
                <a:off x="1241280" y="1863720"/>
                <a:ext cx="2168640" cy="3952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241280" y="2247840"/>
                <a:ext cx="2168640" cy="83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7080" y="2316240"/>
              <a:ext cx="1263600" cy="69228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403280" y="2401920"/>
              <a:ext cx="10396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1771560" y="2568600"/>
              <a:ext cx="2826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1614600" y="2730600"/>
              <a:ext cx="6271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1301760" y="1913040"/>
              <a:ext cx="21463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IF &lt;-&gt; Lang1 Transl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630520" y="2681280"/>
              <a:ext cx="76212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286000" y="1190520"/>
              <a:ext cx="3819600" cy="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33840" y="2271600"/>
              <a:ext cx="1173240" cy="5097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3749760" y="2327400"/>
              <a:ext cx="96048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ibra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5052960" y="1863720"/>
              <a:ext cx="2168640" cy="1224000"/>
              <a:chOff x="5052960" y="1863720"/>
              <a:chExt cx="2168640" cy="1224000"/>
            </a:xfrm>
          </p:grpSpPr>
          <p:sp>
            <p:nvSpPr>
              <p:cNvPr id="65" name=""/>
              <p:cNvSpPr/>
              <p:nvPr/>
            </p:nvSpPr>
            <p:spPr>
              <a:xfrm>
                <a:off x="5052960" y="1863720"/>
                <a:ext cx="2168640" cy="3952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52960" y="2247840"/>
                <a:ext cx="2168640" cy="83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5121360" y="2316240"/>
              <a:ext cx="1251000" cy="692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5213520" y="2398680"/>
              <a:ext cx="10396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581800" y="2565360"/>
              <a:ext cx="2826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425920" y="2727360"/>
              <a:ext cx="6271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403440" y="888840"/>
              <a:ext cx="17622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ledge in K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5089680" y="1922400"/>
              <a:ext cx="21463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IF &lt;-&gt; Lang2 Transl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6451560" y="2679840"/>
              <a:ext cx="76212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2263680" y="1190520"/>
              <a:ext cx="20880" cy="66996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105600" y="1190520"/>
              <a:ext cx="0" cy="66996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276800" y="1190520"/>
              <a:ext cx="0" cy="1036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2280" y="596880"/>
            <a:ext cx="56545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Design crite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19040" y="1701720"/>
            <a:ext cx="830592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-independent declarative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ly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ble of representing declarative knowledge in typical application KB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 semi-automatic translation into and out of typical representa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rea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o describe representation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o publish example KB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 human assisted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360" y="54756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KIF Syntax and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120" y="1897200"/>
            <a:ext cx="8321760" cy="36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version of first order predicate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list-based linear ASCII 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(forall ?x (=&gt; (P ?x) (Q ?x)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-theoretic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matic specification of large function and relatio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vocabulary for numbers, sets, an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322280" y="347760"/>
            <a:ext cx="61945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Knowledge About Functions and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20720" y="1782720"/>
            <a:ext cx="804240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ts of lists in the universe of dis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 r (setofall (listof n1 … nk ) ( r  n1 … nk 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arguments to other functions &amp;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(transitive R), (inverse R1 R2), (one-one F), (range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"applied" to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lds ?r 1 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alue ?f 1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&lt;=&gt; (transitive ?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&gt; (and (holds ?r ?x ?y) (holds ?r ?y ?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lds ?r ?x ?z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5920" y="369720"/>
            <a:ext cx="86076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Knowledge About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279440" y="1820880"/>
            <a:ext cx="6521400" cy="356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920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F expressions are lists in the universe of dis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46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&gt; (believes John '(material moon cheese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46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&gt; (believes John (listof 'material ?x ?y))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lieves Lisa (listof 'material ?x ?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920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bulary is available for "evaluating" an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46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 (denotation (listof 'F ?x ?y)) (F ?x ?y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463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&gt; (sentence ?p) (true (listof '=&gt; ?p ?p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2240" y="496800"/>
            <a:ext cx="88488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onmonotonic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73040" y="1469880"/>
            <a:ext cx="844236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 sublanguage for specifying legal i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on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&gt;&gt; (citizen ?x) (status-known ?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&gt;&gt; (not (citizen ?x)) (status-known ?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monotonic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inferences based on the "closed world assumpti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perator "consis" meaning "is consistent to assu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=&gt;&gt; (and  (bird ?x)  (consis (flies ?x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lies ?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68200" y="420840"/>
            <a:ext cx="8709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360" y="1825560"/>
            <a:ext cx="77407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F includes a basic vocabulary of defined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and if true + sin  member union first doma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ocabulary can be extended by adding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, subset, one-to-one, …, engine, pump, weigh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a sublanguage for defining objects, relations, an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extension of the representational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class, instance-of, subclass-of, value-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specification of domain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STEP "information model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3000" y="293760"/>
            <a:ext cx="87980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plete and Partial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185840"/>
            <a:ext cx="812808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971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object  origin  :=  (the-point 0 0 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function  paternal-grandfather (?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 (father (father ?x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relation has-slot-value (?frame ?sl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(exists ?y (holds ?slot ?frame ?y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relation slot-value-type (?frame ?slot ?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 (=&gt; (holds ?slot ?frame ?y) (holds ?type ?y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971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al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object id (and (= (f ?x id) ?x) (= (f id ?x) ?x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function f (and (positive (f ?x)) (= (f 1) 1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343080">
              <a:lnSpc>
                <a:spcPct val="100000"/>
              </a:lnSpc>
              <a:spcBef>
                <a:spcPts val="479"/>
              </a:spcBef>
              <a:tabLst>
                <a:tab algn="l" pos="514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frelation R  (=&gt; (&gt; ?z 0) (R ?z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ustomer</dc:creator>
  <dc:description/>
  <dc:language>en-US</dc:language>
  <cp:lastModifiedBy>Valued Gateway Customer</cp:lastModifiedBy>
  <cp:revision>0</cp:revision>
  <dc:subject/>
  <dc:title>KIF  The Knowledge  Interchange Format</dc:title>
</cp:coreProperties>
</file>