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7171C-7BD8-4F64-86A9-FDFD5EB62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not going to address that question. Because what KQML is about is the third requirement for a common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t have a shared pragma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t of rules for meeting a person and carrying on a convers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going to extend the meaning of pragmatics here, just a bit :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 up a slide with an example of some KQML right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for KQML is si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raps the data/information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ptive inform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possible for 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280" y="15228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ommunication and</a:t>
            </a:r>
            <a:br>
              <a:rPr sz="4400"/>
            </a:br>
            <a:r>
              <a:rPr b="1" lang="en-US" sz="4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Sharing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79840" y="2455920"/>
            <a:ext cx="3429000" cy="3314880"/>
            <a:chOff x="2679840" y="2455920"/>
            <a:chExt cx="3429000" cy="3314880"/>
          </a:xfrm>
        </p:grpSpPr>
        <p:sp>
          <p:nvSpPr>
            <p:cNvPr id="47" name=""/>
            <p:cNvSpPr/>
            <p:nvPr/>
          </p:nvSpPr>
          <p:spPr>
            <a:xfrm>
              <a:off x="2679840" y="2455920"/>
              <a:ext cx="3429000" cy="3314880"/>
            </a:xfrm>
            <a:prstGeom prst="ellipse">
              <a:avLst/>
            </a:prstGeom>
            <a:solidFill>
              <a:srgbClr val="a2c1fe"/>
            </a:solidFill>
            <a:ln w="76320">
              <a:solidFill>
                <a:srgbClr val="cecece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1640" y="2467080"/>
              <a:ext cx="2705400" cy="2681640"/>
            </a:xfrm>
            <a:custGeom>
              <a:avLst/>
              <a:gdLst/>
              <a:ahLst/>
              <a:rect l="0" t="0" r="r" b="b"/>
              <a:pathLst>
                <a:path w="7515" h="7449">
                  <a:moveTo>
                    <a:pt x="0" y="7449"/>
                  </a:moveTo>
                  <a:lnTo>
                    <a:pt x="7515" y="7449"/>
                  </a:lnTo>
                  <a:lnTo>
                    <a:pt x="3757" y="0"/>
                  </a:lnTo>
                  <a:lnTo>
                    <a:pt x="0" y="7449"/>
                  </a:lnTo>
                  <a:close/>
                </a:path>
              </a:pathLst>
            </a:custGeom>
            <a:solidFill>
              <a:srgbClr val="dadada"/>
            </a:solidFill>
            <a:ln w="38160">
              <a:solidFill>
                <a:srgbClr val="919191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51400" y="4843440"/>
              <a:ext cx="826560" cy="895680"/>
            </a:xfrm>
            <a:custGeom>
              <a:avLst/>
              <a:gdLst/>
              <a:ahLst/>
              <a:rect l="0" t="0" r="r" b="b"/>
              <a:pathLst>
                <a:path fill="none" w="2296" h="2488">
                  <a:moveTo>
                    <a:pt x="0" y="0"/>
                  </a:moveTo>
                  <a:lnTo>
                    <a:pt x="0" y="0"/>
                  </a:lnTo>
                  <a:cubicBezTo>
                    <a:pt x="0" y="437"/>
                    <a:pt x="106" y="866"/>
                    <a:pt x="308" y="1244"/>
                  </a:cubicBezTo>
                  <a:cubicBezTo>
                    <a:pt x="509" y="1622"/>
                    <a:pt x="799" y="1936"/>
                    <a:pt x="1148" y="2155"/>
                  </a:cubicBezTo>
                  <a:cubicBezTo>
                    <a:pt x="1497" y="2373"/>
                    <a:pt x="1893" y="2488"/>
                    <a:pt x="2296" y="2488"/>
                  </a:cubicBezTo>
                </a:path>
              </a:pathLst>
            </a:custGeom>
            <a:ln w="76320">
              <a:solidFill>
                <a:srgbClr val="cecece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67240" y="4111560"/>
              <a:ext cx="817200" cy="733680"/>
            </a:xfrm>
            <a:custGeom>
              <a:avLst/>
              <a:gdLst/>
              <a:ahLst/>
              <a:rect l="0" t="0" r="r" b="b"/>
              <a:pathLst>
                <a:path fill="none" w="2270" h="2038">
                  <a:moveTo>
                    <a:pt x="2270" y="0"/>
                  </a:moveTo>
                  <a:lnTo>
                    <a:pt x="2270" y="0"/>
                  </a:lnTo>
                  <a:cubicBezTo>
                    <a:pt x="1872" y="0"/>
                    <a:pt x="1480" y="94"/>
                    <a:pt x="1135" y="273"/>
                  </a:cubicBezTo>
                  <a:cubicBezTo>
                    <a:pt x="790" y="452"/>
                    <a:pt x="503" y="709"/>
                    <a:pt x="304" y="1019"/>
                  </a:cubicBezTo>
                  <a:cubicBezTo>
                    <a:pt x="105" y="1329"/>
                    <a:pt x="0" y="1680"/>
                    <a:pt x="0" y="2038"/>
                  </a:cubicBezTo>
                </a:path>
              </a:pathLst>
            </a:custGeom>
            <a:ln w="76320">
              <a:solidFill>
                <a:srgbClr val="cecece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93360" y="3218040"/>
              <a:ext cx="826560" cy="895680"/>
            </a:xfrm>
            <a:custGeom>
              <a:avLst/>
              <a:gdLst/>
              <a:ahLst/>
              <a:rect l="0" t="0" r="r" b="b"/>
              <a:pathLst>
                <a:path fill="none" w="2296" h="2488">
                  <a:moveTo>
                    <a:pt x="0" y="2488"/>
                  </a:moveTo>
                  <a:lnTo>
                    <a:pt x="0" y="2488"/>
                  </a:lnTo>
                  <a:cubicBezTo>
                    <a:pt x="403" y="2488"/>
                    <a:pt x="799" y="2373"/>
                    <a:pt x="1148" y="2155"/>
                  </a:cubicBezTo>
                  <a:cubicBezTo>
                    <a:pt x="1497" y="1936"/>
                    <a:pt x="1787" y="1622"/>
                    <a:pt x="1988" y="1244"/>
                  </a:cubicBezTo>
                  <a:cubicBezTo>
                    <a:pt x="2190" y="866"/>
                    <a:pt x="2296" y="437"/>
                    <a:pt x="2296" y="0"/>
                  </a:cubicBezTo>
                </a:path>
              </a:pathLst>
            </a:custGeom>
            <a:ln w="76320">
              <a:solidFill>
                <a:srgbClr val="cecece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88680" y="2484360"/>
              <a:ext cx="817200" cy="733680"/>
            </a:xfrm>
            <a:custGeom>
              <a:avLst/>
              <a:gdLst/>
              <a:ahLst/>
              <a:rect l="0" t="0" r="r" b="b"/>
              <a:pathLst>
                <a:path fill="none" w="2270" h="2038">
                  <a:moveTo>
                    <a:pt x="2270" y="2038"/>
                  </a:moveTo>
                  <a:lnTo>
                    <a:pt x="2270" y="2038"/>
                  </a:lnTo>
                  <a:lnTo>
                    <a:pt x="2270" y="2038"/>
                  </a:lnTo>
                  <a:cubicBezTo>
                    <a:pt x="2270" y="1680"/>
                    <a:pt x="2165" y="1329"/>
                    <a:pt x="1966" y="1019"/>
                  </a:cubicBezTo>
                  <a:cubicBezTo>
                    <a:pt x="1767" y="709"/>
                    <a:pt x="1480" y="452"/>
                    <a:pt x="1135" y="273"/>
                  </a:cubicBezTo>
                  <a:cubicBezTo>
                    <a:pt x="790" y="94"/>
                    <a:pt x="398" y="0"/>
                    <a:pt x="0" y="0"/>
                  </a:cubicBezTo>
                </a:path>
              </a:pathLst>
            </a:custGeom>
            <a:ln w="76320">
              <a:solidFill>
                <a:srgbClr val="cecece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3198960" y="4673520"/>
              <a:ext cx="2394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ONTOLINGU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408560" y="3824280"/>
              <a:ext cx="907920" cy="56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I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3390840" y="3559320"/>
              <a:ext cx="1401840" cy="56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KQM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1405080" y="1790640"/>
            <a:ext cx="613080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Fin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Mary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timore Cou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work will colleagues at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BC Laboratory for Advanced 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al Government System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roughout the Knowledge Sharing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3560" y="771480"/>
            <a:ext cx="7616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rag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88840" y="1778040"/>
            <a:ext cx="7772400" cy="33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ust follow the same rules for discourse in order for others to find and speak with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to talk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get thei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initiate and maintain a conver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eal with what they 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respond appropr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514440" y="2082960"/>
            <a:ext cx="8172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s a high-level, message-oriented, communication language and protocol for information exchange independent of content syntax and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s independ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port mechanism (e.g., tcp/ip, email,  corba objects, IIO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content language (e.g., KIF, SQL, STEP, Prolog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of the ontology assumed by th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includes primitive message types of particular interest to building interesting agent architectures (e.g., for mediators, sharing intent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352440"/>
            <a:ext cx="7743960" cy="13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Query and Manipulation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68240" y="542880"/>
            <a:ext cx="76071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QML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8560" y="4267080"/>
            <a:ext cx="773424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65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s a singl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peech act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erform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ell, reply, subscribe, achieve, monitor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n associated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mantics and protocol</a:t>
            </a:r>
            <a:r>
              <a:rPr b="0" i="1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list of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ttribute/valu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65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ontent, :language, :from, :in-reply-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1587600"/>
            <a:ext cx="9068040" cy="2298600"/>
            <a:chOff x="0" y="1587600"/>
            <a:chExt cx="9068040" cy="2298600"/>
          </a:xfrm>
        </p:grpSpPr>
        <p:sp>
          <p:nvSpPr>
            <p:cNvPr id="180" name=""/>
            <p:cNvSpPr txBox="1"/>
            <p:nvPr/>
          </p:nvSpPr>
          <p:spPr>
            <a:xfrm>
              <a:off x="2873520" y="1587600"/>
              <a:ext cx="6194520" cy="229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tel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sender          bhk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receiver       fininB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in-reply-to   id7.24.97.453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ontolog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ecbk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  <a:ea typeface="Times New Roman"/>
                </a:rPr>
                <a:t>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uage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ro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70000"/>
                </a:lnSpc>
                <a:spcBef>
                  <a:spcPts val="720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content    </a:t>
              </a: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“price(ISBN3429459,24.95)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905120" y="1778040"/>
              <a:ext cx="1143000" cy="35568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52480" y="2743200"/>
              <a:ext cx="1981440" cy="7632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0" y="19699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  <a:ea typeface="Book Antiqua"/>
                </a:rPr>
                <a:t>performa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228600" y="2554200"/>
              <a:ext cx="185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  <a:ea typeface="Book Antiqua"/>
                </a:rPr>
                <a:t>parame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85800" y="306072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b2b2b2"/>
                  </a:solidFill>
                  <a:latin typeface="Book Antiqua"/>
                  <a:ea typeface="Book Antiqu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00200" y="3276720"/>
              <a:ext cx="3429000" cy="228600"/>
            </a:xfrm>
            <a:prstGeom prst="line">
              <a:avLst/>
            </a:prstGeom>
            <a:ln w="38160">
              <a:solidFill>
                <a:srgbClr val="b2b2b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5920" y="247680"/>
            <a:ext cx="8924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KSE Methodology</a:t>
            </a:r>
            <a:br>
              <a:rPr sz="4800"/>
            </a:br>
            <a:r>
              <a:rPr b="1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for developing agent-based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20880" y="1854360"/>
            <a:ext cx="7613640" cy="439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/construct necessary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tandard,  published ontologies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(and publish) new components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ommon tools, e.g.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ingu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GFP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common representation language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QL or KBMS with </a:t>
            </a:r>
            <a:r>
              <a:rPr b="0" i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 recommended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an ACL like 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QM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communica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with new performatives and protocols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1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nd define new higher-level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05"/>
              </a:spcBef>
              <a:buClr>
                <a:srgbClr val="fc0128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for negotiation, purchasing, catalog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n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ent-agent communication is the key to realizing the potential of this new paradigm, just as the development of human language was key to the development of human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sume that agents use an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gent Communication Language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CL to communication information and knowl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sereth (CACM, 92) defined a software agent as any system which uses an ACL to exchang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AC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10666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RBA an A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shar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, KIF,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k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SGI’s Open Agent Architectur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39920" y="2394000"/>
            <a:ext cx="6596280" cy="3863880"/>
            <a:chOff x="2239920" y="2394000"/>
            <a:chExt cx="6596280" cy="3863880"/>
          </a:xfrm>
        </p:grpSpPr>
        <p:sp>
          <p:nvSpPr>
            <p:cNvPr id="66" name=""/>
            <p:cNvSpPr/>
            <p:nvPr/>
          </p:nvSpPr>
          <p:spPr>
            <a:xfrm>
              <a:off x="2695680" y="5877000"/>
              <a:ext cx="14288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24480" y="5877000"/>
              <a:ext cx="217188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09840" y="5591160"/>
              <a:ext cx="914400" cy="57168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9360" y="4619520"/>
              <a:ext cx="1096920" cy="68580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94400" y="3540240"/>
              <a:ext cx="1262160" cy="7891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43760" y="2394000"/>
              <a:ext cx="1450800" cy="907920"/>
            </a:xfrm>
            <a:prstGeom prst="ellipse">
              <a:avLst/>
            </a:prstGeom>
            <a:solidFill>
              <a:srgbClr val="6699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25960" y="5209920"/>
              <a:ext cx="416520" cy="353520"/>
            </a:xfrm>
            <a:custGeom>
              <a:avLst/>
              <a:gdLst/>
              <a:ahLst/>
              <a:rect l="0" t="0" r="r" b="b"/>
              <a:pathLst>
                <a:path w="1157" h="982">
                  <a:moveTo>
                    <a:pt x="0" y="775"/>
                  </a:moveTo>
                  <a:lnTo>
                    <a:pt x="155" y="982"/>
                  </a:lnTo>
                  <a:lnTo>
                    <a:pt x="911" y="412"/>
                  </a:lnTo>
                  <a:lnTo>
                    <a:pt x="1067" y="620"/>
                  </a:lnTo>
                  <a:lnTo>
                    <a:pt x="1157" y="66"/>
                  </a:lnTo>
                  <a:lnTo>
                    <a:pt x="599" y="0"/>
                  </a:lnTo>
                  <a:lnTo>
                    <a:pt x="755" y="206"/>
                  </a:lnTo>
                  <a:lnTo>
                    <a:pt x="0" y="775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25480" y="4313520"/>
              <a:ext cx="488880" cy="392400"/>
            </a:xfrm>
            <a:custGeom>
              <a:avLst/>
              <a:gdLst/>
              <a:ahLst/>
              <a:rect l="0" t="0" r="r" b="b"/>
              <a:pathLst>
                <a:path w="1358" h="1090">
                  <a:moveTo>
                    <a:pt x="0" y="882"/>
                  </a:moveTo>
                  <a:lnTo>
                    <a:pt x="156" y="1090"/>
                  </a:lnTo>
                  <a:lnTo>
                    <a:pt x="1053" y="415"/>
                  </a:lnTo>
                  <a:lnTo>
                    <a:pt x="1210" y="624"/>
                  </a:lnTo>
                  <a:lnTo>
                    <a:pt x="1358" y="22"/>
                  </a:lnTo>
                  <a:lnTo>
                    <a:pt x="739" y="0"/>
                  </a:lnTo>
                  <a:lnTo>
                    <a:pt x="895" y="207"/>
                  </a:lnTo>
                  <a:lnTo>
                    <a:pt x="0" y="882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05360" y="3236040"/>
              <a:ext cx="584640" cy="459000"/>
            </a:xfrm>
            <a:custGeom>
              <a:avLst/>
              <a:gdLst/>
              <a:ahLst/>
              <a:rect l="0" t="0" r="r" b="b"/>
              <a:pathLst>
                <a:path w="1624" h="1275">
                  <a:moveTo>
                    <a:pt x="0" y="1043"/>
                  </a:moveTo>
                  <a:lnTo>
                    <a:pt x="174" y="1275"/>
                  </a:lnTo>
                  <a:lnTo>
                    <a:pt x="1250" y="464"/>
                  </a:lnTo>
                  <a:lnTo>
                    <a:pt x="1426" y="698"/>
                  </a:lnTo>
                  <a:lnTo>
                    <a:pt x="1624" y="1"/>
                  </a:lnTo>
                  <a:lnTo>
                    <a:pt x="900" y="0"/>
                  </a:lnTo>
                  <a:lnTo>
                    <a:pt x="1075" y="232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427560" y="5730840"/>
              <a:ext cx="250992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 objects, procedure cal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data structur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4741920" y="4756320"/>
              <a:ext cx="255744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 facts, rules, constraint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dures and knowled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056280" y="3727440"/>
              <a:ext cx="2266920" cy="5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 beliefs, plans, goals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inten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7655040" y="2471760"/>
              <a:ext cx="1181160" cy="7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erien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strategi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2239920" y="4946760"/>
              <a:ext cx="781200" cy="7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.g.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R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397240" y="4260960"/>
              <a:ext cx="251928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.g., KQML, FIPA, KIF, Agl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3836880" y="3289320"/>
              <a:ext cx="1295280" cy="2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.g., AgentTa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678120" y="4811760"/>
              <a:ext cx="806400" cy="4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l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4910040" y="3762360"/>
              <a:ext cx="858960" cy="43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nt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6397560" y="2660760"/>
              <a:ext cx="107784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erient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579760" y="5724360"/>
              <a:ext cx="612720" cy="40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bje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ha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3560" y="803160"/>
            <a:ext cx="761688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Sharing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4720" y="1771560"/>
            <a:ext cx="8134200" cy="409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SE is a distributed research project involving over a dozen research groups aimed at developing techniques, methodologies and software tools for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sh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knowledge re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quires a common language (syntax, semantics, prag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isting components that can be used independently or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-- knowledge interchange format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synt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lingua - a language for defining sharable ontologie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seman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QML - a high-level interaction language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(pragmat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06320" y="301680"/>
            <a:ext cx="7731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Interchan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3505320"/>
            <a:ext cx="8001000" cy="27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F ~ First order logic with se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lingua for encod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translation among n systems from O(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o 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language for reusabl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independent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expressive -- can represent knowledge in typical application knowledge b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able -- into and out of typical applica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41280" y="888840"/>
            <a:ext cx="5994720" cy="2200320"/>
            <a:chOff x="1241280" y="888840"/>
            <a:chExt cx="5994720" cy="2200320"/>
          </a:xfrm>
        </p:grpSpPr>
        <p:grpSp>
          <p:nvGrpSpPr>
            <p:cNvPr id="95" name=""/>
            <p:cNvGrpSpPr/>
            <p:nvPr/>
          </p:nvGrpSpPr>
          <p:grpSpPr>
            <a:xfrm>
              <a:off x="1241280" y="1863720"/>
              <a:ext cx="2168640" cy="1224000"/>
              <a:chOff x="1241280" y="1863720"/>
              <a:chExt cx="2168640" cy="1224000"/>
            </a:xfrm>
          </p:grpSpPr>
          <p:sp>
            <p:nvSpPr>
              <p:cNvPr id="96" name=""/>
              <p:cNvSpPr/>
              <p:nvPr/>
            </p:nvSpPr>
            <p:spPr>
              <a:xfrm>
                <a:off x="1241280" y="1863720"/>
                <a:ext cx="2168640" cy="395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241280" y="2247840"/>
                <a:ext cx="2168640" cy="83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297080" y="2316240"/>
              <a:ext cx="1263600" cy="69228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403280" y="2401920"/>
              <a:ext cx="10396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1771560" y="2568600"/>
              <a:ext cx="2826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1614600" y="2730600"/>
              <a:ext cx="6271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1301760" y="1913040"/>
              <a:ext cx="2146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 &lt;-&gt; Lang1 Trans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630520" y="2681280"/>
              <a:ext cx="76212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6000" y="1190520"/>
              <a:ext cx="3819600" cy="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33840" y="2271600"/>
              <a:ext cx="1173240" cy="50976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749760" y="2327400"/>
              <a:ext cx="960480" cy="36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ibra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5052960" y="1863720"/>
              <a:ext cx="2168640" cy="1224000"/>
              <a:chOff x="5052960" y="1863720"/>
              <a:chExt cx="2168640" cy="1224000"/>
            </a:xfrm>
          </p:grpSpPr>
          <p:sp>
            <p:nvSpPr>
              <p:cNvPr id="108" name=""/>
              <p:cNvSpPr/>
              <p:nvPr/>
            </p:nvSpPr>
            <p:spPr>
              <a:xfrm>
                <a:off x="5052960" y="1863720"/>
                <a:ext cx="2168640" cy="3952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52960" y="2247840"/>
                <a:ext cx="2168640" cy="839880"/>
              </a:xfrm>
              <a:prstGeom prst="rect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121360" y="2316240"/>
              <a:ext cx="1251000" cy="69228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213520" y="2398680"/>
              <a:ext cx="103968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. 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581800" y="2565360"/>
              <a:ext cx="282600" cy="27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425920" y="2727360"/>
              <a:ext cx="6271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n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403440" y="888840"/>
              <a:ext cx="1762200" cy="31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nowledge in K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089680" y="1922400"/>
              <a:ext cx="2146320" cy="28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IF &lt;-&gt; Lang2 Trans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6451560" y="2679840"/>
              <a:ext cx="76212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263680" y="1190520"/>
              <a:ext cx="20880" cy="6699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105600" y="1190520"/>
              <a:ext cx="0" cy="66996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276800" y="1190520"/>
              <a:ext cx="0" cy="1036800"/>
            </a:xfrm>
            <a:prstGeom prst="line">
              <a:avLst/>
            </a:prstGeom>
            <a:ln w="38160">
              <a:solidFill>
                <a:srgbClr val="5f5f5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360" y="54756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KIF Syntax and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69960" y="1897200"/>
            <a:ext cx="7816680" cy="36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ed version of first order predicate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list-based linear ASCII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(forall ?x (=&gt; (P ?x) (Q ?x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theoretic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matic specification of large function and relation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vocabulary for numbers, sets, and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3560" y="239760"/>
            <a:ext cx="761688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emantic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Ontologies and Ontolin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06440" y="1739880"/>
            <a:ext cx="833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common vocabulary and agreed upon meanings to describe a subject dom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828800" y="262872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On*tol"o*gy (?), n. [Gr. the things which exist (pl.neut. of , , being, p.pr. of to be) + -logy: cf.F. ontologie.]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department of the science of metaphysics which investigates and expla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nature and essential properties and relations of all be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such, or the principles and causes of be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Webster's Revised Unabridged Dictionary (G &amp; C. Merriam Co., 1913, edited by Noah Por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8040" y="4575240"/>
            <a:ext cx="7010280" cy="18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not a profoundly new idea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cabulary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schema (for a data b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-subclass tax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0680">
              <a:lnSpc>
                <a:spcPct val="80000"/>
              </a:lnSpc>
              <a:spcBef>
                <a:spcPts val="215"/>
              </a:spcBef>
              <a:buClr>
                <a:srgbClr val="000000"/>
              </a:buClr>
              <a:buSzPct val="15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461960" y="520560"/>
            <a:ext cx="59151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gents and On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160" y="1930320"/>
            <a:ext cx="4152960" cy="822240"/>
            <a:chOff x="38160" y="1930320"/>
            <a:chExt cx="4152960" cy="82224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8160" y="205092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635040" y="1930320"/>
              <a:ext cx="355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vCard - a standard for electronic business c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 txBox="1"/>
          <p:nvPr/>
        </p:nvSpPr>
        <p:spPr>
          <a:xfrm>
            <a:off x="355680" y="1351080"/>
            <a:ext cx="3530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where industr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35640" y="1351080"/>
            <a:ext cx="3695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where we need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4160" y="2768760"/>
            <a:ext cx="388620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BEGIN:v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N:Smith;John;M.;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RG: General Widget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EL;WORK;VOICE: (617)555-12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TEL;HOME;VOICE: (617)555-121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END:v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520" y="4719600"/>
            <a:ext cx="4470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imple structures with information encoded in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trings</a:t>
            </a:r>
            <a:r>
              <a:rPr b="0" lang="en-US" sz="2400" spc="-1" strike="noStrike">
                <a:solidFill>
                  <a:srgbClr val="3365fb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nd text which is ultimately meant for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24280" y="1930320"/>
            <a:ext cx="4368960" cy="822240"/>
            <a:chOff x="4724280" y="1930320"/>
            <a:chExt cx="4368960" cy="82224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724280" y="2050920"/>
              <a:ext cx="88884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5537160" y="1930320"/>
              <a:ext cx="35560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Ontologies built from Knowledge based 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 txBox="1"/>
          <p:nvPr/>
        </p:nvSpPr>
        <p:spPr>
          <a:xfrm>
            <a:off x="4554360" y="2735280"/>
            <a:ext cx="447048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spcBef>
                <a:spcPts val="241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better  tools for specifying, composing, and translating ontologie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41200">
              <a:lnSpc>
                <a:spcPct val="95000"/>
              </a:lnSpc>
              <a:spcAft>
                <a:spcPts val="96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generate meta-data descriptions from ontolog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41200">
              <a:lnSpc>
                <a:spcPct val="95000"/>
              </a:lnSpc>
              <a:spcAft>
                <a:spcPts val="96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agents learn and maintain ontolog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41200">
              <a:lnSpc>
                <a:spcPct val="95000"/>
              </a:lnSpc>
              <a:spcAft>
                <a:spcPts val="96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agents with similar but non-identical ontologies communic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241200">
              <a:lnSpc>
                <a:spcPct val="95000"/>
              </a:lnSpc>
              <a:spcAft>
                <a:spcPts val="96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d how can we translate from one ontology into an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59120" y="1536840"/>
            <a:ext cx="1270440" cy="279720"/>
          </a:xfrm>
          <a:custGeom>
            <a:avLst/>
            <a:gdLst/>
            <a:ahLst/>
            <a:rect l="0" t="0" r="r" b="b"/>
            <a:pathLst>
              <a:path w="3529" h="777">
                <a:moveTo>
                  <a:pt x="0" y="258"/>
                </a:moveTo>
                <a:lnTo>
                  <a:pt x="0" y="517"/>
                </a:lnTo>
                <a:lnTo>
                  <a:pt x="2470" y="517"/>
                </a:lnTo>
                <a:lnTo>
                  <a:pt x="2470" y="777"/>
                </a:lnTo>
                <a:lnTo>
                  <a:pt x="3529" y="389"/>
                </a:lnTo>
                <a:lnTo>
                  <a:pt x="2470" y="0"/>
                </a:lnTo>
                <a:lnTo>
                  <a:pt x="2470" y="258"/>
                </a:lnTo>
                <a:lnTo>
                  <a:pt x="0" y="258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781360" y="6302520"/>
            <a:ext cx="3301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trings don’t cut 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00200" y="85680"/>
            <a:ext cx="7743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Sch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30520" y="4111560"/>
            <a:ext cx="52704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(x, y)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x’, y’) [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uto_part(x’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&amp; stock_no(x’) = 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tail_price(x’, y’, Value-In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magnitude(y’, US_dollars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45000" y="2932200"/>
            <a:ext cx="3581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: pri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*stockNo: integer;  cost: fl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710160" y="1741320"/>
            <a:ext cx="1155600" cy="915840"/>
            <a:chOff x="3710160" y="1741320"/>
            <a:chExt cx="1155600" cy="915840"/>
          </a:xfrm>
        </p:grpSpPr>
        <p:sp>
          <p:nvSpPr>
            <p:cNvPr id="151" name=""/>
            <p:cNvSpPr txBox="1"/>
            <p:nvPr/>
          </p:nvSpPr>
          <p:spPr>
            <a:xfrm>
              <a:off x="3710160" y="1741320"/>
              <a:ext cx="115560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9  74.50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40  7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   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14840" y="178740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14840" y="204156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14840" y="2295360"/>
              <a:ext cx="111744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14840" y="178740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4840" y="204156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14840" y="2295360"/>
              <a:ext cx="507960" cy="254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 txBox="1"/>
          <p:nvPr/>
        </p:nvSpPr>
        <p:spPr>
          <a:xfrm>
            <a:off x="1424160" y="19288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9880" y="299556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Base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74640" y="4683240"/>
            <a:ext cx="29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ptual 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81200" y="838080"/>
            <a:ext cx="75819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ceptual schema specifies the intended meaning of concepts used in a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587920" y="5764320"/>
            <a:ext cx="536760" cy="419040"/>
          </a:xfrm>
          <a:prstGeom prst="line">
            <a:avLst/>
          </a:prstGeom>
          <a:ln w="381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081920" y="3456000"/>
            <a:ext cx="108576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A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400800" y="4135320"/>
            <a:ext cx="776160" cy="588960"/>
          </a:xfrm>
          <a:prstGeom prst="line">
            <a:avLst/>
          </a:prstGeom>
          <a:ln w="381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101000" y="4659480"/>
            <a:ext cx="583920" cy="44424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666200" y="4456080"/>
            <a:ext cx="108576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164280" y="6099120"/>
            <a:ext cx="11239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nits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ustomer</dc:creator>
  <dc:description/>
  <dc:language>en-US</dc:language>
  <cp:lastModifiedBy>Valued Gateway Customer</cp:lastModifiedBy>
  <cp:revision>0</cp:revision>
  <dc:subject/>
  <dc:title>Knowledge Sharing Effort</dc:title>
</cp:coreProperties>
</file>