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E875F1-6740-4C00-9C99-FA8D79CBA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3920" indent="0">
              <a:lnSpc>
                <a:spcPct val="107000"/>
              </a:lnSpc>
              <a:spcBef>
                <a:spcPts val="1295"/>
              </a:spcBef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min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0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2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776160" y="1486080"/>
            <a:ext cx="7591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7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Ontologies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763560" y="390600"/>
            <a:ext cx="761688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Translation of price(x,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2168640" y="1434960"/>
            <a:ext cx="48070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34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#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34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class-Of:  Auto-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34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ck-Number: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tabLst>
                <a:tab algn="l" pos="34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#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34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-Of:  Off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34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dor:  Value-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34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-Type:  AP#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34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ail-Price:  MQ#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tabLst>
                <a:tab algn="l" pos="34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Q#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34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-Of:  Monetary-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34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itude:  MM#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tabLst>
                <a:tab algn="l" pos="34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#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34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-Of:  Monetary-Magn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34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ount: 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34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:  US-Dol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457200" y="201924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9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Ontolingua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534960" y="709560"/>
            <a:ext cx="77691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tology Library and Editing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3570120" y="2319480"/>
            <a:ext cx="5572080" cy="4049640"/>
            <a:chOff x="3570120" y="2319480"/>
            <a:chExt cx="5572080" cy="4049640"/>
          </a:xfrm>
        </p:grpSpPr>
        <p:sp>
          <p:nvSpPr>
            <p:cNvPr id="510" name=""/>
            <p:cNvSpPr txBox="1"/>
            <p:nvPr/>
          </p:nvSpPr>
          <p:spPr>
            <a:xfrm>
              <a:off x="5702400" y="3056040"/>
              <a:ext cx="689040" cy="430200"/>
            </a:xfrm>
            <a:prstGeom prst="rect">
              <a:avLst/>
            </a:prstGeom>
            <a:solidFill>
              <a:srgbClr val="003e00"/>
            </a:solidFill>
            <a:ln w="12600">
              <a:solidFill>
                <a:srgbClr val="c1ce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odels of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ac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143760" y="5424480"/>
              <a:ext cx="1066680" cy="944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2" name=""/>
            <p:cNvGrpSpPr/>
            <p:nvPr/>
          </p:nvGrpSpPr>
          <p:grpSpPr>
            <a:xfrm>
              <a:off x="6426360" y="5040360"/>
              <a:ext cx="660600" cy="319320"/>
              <a:chOff x="6426360" y="5040360"/>
              <a:chExt cx="660600" cy="319320"/>
            </a:xfrm>
          </p:grpSpPr>
          <p:sp>
            <p:nvSpPr>
              <p:cNvPr id="513" name=""/>
              <p:cNvSpPr/>
              <p:nvPr/>
            </p:nvSpPr>
            <p:spPr>
              <a:xfrm>
                <a:off x="6777000" y="5040360"/>
                <a:ext cx="309960" cy="308160"/>
              </a:xfrm>
              <a:custGeom>
                <a:avLst/>
                <a:gdLst/>
                <a:ahLst/>
                <a:rect l="0" t="0" r="r" b="b"/>
                <a:pathLst>
                  <a:path w="861" h="856">
                    <a:moveTo>
                      <a:pt x="0" y="284"/>
                    </a:moveTo>
                    <a:lnTo>
                      <a:pt x="0" y="570"/>
                    </a:lnTo>
                    <a:lnTo>
                      <a:pt x="602" y="570"/>
                    </a:lnTo>
                    <a:lnTo>
                      <a:pt x="602" y="856"/>
                    </a:lnTo>
                    <a:lnTo>
                      <a:pt x="861" y="427"/>
                    </a:lnTo>
                    <a:lnTo>
                      <a:pt x="602" y="0"/>
                    </a:lnTo>
                    <a:lnTo>
                      <a:pt x="602" y="284"/>
                    </a:lnTo>
                    <a:lnTo>
                      <a:pt x="0" y="284"/>
                    </a:lnTo>
                    <a:close/>
                  </a:path>
                </a:pathLst>
              </a:custGeom>
              <a:solidFill>
                <a:srgbClr val="a2c1f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426360" y="5049720"/>
                <a:ext cx="311400" cy="309960"/>
              </a:xfrm>
              <a:custGeom>
                <a:avLst/>
                <a:gdLst/>
                <a:ahLst/>
                <a:rect l="0" t="0" r="r" b="b"/>
                <a:pathLst>
                  <a:path w="865" h="861">
                    <a:moveTo>
                      <a:pt x="865" y="287"/>
                    </a:moveTo>
                    <a:lnTo>
                      <a:pt x="865" y="573"/>
                    </a:lnTo>
                    <a:lnTo>
                      <a:pt x="259" y="573"/>
                    </a:lnTo>
                    <a:lnTo>
                      <a:pt x="259" y="861"/>
                    </a:lnTo>
                    <a:lnTo>
                      <a:pt x="0" y="430"/>
                    </a:lnTo>
                    <a:lnTo>
                      <a:pt x="259" y="0"/>
                    </a:lnTo>
                    <a:lnTo>
                      <a:pt x="259" y="287"/>
                    </a:lnTo>
                    <a:lnTo>
                      <a:pt x="865" y="287"/>
                    </a:lnTo>
                    <a:close/>
                  </a:path>
                </a:pathLst>
              </a:custGeom>
              <a:solidFill>
                <a:srgbClr val="a2c1f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" name=""/>
            <p:cNvSpPr txBox="1"/>
            <p:nvPr/>
          </p:nvSpPr>
          <p:spPr>
            <a:xfrm>
              <a:off x="4361040" y="4228920"/>
              <a:ext cx="912960" cy="763560"/>
            </a:xfrm>
            <a:prstGeom prst="rect">
              <a:avLst/>
            </a:prstGeom>
            <a:noFill/>
            <a:ln w="25560">
              <a:solidFill>
                <a:srgbClr val="081d5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900" spc="-1" strike="noStrike">
                  <a:solidFill>
                    <a:srgbClr val="081d58"/>
                  </a:solidFill>
                  <a:latin typeface="Arial"/>
                  <a:ea typeface="Arial"/>
                </a:rPr>
                <a:t>Brows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 txBox="1"/>
            <p:nvPr/>
          </p:nvSpPr>
          <p:spPr>
            <a:xfrm>
              <a:off x="5324400" y="4228920"/>
              <a:ext cx="912960" cy="763560"/>
            </a:xfrm>
            <a:prstGeom prst="rect">
              <a:avLst/>
            </a:prstGeom>
            <a:noFill/>
            <a:ln w="25560">
              <a:solidFill>
                <a:srgbClr val="cf0e3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900" spc="-1" strike="noStrike">
                  <a:solidFill>
                    <a:srgbClr val="081d58"/>
                  </a:solidFill>
                  <a:latin typeface="Arial"/>
                  <a:ea typeface="Arial"/>
                </a:rPr>
                <a:t>Compa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 txBox="1"/>
            <p:nvPr/>
          </p:nvSpPr>
          <p:spPr>
            <a:xfrm>
              <a:off x="6288120" y="4228920"/>
              <a:ext cx="912960" cy="763560"/>
            </a:xfrm>
            <a:prstGeom prst="rect">
              <a:avLst/>
            </a:prstGeom>
            <a:noFill/>
            <a:ln w="25560">
              <a:solidFill>
                <a:srgbClr val="081d5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900" spc="-1" strike="noStrike">
                  <a:solidFill>
                    <a:srgbClr val="081d58"/>
                  </a:solidFill>
                  <a:latin typeface="Arial"/>
                  <a:ea typeface="Arial"/>
                </a:rPr>
                <a:t>Compos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 txBox="1"/>
            <p:nvPr/>
          </p:nvSpPr>
          <p:spPr>
            <a:xfrm>
              <a:off x="7248600" y="4228920"/>
              <a:ext cx="912960" cy="763560"/>
            </a:xfrm>
            <a:prstGeom prst="rect">
              <a:avLst/>
            </a:prstGeom>
            <a:noFill/>
            <a:ln w="25560">
              <a:solidFill>
                <a:srgbClr val="081d58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900" spc="-1" strike="noStrike">
                  <a:solidFill>
                    <a:srgbClr val="081d58"/>
                  </a:solidFill>
                  <a:latin typeface="Arial"/>
                  <a:ea typeface="Arial"/>
                </a:rPr>
                <a:t>Exten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 txBox="1"/>
            <p:nvPr/>
          </p:nvSpPr>
          <p:spPr>
            <a:xfrm>
              <a:off x="8213760" y="4228920"/>
              <a:ext cx="911160" cy="763560"/>
            </a:xfrm>
            <a:prstGeom prst="rect">
              <a:avLst/>
            </a:prstGeom>
            <a:noFill/>
            <a:ln w="25560">
              <a:solidFill>
                <a:srgbClr val="cf0e3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900" spc="-1" strike="noStrike">
                  <a:solidFill>
                    <a:srgbClr val="081d58"/>
                  </a:solidFill>
                  <a:latin typeface="Arial"/>
                  <a:ea typeface="Arial"/>
                </a:rPr>
                <a:t>Check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4613400" y="4468680"/>
              <a:ext cx="190440" cy="135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808520" y="4473720"/>
              <a:ext cx="0" cy="129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807080" y="4468680"/>
              <a:ext cx="179280" cy="130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4890960" y="4603680"/>
              <a:ext cx="100080" cy="144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997520" y="4608360"/>
              <a:ext cx="85680" cy="130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4503600" y="4608360"/>
              <a:ext cx="104760" cy="139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618080" y="4613400"/>
              <a:ext cx="0" cy="134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37160" y="4618080"/>
              <a:ext cx="84240" cy="135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897440" y="4743360"/>
              <a:ext cx="85680" cy="130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4792680" y="4749840"/>
              <a:ext cx="100080" cy="146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762440" y="4433760"/>
              <a:ext cx="81000" cy="69840"/>
            </a:xfrm>
            <a:prstGeom prst="ellipse">
              <a:avLst/>
            </a:prstGeom>
            <a:solidFill>
              <a:srgbClr val="ad6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762440" y="4568760"/>
              <a:ext cx="81000" cy="69840"/>
            </a:xfrm>
            <a:prstGeom prst="ellipse">
              <a:avLst/>
            </a:prstGeom>
            <a:solidFill>
              <a:srgbClr val="ad6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578480" y="4568760"/>
              <a:ext cx="79200" cy="6984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948200" y="4568760"/>
              <a:ext cx="79200" cy="69840"/>
            </a:xfrm>
            <a:prstGeom prst="ellipse">
              <a:avLst/>
            </a:prstGeom>
            <a:solidFill>
              <a:srgbClr val="ad6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581360" y="4708440"/>
              <a:ext cx="79200" cy="6984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037c03"/>
              </a:solidFill>
              <a:round/>
            </a:ln>
          </p:spPr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76600" y="4708440"/>
              <a:ext cx="79200" cy="6984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037c03"/>
              </a:solidFill>
              <a:round/>
            </a:ln>
          </p:spPr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857840" y="4708440"/>
              <a:ext cx="81000" cy="6984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ad6900"/>
              </a:solidFill>
              <a:round/>
            </a:ln>
          </p:spPr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681440" y="4708440"/>
              <a:ext cx="79200" cy="6984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037c03"/>
              </a:solidFill>
              <a:round/>
            </a:ln>
          </p:spPr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038560" y="4708440"/>
              <a:ext cx="79200" cy="6984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fc0128"/>
              </a:solidFill>
              <a:round/>
            </a:ln>
          </p:spPr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757760" y="4843440"/>
              <a:ext cx="81000" cy="6984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ad6900"/>
              </a:solidFill>
              <a:round/>
            </a:ln>
          </p:spPr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938840" y="4843440"/>
              <a:ext cx="79200" cy="6984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ad6900"/>
              </a:solidFill>
              <a:round/>
            </a:ln>
          </p:spPr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5886360" y="4446720"/>
              <a:ext cx="285840" cy="344520"/>
              <a:chOff x="5886360" y="4446720"/>
              <a:chExt cx="285840" cy="344520"/>
            </a:xfrm>
          </p:grpSpPr>
          <p:sp>
            <p:nvSpPr>
              <p:cNvPr id="542" name=""/>
              <p:cNvSpPr/>
              <p:nvPr/>
            </p:nvSpPr>
            <p:spPr>
              <a:xfrm flipH="1">
                <a:off x="5913360" y="4486320"/>
                <a:ext cx="104760" cy="1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029280" y="449280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048360" y="4497480"/>
                <a:ext cx="8568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987880" y="4446720"/>
                <a:ext cx="81000" cy="69840"/>
              </a:xfrm>
              <a:prstGeom prst="ellipse">
                <a:avLst/>
              </a:prstGeom>
              <a:solidFill>
                <a:srgbClr val="037c0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991120" y="4586400"/>
                <a:ext cx="81000" cy="698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886360" y="4586400"/>
                <a:ext cx="81000" cy="698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091200" y="4586400"/>
                <a:ext cx="81000" cy="69840"/>
              </a:xfrm>
              <a:prstGeom prst="ellipse">
                <a:avLst/>
              </a:prstGeom>
              <a:solidFill>
                <a:srgbClr val="ad69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027840" y="4621320"/>
                <a:ext cx="85680" cy="12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>
                <a:off x="5937120" y="4627440"/>
                <a:ext cx="842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987880" y="4586400"/>
                <a:ext cx="81000" cy="698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904000" y="4721400"/>
                <a:ext cx="79200" cy="698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068880" y="4721400"/>
                <a:ext cx="79200" cy="698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"/>
            <p:cNvSpPr txBox="1"/>
            <p:nvPr/>
          </p:nvSpPr>
          <p:spPr>
            <a:xfrm>
              <a:off x="5657760" y="4489560"/>
              <a:ext cx="222120" cy="30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969696"/>
                  </a:solidFill>
                  <a:latin typeface="Arial"/>
                  <a:ea typeface="Arial"/>
                </a:rPr>
                <a:t>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5402160" y="4446720"/>
              <a:ext cx="284040" cy="209520"/>
              <a:chOff x="5402160" y="4446720"/>
              <a:chExt cx="284040" cy="209520"/>
            </a:xfrm>
          </p:grpSpPr>
          <p:sp>
            <p:nvSpPr>
              <p:cNvPr id="556" name=""/>
              <p:cNvSpPr/>
              <p:nvPr/>
            </p:nvSpPr>
            <p:spPr>
              <a:xfrm flipH="1">
                <a:off x="5425920" y="4486320"/>
                <a:ext cx="106560" cy="1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543640" y="449280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562720" y="4497480"/>
                <a:ext cx="8568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504040" y="4446720"/>
                <a:ext cx="79200" cy="69840"/>
              </a:xfrm>
              <a:prstGeom prst="ellipse">
                <a:avLst/>
              </a:prstGeom>
              <a:solidFill>
                <a:srgbClr val="037c0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506920" y="4586400"/>
                <a:ext cx="79200" cy="698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402160" y="4586400"/>
                <a:ext cx="79200" cy="698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607000" y="4586400"/>
                <a:ext cx="79200" cy="698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6475320" y="4448160"/>
              <a:ext cx="507960" cy="345960"/>
              <a:chOff x="6475320" y="4448160"/>
              <a:chExt cx="507960" cy="345960"/>
            </a:xfrm>
          </p:grpSpPr>
          <p:sp>
            <p:nvSpPr>
              <p:cNvPr id="564" name=""/>
              <p:cNvSpPr/>
              <p:nvPr/>
            </p:nvSpPr>
            <p:spPr>
              <a:xfrm flipH="1">
                <a:off x="6630840" y="4487760"/>
                <a:ext cx="9396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730920" y="449424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734160" y="4498920"/>
                <a:ext cx="10008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694560" y="4587840"/>
                <a:ext cx="79200" cy="698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588000" y="4587840"/>
                <a:ext cx="81000" cy="698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831000" y="4622760"/>
                <a:ext cx="8424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6751800" y="4629240"/>
                <a:ext cx="8568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715080" y="4722840"/>
                <a:ext cx="81000" cy="712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round/>
              </a:ln>
            </p:spPr>
            <p:txBody>
              <a:bodyPr lIns="96120" rIns="9612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870600" y="4722840"/>
                <a:ext cx="79200" cy="712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round/>
              </a:ln>
            </p:spPr>
            <p:txBody>
              <a:bodyPr lIns="96120" rIns="9612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6512040" y="4478400"/>
                <a:ext cx="22536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735600" y="4483080"/>
                <a:ext cx="21456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689880" y="4448160"/>
                <a:ext cx="81000" cy="69840"/>
              </a:xfrm>
              <a:prstGeom prst="ellipse">
                <a:avLst/>
              </a:prstGeom>
              <a:solidFill>
                <a:srgbClr val="037c0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475320" y="4587840"/>
                <a:ext cx="79200" cy="698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904080" y="4587840"/>
                <a:ext cx="79200" cy="69840"/>
              </a:xfrm>
              <a:prstGeom prst="ellipse">
                <a:avLst/>
              </a:prstGeom>
              <a:solidFill>
                <a:srgbClr val="ad69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794640" y="4587840"/>
                <a:ext cx="79200" cy="698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7367760" y="4448160"/>
              <a:ext cx="610920" cy="485640"/>
              <a:chOff x="7367760" y="4448160"/>
              <a:chExt cx="610920" cy="485640"/>
            </a:xfrm>
          </p:grpSpPr>
          <p:sp>
            <p:nvSpPr>
              <p:cNvPr id="580" name=""/>
              <p:cNvSpPr/>
              <p:nvPr/>
            </p:nvSpPr>
            <p:spPr>
              <a:xfrm flipH="1">
                <a:off x="7626240" y="4487760"/>
                <a:ext cx="9360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726320" y="449424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729560" y="4498920"/>
                <a:ext cx="10008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688160" y="4587840"/>
                <a:ext cx="81000" cy="698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583400" y="4587840"/>
                <a:ext cx="81000" cy="698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826400" y="4622760"/>
                <a:ext cx="8424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7746840" y="4629240"/>
                <a:ext cx="860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710480" y="4722840"/>
                <a:ext cx="79200" cy="712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round/>
              </a:ln>
            </p:spPr>
            <p:txBody>
              <a:bodyPr lIns="96120" rIns="9612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866000" y="4722840"/>
                <a:ext cx="79200" cy="712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round/>
              </a:ln>
            </p:spPr>
            <p:txBody>
              <a:bodyPr lIns="96120" rIns="9612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7507440" y="4478400"/>
                <a:ext cx="22536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731000" y="4483080"/>
                <a:ext cx="21456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684920" y="4448160"/>
                <a:ext cx="81000" cy="69840"/>
              </a:xfrm>
              <a:prstGeom prst="ellipse">
                <a:avLst/>
              </a:prstGeom>
              <a:solidFill>
                <a:srgbClr val="037c0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470720" y="4587840"/>
                <a:ext cx="79200" cy="698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899480" y="4587840"/>
                <a:ext cx="79200" cy="69840"/>
              </a:xfrm>
              <a:prstGeom prst="ellipse">
                <a:avLst/>
              </a:prstGeom>
              <a:solidFill>
                <a:srgbClr val="ad69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788240" y="4587840"/>
                <a:ext cx="81000" cy="698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7396200" y="4629240"/>
                <a:ext cx="10476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508880" y="463392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529400" y="4638600"/>
                <a:ext cx="8424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469280" y="4587840"/>
                <a:ext cx="79200" cy="69840"/>
              </a:xfrm>
              <a:prstGeom prst="ellipse">
                <a:avLst/>
              </a:prstGeom>
              <a:solidFill>
                <a:srgbClr val="fafd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67760" y="4729320"/>
                <a:ext cx="79200" cy="698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572240" y="4729320"/>
                <a:ext cx="79200" cy="698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505640" y="4764240"/>
                <a:ext cx="84240" cy="12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7426440" y="4768920"/>
                <a:ext cx="8568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389720" y="4863960"/>
                <a:ext cx="81000" cy="698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545240" y="4857840"/>
                <a:ext cx="81000" cy="71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round/>
              </a:ln>
            </p:spPr>
            <p:txBody>
              <a:bodyPr lIns="96120" rIns="9612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472520" y="4729320"/>
                <a:ext cx="79200" cy="698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8337600" y="4448160"/>
              <a:ext cx="610920" cy="485640"/>
              <a:chOff x="8337600" y="4448160"/>
              <a:chExt cx="610920" cy="485640"/>
            </a:xfrm>
          </p:grpSpPr>
          <p:sp>
            <p:nvSpPr>
              <p:cNvPr id="607" name=""/>
              <p:cNvSpPr/>
              <p:nvPr/>
            </p:nvSpPr>
            <p:spPr>
              <a:xfrm flipH="1">
                <a:off x="8597880" y="4487760"/>
                <a:ext cx="9540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696160" y="4494240"/>
                <a:ext cx="0" cy="13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701200" y="4498920"/>
                <a:ext cx="10008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659800" y="4587840"/>
                <a:ext cx="79200" cy="698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553600" y="4587840"/>
                <a:ext cx="81000" cy="698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796240" y="4622760"/>
                <a:ext cx="8424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8717040" y="4629240"/>
                <a:ext cx="8568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8680320" y="4722840"/>
                <a:ext cx="81000" cy="712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round/>
              </a:ln>
            </p:spPr>
            <p:txBody>
              <a:bodyPr lIns="96120" rIns="9612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836200" y="4722840"/>
                <a:ext cx="79200" cy="7128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round/>
              </a:ln>
            </p:spPr>
            <p:txBody>
              <a:bodyPr lIns="96120" rIns="9612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8477280" y="4478400"/>
                <a:ext cx="22536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701200" y="4483080"/>
                <a:ext cx="21420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655120" y="4448160"/>
                <a:ext cx="81000" cy="69840"/>
              </a:xfrm>
              <a:prstGeom prst="ellipse">
                <a:avLst/>
              </a:prstGeom>
              <a:solidFill>
                <a:srgbClr val="037c0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8440560" y="4587840"/>
                <a:ext cx="79200" cy="698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869320" y="4587840"/>
                <a:ext cx="79200" cy="69840"/>
              </a:xfrm>
              <a:prstGeom prst="ellipse">
                <a:avLst/>
              </a:prstGeom>
              <a:solidFill>
                <a:srgbClr val="ad69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759880" y="4587840"/>
                <a:ext cx="79200" cy="698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8366040" y="4629240"/>
                <a:ext cx="10476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478720" y="463392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8499600" y="4638600"/>
                <a:ext cx="8388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439120" y="4587840"/>
                <a:ext cx="79200" cy="69840"/>
              </a:xfrm>
              <a:prstGeom prst="ellipse">
                <a:avLst/>
              </a:prstGeom>
              <a:solidFill>
                <a:srgbClr val="fafd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337600" y="4729320"/>
                <a:ext cx="79200" cy="698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542440" y="4729320"/>
                <a:ext cx="79200" cy="698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477280" y="4764240"/>
                <a:ext cx="85680" cy="12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8396280" y="4768920"/>
                <a:ext cx="842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8361360" y="4863960"/>
                <a:ext cx="79200" cy="698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8515440" y="4857840"/>
                <a:ext cx="81000" cy="71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round/>
              </a:ln>
            </p:spPr>
            <p:txBody>
              <a:bodyPr lIns="96120" rIns="9612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442360" y="4729320"/>
                <a:ext cx="79200" cy="698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790015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3" name=""/>
            <p:cNvSpPr txBox="1"/>
            <p:nvPr/>
          </p:nvSpPr>
          <p:spPr>
            <a:xfrm>
              <a:off x="8691480" y="4413240"/>
              <a:ext cx="235080" cy="209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 txBox="1"/>
            <p:nvPr/>
          </p:nvSpPr>
          <p:spPr>
            <a:xfrm>
              <a:off x="8896320" y="4564080"/>
              <a:ext cx="235080" cy="209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 txBox="1"/>
            <p:nvPr/>
          </p:nvSpPr>
          <p:spPr>
            <a:xfrm>
              <a:off x="8885160" y="4699080"/>
              <a:ext cx="235080" cy="209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 txBox="1"/>
            <p:nvPr/>
          </p:nvSpPr>
          <p:spPr>
            <a:xfrm>
              <a:off x="8591400" y="4843440"/>
              <a:ext cx="235080" cy="209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 txBox="1"/>
            <p:nvPr/>
          </p:nvSpPr>
          <p:spPr>
            <a:xfrm>
              <a:off x="3573360" y="4370400"/>
              <a:ext cx="792000" cy="53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969696"/>
                  </a:solidFill>
                  <a:latin typeface="Arial"/>
                  <a:ea typeface="Arial"/>
                </a:rPr>
                <a:t>Editin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969696"/>
                  </a:solidFill>
                  <a:latin typeface="Arial"/>
                  <a:ea typeface="Arial"/>
                </a:rPr>
                <a:t>Tool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 txBox="1"/>
            <p:nvPr/>
          </p:nvSpPr>
          <p:spPr>
            <a:xfrm>
              <a:off x="3570120" y="2898720"/>
              <a:ext cx="792000" cy="53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969696"/>
                  </a:solidFill>
                  <a:latin typeface="Arial"/>
                  <a:ea typeface="Arial"/>
                </a:rPr>
                <a:t>Share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969696"/>
                  </a:solidFill>
                  <a:latin typeface="Arial"/>
                  <a:ea typeface="Arial"/>
                </a:rPr>
                <a:t>Librar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6426360" y="3867120"/>
              <a:ext cx="660600" cy="316440"/>
              <a:chOff x="6426360" y="3867120"/>
              <a:chExt cx="660600" cy="316440"/>
            </a:xfrm>
          </p:grpSpPr>
          <p:sp>
            <p:nvSpPr>
              <p:cNvPr id="640" name=""/>
              <p:cNvSpPr/>
              <p:nvPr/>
            </p:nvSpPr>
            <p:spPr>
              <a:xfrm>
                <a:off x="6777000" y="3867120"/>
                <a:ext cx="309960" cy="306720"/>
              </a:xfrm>
              <a:custGeom>
                <a:avLst/>
                <a:gdLst/>
                <a:ahLst/>
                <a:rect l="0" t="0" r="r" b="b"/>
                <a:pathLst>
                  <a:path w="861" h="852">
                    <a:moveTo>
                      <a:pt x="0" y="283"/>
                    </a:moveTo>
                    <a:lnTo>
                      <a:pt x="0" y="567"/>
                    </a:lnTo>
                    <a:lnTo>
                      <a:pt x="602" y="567"/>
                    </a:lnTo>
                    <a:lnTo>
                      <a:pt x="602" y="852"/>
                    </a:lnTo>
                    <a:lnTo>
                      <a:pt x="861" y="425"/>
                    </a:lnTo>
                    <a:lnTo>
                      <a:pt x="602" y="0"/>
                    </a:lnTo>
                    <a:lnTo>
                      <a:pt x="602" y="283"/>
                    </a:lnTo>
                    <a:lnTo>
                      <a:pt x="0" y="283"/>
                    </a:lnTo>
                    <a:close/>
                  </a:path>
                </a:pathLst>
              </a:custGeom>
              <a:solidFill>
                <a:srgbClr val="a2c1f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426360" y="3876840"/>
                <a:ext cx="311400" cy="306720"/>
              </a:xfrm>
              <a:custGeom>
                <a:avLst/>
                <a:gdLst/>
                <a:ahLst/>
                <a:rect l="0" t="0" r="r" b="b"/>
                <a:pathLst>
                  <a:path w="865" h="852">
                    <a:moveTo>
                      <a:pt x="865" y="283"/>
                    </a:moveTo>
                    <a:lnTo>
                      <a:pt x="865" y="567"/>
                    </a:lnTo>
                    <a:lnTo>
                      <a:pt x="259" y="567"/>
                    </a:lnTo>
                    <a:lnTo>
                      <a:pt x="259" y="852"/>
                    </a:lnTo>
                    <a:lnTo>
                      <a:pt x="0" y="425"/>
                    </a:lnTo>
                    <a:lnTo>
                      <a:pt x="259" y="0"/>
                    </a:lnTo>
                    <a:lnTo>
                      <a:pt x="259" y="283"/>
                    </a:lnTo>
                    <a:lnTo>
                      <a:pt x="865" y="283"/>
                    </a:lnTo>
                    <a:close/>
                  </a:path>
                </a:pathLst>
              </a:custGeom>
              <a:solidFill>
                <a:srgbClr val="a2c1f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" name=""/>
            <p:cNvSpPr txBox="1"/>
            <p:nvPr/>
          </p:nvSpPr>
          <p:spPr>
            <a:xfrm>
              <a:off x="4332240" y="2657520"/>
              <a:ext cx="1379520" cy="82404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3530"/>
                  </a:solidFill>
                  <a:latin typeface="Arial"/>
                  <a:ea typeface="Arial"/>
                </a:rPr>
                <a:t>WordNe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3530"/>
                  </a:solidFill>
                  <a:latin typeface="Arial"/>
                  <a:ea typeface="Arial"/>
                </a:rPr>
                <a:t>Penman Ontolog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3530"/>
                  </a:solidFill>
                  <a:latin typeface="Arial"/>
                  <a:ea typeface="Arial"/>
                </a:rPr>
                <a:t>CYC Upper Ontolog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 txBox="1"/>
            <p:nvPr/>
          </p:nvSpPr>
          <p:spPr>
            <a:xfrm>
              <a:off x="5702400" y="2646360"/>
              <a:ext cx="689040" cy="430200"/>
            </a:xfrm>
            <a:prstGeom prst="rect">
              <a:avLst/>
            </a:prstGeom>
            <a:solidFill>
              <a:srgbClr val="003e00"/>
            </a:solidFill>
            <a:ln w="12600">
              <a:solidFill>
                <a:srgbClr val="c1ce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odels of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im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 txBox="1"/>
            <p:nvPr/>
          </p:nvSpPr>
          <p:spPr>
            <a:xfrm>
              <a:off x="6391440" y="3056040"/>
              <a:ext cx="690480" cy="430200"/>
            </a:xfrm>
            <a:prstGeom prst="rect">
              <a:avLst/>
            </a:prstGeom>
            <a:solidFill>
              <a:srgbClr val="003e00"/>
            </a:solidFill>
            <a:ln w="12600">
              <a:solidFill>
                <a:srgbClr val="c1ce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ysic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bject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 txBox="1"/>
            <p:nvPr/>
          </p:nvSpPr>
          <p:spPr>
            <a:xfrm>
              <a:off x="6391440" y="2646360"/>
              <a:ext cx="690480" cy="430200"/>
            </a:xfrm>
            <a:prstGeom prst="rect">
              <a:avLst/>
            </a:prstGeom>
            <a:solidFill>
              <a:srgbClr val="003e00"/>
            </a:solidFill>
            <a:ln w="12600">
              <a:solidFill>
                <a:srgbClr val="c1ce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tion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&amp; Causality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 txBox="1"/>
            <p:nvPr/>
          </p:nvSpPr>
          <p:spPr>
            <a:xfrm>
              <a:off x="4368960" y="2320920"/>
              <a:ext cx="1251000" cy="345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900" spc="-1" strike="noStrike">
                  <a:solidFill>
                    <a:srgbClr val="003e00"/>
                  </a:solidFill>
                  <a:latin typeface="Arial"/>
                  <a:ea typeface="Arial"/>
                </a:rPr>
                <a:t>Lexicons &amp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900" spc="-1" strike="noStrike">
                  <a:solidFill>
                    <a:srgbClr val="003e00"/>
                  </a:solidFill>
                  <a:latin typeface="Arial"/>
                  <a:ea typeface="Arial"/>
                </a:rPr>
                <a:t>Skeleton Ontologi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 txBox="1"/>
            <p:nvPr/>
          </p:nvSpPr>
          <p:spPr>
            <a:xfrm>
              <a:off x="5938920" y="2319480"/>
              <a:ext cx="1365120" cy="345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900" spc="-1" strike="noStrike">
                  <a:solidFill>
                    <a:srgbClr val="003e00"/>
                  </a:solidFill>
                  <a:latin typeface="Arial"/>
                  <a:ea typeface="Arial"/>
                </a:rPr>
                <a:t>Comm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900" spc="-1" strike="noStrike">
                  <a:solidFill>
                    <a:srgbClr val="003e00"/>
                  </a:solidFill>
                  <a:latin typeface="Arial"/>
                  <a:ea typeface="Arial"/>
                </a:rPr>
                <a:t>Ontologies &amp; Theori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 txBox="1"/>
            <p:nvPr/>
          </p:nvSpPr>
          <p:spPr>
            <a:xfrm>
              <a:off x="7072200" y="3056040"/>
              <a:ext cx="690480" cy="430200"/>
            </a:xfrm>
            <a:prstGeom prst="rect">
              <a:avLst/>
            </a:prstGeom>
            <a:solidFill>
              <a:srgbClr val="003e00"/>
            </a:solidFill>
            <a:ln w="12600">
              <a:solidFill>
                <a:srgbClr val="c1ce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eography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&amp; Terrai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 txBox="1"/>
            <p:nvPr/>
          </p:nvSpPr>
          <p:spPr>
            <a:xfrm>
              <a:off x="7072200" y="2646360"/>
              <a:ext cx="690480" cy="430200"/>
            </a:xfrm>
            <a:prstGeom prst="rect">
              <a:avLst/>
            </a:prstGeom>
            <a:solidFill>
              <a:srgbClr val="003e00"/>
            </a:solidFill>
            <a:ln w="12600">
              <a:solidFill>
                <a:srgbClr val="c1ce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ituation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&amp; Context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761000" y="2770200"/>
              <a:ext cx="520560" cy="1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5138640" y="2871720"/>
              <a:ext cx="284040" cy="209520"/>
              <a:chOff x="5138640" y="2871720"/>
              <a:chExt cx="284040" cy="209520"/>
            </a:xfrm>
          </p:grpSpPr>
          <p:sp>
            <p:nvSpPr>
              <p:cNvPr id="652" name=""/>
              <p:cNvSpPr/>
              <p:nvPr/>
            </p:nvSpPr>
            <p:spPr>
              <a:xfrm flipH="1">
                <a:off x="5167440" y="2911320"/>
                <a:ext cx="10476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281560" y="291456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300640" y="2919240"/>
                <a:ext cx="8424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241960" y="2871720"/>
                <a:ext cx="79200" cy="69840"/>
              </a:xfrm>
              <a:prstGeom prst="ellipse">
                <a:avLst/>
              </a:prstGeom>
              <a:solidFill>
                <a:srgbClr val="037c0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243400" y="3011400"/>
                <a:ext cx="79200" cy="698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138640" y="3011400"/>
                <a:ext cx="79200" cy="698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343480" y="3011400"/>
                <a:ext cx="79200" cy="698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 flipH="1">
              <a:off x="4576680" y="2776680"/>
              <a:ext cx="190440" cy="134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772160" y="2782800"/>
              <a:ext cx="0" cy="130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770360" y="2778120"/>
              <a:ext cx="179640" cy="130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4854600" y="2911320"/>
              <a:ext cx="100080" cy="144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960800" y="2917800"/>
              <a:ext cx="86040" cy="130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4467240" y="2917800"/>
              <a:ext cx="104760" cy="139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81360" y="2921040"/>
              <a:ext cx="0" cy="135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600440" y="2925720"/>
              <a:ext cx="84240" cy="135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726080" y="2743200"/>
              <a:ext cx="81000" cy="69840"/>
            </a:xfrm>
            <a:prstGeom prst="ellipse">
              <a:avLst/>
            </a:prstGeom>
            <a:solidFill>
              <a:srgbClr val="ad6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726080" y="2878200"/>
              <a:ext cx="81000" cy="69840"/>
            </a:xfrm>
            <a:prstGeom prst="ellipse">
              <a:avLst/>
            </a:prstGeom>
            <a:solidFill>
              <a:srgbClr val="ad6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541760" y="2878200"/>
              <a:ext cx="79200" cy="69840"/>
            </a:xfrm>
            <a:prstGeom prst="ellipse">
              <a:avLst/>
            </a:prstGeom>
            <a:solidFill>
              <a:srgbClr val="037c0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911840" y="2878200"/>
              <a:ext cx="79200" cy="69840"/>
            </a:xfrm>
            <a:prstGeom prst="ellipse">
              <a:avLst/>
            </a:prstGeom>
            <a:solidFill>
              <a:srgbClr val="ad6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543560" y="3017880"/>
              <a:ext cx="79200" cy="6984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037c03"/>
              </a:solidFill>
              <a:round/>
            </a:ln>
          </p:spPr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38800" y="3017880"/>
              <a:ext cx="79200" cy="6984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037c03"/>
              </a:solidFill>
              <a:round/>
            </a:ln>
          </p:spPr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821120" y="3017880"/>
              <a:ext cx="81000" cy="69840"/>
            </a:xfrm>
            <a:prstGeom prst="ellipse">
              <a:avLst/>
            </a:prstGeom>
            <a:solidFill>
              <a:srgbClr val="00279f"/>
            </a:solidFill>
            <a:ln w="12600">
              <a:solidFill>
                <a:srgbClr val="ad6900"/>
              </a:solidFill>
              <a:round/>
            </a:ln>
          </p:spPr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643280" y="3017880"/>
              <a:ext cx="79200" cy="6984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037c03"/>
              </a:solidFill>
              <a:round/>
            </a:ln>
          </p:spPr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002200" y="3017880"/>
              <a:ext cx="79200" cy="69840"/>
            </a:xfrm>
            <a:prstGeom prst="ellipse">
              <a:avLst/>
            </a:prstGeom>
            <a:solidFill>
              <a:srgbClr val="cfd100"/>
            </a:solidFill>
            <a:ln w="12600">
              <a:solidFill>
                <a:srgbClr val="ad6900"/>
              </a:solidFill>
              <a:round/>
            </a:ln>
          </p:spPr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6" name=""/>
            <p:cNvGrpSpPr/>
            <p:nvPr/>
          </p:nvGrpSpPr>
          <p:grpSpPr>
            <a:xfrm>
              <a:off x="5238720" y="3011400"/>
              <a:ext cx="284040" cy="344520"/>
              <a:chOff x="5238720" y="3011400"/>
              <a:chExt cx="284040" cy="344520"/>
            </a:xfrm>
          </p:grpSpPr>
          <p:sp>
            <p:nvSpPr>
              <p:cNvPr id="677" name=""/>
              <p:cNvSpPr/>
              <p:nvPr/>
            </p:nvSpPr>
            <p:spPr>
              <a:xfrm flipH="1">
                <a:off x="5267160" y="3051000"/>
                <a:ext cx="105120" cy="14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381640" y="3054240"/>
                <a:ext cx="0" cy="13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400720" y="3059280"/>
                <a:ext cx="84240" cy="13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342040" y="3011400"/>
                <a:ext cx="79200" cy="69840"/>
              </a:xfrm>
              <a:prstGeom prst="ellipse">
                <a:avLst/>
              </a:prstGeom>
              <a:solidFill>
                <a:srgbClr val="037c0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343480" y="3151080"/>
                <a:ext cx="79200" cy="698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238720" y="3151080"/>
                <a:ext cx="79200" cy="698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443560" y="3151080"/>
                <a:ext cx="79200" cy="69840"/>
              </a:xfrm>
              <a:prstGeom prst="ellipse">
                <a:avLst/>
              </a:prstGeom>
              <a:solidFill>
                <a:srgbClr val="ad6900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381640" y="3186000"/>
                <a:ext cx="85680" cy="13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>
                <a:off x="5291280" y="3191040"/>
                <a:ext cx="8568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342040" y="3151080"/>
                <a:ext cx="79200" cy="698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37c03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256360" y="3286080"/>
                <a:ext cx="81000" cy="698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421240" y="3286080"/>
                <a:ext cx="81000" cy="69840"/>
              </a:xfrm>
              <a:prstGeom prst="ellipse">
                <a:avLst/>
              </a:prstGeom>
              <a:solidFill>
                <a:srgbClr val="cfd100"/>
              </a:solidFill>
              <a:ln w="12600">
                <a:solidFill>
                  <a:srgbClr val="00279f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9" name=""/>
            <p:cNvSpPr txBox="1"/>
            <p:nvPr/>
          </p:nvSpPr>
          <p:spPr>
            <a:xfrm>
              <a:off x="7751880" y="2657520"/>
              <a:ext cx="1380960" cy="82404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3530"/>
                  </a:solidFill>
                  <a:latin typeface="Arial"/>
                  <a:ea typeface="Arial"/>
                </a:rPr>
                <a:t>Operatio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3530"/>
                  </a:solidFill>
                  <a:latin typeface="Arial"/>
                  <a:ea typeface="Arial"/>
                </a:rPr>
                <a:t>Logistic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3530"/>
                  </a:solidFill>
                  <a:latin typeface="Arial"/>
                  <a:ea typeface="Arial"/>
                </a:rPr>
                <a:t>Sensor Managem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3530"/>
                  </a:solidFill>
                  <a:latin typeface="Arial"/>
                  <a:ea typeface="Arial"/>
                </a:rPr>
                <a:t>Battlefield Situatio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3530"/>
                  </a:solidFill>
                  <a:latin typeface="Arial"/>
                  <a:ea typeface="Arial"/>
                </a:rPr>
                <a:t>Command and Contro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 txBox="1"/>
            <p:nvPr/>
          </p:nvSpPr>
          <p:spPr>
            <a:xfrm>
              <a:off x="7772400" y="2319480"/>
              <a:ext cx="1365120" cy="345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900" spc="-1" strike="noStrike">
                  <a:solidFill>
                    <a:srgbClr val="003e00"/>
                  </a:solidFill>
                  <a:latin typeface="Arial"/>
                  <a:ea typeface="Arial"/>
                </a:rPr>
                <a:t>Domain-Specifi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900" spc="-1" strike="noStrike">
                  <a:solidFill>
                    <a:srgbClr val="003e00"/>
                  </a:solidFill>
                  <a:latin typeface="Arial"/>
                  <a:ea typeface="Arial"/>
                </a:rPr>
                <a:t>Ontologies &amp; Theori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 txBox="1"/>
            <p:nvPr/>
          </p:nvSpPr>
          <p:spPr>
            <a:xfrm>
              <a:off x="4317840" y="3487680"/>
              <a:ext cx="4824360" cy="299880"/>
            </a:xfrm>
            <a:prstGeom prst="rect">
              <a:avLst/>
            </a:prstGeom>
            <a:solidFill>
              <a:srgbClr val="003530"/>
            </a:solidFill>
            <a:ln w="12600">
              <a:solidFill>
                <a:srgbClr val="c1ce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5000"/>
                </a:lnSpc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sic Representation Concepts:  Sets, Sequences, Arrays, Quantities, Probabiliti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2" name=""/>
          <p:cNvSpPr txBox="1"/>
          <p:nvPr/>
        </p:nvSpPr>
        <p:spPr>
          <a:xfrm>
            <a:off x="0" y="2664000"/>
            <a:ext cx="36576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73160" indent="-173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web interface to a browser/editor at </a:t>
            </a:r>
            <a:r>
              <a:rPr b="0" i="1" lang="en-US" sz="1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http://ontolingua.stanford.edu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mirror si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representation is KIF augmented with a frame language on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586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ables OO structuring of ont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150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tologies can be translated into other content languages, including KIF, LOOM, Prolog, CLIP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user with fully cross-referenced HTML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361800" y="1386000"/>
            <a:ext cx="382752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Ontolingu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language for building, publishing, and sharing ontolo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763560" y="771480"/>
            <a:ext cx="761688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The Ontolingua Web 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865080" y="1781280"/>
            <a:ext cx="741348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ontolingua.stanford.ed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nd interest is strong with &gt; 1700 registered users and mirror sites in UMBC, University of Madrid, Boeing Corporation, Wright-Patterson AF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s ontologies in the KIF interlin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nable usability in multiple application enviro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ments KIF with a frame language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nable object-oriented structuring of ont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”, “subclass”, “value restriction”, … defined as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user with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rame language augmented with KIF axioms and 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y cross-referenced html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109440" y="6107040"/>
            <a:ext cx="8620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Network GFP – An API for Remote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495360" y="5638680"/>
            <a:ext cx="815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44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We have client-side stubs for Network GFP in C, JAVA, and LI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431640" y="50760"/>
            <a:ext cx="808992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63de8"/>
                </a:solidFill>
                <a:latin typeface="Book Antiqua"/>
                <a:ea typeface="Book Antiqua"/>
              </a:rPr>
              <a:t>Ontolingua Web Server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7520" y="1108080"/>
            <a:ext cx="7124760" cy="4211640"/>
            <a:chOff x="1217520" y="1108080"/>
            <a:chExt cx="7124760" cy="4211640"/>
          </a:xfrm>
        </p:grpSpPr>
        <p:sp>
          <p:nvSpPr>
            <p:cNvPr id="700" name=""/>
            <p:cNvSpPr/>
            <p:nvPr/>
          </p:nvSpPr>
          <p:spPr>
            <a:xfrm flipV="1">
              <a:off x="4649760" y="3506760"/>
              <a:ext cx="1054080" cy="452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686560" y="2728800"/>
              <a:ext cx="2655720" cy="1101600"/>
            </a:xfrm>
            <a:prstGeom prst="roundRect">
              <a:avLst/>
            </a:prstGeom>
            <a:solidFill>
              <a:srgbClr val="cecece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557680" y="2598840"/>
              <a:ext cx="2654280" cy="1101600"/>
            </a:xfrm>
            <a:prstGeom prst="roundRect">
              <a:avLst/>
            </a:prstGeom>
            <a:solidFill>
              <a:srgbClr val="cecece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557680" y="1109520"/>
              <a:ext cx="2654280" cy="1360440"/>
            </a:xfrm>
            <a:prstGeom prst="roundRect">
              <a:avLst/>
            </a:prstGeom>
            <a:solidFill>
              <a:srgbClr val="cecece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217520" y="1174680"/>
              <a:ext cx="3368520" cy="3821040"/>
            </a:xfrm>
            <a:prstGeom prst="rect">
              <a:avLst/>
            </a:prstGeom>
            <a:solidFill>
              <a:srgbClr val="dadada"/>
            </a:solid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060800" y="1174680"/>
              <a:ext cx="517680" cy="12412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 txBox="1"/>
            <p:nvPr/>
          </p:nvSpPr>
          <p:spPr>
            <a:xfrm>
              <a:off x="4170240" y="1349280"/>
              <a:ext cx="303120" cy="99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0033"/>
                  </a:solidFill>
                  <a:latin typeface="Times New Roman"/>
                  <a:ea typeface="Times New Roman"/>
                </a:rPr>
                <a:t>H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0033"/>
                  </a:solidFill>
                  <a:latin typeface="Times New Roman"/>
                  <a:ea typeface="Times New Roman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0033"/>
                  </a:solidFill>
                  <a:latin typeface="Times New Roman"/>
                  <a:ea typeface="Times New Roman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f0033"/>
                  </a:solidFill>
                  <a:latin typeface="Times New Roman"/>
                  <a:ea typeface="Times New Roman"/>
                </a:rPr>
                <a:t>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060800" y="3506760"/>
              <a:ext cx="517680" cy="90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 txBox="1"/>
            <p:nvPr/>
          </p:nvSpPr>
          <p:spPr>
            <a:xfrm>
              <a:off x="4175280" y="3506760"/>
              <a:ext cx="297000" cy="99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F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483000" y="1951200"/>
              <a:ext cx="5824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483000" y="3570120"/>
              <a:ext cx="5824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063960" y="3862440"/>
              <a:ext cx="0" cy="582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994040" y="3117960"/>
              <a:ext cx="582840" cy="518040"/>
            </a:xfrm>
            <a:custGeom>
              <a:avLst/>
              <a:gdLst/>
              <a:ahLst/>
              <a:rect l="0" t="0" r="r" b="b"/>
              <a:pathLst>
                <a:path fill="none" w="1619" h="1439">
                  <a:moveTo>
                    <a:pt x="0" y="0"/>
                  </a:moveTo>
                  <a:lnTo>
                    <a:pt x="0" y="0"/>
                  </a:lnTo>
                  <a:cubicBezTo>
                    <a:pt x="0" y="253"/>
                    <a:pt x="75" y="501"/>
                    <a:pt x="217" y="720"/>
                  </a:cubicBezTo>
                  <a:cubicBezTo>
                    <a:pt x="359" y="938"/>
                    <a:pt x="563" y="1120"/>
                    <a:pt x="810" y="1246"/>
                  </a:cubicBezTo>
                  <a:cubicBezTo>
                    <a:pt x="1056" y="1373"/>
                    <a:pt x="1335" y="1439"/>
                    <a:pt x="1619" y="1439"/>
                  </a:cubicBezTo>
                </a:path>
              </a:pathLst>
            </a:cu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063960" y="2338560"/>
              <a:ext cx="0" cy="9061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11200" y="2340000"/>
              <a:ext cx="1036800" cy="2919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411200" y="2825640"/>
              <a:ext cx="1036800" cy="2919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411200" y="2793960"/>
              <a:ext cx="1036800" cy="1936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448000" y="2486160"/>
              <a:ext cx="0" cy="485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411200" y="2486160"/>
              <a:ext cx="0" cy="485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 txBox="1"/>
            <p:nvPr/>
          </p:nvSpPr>
          <p:spPr>
            <a:xfrm>
              <a:off x="1461960" y="2644920"/>
              <a:ext cx="930240" cy="35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br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0" name=""/>
            <p:cNvGrpSpPr/>
            <p:nvPr/>
          </p:nvGrpSpPr>
          <p:grpSpPr>
            <a:xfrm>
              <a:off x="6004080" y="1887480"/>
              <a:ext cx="841320" cy="452520"/>
              <a:chOff x="6004080" y="1887480"/>
              <a:chExt cx="841320" cy="452520"/>
            </a:xfrm>
          </p:grpSpPr>
          <p:sp>
            <p:nvSpPr>
              <p:cNvPr id="721" name=""/>
              <p:cNvSpPr txBox="1"/>
              <p:nvPr/>
            </p:nvSpPr>
            <p:spPr>
              <a:xfrm>
                <a:off x="6068880" y="1960560"/>
                <a:ext cx="695160" cy="307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uthor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004080" y="1887480"/>
                <a:ext cx="841320" cy="452520"/>
              </a:xfrm>
              <a:prstGeom prst="roundRect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7169040" y="1498680"/>
              <a:ext cx="843120" cy="452520"/>
              <a:chOff x="7169040" y="1498680"/>
              <a:chExt cx="843120" cy="452520"/>
            </a:xfrm>
          </p:grpSpPr>
          <p:sp>
            <p:nvSpPr>
              <p:cNvPr id="724" name=""/>
              <p:cNvSpPr txBox="1"/>
              <p:nvPr/>
            </p:nvSpPr>
            <p:spPr>
              <a:xfrm>
                <a:off x="7236000" y="1571760"/>
                <a:ext cx="588960" cy="307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ritic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169040" y="1498680"/>
                <a:ext cx="843120" cy="452520"/>
              </a:xfrm>
              <a:prstGeom prst="roundRect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6" name=""/>
            <p:cNvSpPr txBox="1"/>
            <p:nvPr/>
          </p:nvSpPr>
          <p:spPr>
            <a:xfrm>
              <a:off x="6126120" y="1136520"/>
              <a:ext cx="2055960" cy="33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mote Collaborator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 txBox="1"/>
            <p:nvPr/>
          </p:nvSpPr>
          <p:spPr>
            <a:xfrm>
              <a:off x="5932440" y="2625840"/>
              <a:ext cx="1984320" cy="33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mote Application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714920" y="3117960"/>
              <a:ext cx="777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649760" y="1949400"/>
              <a:ext cx="777960" cy="195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4648320" y="1432080"/>
              <a:ext cx="844560" cy="258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649760" y="4672080"/>
              <a:ext cx="777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 txBox="1"/>
            <p:nvPr/>
          </p:nvSpPr>
          <p:spPr>
            <a:xfrm>
              <a:off x="5595840" y="2664000"/>
              <a:ext cx="297000" cy="111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9234db"/>
                  </a:solidFill>
                  <a:latin typeface="Times New Roman"/>
                  <a:ea typeface="Times New Roman"/>
                </a:rPr>
                <a:t>K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9234db"/>
                  </a:solidFill>
                  <a:latin typeface="Times New Roman"/>
                  <a:ea typeface="Times New Roman"/>
                </a:rPr>
                <a:t>Q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9234db"/>
                  </a:solidFill>
                  <a:latin typeface="Times New Roman"/>
                  <a:ea typeface="Times New Roman"/>
                </a:rPr>
                <a:t>M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9234db"/>
                  </a:solidFill>
                  <a:latin typeface="Times New Roman"/>
                  <a:ea typeface="Times New Roman"/>
                </a:rPr>
                <a:t>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81680" y="2598840"/>
              <a:ext cx="0" cy="1101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953480" y="2598840"/>
              <a:ext cx="0" cy="1101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 txBox="1"/>
            <p:nvPr/>
          </p:nvSpPr>
          <p:spPr>
            <a:xfrm>
              <a:off x="7926480" y="2793960"/>
              <a:ext cx="297000" cy="765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</a:t>
              </a:r>
              <a:br>
                <a:rPr sz="1500"/>
              </a:b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6" name=""/>
            <p:cNvGrpSpPr/>
            <p:nvPr/>
          </p:nvGrpSpPr>
          <p:grpSpPr>
            <a:xfrm>
              <a:off x="6392880" y="3117960"/>
              <a:ext cx="995400" cy="452520"/>
              <a:chOff x="6392880" y="3117960"/>
              <a:chExt cx="995400" cy="452520"/>
            </a:xfrm>
          </p:grpSpPr>
          <p:sp>
            <p:nvSpPr>
              <p:cNvPr id="737" name=""/>
              <p:cNvSpPr txBox="1"/>
              <p:nvPr/>
            </p:nvSpPr>
            <p:spPr>
              <a:xfrm>
                <a:off x="6485040" y="3191040"/>
                <a:ext cx="853920" cy="307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-Helper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392880" y="3117960"/>
                <a:ext cx="995400" cy="452520"/>
              </a:xfrm>
              <a:prstGeom prst="roundRect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9" name=""/>
            <p:cNvSpPr/>
            <p:nvPr/>
          </p:nvSpPr>
          <p:spPr>
            <a:xfrm>
              <a:off x="5881680" y="3344760"/>
              <a:ext cx="5176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435800" y="3344760"/>
              <a:ext cx="5176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1" name=""/>
            <p:cNvGrpSpPr/>
            <p:nvPr/>
          </p:nvGrpSpPr>
          <p:grpSpPr>
            <a:xfrm>
              <a:off x="5621400" y="4024440"/>
              <a:ext cx="2667240" cy="1295280"/>
              <a:chOff x="5621400" y="4024440"/>
              <a:chExt cx="2667240" cy="1295280"/>
            </a:xfrm>
          </p:grpSpPr>
          <p:sp>
            <p:nvSpPr>
              <p:cNvPr id="742" name=""/>
              <p:cNvSpPr/>
              <p:nvPr/>
            </p:nvSpPr>
            <p:spPr>
              <a:xfrm>
                <a:off x="5621400" y="4024440"/>
                <a:ext cx="2655720" cy="1295280"/>
              </a:xfrm>
              <a:prstGeom prst="roundRect">
                <a:avLst/>
              </a:prstGeom>
              <a:solidFill>
                <a:srgbClr val="cecece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 txBox="1"/>
              <p:nvPr/>
            </p:nvSpPr>
            <p:spPr>
              <a:xfrm>
                <a:off x="5673600" y="4049640"/>
                <a:ext cx="2344680" cy="33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tand-alone Applications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8018640" y="4024440"/>
                <a:ext cx="0" cy="129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 txBox="1"/>
              <p:nvPr/>
            </p:nvSpPr>
            <p:spPr>
              <a:xfrm>
                <a:off x="7991640" y="4348080"/>
                <a:ext cx="297000" cy="765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G</a:t>
                </a:r>
                <a:br>
                  <a:rPr sz="1500"/>
                </a:b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U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686560" y="4606920"/>
                <a:ext cx="843120" cy="268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686560" y="5052960"/>
                <a:ext cx="843120" cy="2667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686560" y="5022720"/>
                <a:ext cx="843120" cy="17784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529320" y="4740120"/>
                <a:ext cx="0" cy="446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686560" y="4740120"/>
                <a:ext cx="0" cy="446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 txBox="1"/>
              <p:nvPr/>
            </p:nvSpPr>
            <p:spPr>
              <a:xfrm>
                <a:off x="5818320" y="4943520"/>
                <a:ext cx="420840" cy="307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KB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2" name=""/>
              <p:cNvGrpSpPr/>
              <p:nvPr/>
            </p:nvGrpSpPr>
            <p:grpSpPr>
              <a:xfrm>
                <a:off x="6781680" y="4348080"/>
                <a:ext cx="719280" cy="453960"/>
                <a:chOff x="6781680" y="4348080"/>
                <a:chExt cx="719280" cy="453960"/>
              </a:xfrm>
            </p:grpSpPr>
            <p:sp>
              <p:nvSpPr>
                <p:cNvPr id="753" name=""/>
                <p:cNvSpPr txBox="1"/>
                <p:nvPr/>
              </p:nvSpPr>
              <p:spPr>
                <a:xfrm>
                  <a:off x="6824520" y="4421160"/>
                  <a:ext cx="484200" cy="30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p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6781680" y="4348080"/>
                  <a:ext cx="719280" cy="453960"/>
                </a:xfrm>
                <a:prstGeom prst="roundRect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5" name=""/>
              <p:cNvSpPr/>
              <p:nvPr/>
            </p:nvSpPr>
            <p:spPr>
              <a:xfrm>
                <a:off x="6593040" y="4834080"/>
                <a:ext cx="486000" cy="227520"/>
              </a:xfrm>
              <a:custGeom>
                <a:avLst/>
                <a:gdLst/>
                <a:ahLst/>
                <a:rect l="0" t="0" r="r" b="b"/>
                <a:pathLst>
                  <a:path fill="none" w="1350" h="632">
                    <a:moveTo>
                      <a:pt x="0" y="632"/>
                    </a:moveTo>
                    <a:lnTo>
                      <a:pt x="0" y="632"/>
                    </a:lnTo>
                    <a:cubicBezTo>
                      <a:pt x="237" y="632"/>
                      <a:pt x="470" y="603"/>
                      <a:pt x="675" y="547"/>
                    </a:cubicBezTo>
                    <a:cubicBezTo>
                      <a:pt x="880" y="492"/>
                      <a:pt x="1051" y="412"/>
                      <a:pt x="1169" y="316"/>
                    </a:cubicBezTo>
                    <a:cubicBezTo>
                      <a:pt x="1288" y="220"/>
                      <a:pt x="1350" y="111"/>
                      <a:pt x="1350" y="0"/>
                    </a:cubicBezTo>
                  </a:path>
                </a:pathLst>
              </a:custGeom>
              <a:ln w="255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500960" y="4575240"/>
                <a:ext cx="517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7" name=""/>
            <p:cNvSpPr/>
            <p:nvPr/>
          </p:nvSpPr>
          <p:spPr>
            <a:xfrm>
              <a:off x="5881680" y="110808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 txBox="1"/>
            <p:nvPr/>
          </p:nvSpPr>
          <p:spPr>
            <a:xfrm>
              <a:off x="5543640" y="1330200"/>
              <a:ext cx="358920" cy="855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279440" y="4437000"/>
              <a:ext cx="3249720" cy="501480"/>
            </a:xfrm>
            <a:prstGeom prst="rect">
              <a:avLst/>
            </a:prstGeom>
            <a:solidFill>
              <a:srgbClr val="ff66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 txBox="1"/>
            <p:nvPr/>
          </p:nvSpPr>
          <p:spPr>
            <a:xfrm>
              <a:off x="1295280" y="4546440"/>
              <a:ext cx="3276720" cy="307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lators: Loom, IDL, CLIPS, ..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054320" y="2435400"/>
              <a:ext cx="549360" cy="1071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 txBox="1"/>
            <p:nvPr/>
          </p:nvSpPr>
          <p:spPr>
            <a:xfrm>
              <a:off x="4175280" y="2495520"/>
              <a:ext cx="297000" cy="99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9234db"/>
                  </a:solidFill>
                  <a:latin typeface="Times New Roman"/>
                  <a:ea typeface="Times New Roman"/>
                </a:rPr>
                <a:t>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9234db"/>
                  </a:solidFill>
                  <a:latin typeface="Times New Roman"/>
                  <a:ea typeface="Times New Roman"/>
                </a:rPr>
                <a:t>Q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9234db"/>
                  </a:solidFill>
                  <a:latin typeface="Times New Roman"/>
                  <a:ea typeface="Times New Roman"/>
                </a:rPr>
                <a:t>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9234db"/>
                  </a:solidFill>
                  <a:latin typeface="Times New Roman"/>
                  <a:ea typeface="Times New Roman"/>
                </a:rPr>
                <a:t>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3" name=""/>
            <p:cNvGrpSpPr/>
            <p:nvPr/>
          </p:nvGrpSpPr>
          <p:grpSpPr>
            <a:xfrm>
              <a:off x="2567160" y="1844640"/>
              <a:ext cx="841320" cy="519120"/>
              <a:chOff x="2567160" y="1844640"/>
              <a:chExt cx="841320" cy="519120"/>
            </a:xfrm>
          </p:grpSpPr>
          <p:sp>
            <p:nvSpPr>
              <p:cNvPr id="764" name=""/>
              <p:cNvSpPr/>
              <p:nvPr/>
            </p:nvSpPr>
            <p:spPr>
              <a:xfrm>
                <a:off x="2567160" y="1844640"/>
                <a:ext cx="841320" cy="519120"/>
              </a:xfrm>
              <a:prstGeom prst="rect">
                <a:avLst/>
              </a:prstGeom>
              <a:solidFill>
                <a:srgbClr val="99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 txBox="1"/>
              <p:nvPr/>
            </p:nvSpPr>
            <p:spPr>
              <a:xfrm>
                <a:off x="2654280" y="1951200"/>
                <a:ext cx="684360" cy="307800"/>
              </a:xfrm>
              <a:prstGeom prst="rect">
                <a:avLst/>
              </a:prstGeom>
              <a:solidFill>
                <a:srgbClr val="99ffff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Editor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2676600" y="3343320"/>
              <a:ext cx="888840" cy="519120"/>
              <a:chOff x="2676600" y="3343320"/>
              <a:chExt cx="888840" cy="519120"/>
            </a:xfrm>
          </p:grpSpPr>
          <p:sp>
            <p:nvSpPr>
              <p:cNvPr id="767" name=""/>
              <p:cNvSpPr/>
              <p:nvPr/>
            </p:nvSpPr>
            <p:spPr>
              <a:xfrm>
                <a:off x="2676600" y="3343320"/>
                <a:ext cx="841320" cy="51912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 txBox="1"/>
              <p:nvPr/>
            </p:nvSpPr>
            <p:spPr>
              <a:xfrm>
                <a:off x="2762280" y="3413160"/>
                <a:ext cx="803160" cy="353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763560" y="771480"/>
            <a:ext cx="761688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Network Services (imag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5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763560" y="771480"/>
            <a:ext cx="761688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Ontology Library (imag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89917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763560" y="771480"/>
            <a:ext cx="761688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e Domain Ontology (imag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1"/>
          <a:stretch/>
        </p:blipFill>
        <p:spPr>
          <a:xfrm>
            <a:off x="50760" y="38160"/>
            <a:ext cx="9055080" cy="67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1"/>
          <a:stretch/>
        </p:blipFill>
        <p:spPr>
          <a:xfrm>
            <a:off x="38160" y="698400"/>
            <a:ext cx="9067680" cy="5537160"/>
          </a:xfrm>
          <a:prstGeom prst="rect">
            <a:avLst/>
          </a:prstGeom>
          <a:ln w="0">
            <a:noFill/>
          </a:ln>
        </p:spPr>
      </p:pic>
      <p:pic>
        <p:nvPicPr>
          <p:cNvPr id="780" name="" descr=""/>
          <p:cNvPicPr/>
          <p:nvPr/>
        </p:nvPicPr>
        <p:blipFill>
          <a:blip r:embed="rId2"/>
          <a:stretch/>
        </p:blipFill>
        <p:spPr>
          <a:xfrm>
            <a:off x="12600" y="711360"/>
            <a:ext cx="9080640" cy="56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763560" y="414360"/>
            <a:ext cx="761688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cal Component Class (imag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577800" y="12600"/>
            <a:ext cx="797544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789120" y="563400"/>
            <a:ext cx="726120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Reusable Declarative Knowl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200160" y="1465200"/>
            <a:ext cx="844056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arative knowledge is the critical enabler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scale intelligen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tion of object-orien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ding knowledge is prohibitively 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v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phisticated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must develop capability for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knowledge reuse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a tools and techniques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preserving reusable knowledge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mbling knowledge bases from reusable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763560" y="414360"/>
            <a:ext cx="761688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wse Scalar Quantity Class (imag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1"/>
          <a:stretch/>
        </p:blipFill>
        <p:spPr>
          <a:xfrm>
            <a:off x="431640" y="31680"/>
            <a:ext cx="8318520" cy="67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763560" y="771480"/>
            <a:ext cx="761688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 Scalar Quanity Class (imag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" descr=""/>
          <p:cNvPicPr/>
          <p:nvPr/>
        </p:nvPicPr>
        <p:blipFill>
          <a:blip r:embed="rId1"/>
          <a:stretch/>
        </p:blipFill>
        <p:spPr>
          <a:xfrm>
            <a:off x="25560" y="12600"/>
            <a:ext cx="906768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763560" y="771480"/>
            <a:ext cx="761688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 Slot Value Type Facet (imag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25560" y="25560"/>
            <a:ext cx="909324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1128600" y="338040"/>
            <a:ext cx="693900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Occurrences of “dimension” (imag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" descr=""/>
          <p:cNvPicPr/>
          <p:nvPr/>
        </p:nvPicPr>
        <p:blipFill>
          <a:blip r:embed="rId1"/>
          <a:stretch/>
        </p:blipFill>
        <p:spPr>
          <a:xfrm>
            <a:off x="76320" y="406440"/>
            <a:ext cx="9029880" cy="615960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2"/>
          <a:stretch/>
        </p:blipFill>
        <p:spPr>
          <a:xfrm>
            <a:off x="25560" y="520560"/>
            <a:ext cx="908064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1494000" y="490680"/>
            <a:ext cx="620712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“Physical-Dimension” (imag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" descr=""/>
          <p:cNvPicPr/>
          <p:nvPr/>
        </p:nvPicPr>
        <p:blipFill>
          <a:blip r:embed="rId1"/>
          <a:stretch/>
        </p:blipFill>
        <p:spPr>
          <a:xfrm>
            <a:off x="38160" y="520560"/>
            <a:ext cx="9080640" cy="5791320"/>
          </a:xfrm>
          <a:prstGeom prst="rect">
            <a:avLst/>
          </a:prstGeom>
          <a:ln w="0">
            <a:noFill/>
          </a:ln>
        </p:spPr>
      </p:pic>
      <p:pic>
        <p:nvPicPr>
          <p:cNvPr id="800" name="" descr=""/>
          <p:cNvPicPr/>
          <p:nvPr/>
        </p:nvPicPr>
        <p:blipFill>
          <a:blip r:embed="rId2"/>
          <a:stretch/>
        </p:blipFill>
        <p:spPr>
          <a:xfrm>
            <a:off x="12600" y="635040"/>
            <a:ext cx="908064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763560" y="771480"/>
            <a:ext cx="761688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 Edit of Facet (imag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" descr=""/>
          <p:cNvPicPr/>
          <p:nvPr/>
        </p:nvPicPr>
        <p:blipFill>
          <a:blip r:embed="rId1"/>
          <a:stretch/>
        </p:blipFill>
        <p:spPr>
          <a:xfrm>
            <a:off x="25560" y="12600"/>
            <a:ext cx="908064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 txBox="1"/>
          <p:nvPr/>
        </p:nvSpPr>
        <p:spPr>
          <a:xfrm>
            <a:off x="776160" y="1409760"/>
            <a:ext cx="75913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7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Ontologies</a:t>
            </a:r>
            <a:br>
              <a:rPr sz="11700"/>
            </a:br>
            <a:r>
              <a:rPr b="1" lang="en-US" sz="117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Conclusion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 txBox="1"/>
          <p:nvPr/>
        </p:nvSpPr>
        <p:spPr>
          <a:xfrm>
            <a:off x="763560" y="325440"/>
            <a:ext cx="761688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Ontology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222120" y="1314360"/>
            <a:ext cx="8394840" cy="53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tology page -- http://www.kr.org/top -- projects addressing major ontology construction issues,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8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PA/Rome Laboratory Planning Initiative (ARP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8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T LCS Clinical Decision-Making Group Guardian Angel Pro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8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C ISI SENSUS Pro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8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nburgh Plan Ontology Pro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8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PA Knowledge Sharing Effort libr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8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ronto Virtual Enterprise (TOVE) Pro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8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c Pro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tology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 mail to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majordomo@cs.umbc.edu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 onto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in message body for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I Ad Hoc Group on Ontology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-KSL.Stanford.EDU/onto-std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 txBox="1"/>
          <p:nvPr/>
        </p:nvSpPr>
        <p:spPr>
          <a:xfrm>
            <a:off x="763560" y="353880"/>
            <a:ext cx="761688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530280" y="1389240"/>
            <a:ext cx="8085240" cy="46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0040" indent="-2300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Ontolog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= set of axioms and definitions used to specify the vocabulary of a representation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able ontologies will greatly facilitate KB co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Ontolingu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Web-based ontology development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steps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332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large libraries of consensus standard ont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332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tools that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3800" indent="-101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and what can be expressed in and about ont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3800" indent="-10152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e ontology construction, use, and maint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332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e convincing examples of ontology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558720" y="587520"/>
            <a:ext cx="772164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Representation Requires Vocabul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641520" y="1596960"/>
            <a:ext cx="8202600" cy="36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ain experts use domain-specific 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ditional KR languages are domain-independent (E.g, FOPC, frames, schemas) and don’t provide a domain-specific 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B construction therefore involves two ste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ng vocabulary to be used to represent the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ing the knowledge using the defined 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530280" y="473040"/>
            <a:ext cx="77788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Defining Domain-Specific 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547560" y="1271520"/>
            <a:ext cx="774540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9996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ng domain-specific vocabulary is a major barrier to knowledge base con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, one wants to use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existing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cabularies since most domains have consensus-standard vocabula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 base construction can be significantly simplified by providing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9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able vocabul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9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s for assembling, customizing and extending vocabul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92040" y="324000"/>
            <a:ext cx="80550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tolo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673200" y="1447920"/>
            <a:ext cx="7797960" cy="46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ntology contains specification of concepts to be used for express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231840">
              <a:lnSpc>
                <a:spcPct val="70000"/>
              </a:lnSpc>
              <a:spcBef>
                <a:spcPts val="383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Types of entiti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Relations and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231840">
              <a:lnSpc>
                <a:spcPct val="70000"/>
              </a:lnSpc>
              <a:spcBef>
                <a:spcPts val="383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Attributes and properti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tologies are distinguished from KBs not by their form, but by the role they play in represent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231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sus models for a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231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hasis on properties that hold in all sit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231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hasis on classes rather than in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231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nded to support multiple tasks and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231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change during problem solving and are suited for “compiling” into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231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to satisfy a community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90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hasis on collaborativ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90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hasis on translation to multiple logical formal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231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for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530280" y="468360"/>
            <a:ext cx="77788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KR Language := Logic + Ont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755640" y="1508040"/>
            <a:ext cx="732780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 representation language provi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ogical forma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 for wf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cabulary of logical symbols (e.g., and, or, n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ation semantics for the logical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nt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cabulary of non-logical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s of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ioms constraining interpretation of primitive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tologies are distinguished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by their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fo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th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ro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play in representing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544680" y="473040"/>
            <a:ext cx="77500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lassical Definitions Are Not En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627120" y="1293840"/>
            <a:ext cx="810108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s provide equivalent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, bachelor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n(x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married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symbols can be eliminated by replacement, resulting in a KB expressed in terms of undefined symb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fined symbols are given “meaning” by axi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, ~[on(x,y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(y,x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=&gt;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tologies must have both definitions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nd axi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700200" y="85680"/>
            <a:ext cx="77439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ual Sche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530520" y="4111560"/>
            <a:ext cx="52704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ce(x, y) =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$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x’, y’) [</a:t>
            </a:r>
            <a:r>
              <a:rPr b="1" lang="en-US" sz="2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uto_part(x’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                   </a:t>
            </a:r>
            <a:r>
              <a:rPr b="1" lang="en-US" sz="2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&amp; stock_no(x’) = 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tail_price(x’, y’, Value-In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magnitude(y’, US_dollars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y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3645000" y="2932200"/>
            <a:ext cx="3581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: pric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*stockNo: integer;  cost: fl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3710160" y="1741320"/>
            <a:ext cx="1155600" cy="915840"/>
            <a:chOff x="3710160" y="1741320"/>
            <a:chExt cx="1155600" cy="915840"/>
          </a:xfrm>
        </p:grpSpPr>
        <p:sp>
          <p:nvSpPr>
            <p:cNvPr id="484" name=""/>
            <p:cNvSpPr txBox="1"/>
            <p:nvPr/>
          </p:nvSpPr>
          <p:spPr>
            <a:xfrm>
              <a:off x="3710160" y="1741320"/>
              <a:ext cx="1155600" cy="91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39  74.50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  77.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    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714840" y="1787400"/>
              <a:ext cx="1117440" cy="254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14840" y="2041560"/>
              <a:ext cx="1117440" cy="254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714840" y="2295360"/>
              <a:ext cx="1117440" cy="254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714840" y="1787400"/>
              <a:ext cx="507960" cy="254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714840" y="2041560"/>
              <a:ext cx="507960" cy="254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714840" y="2295360"/>
              <a:ext cx="507960" cy="254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"/>
          <p:cNvSpPr txBox="1"/>
          <p:nvPr/>
        </p:nvSpPr>
        <p:spPr>
          <a:xfrm>
            <a:off x="1424160" y="1928880"/>
            <a:ext cx="1638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 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839880" y="299556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 Base Sche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74640" y="4683240"/>
            <a:ext cx="29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ceptual Sche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781200" y="838080"/>
            <a:ext cx="75819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ceptual schema specifies the intended meaning of concepts used in a data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 flipV="1">
            <a:off x="5587920" y="5764320"/>
            <a:ext cx="536760" cy="419040"/>
          </a:xfrm>
          <a:prstGeom prst="line">
            <a:avLst/>
          </a:prstGeom>
          <a:ln w="3816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7081920" y="3456000"/>
            <a:ext cx="108576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On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6400800" y="4135320"/>
            <a:ext cx="776160" cy="588960"/>
          </a:xfrm>
          <a:prstGeom prst="line">
            <a:avLst/>
          </a:prstGeom>
          <a:ln w="381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7101000" y="4659480"/>
            <a:ext cx="583920" cy="444240"/>
          </a:xfrm>
          <a:prstGeom prst="line">
            <a:avLst/>
          </a:prstGeom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7666200" y="4456080"/>
            <a:ext cx="10857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n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6164280" y="6099120"/>
            <a:ext cx="112392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Units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On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763560" y="771480"/>
            <a:ext cx="761688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onceptual Schema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17520" y="1898640"/>
            <a:ext cx="85107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80" indent="-4680">
              <a:lnSpc>
                <a:spcPct val="100000"/>
              </a:lnSpc>
              <a:spcBef>
                <a:spcPts val="479"/>
              </a:spcBef>
              <a:tabLst>
                <a:tab algn="l" pos="3594240"/>
                <a:tab algn="l" pos="3889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e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to-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3240">
              <a:lnSpc>
                <a:spcPct val="60000"/>
              </a:lnSpc>
              <a:spcBef>
                <a:spcPts val="479"/>
              </a:spcBef>
              <a:tabLst>
                <a:tab algn="l" pos="3362400"/>
                <a:tab algn="l" pos="3657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dor:  &lt;Vendor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ce-Of:  Product-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3240">
              <a:lnSpc>
                <a:spcPct val="100000"/>
              </a:lnSpc>
              <a:tabLst>
                <a:tab algn="l" pos="3362400"/>
                <a:tab algn="l" pos="3657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ck-Number:  &lt;Integer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class-Of: 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3240">
              <a:lnSpc>
                <a:spcPct val="100000"/>
              </a:lnSpc>
              <a:tabLst>
                <a:tab algn="l" pos="3362400"/>
                <a:tab algn="l" pos="3657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-Type:  &lt;Product-Class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-Of:  &lt;Automob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3240">
              <a:lnSpc>
                <a:spcPct val="100000"/>
              </a:lnSpc>
              <a:tabLst>
                <a:tab algn="l" pos="3362400"/>
                <a:tab algn="l" pos="3657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ail-Pric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ck-No:  &lt;integ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3240">
              <a:lnSpc>
                <a:spcPct val="100000"/>
              </a:lnSpc>
              <a:tabLst>
                <a:tab algn="l" pos="3362400"/>
                <a:tab algn="l" pos="3657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Monetary-Quanti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0" indent="-4680">
              <a:lnSpc>
                <a:spcPct val="100000"/>
              </a:lnSpc>
              <a:spcBef>
                <a:spcPts val="2041"/>
              </a:spcBef>
              <a:tabLst>
                <a:tab algn="l" pos="3594240"/>
                <a:tab algn="l" pos="3889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nt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etary-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3240">
              <a:lnSpc>
                <a:spcPct val="60000"/>
              </a:lnSpc>
              <a:tabLst>
                <a:tab algn="l" pos="3362400"/>
                <a:tab algn="l" pos="3657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ension:  &lt;Dimension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class-Of:  Qua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3240">
              <a:lnSpc>
                <a:spcPct val="100000"/>
              </a:lnSpc>
              <a:tabLst>
                <a:tab algn="l" pos="3362400"/>
                <a:tab algn="l" pos="3657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itude:  &lt;Magnitud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itude:  &lt;Monetary-Magnitud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0" indent="-4680">
              <a:lnSpc>
                <a:spcPct val="100000"/>
              </a:lnSpc>
              <a:spcBef>
                <a:spcPts val="2041"/>
              </a:spcBef>
              <a:tabLst>
                <a:tab algn="l" pos="3594240"/>
                <a:tab algn="l" pos="3889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itu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etary-Magn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3240">
              <a:lnSpc>
                <a:spcPct val="60000"/>
              </a:lnSpc>
              <a:tabLst>
                <a:tab algn="l" pos="3362400"/>
                <a:tab algn="l" pos="3657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ount:  &lt;Float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class-Of:  Magni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3240">
              <a:lnSpc>
                <a:spcPct val="100000"/>
              </a:lnSpc>
              <a:tabLst>
                <a:tab algn="l" pos="3362400"/>
                <a:tab algn="l" pos="3657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:  &lt;Unit-Of-Measure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:  &lt;Monetary-Uni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alued Gateway Customer</dc:creator>
  <dc:description/>
  <dc:language>en-US</dc:language>
  <cp:lastModifiedBy>Valued Gateway Customer</cp:lastModifiedBy>
  <cp:revision>0</cp:revision>
  <dc:subject/>
  <dc:title>Ontologies</dc:title>
</cp:coreProperties>
</file>