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939-721D-4E84-A000-9088D703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909-206E-4727-AB49-17B632E4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78B-EAF5-4ED8-B6B5-556ECE39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5A5-00D4-43CC-A3F1-76F584A1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BC1-7211-4AED-9E53-45809DB6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149-148D-440E-8EED-5B385F95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911-E2CC-4323-A9B7-7690877F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0A5-F3D9-4122-B689-462858EF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FCC-4B83-4160-9338-EC310DF3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F65-CE54-4FE6-A24F-7A787FEE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28F-75B0-4DB5-8E45-D1292B6E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0E1-2744-4533-A18B-651E732D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1152-84D9-4B63-A965-A2724EFDE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-swiss.ai.mit.edu/~jaffer/r5rs_toc.html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Quick Introduction to Programming i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pply + '(1 2 3 4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pply append '((1 2 3) (a b c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expects the value of its first argument to be a funct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eneral map takes an n-ary function and n lists. It applies the function to the n first elements of the lists, then to the n second elements of the lis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, etc. and returns a list of the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 + '(1 2 3) '(1 2 3) '(1 2 3)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&gt;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3 6 9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+ treated as a ternary(n=3) function h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 car '((a b) (d e) (g h))) ==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 d g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ar is unary (n=1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map and app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map-append" takes two arguments, a function fn, and a list, and maps that function over the list _appending_ together all of the results. (fn must take one argument and return a 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map-appe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fn the-lis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ppend (map fn the-list))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map-append cdr '((1 2 3) (1 2 3) (1 2 3))) =&gt; (2 3 2 3 2 3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ereas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map cdr '((1 2 3) (1 2 3) (1 2 3))) =&gt; ((2 3) (2 3) (2 3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name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mbda (x) (+ x 2)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4) =&g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(lambda (x) (+ x x)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'(1 2 3 4 5)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2 4 6 8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ambda expressions make it possible to create new functions at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ru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ding constr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vari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 (bindings) form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* (bindings) form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rec (bindings) form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s 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name init-form)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s each name to its init-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: bindings order un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*: bindings done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rec: binds all names to undefined, evals each init form, mutates bindings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76560" y="2276640"/>
            <a:ext cx="612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x 2) (y 3)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x 7) (z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y))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z x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&gt;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x 2) (y 3)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x 7) (z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y))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z x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&gt;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7320" y="2057400"/>
            <a:ext cx="71910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(x 5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(fa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mbd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= n 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* n (fact (- n 1)))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act x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evaluation of this form retu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=&gt;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eqv? obj1 obj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#t if objects share storage, else #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equal? obj1 obj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#t if objects display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eq? obj1 obj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eqv? but stric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is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null? obj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#t if obj is the empty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list? obj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#t if obj is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ll is 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is a list, then (cons x a) is also 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hip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memq obj li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uses eq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memv obj li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: uses eqv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member obj li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uses equ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ation of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set-car! list obj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es the car of list to 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set-cdr! list obj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es the cdr of list to 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che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ally scoped dialect of Lis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 and simple seman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class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mbda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types (weakly or dynamically typ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tions have first class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fix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rative, functional, and message passing styles find convenient expression in sche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ither a list or an ato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list is evaluated to be ei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peci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on or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 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on is defined to be a list whose first element is a special form operator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aluation of the expression depends on the particular special form opera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valuat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evaluating the 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the value of the first 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values of the rest of the elements of the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valuates to the most recent value that has been assigned to that symbol (via "set!" for exampl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symbol 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valuates to itself. These include numbers and strings, and ot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35760" y="363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pecial about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t in support for l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c Storage Manage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ty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-class Function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new functions at run time. Create unname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form Synta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complex precedence rules and other struc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active Environ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sibilit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of the uniform syntax and other features it is easy to define your own language on top of Sche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35760" y="363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un the MIT Scheme interpreter on borg, type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eem/software/scheme/bin/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your Scheme function definition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.s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current directory (if you use emacs, you get some nifty fe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cheme, type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oad “file.scm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cheme, type Scheme expre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 Scheme from within emac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-x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-x sh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plits your window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you a shell within emacs in one window, in which you can run Sche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 file.scm in the other windo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lt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cheme Reference Man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the Scheme links from  the course web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(straight) list in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51080" y="1946160"/>
            <a:ext cx="43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fine lst1 `(a b 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lst1 is represented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0184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5904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6416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0696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3576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9296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63960" y="46832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92760" y="468324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0440" y="4683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64360" y="4683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79240" y="521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888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3160" y="521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492960" y="437832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2600" y="43848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air in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52880" y="1946160"/>
            <a:ext cx="406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fine pair1 `(a . 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1  is represented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4160" y="3013200"/>
            <a:ext cx="45720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21360" y="3013200"/>
            <a:ext cx="45720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92760" y="3317760"/>
            <a:ext cx="14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41560" y="3774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32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23532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84920" y="3013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3359160"/>
            <a:ext cx="14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mutable operations to lists: implementation of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86000" y="2895480"/>
            <a:ext cx="838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43200" y="28954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320040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200400"/>
            <a:ext cx="3657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6483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4648320"/>
            <a:ext cx="1218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46483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46483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64832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312408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2280" y="2860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0600" y="5181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10240" y="51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520" y="5181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2952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with an empty queue, add a, b, and c to th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sequence, using the code in question B1 of ass.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ing linked structure, containing four cells, looks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934320" y="4343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2400" y="5670720"/>
            <a:ext cx="81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n Sche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-car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-cdr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not introduce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s, but just rewire their argument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roduces a new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2 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2 3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2 2)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3 3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o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Pat Ki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e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'(Pat Kim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'(Robin Sandy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e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'(Pat Kim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'(John Q Public)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'Sandy))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!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 '(John Q Public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!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1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(length p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'Mr 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ine town ‘Halif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 'of town 'may 'have 'already 'won!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get-first-name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?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irst-nam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get-first-name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)))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irst name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!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( (John Q Publi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lcolm X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dmiral Grace Murray Hopper)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Spot) (Aristotle) (A A Miln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Z Z To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ir Larry Olivi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iss Scarlet))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get-first-names names) =&gt;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35760" y="363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As First-class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map-name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fn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?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'(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fn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first name-list))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(map-names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fn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rest name-list)))))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-names first-name names)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=&gt; 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s and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of a variable can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ymbol   ‘Joh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st   ‘(a b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unc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of the above can be returned by a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2:42:33Z</dcterms:created>
  <dc:creator>Evangelos E. Milios</dc:creator>
  <dc:description/>
  <dc:language>en-US</dc:language>
  <cp:lastModifiedBy>tim finin</cp:lastModifiedBy>
  <dcterms:modified xsi:type="dcterms:W3CDTF">2002-11-07T23:20:58Z</dcterms:modified>
  <cp:revision>86</cp:revision>
  <dc:subject/>
  <dc:title>Let’s Scheme</dc:title>
</cp:coreProperties>
</file>