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EA2-567C-45B4-9C02-1EA5A955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4E0-322E-415D-B715-72B91B85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55B-0776-4B7F-9B9D-ABAEE465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48-CDE6-48C2-A717-6674A769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137-99B2-499F-82C7-11C378D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2DE-D6BF-45A1-9EAA-148F4CB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CC3-AAED-4AAE-A2E3-EA8D8AA8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CFB-562B-4258-A66F-BA8F1EB6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BCF-B132-419D-A2FE-5717EAB4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0EC-8F28-4584-B959-5A45D7B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EBD-E39D-4D81-8304-97E1F64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5C5-5286-4307-9F2D-2CD2563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6F3-AF1D-44C1-9CCF-6F1B6859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hat are we going to talk about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s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view of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anying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4 from Seb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ight find a Scheme reference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recomme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cheme Programming Language, 2nd e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y R. Kent Dybv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online for free! http://www.scheme.com/tspl2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Scheme environment to use at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Scheme 5.0 (Free 14-day eval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chemer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Scheme (Free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cs.rice.edu/CS/PLT/packages/drschem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tack is not a type, it is not possible to create an object of type Stack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 *pStack = new Stack;  // not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reate Stack objects, you must first fill in the type parameters.  For example, to create a Stack of Song object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Bruce Springsteen”, “Thunder Road”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so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o create a Stack of integ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int&gt; int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Stack.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can be checked staticall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i);  // compile-tim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our GenericStack solution, instantiations of the Stack template can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articular instantiation of a Stack template can only hold elements of exactly one type, which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reating a Stack which holds pointers to some base class will allow the Stack to hold objects of any of its sub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uses of a Stack instantiation will be statically type che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downside: Each Stack instantiation causes separate code to be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rty different Stack instantiations are used in a program, it is as though thirty separate type classes were written and compi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mall price to pay for type saf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yntactic problem with 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” and “&gt;&gt;” are both operators in C++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f (a &gt; 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in &gt;&gt;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for template instantiations can themselves be template instanti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is a minor syntactic problem to deal with when a type parameter is a template instanti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&gt; stack;   // error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 &gt; stack;  //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ther minor template shortcom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late is generally written entirely in a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eader file is included in any source file in which the template is instant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code is not generally compiled until it is instantiated.  For a given instantiation, only the methods which are called are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a compile-time error may exist in a program for a long time before it is ever 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practical problem: Error messages returned by compilers related to templates are often very difficult to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Constraints on typ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are implicitly const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templat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reStraits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T&amp; brothersInArms() { // ...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output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t &lt;&lt; brothersInArms().foo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utput() method calls a method foo() on a T, T must have a method called foo() which takes no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ation of this constraint will result in a compile-time error, but only 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DireStraits instantiation whose type parameter does not have a foo() method defined which takes no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nstantiation has its output() method called at leas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533520"/>
            <a:ext cx="58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d now for something completely differen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ative languages are based on von Neuman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languages are influenced by 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mapping between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main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ng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a domain, a range, and a mapping rule which maps domain elements to rang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 element of the domai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ie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 element of th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s and recursion control the evaluation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n) = / 1, if n =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\ n * f(n - 1), if n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ay not have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5829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perties of functional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3047760"/>
            <a:ext cx="5829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functional languag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assignmen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repetition other than 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only functions with no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mputation in a functional language is done by applying functions to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1371600"/>
            <a:ext cx="5829120" cy="67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a LISP dialect, designed in the mid-1970’s at 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statically scoped, unlike early version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supports functional programming, but also supports imperative programming and, to an extent, object-oriented and log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e has variables, assignment, and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LISP, Scheme is garbag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in Scheme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chem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, the Scheme environment is interactive and interpr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Scheme implementations allow compilation to nativ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me interpreter is implemented as an infinite read-evaluate-prin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types an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ression is interp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ing valu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+ 10 1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where ‘(the streets have no name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where the streets have no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symbol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  Alex  ics_141  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number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  99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or a str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Good morning”   “Oingo Boing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rdered series of atoms and lists, enclosed by parens and separated by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example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   (a (b c) ((d e) f) g) 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redefined Boolean con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 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943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tack of integers in C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080" y="1980720"/>
            <a:ext cx="58863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you wanted to write a class in C++ which implements a stack of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define the following class:</a:t>
            </a:r>
            <a:br>
              <a:rPr sz="24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eg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Integ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int 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imagine what the implementations for these methods might look li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evaluated in the following fash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must evaluate to a procedure (e.g. it can be the name of a proced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eding elements are considered to be arguments to the procedure.  These arguments are evaluated (in no particular order) and their results are used as arg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e-defined procedure “+”, which returns the sum of all of its argument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(+ 3 5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nd strings evaluate to themselv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“Smells Like Teen Spiri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mells Like Teen Spiri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2742840"/>
            <a:ext cx="5810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evaluate to a value to which they have been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are bound to values either through assignment or as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is first bound using “def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subsequently be assigned using “set!”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x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et! x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ext on a line following a ; character is considered a comment and is ignored by the interpr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voiding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valuating an expression, the pre-defined procedure “quote”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e” simply returns its argument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ful shorthand for the “quote” procedure is the apostrophe not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Manipulat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6002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built out of two components: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oper list, the car is the first element in the list, and the cdr is a list of the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itive functions “car” and “cdr” return the two components of a lis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may not be empty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uild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cons” takes two parameters and builds a list out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argument becomes the car, and the second becomes the cdr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(a b) ‘(c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.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list” constructs a list from multiple paramet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of ‘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of 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(of gol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(of gol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ed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7340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ocedure which returns either true (#t) or false (#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e-defined predicates ex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?” returns #t if the arg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?” returns #t if the arg is an empt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?” returns #t if the arg is an eve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?” returns #t if the arg is an odd number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(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en? 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zero?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sting for e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?” returns #t if its two arguments are atom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?” is not reliable when given two lists or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 returns #t if its two arguments are number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?” returns #t if its two arguments are atoms and are the same, or are lists and are structurally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?”is not reliable when given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a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(a b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[IMPLEMENTATION-DEPENDENT RES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ual? ‘(a b (c) d) ‘(a b (c)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= 3.1 (+ 1 2.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riting a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152388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s written a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mbda expression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is the atom “lamb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element is a list of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rd element is an expression which is the procedure body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lambda (l) (car (cdr l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mbda expression evaluates to a procedure.  It can be evaluated direct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(lambda (l) (car (cdr l))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r assigned to a variable and called separate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define cadr (lambda (l)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cadr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if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way selection is performed using the “if” expression.  An “if” expression takes thre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edicat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then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“else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t, the “then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f, the “else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if (odd? 4) (+ 3 5) (- 7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cond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election is performed using the “cond” expression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1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2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n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else expression {expressions}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ates are evaluated in order from the first until one evaluates to #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of them evaluates to #t, the expressions which follow it are evaluated in order, and the result of the last one becomes the result of the “cond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Now I want a stack of character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080" y="2133360"/>
            <a:ext cx="5810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imagine that you wanted a stack of charact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easy to convert the code you had to the following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haract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act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Charact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char 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ranslations could be applied to the implementation of each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“cond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which recursively calculates th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number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define fi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n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0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1)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+ (fib (- n 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(fib (- n 2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790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Local variables: The “let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209680"/>
            <a:ext cx="58291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creates a local scope and binds variables to values for use within that scop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 (y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+ 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” expressions may be nested.  If nested “let” expressions define the same variable, the inner binding is the only one visible in the inner “let”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et ((x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+ x x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is useful for defining local variables within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ring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write a predicate procedure “member?” which returns #t if a given atom is in a given simple list, and #f if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translation would allow you to create separate stack classes to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kind of translation is time-consuming and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your stack classes have a great amount of similarity in terms of both interface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e an array implementation with a hard-coded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have essentially the same interface (except for the element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mplementations are independent of the ele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you need is a way to factor out these similarities and put them into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ne way to address 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following class instead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Generic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neric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Generic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void* pv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ementations of these methods could be written in the same fashion as those of IntegerStack and Character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Using our GenericStack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icStack class can be used to hold any type of data.  For example, pointers to Song objects can be held like thi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 = new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ublime”, “Santeria”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pSong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..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2 = (Song *) stack.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can be held in the following wa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i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( (int) stack.top()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ide: GenericStack can hold elements of any type, since a void* can point to any typ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now reuse GenericStack any time we need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ide: The programmer is responsible f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knowing what type of data a GenericStack contains, and casting the return value of top()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nsuring that a particular instance of GenericStack contains only data of one particular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llary to downside: Any type error made by the programmer will not be caught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better solution: Parameterize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742840"/>
            <a:ext cx="5829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could reuse our Stack class without losing the “safety net” of static type chec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us to do just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ameteriz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itself a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ti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with type parameters, a parameterized type can be used to generate a (potentially infinite) set of types with similar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supports parameterized types with a construct calle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tack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template-based Stack class in C++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elements[MAX_ELEMENTS]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Stack(): topElement(-1) {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~Stack() {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ush(T t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topElement == MAX_ELEMENTS - 1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ements[++topElement] = 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t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 T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return elements[topElement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topElement--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bool isEmpty() { return topElement == -1;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0:04:00Z</dcterms:created>
  <dc:creator>Alex Thornton</dc:creator>
  <dc:description/>
  <dc:language>en-US</dc:language>
  <cp:lastModifiedBy>tim finin</cp:lastModifiedBy>
  <cp:lastPrinted>2000-07-05T09:11:44Z</cp:lastPrinted>
  <dcterms:modified xsi:type="dcterms:W3CDTF">2002-11-07T22:57:13Z</dcterms:modified>
  <cp:revision>270</cp:revision>
  <dc:subject/>
  <dc:title>What are we going to talk about today?</dc:title>
</cp:coreProperties>
</file>