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280" y="6607080"/>
            <a:ext cx="9828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5A22-94E1-4403-8280-25F5E7612A2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Common 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global variables implicitly just by assigning them valu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 x   (list  ‘a  ‘b  ‘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 it is better lisp style  to use defparameter to declare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ive setf any even number of arg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 a   1 b   2 c  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a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b 2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more than just assign values to variables with set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rgument to setf can be an expression as well as a variable na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cases, the value of the second argument is insert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red to by the fir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 (car  x)  ‘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440" y="304920"/>
            <a:ext cx="102564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make-array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 1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3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struct foo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a (make-fo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foo-bar a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al programming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writing programs that work by returning values, instead of by modify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ominant programming paradigm in Li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uilt-in lisp functions are meant to be called for the values they return, not for side-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53912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functional programm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n object and a list and returns a new list containing everything but that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setf  lst  ‘(b u t t e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remove ‘e l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remove does not remove an item from the list!  The original list is untouched after the call to rem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tually remove an item from a list you would have to use se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lst  (remove ‘e ls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programming means, essentially, avoiding setf, and other assignment m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7120" y="304920"/>
            <a:ext cx="717228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remove could be defin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’s how remove could b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remove (x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d ((null list)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equal x (car lis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move x (cdr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 (cons (car list) (remove x (cdr list))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“copies” the top-level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want to do something repeatedly, it is sometimes more natural to use iteration than recurs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int out the squares of the integer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 show-squares  (start  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i  start  (+  i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  i  end) 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~A  ~A~%”  i (* i i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is CL’s fundamental iteration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create variables, and the first argument is a list of variable specifications.  Each element is of the form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be a list containing one or more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xpression is used to test whether iteration should stop.  In the case above, the test expression is (&gt;  i end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maining expression in this list will be evaluated in order when iteration stops, and the value of the last will be returned a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argumen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rise the body of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0484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 has a simpler iteration operator for handling lists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len  (l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lculate the length  of  l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t  ((l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list  (obj  lst)  (setf l (+ l 1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dolist takes an argument of the for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llowed by a body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will be evalu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ound to successive elements of the list returned by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43520" y="304920"/>
            <a:ext cx="105696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all Lisp’s evaluation process with the eval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1 '(cadr '(one two thre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DR '(ONE TWO THRE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(list 'cdr (car '((quote (a . b)) c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put and 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s the most primitive outpu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print (list 'foo 'ba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output function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more argume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ndicates where the input is to be prin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is a string templ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arguments are objects whose printed representations are to be inserted into the 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rmat t “~A plus ~A equals ~A.~%” 2 3 (+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lus 3 equals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s as ob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sp, functions are regular objects, like symbols, or strings, o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give the name of a function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t will return the associated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don’t have to quote the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un add1 (n) (+ n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add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CLOSURE ADD1 (N) (DECLARE (SYSTEM::IN-DEFUN ADD1)) (BLOCK ADD1 (+ N 1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can use ‘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use #’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#’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bbreviation is known as sharp-qu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ny other kind of object, we can pass functions as argum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unction that takes a function as an argumen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 function and a list of arguments for it, and returns the result of applying the function to the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‘(1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given any number of arguments, so long as the last is a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1  2  ‘(3  4 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version of apply could be written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apply (f list) (eval (cons f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does not need the arguments to be packaged in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funcall  #’+  1  2 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uld be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funcall (f &amp;rest ar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al (cons f args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ro creates a function and gives it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unctions don’t have to have names, and we don’t n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fin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fer to functions literally by using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12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ist containing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lis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zero or more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f f (lambda (x)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&lt;CLOSURE :LAMBDA (X) (+ X 1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funcall 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mbda expression can be considered as the name of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 ordinary function name,  a lambda expression can be the first element of a function 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(lambda  (x)  (+  x  100)) 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affixing a sharp-quote to a lambda expression, we get the corresponding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funcall  #’(lambda (x)  (+  x 1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ypes,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declare the types of variables, because any variable can hold objects of any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ype declaration is never required, you may want to make them for reasons of ef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CL types form a hierarchy of subtypes and super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pertype of all types, so everything i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720" y="5624640"/>
            <a:ext cx="56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4360" y="486252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9960" y="41004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2920" y="333864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250020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181440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11286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2280" y="5954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525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337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1523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33720" y="99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6640" y="519120"/>
            <a:ext cx="29566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‘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27  ‘r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fixn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 ‘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function for inpu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iven no arguments, it reads from the default place, which is usually standard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un  ask (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 t  “~A” 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a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ask  “How old are you? 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you? 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frequently used operators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local variables to be used in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 expression has two part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es a list of instructions for creating variables, each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are valid within the body of the 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list of variables and values comes the body of expressions, which are evaluated in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600200"/>
            <a:ext cx="3124080" cy="405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100) (y 2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x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et 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un  ask-number  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format t  “Please enter a number. “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let ((val  (read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 (numberp v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(ask-number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ask-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(this is a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are visibl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can be created by giving a symbol and a valu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para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parameter *foo*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(+ *foo*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429000"/>
            <a:ext cx="3048120" cy="2209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paramete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global variable named v and sets its value to be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va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just like defparameter if no global variable named v exists.  Otherwise it does n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consta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fine a global constant,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constant +limit+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LIMIT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+limit+ 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 - SETQ: the value of the constant +LIMIT+ may not be al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reak [5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s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lus is a lisp convention to identify symbols as constants.  Just like star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ar is a lisp convention to identify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in doub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 doubt about whether some symbol is a global variable or constant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*fo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fishc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assignment operators in Common Lisp: set, setq and 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assignment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it to assign both local and global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setf *blob* 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let ((n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1:04:34Z</dcterms:created>
  <dc:creator>Jon Spragg</dc:creator>
  <dc:description/>
  <dc:language>en-US</dc:language>
  <cp:lastModifiedBy>Tim Finin</cp:lastModifiedBy>
  <dcterms:modified xsi:type="dcterms:W3CDTF">2000-11-29T20:58:42Z</dcterms:modified>
  <cp:revision>117</cp:revision>
  <dc:subject/>
  <dc:title>Common Lisp</dc:title>
</cp:coreProperties>
</file>