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594-F9C9-42F0-92A5-BE125550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EB5-4B49-4E2A-96A7-241BA269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1D0-1EF2-4D52-A92D-46C2AC6C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BC3-02A9-402E-86BE-552EB56C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70A9-534B-444A-A045-5BD68A90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8C33-BA51-4817-9233-FF6D96A6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4BA9-40A0-46B5-9B45-F1C91EE1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5F64-8807-4902-95FA-8E3E2AD5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9ADA-68A0-41C1-A9B9-0CE2C5D2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68A6-DC22-4EC8-B028-5B256352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B1C5-6BC3-4FD0-8217-EF9DE5A3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DFF-6522-41B8-9A80-2FDB2EDE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9D2C-5A44-4731-8C46-4727D17A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ABDE-FD6C-410F-9429-9FB501B3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3387-E62B-49E0-859E-D29C84CF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3C38-BC23-4F3E-83FE-CE7E744A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905F-2F64-4A79-AE68-9DBE51AF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A9C-4EB0-4CA0-A4EF-7915F4FA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C7A-AB78-434B-9BDB-0A2474AC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705-61B1-40ED-B8AE-4E7126B9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F66-0A40-451E-A1D5-AA486848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A33-D1F8-44F9-9FC7-43C725A5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ACA-A989-4CC7-8E1B-4670011D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8D3-95A2-47DA-BE61-B28BF3A1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FCFD-CEC9-477C-91C9-2619CB5B6E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9E92-2C9B-4DC4-BED6-F620C66F34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Harlequin LispWork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pairing a Fun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nge the function in the Editor window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89548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defun lookup (a pair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c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(null pairs)  ni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(eq a (car (car pairs)))  (car (cdr (car pairs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t  (lookup a (cdr pairs))) )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53341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n compile it and try it ag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re Built-In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CAR (CAR X))  --&gt;  (CAAR X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CAR (CDR X))  --&gt;  (CADR X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809880"/>
            <a:ext cx="8610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defun lookup (a pair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co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(null pairs)  ni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(eq a (caar pairs))  (cadar pairs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t  (lookup a (cdr pairs))) )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LispWork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 BURKS 5, the file is 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wper410.ex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 up LispWorks; you get two windo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Listener 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LispWorks Personal Ed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LispWorks Personal Edi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, u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ools -&gt; Edit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o open a third window (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ditor 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Window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the Listener 1 window to evaluate Lisp expressions direct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L-USER 1 &gt; (car '(a b c)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oesn't matter in LispWor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Editor 1 window, use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ex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ab, and use this window to define fun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dit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dit as usual 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dit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you know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mac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you can u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mac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mands in this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you don’t know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mac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you are not missing anything ess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av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ave As…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ork as usu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i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uffers -&gt; Compi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o compile your functions into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ten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times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uffers -&gt; Compi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mand is on a menu 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pWorks Personal Edi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so, visit the Editor window before using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 functions 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ten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ading Previously Saved Fi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ile -&gt; Compile and Load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 use the Lisp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OA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function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load "C:\\Lisp\\myprog.lsp"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ving a Transcrip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need to save and print a transcript of the tests of your fun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istener window doesn’t have any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av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ma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eyboard editing shortcuts don’t 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elect A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p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di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menu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: Searching an AV Li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048120"/>
            <a:ext cx="84582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defun lookup (a pair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c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(null pairs)  ni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(eq a (car (car pairs)))  (cdr (car pairs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t  (lookup a (cdr pairs))) )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Editor window, 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i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dit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, click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uffers -&gt; Compi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says "Press Space to continue", so do s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y the function 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ten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L-USER 20 : 2 &gt; (lookup 'b '((a x)(b y)(c z))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’s wrong-- we should ge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Y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(Y);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go back to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dit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 to fix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20:36:21Z</dcterms:created>
  <dc:creator>Villanova</dc:creator>
  <dc:description/>
  <dc:language>en-US</dc:language>
  <cp:lastModifiedBy>Villanova</cp:lastModifiedBy>
  <dcterms:modified xsi:type="dcterms:W3CDTF">2000-11-06T23:09:29Z</dcterms:modified>
  <cp:revision>10</cp:revision>
  <dc:subject/>
  <dc:title>Using LispWor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renoir.vill.edu:80/~dmatusze/8310/index.html</vt:lpwstr>
  </property>
  <property fmtid="{D5CDD505-2E9C-101B-9397-08002B2CF9AE}" pid="9" name="LinkColor">
    <vt:r8>16711782</vt:r8>
  </property>
  <property fmtid="{D5CDD505-2E9C-101B-9397-08002B2CF9AE}" pid="10" name="MailAddress">
    <vt:lpwstr>dave@acm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avesHTML\davesnewweb\8310\lecture_not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