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7772400" cy="100584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8440" y="401040"/>
            <a:ext cx="6994800" cy="167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8440" y="2353320"/>
            <a:ext cx="699480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8440" y="5400360"/>
            <a:ext cx="699480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88440" y="401040"/>
            <a:ext cx="6994800" cy="167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88440" y="2353320"/>
            <a:ext cx="3413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972600" y="2353320"/>
            <a:ext cx="3413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88440" y="5400360"/>
            <a:ext cx="3413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972600" y="5400360"/>
            <a:ext cx="3413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8440" y="401040"/>
            <a:ext cx="6994800" cy="167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88440" y="2353320"/>
            <a:ext cx="2252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753640" y="2353320"/>
            <a:ext cx="2252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118840" y="2353320"/>
            <a:ext cx="2252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88440" y="5400360"/>
            <a:ext cx="2252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753640" y="5400360"/>
            <a:ext cx="2252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118840" y="5400360"/>
            <a:ext cx="2252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8440" y="401040"/>
            <a:ext cx="6994800" cy="167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88440" y="2353320"/>
            <a:ext cx="6994800" cy="583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8440" y="401040"/>
            <a:ext cx="6994800" cy="167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8440" y="2353320"/>
            <a:ext cx="6994800" cy="583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8440" y="401040"/>
            <a:ext cx="6994800" cy="167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88440" y="2353320"/>
            <a:ext cx="3413160" cy="583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3972600" y="2353320"/>
            <a:ext cx="3413160" cy="583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8440" y="401040"/>
            <a:ext cx="6994800" cy="167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88440" y="401040"/>
            <a:ext cx="6994800" cy="77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8440" y="401040"/>
            <a:ext cx="6994800" cy="167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88440" y="2353320"/>
            <a:ext cx="3413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3972600" y="2353320"/>
            <a:ext cx="3413160" cy="583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88440" y="5400360"/>
            <a:ext cx="3413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88440" y="401040"/>
            <a:ext cx="6994800" cy="167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88440" y="2353320"/>
            <a:ext cx="3413160" cy="583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3972600" y="2353320"/>
            <a:ext cx="3413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972600" y="5400360"/>
            <a:ext cx="3413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88440" y="401040"/>
            <a:ext cx="6994800" cy="167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8440" y="2353320"/>
            <a:ext cx="3413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972600" y="2353320"/>
            <a:ext cx="3413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8440" y="5400360"/>
            <a:ext cx="699480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143000" y="2571840"/>
            <a:ext cx="9132840" cy="152280"/>
            <a:chOff x="-1143000" y="2571840"/>
            <a:chExt cx="9132840" cy="152280"/>
          </a:xfrm>
        </p:grpSpPr>
        <p:sp>
          <p:nvSpPr>
            <p:cNvPr id="1" name=""/>
            <p:cNvSpPr/>
            <p:nvPr/>
          </p:nvSpPr>
          <p:spPr>
            <a:xfrm>
              <a:off x="-1143000" y="2571840"/>
              <a:ext cx="9132840" cy="745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50000">
                  <a:srgbClr val="ebebeb"/>
                </a:gs>
                <a:gs pos="100000">
                  <a:srgbClr val="bcbcbc"/>
                </a:gs>
              </a:gsLst>
              <a:lin ang="0"/>
            </a:gradFill>
            <a:ln w="0">
              <a:noFill/>
            </a:ln>
          </p:spPr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1143000" y="268596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7b7b7b"/>
                </a:gs>
                <a:gs pos="50000">
                  <a:srgbClr val="cecece"/>
                </a:gs>
                <a:gs pos="100000">
                  <a:srgbClr val="7b7b7b"/>
                </a:gs>
              </a:gsLst>
              <a:lin ang="0"/>
            </a:gradFill>
            <a:ln w="0">
              <a:noFill/>
            </a:ln>
          </p:spPr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"/>
          <p:cNvSpPr txBox="1"/>
          <p:nvPr/>
        </p:nvSpPr>
        <p:spPr>
          <a:xfrm>
            <a:off x="-1052640" y="7628040"/>
            <a:ext cx="19922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id Sweden Univer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 txBox="1"/>
          <p:nvPr/>
        </p:nvSpPr>
        <p:spPr>
          <a:xfrm>
            <a:off x="3287880" y="7628040"/>
            <a:ext cx="282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fld id="{A9B31BDE-EC36-436E-BAA6-1F702F626548}" type="datetime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 txBox="1"/>
          <p:nvPr/>
        </p:nvSpPr>
        <p:spPr>
          <a:xfrm>
            <a:off x="7527960" y="7628040"/>
            <a:ext cx="382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fld id="{34B05750-56EE-4085-9124-BB08D48BB78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8440" y="401040"/>
            <a:ext cx="6994800" cy="167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388440" y="2353320"/>
            <a:ext cx="6994800" cy="583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-457200" y="3429000"/>
            <a:ext cx="777240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mmon Lisp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Specialized 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228600" y="5029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J.E. Sprag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itthögsko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-457200" y="1371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Sequ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-457200" y="3124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n Common Lisp the type sequence includes both lists and vectors (and therefore string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me of the functions which have used on lists can also be used on other sequences - vectors and string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.e.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eng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mov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ubseq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vers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r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-457200" y="1371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-457200" y="365760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 define a structure, we use the macro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fstruc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n the simplest case we just give the name of the structure and the names of the fiel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(defstruct  point  x 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-457200" y="1371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What defstruct do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-457200" y="335268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he last example defines a structure with two fields (in Pascal it would be called a record, in C a struct), x and 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t also defines the function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ake-poi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oint-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opy-poi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oint-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oint-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his is a good example of lisp macros writing lisp co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-457200" y="1371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What do the functions d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-457200" y="358128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ach call to make-point will return a new poi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We an initialize values of fields by using keyword argume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&gt; (setf p (make-point :x 0 :y 0)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#S(POINT X 0 Y 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-457200" y="312408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 access functions for point fields are defined not only to retrieve values, but to work with set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&gt; (point-x 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&gt; (setf (point-y p) 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&gt; 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#S(POINT X 0 Y 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-457200" y="1371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Destructs and ty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-457200" y="350532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fining a structure also defines a type of that na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point will be of type point, then structure, then atom, then 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e use point-p to test whether something is a poi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&gt; (point-p 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&gt; (typep p ‘poi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-457200" y="1371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Default valu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-457200" y="3124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e can specify default values for structure fiel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defstruct polem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type (pro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format t “What kind of polemic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as it?  “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read)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effect nil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-457200" y="1371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Book Antiqua"/>
                <a:ea typeface="Book Antiqua"/>
              </a:rPr>
              <a:t>:conc-name and :print-fun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-457200" y="30481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e can also control the way a structure is displayed, and the prefix used in the names of the access functions it crea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(defstruct (point (:conc-name 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(:print-function #(lambda (p s dept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(declare (ignore depth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(format s “#&lt;~A, ~A&gt;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(px p) (py p))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(x 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(y 0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&gt; (make-poi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#&lt;0,0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-457200" y="1371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Hash Tab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-457200" y="3124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&gt; (setf ht (make-hash-table)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#&lt;Hash-Table BF0A96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&gt; (gethash ‘colour h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N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N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Note:  CL can return multiple valu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-457200" y="1371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Gethas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-457200" y="3124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 associate a value with a key, we use setf with gethas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&gt; (setf (gethash ‘colour ht) ‘r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&gt; (gethash ‘colour h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-457200" y="1371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Array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-457200" y="358128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 CL, you make arrays by calling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ake-arra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with a list of dimensions as the first argum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&gt; (setf arr (make-array ‘(2 3) :initial-element nil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#&lt;Simple-Array T (2 3) BFC4FE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rays in CL can at up to 7 dimensions, with each dimension having at least 1023 ele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initial-el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gument is option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-457200" y="1371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Remhash and Maphas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-457200" y="312408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&gt; (remhash ‘colour h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&gt; (setf (gethash ‘shape ht) ‘spher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gethash ‘size ht) ‘gia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&gt; (maphash #’(lambda (k v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format t “~A = ~A~%” k v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HAPE = SPHER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IZE = G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-457200" y="312408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 retrieve an array element we call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re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&gt; (aref  arr  0 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 replace some element of an array, we us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etf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ith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re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&gt; (setf (aref arr 0 0) ‘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&gt; (aref arr 0 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-457200" y="1371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Vec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-457200" y="365760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 one dimensional array is also called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vecto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ou can create and fill 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vecto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n a single step by calling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vecto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&gt; (vector “a”  ‘b 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#(“a”  B 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-457200" y="1371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Binary Sear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1432080" y="3046320"/>
            <a:ext cx="4152960" cy="449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(defun bin-search (obj  ve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(let ((len  (length vec)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(and  (not (zerop len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(finder  obj vec  0  (-  len 1)))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(defun finder  (obj  vec  start  e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(let ((range  (- end  start)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(if  (zerop  rang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(if  (eql  obj  (aref  vec  start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b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ni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(let ((mid (+ start  (round  (/ range 2)))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(let  ((obj2  (aref vec mid)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(if  (&lt;  obj  obj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(finder obj vec start  (- mid  1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(if  (&gt;  obj  obj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(finder  obj  vec  (+  mid 1) e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bj)))))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-457200" y="1371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Strings and Charact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-457200" y="365760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rings are vectors of charact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e denote a constant string as a series of characters surrounded by double-quo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n individual character, such as C, is denoted by #\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ach character has an associated integer - ASCII numb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-457200" y="1371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har&lt;, char&gt;, etc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-457200" y="36576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he function char&lt; (less than), etc. compares characters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hey work like the numeric comparison on the ascii valu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&gt; (sort “elbow”  #’char&lt;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elow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-457200" y="1371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String-equ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-457200" y="35053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&gt; (equal “fred” “fred”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&gt; (equal “fred” “Fred”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N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&gt; (string-equal “fred” “Fred”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-457200" y="1371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Building Strin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-457200" y="3733920"/>
            <a:ext cx="7772400" cy="31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&gt; (format nil “~A or ~A” “truth” “dare”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ruth or dar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&gt; (concatenate ‘string “not “ “to worry”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not to worry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n Spragg</dc:creator>
  <dc:description/>
  <dc:language>en-US</dc:language>
  <cp:lastModifiedBy>Jon Spragg</cp:lastModifiedBy>
  <cp:revision>0</cp:revision>
  <dc:subject>Common lisp data structures</dc:subject>
  <dc:title>Common Lisp Specialized Data Structures</dc:title>
</cp:coreProperties>
</file>