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9374188" cy="5943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bbbbbb"/>
                </a:gs>
                <a:gs pos="50000">
                  <a:srgbClr val="ebebeb"/>
                </a:gs>
                <a:gs pos="100000">
                  <a:srgbClr val="bbbbb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cecece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"/>
          <p:cNvSpPr/>
          <p:nvPr/>
        </p:nvSpPr>
        <p:spPr>
          <a:xfrm>
            <a:off x="87840" y="6486480"/>
            <a:ext cx="1283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tthögsko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133880" y="6486480"/>
            <a:ext cx="876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5C4B-A7E8-4F11-8662-00107FFC398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57400" y="6486480"/>
            <a:ext cx="99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FE73-49E7-4627-BFF7-BEBC9D62A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ontrol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Li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.E. Spra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Which, when and where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agbod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n operator you rarely use, but you can build macros upon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rly all the time you will 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g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ant to allow for sudden exits, 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st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agbod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plici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atch and throw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exit from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any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it is necessary to transfer control back through several function ca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o this, we 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t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r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t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ression take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a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can be any kind of object, followed by a body of expres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fun super 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atch ‘ab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u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ormat t “We’ll never see this.”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fun sub 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hrow ‘abort 99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pressions are evaluated in order, as if in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g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any point within this code or code called by it,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r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the correspond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a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cause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atc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ession to return immediat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(sup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r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a given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ta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pass control through (and thereby kill) an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atch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oth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ag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order to reach the one with the match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a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re is no pending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catc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the righ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a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r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uses an err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RROR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rr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so interrupts execution, but instead of transferring control to another part higher up in the calling tree, it transfers control to the Lisp error handl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usually invoke a break lo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Unwind-protec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you want code to be proof against interruptions lik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row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rr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us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wind-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ou can ensure that such interruptions won’t leave your program in an inconsistent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wind-prot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any number of argument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tur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value of the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 remaining expressions will be evaluated even if the evaluation of the first is interrup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(setf x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(catch ‘ab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unwind-prot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row ‘abort 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etf x 2)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, even though th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throw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s control back to the wait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at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wind-prot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nsures that the second expression gets evaluated on the way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ever, certain actions have to be followed by some kind of cleanup or reset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wind-prot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y be use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Blocks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Lisp has 3 basic operators for creating blocks of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,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(pro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ormat t “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ormat t “b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+ 11 12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Block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only the value of the last expression is returned, the us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g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mplies side-eff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bloc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like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g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a name and an emergency ex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argument should be a symb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becomes the name of the b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ny point within the body, you can halt evaluation and return a value immediately by us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turn-fr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the block’s na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Return-from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(block 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ormat t “Here we go.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turn-from head ‘ide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ormat t “We’ll never see this.”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we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ing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turn-fro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your code to make a sudden but graceful exit from anywhere in a body of c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cond argument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turn-fr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returned as the value of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amed by the fi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essions after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turn-fr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not evalu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Return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also 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retur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ro, which returns its arguments as the value of an enclos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loc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i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(block n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turn 27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Return from an iteration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L operators that take a body of expressions implicitly enclose the body in a block named nil.  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(dolist (x ‘(a b c d e f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mat t “~A “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f (eql x ‘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eturn ‘done)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Defun and return-from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dy of a function defined with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f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implicitly enclosed in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the same name as the 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fun foo 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turn-from foo 27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side of an explicit or implici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neith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turn-fr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agbody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agbod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used with go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oms appearing in the body are interpreted as lab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ing such a label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nds control to the expression following i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(tag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etf x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etf x (+ x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ormat t  “~A “ 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f  (&lt;  x 10) (go top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2 3 4 5 6 7 8 9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5T08:01:52Z</dcterms:created>
  <dc:creator>Jon Spragg</dc:creator>
  <dc:description/>
  <cp:keywords>control common lisp</cp:keywords>
  <dc:language>en-US</dc:language>
  <cp:lastModifiedBy>Tim Finin</cp:lastModifiedBy>
  <dcterms:modified xsi:type="dcterms:W3CDTF">2000-11-27T05:16:31Z</dcterms:modified>
  <cp:revision>33</cp:revision>
  <dc:subject>common lisp</dc:subject>
  <dc:title>Control</dc:title>
</cp:coreProperties>
</file>