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D047977E-A9FF-4BA9-89E2-007D12B5533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7517466-9FF1-4A81-9755-C26C564C74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2971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olving in Common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panding a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whether a 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pplicable to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plicable to it, ascertain all the way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n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out what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ults from applying an instanti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Problem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seem to handle adequately  the notion of physic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eems natural to extend our notions of physical space and use it as a topological metaphor for problems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space model of problems and problem solving makes  use of the ide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are so useful in reasoning about physical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505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t represent distinct configurations of the objects and relationships of the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ich define how to mov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 typically hav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ing a 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ng a problem  in a given problem space requires two thing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itial state is a distinguished state that represents the starting point within th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 is a specification of the subset of the problem space which could serve as a solution to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olv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352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ing a problem in this model is accomplished by finding a sequence of operators which, when applied to the initial state, allows one to reach a state satisfying the goal criter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Blocks World example, the solution is a sequence of transformations that represent a lega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easy to see why this is an attractive model of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solve a problem, all we have to do is define the problem space and then unleash a general-purpose search engine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assic Problem Solv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4038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ic problem sol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s of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user-supplied problem spaces,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face requires the ability to manipulate states and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kinds of manipulation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Ascertain whether a given state satisfies the goal crite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Detect when two descriptions of states refer to the sam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Produce a human readable description of a give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mportance of goal detection is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identity is important because we make no progress by re exploring already examin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ying states allows us to observe and debug system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Problem Sovling in Common Lisp</dc:title>
</cp:coreProperties>
</file>