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80AC23-4C66-4AB8-9030-DBD51AAA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slot has both an initarg and an initform, the initarg takes precedence when it is spec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Oriented Programming in Common Li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828800"/>
            <a:ext cx="79693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laring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als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which initialize themse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hap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colour :accessor shape-colour :initarg :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ible :accessor shape-visible :initarg :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visible (make-instance ’shap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7680" y="2147760"/>
            <a:ext cx="8112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herited by instances and super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more than one superclass, it inhe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of their slots.  So if we define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subclass of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reen-circle (circle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nstanc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have four slots,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from each super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93640" y="1952640"/>
            <a:ext cx="791352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for instanc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as they would for instances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colour (make-instance ’screen-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lour ’red :radius 3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allocation keyword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2240" y="1660680"/>
            <a:ext cx="72342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can specify that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etween all instances of the class.  We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y declaring the slot to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nocturnal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wl-nocturnal  ;; Note: not :a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 :class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”local” value of this slot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, we are actually altering the valu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.  We therefore usually make such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nly.  We give the slot a reader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3480" y="1814400"/>
            <a:ext cx="67690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the functional units are calle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methods so that each seem to be a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class.  An area method for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b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area ((c circl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 pi (expt (circle-radius c)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area (make-instance ’circle :radius 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419112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4240" y="378000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69960" y="2560680"/>
            <a:ext cx="798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define methods that take ad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move ((c circle)  dx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ar (circle-center c)) d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dr (circle-center c))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ircle-center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24280" y="34290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18280" y="301788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505320"/>
            <a:ext cx="1219320" cy="533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05720" y="35812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65880" y="3170160"/>
            <a:ext cx="1876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Prece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3640" y="1523880"/>
            <a:ext cx="801684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ass has multiple superclasses,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uns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oundrel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ic-scoundrel (scoundrel patriot)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have a method f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s 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p patrio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hod for scoundrel class will be invok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lf-or-country? (make-instance ’patriotic-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706400"/>
            <a:ext cx="6688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LOS metho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parameter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pecial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combine ((ic ice-cream) (top 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optional (where :her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end (list (name ic) ’ice-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with (name top) ’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in 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se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here ’g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to-go ’styrofoa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p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360" y="1798560"/>
            <a:ext cx="8491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ethods specialise more than one of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continue to 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 as properties of 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In CLO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s responding to messages evapo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talk ab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. 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methods can specialise any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parameters -- including Common Lisp typ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ethods are built upon the notion of dispatch, they become independent of individual clas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adhering conceptually to classes, methods now adhere to other methods with the sam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LOS such a collection of methods is called a gene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fine generic functions explicitly with the defgeneric mac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isation 19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uperset of Common Lisp (ANSI X3J13 Committe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CLOS was heavily influenced by the languages New Flavors and CommonLo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for CLOS was published in late 198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fore, After and Arou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0840" y="1736640"/>
            <a:ext cx="6642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supports before-, after-, and around-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methods are defined by putting a qual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fter the method name in the cal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++Programmer nil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((s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~A” strin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480" y="1843200"/>
            <a:ext cx="90280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pen-minded-C++Programmer (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o open-minded-C++Programm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Perhaps 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fter ((o open-minded-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 in some sense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2240" y="1557360"/>
            <a:ext cx="722484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this CLOS is not like C++ 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c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I think ”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I think this CLOS is not like C++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7680" y="1843200"/>
            <a:ext cx="80485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manager (c++programmer) 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round ((m manager)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Does the customer believe that ~A ”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q (read) ’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(next-method-p) (call-next-method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Indeed, it won’t work.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2760" y="1919160"/>
            <a:ext cx="89247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the program will work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the program will work?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program w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C++ is goo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C++ is good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ed, it wo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, OOP and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an excellent example of an embedd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conceptually well integrated with their environment, so that within the embedded language we can continue to think of programs in much the sam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powerful, because they take advantage of all the things that the basic language knows how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well integrated with Lisp, and makes good use of the abstractions that Lisp has alre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s CLOS Object-Orien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some argument whether CLOS is really object-oriented at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L because it provides all three of the main criteria for OO:  object with internal state, classes of objects with specialised behaviour for each class, and inheritance between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 system because it does not provide modular objects with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tandard language extension that includes the most useful aspects of existing object-oriented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OS programmer interface should be powerful and flexible enough for developing most appli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tself should be designed as an extensible protocol, to allow for customisation of its behaviour and to encourage further research in object-oriented programming (The Meta Object Protoc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’s Support for the Objec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976400"/>
            <a:ext cx="68054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st Textbook on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ya E. Ke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in Common Lisp, A Programmer’s Guide to C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  Addison-Wesley Publishing Company, 1989, ISBN  0-201-17589-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752480"/>
            <a:ext cx="81662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, we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ro t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,  and we declare the slots in a list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us cente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de says t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has no supercla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tributes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2080" y="1812960"/>
            <a:ext cx="6184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of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vok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ke-instance ’cir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we need to redefine ou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access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ccesso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4880" y="1965240"/>
            <a:ext cx="8016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f we mak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tf (circle-radius (make-instance ’circle))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t of a pain, so in our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 :initarg :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 :initarg :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9960" y="1919160"/>
            <a:ext cx="78375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 in a slot definition says t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rgument should becom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in make-instance.  The valu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parameter will become the initi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circle-radius (make-instance ’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adiu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enter ’(0 . 0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>object oriented analysis and design</dc:description>
  <dc:language>en-US</dc:language>
  <cp:lastModifiedBy>Jon Spragg</cp:lastModifiedBy>
  <cp:revision>0</cp:revision>
  <dc:subject>object oriented programming</dc:subject>
  <dc:title>Object Oriented Programming Languages</dc:title>
</cp:coreProperties>
</file>