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4133880" y="6486480"/>
            <a:ext cx="87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1D8D-31F7-4D43-A325-0CD4979182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D293-AB08-4D79-9F8E-AF937DA1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eed, Troubleshooting and Sty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bad-length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(null 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+ (bad-length (cdr lst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ursion call is not a tail call, because after it returns, its value has to be passed to 1+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good-length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abels ((len  (lst a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 (null 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n (cdr lst) (1+ acc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n lst 0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-length , or rather len, is tail-recursive because nothing more has to happen after the recursive call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building its return value on the way back up the recursion like bad-length, good-length accumulates the return value on the way down.  Hence the additional parameter acc which is just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y is a tail call good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compiler can compile a tail call into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o can compile a tail-recursive function into a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chine language code, when control arrives for the first time at the segment of instructions represen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is information on the stack saying what to do upon retu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nothing remains to be done after the recursive call, this information remains valid for the second invocation as well:  what we are supposed to do on returning from the second invocation is simply to return from the first inv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fter setting the parameters to their new values, we can just jump back to the beginning of the function and act as if this were the second invoc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re is no need to do a real function 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line fun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im (inline single?))  ;;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re (inline single?))   ;;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ingle?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(consp lst) (null (cdr lst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ypes in Common Lis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 global declarations are mad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la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im (type fixnum *count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eclarations are made with decl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poly (a b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re (fixnum a b 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+ (* a (expt x 2)) (* b x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clare that the value of an expression will be of a certain type,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poly (a b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re (fixnum a b 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fixnum (+ (the fixnum (*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num (expt x 2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fixnum (* b x)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en do I need to do this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ays to declare the types of arguments to functions that work for arguments of several types.  If you know for example that a cal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lways be a particular kind of array, it would pay to make a type decl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ually only worthwhile to make declarations for types near the bottom of the type hierarch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x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 of Fast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; Compute the sum of the squar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; a sequence of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un square (x) (* 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un sum-squares (v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type (simple-array fixnum *) v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line square) (optimize speed (safety 0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et ((sum 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fixnum su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times (i (length v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fixnum i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f sum (the fixnum (square (svref vect i)))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void Garbage Colle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-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o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-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u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ubst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et-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1814400"/>
            <a:ext cx="80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20080" y="1738440"/>
            <a:ext cx="17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ptimizing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 focused on bottlenec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begin too earl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gin with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rouble Shoot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You redefined a variable, but the new value was ign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ing a variable by editing and re-evaluat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will not change the variable’s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pdate the variable, or chang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ures require #’(lambda () ... not ‘(lambda ()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 just a list, a closure needs the special form `# to identify it as a function and therefore evalu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 You deleted/removed something, but it didn’t take effec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setf numbers ‘(1 2 3 4 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remove 4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delete 1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(setf numbers (delete 1 numbers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remove is a non-destructive function, so it will never alter it arguments.  delete is destructive, but when asked to delete the first element of a list, it returns the rest of the list, and thus does not alter the list itself.  This is true of nconc, sor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! I know its stupi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et and Let*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error is leaving off a layer of parenthes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ind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e problem of referring to a variable that has not yet been bound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this problem,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variable’s initial binding refers to a previous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defin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pecific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 up a function that is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ame would be usefu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is used in several p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define a speci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rameters that are used in many functions spread throughout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obal, persistent, mutable data, such as a data base of f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frequent but deeply nested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bind a lexic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typing in the same expression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computing the same expression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ame would be usefu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the indentation manage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Knuth, “most of the running time in non-io-bound programs is concentrated in about 3% of the source co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identify the bottlene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Lisp implementations come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fi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public dom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fil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for Common Li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on’t Start Optimizing too Earl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development of a program bottlenecks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tart optimizing too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en you do start optimiz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the top with the algorit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algorithms and data structures demolish bottlenecks not coding tri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mpil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arameters control the way your code is compi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ilation-sp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peed at which your program will be compil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amount of error-checking done in the object co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ize and memory needs of the object cod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amount of information retained for debug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ation parameters are not re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ssigned weights from 0 (unimportant) to 3 (most important) in decla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some-function (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 (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clare (optimize (speed 3) (safety 0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im (optimize (spee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pilation-speed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fety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bug 0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ail Calls (tail recursion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articular important kind of optimization done by CL compilers is the optimization of tail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ail ca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hing remains to be done after it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8T07:19:04Z</dcterms:created>
  <dc:creator>Jon Spragg</dc:creator>
  <dc:description/>
  <cp:keywords>style trouble shooting speed</cp:keywords>
  <dc:language>en-US</dc:language>
  <cp:lastModifiedBy>Tim Finin</cp:lastModifiedBy>
  <dcterms:modified xsi:type="dcterms:W3CDTF">2000-11-27T05:15:46Z</dcterms:modified>
  <cp:revision>60</cp:revision>
  <dc:subject>common lisp</dc:subject>
  <dc:title>Speed, Troubleshooting and Style</dc:title>
</cp:coreProperties>
</file>