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9C63-5E39-4BA9-B933-CD3806EE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0621-061B-4630-83E5-FD78E44C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6EA2-8453-4048-A86D-81C6B435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8926-2386-4DB0-9623-9FB1F1CA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B422-7EBE-4EDE-8FE6-C855632B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0A89-CFED-48AE-AF12-AEBFEB39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6107-DCB1-4539-BDAA-FA1AEC27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26F1-0A2F-4EB2-AD01-3C218CA5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E93B-4C12-4BF4-B378-8BF5F0E7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0579-AACF-4EC6-A2D2-71E5A029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66C6-F429-4363-9BED-5DE4405D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C07B-8B20-4201-9A4C-7A053272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1617-0839-4823-A8FA-24199CB1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FCB5-8630-405A-B630-2FFF90EF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57F7-E823-403A-95BA-4B86B826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DFEF-9BDA-4C4A-B242-46C57E3B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C0F3-DE77-4F06-AB76-19A0FC68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0529-6747-4CD5-B413-6DCB5E1C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E93E-58AE-4489-ACEB-579FE46D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3F6B-91E0-4C1F-A1DB-5F90AEEC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A889-C594-4AD8-AA8C-63224FCA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D010-E190-4963-AE6C-490ABE31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795F-8633-46AC-81A5-8EFDD068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54DB-9B97-4E88-8880-09732FC9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BD0D-64B9-4227-B005-C730643178A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92F9-3BA8-4D19-B1D6-6C205F4ECFE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isp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ther useful Func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NULL S)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sts if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the empty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LISTP S)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sts if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IS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kes a list of its (evaluated) argum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LIST 'A '(B C) 'D)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returns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A (B C) 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LIST (CDR '(A B)) 'C)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turns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((B) C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PPE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catenates two li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APPEND '(A B) '((X) Y) )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returns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A B (X) Y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C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A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f a list is the first thing in the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A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only defined for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nonempt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li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505320"/>
            <a:ext cx="7772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Comic Sans MS"/>
              </a:rPr>
              <a:t>If L i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Comic Sans MS"/>
              </a:rPr>
              <a:t>Then (CAR  L) 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A  B  C)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4648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(X  Y)  Z)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X  Y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51814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( ) ( ) )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5715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)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undefin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CD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D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f a list is what's left when you remove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D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only defined for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nonempt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li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46960" indent="-246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D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f a list is always a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CDR 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amp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514600"/>
            <a:ext cx="7772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Comic Sans MS"/>
              </a:rPr>
              <a:t>If L i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Comic Sans MS"/>
              </a:rPr>
              <a:t>Then (CDR  L) 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A  B  C)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B C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36576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(X  Y)  Z)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Z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815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( ) ( ) )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( )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53481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)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undefin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4267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X)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C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akes two argum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first argument can be any S-expres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second argument should be a li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result is a new list whos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A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the first argument and whos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D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the seco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ust move one parenthesis to get the result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066680" y="5562720"/>
            <a:ext cx="7086600" cy="761760"/>
            <a:chOff x="1066680" y="5562720"/>
            <a:chExt cx="7086600" cy="761760"/>
          </a:xfrm>
        </p:grpSpPr>
        <p:grpSp>
          <p:nvGrpSpPr>
            <p:cNvPr id="127" name=""/>
            <p:cNvGrpSpPr/>
            <p:nvPr/>
          </p:nvGrpSpPr>
          <p:grpSpPr>
            <a:xfrm>
              <a:off x="2666520" y="5943600"/>
              <a:ext cx="686160" cy="380880"/>
              <a:chOff x="2666520" y="5943600"/>
              <a:chExt cx="686160" cy="380880"/>
            </a:xfrm>
          </p:grpSpPr>
          <p:sp>
            <p:nvSpPr>
              <p:cNvPr id="128" name=""/>
              <p:cNvSpPr/>
              <p:nvPr/>
            </p:nvSpPr>
            <p:spPr>
              <a:xfrm flipV="1">
                <a:off x="3352680" y="6019920"/>
                <a:ext cx="0" cy="30456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2666520" y="6324480"/>
                <a:ext cx="68580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2666880" y="5943600"/>
                <a:ext cx="0" cy="38088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1066680" y="5562720"/>
              <a:ext cx="708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Comic Sans MS"/>
                </a:rPr>
                <a:t>CONS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of 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Comic Sans MS"/>
                </a:rPr>
                <a:t>A   ( B  C )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    gives 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Comic Sans MS"/>
                </a:rPr>
                <a:t>( A  B  C 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CONS 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amp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312408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(CAR L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   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(CDR L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(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CONS (CAR L) (CDR L)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(A  B  C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A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(B C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       (A  B  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42670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( (X  Y)  Z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(X  Y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(Z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       ( (X  Y)  Z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542448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( ( ) ( ) 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( 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( ( ) 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       ( ( ) ( ) 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59580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( 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undefined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undefined      undefin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4876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X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( 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       (X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puts together what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A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D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ake apa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otted Pai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second argument to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should be a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it isn't, you get a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dotted pai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f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A . B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 aren't using dotted pairs in this cla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you get a dotted pair, it's because you gav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atom as a second argu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EQ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Q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ests whether two atoms are equ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tegers are a kind of ato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Q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undefined for li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might work for lists, it might no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t it won't give you an error mess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 with any predicate,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Q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returns either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I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r something that isn't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I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TO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TO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akes any S-expression as an argu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TO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returns "true" if the argument you gave it is an ato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 with any predicate,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TO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returns either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I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r something that isn't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I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CON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plements the 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if...then...elseif...then...elseif...then...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rol struc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arguments to a function are evaluated before the function is call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isn't what you want fo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CO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a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special form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 fun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rsions of LISP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Lisp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n old language with many varia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sp is alive and well tod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 modern versions are based on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ommon Lis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LispWork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based on Common Lis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chem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one of the major varia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essentials haven’t changed mu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pecial form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special for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like a function, but it evaluates the arguments as it needs th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QUOT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DEFU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re special fo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can define your own special fo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 won't be defining special forms in this cour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m of the</a:t>
            </a: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 CON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2362320"/>
            <a:ext cx="7467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COND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(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</a:rPr>
              <a:t>condition1   result1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(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</a:rPr>
              <a:t>condition2   result2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. . 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(T    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</a:rPr>
              <a:t>resultN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)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fining Func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DEFUN 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</a:rPr>
              <a:t>function_name  parameter_list</a:t>
            </a:r>
            <a:br>
              <a:rPr sz="3200"/>
            </a:br>
            <a:r>
              <a:rPr b="0" i="1" lang="en-US" sz="3200" spc="-1" strike="noStrike">
                <a:solidFill>
                  <a:srgbClr val="ffffcc"/>
                </a:solidFill>
                <a:latin typeface="Comic Sans MS"/>
              </a:rPr>
              <a:t>        function_body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: Test if the argument is the empty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DEFUN  NULL   (X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(COND</a:t>
            </a:r>
            <a:br>
              <a:rPr sz="20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  (X   NIL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  (T   T)  )   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733920"/>
            <a:ext cx="1219320" cy="4572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3733920"/>
            <a:ext cx="762120" cy="53316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4267080"/>
            <a:ext cx="2514600" cy="15242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ample: MEMBE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an example we define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MEMBE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which tests whether an atom is in a list of ato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DEFUN MEMBER (A LAT)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   (COND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     ((NULL LAT)   NIL)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     ((EQ A (CAR LAT))   T)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     (T   (MEMBER A (CDR LAT))) )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MEMBE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is typically a built-in fun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ules for Recurs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ndle the base (“simplest”) cases fir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ur only with a “simpler” c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mpler” = more like the base ca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n’t alter global variables (you can’t anyway with the Lisp functions I’ve told you about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n’t look down into the recur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uidelines for Lisp Func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less the function is trivial, start with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ndle the base case fir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void having more than one base c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base case is usually testing for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UL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 something with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A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recur with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D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ample: UN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2209680"/>
            <a:ext cx="8610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DEFUN UNION (SET1 SET2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(COND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((NULL SET1)   SET2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((MEMBER (CAR SET1) SET2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  (UNION (CDR SET1) SET2)  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(T (CONS (CAR SET1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     (UNION (CDR SET1) SET2)  ))  ) 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till more useful Func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LENGTH L)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turns the length of list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RANDOM N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, where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an integer, returns a random integer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&gt;= 0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&lt; 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En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curs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ursion is essential in Lis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recursive defini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 definition in whi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ertain things are specified as belonging to the category being defined, a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rule or rules are given for building new things in the category from other things already known to be in the categor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formal Synta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ato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either an integer or an identifi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lis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 left parenthesis, followed by zero or more S-expressions, followed by a right parenthes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S-express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n atom or a li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: 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A (B 3) (C) ( ( ) )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mal Syntax (approximate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&lt;S-expression&gt; ::= &lt;atom&gt; | &lt;list&gt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&lt;atom&gt; ::= &lt;number&gt; | &lt;identifier&gt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&lt;list&gt; ::= ( &lt;S-expressions&gt;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&lt;S-expressions &gt; ::= &lt;empty&gt;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| &lt;S-expressions &gt; &lt;S-expression&gt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&lt;number&gt; ::= &lt;digit&gt; | &lt;number&gt; &lt;digit&gt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&lt;identifier&gt; ::=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string of printable characters, not including parenthe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 and NI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I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the name of the empty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 a test,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I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means “false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usually used to mean “true,” but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ything that isn’t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NI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“true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IL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both an atom and a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’s defined this way, so just accept 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unction calls and dat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function call is written as a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first element is the name of the fun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maining elements are the argu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: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F A B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lls function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with arguments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is written as atoms or li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: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F A B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 list of three elem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o you see a problem her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Quot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F A B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 call to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F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or is it just dat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l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literal dat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must be quoted (atoms, too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QUOTE (F A B)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the list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F A B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QUOT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is a “special form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arguments to a special form are not evaluat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'(F A B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nother way to quote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re is just one single quote at the beginn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quotes one S-expres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asic Func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A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returns the head of a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DR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turns the tail of a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serts a new head into a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Q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pares two atoms for equa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TOM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sts if its argument is an atom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20:19:06Z</dcterms:created>
  <dc:creator>Villanova</dc:creator>
  <dc:description/>
  <dc:language>en-US</dc:language>
  <cp:lastModifiedBy>Tim Finin</cp:lastModifiedBy>
  <cp:lastPrinted>2000-11-01T21:37:14Z</cp:lastPrinted>
  <dcterms:modified xsi:type="dcterms:W3CDTF">2000-11-13T20:42:55Z</dcterms:modified>
  <cp:revision>13</cp:revision>
  <dc:subject/>
  <dc:title>Lis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renoir.vill.edu:80/~dmatusze/8310/index.html</vt:lpwstr>
  </property>
  <property fmtid="{D5CDD505-2E9C-101B-9397-08002B2CF9AE}" pid="9" name="LinkColor">
    <vt:r8>16711782</vt:r8>
  </property>
  <property fmtid="{D5CDD505-2E9C-101B-9397-08002B2CF9AE}" pid="10" name="MailAddress">
    <vt:lpwstr>dave@acm.org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avesHTML\davesnewweb\8310\lecture_not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