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C76-C1D2-4CBD-82DA-E4C1BD43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21E-04F9-4762-8F06-CC7236C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9FE-07D5-43C2-9DB1-94A60F45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593-87BD-4661-A7D1-5395BFB8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903-F6F8-4DFF-AEDB-583AA93C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9803-EB17-4AAA-BF93-366909AA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99D6-9F2D-4B8B-858A-621513A5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F7F5-7199-4385-A08A-66B6AED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63E3-A838-44DF-A37E-48DEBA13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DA69-F9F9-4BC4-96CA-8EA4AC07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9593-68B9-41CE-961E-1A65A837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40A-4A7E-466F-BCC8-C981B781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E3A-8FBE-4997-9AEF-F4F6AF5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0C4B-52F2-497A-AA29-95749EE4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DA4A-4FF0-4E92-BD1E-A2C57C87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8BFB-EF4F-4CF7-817C-8D26104B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073-76E8-4D76-8B5B-E954B69C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931-EB95-45FC-BBD9-2832E1F9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813-2AF1-4E77-8100-2CF2B2E1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ED2-0C99-418C-AB27-2F9025D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EFC-1AE4-4255-A212-A96D491C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4C3-307F-446D-8236-9B3A26D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E6E-E6E3-4CB6-99DB-C61CC3C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B65-E9A1-426E-8DCC-8AFF1E7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24A-FF49-4993-BD23-C4A4DC73F8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3179-7929-417C-BC8C-AC5FBF9D99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EQUAL could be defin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defun equal (x 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; this is how equal could be defin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d ((numberp x) (=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x) (eq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y) ni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equal (car x) (car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equal (cdr x) (cdr y)))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me simple list processing exampl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member (x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atom l)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equal x (car l)) (cdr 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member x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append (l1 l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(null l1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1) (append (cdr l1) l2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either of these does O(n^2) cons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 reverse 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ppend  (reverse  (cdr  l))  (list  (car l))))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reverse (l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nd l (append  (reverse  (cdr  l))  (list  (car  l)))))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;; this tail recursive operation does O(n) co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reverse (l) (reverse1 l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 reverse  (l  ac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reverse  (cdr  l)  (cons  (car  l)  acc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) nil)      ; empty list do no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(car l))  ; cons an atom onto flattend cd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) (flatten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 otherwise flatten head &amp; tail and append resul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 (append (flatten (car l)) (flatten (cdr l))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this version avoids append, which is expens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 (flatten1 l ni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1 (l ac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ist) acc)  ; all d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 l)           ; stick atom on the front of ac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 l acc)) ; of the accumul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flatten1 (car l) (flatten1 (cdr l) acc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gher order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mapcar (f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(null l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cons (apply f (list (car l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apcar f (cdr l)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pcar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1 (f 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ull l)  nil  (cons (apply f (list (car l)))  (mapcar f (cdr l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 (f &amp;rest arg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"Apply f to successive cars of all ARGS. Return the list of results."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; If no list is exhausted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ot (memq 'nil args)) ; apply function to C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s (apply f (mapcar1 'car args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mapcar* f  (mapcar1 'cdr args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20T23:54:39Z</dcterms:modified>
  <cp:revision>15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