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7772400" cy="10058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536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188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84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536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1188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8440" y="401040"/>
            <a:ext cx="6994800" cy="77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43000" y="2571840"/>
            <a:ext cx="9132840" cy="152280"/>
            <a:chOff x="-1143000" y="2571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-1143000" y="2571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50000">
                  <a:srgbClr val="ebebeb"/>
                </a:gs>
                <a:gs pos="100000">
                  <a:srgbClr val="bcbcbc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1143000" y="2685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cecece"/>
                </a:gs>
                <a:gs pos="100000">
                  <a:srgbClr val="7b7b7b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-1052640" y="7628040"/>
            <a:ext cx="1281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tthögsko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3287880" y="7628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B39D1EE6-4672-47BA-921D-E1EEA4D6ED42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7527960" y="7628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46851E08-BCA6-441B-9B64-8E9F62DE988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-4572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r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860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.E. Spra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mon Li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y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Using Str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-457200" y="3200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w we have a stream we can pass it as an argument to form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(format str “Something~%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we look at the file at this point, the output may or may not be there.  Some implementations save up output and write it in chun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may not all appear until we close the str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(close st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: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-457200" y="312408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we just want to read from a file, we open a stream wi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:direction :inpu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(setf str (open path :direction :input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#&lt;Stream C01C86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can use any input function on a fi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(read-line st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th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(close st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with-open-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457200" y="3124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th-open-fi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ro is often used instead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s first argument should be a list containing a variable name followed by arguments you might give to o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fter this it takes a body of code, which is evaluated with the variable bound to a stream created by passing the remaining arguments to o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Using with-open-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-457200" y="3276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fterwards the stream is automatically clo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with-open-file (str path :direction :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if-exists :superse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format str “Something~%”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with-open-fi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ro puts the close within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wind-prot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o that the file is guaranteed to get closed, even if an error interrupts the evaluation of the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r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-457200" y="3048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eams are Lisp objects representing sources and/or destinations of charac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read from or write to a file, you open it as a stre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eams are not identical with f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en you read or print at the toplevel, you also use a stre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ou can even create streams that read or write to str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*standard-input* and *standard-output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-457200" y="3276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y default, input is read from the strea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*standard-input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default  place for output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*standard-output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itially, they will probably be the same place: a stream representing the top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Read and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457200" y="358128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takes an optional argument, which should be a stream, and defaults to *standard-input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first argument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m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can also be a stream, but when it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the output is sent to *standard-output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athn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-457200" y="3124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th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portable way of specifying a f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th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as six 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v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rec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r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ou make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th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by call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ke-path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with one or more of the corresponding keyword argu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make-pathn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-457200" y="35053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the simplest case, you just specify the name and let the rest of the pathname defaul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 (setf path (make-pathname :name “bw”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#P”bw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o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-457200" y="327672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basic function for opening a file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 takes a pathname (or string) and a large number of optional keywords argu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f successful it returns a stream that points to the f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Key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-457200" y="3200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ou specify how you intend to use a stream when you creat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dire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gument signals whether you are going to write to the stream, read from it, or bo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three possible value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More key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457200" y="35053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stream is used for output,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if-exi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gument says what to do if the destination file already ex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ly it should b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:superse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 to create a stream on which you can write to the file “bw”, you s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(setf str (open path :direction :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if-exists :supersede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#&lt;Stream C017E6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n Spragg</dc:creator>
  <dc:description/>
  <dc:language>en-US</dc:language>
  <cp:lastModifiedBy>Jon Spragg</cp:lastModifiedBy>
  <cp:revision>0</cp:revision>
  <dc:subject>common lisp</dc:subject>
  <dc:title>Streams</dc:title>
</cp:coreProperties>
</file>