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15A-2F4F-4FDD-A9AB-E4AA0854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D8C-C684-4F62-B592-5296329F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717-1461-488D-BDBB-CF16E14E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402-1811-47FB-9118-AA06987B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E3A-6497-42A1-818F-A744577E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64A-BD43-4CAC-8097-D1F2499A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673-4A5A-4F23-AA37-05AEF0A8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6EF-FB7F-4237-B90E-75535F6C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B76-5662-4967-9FEC-2497243E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C13-952F-42FD-B884-26673141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07F-28F1-4B7A-AF50-033A0C90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CE6-A18B-4986-BDAE-4A0CEA89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337-BBC6-4717-935B-7265C7BCD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swiss.ai.mit.edu/~jaffer/r5rs_toc.html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ick Introduction to Programming i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pply + '(1 2 3 4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pply append '((1 2 3) (a b c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expects the value of its first argument to be a func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 map takes an n-ary function and n lists. It applies the function to the n first elements of the lists, then to the n second elements of the lis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etc. and returns a list of the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+ '(1 2 3) '(1 2 3) '(1 2 3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&gt;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3 6 9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+ treated as a ternary(n=3) function 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car '((a b) (d e) (g h))) ==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 d g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ar is unary (n=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map and a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map-append" takes two arguments, a function fn, and a list, and maps that function over the list _appending_ together all of the results. (fn must take one argument and return a 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map-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n th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ppend (map fn the-list))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ap-append cdr '((1 2 3) (1 2 3) (1 2 3))) =&gt; (2 3 2 3 2 3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a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ap cdr '((1 2 3) (1 2 3) (1 2 3))) =&gt; ((2 3) (2 3) (2 3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name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mbda (x) (+ x 2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4) =&g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(lambda (x) (+ x x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'(1 2 3 4 5)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2 4 6 8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mbda expressions make it possible to create new functions at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ru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constr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vari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*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rec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s 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name init-form)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s each name to its init-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: bindings order un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*: bindings done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rec: binds all names to undefined, evals each init form, mutates bindings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6560" y="2276640"/>
            <a:ext cx="612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2) (y 3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7) (z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y)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z x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&gt;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2) (y 3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7) (z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y)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z x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&gt;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7320" y="2057400"/>
            <a:ext cx="71910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(x 5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f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mbd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= n 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* n (fact (- n 1)))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act x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evaluation of this form re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&gt;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v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ects share storage, else #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ual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ects display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eqv? but stri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is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null?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 is the emp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list?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 is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is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is a list, then (cons x a) is also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hip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q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uses eq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v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: uses eqv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ber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uses equ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ion of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set-car! list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es the car of list to 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set-cdr! list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es the cdr of list to 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che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ally scoped dialect of Li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and simpl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lass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bda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types (weakly or dynamically typ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tions have first class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ix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ative, functional, and message passing styles find convenient expression in sche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ither a list or an at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list is evaluated to be ei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peci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on or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on is defined to be a list whose first element is a special form operato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aluation of the expression depends on the particular special form opera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valu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evaluating the 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the value of the first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values of the rest of the elements of the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the most recent value that has been assigned to that symbol (via "set!" for exampl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symbol 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itself. These include numbers and strings, and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pecial about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t in support for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 Storage Manage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ty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-class Function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new functions at run time. Create unname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orm Synta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complex precedence rules and other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ve Environ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bilit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of the uniform syntax and other features it is easy to define your own language on top of Sche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un the MIT Scheme interpreter on borg, typ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eem/software/scheme/bin/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your Scheme function definition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.s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current directory (if you use emacs, you get some nifty fe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eme, typ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ad “file.scm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eme, type Schem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 Scheme from within emac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-x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-x sh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plits your window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you a shell within emacs in one window, in which you can run Sche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file.scm in the other wind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cheme Reference Man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Scheme links from  the course web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(straight) list in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1080" y="194616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lst1 `(a b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lst1 is represented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184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5904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641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069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357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929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63960" y="46832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92760" y="46832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0440" y="4683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64360" y="468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9240" y="521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888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3160" y="521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492960" y="437832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2600" y="43848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air in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52880" y="1946160"/>
            <a:ext cx="40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pair1 `(a .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1  is represented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3013200"/>
            <a:ext cx="4572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1360" y="3013200"/>
            <a:ext cx="4572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92760" y="3317760"/>
            <a:ext cx="14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1560" y="377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32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353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8492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3359160"/>
            <a:ext cx="1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mutable operations to lists: implementation of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86000" y="28954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43200" y="28954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32004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200400"/>
            <a:ext cx="3657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64832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6483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6483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6483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1240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2280" y="286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060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0240" y="51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52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2952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with an empty queue, add a, b, and c to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sequence, using the code in question B1 of ass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ing linked structure, containing four cells, looks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934320" y="4343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2400" y="56707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n Sche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-car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-cdr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introduc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, but just rewire their argument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roduces a new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3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2)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3 3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o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Pat Ki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(Pat Kim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'(Robin Sandy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'(Pat Kim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(John Q Public)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'Sandy)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 '(John Q Public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(length p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Mr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ine town ‘Halif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 'of town 'may 'have 'already 'won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get-first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?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-na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get-first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))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 name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( (John Q Publi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lcolm 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dmiral Grace Murray Hopper)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Spot) (Aristotle) (A A Mil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Z Z To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ir Larry Olivi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iss Scarlet))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et-first-names names) =&gt;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As First-class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map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?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'(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first name-list))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(map-names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rest name-list))))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-names first-name names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=&gt; 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 and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a variable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mbol   ‘Jo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   ‘(a b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un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f the above can be returned by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2:42:33Z</dcterms:created>
  <dc:creator>Evangelos E. Milios</dc:creator>
  <dc:description/>
  <dc:language>en-US</dc:language>
  <cp:lastModifiedBy>tim finin</cp:lastModifiedBy>
  <dcterms:modified xsi:type="dcterms:W3CDTF">2002-11-07T23:20:58Z</dcterms:modified>
  <cp:revision>86</cp:revision>
  <dc:subject/>
  <dc:title>Let’s Scheme</dc:title>
</cp:coreProperties>
</file>