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200-457B-4454-9C1E-7984ED6D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6A5-A323-471E-AEA8-220E1A17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C0B-0C2D-4B9B-925A-58AA4EDA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6C8-A62D-421D-BED4-A25581A3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EA2-3860-40D0-947F-FA2FB772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2B8-507A-4B6C-B277-DE06775F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F66-B137-49B4-94CE-15E65ACE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C2E-11F6-4A44-9A37-2A6FCDDC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B3B-3985-4282-9AA4-B23B2D0A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8E1-A268-40B1-A9AB-07EEBF05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FA9-C7F2-4CED-BC41-F2862554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E50-27D9-499C-AF4B-B296332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11AC-54FB-4B3D-BB20-A50B61BDE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What are we going to talk about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s in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rview of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panying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4 from Seb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might find a Scheme reference help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recomme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Scheme Programming Language, 2nd e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y R. Kent Dybv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 online for free! http://www.scheme.com/tspl2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an I get a Scheme environment to use at h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Scheme 5.0 (Free 14-day evalu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schemers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Scheme (Free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cs.rice.edu/CS/PLT/packages/drschem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emplate insta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Stack is not a type, it is not possible to create an object of type Stack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 *pStack = new Stack;  // not 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reate Stack objects, you must first fill in the type parameters.  For example, to create a Stack of Song object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 song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“Bruce Springsteen”, “Thunder Road”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ong&gt; song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Stack.push(so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to create a Stack of integer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i = 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int&gt; int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Stack.push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can be checked statically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i = 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ong&gt; song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Stack.push(i);  // compile-time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this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our GenericStack solution, instantiations of the Stack template can hold elements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articular instantiation of a Stack template can only hold elements of exactly one type, which is desi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creating a Stack which holds pointers to some base class will allow the Stack to hold objects of any of its sub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uses of a Stack instantiation will be statically type che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 downside: Each Stack instantiation causes separate code to be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irty different Stack instantiations are used in a program, it is as though thirty separate type classes were written and compi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small price to pay for type safe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syntactic problem with template insta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819520"/>
            <a:ext cx="58291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” and “&gt;&gt;” are both operators in C++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f (a &gt; 3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cin &gt;&gt;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parameters for template instantiations can themselves be template instanti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re is a minor syntactic problem to deal with when a type parameter is a template instantiation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tack&lt;int&gt;&gt; stack;   // error!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tack&lt;int&gt; &gt; stack;  //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Other minor template shortcom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late is generally written entirely in a head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eader file is included in any source file in which the template is instanti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 code is not generally compiled until it is instantiated.  For a given instantiation, only the methods which are called are compi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ans that a compile-time error may exist in a program for a long time before it is ever discov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practical problem: Error messages returned by compilers related to templates are often very difficult to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Constraints on type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parameters are implicitly constr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following templat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ireStraits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T&amp; brothersInArms() { // ... }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output(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cout &lt;&lt; brothersInArms().foo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output() method calls a method foo() on a T, T must have a method called foo() which takes no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olation of this constraint will result in a compile-time error, but only i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a DireStraits instantiation whose type parameter does not have a foo() method defined which takes no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nstantiation has its output() method called at least o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533520"/>
            <a:ext cx="58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d now for something completely different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ative languages are based on von Neumann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languages are influenced by mathematic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mapping between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main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ange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nction 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a domain, a range, and a mapping rule which maps domain elements to rang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n element of the domai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ie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tur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 element of th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s and recursion control the evaluation proce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n) = / 1, if n =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\ n * f(n - 1), if n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may not have sid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5829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perties of functional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3047760"/>
            <a:ext cx="5829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re functional languag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assignment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repetition other than recu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only functions with no sid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omputation in a functional language is done by applying functions to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1371600"/>
            <a:ext cx="5829120" cy="67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a LISP dialect, designed in the mid-1970’s at 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statically scoped, unlike early versions of L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supports functional programming, but also supports imperative programming and, to an extent, object-oriented and log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e has variables, assignment, and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LISP, Scheme is garbage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in Scheme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-class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aning that the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the values of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lements of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ssigned t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passed a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Schem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ly, the Scheme environment is interactive and interpr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Scheme implementations allow compilation to nativ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heme interpreter is implemented as an infinite read-evaluate-prin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r types an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pression is interpr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ulting value is disp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+ 10 1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where ‘(the streets have no name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where the streets have no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cheme data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1828800"/>
            <a:ext cx="582912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 symbol...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a  Alex  ics_141  U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 number...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2  99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or a string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“Good morning”   “Oingo Boing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ordered series of atoms and lists, enclosed by parens and separated by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examples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   (a (b c) ((d e) f) g)  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redefined Boolean const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   #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5943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stack of integers in C+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080" y="1980720"/>
            <a:ext cx="588636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you wanted to write a class in C++ which implements a stack of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ight define the following class:</a:t>
            </a:r>
            <a:br>
              <a:rPr sz="2400"/>
            </a:b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Integer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eger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Integer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int i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imagine what the implementations for these methods might look lik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is evaluated in the following fash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lement must evaluate to a procedure (e.g. it can be the name of a proced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eding elements are considered to be arguments to the procedure.  These arguments are evaluated (in no particular order) and their results are used as arg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pre-defined procedure “+”, which returns the sum of all of its arguments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+ 3 5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+ 3 (+ 3 5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and strings evaluate to themselve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“Smells Like Teen Spirit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“Smells Like Teen Spiri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expression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2742840"/>
            <a:ext cx="5810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evaluate to a value to which they have been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are bound to values either through assignment or as form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is first bound using “defi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n subsequently be assigned using “set!”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define x 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et! x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text on a line following a ; character is considered a comment and is ignored by the interpr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voiding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61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valuating an expression, the pre-defined procedure “quote”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ote” simply returns its argument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quote 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quote 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seful shorthand for the “quote” procedure is the apostrophe notation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‘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‘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Manipulating 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16002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is built out of two components: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roper list, the car is the first element in the list, and the cdr is a list of the successiv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mitive functions “car” and “cdr” return the two components of a list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is not a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may not be empty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is not a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a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Building 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defined procedure “cons” takes two parameters and builds a list out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argument becomes the car, and the second becomes the cdr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(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(a b) ‘(c 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b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 . 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defined procedure “list” constructs a list from multiple parameter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&gt; (list ‘fields ‘of ‘gol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(fields of gol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&gt; (list ‘fields ‘(of gol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(fields (of gol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edic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73408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rocedure which returns either true (#t) or false (#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re-defined predicates ex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?” returns #t if the arg is a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?” returns #t if the arg is an empty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?” returns #t if the arg is an eve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d?” returns #t if the arg is an odd number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(x y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(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ven? 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zero?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esting for e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?” returns #t if its two arguments are atoms and ar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?” is not reliable when given two lists or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 returns #t if its two arguments are numbers and ar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?” returns #t if its two arguments are atoms and are the same, or are lists and are structurally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?”is not reliable when given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? ‘a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? ‘(a b)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[IMPLEMENTATION-DEPENDENT RES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ual? ‘(a b (c) d) ‘(a b (c) 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= 3.1 (+ 1 2.1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Writing a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440" y="152388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dure is written a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ambda expression is a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lement is the atom “lambd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element is a list of form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ird element is an expression which is the procedure body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lambda (l) (car (cdr l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mbda expression evaluates to a procedure.  It can be evaluated directly..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(lambda (l) (car (cdr l)))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or assigned to a variable and called separately..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gt; (define cadr (lambda (l) (car (cdr l)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gt; (cadr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if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way selection is performed using the “if” expression.  An “if” expression takes three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edicate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then express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“else express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redicate expression returns #t, the “then expression” is evaluated and becomes the return value of the “if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redicate expression returns #f, the “else expression” is evaluated and becomes the return value of the “if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if (odd? 4) (+ 3 5) (- 7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cond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61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selection is performed using the “cond” expression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1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2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n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else expression {expressions}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dicates are evaluated in order from the first until one evaluates to #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of them evaluates to #t, the expressions which follow it are evaluated in order, and the result of the last one becomes the result of the “cond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Now I want a stack of character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080" y="2133360"/>
            <a:ext cx="58100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imagine that you wanted a stack of charact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ould be easy to convert the code you had to the following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haracter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acter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Character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char c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ranslations could be applied to the implementation of each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“cond”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58291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n example of a procedure which recursively calculates th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onacci number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define fi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lambda (n)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= n 0)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= n 1) 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+ (fib (- n 1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(fib (- n 2))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790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Local variables: The “let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40" y="2209680"/>
            <a:ext cx="58291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let” expression creates a local scope and binds variables to values for use within that scop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et ((x 2) (y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+ x y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” expressions may be nested.  If nested “let” expressions define the same variable, the inner binding is the only one visible in the inner “let”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et ((x 2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let ((x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+ x x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let” expression is useful for defining local variables within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Bringing it all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write a predicate procedure “member?” which returns #t if a given atom is in a given simple list, and #f if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main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translation would allow you to create separate stack classes to hold elements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kind of translation is time-consuming and error-p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your stack classes have a great amount of similarity in terms of both interface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use an array implementation with a hard-coded size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have essentially the same interface (except for the element ty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implementations are independent of the elem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you need is a way to factor out these similarities and put them into on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One way to address the main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following class instead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Generic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*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Generic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Generic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void* pv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*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lementations of these methods could be written in the same fashion as those of IntegerStack and Character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Using our GenericStack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icStack class can be used to hold any type of data.  For example, pointers to Song objects can be held like thi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ng *pSong = new Song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“Sublime”, “Santeria”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icStack 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ck.push( (void *) pSong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// ..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ng *pSong2 = (Song *) stack.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can be held in the following way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 = 3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icStack 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ck.push( (void *) i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( (int) stack.top()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this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side: GenericStack can hold elements of any type, since a void* can point to any type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now reuse GenericStack any time we need a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side: The programmer is responsible f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knowing what type of data a GenericStack contains, and casting the return value of top()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nsuring that a particular instance of GenericStack contains only data of one particular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llary to downside: Any type error made by the programmer will not be caught by the compi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better solution: Parameterized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742840"/>
            <a:ext cx="5829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could reuse our Stack class without losing the “safety net” of static type check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meterized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us to do just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rameterized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itself a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stanti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with type parameters, a parameterized type can be used to generate a (potentially infinite) set of types with similar characteris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supports parameterized types with a construct calle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Stack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8672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 template-based Stack class in C++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Stac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 elements[MAX_ELEMENTS]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Stack(): topElement(-1) { 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~Stack() {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void push(T t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topElement == MAX_ELEMENTS - 1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retur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ements[++topElement] = 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 top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isEmpty()) return T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return elements[topElement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void pop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isEmpty()) retur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topElement--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bool isEmpty() { return topElement == -1; 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0:04:00Z</dcterms:created>
  <dc:creator>Alex Thornton</dc:creator>
  <dc:description/>
  <dc:language>en-US</dc:language>
  <cp:lastModifiedBy>tim finin</cp:lastModifiedBy>
  <cp:lastPrinted>2000-07-05T09:11:44Z</cp:lastPrinted>
  <dcterms:modified xsi:type="dcterms:W3CDTF">2002-11-07T22:57:13Z</dcterms:modified>
  <cp:revision>270</cp:revision>
  <dc:subject/>
  <dc:title>What are we going to talk about today?</dc:title>
</cp:coreProperties>
</file>