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9C7-7442-4A36-A461-7E886A8A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2FA-D803-4EDA-A633-16693255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279-A5AB-4B57-BB00-E563486F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F1C-7FC2-4A5A-B67D-7842A4C0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57F-EC54-402D-8D16-78B4FD10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F71-1129-4275-AA66-B14ED0D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9B3-5A80-4EC6-BDA7-B3330C1D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B91-F204-44A5-8838-13F921E5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47A-2075-495B-A5D4-5309614B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A65-F978-4CB9-9C87-C898579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948-3DCE-4901-986B-BF99A08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52C-7982-4867-BA80-CCDA5F5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E2D8-63B6-42B0-B8D6-A27017D31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ome more pre-defined Scheme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”, “or” do what you might expect, performing a short-circuited Boolean AND and OR operation on multiple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value besides #f is considered “true”.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or (null? l) (eq? (car l) “Alex”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and (even? 4) (odd? 3) (zero? 1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?” returns #t if the given argument is a symbol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8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ype checking in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dynamically ty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acquire the type of the values assigned to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parameters acquire the type of actu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is, all type checking in Scheme must be done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ype errors become run-tim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define cad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lambda (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car (cdr l)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d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cdr ‘a   cdr expects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cedures as first-class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 procedur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-class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aning that the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the values of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lements of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ssigned t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passed a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lows Scheme code to be written very flexibly and very gene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By passing a procedure as a parameter, a very simple procedure can be written which applies any procedure to every element in a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1828800"/>
            <a:ext cx="582912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n example of a procedure as a first-class object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define square (lambda (x) (* x x)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define apply-to-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lambda (l 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null? l)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else (c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p (car l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apply-to-all (cdr l) p))))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1 2 3 4 5 6) squar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1 4 9 16 25 36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(1 2 3) (4 5 6)) revers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3 2 1) (6 5 4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procedure can be used for many radically-different purp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5829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implicity vs. saf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55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ntax for writing a procedure which takes another procedure as a parameter is strikingly si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iggest reason is that there are no type decla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mplicity is not without cost; all errors made will be run-time errors, since no static type checking can be done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1 2 3) con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: cons expects 2 arguments, give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other exampl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sion of apply-to-all we just saw treats the list as a flat list.  What if we wanted a version which handled sublists recursiv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eval”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752120"/>
            <a:ext cx="588636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 the “quote” procedure allows evaluation of an expression to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 and data have the same structure in Scheme; they’re both lis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eval” procedure forces evaluation of the contents of a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example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val (cons ‘+ ‘(1 2 3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e following shorthand syntax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cons ‘+ ‘(1 2 3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not legal.  Think of the rules regarding evaluation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element must evaluate to a proced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element in this list is (+ 1 2 3), which is a list, not a proced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cedures which build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eval” procedure allows you to write procedures which build and evaluate procedure c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following problem.  You have a parameter “L” in a procedure which is a list of integers, and you’d like to get the sum of the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’t just say (+ L), because “+” takes numbers as arguments, not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!  Build yourself a procedure which will build a call to “+” using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build a procedure call by constructing a list and then evaluating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adder”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 procedure called “adder” which does exactly that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efine ad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lambda (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(null? L)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else (eval (cons ‘+ L)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out a procedure which generically builds a call to any procedure in the same fash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0:07:16Z</dcterms:created>
  <dc:creator>Alex Thornton</dc:creator>
  <dc:description/>
  <dc:language>en-US</dc:language>
  <cp:lastModifiedBy>tim finin</cp:lastModifiedBy>
  <dcterms:modified xsi:type="dcterms:W3CDTF">2002-11-07T22:59:01Z</dcterms:modified>
  <cp:revision>45</cp:revision>
  <dc:subject/>
  <dc:title>No Slide Title</dc:title>
</cp:coreProperties>
</file>