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20" y="6607080"/>
            <a:ext cx="10116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B56B-E7D7-4C6A-B198-DA4BB7ECFB1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 Macros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while macr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the macro while by using the rest parameter to collect a list of the expression in the body,  then using comma-at to splice this list into the expan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 while  (test &amp;rest bod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`(do () ((not ,test)) ,@bod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(while (&lt; x 10) (print x)(setq x (+ x 1))) beco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 not (&lt; x 10)) (print x) (setq x (+ x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Design and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macros is a distinct kind of programming, with its own unique aims an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rt writing macros, you have to start thinking like a language desig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`(do ((x 0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,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@bod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ntimes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,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capture happens when a variable used in a macro expansion happens to have the same name as a variable existing in the context where the expansion is inse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5 (setf 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 expansion highlights 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croexp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(ntimes 5 (setf  x  (+  x  1))) 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x  0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 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unique name for the variable introduced by the ma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nsym) returns a symbol that is guarenteed not to be i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gens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:G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do ((,g 0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,g 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Eval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first argument is inserted directly into the do, it will be evaluated on each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stake shows most clearly when the first argument is an expression with side-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 (setf  v (-  v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v is initially 10 and setf returns the value of its second argument, this should print nine periods.  In fact it prints only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look at the macroexpa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((#:g002 0 (+ #:g1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#:g002  (setf  v  (-  v  1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ach iteration we compare the iteration variable not against 9, but against an expression that decreases each time it is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4480"/>
            <a:ext cx="7772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 variable to the value of the expression in question before any iteration.  This involves another gens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(gensym))  (h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let ((,h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,g 0 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 ,g ,h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Macro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macros allow you to define operators that are implemented by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a macro is essentially a function that generates lisp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writes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vs. mac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ro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ich,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du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the macro nil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write a macr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ets its arguments to 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l!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we do it in C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efmacro nil! (var) (list ‘setq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858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we type the macro call (nil! x) into the tople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interpr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il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macro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the compiler discovers a call to nil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ecial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create tem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mostly in macro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quote becomes useful only when it appears in combination with comm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ma-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quoted list is equivalent to a cal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elements quo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(list ‘a ‘b ‘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mma appears before one of the elements of the list,  it has the effect of canceling out the quote that would have been put in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(a ,b c ,d)  is equal to (list ‘a b ‘c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s work no matter how deeply they appear within a nes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a 1  b 2   c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,b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2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(,b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 (2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1485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they may even appear within quotes, or within quoted sub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`(a  b  ,c  (‘,(+  a b c)) (+  a  b) ‘c ‘((,a  ,b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  B   3   (‘6)  (+  A B)   ‘C   ‘((1  2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a counteracts the effect of one backquote,  so commas must match back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backquote for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quote is usually used for ma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tage of a backquote is that it makes expressions easier to r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(list ‘setf 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 `(setf  ,var 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a-at:  ,@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-at is useful in macros that have rest parameters representing, for example, a body of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, we want a while macro that will evaluate its body so long as an initial test expression remains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le (&lt;  x 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c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f 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8:41:32Z</dcterms:created>
  <dc:creator>Jon Spragg</dc:creator>
  <dc:description/>
  <cp:keywords>macros</cp:keywords>
  <dc:language>en-US</dc:language>
  <cp:lastModifiedBy>Tim Finin</cp:lastModifiedBy>
  <dcterms:modified xsi:type="dcterms:W3CDTF">2000-11-30T00:01:20Z</dcterms:modified>
  <cp:revision>67</cp:revision>
  <dc:subject>Common lisp</dc:subject>
  <dc:title>Introduction to Macros</dc:title>
</cp:coreProperties>
</file>