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9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d Swede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B3DE608-75DA-4695-9E95-5ADDA007F86F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197AF2E-E26F-42AE-A523-0210E2E31C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on Lis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alized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Common Lisp the type sequence includes both lists and vectors (and therefore strin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of the functions which have used on lists can also be used on other sequences - vectors and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a structure, we use the 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 we just give the name of the structure and the names of the f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fstruct  point  x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efstru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ast example defines a structure with two fields (in Pascal it would be called a record, in C a struct), x and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also defines the fun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py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a good example of lisp macros writing lisp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o the function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call to make-point will return a new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n initialize values of fields by using keywor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 (make-point :x 0 :y 0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ccess functions for point fields are defined not only to retrieve values, but to work with s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point-x 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point-y p)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structs an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457200" y="3505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 structure also defines a type of that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point will be of type point, then structure, then atom, then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use point-p to test whether something i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point-p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typep p ‘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ault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specify default values for structur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efstruct pol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ype (pro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t “What kind of polemic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it?  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read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ffect nil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:conc-name and :print-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can also control the way a structure is displayed, and the prefix used in the names of the access functions it cre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fstruct (point (:conc-name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:print-function #(lambda (p s dep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clare (ignore depth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format s “#&lt;~A, ~A&gt;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x p) (py p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y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(make-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&lt;0,0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ht (make-hash-tabl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&lt;Hash-Table BF0A96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:  CL can return multiple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Get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ssociate a value with a key, we use setf with getha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colour ht) ‘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L, you make arrays by call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-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 list of dimensions as the first arg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arr (make-array ‘(2 3) :initial-element nil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imple-Array T (2 3) BFC4F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rays in CL can at up to 7 dimensions, with each dimension having at least 1023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itial-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mhash and Map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mhash ‘colour 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shape ht) ‘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gethash ‘size ht) ‘gi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maphash #’(lambda (k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ormat t “~A = ~A~%” k v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PE = 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 = 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trieve an array element we c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 arr 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place some element of an array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aref arr 0 0) ‘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arr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457200" y="36576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one dimensional array is 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 create and fill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 a single step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vector “a”  ‘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(“a”  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32080" y="3046320"/>
            <a:ext cx="41529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bin-search (obj  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len  (length vec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nd  (not (zerop le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vec  0  (-  len 1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finder  (obj  vec  start 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range  (- end  start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zerop 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eql  obj  (aref  vec  star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mid (+ start  (round  (/ range 2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 ((obj2  (aref vec mid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l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obj vec start  (- mid  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g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 vec  (+  mid 1)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s and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ings are vector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note a constant string as a series of characters surrounded by double-qu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individual character, such as C, is denoted by #\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character has an associated integer - ASCII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r&lt;, char&gt;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457200" y="3657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unction char&lt; (less than), etc. compares charact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work like the numeric comparison on the ascii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ort “elbow”  #’char&l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-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457200" y="3505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tring-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ild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4572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format nil “~A or ~A” “truth” “dar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uth or d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concatenate ‘string “not “ “to worr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to wor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 data structures</dc:subject>
  <dc:title>Common Lisp Specialized Data Structures</dc:title>
</cp:coreProperties>
</file>