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403-15E4-48C3-8F06-9BF44A57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684-6FE7-4A75-8D3F-F07B9BEB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734-41CC-4202-8CDF-88F3FB0F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EAF-EA31-4072-958E-89C2F59B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4C25-E829-4F58-88C5-04116899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9945-71DA-496D-99E9-9B43DD69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3915-D6BB-4270-AC1C-0B5BDF63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127B-6415-4EE1-B16C-DF5137D2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0DC2-FCD1-4A14-87E8-D4468B62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F39E-4842-40C1-B756-048CBF11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0DCF-3FF8-405B-BDE3-DA894FA4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748-5995-4390-9CC6-F2314441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9B36-3F4E-4FCD-B2A2-A1C50E2E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37B2-6B16-44E3-923D-0AFE9E6B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45FB-BB2E-4D00-9C5A-58897E18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CA5B-9571-470A-9145-3BD0B75D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6B24-0DEB-42D3-9F8C-B86D076A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ABC-E29F-40F8-8D0C-83A9F0CE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25B1-C611-48D4-AAF3-17860C28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4A2-3D01-44A1-BD0A-B15BA363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418-2F52-456B-828B-0248917B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D7E-5273-4C6B-9A93-0B3129A1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A80-DB2C-46EA-AF9E-4BC40383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745-4643-4E08-A0A3-DCF91DF1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F92C-C39A-4C90-8B3C-80309BA066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7850-C65E-46F5-938C-16B32E197A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isp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useful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NULL S)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sts if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empty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LISTP S)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sts if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IS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kes a list of its (evaluated) argu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LIST 'A '(B C) 'D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returns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A (B C) 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LIST (CDR '(A B)) 'C)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turns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((B) 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PPE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atenates two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APPEND '(A B) '((X) Y) 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returns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A B (X) 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a list is the first thing in the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only defined for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nonemp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50532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If L 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Then (CAR  L) 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A  B  C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648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(X  Y)  Z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X  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5181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( ) ( ) 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5715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undefin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D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a list is what's left when you remove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only defined for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nonemp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-246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a list is always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DR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51460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If L 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Then (CDR  L) 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A  B  C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B 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3657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(X  Y)  Z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Z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815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( ) ( ) 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( )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53481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undefin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267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akes two argu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rst argument can be any S-exp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econd argument should be a li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result is a new list who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first argument and who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seco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st move one parenthesis to get the resul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66680" y="5562720"/>
            <a:ext cx="7086600" cy="761760"/>
            <a:chOff x="1066680" y="5562720"/>
            <a:chExt cx="7086600" cy="761760"/>
          </a:xfrm>
        </p:grpSpPr>
        <p:grpSp>
          <p:nvGrpSpPr>
            <p:cNvPr id="127" name=""/>
            <p:cNvGrpSpPr/>
            <p:nvPr/>
          </p:nvGrpSpPr>
          <p:grpSpPr>
            <a:xfrm>
              <a:off x="2666520" y="5943600"/>
              <a:ext cx="686160" cy="380880"/>
              <a:chOff x="2666520" y="5943600"/>
              <a:chExt cx="686160" cy="38088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3352680" y="6019920"/>
                <a:ext cx="0" cy="30456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2666520" y="6324480"/>
                <a:ext cx="68580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2666880" y="5943600"/>
                <a:ext cx="0" cy="38088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066680" y="5562720"/>
              <a:ext cx="70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Comic Sans MS"/>
                </a:rPr>
                <a:t>CONS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of 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Comic Sans MS"/>
                </a:rPr>
                <a:t>A   ( B  C )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    gives 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Comic Sans MS"/>
                </a:rPr>
                <a:t>( A  B  C 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ONS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312408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(CAR L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   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(CDR L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(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CONS (CAR L) (CDR L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A  B  C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A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(B C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       (A  B  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2670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 (X  Y)  Z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(X  Y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(Z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       ( (X  Y)  Z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542448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 ( ) ( ) 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( 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( ( ) 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       ( ( ) ( ) 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958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 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undefine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undefined      undefin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876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X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( 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       (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puts together wha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ake apa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otted Pai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second argument to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should be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it isn't, you get 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dotted pai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A . B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 aren't using dotted pairs in this cla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you get a dotted pair, it's because you gav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atom as a second argu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EQ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Q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ests whether two atoms are equ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gers are a kind of ato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Q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undefined for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might work for lists, it might no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t it won't give you an error mess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 with any predicate,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Q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returns either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r something that isn'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TO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TO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akes any S-expression as an argu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TO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returns "true" if the argument you gave it is an at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 with any predicate,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TO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returns either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r something that isn'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O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lements the 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if...then...elseif...then...elseif...then..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ol struc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rguments to a function are evaluated before the function is cal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isn't what you want fo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CO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pecial form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 fun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rsions of LISP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Lisp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n old language with many varia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sp is alive and well to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modern versions are based on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mmon Lis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LispWork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based on Common Lis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chem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one of the major varia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essentials haven’t changed mu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pecial for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pecial for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like a function, but it evaluates the arguments as it needs th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QUOT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DEFU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re special f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can define your own special f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 won't be defining special forms in this cour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m of the</a:t>
            </a: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 CO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362320"/>
            <a:ext cx="7467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COND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condition1   result1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condition2   result2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. . 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T   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resultN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)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fining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DEFUN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function_name  parameter_list</a:t>
            </a:r>
            <a:br>
              <a:rPr sz="3200"/>
            </a:b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        function_body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Test if the argument is the empty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DEFUN  NULL   (X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(COND</a:t>
            </a:r>
            <a:br>
              <a:rPr sz="20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  (X   NIL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  (T   T)  )   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733920"/>
            <a:ext cx="1219320" cy="4572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3733920"/>
            <a:ext cx="762120" cy="5331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4267080"/>
            <a:ext cx="2514600" cy="15242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: MEMB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an example we define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MEMB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which tests whether an atom is in a list of ato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DEFUN MEMBER (A LAT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(COND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  ((NULL LAT)   NIL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  ((EQ A (CAR LAT))   T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  (T   (MEMBER A (CDR LAT))) )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EMB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is typically a built-in fun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ules for Recur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ndle the base (“simplest”) cases fir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ur only with a “simpler” c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mpler” = more like the base c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alter global variables (you can’t anyway with the Lisp functions I’ve told you abou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look down into the recur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uidelines for Lisp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less the function is trivial, start with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ndle the base case fir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 having more than one base c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base case is usually testing for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UL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something with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recur with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: UN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2209680"/>
            <a:ext cx="8610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DEFUN UNION (SET1 SET2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(COND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(NULL SET1)   SET2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(MEMBER (CAR SET1) SET2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  (UNION (CDR SET1) SET2)  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T (CONS (CAR SET1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     (UNION (CDR SET1) SET2)  ))  ) 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till more useful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LENGTH L)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turns the length of lis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RANDOM N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, where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an integer, returns a random integer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gt;= 0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 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cur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ursion is essential in Lis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recursive defini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 definition in whi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rtain things are specified as belonging to the category being defined, a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rule or rules are given for building new things in the category from other things already known to be in the catego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formal Synta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ato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either an integer or an identifi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lis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 left parenthesis, followed by zero or more S-expressions, followed by a right parenthe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-express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n atom or a li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A (B 3) (C) ( ( ) )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mal Syntax (approximate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S-expression&gt; ::= &lt;atom&gt; | &lt;list&gt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atom&gt; ::= &lt;number&gt; | &lt;identifier&gt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list&gt; ::= ( &lt;S-expressions&gt;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S-expressions &gt; ::= &lt;empty&gt;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| &lt;S-expressions &gt; &lt;S-expression&gt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number&gt; ::= &lt;digit&gt; | &lt;number&gt; &lt;digit&gt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identifier&gt; ::=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string of printable characters, not including parenthe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 and NI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name of the empty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 a test,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means “false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usually used to mean “true,” but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ything that isn’t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NI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“true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both an atom and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’s defined this way, so just accept 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unction calls and dat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function call is written as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rst element is the name of the fun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maining elements are the argu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F A B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lls function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with arguments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is written as atoms or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F A B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 list of three ele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 you see a problem her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Quot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F A B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 call to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or is it just dat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l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literal da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must be quoted (atoms, to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QUOTE (F A B)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lis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F A B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QUOT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is a “special form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arguments to a special form are not evalua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'(F A B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nother way to quote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 is just one single quote at the begin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quotes one S-exp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asic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returns the head of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turns the tail of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serts a new head into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Q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ares two atoms for equa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TOM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sts if its argument is an atom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20:19:06Z</dcterms:created>
  <dc:creator>Villanova</dc:creator>
  <dc:description/>
  <dc:language>en-US</dc:language>
  <cp:lastModifiedBy>Tim Finin</cp:lastModifiedBy>
  <cp:lastPrinted>2000-11-01T21:37:14Z</cp:lastPrinted>
  <dcterms:modified xsi:type="dcterms:W3CDTF">2000-11-13T20:42:55Z</dcterms:modified>
  <cp:revision>13</cp:revision>
  <dc:subject/>
  <dc:title>Lis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renoir.vill.edu:80/~dmatusze/8310/index.html</vt:lpwstr>
  </property>
  <property fmtid="{D5CDD505-2E9C-101B-9397-08002B2CF9AE}" pid="9" name="LinkColor">
    <vt:r8>16711782</vt:r8>
  </property>
  <property fmtid="{D5CDD505-2E9C-101B-9397-08002B2CF9AE}" pid="10" name="MailAddress">
    <vt:lpwstr>dave@acm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avesHTML\davesnewweb\8310\lecture_not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