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87840" y="6486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CA0-4D27-4D9B-9CE7-196A3101FE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17B-728A-4036-B6F5-35B90102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ich, when and whe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operator you rarely use, but you can build macros up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the time you will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allow for sudden exits,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ici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tch and throw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it fro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ny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necessary to transfer control back through several function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is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 tak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any kind of object, followed by a body of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per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ch ‘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b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row ‘abort 99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s are evaluated in order, as if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point within this code or code called by it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correspo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ca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to return immedi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u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give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ss control through (and thereby kill)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o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der to reach the one with the matc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pend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righ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an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terrupts execution, but instead of transferring control to another part higher up in the calling tree, it transfers control to the Lisp error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usually invoke a break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nwind-prote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you want code to be proof against interruptions li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can ensure that such interruptions won’t leave your program in an inconsisten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ny number of argument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alue of th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remaining expressions will be evaluated even if the evaluation of the first is interru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setf x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catch ‘ab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wind-pro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row ‘abort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tf x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even though 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r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s control back to the wai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that the second expression gets evaluated on the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, certain actions have to be followed by some kind of cleanup or res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Lisp has 3 basic operators for creating blocks of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pr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b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+ 11 1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nly the value of the last expression is returned, the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side-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name and an emergency ex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argument should be a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comes the name of the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y point within the body, you can halt evaluation and return a value immediately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block’s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Here we go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head ‘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r code to make a sudden but graceful exit from anywhere in a body of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 as the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d by th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fte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t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so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retu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, which returns its arguments as the value of an enclo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 from an iter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L operators that take a body of expressions implicitly enclose the body in a block named nil. 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dolist (x ‘(a b c d e 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at t “~A “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(eql x ‘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turn ‘done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efun and 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of a function defined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mplicitly enclosed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same name as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foo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foo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of an explicit or implic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gbod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sed with g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appearing in the body are interpreted as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such a labe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control to the expression following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(+ x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mat t  “~A “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 (&lt;  x 10) (go top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4 5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08:01:52Z</dcterms:created>
  <dc:creator>Jon Spragg</dc:creator>
  <dc:description/>
  <cp:keywords>control common lisp</cp:keywords>
  <dc:language>en-US</dc:language>
  <cp:lastModifiedBy>Tim Finin</cp:lastModifiedBy>
  <dcterms:modified xsi:type="dcterms:W3CDTF">2000-11-27T05:16:31Z</dcterms:modified>
  <cp:revision>33</cp:revision>
  <dc:subject>common lisp</dc:subject>
  <dc:title>Control</dc:title>
</cp:coreProperties>
</file>