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855B-E5DC-404C-850F-C97BD9100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6366-FC3B-4BA7-8DD7-371A3782D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1884-53A3-4487-829B-70CCB6E40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A028-2CA3-4827-B00B-1BC4D6675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08B09-1DBF-4271-845F-B6E588A3E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1C1CC-D7D2-46D6-80B2-F00874AA4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1D37B-80A4-46C7-9EDD-862280415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DA901-333B-45BA-A29C-20F30A797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8A848-DAFD-4322-B571-8D7F79F0C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82276-6805-447F-BDCB-F16309227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61C45-3BD2-4170-B8E8-6436A8EE2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44A4-563E-424D-8439-F60F2CC24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6DEB3-EBE0-4C0E-A0EF-826BE2459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D1FDE-B8EF-41CE-8678-053446C21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CF860-99AB-41D8-8007-E01755EA1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034D4-5B3D-42D8-A036-CB7BAB46A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185E7-5B7D-4036-B889-E1ACAC983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3D45-DFF2-470E-A30C-2DD122F37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3E14-8A4A-48D7-8F6D-33AFEB87E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9BA1-4D01-427E-8862-11DF20C9C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06CA-F043-470E-BFD1-44772D017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8C35-837F-4BA4-8A05-A0FEAFF74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8C84-418A-4192-88D9-1F81EFAB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5165-A937-4D07-A2F6-8618FCF6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5574A-86F2-45A2-83D3-D17710E93CC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888A2-80C3-43AF-A36E-59DD7CB5293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Lisp II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he End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How EQUAL could be defined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(defun equal (x y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; this is how equal could be defined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(cond ((numberp x) (= x y)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             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((atom x) (eq x y)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             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((atom y) nil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             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((equal (car x) (car y)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               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(equal (cdr x) (cdr y))))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           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Some simple list processing examples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defun member (x l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cond ((atom l) nil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(equal x (car l)) (cdr l)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T (member x (cdr l)))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defun append (l1 l2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if (null l1)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2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cons (car l1) (append (cdr l1) l2)))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Variations on revers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;; either of these does O(n^2) cons operatio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defun  reverse  (l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if  (null  l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i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append  (reverse  (cdr  l))  (list  (car l)))))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defun reverse (l)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and l (append  (reverse  (cdr  l))  (list  (car  l)))))     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Variations on revers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;; this tail recursive operation does O(n) cons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(defun reverse (l) (reverse1 l nil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(defun  reverse  (l  acc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(if  (null  l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c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(reverse  (cdr  l)  (cons  (car  l)  acc)))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Flatten I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defun flatten (l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cond ((null l) nil)      ; empty list do noth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(atom (car l))  ; cons an atom onto flattend cd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       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cons (car l) (flatten (cdr l)))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         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; otherwise flatten head &amp; tail and append resul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      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t  (append (flatten (car l)) (flatten (cdr l)))))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Flatten II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;; this version avoids append, which is expensiv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defun flatten (l) (flatten1 l nil)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defun flatten1 (l acc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cond ((null list) acc)  ; all don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(atom  l)           ; stick atom on the front of acc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cons  l acc)) ; of the accumulato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t (flatten1 (car l) (flatten1 (cdr l) acc))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Higher order functi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(defun mapcar (f l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(if (null l)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il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(cons (apply f (list (car l))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(mapcar f (cdr l))))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    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apcar II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42720" y="20574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defun mapcar1 (f l)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if (null l)  nil  (cons (apply f (list (car l)))  (mapcar f (cdr l))))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defun mapcar (f &amp;rest arg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"Apply f to successive cars of all ARGS. Return the list of results."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;; If no list is exhausted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if (not (memq 'nil args)) ; apply function to CAR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cons (apply f (mapcar1 'car args)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mapcar* f  (mapcar1 'cdr args))))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8T20:19:06Z</dcterms:created>
  <dc:creator>Villanova</dc:creator>
  <dc:description/>
  <dc:language>en-US</dc:language>
  <cp:lastModifiedBy>Tim Finin</cp:lastModifiedBy>
  <cp:lastPrinted>2000-11-01T21:37:14Z</cp:lastPrinted>
  <dcterms:modified xsi:type="dcterms:W3CDTF">2000-11-20T23:54:39Z</dcterms:modified>
  <cp:revision>15</cp:revision>
  <dc:subject/>
  <dc:title>Lisp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renoir.vill.edu:80/~dmatusze/8310/index.html</vt:lpwstr>
  </property>
  <property fmtid="{D5CDD505-2E9C-101B-9397-08002B2CF9AE}" pid="9" name="LinkColor">
    <vt:r8>16711782</vt:r8>
  </property>
  <property fmtid="{D5CDD505-2E9C-101B-9397-08002B2CF9AE}" pid="10" name="MailAddress">
    <vt:lpwstr>dave@acm.org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DavesHTML\davesnewweb\8310\lecture_note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