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1281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tthögsko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2878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0DA95F52-41FE-43D9-AE8F-CBE7F1439FD9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52796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B84C1D12-CD2C-41E6-AF82-F89F966AEA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4572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ing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4572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 we have a stream we can pass it as an argument to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format str “Something~%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look at the file at this point, the output may or may not be there.  Some implementations save up output and write it in chu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may not all appear until we close the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close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: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457200" y="31240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just want to read from a file, we open a stream wi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:direction :inp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str (open path :direction :inpu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&lt;Stream C01C86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use any input function on a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read-line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close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-open-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-open-f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ro is often used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s first argument should be a list containing a variable name followed by arguments you might give to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his it takes a body of code, which is evaluated with the variable bound to a stream created by passing the remaining arguments to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ing with-open-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457200" y="3276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wards the stream is automatically cl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with-open-file (str path :direction :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if-exists :superse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ormat str “Something~%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ith-open-f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ro puts the close within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wind-prot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o that the file is guaranteed to get closed, even if an error interrupts the evaluation of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457200" y="3048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ams are Lisp objects representing sources and/or destinations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ad from or write to a file, you open it as a st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ams are not identical with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you read or print at the toplevel, you also use a st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can even create streams that read or write to st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*standard-input* and *standard-output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457200" y="3276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default, input is read from the strea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standard-input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fault  place for outpu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standard-output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lly, they will probably be the same place: a stream representing the top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ad an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457200" y="3581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akes an optional argument, which should be a stream, and defaults to *standard-input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irst argume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an also be a stream, but when i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the output is sent to *standard-output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ath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portable way of specifying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s six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e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mak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y cal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e-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ith one or more of the corresponding keyword arg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ke-path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457200" y="3505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he simplest case, you just specify the name and let the rest of the pathname defau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etf path (make-pathname :name “bw”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P”b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457200" y="32767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asic function for opening a fil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takes a pathname (or string) and a large number of optional keywords arg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successful it returns a stream that points to the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4572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specify how you intend to use a stream when you creat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dir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gument signals whether you are going to write to the stream, read from it, o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hree possible valu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or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457200" y="3505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stream is used for output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f-ex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gument says what to do if the destination file already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it should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:superse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o create a stream on which you can write to the file “bw”, you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str (open path :direction :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f-exists :supersed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&lt;Stream C017E6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/>
  <dc:language>en-US</dc:language>
  <cp:lastModifiedBy>Jon Spragg</cp:lastModifiedBy>
  <cp:revision>0</cp:revision>
  <dc:subject>common lisp</dc:subject>
  <dc:title>Streams</dc:title>
</cp:coreProperties>
</file>