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9374188" cy="5943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bbbbb"/>
                </a:gs>
                <a:gs pos="50000">
                  <a:srgbClr val="ebebeb"/>
                </a:gs>
                <a:gs pos="100000">
                  <a:srgbClr val="bbbbb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"/>
          <p:cNvSpPr/>
          <p:nvPr/>
        </p:nvSpPr>
        <p:spPr>
          <a:xfrm>
            <a:off x="4133880" y="6486480"/>
            <a:ext cx="87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78A3-69A3-48A5-8B62-304DCFD107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57400" y="648648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1A94-3A6E-4CD8-A364-E25545C4D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peed, Troubleshooting and Styl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thögsko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bad-length (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f (null 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+ (bad-length (cdr lst)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cursion call is not a tail call, because after it returns, its value has to be passed to 1+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good-length (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abels ((len  (lst ac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f  (null 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n (cdr lst) (1+ acc)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n lst 0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-length , or rather len, is tail-recursive because nothing more has to happen after the recursive call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of building its return value on the way back up the recursion like bad-length, good-length accumulates the return value on the way down.  Hence the additional parameter acc which is just retur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y is a tail call good?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od compiler can compile a tail call into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o can compile a tail-recursive function into a lo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chine language code, when control arrives for the first time at the segment of instructions represen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re is information on the stack saying what to do upon retu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nothing remains to be done after the recursive call, this information remains valid for the second invocation as well:  what we are supposed to do on returning from the second invocation is simply to return from the first invo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after setting the parameters to their new values, we can just jump back to the beginning of the function and act as if this were the second invoc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re is no need to do a real function c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Inline func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claim (inline single?))  ;;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clare (inline single?))   ;;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single? (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(consp lst) (null (cdr lst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ypes in Common Lisp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 global declarations are made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lai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claim (type fixnum *count*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declarations are made with decl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fun poly (a b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clare (fixnum a b x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+ (* a (expt x 2)) (* b x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eclare that the value of an expression will be of a certain type, by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fun poly (a b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clare (fixnum a b x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fixnum (+ (the fixnum (*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num (expt x 2)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fixnum (* b x))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en do I need to do this?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ays to declare the types of arguments to functions that work for arguments of several types.  If you know for example that a call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always be a particular kind of array, it would pay to make a type decla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ually only worthwhile to make declarations for types near the bottom of the type hierarchy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xn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xample of Fast Cod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; Compute the sum of the squar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; a sequence of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fun square (x) (* 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fun sum-squares (v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clare (type (simple-array fixnum *) v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line square) (optimize speed (safety 0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et ((sum 0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clare (fixnum sum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times (i (length v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clare (fixnum i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f sum (the fixnum (square (svref vect i)))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void Garbage Collec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-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-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-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-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23619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o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e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-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-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ub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ubst-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nter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et-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1814400"/>
            <a:ext cx="807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20080" y="1738440"/>
            <a:ext cx="170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ptimizing Cod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be focused on bottleneck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not begin too early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begin with algo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rouble Shoot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You redefined a variable, but the new value was ign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ing a variable by editing and re-evaluat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v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will not change the variable’s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t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pdate the variable, or chang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v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param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ures require #’(lambda () ... not ‘(lambda ()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is just a list, a closure needs the special form `# to identify it as a function and therefore evaluat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 You deleted/removed something, but it didn’t take effec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(setf numbers ‘(1 2 3 4 5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2 3 4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(remove 4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2 3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2 3 4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(delete 1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 3 4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2 3 4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(setf numbers (delete 1 numbers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remove is a non-destructive function, so it will never alter it arguments.  delete is destructive, but when asked to delete the first element of a list, it returns the rest of the list, and thus does not alter the list itself.  This is true of nconc, sor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! I know its stupid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et and Let*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mon error is leaving off a layer of parenthese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inde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the problem of referring to a variable that has not yet been bound i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void this problem,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a variable’s initial binding refers to a previous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tyl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define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specific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reak up a function that is too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name would be usefu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t is used in several pl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define a special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arameters that are used in many functions spread throughout a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global, persistent, mutable data, such as a data base of f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frequent but deeply nested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bind a lexical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void typing in the same expression tw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void computing the same expression tw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name would be usefu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the indentation manage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Knuth, “most of the running time in non-io-bound programs is concentrated in about 3% of the source cod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identify the bottlene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Lisp implementations come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fil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lso public dom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fil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for Common Li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Don’t Start Optimizing too Earl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development of a program bottlenecks sh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start optimizing too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en you do start optimiz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at the top with the algorith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algorithms and data structures demolish bottlenecks not coding tri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ompila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parameters control the way your code is compi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ilation-sp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speed at which your program will be compil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amount of error-checking done in the object co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size and memory needs of the object cod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bu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amount of information retained for debug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ation parameters are not real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assigned weights from 0 (unimportant) to 3 (most important) in decla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some-function ( ..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o ( ..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clare (optimize (speed 3) (safety 0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claim (optimize (speed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mpilation-speed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afety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bug 0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ail Calls (tail recursion)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articular important kind of optimization done by CL compilers is the optimization of tail c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ll is 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ail ca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hing remains to be done after it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8T07:19:04Z</dcterms:created>
  <dc:creator>Jon Spragg</dc:creator>
  <dc:description/>
  <cp:keywords>style trouble shooting speed</cp:keywords>
  <dc:language>en-US</dc:language>
  <cp:lastModifiedBy>Tim Finin</cp:lastModifiedBy>
  <dcterms:modified xsi:type="dcterms:W3CDTF">2000-11-27T05:15:46Z</dcterms:modified>
  <cp:revision>60</cp:revision>
  <dc:subject>common lisp</dc:subject>
  <dc:title>Speed, Troubleshooting and Style</dc:title>
</cp:coreProperties>
</file>