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BF2EF9-7B37-4022-B137-5EC4C45DC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slot has both an initarg and an initform, the initarg takes precedence when it is spec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228600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Object Oriented Programming in Common Li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1828800"/>
            <a:ext cx="796932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eclaring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 also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 which initialize themsel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hape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colour :accessor shape-colour :initarg :colo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sible :accessor shape-visible :initarg :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hape-visible (make-instance ’shap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7680" y="2147760"/>
            <a:ext cx="811224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inherited by instances and super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lass has more than one superclass, it inher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of their slots.  So if we define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a subclass of bo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creen-circle (circle sha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instance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have four slots,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 from each super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93640" y="1952640"/>
            <a:ext cx="7913520" cy="35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ar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k for instance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as they would for instances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hape-colour (make-instance ’screen-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olour ’red :radius 3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:allocation keyword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22240" y="1660680"/>
            <a:ext cx="72342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we can specify that so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between all instances of the class.  We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by declaring the slot to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ow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nocturnal 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wl-nocturnal  ;; Note: not :a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form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allocation :class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hange the ”local” value of this slot in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, we are actually altering the value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lass.  We therefore usually make such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only.  We give the slot a reader func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03480" y="1814400"/>
            <a:ext cx="67690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the functional units are called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 methods so that each seem to be a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ome class.  An area method for the circl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b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area ((c circl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 pi (expt (circle-radius c) 2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area (make-instance ’circle :radius 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343400" y="4191120"/>
            <a:ext cx="838080" cy="2286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4240" y="3780000"/>
            <a:ext cx="974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69960" y="2560680"/>
            <a:ext cx="798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also define methods that take add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move ((c circle)  dx 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f (car (circle-center c)) d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f (cdr (circle-center c)) 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ircle-center c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24280" y="342900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18280" y="3017880"/>
            <a:ext cx="974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3505320"/>
            <a:ext cx="1219320" cy="53316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705720" y="358128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265880" y="3170160"/>
            <a:ext cx="18763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bject Prece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3640" y="1523880"/>
            <a:ext cx="801684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lass has multiple superclasses,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ence runs left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coundrel nil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patriot nil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patriotic-scoundrel (scoundrel patriot)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we have a method for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elf-or-country? ((s scoundre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elf-or-country? ((p patrio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hod for scoundrel class will be invok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elf-or-country? (make-instance ’patriotic-scoundre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706400"/>
            <a:ext cx="6688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CLOS method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one parameter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peciali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combine ((ic ice-cream) (top t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optional (where :here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pend (list (name ic) ’ice-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’with (name top) ’t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’in ’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se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:here ’gl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:to-go ’styrofoa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h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p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1360" y="1798560"/>
            <a:ext cx="8491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methods specialise more than one of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ifficult to continue to reg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m as properties of cla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In CLOS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bjects responding to messages evapo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we talk abou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at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. 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 methods can specialise any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parameters -- including Common Lisp typ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gene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methods are built upon the notion of dispatch, they become independent of individual class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ead of adhering conceptually to classes, methods now adhere to other methods with the sam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LOS such a collection of methods is called a generic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define generic functions explicitly with the defgeneric mac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isation 19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 was designed as a superset of Common Lisp (ANSI X3J13 Committe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sign of CLOS was heavily influenced by the languages New Flavors and CommonLo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for CLOS was published in late 1988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Before, After and Arou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50840" y="1736640"/>
            <a:ext cx="6642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 supports before-, after-, and around-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methods are defined by putting a quali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after the method name in the cal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++Programmer nil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((s c++Programmer)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~A” strin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480" y="1843200"/>
            <a:ext cx="90280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open-minded-C++Programmer (C++Progr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before ((o open-minded-C++Programm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Perhaps 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after ((o open-minded-C++Progr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 in some sense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22240" y="1557360"/>
            <a:ext cx="722484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open-minded-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haps this CLOS is not like C++  in som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before ((c c++Programmer)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I think ”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open-minded-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haps I think this CLOS is not like C++ in som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7680" y="1843200"/>
            <a:ext cx="80485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manager (c++programmer) 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around ((m manager) 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Does the customer believe that ~A ” 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q (read) ’y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(next-method-p) (call-next-method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Indeed, it won’t work.~%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2760" y="1919160"/>
            <a:ext cx="892476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manager) ”the program will work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customer believe that the program will work?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the program wil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manager) ”C++ is good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customer believe that C++ is good?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ed, it won’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, OOP and Li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an excellent example of an embedded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bedded languages can be conceptually well integrated with their environment, so that within the embedded language we can continue to think of programs in much the sam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bedded languages can be powerful, because they take advantage of all the things that the basic language knows how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well integrated with Lisp, and makes good use of the abstractions that Lisp has alre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s CLOS Object-Orien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is some argument whether CLOS is really object-oriented at 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 OOL because it provides all three of the main criteria for OO:  object with internal state, classes of objects with specialised behaviour for each class, and inheritance between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 OO system because it does not provide modular objects with encaps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was designed as a standard language extension that includes the most useful aspects of existing object-oriented paradig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LOS programmer interface should be powerful and flexible enough for developing most applicati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tself should be designed as an extensible protocol, to allow for customisation of its behaviour and to encourage further research in object-oriented programming (The Meta Object Protoco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7772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’s Support for the Objec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1976400"/>
            <a:ext cx="68054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est Textbook on 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nya E. Kee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in Common Lisp, A Programmer’s Guide to C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  Addison-Wesley Publishing Company, 1989, ISBN  0-201-17589-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1752480"/>
            <a:ext cx="81662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, we us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cro to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,  and we declare the slots in a list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ius center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de says that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has no supercla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w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tributes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ke-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2080" y="1812960"/>
            <a:ext cx="6184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instance of the circl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vok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-in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ke-instance ’cir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tunately, we need to redefine our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llow access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We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radius :accessor circle-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enter :accessor circle-center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ccesso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74880" y="1965240"/>
            <a:ext cx="8016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f we make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etf (circle-radius (make-instance ’circle))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bit of a pain, so in our defini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er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a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radius :accessor circle-radius :initarg :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enter :accessor circle-center :initarg :center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Keyword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9960" y="1919160"/>
            <a:ext cx="783756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a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yword in a slot definition says th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argument should become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in make-instance.  The valu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parameter will become the initi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sl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circle-radius (make-instance ’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adiu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enter ’(0 . 0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>object oriented analysis and design</dc:description>
  <dc:language>en-US</dc:language>
  <cp:lastModifiedBy>Jon Spragg</cp:lastModifiedBy>
  <cp:revision>0</cp:revision>
  <dc:subject>object oriented programming</dc:subject>
  <dc:title>Object Oriented Programming Languages</dc:title>
</cp:coreProperties>
</file>