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D34-D5B5-4858-83E9-30745378383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7:15Z</dcterms:modified>
  <cp:revision>116</cp:revision>
  <dc:subject/>
  <dc:title>Common Lisp</dc:title>
</cp:coreProperties>
</file>