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C75-1D36-4499-89DC-8C5ED940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87E-A166-4513-8FD1-5F12B146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D71-183F-4947-86DD-911693D2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0EC-5716-4022-8A28-749B0B00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A51D-0A94-488A-B09C-2D5DBBDA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D7FD-EA64-475C-AAE0-6B7B3D7E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887E-6D24-4031-B433-65FE7758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3650-3832-4C71-9ED1-6CE69AD5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A316-F4E6-4787-A810-919697C9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7410-3497-4524-9648-32112900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76BF-6527-467E-92D2-F31D83C9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F10-4B36-431C-BAEA-BED4426E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ECEF-B774-4992-B8FE-643F6A39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AE24-F0EA-4C7C-9A9E-1692D31B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590F-5EBD-493E-916A-B6E07260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BA45-0692-4A5F-B176-6287097E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7783-196D-4CBA-AC26-30079320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90C-1C86-4672-86BB-8C237F2D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EDA-5407-44E2-8F64-307B56B8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3C1-DECE-407B-9F20-8FFF81D3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A44-6C1E-4B85-8A9C-636C9526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3DC-E3AE-4D6E-814E-7DD515FB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20C-0D8C-45D5-8DB8-A9B6F67F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E09-4F65-43C2-86A8-DCC4BBF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7FB3-E4BB-41EE-A174-6F30973BC7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28A8-6E89-4DD5-B8AC-829031E42C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Harlequin LispWor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pairing a Fun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nge the function in the Editor window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89548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defun lookup (a pai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null pairs)  ni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eq a (car (car pairs)))  (car (cdr (car pairs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t  (lookup a (cdr pairs)))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53341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n compile it and try it ag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re Built-In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AR (CAR X))  --&gt;  (CAAR X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AR (CDR X))  --&gt;  (CADR X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809880"/>
            <a:ext cx="8610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lookup (a pair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o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(null pairs)  ni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(eq a (caar pairs))  (cadar pairs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t  (lookup a (cdr pairs))) )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LispWor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 BURKS 5, the file is 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wper410.ex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 up LispWorks; you get two windo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istener 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ispWorks Personal Ed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ispWorks Personal Edi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, 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ools -&gt; 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o open a third window (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ditor 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Window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the Listener 1 window to evaluate Lisp expressions direct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L-USER 1 &gt; (car '(a b c)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oesn't matter in LispWor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Editor 1 window, use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ex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b, and use this window to define fun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dit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dit as usual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know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ma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you can 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ma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mands in this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don’t know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ma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you are not missing anything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av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ave As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ork as usu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i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uffers -&gt; Compi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o compile your functions into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e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times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uffers -&gt; Compi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mand is on a menu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pWorks Personal Edi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so, visit the Editor window before using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 functions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e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ading Previously Saved Fi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ile -&gt; Compile and Load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 use the Lisp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OA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unction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load "C:\\Lisp\\myprog.lsp"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ving a Transcrip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need to save and print a transcript of the tests of your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stener window doesn’t have any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av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ma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yboard editing shortcuts don’t 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lect A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p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enu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Searching an AV L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048120"/>
            <a:ext cx="84582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defun lookup (a pai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null pairs)  ni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eq a (car (car pairs)))  (cdr (car pairs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t  (lookup a (cdr pairs)))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Editor window, 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i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, click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uffers -&gt; Comp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says "Press Space to continue", so do s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y the function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e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L-USER 20 : 2 &gt; (lookup 'b '((a x)(b y)(c z))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’s wrong-- we should ge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Y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(Y);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go back to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 to fix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20:36:21Z</dcterms:created>
  <dc:creator>Villanova</dc:creator>
  <dc:description/>
  <dc:language>en-US</dc:language>
  <cp:lastModifiedBy>Villanova</cp:lastModifiedBy>
  <dcterms:modified xsi:type="dcterms:W3CDTF">2000-11-06T23:09:29Z</dcterms:modified>
  <cp:revision>10</cp:revision>
  <dc:subject/>
  <dc:title>Using LispWo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renoir.vill.edu:80/~dmatusze/8310/index.html</vt:lpwstr>
  </property>
  <property fmtid="{D5CDD505-2E9C-101B-9397-08002B2CF9AE}" pid="9" name="LinkColor">
    <vt:r8>16711782</vt:r8>
  </property>
  <property fmtid="{D5CDD505-2E9C-101B-9397-08002B2CF9AE}" pid="10" name="MailAddress">
    <vt:lpwstr>dave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avesHTML\davesnewweb\8310\lecture_not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