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162-D6AC-4500-A088-28E472A4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019-5291-4308-80D9-CFAAB71A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4B2-3DE3-4607-8A7E-DB78B723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A2C-84E8-4A02-9B67-6CB7A6C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B1A-5996-42C8-8FC0-6C807B9C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242-73C2-4412-9C49-2CD45262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477-349F-425F-9DA0-12E15B67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1AC-7376-4790-83AB-1219F5E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177-045F-4047-B810-4ED3228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4E8-04EF-4421-80A1-E3A08BF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A80-06DD-43D8-A908-6194874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EAF-0CFA-4A06-8B88-8E56F0C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5F14-FFBE-4440-A9DB-E797C6D0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hat are we going to talk about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s in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rview of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panying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4 from Seb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ight find a Scheme reference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recomme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cheme Programming Language, 2nd e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y R. Kent Dybv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 online for free! http://www.scheme.com/tspl2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Scheme environment to use at h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Scheme 5.0 (Free 14-day eval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schemers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Scheme (Free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cs.rice.edu/CS/PLT/packages/drschem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tack is not a type, it is not possible to create an object of type Stack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 *pStack = new Stack;  // not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reate Stack objects, you must first fill in the type parameters.  For example, to create a Stack of Song object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Bruce Springsteen”, “Thunder Road”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so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o create a Stack of integ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int&gt; int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Stack.push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can be checked staticall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i = 3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ong&gt; song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ongStack.push(i);  // compile-time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our GenericStack solution, instantiations of the Stack template can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articular instantiation of a Stack template can only hold elements of exactly one type, which is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creating a Stack which holds pointers to some base class will allow the Stack to hold objects of any of its sub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uses of a Stack instantiation will be statically type che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downside: Each Stack instantiation causes separate code to be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rty different Stack instantiations are used in a program, it is as though thirty separate type classes were written and compi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mall price to pay for type saf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yntactic problem with template insta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” and “&gt;&gt;” are both operators in C++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f (a &gt; 3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in &gt;&gt;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for template instantiations can themselves be template instanti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re is a minor syntactic problem to deal with when a type parameter is a template instanti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&gt; stack;   // error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Stack&lt;Stack&lt;int&gt; &gt; stack;  //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ther minor template shortcom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late is generally written entirely in a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eader file is included in any source file in which the template is instant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code is not generally compiled until it is instantiated.  For a given instantiation, only the methods which are called are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 that a compile-time error may exist in a program for a long time before it is ever discov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practical problem: Error messages returned by compilers related to templates are often very difficult to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Constraints on typ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440" y="190476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parameters are implicitly constr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templat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reStraits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T&amp; brothersInArms() { // ... }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output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cout &lt;&lt; brothersInArms().foo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output() method calls a method foo() on a T, T must have a method called foo() which takes no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olation of this constraint will result in a compile-time error, but only 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DireStraits instantiation whose type parameter does not have a foo() method defined which takes no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instantiation has its output() method called at leas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533520"/>
            <a:ext cx="58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nd now for something completely differen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ative languages are based on von Neumann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languages are influenced by mathemat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mapping between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main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ang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unction 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a domain, a range, and a mapping rule which maps domain elements to range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 element of the domai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iel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tur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 element of th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s and recursion control the evaluation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n) = / 1, if n =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\ n * f(n - 1), if n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may not have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5829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operties of functional programming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3047760"/>
            <a:ext cx="5829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functional languag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assignmen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no repetition other than 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has only functions with no sid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mputation in a functional language is done by applying functions to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1371600"/>
            <a:ext cx="5829120" cy="67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a LISP dialect, designed in the mid-1970’s at 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is statically scoped, unlike early versions of L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 supports functional programming, but also supports imperative programming and, to an extent, object-oriented and log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e has variables, assignment, and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LISP, Scheme is garbage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in Scheme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-class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aning that the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the values of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lements of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ssigned to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passed a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chem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, the Scheme environment is interactive and interpr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Scheme implementations allow compilation to nativ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me interpreter is implemented as an infinite read-evaluate-print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types an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ression is interpr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ing value is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+ 10 1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where ‘(the streets have no name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where the streets have no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Scheme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symbol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a  Alex  ics_141  U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 number...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2  99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or a str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“Good morning”   “Oingo Boing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rdered series of atoms and lists, enclosed by parens and separated by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example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   (a (b c) ((d e) f) g) 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redefined Boolean con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   #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943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stack of integers in C+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080" y="1980720"/>
            <a:ext cx="58863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you wanted to write a class in C++ which implements a stack of inte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define the following class:</a:t>
            </a:r>
            <a:br>
              <a:rPr sz="2400"/>
            </a:b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Integ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eg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Integ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int i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imagine what the implementations for these methods might look li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evaluated in the following fash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must evaluate to a procedure (e.g. it can be the name of a proced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eding elements are considered to be arguments to the procedure.  These arguments are evaluated (in no particular order) and their results are used as arg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e-defined procedure “+”, which returns the sum of all of its arguments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5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+ 3 (+ 3 5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and strings evaluate to themselv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8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“Smells Like Teen Spirit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mells Like Teen Spiri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expression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080" y="2742840"/>
            <a:ext cx="5810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evaluate to a value to which they have been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are bound to values either through assignment or as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is first bound using “defi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subsequently be assigned using “set!”: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define x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set! x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text on a line following a ; character is considered a comment and is ignored by the interpr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voiding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valuating an expression, the pre-defined procedure “quote”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ote” simply returns its argument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quote 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seful shorthand for the “quote” procedure is the apostrophe notation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‘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Manipulat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440" y="16002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is built out of two components: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oper list, the car is the first element in the list, and the cdr is a list of the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itive functions “car” and “cdr” return the two components of a list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a 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ar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may not be empty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 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ERROR: argument is not a li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cdr ‘(a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uilding 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cons” takes two parameters and builds a list out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argument becomes the car, and the second becomes the cdr</a:t>
            </a:r>
            <a:br>
              <a:rPr sz="20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(b c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b c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(a b) ‘(c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(a b) c 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(cons ‘a ‘b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 .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-defined procedure “list” constructs a list from multiple parameter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of ‘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of gold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&gt; (list ‘fields ‘(of gol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(fields (of gol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Predic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7340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ocedure which returns either true (#t) or false (#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e-defined predicates ex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?” returns #t if the arg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?” returns #t if the arg is an empt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?” returns #t if the arg is an eve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?” returns #t if the arg is an odd number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ist?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null? ‘((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ven? 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zero?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esting for eq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?” returns #t if its two arguments are atom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?” is not reliable when given two lists or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 returns #t if its two arguments are numbers and ar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?” returns #t if its two arguments are atoms and are the same, or are lists and are structurally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?”is not reliable when given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a ‘a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? ‘(a b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[IMPLEMENTATION-DEPENDENT RESULT]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equal? ‘(a b (c) d) ‘(a b (c) d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= 3.1 (+ 1 2.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#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Writing a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152388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s written a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ambda expression is a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lement is the atom “lamb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element is a list of form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ird element is an expression which is the procedure body</a:t>
            </a:r>
            <a:br>
              <a:rPr sz="2000"/>
            </a:b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lambda (l) (car (cdr l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mbda expression evaluates to a procedure.  It can be evaluated direct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(lambda (l) (car (cdr l)))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r assigned to a variable and called separately..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define cadr (lambda (l) (car (cdr l)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gt; (cadr ‘(a b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if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way selection is performed using the “if” expression.  An “if” expression takes thre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edicat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then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“else expres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t, the “then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redicate expression returns #f, the “else expression” is evaluated and becomes the return value of the “if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if (odd? 4) (+ 3 5) (- 7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“cond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61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election is performed using the “cond” expression.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1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2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predicate_n expression {expressions}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(else expression {expressions}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dicates are evaluated in order from the first until one evaluates to #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of them evaluates to #t, the expressions which follow it are evaluated in order, and the result of the last one becomes the result of the “cond”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Now I want a stack of character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080" y="2133360"/>
            <a:ext cx="5810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w imagine that you wanted a stack of charact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ould be easy to convert the code you had to the following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Character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acter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Character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char c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char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ranslations could be applied to the implementation of each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“cond”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582912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n example of a procedure which recursively calculates th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number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(define fi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(lambda (n)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co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0) 0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(= n 1) 1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(+ (fib (- n 1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(fib (- n 2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790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Local variables: The “let” ex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40" y="2209680"/>
            <a:ext cx="58291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creates a local scope and binds variables to values for use within that scope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 (y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+ x y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” expressions may be nested.  If nested “let” expressions define the same variable, the inner binding is the only one visible in the inner “let”: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&gt; (let ((x 2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(let ((x 3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(+ x x))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let” expression is useful for defining local variables within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Bringing it all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3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write a predicate procedure “member?” which returns #t if a given atom is in a given simple list, and #f if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8291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translation would allow you to create separate stack classes to hold elements of any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kind of translation is time-consuming and error-p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your stack classes have a great amount of similarity in terms of both interface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e an array implementation with a hard-coded siz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have essentially the same interface (except for the element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implementations are independent of the elem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you need is a way to factor out these similarities and put them into on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5829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One way to address the main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following class instead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GenericStack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elements[MAX_ELEMENTS]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nericStack(): topElement(0) {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~GenericStack(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ush(void* pv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* 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void p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bool isEmpty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ementations of these methods could be written in the same fashion as those of IntegerStack and Character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Using our GenericStack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icStack class can be used to hold any type of data.  For example, pointers to Song objects can be held like this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 = new Song(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“Sublime”, “Santeria”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pSong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// ..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ng *pSong2 = (Song *) stack.top(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can be held in the following way:</a:t>
            </a:r>
            <a:br>
              <a:rPr sz="24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 = 3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icStack stack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.push( (void *) i)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t &lt;&lt; ( (int) stack.top())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Evaluation of this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side: GenericStack can hold elements of any type, since a void* can point to any typ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now reuse GenericStack any time we need 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side: The programmer is responsible f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knowing what type of data a GenericStack contains, and casting the return value of top()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ensuring that a particular instance of GenericStack contains only data of one particular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llary to downside: Any type error made by the programmer will not be caught by the compi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A better solution: Parameterize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742840"/>
            <a:ext cx="5829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we could reuse our Stack class without losing the “safety net” of static type check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ameterized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us to do just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ameteriz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itself a ty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stanti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with type parameters, a parameterized type can be used to generate a (potentially infinite) set of types with similar characteris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supports parameterized types with a construct calle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Impact"/>
              </a:rPr>
              <a:t>The Stack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a template-based Stack class in C++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Sta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 topElemen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elements[MAX_ELEMENTS]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Stack(): topElement(-1) {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~Stack() {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ush(T t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topElement == MAX_ELEMENTS - 1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ements[++topElement] = 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 t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 T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return elements[topElement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void pop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isEmpty()) retur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topElement--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bool isEmpty() { return topElement == -1; 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0:04:00Z</dcterms:created>
  <dc:creator>Alex Thornton</dc:creator>
  <dc:description/>
  <dc:language>en-US</dc:language>
  <cp:lastModifiedBy>tim finin</cp:lastModifiedBy>
  <cp:lastPrinted>2000-07-05T09:11:44Z</cp:lastPrinted>
  <dcterms:modified xsi:type="dcterms:W3CDTF">2002-11-07T22:57:13Z</dcterms:modified>
  <cp:revision>270</cp:revision>
  <dc:subject/>
  <dc:title>What are we going to talk about today?</dc:title>
</cp:coreProperties>
</file>