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E5E-CF00-41A5-9EEF-19202731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DFC-FFF6-4BAF-8FD0-6983C579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B5E-566E-4AC5-A4CD-2C2C5D57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6A0F-8D07-4759-84E8-B3CEF064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C32-601D-44A9-9970-9CEA2433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9A8-48D4-4D09-8577-8DD75B24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8107-DB91-4625-B821-F22216B0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F27-8ADF-4192-B4B0-CE3A92AD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49B-FD85-4CB0-9629-8EB4BC54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86B-D63D-4DA7-A357-A9E0B45A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5F0-44E3-4E5C-8425-B2CA79A1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80C5-2160-4882-8BD7-8FA50EFC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A73B-A1B9-45E0-808B-82BAA839B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Some more pre-defined Scheme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”, “or” do what you might expect, performing a short-circuited Boolean AND and OR operation on multiple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value besides #f is considered “true”.</a:t>
            </a:r>
            <a:br>
              <a:rPr sz="20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or (null? l) (eq? (car l) “Alex”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and (even? 4) (odd? 3) (zero? 1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?” returns #t if the given argument is a symbol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symbol?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symbol? 8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symbol? ‘(a b c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ype checking in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62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e is dynamically ty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acquire the type of the values assigned to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 parameters acquire the type of actu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this, all type checking in Scheme must be done dynam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type errors become run-time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define cad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lambda (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car (cdr l)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adr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ERROR: cdr ‘a   cdr expects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Procedures as first-class o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at procedures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rst-class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eaning that they can b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the values of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elements of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assigned to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passed as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llows Scheme code to be written very flexibly and very gene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By passing a procedure as a parameter, a very simple procedure can be written which applies any procedure to every element in a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58291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1828800"/>
            <a:ext cx="5829120" cy="62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an example of a procedure as a first-class object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define square (lambda (x) (* x x))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define apply-to-al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(lambda (l 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co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(null? l) ‘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else (c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(p (car l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(apply-to-all (cdr l) p)))))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apply-to-all ‘(1 2 3 4 5 6) squar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1 4 9 16 25 36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apply-to-all ‘((1 2 3) (4 5 6)) revers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(3 2 1) (6 5 4)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procedure can be used for many radically-different purpo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58291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Simplicity vs. saf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590560"/>
            <a:ext cx="5829120" cy="55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ntax for writing a procedure which takes another procedure as a parameter is strikingly si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iggest reason is that there are no type decla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implicity is not without cost; all errors made will be run-time errors, since no static type checking can be done.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apply-to-all ‘(1 2 3) cons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RROR: cons expects 2 arguments, give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nother example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sion of apply-to-all we just saw treats the list as a flat list.  What if we wanted a version which handled sublists recursiv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582912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“eval”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080" y="1752120"/>
            <a:ext cx="588636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at the “quote” procedure allows evaluation of an expression to be avo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s and data have the same structure in Scheme; they’re both lis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eval” procedure forces evaluation of the contents of a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example: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eval (cons ‘+ ‘(1 2 3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the following shorthand syntax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(cons ‘+ ‘(1 2 3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not legal.  Think of the rules regarding evaluation of l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irst element must evaluate to a proced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irst element in this list is (+ 1 2 3), which is a list, not a proced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Procedures which build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eval” procedure allows you to write procedures which build and evaluate procedure c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following problem.  You have a parameter “L” in a procedure which is a list of integers, and you’d like to get the sum of the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’t just say (+ L), because “+” takes numbers as arguments, not l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blem!  Build yourself a procedure which will build a call to “+” using the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 build a procedure call by constructing a list and then evaluating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“adder”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a procedure called “adder” which does exactly that: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efine ad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lambda (L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(co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(null? L) 0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else (eval (cons ‘+ L))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out a procedure which generically builds a call to any procedure in the same fash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10:07:16Z</dcterms:created>
  <dc:creator>Alex Thornton</dc:creator>
  <dc:description/>
  <dc:language>en-US</dc:language>
  <cp:lastModifiedBy>tim finin</cp:lastModifiedBy>
  <dcterms:modified xsi:type="dcterms:W3CDTF">2002-11-07T22:59:01Z</dcterms:modified>
  <cp:revision>45</cp:revision>
  <dc:subject/>
  <dc:title>No Slide Title</dc:title>
</cp:coreProperties>
</file>