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2EDB-E45B-46DC-BCFA-09224329A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24C8-93BB-4323-A2C6-BE5CCE07A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D8E5-43FF-4650-A023-5BB675C33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1A46-1411-4FBB-9F3D-61C061ACD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CA12-1FC1-46D0-8791-1065A3472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F717-4E1F-493D-A06A-AAFAD354E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560B-E00A-4E44-973E-6EFBF3FC0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C897-0197-40CE-B4F5-96365D1B8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F6DA-5A71-4D73-A12B-31C90D8CF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7E9F-5187-466C-9BBB-5CBBDC1C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E98A-2747-428E-9036-F2BD0E3F5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98FC-B9BA-4B58-A824-0F469A80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E9E45-3EA3-49F9-81BD-CBAA65769D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-swiss.ai.mit.edu/~jaffer/r5rs_toc.html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’s Sche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Quick Introduction to Programming in Sch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apply + '(1 2 3 4)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apply append '((1 2 3) (a b c))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 expects the value of its first argument to be a function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general map takes an n-ary function and n lists. It applies the function to the n first elements of the lists, then to the n second elements of the list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, etc. and returns a list of the resul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map + '(1 2 3) '(1 2 3) '(1 2 3))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=&gt;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3 6 9)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+ treated as a ternary(n=3) function her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map car '((a b) (d e) (g h))) ==&gt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a d g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car is unary (n=1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of map and app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map-append" takes two arguments, a function fn, and a list, and maps that function over the list _appending_ together all of the results. (fn must take one argument and return a lis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in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</a:rPr>
              <a:t>map-appe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fn the-list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pply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append (map fn the-list))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map-append cdr '((1 2 3) (1 2 3) (1 2 3))) =&gt; (2 3 2 3 2 3)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ereas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map cdr '((1 2 3) (1 2 3) (1 2 3))) =&gt; ((2 3) (2 3) (2 3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named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mbda (x) (+ x 2)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4) =&gt;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map 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</a:rPr>
              <a:t>(lambda (x) (+ x x)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'(1 2 3 4 5))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=&gt;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2 4 6 8 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lambda expressions make it possible to create new functions at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run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762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nding constru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212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 vari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let (bindings) form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let* (bindings) form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letrec (bindings) form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s :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((name init-form)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ds each name to its init-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: bindings order unspecif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*: bindings done left to r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rec: binds all names to undefined, evals each init form, mutates bindings as 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s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76560" y="2276640"/>
            <a:ext cx="6124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((x 2) (y 3)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((x 7) (z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x y))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z x))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=&gt; 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((x 2) (y 3)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et*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((x 7) (z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x y))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z x))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=&gt; 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27320" y="2057400"/>
            <a:ext cx="719100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((x 5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etr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(fac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mbd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(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(= n 0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* n (fact (- n 1)))))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fact x)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es the evaluation of this form retur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=&gt; 1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qua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eqv? obj1 obj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s #t if objects share storage, else #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equal? obj1 obj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s #t if objects display the sa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eq? obj1 obj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ke eqv? but stric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762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list oper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null? obj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s #t if obj is the empty 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list? obj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s #t if obj is a 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ll is a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 is a list, then (cons x a) is also a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bership te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memq obj list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uses eq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memv obj list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: uses eqv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member obj list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uses equa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tation of li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set-car! list obj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tates the car of list to ob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set-cdr! list obj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tates the cdr of list to ob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Schem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cally scoped dialect of Lis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r and simple semantic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class proced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mbda express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tent types (weakly or dynamically type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ations have first class stat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fix no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erative, functional, and message passing styles find convenient expression in sche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aluation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either a list or an ato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 list is evaluated to be eithe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special for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on or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nction applic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ecial for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on is defined to be a list whose first element is a special form operator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valuation of the expression depends on the particular special form operato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evaluated b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rst evaluating the 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the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ying the value of the first ele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the values of the rest of the elements of the lis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valuates to the most recent value that has been assigned to that symbol (via "set!" for example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nsymbol at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valuates to itself. These include numbers and strings, and other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35760" y="36360"/>
            <a:ext cx="74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cop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special about Sche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48280" indent="-5482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ilt in support for lis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-5482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utomatic Storage Managemen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-5482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typ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-5482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rst-class Function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new functions at run time. Create unnamed 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-5482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iform Syntax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 complex precedence rules and other structu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-5482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active Environmen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-5482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tensibility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cause of the uniform syntax and other features it is easy to define your own language on top of Schem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835760" y="36360"/>
            <a:ext cx="74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cop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Sche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212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un the MIT Scheme interpreter on borg, type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~eem/software/scheme/bin/sch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your Scheme function definitions 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le.sc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current directory (if you use emacs, you get some nifty featur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cheme, type: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load “file.scm”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cheme, type Scheme express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st t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n Scheme from within emac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SC-x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SC-x she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plits your window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s you a shell within emacs in one window, in which you can run Schem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it file.scm in the other window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ult the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Scheme Reference Manu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it the Scheme links from  the course web p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(straight) list in Sche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51080" y="1946160"/>
            <a:ext cx="433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efine lst1 `(a b c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lst1 is represented as foll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301840" y="437832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759040" y="437832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64160" y="437832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206960" y="437832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35760" y="437832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492960" y="437832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63960" y="468324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92760" y="468324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30440" y="468324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19720" y="4800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264360" y="4683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79240" y="52164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6888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113160" y="52164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6492960" y="437832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00200" y="4648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22600" y="438480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s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pair in Sche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352880" y="1946160"/>
            <a:ext cx="406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efine pair1 `(a . b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ir1  is represented as foll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4160" y="3013200"/>
            <a:ext cx="457200" cy="48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21360" y="3013200"/>
            <a:ext cx="457200" cy="48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92760" y="3317760"/>
            <a:ext cx="1440" cy="4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741560" y="37749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8328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62520" y="3235320"/>
            <a:ext cx="6858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84920" y="30132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i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4120" y="3359160"/>
            <a:ext cx="1440" cy="48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mutable operations to lists: implementation of que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2286000" y="2895480"/>
            <a:ext cx="8380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2743200" y="289548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743200" y="434340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00400" y="434340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05520" y="434340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48320" y="434340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77120" y="434340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34320" y="434340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3200400"/>
            <a:ext cx="3049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8120" y="3200400"/>
            <a:ext cx="36576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05320" y="464832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34120" y="4648320"/>
            <a:ext cx="12189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71800" y="4648320"/>
            <a:ext cx="14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76920" y="4648320"/>
            <a:ext cx="14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05720" y="4648320"/>
            <a:ext cx="14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3124080"/>
            <a:ext cx="6094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52280" y="28605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20600" y="51814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10240" y="5146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554520" y="51814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2120" y="1295280"/>
            <a:ext cx="7924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with an empty queue, add a, b, and c to the 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is sequence, using the code in question B1 of ass.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sulting linked structure, containing four cells, looks as foll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6934320" y="43434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52400" y="5670720"/>
            <a:ext cx="819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that in Schem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t-car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t-cdr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o not introduce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s, but just rewire their arguments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troduces a new c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me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2 2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2 3 4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2 2)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3 3)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in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x 2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st Proces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quot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(Pat Kim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ppe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'(Pat Kim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'(Robin Sandy)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ppe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'(Pat Kim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'(John Q Public)  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'Sandy)))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in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in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t!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p '(John Q Public)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t!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x 10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x (length p)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p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'Mr p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define town ‘Halifa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p 'of town 'may 'have 'already 'won!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in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</a:rPr>
              <a:t>get-first-name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name-lis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ull?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name-lis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'(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first-name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irs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name-list)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</a:rPr>
              <a:t>get-first-name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s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name-list)))))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s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475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in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</a:rPr>
              <a:t>first-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nam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5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first name)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5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in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n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5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t!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nam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5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'( (John Q Public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5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Malcolm X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5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Admiral Grace Murray Hopper)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(Spot) (Aristotle) (A A Miln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5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Z Z Top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5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Sir Larry Olivier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5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Miss Scarlet)))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5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get-first-names names) =&gt; 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5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5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5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835760" y="36360"/>
            <a:ext cx="74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cop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s As First-class Ob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in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</a:rPr>
              <a:t>map-name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cc99"/>
                </a:solidFill>
                <a:latin typeface="Courier New"/>
              </a:rPr>
              <a:t>fnc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name-list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ull?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name-list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'(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0" lang="en-US" sz="2400" spc="-1" strike="noStrike">
                <a:solidFill>
                  <a:srgbClr val="00cc99"/>
                </a:solidFill>
                <a:latin typeface="Courier New"/>
              </a:rPr>
              <a:t>fnc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(first name-list))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(map-names </a:t>
            </a:r>
            <a:r>
              <a:rPr b="0" lang="en-US" sz="2400" spc="-1" strike="noStrike">
                <a:solidFill>
                  <a:srgbClr val="00cc99"/>
                </a:solidFill>
                <a:latin typeface="Courier New"/>
              </a:rPr>
              <a:t>fnc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(rest name-list)))))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map-names first-name names)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=&gt;  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riables and Val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value of a variable can 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ymbol   ‘Joh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ist   ‘(a b 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unctio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of the above can be returned by a fun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7T12:42:33Z</dcterms:created>
  <dc:creator>Evangelos E. Milios</dc:creator>
  <dc:description/>
  <dc:language>en-US</dc:language>
  <cp:lastModifiedBy>tim finin</cp:lastModifiedBy>
  <dcterms:modified xsi:type="dcterms:W3CDTF">2002-11-07T23:20:58Z</dcterms:modified>
  <cp:revision>86</cp:revision>
  <dc:subject/>
  <dc:title>Let’s Scheme</dc:title>
</cp:coreProperties>
</file>