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9283700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5400" y="304920"/>
            <a:ext cx="7153200" cy="63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280" y="6607080"/>
            <a:ext cx="982800" cy="1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MBC CMSC 33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5840" y="6545160"/>
            <a:ext cx="1128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EFC7-BDF4-46E0-AF70-98AF8B35CEA6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-2174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Common </a:t>
            </a:r>
            <a:br>
              <a:rPr sz="12900"/>
            </a:b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Lisp</a:t>
            </a:r>
            <a:br>
              <a:rPr sz="12900"/>
            </a:b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1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tf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09160" indent="-2091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create global variables implicitly just by assigning them valu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setf   x   (list  ‘a  ‘b  ‘c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B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 it is better lisp style  to use defparameter to declare global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give setf any even number of argu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 a   1 b   2 c  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ame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a 1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b 2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c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do more than just assign values to variables with set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argument to setf can be an expression as well as a variable nam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uch cases, the value of the second argument is inserted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ferred to by the fir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 (car  x)  ‘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 B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440" y="304920"/>
            <a:ext cx="102564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tf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3886200" cy="49528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a (make-array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(NIL NIL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ref a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(aref a 1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(NIL 3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ref a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defstruct foo b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1447920"/>
            <a:ext cx="3886200" cy="49528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tq a (make-fo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s(FOO :BAR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foo-bar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(foo-bar a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s(FOO :BA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foo-bar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ctional programm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nctional programming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writing programs that work by returning values, instead of by modifying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the dominant programming paradigm in Lis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uilt-in lisp functions are meant to be called for the values they return, not for side-eff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53912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s of functional programm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2189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11320" indent="-211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an object and a list and returns a new list containing everything but that o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setf  lst  ‘(b u t t e 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 U T T 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remove ‘e l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 U T T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 remove does not remove an item from the list!  The original list is untouched after the call to remo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l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 U T T 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ctually remove an item from a list you would have to use set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setf  lst  (remove ‘e ls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programming means, essentially, avoiding setf, and other assignment mac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7120" y="304920"/>
            <a:ext cx="717228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remove could be defin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’s how remove could be def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un remove (x li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d ((null list) n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(equal x (car list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move x (cdr list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 (cons (car list) (remove x (cdr list)))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it “copies” the top-level of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we want to do something repeatedly, it is sometimes more natural to use iteration than recursio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function us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print out the squares of the integers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fun  show-squares  (start  e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o  ((i  start  (+  i 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(&gt;  i  end)  ‘d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ormat t  “~A  ~A~%”  i (* i i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199800" indent="-199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 is CL’s fundamental iteration oper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9800" indent="-199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create variables, and the first argument is a list of variable specifications.  Each element is of the form: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ymbol, 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expres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9800" indent="-1998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cond argument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ould be a list containing one or more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20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expression is used to test whether iteration should stop.  In the case above, the test expression is (&gt;  i end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20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maining expression in this list will be evaluated in order when iteration stops, and the value of the last will be returned as the value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this exa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9800" indent="-1998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maining argument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rise the body of the lo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lis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10484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 has a simpler iteration operator for handling lists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fun len  (l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calculate the length  of  ls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et  ((l 0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olist  (obj  lst)  (setf l (+ l 1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dolist takes an argument of the form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followed by a body of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dy will be evaluated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ound to successive elements of the list returned by ex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43520" y="304920"/>
            <a:ext cx="105696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call Lisp’s evaluation process with the eval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s1 '(cadr '(one two three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ADR '(ONE TWO THRE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eval s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eval (list 'cdr (car '((quote (a . b)) c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put and Outpu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13840" indent="-213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 is the most primitive output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print (list 'foo 'bar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O B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O B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general output function in CL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tak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or more argument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-216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indicates where the input is to be printe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-216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cond is a string templ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-216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maining arguments are objects whose printed representations are to be inserted into the temp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format t “~A plus ~A equals ~A.~%” 2 3 (+  2 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lus 3 equals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ctions as objec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lisp, functions are regular objects, like symbols, or strings, or l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give the name of a function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it will return the associated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ecial ope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o we don’t have to quote the arg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defun add1 (n) (+ n 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function 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&lt;SYSTEM-FUNCTION +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function add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&lt;CLOSURE ADD1 (N) (DECLARE (SYSTEM::IN-DEFUN ADD1)) (BLOCK ADD1 (+ N 1)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as we can use ‘ as an abbreviation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u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can use #’ as an abbreviation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#’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&lt;SYSTEM-FUNCTION +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bbreviation is known as sharp-quo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any other kind of object, we can pass functions as argument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function that takes a function as an argumen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a function and a list of arguments for it, and returns the result of applying the function to the argu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pply  #’+  ‘(1  2 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be given any number of arguments, so long as the last is a li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pply  #’+  1  2  ‘(3  4  5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imple version of apply could be written as fol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un apply (f list) (eval (cons f list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cal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nc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lik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ut does not need the arguments to be packaged in a l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 (funcall  #’+  1  2 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ould be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fun funcall (f &amp;rest ar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val (cons f args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mbd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fu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cro creates a function and gives it a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functions don’t have to have names, and we don’t ne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fu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define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refer to functions literally by using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mbda expres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mbda express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11200"/>
            <a:ext cx="7772400" cy="403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mbda express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list containing the symbo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mb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llowed by a lis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llowed by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d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zero or more expres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setf f (lambda (x) (+ x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&lt;CLOSURE :LAMBDA (X) (+ X 1)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funcall 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ambda expression can be considered as the name of a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n ordinary function name,  a lambda expression can be the first element of a function ca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(lambda  (x)  (+  x  100)) 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by affixing a sharp-quote to a lambda expression, we get the corresponding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funcall  #’(lambda (x)  (+  x 100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3344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types, no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don’t have to declare the types of variables, because any variable can hold objects of any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 type declaration is never required, you may want to make them for reasons of efficienc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uilt-in CL types form a hierarchy of subtypes and superty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 typ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upertype of all types, so everything is of typ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890720" y="5624640"/>
            <a:ext cx="561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84360" y="4862520"/>
            <a:ext cx="1063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59960" y="4100400"/>
            <a:ext cx="103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2920" y="3338640"/>
            <a:ext cx="111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12960" y="2500200"/>
            <a:ext cx="64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84360" y="1814400"/>
            <a:ext cx="1114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36640" y="1128600"/>
            <a:ext cx="792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42280" y="59544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133720" y="5257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133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33720" y="3733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133720" y="2895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1337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15235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133720" y="990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06640" y="519120"/>
            <a:ext cx="2956680" cy="59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(typep  27 ‘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at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re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27  ‘ra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inte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fixn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(typep  27  ‘ve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andard function for inpu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given no arguments, it reads from the default place, which is usually standard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defun  ask (st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ormat  t  “~A”  st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ad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(ask  “How old are you? 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old are you?  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cal Variab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 most frequently used operators in CL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llows local variables to be used in a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et expression has two parts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omes a list of instructions for creating variables, each of the for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pressio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variables are valid within the body of the l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the list of variables and values comes the body of expressions, which are evaluated in or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1600200"/>
            <a:ext cx="3124080" cy="405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let ((x 100) (y 20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int (+ x y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tq x 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int (+ x y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let exampl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defun  ask-number  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(format t  “Please enter a number. “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(let ((val  (read)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f  (numberp v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(ask-number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-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ask-num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enter a number. 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enter a number.  (this is a num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enter a number.  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lobal variab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variables are visible throughout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variables can be created by giving a symbol and a value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paramet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v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defparameter *foo*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FOO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*foo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defvar *bar* (+ *foo*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BA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*ba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defvar *bar* 3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BA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*ba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3429000"/>
            <a:ext cx="3048120" cy="2209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fparameter v e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s a global variable named v and sets its value to be 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fvar v e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just like defparameter if no global variable named v exists.  Otherwise it does noth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lobal consta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define a global constant, by call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consta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defconstant +limit+ 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LIMIT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+limit+ 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* - SETQ: the value of the constant +LIMIT+ may not be al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Break [5]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lus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lus is a lisp convention to identify symbols as constants.  Just like star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ar is a lisp convention to identify global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en in doub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n doubt about whether some symbol is a global variable or constant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und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 (boundp  ‘*foo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 (boundp  ‘fishcak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22840" indent="-222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everal assignment operators in Common Lisp: set, setq and set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general assignment operator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it to assign both local and global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setf *blob* 8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let ((n 10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n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8T11:04:34Z</dcterms:created>
  <dc:creator>Jon Spragg</dc:creator>
  <dc:description/>
  <dc:language>en-US</dc:language>
  <cp:lastModifiedBy>Tim Finin</cp:lastModifiedBy>
  <dcterms:modified xsi:type="dcterms:W3CDTF">2000-11-29T20:57:15Z</dcterms:modified>
  <cp:revision>116</cp:revision>
  <dc:subject/>
  <dc:title>Common Lisp</dc:title>
</cp:coreProperties>
</file>