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623-6B2A-4D34-BA77-CB4BB047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17B-AEEE-4DE1-87CA-71D3CFD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743-2A84-438A-A8AE-E46F3315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90F-F6C8-4D38-BE9A-F9E87F02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86C0-B1F1-4098-BCEC-2F87C98A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ED5B-2433-48C6-B93D-CF65E4F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B545-3F28-45A7-B0B7-717F6AE2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0955-A503-46C3-9B17-8F89E955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5710-2274-4449-873E-17D2C120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8D37-2B3C-48F6-909A-735259B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14DB-2AE3-40CC-91D5-9D073AA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73E-917A-4F2E-92CE-6D99ACF7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030E-5DE4-43F4-B7AE-96760DD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81C9-FE25-4427-BF30-511D796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F70D-8F40-42A2-9E99-5AC3AEB4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D962-958C-492B-A164-9CB32DDF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9DD8-65FE-4C1E-A6C5-E8B6BC0F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997-07E0-444B-9473-7DE655D9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55B-54C8-48E5-9C91-803B2B0F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247-0E7B-41C4-8F76-B100259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995-62D6-408A-BD57-D6DDB8C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A29-C674-419C-9C3F-53047292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0F0-7A95-4717-9B0F-F55F02B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EC2-B06F-42A5-9DB1-A5544639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E06-3E13-44FA-9D8C-69C4288A31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533-6A81-4EF9-924B-00EDF70795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Harlequin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pairing a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nge the function in the Editor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9548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ar (cdr (car pairs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334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 compile it and try it a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re Built-In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AR X))  --&gt;  (CAA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DR X))  --&gt;  (CAD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809880"/>
            <a:ext cx="8610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eq a (caar pairs))  (cadar pairs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 BURKS 5, the file is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wper410.e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 up LispWorks; you get two wind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tener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ools -&gt; 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open a third window (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ditor 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Window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the Listener 1 window to evaluate Lisp expressions direc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1 &gt; (car '(a b c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oesn't matter in Lisp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1 window, us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ex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b, and use this window to defin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di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it as usual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can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 in this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don’t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are not missing anything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 As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ork as us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compile your functions in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times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 is on a menu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so, visit the Editor window before using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 functions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ading Previously Saved Fi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le -&gt; Compile and Load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use the Lisp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OA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unction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oad "C:\\Lisp\\myprog.lsp"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ving a Transcrip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need to save and print a transcript of the tests of your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stener window doesn’t have any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yboard editing shortcuts don’t 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lect 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p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n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Searching an AV 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048120"/>
            <a:ext cx="84582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dr (car pairs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window, 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click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says "Press Space to continue", so do 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y the function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20 : 2 &gt; (lookup 'b '((a x)(b y)(c z)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’s wrong-- we should ge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(Y);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go back 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 to fix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20:36:21Z</dcterms:created>
  <dc:creator>Villanova</dc:creator>
  <dc:description/>
  <dc:language>en-US</dc:language>
  <cp:lastModifiedBy>Villanova</cp:lastModifiedBy>
  <dcterms:modified xsi:type="dcterms:W3CDTF">2000-11-06T23:09:29Z</dcterms:modified>
  <cp:revision>10</cp:revision>
  <dc:subject/>
  <dc:title>Using Lisp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