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86C-BD70-4CE9-8920-6140A5BB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017-45F6-4A4A-B330-86D8752D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119-987A-4904-9C81-11E30BB1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01B-4889-425A-913F-350F1665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D36D-2F24-4688-B315-1DEB00D6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B110-F816-4F1D-B994-54FB9F63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EEB3-4F72-4D99-B750-87CB5250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BB77-9AC3-4DF4-B626-A4472B09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73EF-EF6C-4C72-ABBC-27523CBD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B9A4-F32B-4965-B26C-034C043E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8A51-22B1-416F-B8B2-26259E4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E7F-C6CD-4058-A529-C8D6B6DB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CCC5-4462-4074-90D4-A4E2829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67F7-4517-4C0A-9A62-9050E19A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B086-7EAC-4E2D-A0DC-B6CF9D5E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BD57-D9C4-4B70-BC5F-56DB5461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8389-41DA-4F79-B331-7CDBAC1A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F15-1BB8-4618-93B1-2C9EC04E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4F8-D1E4-4843-B7A0-E98C69AB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E3F-6CE9-473E-892C-209B2763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16F-7F8A-4EBD-83B9-C648DC65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B42-13C9-437A-89E2-895A407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54B-F31C-4DF7-8E14-74460F9C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B67-4AFD-4A54-A52D-00EA5790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5E94-D6B9-4478-AB4B-3BE1FF310D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9176-6FE7-4FB5-9538-EF034001DB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sp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EQUAL could be defin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defun equal (x 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; this is how equal could be defin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cond ((numberp x) (= x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atom x) (eq x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atom y) nil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equal (car x) (car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equal (cdr x) (cdr y)))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me simple list processing exampl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member (x 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atom l)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equal x (car l)) (cdr l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(member x (cdr l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append (l1 l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if (null l1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2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(car l1) (append (cdr l1) l2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riations on rever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; either of these does O(n^2) cons op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 reverse  (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if  (null  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ppend  (reverse  (cdr  l))  (list  (car l))))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reverse (l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nd l (append  (reverse  (cdr  l))  (list  (car  l)))))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riations on rever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;; this tail recursive operation does O(n) con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reverse (l) (reverse1 l n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 reverse  (l  ac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if  (null  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reverse  (cdr  l)  (cons  (car  l)  acc)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latten 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 (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null l) nil)      ; empty list do no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atom (car l))  ; cons an atom onto flattend cd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(car l) (flatten (cdr l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 otherwise flatten head &amp; tail and append resul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 (append (flatten (car l)) (flatten (cdr l))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latten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; this version avoids append, which is expens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 (l) (flatten1 l nil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1 (l ac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null list) acc)  ; all d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atom  l)           ; stick atom on the front of ac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 l acc)) ; of the accumul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(flatten1 (car l) (flatten1 (cdr l) acc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gher order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mapcar (f 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if (null l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cons (apply f (list (car l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apcar f (cdr l))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pcar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efun mapcar1 (f 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f (null l)  nil  (cons (apply f (list (car l)))  (mapcar f (cdr l)))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efun mapcar (f &amp;rest arg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"Apply f to successive cars of all ARGS. Return the list of results."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;; If no list is exhausted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f (not (memq 'nil args)) ; apply function to C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ns (apply f (mapcar1 'car args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mapcar* f  (mapcar1 'cdr args)))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19:06Z</dcterms:created>
  <dc:creator>Villanova</dc:creator>
  <dc:description/>
  <dc:language>en-US</dc:language>
  <cp:lastModifiedBy>Tim Finin</cp:lastModifiedBy>
  <cp:lastPrinted>2000-11-01T21:37:14Z</cp:lastPrinted>
  <dcterms:modified xsi:type="dcterms:W3CDTF">2000-11-20T23:54:39Z</dcterms:modified>
  <cp:revision>15</cp:revision>
  <dc:subject/>
  <dc:title>Lis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