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7772400" cy="100584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8440" y="401040"/>
            <a:ext cx="6994800" cy="167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8440" y="2353320"/>
            <a:ext cx="699480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8440" y="5400360"/>
            <a:ext cx="699480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88440" y="401040"/>
            <a:ext cx="6994800" cy="167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88440" y="2353320"/>
            <a:ext cx="3413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972600" y="2353320"/>
            <a:ext cx="3413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88440" y="5400360"/>
            <a:ext cx="3413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972600" y="5400360"/>
            <a:ext cx="3413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8440" y="401040"/>
            <a:ext cx="6994800" cy="167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88440" y="2353320"/>
            <a:ext cx="2252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753640" y="2353320"/>
            <a:ext cx="2252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118840" y="2353320"/>
            <a:ext cx="2252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88440" y="5400360"/>
            <a:ext cx="2252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753640" y="5400360"/>
            <a:ext cx="2252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118840" y="5400360"/>
            <a:ext cx="2252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8440" y="401040"/>
            <a:ext cx="6994800" cy="167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88440" y="2353320"/>
            <a:ext cx="6994800" cy="583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8440" y="401040"/>
            <a:ext cx="6994800" cy="167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8440" y="2353320"/>
            <a:ext cx="6994800" cy="583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8440" y="401040"/>
            <a:ext cx="6994800" cy="167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88440" y="2353320"/>
            <a:ext cx="3413160" cy="583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3972600" y="2353320"/>
            <a:ext cx="3413160" cy="583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8440" y="401040"/>
            <a:ext cx="6994800" cy="167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88440" y="401040"/>
            <a:ext cx="6994800" cy="77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8440" y="401040"/>
            <a:ext cx="6994800" cy="167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88440" y="2353320"/>
            <a:ext cx="3413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3972600" y="2353320"/>
            <a:ext cx="3413160" cy="583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88440" y="5400360"/>
            <a:ext cx="3413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88440" y="401040"/>
            <a:ext cx="6994800" cy="167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88440" y="2353320"/>
            <a:ext cx="3413160" cy="583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3972600" y="2353320"/>
            <a:ext cx="3413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972600" y="5400360"/>
            <a:ext cx="3413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88440" y="401040"/>
            <a:ext cx="6994800" cy="167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8440" y="2353320"/>
            <a:ext cx="3413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972600" y="2353320"/>
            <a:ext cx="3413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8440" y="5400360"/>
            <a:ext cx="699480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143000" y="2571840"/>
            <a:ext cx="9132840" cy="152280"/>
            <a:chOff x="-1143000" y="2571840"/>
            <a:chExt cx="9132840" cy="152280"/>
          </a:xfrm>
        </p:grpSpPr>
        <p:sp>
          <p:nvSpPr>
            <p:cNvPr id="1" name=""/>
            <p:cNvSpPr/>
            <p:nvPr/>
          </p:nvSpPr>
          <p:spPr>
            <a:xfrm>
              <a:off x="-1143000" y="2571840"/>
              <a:ext cx="9132840" cy="745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50000">
                  <a:srgbClr val="ebebeb"/>
                </a:gs>
                <a:gs pos="100000">
                  <a:srgbClr val="bcbcbc"/>
                </a:gs>
              </a:gsLst>
              <a:lin ang="0"/>
            </a:gradFill>
            <a:ln w="0">
              <a:noFill/>
            </a:ln>
          </p:spPr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1143000" y="268596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7b7b7b"/>
                </a:gs>
                <a:gs pos="50000">
                  <a:srgbClr val="cecece"/>
                </a:gs>
                <a:gs pos="100000">
                  <a:srgbClr val="7b7b7b"/>
                </a:gs>
              </a:gsLst>
              <a:lin ang="0"/>
            </a:gradFill>
            <a:ln w="0">
              <a:noFill/>
            </a:ln>
          </p:spPr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"/>
          <p:cNvSpPr txBox="1"/>
          <p:nvPr/>
        </p:nvSpPr>
        <p:spPr>
          <a:xfrm>
            <a:off x="-1052640" y="7628040"/>
            <a:ext cx="12812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itthögskol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 txBox="1"/>
          <p:nvPr/>
        </p:nvSpPr>
        <p:spPr>
          <a:xfrm>
            <a:off x="3287880" y="7628040"/>
            <a:ext cx="282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fld id="{EC944022-298F-43CD-A6DF-B64432595C5C}" type="datetime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 txBox="1"/>
          <p:nvPr/>
        </p:nvSpPr>
        <p:spPr>
          <a:xfrm>
            <a:off x="7527960" y="7628040"/>
            <a:ext cx="382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fld id="{3036C700-175C-433A-B7FF-A0EF99D25C5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8440" y="401040"/>
            <a:ext cx="6994800" cy="167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388440" y="2353320"/>
            <a:ext cx="6994800" cy="583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-457200" y="297180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Problem Solving in Common Lis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228600" y="5029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ommon Li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J.E. Sprag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ay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-457200" y="1371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Expanding a St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-457200" y="312408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dentify wha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perato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are availa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termine whether a give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perat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pplicable to a particular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a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iven 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at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nd a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perat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applicable to it, ascertain all the ways 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perat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can b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stantiat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on tha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a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igure out what new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a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results from applying an instantiate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perat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to 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a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-457200" y="1371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The Problem Space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-457200" y="3124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eople seem to handle adequately  the notion of physical spa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t seems natural to extend our notions of physical space and use it as a topological metaphor for problems and problem solv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 problem space model of problems and problem solving makes  use of the ideas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loc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hap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,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istan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that are so useful in reasoning about physical spa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-457200" y="1371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Problem Sp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-457200" y="350532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roblem spac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s a set of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tat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that represent distinct configurations of the objects and relationships of the doma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nd a set of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operator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which define how to move betwee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tat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Operators typically have paramet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-457200" y="1371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Defining a Problem Sp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-457200" y="3124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fining a problem  in a given problem space requires two things: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itial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 initial state is a distinguished state that represents the starting point within the spa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 goal is a specification of the subset of the problem space which could serve as a solution to the probl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-457200" y="1371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Solving Probl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-457200" y="33526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olving a problem in this model is accomplished by finding a sequence of operators which, when applied to the initial state, allows one to reach a state satisfying the goal criterion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 the Blocks World example, the solution is a sequence of transformations that represent a legal pl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-457200" y="1371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Sear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-457200" y="350532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t is easy to see why this is an attractive model of problem solv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 solve a problem, all we have to do is define the problem space and then unleash a general-purpose search engine on 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-457200" y="1371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lassic Problem Solving Syste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-457200" y="403848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he design of a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lassic problem solver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onsists of two par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nterfac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 user-supplied problem spaces, and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earch engin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-457200" y="1371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Interf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-457200" y="335268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 interface requires the ability to manipulate states and operato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hat kinds of manipulations are nee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oal detec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 Ascertain whether a given state satisfies the goal criter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ate identi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 Detect when two descriptions of states refer to the same st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ate displa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 Produce a human readable description of a given st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-457200" y="335268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he importance of goal detection is obvio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tate identity is important because we make no progress by re exploring already examined sta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isplaying states allows us to observe and debug system behaviou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n Spragg</dc:creator>
  <dc:description/>
  <dc:language>en-US</dc:language>
  <cp:lastModifiedBy>Jon Spragg</cp:lastModifiedBy>
  <cp:revision>0</cp:revision>
  <dc:subject>common lisp</dc:subject>
  <dc:title>Problem Sovling in Common Lisp</dc:title>
</cp:coreProperties>
</file>