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281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68A79980-4D65-45AD-8AC2-4706A790975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E2D14F3-DC0E-4CED-9089-50612B13BB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4572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 we have a stream we can pass it as an argument to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format str “Something~%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look at the file at this point, the output may or may not be there.  Some implementations save up output and write it in chu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may not all appear until we close the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clos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: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457200" y="31240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just want to read from a file, we open a stream 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:direction :inp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str (open path :direction :inpu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tream C01C86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use any input function on a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read-lin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clos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-open-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-open-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ro is often used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s first argument should be a list containing a variable name followed by arguments you might give to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his it takes a body of code, which is evaluated with the variable bound to a stream created by passing the remaining arguments to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with-open-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457200" y="3276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wards the stream is automatically 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with-open-file (str path :direction :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if-exists :superse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ormat str “Something~%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-open-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ro puts the close withi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wind-prot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o that the file is guaranteed to get closed, even if an error interrupts the evaluation of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048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ams are Lisp objects representing sources and/or destinations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ad from or write to a file, you open it as a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ams are not identical with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you read or print at the toplevel, you also use a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can even create streams that read or write to st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*standard-input* and *standard-output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457200" y="3276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default, input is read from the strea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standard-input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fault  place for outpu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standard-output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lly, they will probably be the same place: a stream representing the top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ad an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457200" y="3581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akes an optional argument, which should be a stream, and defaults to *standard-inpu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rst arg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an also be a stream, but when i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the output is sent to *standard-outpu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ath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portable way of specifying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s six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k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y 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-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th one or more of the corresponding keyword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-path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457200" y="3505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simplest case, you just specify the name and let the rest of the pathname defa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path (make-pathname :name “bw”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P”b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457200" y="32767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sic function for opening a fil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takes a pathname (or string) and a large number of optional keywords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successful it returns a stream that points to the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4572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specify how you intend to use a stream when you creat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dir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gument signals whether you are going to write to the stream, read from it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ree possible valu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r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57200" y="3505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tream is used for output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f-ex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ument says what to do if the destination file already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it should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superse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o create a stream on which you can write to the file “bw”, you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str (open path :direction :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f-exists :supersed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tream C017E6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</dc:subject>
  <dc:title>Streams</dc:title>
</cp:coreProperties>
</file>