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9374188" cy="5943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bbbbbb"/>
                </a:gs>
                <a:gs pos="50000">
                  <a:srgbClr val="ebebeb"/>
                </a:gs>
                <a:gs pos="100000">
                  <a:srgbClr val="bbbbb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cecece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"/>
          <p:cNvSpPr/>
          <p:nvPr/>
        </p:nvSpPr>
        <p:spPr>
          <a:xfrm>
            <a:off x="4133880" y="6486480"/>
            <a:ext cx="876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242D6-E365-414D-ABBA-C26704888BE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357400" y="6486480"/>
            <a:ext cx="99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C48FF-A331-41D0-910C-53DFAAE7A6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Speed, Troubleshooting and Style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Li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.E. Spra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thögsko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fun bad-length (l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f (null l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+ (bad-length (cdr lst)))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cursion call is not a tail call, because after it returns, its value has to be passed to 1+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fun good-length (l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labels ((len  (lst ac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f  (null l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len (cdr lst) (1+ acc)))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len lst 0)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-length , or rather len, is tail-recursive because nothing more has to happen after the recursive call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 of building its return value on the way back up the recursion like bad-length, good-length accumulates the return value on the way down.  Hence the additional parameter acc which is just retur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Why is a tail call good?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good compiler can compile a tail call into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o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so can compile a tail-recursive function into a loo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achine language code, when control arrives for the first time at the segment of instructions represent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re is information on the stack saying what to do upon retur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 nothing remains to be done after the recursive call, this information remains valid for the second invocation as well:  what we are supposed to do on returning from the second invocation is simply to return from the first invoc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after setting the parameters to their new values, we can just jump back to the beginning of the function and act as if this were the second invocat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re is no need to do a real function c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Inline function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claim (inline single?))  ;; glo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clare (inline single?))   ;; lo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fun single? (l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nd (consp lst) (null (cdr lst))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Types in Common Lisp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L global declarations are made wit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lai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declaim (type fixnum *count*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declarations are made with decl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defun poly (a b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declare (fixnum a b x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+ (* a (expt x 2)) (* b x)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The </a:t>
            </a: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the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declare that the value of an expression will be of a certain type, by us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defun poly (a b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declare (fixnum a b x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he fixnum (+ (the fixnum (*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he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num (expt x 2))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he fixnum (* b x)))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When do I need to do this?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pays to declare the types of arguments to functions that work for arguments of several types.  If you know for example that a call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re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ll always be a particular kind of array, it would pay to make a type decla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usually only worthwhile to make declarations for types near the bottom of the type hierarchy: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ixn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te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exam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Example of Fast Code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; Compute the sum of the squares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; a sequence of numb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efun square (x) (* x x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efun sum-squares (ve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eclare (type (simple-array fixnum *) ve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nline square) (optimize speed (safety 0)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let ((sum 0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eclare (fixnum sum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otimes (i (length vect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eclare (fixnum i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ncf sum (the fixnum (square (svref vect i)))))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Avoid Garbage Collection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2361960"/>
            <a:ext cx="380988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e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-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-duplic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t-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-dif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7960" y="2361960"/>
            <a:ext cx="380988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co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reve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ete-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ete-duplic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sub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subst-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nter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set-dif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95640" y="1814400"/>
            <a:ext cx="807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20080" y="1738440"/>
            <a:ext cx="1705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tru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Optimizing Code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poi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hould be focused on bottleneck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hould not begin too early,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hould begin with algorith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Trouble Shooting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:  You redefined a variable, but the new value was igno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ing a variable by editing and re-evaluating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fv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m will not change the variable’s val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t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update the variable, or change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fv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fparam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85800" y="26668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ures require #’(lambda () ... not ‘(lambda ()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cond is just a list, a closure needs the special form `# to identify it as a function and therefore evaluate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:  You deleted/removed something, but it didn’t take effect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(setf numbers ‘(1 2 3 4 5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 2 3 4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(remove 4 numb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 2 3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 2 3 4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(delete 1 numb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 3 4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 2 3 4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(setf numbers (delete 1 numbers)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remove is a non-destructive function, so it will never alter it arguments.  delete is destructive, but when asked to delete the first element of a list, it returns the rest of the list, and thus does not alter the list itself.  This is true of nconc, sort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es! I know its stupid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Let and Let*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mmon error is leaving off a layer of parenthese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et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or inde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the problem of referring to a variable that has not yet been bound in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void this problem, 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et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ever a variable’s initial binding refers to a previous vari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Style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o define a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 specific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break up a function that is too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name would be useful 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it is used in several pla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85800" y="26668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o define a special 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parameters that are used in many functions spread throughout a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global, persistent, mutable data, such as a data base of fa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infrequent but deeply nested u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o bind a lexical 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void typing in the same expression tw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void computing the same expression tw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name would be useful 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keep the indentation manage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Bottlenecks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rding to Knuth, “most of the running time in non-io-bound programs is concentrated in about 3% of the source code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need to identify the bottlenec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Common Lisp implementations come wi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ofil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also public doma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ofiler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ailable for Common Lis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Don’t Start Optimizing too Early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32763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development of a program bottlenecks shi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start optimizing too so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When you do start optimizing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32000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at the top with the algorith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icient algorithms and data structures demolish bottlenecks not coding tric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ompilation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ve parameters control the way your code is compil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pilation-spe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speed at which your program will be compile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fe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amount of error-checking done in the object cod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p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size and memory needs of the object code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bu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amount of information retained for debugg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mpilation parameters are not real variab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re assigned weights from 0 (unimportant) to 3 (most important) in decla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some-function ( ...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o ( ...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clare (optimize (speed 3) (safety 0)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800" y="26668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claim (optimize (speed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ompilation-speed 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afety 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bug 0)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Tail Calls (tail recursion)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particular important kind of optimization done by CL compilers is the optimization of tail ca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all is a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tail cal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nothing remains to be done after it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8T07:19:04Z</dcterms:created>
  <dc:creator>Jon Spragg</dc:creator>
  <dc:description/>
  <cp:keywords>style trouble shooting speed</cp:keywords>
  <dc:language>en-US</dc:language>
  <cp:lastModifiedBy>Tim Finin</cp:lastModifiedBy>
  <dcterms:modified xsi:type="dcterms:W3CDTF">2000-11-27T05:15:46Z</dcterms:modified>
  <cp:revision>60</cp:revision>
  <dc:subject>common lisp</dc:subject>
  <dc:title>Speed, Troubleshooting and Style</dc:title>
</cp:coreProperties>
</file>