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19F53D-2FA1-4734-9796-2FB70ECDB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a slot has both an initarg and an initform, the initarg takes precedence when it is spec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50000">
                  <a:srgbClr val="ebebeb"/>
                </a:gs>
                <a:gs pos="100000">
                  <a:srgbClr val="bcbcbc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cecece"/>
                </a:gs>
                <a:gs pos="100000">
                  <a:srgbClr val="7b7b7b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2286000"/>
            <a:ext cx="777240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  <a:ea typeface="Book Antiqua"/>
              </a:rPr>
              <a:t>Object Oriented Programming in Common Lis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371600" y="38862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mon Li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.E. Sprag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762120" y="1828800"/>
            <a:ext cx="796932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declaring a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initfo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e can also def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ts which initialize themselv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class shape 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(colour :accessor shape-colour :initarg :colou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isible :accessor shape-visible :initarg :vi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fo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)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(shape-visible (make-instance ’shape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17680" y="2147760"/>
            <a:ext cx="811224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t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inherited by instances and supercla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 class has more than one superclass, it inher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on of their slots.  So if we define th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een-circ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be a subclass of bot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class screen-circle (circle sha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instances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een-circ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have four slots, 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erited from each super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593640" y="1952640"/>
            <a:ext cx="7913520" cy="35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arg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ork for instances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een-circ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ust as they would for instances of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(shape-colour (make-instance ’screen-cir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colour ’red :radius 3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:allocation keyword arg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22240" y="1660680"/>
            <a:ext cx="723420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LOS we can specify that som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to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ed between all instances of the class.  We 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by declaring the slot to hav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allo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class ow 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(nocturnal 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wl-nocturnal  ;; Note: not :ac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initform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allocation :class)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we change the ”local” value of this slot in 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, we are actually altering the value st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class.  We therefore usually make such s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only.  We give the slot a reader functi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rea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203480" y="1814400"/>
            <a:ext cx="676908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LOS the functional units are called meth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define methods so that each seem to be a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some class.  An area method for the circle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uld be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method area ((c circle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* pi (expt (circle-radius c) 2)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(area (make-instance ’circle :radius 1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4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343400" y="4191120"/>
            <a:ext cx="838080" cy="22860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394240" y="3780000"/>
            <a:ext cx="974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9c9c9c"/>
                </a:solidFill>
                <a:latin typeface="Times New Roman"/>
                <a:ea typeface="Times New Roman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69960" y="2560680"/>
            <a:ext cx="798192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an also define methods that take addi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method move ((c circle)  dx d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cf (car (circle-center c)) d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cf (cdr (circle-center c)) d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ircle-center c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724280" y="3429000"/>
            <a:ext cx="457200" cy="53352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318280" y="3017880"/>
            <a:ext cx="974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9c9c9c"/>
                </a:solidFill>
                <a:latin typeface="Times New Roman"/>
                <a:ea typeface="Times New Roman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095880" y="3505320"/>
            <a:ext cx="1219320" cy="53316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6705720" y="3581280"/>
            <a:ext cx="609480" cy="45720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265880" y="3170160"/>
            <a:ext cx="18763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9c9c9c"/>
                </a:solidFill>
                <a:latin typeface="Times New Roman"/>
                <a:ea typeface="Times New Roman"/>
              </a:rPr>
              <a:t>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Object Prece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93640" y="1523880"/>
            <a:ext cx="8016840" cy="53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 class has multiple superclasses, the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edence runs left to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class scoundrel nil n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class patriot nil n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class patriotic-scoundrel (scoundrel patriot) n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we have a method for bo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method self-or-country? ((s scoundrel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method self-or-country? ((p patriot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nt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ethod for scoundrel class will be invok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(self-or-country? (make-instance ’patriotic-scoundrel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Polymorph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143000" y="1706400"/>
            <a:ext cx="66880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Polymorph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 CLOS method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than one parameter 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specialis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For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method combine ((ic ice-cream) (top topp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optional (where :here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ppend (list (name ic) ’ice-cr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ist ’with (name top) ’topp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ist ’in ’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se 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:here ’gla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:to-go ’styrofoam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h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ispat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41360" y="1798560"/>
            <a:ext cx="849168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methods specialise more than one of the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s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difficult to continue to reg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m as properties of clas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In CLOS th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objects responding to messages evapor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LOS we talk abou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atch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s. 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 methods can specialise any number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ir parameters -- including Common Lisp type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efgener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98108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en methods are built upon the notion of dispatch, they become independent of individual class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stead of adhering conceptually to classes, methods now adhere to other methods with the same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CLOS such a collection of methods is called a generic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 define generic functions explicitly with the defgeneric mac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ndardisation 198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LOS was designed as a superset of Common Lisp (ANSI X3J13 Committe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design of CLOS was heavily influenced by the languages New Flavors and CommonLoo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specification for CLOS was published in late 1988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  <a:ea typeface="Book Antiqua"/>
              </a:rPr>
              <a:t>Before, After and Around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50840" y="1736640"/>
            <a:ext cx="664200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 supports before-, after-, and around- meth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h methods are defined by putting a qualif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word after the method name in the call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class c++Programmer nil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method speak ((s c++Programmer) st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ormat t ”~A” string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(speak (make-instance ’C++Programm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CLOS is not like C++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CLOS IS NOT LIKE 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0480" y="1843200"/>
            <a:ext cx="90280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class open-minded-C++Programmer (C++Programm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method speak :before ((o open-minded-C++Programme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inc ”Perhaps ”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method speak :after ((o open-minded-C++Programm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inc ” in some sense”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822240" y="1557360"/>
            <a:ext cx="7224840" cy="52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(speak (make-instance ’open-minded-C++Programm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CLOS is not like C++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haps this CLOS is not like C++  in some s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method speak :before ((c c++Programmer) st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inc ”I think ”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(speak (make-instance ’open-minded-C++Programm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CLOS is not like C++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haps I think this CLOS is not like C++ in some s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517680" y="1843200"/>
            <a:ext cx="8048520" cy="39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class manager (c++programmer) ni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method speak :around ((m manager) str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ormat t ”Does the customer believe that ~A ” str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q (read) ’y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f (next-method-p) (call-next-method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ormat t ”Indeed, it won’t work.~%”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u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12760" y="1919160"/>
            <a:ext cx="892476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(speak (make-instance ’manager) ”the program will work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the customer believe that the program will work? 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think the program will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(speak (make-instance ’manager) ”C++ is good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the customer believe that C++ is good? 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ed, it won’t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LOS, OOP and Li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OS is an excellent example of an embedded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mbedded languages can be conceptually well integrated with their environment, so that within the embedded language we can continue to think of programs in much the same te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mbedded languages can be powerful, because they take advantage of all the things that the basic language knows how to 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OS is well integrated with Lisp, and makes good use of the abstractions that Lisp has alrea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Is CLOS Object-Orien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23623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re is some argument whether CLOS is really object-oriented at a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O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 OOL because it provides all three of the main criteria for OO:  object with internal state, classes of objects with specialised behaviour for each class, and inheritance between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OS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 OO system because it does not provide modular objects with encaps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vervie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OS was designed as a standard language extension that includes the most useful aspects of existing object-oriented paradig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LOS programmer interface should be powerful and flexible enough for developing most application progr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OS itself should be designed as an extensible protocol, to allow for customisation of its behaviour and to encourage further research in object-oriented programming (The Meta Object Protoco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228600"/>
            <a:ext cx="77724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  <a:ea typeface="Book Antiqua"/>
              </a:rPr>
              <a:t>CLOS’s Support for the Object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47920" y="1976400"/>
            <a:ext cx="680544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Best Textbook on C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2666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nya E. Keen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in Common Lisp, A Programmer’s Guide to CL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”  Addison-Wesley Publishing Company, 1989, ISBN  0-201-17589-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Using C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62120" y="1752480"/>
            <a:ext cx="816624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LOS, we use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cla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cro to def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lass,  and we declare the slots in a list at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ti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class circle 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adius center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de says that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 has no supercla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w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ttributes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make-in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432080" y="1812960"/>
            <a:ext cx="61848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instance of the circle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invok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-inst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ake-instance ’circ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fortunately, we need to redefine our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allow access to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We d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class circle 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(radius :accessor circle-radi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enter :accessor circle-center)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ccessor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74880" y="1965240"/>
            <a:ext cx="80168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 if we make 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e can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us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spond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(setf (circle-radius (make-instance ’circle))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a bit of a pain, so in our definition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had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wo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meter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inita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class circle 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(radius :accessor circle-radius :initarg :radi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enter :accessor circle-center :initarg :center)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Keyword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69960" y="1919160"/>
            <a:ext cx="783756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initar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eyword in a slot definition says that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ing argument should become a key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in make-instance.  The value of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word parameter will become the initial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slo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(circle-radius (make-instance ’cir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radius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center ’(0 . 0)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n Spragg</dc:creator>
  <dc:description>object oriented analysis and design</dc:description>
  <dc:language>en-US</dc:language>
  <cp:lastModifiedBy>Jon Spragg</cp:lastModifiedBy>
  <cp:revision>0</cp:revision>
  <dc:subject>object oriented programming</dc:subject>
  <dc:title>Object Oriented Programming Languages</dc:title>
</cp:coreProperties>
</file>