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5400" y="304920"/>
            <a:ext cx="7153200" cy="63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920" y="6607080"/>
            <a:ext cx="101160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MBC CMSC 33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5840" y="6545160"/>
            <a:ext cx="1128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7F7D-01F4-45A1-B978-A2684FF0E5A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-217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Lisp Macros</a:t>
            </a:r>
            <a:endParaRPr b="1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: while macr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fine the macro while by using the rest parameter to collect a list of the expression in the body,  then using comma-at to splice this list into the expan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macro  while  (test &amp;rest body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`(do () ((not ,test)) ,@bod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(while (&lt; x 10) (print x)(setq x (+ x 1))) beco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 (( not (&lt; x 10)) (print x) (setq x (+ x 1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 Design and Probl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macros is a distinct kind of programming, with its own unique aims and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start writing macros, you have to start thinking like a language desig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iable cap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e eval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iable Cap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macro ntimes (n &amp;rest bo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`(do ((x 0 (+ x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=  x ,n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@bod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ntimes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nc “,”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capture happens when a variable used in a macro expansion happens to have the same name as a variable existing in the context where the expansion is inse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t ((x 10)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times 5 (setf  x  (+  x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 expan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ro expansion highlights th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acroexp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t ((x 10)) (ntimes 5 (setf  x  (+  x  1)))  x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t ((x  1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o  ((x  0  (+  x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=  x  5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f x  (+  x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a unique name for the variable introduced by the mac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ensym) returns a symbol that is guarenteed not to be i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gensy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:G0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defmacro ntimes (n &amp;rest b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t ((g  (gensym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(do ((,g 0 (+  ,g  1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&gt;=  ,g  ,n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@body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ltiple Evalu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 first argument is inserted directly into the do, it will be evaluated on each it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istake shows most clearly when the first argument is an expression with side-eff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let ((v  1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times  (setf  v (-  v 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nc “.”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v is initially 10 and setf returns the value of its second argument, this should print nine periods.  In fact it prints only f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look at the macroexpa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t ((v  1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o ((#:g002 0 (+ #:g1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= #:g002  (setf  v  (-  v  1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nc “.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each iteration we compare the iteration variable not against 9, but against an expression that decreases each time it is evalu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04480"/>
            <a:ext cx="777240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 variable to the value of the expression in question before any iteration.  This involves another gens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macro ntimes (n &amp;rest b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t ((g (gensym))  (h (gensym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(let ((,h ,n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 ((,g 0  (+  ,g  1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&gt;=   ,g ,h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@body)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are Macro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3836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macros allow you to define operators that are implemented by trans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inition of a macro is essentially a function that generates lisp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writes pro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vs. mac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ction produ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cro produ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which,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alu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rodu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: the macro nil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to write a macr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l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ets its arguments to n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il!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be the same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f x ni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how we do it in C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defmacro nil! (var) (list ‘setq var nil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expan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85880"/>
            <a:ext cx="7772400" cy="456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when we type the macro call (nil! x) into the tople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p interpre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il!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macro 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s the expression specified by the definition, (list ‘setq var nil)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s that expression in place of the original macro c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when the compiler discovers a call to nil!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s the expression specified by the definition, (list ‘setq var nil)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s that expression in place of the original macro c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ckquo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ck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pecial vers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to create templ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mostly in macro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(a b c)  is equal to ‘(a b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quote becomes useful only when it appears in combination with comm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omma-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@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25360" indent="-2253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ckquoted list is equivalent to a call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elements quo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(a b c)  is equal to (list ‘a ‘b ‘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comma appears before one of the elements of the list,  it has the effect of canceling out the quote that would have been put in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(a ,b c ,d)  is equal to (list ‘a b ‘c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s work no matter how deeply they appear within a nested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a 1  b 2   c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`(a  ,b 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 2 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`(a  (,b  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  (2  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2720" y="1485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they may even appear within quotes, or within quoted subli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`(a  b  ,c  (‘,(+  a b c)) (+  a  b) ‘c ‘((,a  ,b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   B   3   (‘6)  (+  A B)   ‘C   ‘((1  2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omma counteracts the effect of one backquote,  so commas must match backquo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backquote for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quote is usually used for making l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tage of a backquote is that it makes expressions easier to re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macro nil! (var) (list ‘setf  var nil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macro nil! (var)  `(setf  ,var  nil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a-at:  ,@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6168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-at is useful in macros that have rest parameters representing, for example, a body of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, we want a while macro that will evaluate its body so long as an initial test expression remains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et ((x 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ile (&lt;  x 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c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cf x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234567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4T08:41:32Z</dcterms:created>
  <dc:creator>Jon Spragg</dc:creator>
  <dc:description/>
  <cp:keywords>macros</cp:keywords>
  <dc:language>en-US</dc:language>
  <cp:lastModifiedBy>Tim Finin</cp:lastModifiedBy>
  <dcterms:modified xsi:type="dcterms:W3CDTF">2000-11-30T00:01:20Z</dcterms:modified>
  <cp:revision>67</cp:revision>
  <dc:subject>Common lisp</dc:subject>
  <dc:title>Introduction to Macros</dc:title>
</cp:coreProperties>
</file>