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063-9FA5-487D-ABE0-AD0D8D53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4DA-B89B-46CE-A82E-A7A776E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5DC-24C7-40DC-9D59-07CC1142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519-319B-4B09-AD40-C11FC4B9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13ED-B582-4365-B628-A434B694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9D1D-14E0-469C-AC6C-CE98284A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1F5-8728-4E7F-9D96-917B76F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F2F-BBAD-495F-AFCD-D13DB044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A1D1-9540-45DC-A831-82001FF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D03B-05A5-4EE3-B301-B681C2C0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494-7904-4663-84F4-125A027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3A7-58A2-4756-B80A-D447EB83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0FB9-E986-4B93-880D-FA5BA09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5161-5E1C-49E8-91A0-EFB1947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ADE1-F3B1-4E97-9713-35FA7CD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CEB7-D3D4-4E52-87F6-320A3BEA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9CE5-FF6A-4813-8328-E350428F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0EE-89DD-4BCA-A8F1-00B0B54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DFF-AC4C-4245-9EBC-2C150A5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09E-10DC-4E56-8CC5-A385064E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35C-DBFE-496E-810E-8B2D38C1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FF0-6E23-45EC-9A54-A025255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424-94D5-4E02-A01C-2E1616E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1B8-1D4B-4CA8-8A58-D27A881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D979-BE2E-4EDD-B546-C3348530A3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B791-B1B4-447E-8C87-8DD8097234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NULL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ISTP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s a list of its (evaluated)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'A '(B C) 'D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(B C) 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(CDR '(A B)) 'C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turn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((B)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PPE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atenates two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PPEND '(A B) '((X) Y)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B (X)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the first thing in the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5053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A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648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 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181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715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what's left when you remov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alway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51460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D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B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657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Z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15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348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267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two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argument can be any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econd argument should be a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esult is a new list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first argument and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se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move one parenthesis to get the resul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5562720"/>
            <a:ext cx="7086600" cy="761760"/>
            <a:chOff x="1066680" y="5562720"/>
            <a:chExt cx="7086600" cy="761760"/>
          </a:xfrm>
        </p:grpSpPr>
        <p:grpSp>
          <p:nvGrpSpPr>
            <p:cNvPr id="127" name=""/>
            <p:cNvGrpSpPr/>
            <p:nvPr/>
          </p:nvGrpSpPr>
          <p:grpSpPr>
            <a:xfrm>
              <a:off x="2666520" y="5943600"/>
              <a:ext cx="686160" cy="380880"/>
              <a:chOff x="2666520" y="5943600"/>
              <a:chExt cx="686160" cy="3808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3352680" y="6019920"/>
                <a:ext cx="0" cy="3045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666520" y="6324480"/>
                <a:ext cx="6858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666880" y="5943600"/>
                <a:ext cx="0" cy="3808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066680" y="556272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CONS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of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A   ( B  C )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    gives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( A  B  C 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1240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A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D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NS (CAR L) (CDR L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A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B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A  B  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267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X  Y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X  Y)  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4244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 ) ( )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958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      undefi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87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X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uts together wha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 ap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tted Pai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cond argument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hould be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it isn't, you get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otted pai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.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aren't using dotted pairs in this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get a dotted pair, it's because you gav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atom as a second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EQ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sts whether two atoms are eq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gers are a kind of at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undefined f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might work for lists, it might n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it won't give you an error mess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TO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any S-expression as an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"true" if the argument you gave it is an at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lements the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if...then...elseif...then...elseif...then..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guments to a function are evaluated before the function is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n't what you want fo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sions of 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old language with many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p is alive and well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modern versions are based on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Work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ased on 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chem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e of the major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ssentials haven’t changed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cial for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like a function, but it evaluates the arguments as it needs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EF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efine your own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won't be defining special forms in this cou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 of the</a:t>
            </a: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 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362320"/>
            <a:ext cx="7467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1   result1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2   result2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. . 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resultN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fining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function_name  parameter_list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        function_bod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Test if the argument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 NULL   (X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20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X   NIL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T   T)  )  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733920"/>
            <a:ext cx="1219320" cy="4572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733920"/>
            <a:ext cx="762120" cy="533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267080"/>
            <a:ext cx="2514600" cy="1524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MEMB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an example we defin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which tests whether an atom is in a list of ato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MEMBER (A LA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(CO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NULL LAT)   NIL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EQ A (CAR LAT))   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T   (MEMBER A (CDR LAT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typically a built-in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ules for 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(“simplest”) cases fir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 only with a “simpler” c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er” = more like the base c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alter global variables (you can’t anyway with the Lisp functions I’ve told you ab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look down into the recur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uidelines for Lisp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less the function is trivial, start with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case fir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having more than one base c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ase case is usually testing fo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U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something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recur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U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209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UNION (SET1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NULL SET1)  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MEMBER (CAR SET1)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UNION (CDR SET1) SET2) 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(CONS (CAR SET1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   (UNION (CDR SET1) SET2)  ))  )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ill more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ENGTH L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length of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RANDOM N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, where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n integer, returns a random integ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gt;= 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sion is essential i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cursive defin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definition in whi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things are specified as belonging to the category being defined,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rule or rules are given for building new things in the category from other things already known to be in the categ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formal Synta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either an integer or an identifi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eft parenthesis, followed by zero or more S-expressions, followed by a right parenthe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-expres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atom or a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(B 3) (C) ( ( 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l Syntax (approximat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&gt; ::= &lt;atom&gt; | &lt;lis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atom&gt; ::= &lt;number&gt; | &lt;identifier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list&gt; ::= ( &lt;S-expressions&gt;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s &gt; ::= &lt;empty&gt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| &lt;S-expressions &gt; &lt;S-expression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number&gt; ::= &lt;digit&gt; | &lt;number&gt; &lt;digi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identifier&gt; ::=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tring of printable characters, not including parenthe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 and N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name of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a test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ans “fals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usually used to mean “true,” bu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hing that isn’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“tru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oth an atom and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’s defined this way, so just accept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tion calls and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function call is written a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element is the name of th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aining elements are the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s function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argument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is written as atoms 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 of three el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see a problem 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o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call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r is it just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teral da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ust be quoted (atoms, to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QUOTE (F A B)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a “special for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arguments to a special form are not evalu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'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other way to quot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just one single quote at the begi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quotes one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sic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the head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tail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erts a new head into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es two atoms for equa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its argument is an ato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13T20:42:55Z</dcterms:modified>
  <cp:revision>13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